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F440CCC-90D2-40B3-B219-87A67CDFB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2 = 360 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0 PM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Set calculator to annuity due and use the same inputs as above. CPT PMT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8160"/>
            <a:ext cx="4457520" cy="3343320"/>
          </a:xfrm>
          <a:prstGeom prst="rect">
            <a:avLst/>
          </a:prstGeom>
          <a:ln w="0">
            <a:noFill/>
          </a:ln>
        </p:spPr>
      </p:sp>
      <p:sp>
        <p:nvSpPr>
          <p:cNvPr id="3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9960"/>
            <a:ext cx="4457520" cy="3343320"/>
          </a:xfrm>
          <a:prstGeom prst="rect">
            <a:avLst/>
          </a:prstGeom>
          <a:ln w="0">
            <a:noFill/>
          </a:ln>
        </p:spPr>
      </p:sp>
      <p:sp>
        <p:nvSpPr>
          <p:cNvPr id="396"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00240" y="668160"/>
            <a:ext cx="4457520" cy="3343320"/>
          </a:xfrm>
          <a:prstGeom prst="rect">
            <a:avLst/>
          </a:prstGeom>
          <a:ln w="0">
            <a:noFill/>
          </a:ln>
        </p:spPr>
      </p:sp>
      <p:sp>
        <p:nvSpPr>
          <p:cNvPr id="42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5FD3-A1CA-42A2-919A-1FECCD3AF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1F84B-2374-4F57-A5FF-5F3CEE9C7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3ECDE-68FA-442F-B1D8-E8B5D5E22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051C3-13A6-42B0-8EF1-765725A21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A180-26FB-4578-8205-A2B8DAB4F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4C28-8278-4094-836F-FB194F51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4C53-4AAF-4D4F-9433-8717692A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06E12-769B-4DF1-B3CD-ABC131B5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4DE59-B939-45AA-A465-20710BE7C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4665-CA9D-4E04-B218-5C41AB12D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5651-C7EF-4593-B1DC-D7503563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8E93-A0ED-4BFD-B149-5097FAE23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hyperlink" Target="http://www.bankrate.com/" TargetMode="External"/><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600200" y="137160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6</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47712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8D28985-8F7C-4DB5-A769-5ACDF37AC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6324480" y="5715000"/>
          <a:ext cx="952560" cy="723960"/>
        </p:xfrm>
        <a:graphic>
          <a:graphicData uri="http://schemas.openxmlformats.org/presentationml/2006/ole">
            <p:oleObj progId="Excel.Sheet.12" r:id="rId1" spid="">
              <p:embed/>
              <p:pic>
                <p:nvPicPr>
                  <p:cNvPr id="110" name="" descr=""/>
                  <p:cNvPicPr/>
                  <p:nvPr/>
                </p:nvPicPr>
                <p:blipFill>
                  <a:blip r:embed="rId2"/>
                  <a:stretch/>
                </p:blipFill>
                <p:spPr>
                  <a:xfrm>
                    <a:off x="6324480" y="5715000"/>
                    <a:ext cx="952560" cy="723960"/>
                  </a:xfrm>
                  <a:prstGeom prst="rect">
                    <a:avLst/>
                  </a:prstGeom>
                  <a:ln w="0">
                    <a:noFill/>
                  </a:ln>
                </p:spPr>
              </p:pic>
            </p:oleObj>
          </a:graphicData>
        </a:graphic>
      </p:graphicFrame>
      <p:sp>
        <p:nvSpPr>
          <p:cNvPr id="111"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F89D825-9FED-4ECE-AB5F-B6269C740D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5F34D3-300A-4BF2-B93D-44F29DBBD416}"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4"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044151C-E25A-4D54-A190-9958C9AC48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957745-85E1-43D4-8B13-07C4B66B3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5280" y="1523880"/>
            <a:ext cx="7848720" cy="453096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way to use the financial calculator for uneven cash flows is to use the cash flow keys</a:t>
            </a:r>
            <a:endParaRPr b="0" lang="en-US" sz="22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CF and enter the cash flows beginning with year 0.</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have to press the “Enter” key for each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down arrow key to move to the next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 is the number of times a given cash flow occurs in consecutive periods</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NPV key to compute the present value by entering the interest rate for I, pressing the down arrow and then compute</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 the cash flow keys by pressing CF and then CLR Work</a:t>
            </a:r>
            <a:endParaRPr b="0" lang="en-US" sz="2100" spc="-1" strike="noStrike">
              <a:solidFill>
                <a:srgbClr val="000000"/>
              </a:solidFill>
              <a:latin typeface="Arial"/>
            </a:endParaRPr>
          </a:p>
        </p:txBody>
      </p:sp>
      <p:sp>
        <p:nvSpPr>
          <p:cNvPr id="117"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5483F24-3383-447C-94E9-96C094F462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FBBDD5-76EC-4DE2-8674-59B96EC36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C8EA126-0B05-4ED5-B84A-4667404F11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A35BF6B-06B2-4B25-B4C3-7F6965BD5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371240" y="1447920"/>
            <a:ext cx="74674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819EE82-0D3F-44BF-9928-62D1945D4D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A51542-5936-4556-9F03-855728E552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1523880"/>
            <a:ext cx="739152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6858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38A2D53-4B63-47B6-9596-4A8C74A0DA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F36233F-8CD8-461A-AB84-672AE64E8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A478058-3400-4AF6-AE7C-E9798D0BC6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3149EA-65A5-4A3A-A412-43C0EB4D18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D41F583-5B6E-4F55-9CED-366F4F7604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16C534-06E2-49FD-A7C9-396B849E8A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A48276E-83AB-446F-8BD0-5B36A1F28E7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371DB8-D9FE-4C98-81F0-759018E1CE8B}" type="slidenum">
              <a:t>1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676520" y="1447920"/>
            <a:ext cx="723888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3D93445-8CA6-4208-80A1-2FB0518B70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F2FD86-CB39-4B19-AA4F-3107EB1966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7A8B9EB-E575-43FC-B00E-81273E30D1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13C9ECD-9F34-48AD-A6E2-58A992EAC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BE22B5E-74BF-4D25-9FDF-BC9AE98442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317D78-B279-47CD-A82B-403DEE7846BF}"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42">
                                  <p:stCondLst>
                                    <p:cond delay="0"/>
                                  </p:stCondLst>
                                  <p:childTnLst>
                                    <p:set>
                                      <p:cBhvr>
                                        <p:cTn id="20" dur="1" fill="hold">
                                          <p:stCondLst>
                                            <p:cond delay="0"/>
                                          </p:stCondLst>
                                        </p:cTn>
                                        <p:tgtEl>
                                          <p:spTgt spid="155"/>
                                        </p:tgtEl>
                                        <p:attrNameLst>
                                          <p:attrName>style.visibility</p:attrName>
                                        </p:attrNameLst>
                                      </p:cBhvr>
                                      <p:to>
                                        <p:strVal val="visible"/>
                                      </p:to>
                                    </p:set>
                                    <p:animEffect filter="fade" transition="in">
                                      <p:cBhvr additive="repl">
                                        <p:cTn id="21" dur="1000"/>
                                        <p:tgtEl>
                                          <p:spTgt spid="155"/>
                                        </p:tgtEl>
                                      </p:cBhvr>
                                    </p:animEffect>
                                    <p:anim calcmode="lin" valueType="num">
                                      <p:cBhvr additive="repl">
                                        <p:cTn id="22" dur="1000" fill="hold"/>
                                        <p:tgtEl>
                                          <p:spTgt spid="155"/>
                                        </p:tgtEl>
                                        <p:attrNameLst>
                                          <p:attrName>ppt_x</p:attrName>
                                        </p:attrNameLst>
                                      </p:cBhvr>
                                      <p:tavLst>
                                        <p:tav tm="0">
                                          <p:val>
                                            <p:strVal val="#ppt_x"/>
                                          </p:val>
                                        </p:tav>
                                        <p:tav tm="100000">
                                          <p:val>
                                            <p:strVal val="#ppt_x"/>
                                          </p:val>
                                        </p:tav>
                                      </p:tavLst>
                                    </p:anim>
                                    <p:anim calcmode="lin" valueType="num">
                                      <p:cBhvr additive="repl">
                                        <p:cTn id="23"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5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8449B7F-39B6-46ED-BA49-1C5EB52D2F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622DF7-0A62-4981-BD34-DFF8F4E875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752120" y="1523880"/>
            <a:ext cx="7083720" cy="437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CE22FE4-69CE-43B9-BB43-99C0B22F0B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BFA5018-D32A-4AF2-8A69-3222D5882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income = 36,000 / 12 = 3,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ayment = .28(3,000) = 8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840[1 – 1/1.005</a:t>
            </a:r>
            <a:r>
              <a:rPr b="0" lang="en-US" sz="2400" spc="-1" strike="noStrike" baseline="30000">
                <a:solidFill>
                  <a:srgbClr val="000000"/>
                </a:solidFill>
                <a:latin typeface="Arial"/>
              </a:rPr>
              <a:t>360</a:t>
            </a:r>
            <a:r>
              <a:rPr b="0" lang="en-US" sz="2400" spc="-1" strike="noStrike">
                <a:solidFill>
                  <a:srgbClr val="000000"/>
                </a:solidFill>
                <a:latin typeface="Arial"/>
              </a:rPr>
              <a:t>] / .005 = 140,10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costs = .04(140,105) = 5,60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payment = 20,000 – 5604 = 14,39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 = 140,105 + 14,396 = 154,501</a:t>
            </a:r>
            <a:endParaRPr b="0" lang="en-US" sz="2400" spc="-1" strike="noStrike">
              <a:solidFill>
                <a:srgbClr val="000000"/>
              </a:solidFill>
              <a:latin typeface="Arial"/>
            </a:endParaRPr>
          </a:p>
        </p:txBody>
      </p:sp>
      <p:sp>
        <p:nvSpPr>
          <p:cNvPr id="16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441AA30-F80B-408A-A992-17FC6B9ADE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57CF12-882B-4475-B180-56310014A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9FD46A3-0D85-4FA5-B980-1A08626590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D59F99-48CE-4958-8707-C8922A88A295}" type="slidenum">
              <a:t>24</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523880" y="13712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9C57A8B-CD41-4FD6-872D-35FA895266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A5183F-5BF3-4121-BC82-D6C098A8E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8E54C5B-5C64-4355-910C-6456565E85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6D0D83-0708-4F30-A430-3657E8BD5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81680" y="5334120"/>
          <a:ext cx="1067040" cy="914400"/>
        </p:xfrm>
        <a:graphic>
          <a:graphicData uri="http://schemas.openxmlformats.org/presentationml/2006/ole">
            <p:oleObj progId="Excel.Sheet.12" r:id="rId1" spid="">
              <p:embed/>
              <p:pic>
                <p:nvPicPr>
                  <p:cNvPr id="180" name="" descr=""/>
                  <p:cNvPicPr/>
                  <p:nvPr/>
                </p:nvPicPr>
                <p:blipFill>
                  <a:blip r:embed="rId2"/>
                  <a:stretch/>
                </p:blipFill>
                <p:spPr>
                  <a:xfrm>
                    <a:off x="6781680" y="5334120"/>
                    <a:ext cx="1067040" cy="914400"/>
                  </a:xfrm>
                  <a:prstGeom prst="rect">
                    <a:avLst/>
                  </a:prstGeom>
                  <a:ln w="0">
                    <a:noFill/>
                  </a:ln>
                </p:spPr>
              </p:pic>
            </p:oleObj>
          </a:graphicData>
        </a:graphic>
      </p:graphicFrame>
      <p:sp>
        <p:nvSpPr>
          <p:cNvPr id="18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4F920CC-90B8-4018-A811-3E4A4527D58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64C0C1E-77F0-49B3-9195-85FF3BB319DF}" type="slidenum">
              <a:t>2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8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5CBC889-33F4-47D9-B12E-6ABDE223AF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71FA64-70B7-4136-983A-F1C5BBF2AE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8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00ADF1C-DC3E-49FF-9F9B-663228CADA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0F2E54-30A3-460E-B53F-BE52BEC5A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C7C7B8F-ED25-4E44-80ED-5815438E0B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26AF21-97B6-4E38-B9E2-1FBB711E7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44DB1A6-DB1C-4104-BF91-B66D513402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BA6D7E-31FC-4634-A370-F242770D49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523880" y="1676160"/>
            <a:ext cx="73152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72EA5F2-5902-4AE0-B73B-2FB38004AD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CAFD13-7EE8-4CA7-90A0-528F33EAEC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371240" y="1447920"/>
            <a:ext cx="74646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52D8D81-489A-42FF-8E63-A813729F6F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5EF213-1597-496F-A2FA-B1C6C5C92A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AF2F838-06E1-4B64-B7F1-A633F95BE8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864A62-00F0-4825-8FB6-221BF09023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1.08) = 35,061.12</a:t>
            </a:r>
            <a:endParaRPr b="0" lang="en-US" sz="2800" spc="-1" strike="noStrike">
              <a:solidFill>
                <a:srgbClr val="000000"/>
              </a:solidFill>
              <a:latin typeface="Arial"/>
            </a:endParaRPr>
          </a:p>
        </p:txBody>
      </p:sp>
      <p:sp>
        <p:nvSpPr>
          <p:cNvPr id="2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C9D210E-A87B-44FE-8DB4-C5C5805C87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EBB80D8-41C5-41C2-94AF-638988B95D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514600" y="1676520"/>
            <a:ext cx="5181480" cy="3809880"/>
            <a:chOff x="2514600" y="1676520"/>
            <a:chExt cx="5181480" cy="3809880"/>
          </a:xfrm>
        </p:grpSpPr>
        <p:sp>
          <p:nvSpPr>
            <p:cNvPr id="206" name=""/>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69D8CB7-147E-47FB-AD6B-7AE923F813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4FA54A8-8A7C-4E90-AD4D-997E8E1007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E03E481-4093-4DCA-9BBC-3C4C5F7987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E2DD30-8426-4872-A648-7C0E49A60C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29D6EB5-DA7D-477D-BA0E-5F87250CC9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B99D87-073B-4873-AB1D-BAA256C02E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371240" y="1447920"/>
            <a:ext cx="75438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pic>
        <p:nvPicPr>
          <p:cNvPr id="228" name="" descr="">
            <a:hlinkClick r:id="rId1"/>
          </p:cNvPr>
          <p:cNvPicPr/>
          <p:nvPr/>
        </p:nvPicPr>
        <p:blipFill>
          <a:blip r:embed="rId2"/>
          <a:stretch/>
        </p:blipFill>
        <p:spPr>
          <a:xfrm>
            <a:off x="7543800" y="5334120"/>
            <a:ext cx="660240" cy="838080"/>
          </a:xfrm>
          <a:prstGeom prst="rect">
            <a:avLst/>
          </a:prstGeom>
          <a:ln w="0">
            <a:noFill/>
          </a:ln>
        </p:spPr>
      </p:pic>
      <p:sp>
        <p:nvSpPr>
          <p:cNvPr id="22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2332D42-C932-4C09-B5DB-DAE90441C4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C2AE1A-764D-4A80-9CA2-77099F139915}" type="slidenum">
              <a:t>3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1" name=""/>
          <p:cNvGraphicFramePr/>
          <p:nvPr/>
        </p:nvGraphicFramePr>
        <p:xfrm>
          <a:off x="2011320" y="1830240"/>
          <a:ext cx="6210360" cy="4015080"/>
        </p:xfrm>
        <a:graphic>
          <a:graphicData uri="http://schemas.openxmlformats.org/presentationml/2006/ole">
            <p:oleObj r:id="rId1" spid="">
              <p:embed/>
              <p:pic>
                <p:nvPicPr>
                  <p:cNvPr id="232" name="" descr=""/>
                  <p:cNvPicPr/>
                  <p:nvPr/>
                </p:nvPicPr>
                <p:blipFill>
                  <a:blip r:embed="rId2"/>
                  <a:stretch/>
                </p:blipFill>
                <p:spPr>
                  <a:xfrm>
                    <a:off x="2011320" y="1830240"/>
                    <a:ext cx="6210360" cy="4015080"/>
                  </a:xfrm>
                  <a:prstGeom prst="rect">
                    <a:avLst/>
                  </a:prstGeom>
                  <a:ln w="0">
                    <a:noFill/>
                  </a:ln>
                </p:spPr>
              </p:pic>
            </p:oleObj>
          </a:graphicData>
        </a:graphic>
      </p:graphicFrame>
      <p:sp>
        <p:nvSpPr>
          <p:cNvPr id="2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08BE573-CF42-40FD-9D4E-E89700E333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FBC7AA3-E03E-4570-A85B-019A3247B7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090F46F-2936-401D-B099-CD12BEE8A8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CB9B71-ACC1-46C1-AE4B-D6B371CB6B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6"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8" name=""/>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B8F2A60-DECE-490C-985E-1B326F3D06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E440B4-3F60-4D02-AFB4-8CB218A6403A}" type="slidenum">
              <a:t>40</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237"/>
                                        </p:tgtEl>
                                        <p:attrNameLst>
                                          <p:attrName>style.visibility</p:attrName>
                                        </p:attrNameLst>
                                      </p:cBhvr>
                                      <p:to>
                                        <p:strVal val="visible"/>
                                      </p:to>
                                    </p:set>
                                    <p:animEffect filter="wipe(left)" transition="in">
                                      <p:cBhvr additive="repl">
                                        <p:cTn id="48" dur="500"/>
                                        <p:tgtEl>
                                          <p:spTgt spid="23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238"/>
                                        </p:tgtEl>
                                        <p:attrNameLst>
                                          <p:attrName>style.visibility</p:attrName>
                                        </p:attrNameLst>
                                      </p:cBhvr>
                                      <p:to>
                                        <p:strVal val="visible"/>
                                      </p:to>
                                    </p:set>
                                    <p:animEffect filter="fade" transition="in">
                                      <p:cBhvr additive="repl">
                                        <p:cTn id="53" dur="1000"/>
                                        <p:tgtEl>
                                          <p:spTgt spid="238"/>
                                        </p:tgtEl>
                                      </p:cBhvr>
                                    </p:animEffect>
                                    <p:anim calcmode="lin" valueType="num">
                                      <p:cBhvr additive="repl">
                                        <p:cTn id="54" dur="1000" fill="hold"/>
                                        <p:tgtEl>
                                          <p:spTgt spid="238"/>
                                        </p:tgtEl>
                                        <p:attrNameLst>
                                          <p:attrName>ppt_x</p:attrName>
                                        </p:attrNameLst>
                                      </p:cBhvr>
                                      <p:tavLst>
                                        <p:tav tm="0">
                                          <p:val>
                                            <p:strVal val="#ppt_x"/>
                                          </p:val>
                                        </p:tav>
                                        <p:tav tm="100000">
                                          <p:val>
                                            <p:strVal val="#ppt_x"/>
                                          </p:val>
                                        </p:tav>
                                      </p:tavLst>
                                    </p:anim>
                                    <p:anim calcmode="lin" valueType="num">
                                      <p:cBhvr additive="repl">
                                        <p:cTn id="55"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2"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D4D38D6-8D08-4C30-AF66-306F6F482A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D5916F-E096-4036-8C2D-6B4FD89A8EBC}" type="slidenum">
              <a:t>4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3"/>
                                        </p:tgtEl>
                                        <p:attrNameLst>
                                          <p:attrName>style.visibility</p:attrName>
                                        </p:attrNameLst>
                                      </p:cBhvr>
                                      <p:to>
                                        <p:strVal val="visible"/>
                                      </p:to>
                                    </p:set>
                                    <p:animEffect filter="fade" transition="in">
                                      <p:cBhvr additive="repl">
                                        <p:cTn id="62" dur="1000"/>
                                        <p:tgtEl>
                                          <p:spTgt spid="243"/>
                                        </p:tgtEl>
                                      </p:cBhvr>
                                    </p:animEffect>
                                    <p:anim calcmode="lin" valueType="num">
                                      <p:cBhvr additive="repl">
                                        <p:cTn id="63" dur="1000" fill="hold"/>
                                        <p:tgtEl>
                                          <p:spTgt spid="243"/>
                                        </p:tgtEl>
                                        <p:attrNameLst>
                                          <p:attrName>ppt_x</p:attrName>
                                        </p:attrNameLst>
                                      </p:cBhvr>
                                      <p:tavLst>
                                        <p:tav tm="0">
                                          <p:val>
                                            <p:strVal val="#ppt_x"/>
                                          </p:val>
                                        </p:tav>
                                        <p:tav tm="100000">
                                          <p:val>
                                            <p:strVal val="#ppt_x"/>
                                          </p:val>
                                        </p:tav>
                                      </p:tavLst>
                                    </p:anim>
                                    <p:anim calcmode="lin" valueType="num">
                                      <p:cBhvr additive="repl">
                                        <p:cTn id="64"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7"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9" name=""/>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5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9F643F9-BFEF-4976-9E32-725070C767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4ECB6A-5237-466B-AC0D-F74E8EAF5E11}" type="slidenum">
              <a:t>42</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248"/>
                                        </p:tgtEl>
                                        <p:attrNameLst>
                                          <p:attrName>style.visibility</p:attrName>
                                        </p:attrNameLst>
                                      </p:cBhvr>
                                      <p:to>
                                        <p:strVal val="visible"/>
                                      </p:to>
                                    </p:set>
                                    <p:animEffect filter="wipe(left)" transition="in">
                                      <p:cBhvr additive="repl">
                                        <p:cTn id="71" dur="500"/>
                                        <p:tgtEl>
                                          <p:spTgt spid="24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249"/>
                                        </p:tgtEl>
                                        <p:attrNameLst>
                                          <p:attrName>style.visibility</p:attrName>
                                        </p:attrNameLst>
                                      </p:cBhvr>
                                      <p:to>
                                        <p:strVal val="visible"/>
                                      </p:to>
                                    </p:set>
                                    <p:animEffect filter="fade" transition="in">
                                      <p:cBhvr additive="repl">
                                        <p:cTn id="76" dur="1000"/>
                                        <p:tgtEl>
                                          <p:spTgt spid="249"/>
                                        </p:tgtEl>
                                      </p:cBhvr>
                                    </p:animEffect>
                                    <p:anim calcmode="lin" valueType="num">
                                      <p:cBhvr additive="repl">
                                        <p:cTn id="77" dur="1000" fill="hold"/>
                                        <p:tgtEl>
                                          <p:spTgt spid="249"/>
                                        </p:tgtEl>
                                        <p:attrNameLst>
                                          <p:attrName>ppt_x</p:attrName>
                                        </p:attrNameLst>
                                      </p:cBhvr>
                                      <p:tavLst>
                                        <p:tav tm="0">
                                          <p:val>
                                            <p:strVal val="#ppt_x"/>
                                          </p:val>
                                        </p:tav>
                                        <p:tav tm="100000">
                                          <p:val>
                                            <p:strVal val="#ppt_x"/>
                                          </p:val>
                                        </p:tav>
                                      </p:tavLst>
                                    </p:anim>
                                    <p:anim calcmode="lin" valueType="num">
                                      <p:cBhvr additive="repl">
                                        <p:cTn id="78"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3"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5406908-EC47-4F36-978A-4594C92453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E1335B-CE3E-4CBA-9F58-2305D73B97D1}" type="slidenum">
              <a:t>43</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BA6AFBA-C439-44D9-8879-03C2C72A28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17C7B3-2EF2-41F5-A025-7D8BF076EE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60"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2EB40AB-26AB-47AB-9EFB-510535B95A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8CB41A-8AD2-4D70-BC1E-318BCCA04C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3"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59A61E9-051C-4536-AFAB-261A304BAE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39B277-8433-484B-9CAA-F5729B9358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6"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22DB4C7-432D-41F0-AEAD-E31BC7FFD1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9B514F-60BE-48EA-A167-FA50A0A4FB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F52D312-85C9-4336-A91F-90128A9A45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DC7399-3A4E-47EA-8588-AD8ABDF5D0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133720" y="2514600"/>
                <a:ext cx="5181480" cy="175248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3" name=""/>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Times New Roman"/>
            </a:endParaRPr>
          </a:p>
        </p:txBody>
      </p:sp>
      <p:sp>
        <p:nvSpPr>
          <p:cNvPr id="27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0C8FD7E-BA53-4D6B-AD02-7781CFAFC22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3BC5E38-A7F0-4CE5-B1CF-3A333D5B43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1AB20B3-5AD1-4CD8-9F00-950FFFA8A2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53261A-687F-4884-9EC3-5BCEDDF249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88DE1AE-51F4-4477-B351-83967B2934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705815-7CB9-405B-9C63-6907DFFEAC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79"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33DCFCA-4088-4F3E-8D9D-CDD0ED1A33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4184F8-9E59-44F5-8C8F-67AF139F69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6AD24D4-2733-4AF8-A796-99806C393F2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D693F4-DBE2-4E15-AAD9-7B017E1075BB}" type="slidenum">
              <a:t>52</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284"/>
                                        </p:tgtEl>
                                        <p:attrNameLst>
                                          <p:attrName>style.visibility</p:attrName>
                                        </p:attrNameLst>
                                      </p:cBhvr>
                                      <p:to>
                                        <p:strVal val="visible"/>
                                      </p:to>
                                    </p:set>
                                    <p:animEffect filter="fade" transition="in">
                                      <p:cBhvr additive="repl">
                                        <p:cTn id="91" dur="1000"/>
                                        <p:tgtEl>
                                          <p:spTgt spid="284"/>
                                        </p:tgtEl>
                                      </p:cBhvr>
                                    </p:animEffect>
                                    <p:anim calcmode="lin" valueType="num">
                                      <p:cBhvr additive="repl">
                                        <p:cTn id="92" dur="1000" fill="hold"/>
                                        <p:tgtEl>
                                          <p:spTgt spid="284"/>
                                        </p:tgtEl>
                                        <p:attrNameLst>
                                          <p:attrName>ppt_x</p:attrName>
                                        </p:attrNameLst>
                                      </p:cBhvr>
                                      <p:tavLst>
                                        <p:tav tm="0">
                                          <p:val>
                                            <p:strVal val="#ppt_x"/>
                                          </p:val>
                                        </p:tav>
                                        <p:tav tm="100000">
                                          <p:val>
                                            <p:strVal val="#ppt_x"/>
                                          </p:val>
                                        </p:tav>
                                      </p:tavLst>
                                    </p:anim>
                                    <p:anim calcmode="lin" valueType="num">
                                      <p:cBhvr additive="repl">
                                        <p:cTn id="93"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442BC77-F187-4EF1-A8EF-E906312635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349A1A3-703C-4E6D-82A7-112160A6C8A4}" type="slidenum">
              <a:t>53</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289"/>
                                        </p:tgtEl>
                                        <p:attrNameLst>
                                          <p:attrName>style.visibility</p:attrName>
                                        </p:attrNameLst>
                                      </p:cBhvr>
                                      <p:to>
                                        <p:strVal val="visible"/>
                                      </p:to>
                                    </p:set>
                                    <p:animEffect filter="fade" transition="in">
                                      <p:cBhvr additive="repl">
                                        <p:cTn id="100" dur="1000"/>
                                        <p:tgtEl>
                                          <p:spTgt spid="289"/>
                                        </p:tgtEl>
                                      </p:cBhvr>
                                    </p:animEffect>
                                    <p:anim calcmode="lin" valueType="num">
                                      <p:cBhvr additive="repl">
                                        <p:cTn id="101" dur="1000" fill="hold"/>
                                        <p:tgtEl>
                                          <p:spTgt spid="289"/>
                                        </p:tgtEl>
                                        <p:attrNameLst>
                                          <p:attrName>ppt_x</p:attrName>
                                        </p:attrNameLst>
                                      </p:cBhvr>
                                      <p:tavLst>
                                        <p:tav tm="0">
                                          <p:val>
                                            <p:strVal val="#ppt_x"/>
                                          </p:val>
                                        </p:tav>
                                        <p:tav tm="100000">
                                          <p:val>
                                            <p:strVal val="#ppt_x"/>
                                          </p:val>
                                        </p:tav>
                                      </p:tavLst>
                                    </p:anim>
                                    <p:anim calcmode="lin" valueType="num">
                                      <p:cBhvr additive="repl">
                                        <p:cTn id="10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2"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6F72E2F-F040-4CE8-9687-0CD02BF617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84FAE3-7D5B-435E-9E83-C432752E8D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42840E1-89A2-4C44-BF6F-9B180F0070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303C39-0E88-4251-84AB-EC9AD7642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09972BF-631D-4171-AF1B-F877CA1F71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3078D8B-1BCE-46EF-92EA-70DFA23724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1"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1B72D44-19A4-496A-A130-E15ECF9244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F03B49-36CD-48C1-B08F-304BA6ED8B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9239044-AEFE-4738-B34B-AF620B83A7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720A00-7071-4F7E-B784-D6AABCFABE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7"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30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CEB92E1-0D6B-4AB1-98BA-CB40B7B3E3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212526-BE2C-4155-824D-88598D16BC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D81F8D3-D0FB-4219-AB69-F2AEA22B8D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9086B2-8241-42DA-8909-051EF27082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0"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50BE7EB-C06F-4BD3-8B96-2448DB2272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26C1B4-215A-4A54-8F89-6D027CDAE0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3"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4" name=""/>
          <p:cNvGraphicFramePr/>
          <p:nvPr/>
        </p:nvGraphicFramePr>
        <p:xfrm>
          <a:off x="6781680" y="4952880"/>
          <a:ext cx="838440" cy="800280"/>
        </p:xfrm>
        <a:graphic>
          <a:graphicData uri="http://schemas.openxmlformats.org/presentationml/2006/ole">
            <p:oleObj progId="Excel.Sheet.12" r:id="rId1" spid="">
              <p:embed/>
              <p:pic>
                <p:nvPicPr>
                  <p:cNvPr id="315" name="" descr=""/>
                  <p:cNvPicPr/>
                  <p:nvPr/>
                </p:nvPicPr>
                <p:blipFill>
                  <a:blip r:embed="rId2"/>
                  <a:stretch/>
                </p:blipFill>
                <p:spPr>
                  <a:xfrm>
                    <a:off x="6781680" y="4952880"/>
                    <a:ext cx="838440" cy="800280"/>
                  </a:xfrm>
                  <a:prstGeom prst="rect">
                    <a:avLst/>
                  </a:prstGeom>
                  <a:ln w="0">
                    <a:noFill/>
                  </a:ln>
                </p:spPr>
              </p:pic>
            </p:oleObj>
          </a:graphicData>
        </a:graphic>
      </p:graphicFrame>
      <p:sp>
        <p:nvSpPr>
          <p:cNvPr id="31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FCC704B-580D-49E1-A743-2FF25E27A9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BD0333-5A2B-47AE-89DF-ACD737BB8807}" type="slidenum">
              <a:t>6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8"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19" name=""/>
          <p:cNvGraphicFramePr/>
          <p:nvPr/>
        </p:nvGraphicFramePr>
        <p:xfrm>
          <a:off x="6629400" y="4267080"/>
          <a:ext cx="990720" cy="914400"/>
        </p:xfrm>
        <a:graphic>
          <a:graphicData uri="http://schemas.openxmlformats.org/presentationml/2006/ole">
            <p:oleObj progId="Excel.Sheet.12" r:id="rId1" spid="">
              <p:embed/>
              <p:pic>
                <p:nvPicPr>
                  <p:cNvPr id="320" name="" descr=""/>
                  <p:cNvPicPr/>
                  <p:nvPr/>
                </p:nvPicPr>
                <p:blipFill>
                  <a:blip r:embed="rId2"/>
                  <a:stretch/>
                </p:blipFill>
                <p:spPr>
                  <a:xfrm>
                    <a:off x="6629400" y="4267080"/>
                    <a:ext cx="990720" cy="914400"/>
                  </a:xfrm>
                  <a:prstGeom prst="rect">
                    <a:avLst/>
                  </a:prstGeom>
                  <a:ln w="0">
                    <a:noFill/>
                  </a:ln>
                </p:spPr>
              </p:pic>
            </p:oleObj>
          </a:graphicData>
        </a:graphic>
      </p:graphicFrame>
      <p:sp>
        <p:nvSpPr>
          <p:cNvPr id="3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91EA406-F9EC-439C-8792-E63D58BA0E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87C1E1-264D-4716-8EEB-4B63BCBD2FC1}" type="slidenum">
              <a:t>6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www.bankrate.com</a:t>
            </a:r>
            <a:r>
              <a:rPr b="0" lang="en-US" sz="2400" spc="-1" strike="noStrike" u="sng">
                <a:solidFill>
                  <a:srgbClr val="000000"/>
                </a:solidFill>
                <a:uFillTx/>
                <a:latin typeface="Arial"/>
              </a:rPr>
              <a:t> site and work the following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loan paymen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mortization schedule look like?</a:t>
            </a:r>
            <a:endParaRPr b="0" lang="en-US" sz="2000" spc="-1" strike="noStrike">
              <a:solidFill>
                <a:srgbClr val="000000"/>
              </a:solidFill>
              <a:latin typeface="Arial"/>
            </a:endParaRPr>
          </a:p>
        </p:txBody>
      </p:sp>
      <p:pic>
        <p:nvPicPr>
          <p:cNvPr id="324" name="" descr="">
            <a:hlinkClick r:id="rId2"/>
          </p:cNvPr>
          <p:cNvPicPr/>
          <p:nvPr/>
        </p:nvPicPr>
        <p:blipFill>
          <a:blip r:embed="rId3"/>
          <a:stretch/>
        </p:blipFill>
        <p:spPr>
          <a:xfrm>
            <a:off x="7696080" y="5257800"/>
            <a:ext cx="660600" cy="838080"/>
          </a:xfrm>
          <a:prstGeom prst="rect">
            <a:avLst/>
          </a:prstGeom>
          <a:ln w="0">
            <a:noFill/>
          </a:ln>
        </p:spPr>
      </p:pic>
      <p:sp>
        <p:nvSpPr>
          <p:cNvPr id="3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316DD1F-C5B9-4746-B04D-ADAB8A1BB6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77FAD6-08E0-42B0-93C3-8CE1FC1935D1}" type="slidenum">
              <a:t>63</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53C28C5-0122-4EC9-B50C-ADAE7BB216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6E61E7-E67B-4556-8D49-130697141E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F32419D-6F26-499B-B6C7-92BAAB7318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863D9A-D744-4492-97A4-E632A4E01D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ing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A746C32-E667-4759-BD53-0916AC6F182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1A06F5-DC84-425F-9BC8-2BCC923682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FAC9B18-9EAD-4E93-9FFE-E39EFC6A16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D632374-09DE-459D-9ABF-9BB0C5A8DBC8}"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D9384DC-AEF4-4783-9241-4FB725147E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064827-F291-41E3-BC10-B14AB567D1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6A21A71-3400-4267-8F5B-CA8FD14294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D5BEC8-2C66-4C78-96F1-73DDB49CF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523880" y="1600200"/>
            <a:ext cx="7086600" cy="4406760"/>
            <a:chOff x="1523880" y="1600200"/>
            <a:chExt cx="7086600" cy="4406760"/>
          </a:xfrm>
        </p:grpSpPr>
        <p:sp>
          <p:nvSpPr>
            <p:cNvPr id="77" name=""/>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C60AC63-2444-44F9-8CFE-C378209737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A140F64-BD4F-47DC-82A6-4BF7199F4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42Z</dcterms:modified>
  <cp:revision>54</cp:revision>
  <dc:subject/>
  <dc:title>Discounted Cash Flow Valuation</dc:title>
</cp:coreProperties>
</file>