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fld id="{C9F1A31D-6FE8-4DFF-9FA7-CCA560F3A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alizes the calculations we have been do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  The basic information i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on rate = 14%, semiannual cou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urity = 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value = $1,00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a:t>
            </a:r>
            <a:r>
              <a:rPr b="1" i="1" lang="en-US" sz="1200" spc="-1" strike="noStrike">
                <a:solidFill>
                  <a:srgbClr val="000000"/>
                </a:solidFill>
                <a:latin typeface="Times New Roman"/>
              </a:rPr>
              <a:t> </a:t>
            </a:r>
            <a:r>
              <a:rPr b="0" lang="en-US" sz="1200" spc="-1" strike="noStrike">
                <a:solidFill>
                  <a:srgbClr val="000000"/>
                </a:solidFill>
                <a:latin typeface="Times New Roman"/>
              </a:rPr>
              <a:t>Upon learning the concept of interest rate risk, students sometimes conclude that bonds with low interest-rate risk (i.e. high coupon bonds) are necessarily “safer” than otherwise identical bonds with lower coupons. In reality, the contrary may be true: increasing interest rate volatility over the last two decades has greatly increased the importance of interest rate risk in bond valuation. The days when bonds represented a “widows and orphans” investment are long g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point out that one potentially undesirable feature of high-coupon bonds is the required reinvestment of coupons at the computed yield-to-maturity if one is to actually earn that yield. Those who purchased bonds in the early 1980s (when even high-grade corporate bonds had coupons over 11%) found, to their dismay, that interest payments could not be reinvested at similar rates a few years later without taking greater risk. A good example of the trade-off between interest rate risk and reinvestment risk is the purchase of a zero-coupon bond – one eliminates reinvestment risk but maximizes interest-rate risk.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be able to recognize that the YTM is more than the coupon since the price is less than pa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information as the YTM calculation on slide 7.15. The YTM computed on that slide wa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discuss the components of required returns for bonds in a fashion analogous to the stock return discussion in the next chapter. As with common stocks, the required return on a bond can be decomposed into current income and capital gains components. The yield-to-maturity (YTM) equals the current yield plus the capital gains yield. A further example is provided in the I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s with any asset, the value of a bond is simply the present value of its future cash flow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you must have the analysis tool pack add-ins installed to access the PRICE and YIELD functions. If you do not have these installed on your computer, you can use the PV and the RATE functions to compute price and yield as well. Click on the TVM tab to find these calcul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ion of long-term debt that comes due within one year is treated as a current liabil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andard terminology in the US – but it may not transfer to other countries. For example, debentures are secured debt in the United King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Domestically issued bearer bonds will become obsolete in the near future. Since bearer bonds are not registered with the corporation, it is easier for bondholders to receive interest payments without reporting them on their income tax returns. In an attempt to eliminate this potential for tax evasion, all bonds issued in the US after July 1983 must be in registered form. It is still legal to offer bearer bonds in some other nations, however. Some foreign bonds are popular among international investors particularly due to their bearer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majority of corporate bonds have a $1,000 face value, there are an increasing number of “baby bonds” outstanding, i.e., bonds with face values less than $1,000. The use of the term “baby bond” goes back at least as far as 1970, when it was used in connection with AT&amp;T’s announcement of the intent to issue bonds with low face values. It was also used in describing Merrill Lynch’s 1983 program to issue bonds with $25 face values. More recently, the term has come to mean bonds issued in lieu of interest payments by firms unable to make the payments in cash. Baby bonds issued under these circumstances are also called “PIK” (payment-in-kind) bonds, or “bunny” bonds, because they tend to proliferate in LBO circumstanc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enture: secured debt is less risky because the income from the security is used to pay it off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ordinated debenture: will be paid after the senior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without sinking fund: company has to come up with substantial cash at maturity to retire debt, and this is riskier than systematic retirement of debt throug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able – bondholders bear the risk of the bond being called early, usually when rates are lower. They don’t receive all of the expected coupons and they have to reinvest at lower rat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question sometimes arises as to why a potential issuer would be willing to pay rating agencies tens of thousands of dollars in order to receive a rating, especially given the possibility that the resulting rating could be less favorable than expected. This is a good place to remind students about the pervasive nature of agency costs and point out a real-world example of their effects on firm value. You may also wish to use this issue to discuss some of the consequences of information asymmetries in financial marke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exercise to ask students which bonds will have the highest yield to maturity (lowest price) all else equ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e willing to accept a lower stated yield on municipals because you do not have to pay taxes on the interest received. You will want to make sure the students understand why you are willing to accept a lower rate of interest. It may be helpful to take the example and illustrate the indifference point using dollars instead of just percentages. The discount you are willing to accept depends on your tax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axable bond with a yield of 8% and a tax-exempt municipal bond with a yield of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own one $1,000 bond in each and both bonds are selling at par.  You receive $80 per year from the corporate and $60 per year from the municipal.  How much do you have after taxes if you are in the 40% tax bracket?  Corporate: 80 – 80(.4) = 48; Municipal =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 federal government exempt munis from taxation? It provides an incentive for local governments to raise capital on their ow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are familiar with Series EE savings bonds. Point out that these are actually zero coupon bonds. The investor pays one-half of the face value and must hold the bond for a given number of years before the face value is realized. As with any other zero-coupon bond, reinvestment risk is eliminated, but an additional benefit of EE bonds is that, unlike corporate zeroes, the investor need not pay taxes on the accrued interest until the bond is redeemed. Further, it should be noted that interest on these bonds is exempt from state income taxes. And, savings bonds yields are indexed to Treasury rates.</a:t>
            </a:r>
            <a:br>
              <a:rPr sz="1200"/>
            </a:br>
            <a:br>
              <a:rPr sz="1200"/>
            </a:b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magine this scenario: General Motors receives cash from a lender in return for the promise to make periodic interest payments that “float” with the general level of market rates. Sounds like a floating-rate bond, doesn’t it? Well, it is, except that if you replace “General Motors” with “Joe Smith,” you have just described an adjustable-rate mortg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re is less price risk, there is greater reinvestment (or refinancing) ris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useful exercise to ask the students if these bonds will tend to have higher or lower required returns compared to bonds without these specific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bonds – issued by property and casualty companies. Pay interest and principal as usual unless claims reach a certain threshold for a single disaster. At that point, bondholders may lose all remaining payments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bonds – coupon payments depend on level of corporate income. If earnings are not enough to cover the interest payment, it is not owed.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ible bonds – bonds can be converted into shares of common stock at the bondholders discretion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bond – bondholder can force the company to buy the bond back prior to maturity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other unique bonds such as death puts and Bowie Bond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ed volume of bonds traded is not indicative of total activity due to off exchange transac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bid and ask prices is called the bid-ask spread and it is how the dealer make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the November maturity is November 15, then the coupon dates would be November 15 and May 15. Therefore, July 15 would be 16 + 30 + 15 = 61 days since the last co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days in the coupon period would be 16 + 30 + 31 + 31 + 30 + 31 + 15 = 184</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ask the students to define inflation to make sure they understand 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utations, students need to insure that they are matching real rates with real dollars or nominal rates with nominal dolla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ximation works pretty well with “normal” real rates of interest and expected inflation.  If the expected inflation rate is high, then there can be a substantial differenc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late 1997 and early 1998 there was a great deal of talk about the effects of deflation among financial pundits, due in large part to the combined effects of continuing decreases in energy prices, as well as the upheaval in Asian economies and the subsequent devaluation of several currencies. How might this affect observed yields? According to the Fisher Effect, we should observe lower nominal rates and higher real rates and that is roughly what happened. The opposite situation, however, occurred in and around 2008.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upon is typically paid in cash, examples exist of firms paying investors with product (e.g., Isle of Arran Distillers discussed in the </a:t>
            </a:r>
            <a:r>
              <a:rPr b="0" i="1" lang="en-US" sz="1200" spc="-1" strike="noStrike">
                <a:solidFill>
                  <a:srgbClr val="000000"/>
                </a:solidFill>
                <a:latin typeface="Times New Roman"/>
              </a:rPr>
              <a:t>Real World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to maturity, required return, and market rate are used interchangeably.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web surfer to go to Bloomberg to get the current Treasury yield curv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TM: 18 N; 2.5 I/Y; 30 PMT; 1,000 FV; CPT PV = 1,07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YTM: 18 N; 3.5 I/Y; 30 PMT; 1,000 FV; CPT PV = 934.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ield = 60/934.05 = 6.4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on the calculator. The easy way to remember it with bonds is we pay the PV (-) so that we can receive the PMT (+) and the F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8 discusses why this bond sells at less than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should stress the issue that the coupon rate and the face value are fixed by the bond indenture when the bond is issued (except for floating-rate bonds). Therefore, the expected cash flows don’t change during the life of the bond. However, the bond price will change as interest rates change and as the bond approaches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further explore the loss in value of $115 in the example in the book. You should remind the class that when the 8% bond was issued, bonds of similar risk and maturity were yielding 8%. The coupon rate was set so that the bond would sell at par value; therefore, the coupons were set at $80 per year. One year later, the ten-year bond has nine years remaining to maturity. However, bonds of similar risk and nine years to maturity are being issued to yield 10%, so they have coupons of $100 per year.  The bond we are looking at only pays $80 per year.  Consequently, the old bond will sell for less than $1,000.  The mathematical reason for that is discussed in the text. However, many students can intuitively grasp that you wouldn’t be willing to pay as much for a bond that only pays $80 per year for 9 years as you would for a bond that pays $100 per year for 9 yea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characteristics: Coupon rate = 8% with annual coupons; Par value = $1,000; Maturity = 10 yea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purely mechanical reasons for thes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that present values decrease as rates increase. Therefore, if we increase our yield above the coupon, the present value (price) must decrease below par. On the other hand, if we decrease our yield below the coupon, the present value (price) must increase above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more intuitive ways to explain this relationship.  Explain that the yield to maturity is the interest rate on newly issued debt of the same risk and that debt would be issued so that the coupon = yield. Then, suppose that the coupon rate is 8% and the yield is 9%. Ask the students which bond they would be willing to pay more for. Most will say that they would pay more for the new bond. Since it is priced to sell at $1,000, the 8% bond must sell for less than $1,000.  The same logic works if the new bond has a yield and coupon less than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it is that return = “dividend yield” + capital gains yield. The “dividend yield” in this case is just the coupon rate.  The capital gains yield has to make up the difference to reach the yield to maturity. Therefore, if the coupon rate is 8% and the YTM is 9%, the capital gains yield must equal approximately 1%. The only way to have a capital gains yield of 1% is if the bond is selling for less than par value. (If price = par, there is no capital gain.) Technically, it is the current yield, not the coupon rate + capital gains yield, but from an intuitive standpoint, this helps some students remember the relationship and current yields and coupon rates are normally reasonably clo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3E0D4-941D-4899-83BF-FD3B6F388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66F7-3AA4-42B2-BDB3-1755A54A4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B3AC8-FD02-43EA-8CD0-908A034C6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03A13-9BF9-4BB1-886B-73FA8CFF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3E9D-4961-4834-BAAB-FA0C00DC0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1D86-5A94-468A-BC52-FBAECD1D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6EC8-E59D-43D2-AE22-E5D239D00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35A8-D158-4D13-9AC0-C6C7403B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8B0D2-85BF-4BCE-923C-A266179F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7826-4C63-4282-B296-8358E9A2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EA539-7DCA-41CE-BFE2-C428BE9B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E2A7-FA9B-4BC2-9CE2-74FFD6F81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ondsonline.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bloomberg.com/markets/rates/index.html" TargetMode="External"/><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523880" y="129528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7</a:t>
            </a: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erest Rates and Bond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3C4AD1C-E3C6-4B31-B1B0-AADC30098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nd Pricing Equation</a:t>
            </a:r>
            <a:endParaRPr b="0" lang="en-US" sz="44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390680" y="2043000"/>
                <a:ext cx="6972120" cy="2467080"/>
              </a:xfrm>
              <a:prstGeom prst="rect">
                <a:avLst/>
              </a:prstGeom>
            </p:spPr>
            <p:txBody>
              <a:bodyPr/>
              <a:p>
                <a14:m>
                  <m:oMath xmlns:m="http://schemas.openxmlformats.org/officeDocument/2006/math">
                    <m:r>
                      <m:rPr>
                        <m:lit/>
                        <m:nor/>
                      </m:rPr>
                      <m:t xml:space="preserve">Bond Value </m:t>
                    </m:r>
                    <m:r>
                      <m:t xml:space="preserve">=</m:t>
                    </m:r>
                    <m:r>
                      <m:rPr>
                        <m:lit/>
                        <m:nor/>
                      </m:rPr>
                      <m:t xml:space="preserve"> C</m:t>
                    </m:r>
                    <m:d>
                      <m:dPr>
                        <m:begChr m:val="["/>
                        <m:endChr m:val="]"/>
                      </m:dPr>
                      <m:e>
                        <m:f>
                          <m:num>
                            <m:r>
                              <m:rPr>
                                <m:lit/>
                                <m:nor/>
                              </m:rPr>
                              <m:t xml:space="preserve">1-</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r>
                      <m:t xml:space="preserve">+</m:t>
                    </m:r>
                    <m:f>
                      <m:num>
                        <m:r>
                          <m:rPr>
                            <m:lit/>
                            <m:nor/>
                          </m:rPr>
                          <m:t xml:space="preserve">FV</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295B9FA-CEC5-4ECD-9E94-464999DE39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4395C79-1AB0-491A-ABD5-8B02B6111B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1</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present values based on the payment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upon payments are the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coupon paymen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yiel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70[1 – 1/(1.08)</a:t>
            </a:r>
            <a:r>
              <a:rPr b="0" lang="en-US" sz="2400" spc="-1" strike="noStrike" baseline="30000">
                <a:solidFill>
                  <a:srgbClr val="000000"/>
                </a:solidFill>
                <a:latin typeface="Arial"/>
              </a:rPr>
              <a:t>14</a:t>
            </a:r>
            <a:r>
              <a:rPr b="0" lang="en-US" sz="2400" spc="-1" strike="noStrike">
                <a:solidFill>
                  <a:srgbClr val="000000"/>
                </a:solidFill>
                <a:latin typeface="Arial"/>
              </a:rPr>
              <a:t>] / .08 + 1,000 / (1.08)</a:t>
            </a:r>
            <a:r>
              <a:rPr b="0" lang="en-US" sz="2400" spc="-1" strike="noStrike" baseline="30000">
                <a:solidFill>
                  <a:srgbClr val="000000"/>
                </a:solidFill>
                <a:latin typeface="Arial"/>
              </a:rPr>
              <a:t>14</a:t>
            </a:r>
            <a:r>
              <a:rPr b="0" lang="en-US" sz="2400" spc="-1" strike="noStrike">
                <a:solidFill>
                  <a:srgbClr val="000000"/>
                </a:solidFill>
                <a:latin typeface="Arial"/>
              </a:rPr>
              <a:t> = 917.5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MT = 70; N = 14; I/Y = 8; FV = 1,000; CPT PV = -917.56</a:t>
            </a:r>
            <a:endParaRPr b="0" lang="en-US" sz="24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7956E3F-DB81-4FE1-8EFF-17667E805A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4E9467-FDD2-48F5-AB5D-E99B9DC61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Rate Risk</a:t>
            </a:r>
            <a:endParaRPr b="0" lang="en-US" sz="4400" spc="-1" strike="noStrike">
              <a:solidFill>
                <a:srgbClr val="000000"/>
              </a:solidFill>
              <a:latin typeface="Arial"/>
            </a:endParaRPr>
          </a:p>
        </p:txBody>
      </p:sp>
      <p:sp>
        <p:nvSpPr>
          <p:cNvPr id="89" name="PlaceHolder 2"/>
          <p:cNvSpPr>
            <a:spLocks noGrp="1"/>
          </p:cNvSpPr>
          <p:nvPr>
            <p:ph/>
          </p:nvPr>
        </p:nvSpPr>
        <p:spPr>
          <a:xfrm>
            <a:off x="1752480" y="1523880"/>
            <a:ext cx="715968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 Risk</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price due to changes in interest rat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bonds have more price risk than short-term bon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upon rate bonds have more price risk than high coupon rate bonds</a:t>
            </a:r>
            <a:endParaRPr b="0" lang="en-US" sz="2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investment Rate Risk</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rtainty concerning rates at which cash flows can be reinveste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bonds have more reinvestment rate risk than long-term bon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upon rate bonds have more reinvestment rate risk than low coupon rate bonds</a:t>
            </a:r>
            <a:endParaRPr b="0" lang="en-US" sz="2000" spc="-1" strike="noStrike">
              <a:solidFill>
                <a:srgbClr val="000000"/>
              </a:solidFill>
              <a:latin typeface="Arial"/>
            </a:endParaRPr>
          </a:p>
        </p:txBody>
      </p:sp>
      <p:sp>
        <p:nvSpPr>
          <p:cNvPr id="90"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4B5B3CE-5CAB-4F0D-A14D-2BA3F6B3E1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C4F4EF-906E-4E75-9B70-B325107C1D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2</a:t>
            </a:r>
            <a:endParaRPr b="0" lang="en-US" sz="4400" spc="-1" strike="noStrike">
              <a:solidFill>
                <a:srgbClr val="000000"/>
              </a:solidFill>
              <a:latin typeface="Arial"/>
            </a:endParaRPr>
          </a:p>
        </p:txBody>
      </p:sp>
      <p:pic>
        <p:nvPicPr>
          <p:cNvPr id="92" name="" descr=""/>
          <p:cNvPicPr/>
          <p:nvPr/>
        </p:nvPicPr>
        <p:blipFill>
          <a:blip r:embed="rId1"/>
          <a:srcRect l="0" t="0" r="30882" b="0"/>
          <a:stretch/>
        </p:blipFill>
        <p:spPr>
          <a:xfrm>
            <a:off x="1905120" y="1295280"/>
            <a:ext cx="5867280" cy="5259600"/>
          </a:xfrm>
          <a:prstGeom prst="rect">
            <a:avLst/>
          </a:prstGeom>
          <a:ln w="0">
            <a:noFill/>
          </a:ln>
        </p:spPr>
      </p:pic>
      <p:sp>
        <p:nvSpPr>
          <p:cNvPr id="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9295A4D-5240-4149-92AE-F495C6D61A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427F3A2-B1B4-4A06-808E-483427EF1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Yield to Maturity</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to Maturity (YTM) is the rate implied by the current bond pr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YTM requires trial and error if you do not have a financial calculator and is similar to the process for finding r with an ann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financial calculator, enter N, PV, PMT, and FV, remembering the sign convention (PMT and FV need to have the same sign, PV the opposite sign)</a:t>
            </a:r>
            <a:endParaRPr b="0" lang="en-US" sz="2800" spc="-1" strike="noStrike">
              <a:solidFill>
                <a:srgbClr val="000000"/>
              </a:solidFill>
              <a:latin typeface="Arial"/>
            </a:endParaRPr>
          </a:p>
        </p:txBody>
      </p:sp>
      <p:sp>
        <p:nvSpPr>
          <p:cNvPr id="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5B2BB74-4370-44E4-AE69-D668BEBB01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73C2A6-B1E4-442B-B82D-EE1F1EB8D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TM with Annual Coupons</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ond with a 10% annual coupon rate, 15 years to maturity and a par value of $1,000. The current price is $928.09.</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yield be more or less than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5; PV = -928.09; FV = 1,000; PMT = 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1%</a:t>
            </a:r>
            <a:endParaRPr b="0" lang="en-US" sz="2400" spc="-1" strike="noStrike">
              <a:solidFill>
                <a:srgbClr val="000000"/>
              </a:solidFill>
              <a:latin typeface="Arial"/>
            </a:endParaRPr>
          </a:p>
        </p:txBody>
      </p:sp>
      <p:sp>
        <p:nvSpPr>
          <p:cNvPr id="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1596B3E-E601-4054-AD4C-D0133FBC34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AC5BB2F-ABF9-4980-A8FC-226D0618B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TM with Semiannual Coupons</a:t>
            </a:r>
            <a:endParaRPr b="0" lang="en-US" sz="4400" spc="-1" strike="noStrike">
              <a:solidFill>
                <a:srgbClr val="000000"/>
              </a:solidFill>
              <a:latin typeface="Arial"/>
            </a:endParaRPr>
          </a:p>
        </p:txBody>
      </p:sp>
      <p:sp>
        <p:nvSpPr>
          <p:cNvPr id="1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bond with a 10% coupon rate and semiannual coupons, has a face value of $1,000, 20 years to maturity and is selling for $1,197.93.</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YTM more or less than 1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coupon paymen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eriods are ther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0; PV = -1,197.93; PMT = 50; FV = 1,000; CPT I/Y = 4% (Is this the YT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TM = 4%*2 = 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0D621A4-C77A-41D3-B639-9DB2EBFE5E9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3E677C-FE27-4CF2-849A-2F5CC287A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7.1</a:t>
            </a:r>
            <a:endParaRPr b="0" lang="en-US" sz="4400" spc="-1" strike="noStrike">
              <a:solidFill>
                <a:srgbClr val="000000"/>
              </a:solidFill>
              <a:latin typeface="Arial"/>
            </a:endParaRPr>
          </a:p>
        </p:txBody>
      </p:sp>
      <p:pic>
        <p:nvPicPr>
          <p:cNvPr id="104" name="" descr=""/>
          <p:cNvPicPr/>
          <p:nvPr/>
        </p:nvPicPr>
        <p:blipFill>
          <a:blip r:embed="rId1"/>
          <a:srcRect l="30000" t="0" r="0" b="0"/>
          <a:stretch/>
        </p:blipFill>
        <p:spPr>
          <a:xfrm>
            <a:off x="1676520" y="2462040"/>
            <a:ext cx="7059600" cy="2928960"/>
          </a:xfrm>
          <a:prstGeom prst="rect">
            <a:avLst/>
          </a:prstGeom>
          <a:ln w="0">
            <a:noFill/>
          </a:ln>
        </p:spPr>
      </p:pic>
      <p:sp>
        <p:nvSpPr>
          <p:cNvPr id="1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C71C6270-11D3-4AC6-B265-D274B61C6E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36E6D7F-D4FB-459E-BB49-F8DEB0A98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Yield vs. Yield to Maturity</a:t>
            </a:r>
            <a:endParaRPr b="0" lang="en-US" sz="40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Yield = annual coupon / pr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to maturity = current yield + capital gains yie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0% coupon bond, with semiannual coupons, face value of 1,000, 20 years to maturity, $1,197.93 price</a:t>
            </a:r>
            <a:endParaRPr b="0" lang="en-US" sz="24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yield = 100 / 1,197.93 = .0835 = 8.35%</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n one year, assuming no change in YTM = 1,193.68</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gain yield = (1,193.68 – 1,197.93) / 1,197.93 =   -.0035 = -.35%</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TM = 8.35 - .35 = 8%, which is the same YTM computed earlier</a:t>
            </a:r>
            <a:endParaRPr b="0" lang="en-US" sz="2000" spc="-1" strike="noStrike">
              <a:solidFill>
                <a:srgbClr val="000000"/>
              </a:solidFill>
              <a:latin typeface="Arial"/>
            </a:endParaRPr>
          </a:p>
        </p:txBody>
      </p:sp>
      <p:sp>
        <p:nvSpPr>
          <p:cNvPr id="1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FBCD022D-B4E4-4267-AFD2-9D72023746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AEECE3-5F24-4337-BC0F-17BA26C2A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ing Theorems</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of similar risk (and maturity) will be priced to yield about the same return, regardless of the coupon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know the price of one bond, you can estimate its YTM and use that to find the price of the second b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useful concept that can be transferred to valuing assets other than bo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35C1413F-0E56-406A-8B37-F8A1CC325D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9CF2DC-3347-4E6D-87B2-0C23BBD62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523880" y="1676520"/>
            <a:ext cx="7312320" cy="430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the important bond features and bond typ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bond values and why they fluctu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bond ratings and what they mea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impact of inflation on interest rat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erm structure of interest rates and the determinants of bond yields</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D046A38-0DA7-4654-BCF1-4788EB3116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9469B1-D435-4A2B-9233-7643C44BE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es with a Spreadsheet</a:t>
            </a:r>
            <a:endParaRPr b="0" lang="en-US" sz="4400" spc="-1" strike="noStrike">
              <a:solidFill>
                <a:srgbClr val="000000"/>
              </a:solidFill>
              <a:latin typeface="Arial"/>
            </a:endParaRPr>
          </a:p>
        </p:txBody>
      </p:sp>
      <p:sp>
        <p:nvSpPr>
          <p:cNvPr id="11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pecific formula for finding bond prices on a spreadsheet</a:t>
            </a:r>
            <a:endParaRPr b="0" lang="en-US" sz="2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ettlement,Maturity,Rate,Yld,Redemption, Frequency,Basi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ettlement,Maturity,Rate,Pr,Redemption, Frequency,Basi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and maturity need to be actual dat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emption and Pr need to be input as % of par valu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14" name=""/>
          <p:cNvGraphicFramePr/>
          <p:nvPr/>
        </p:nvGraphicFramePr>
        <p:xfrm>
          <a:off x="8077320" y="5410080"/>
          <a:ext cx="990360" cy="885960"/>
        </p:xfrm>
        <a:graphic>
          <a:graphicData uri="http://schemas.openxmlformats.org/presentationml/2006/ole">
            <p:oleObj progId="Excel.Sheet.12" r:id="rId1" spid="">
              <p:embed/>
              <p:pic>
                <p:nvPicPr>
                  <p:cNvPr id="115" name="" descr=""/>
                  <p:cNvPicPr/>
                  <p:nvPr/>
                </p:nvPicPr>
                <p:blipFill>
                  <a:blip r:embed="rId2"/>
                  <a:stretch/>
                </p:blipFill>
                <p:spPr>
                  <a:xfrm>
                    <a:off x="8077320" y="5410080"/>
                    <a:ext cx="990360" cy="885960"/>
                  </a:xfrm>
                  <a:prstGeom prst="rect">
                    <a:avLst/>
                  </a:prstGeom>
                  <a:ln w="0">
                    <a:noFill/>
                  </a:ln>
                </p:spPr>
              </p:pic>
            </p:oleObj>
          </a:graphicData>
        </a:graphic>
      </p:graphicFrame>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E04EA36-5FC4-477C-8562-65B3BCD641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30DE58-18E8-40C7-8F3B-F401B1E6F4E7}"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ces Between </a:t>
            </a:r>
            <a:br>
              <a:rPr sz="4000"/>
            </a:br>
            <a:r>
              <a:rPr b="0" lang="en-US" sz="4000" spc="-1" strike="noStrike">
                <a:solidFill>
                  <a:srgbClr val="000000"/>
                </a:solidFill>
                <a:latin typeface="Arial"/>
              </a:rPr>
              <a:t>Debt and Equity</a:t>
            </a:r>
            <a:endParaRPr b="0" lang="en-US" sz="4000" spc="-1" strike="noStrike">
              <a:solidFill>
                <a:srgbClr val="000000"/>
              </a:solidFill>
              <a:latin typeface="Arial"/>
            </a:endParaRPr>
          </a:p>
        </p:txBody>
      </p:sp>
      <p:sp>
        <p:nvSpPr>
          <p:cNvPr id="118" name="PlaceHolder 2"/>
          <p:cNvSpPr>
            <a:spLocks noGrp="1"/>
          </p:cNvSpPr>
          <p:nvPr>
            <p:ph/>
          </p:nvPr>
        </p:nvSpPr>
        <p:spPr>
          <a:xfrm>
            <a:off x="1447920" y="1676160"/>
            <a:ext cx="3962160" cy="4686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n ownership interes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 do not have voting rights</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considered a cost of doing business and is tax deductible</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 have legal recourse if interest or principal payments are missed</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 debt can lead to financial distress and bankruptcy</a:t>
            </a:r>
            <a:endParaRPr b="0" lang="en-US" sz="2000" spc="-1" strike="noStrike">
              <a:solidFill>
                <a:srgbClr val="000000"/>
              </a:solidFill>
              <a:latin typeface="Arial"/>
            </a:endParaRPr>
          </a:p>
          <a:p>
            <a:pPr lvl="1" marL="74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5181120" y="1676160"/>
            <a:ext cx="396252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interes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holders vote for the board of directors and other issues</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not considered a cost of doing business and are not tax deductible</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not a liability of the firm, and stockholders have no legal recourse if dividends are not paid</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l equity firm can not go bankrupt merely due to debt since it has no debt</a:t>
            </a:r>
            <a:endParaRPr b="0" lang="en-US" sz="20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6EE2AE62-8F5D-45A1-A97F-B9BBCB4282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4063A591-4E21-4EE5-A310-4CB70FCDC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nd Indenture</a:t>
            </a:r>
            <a:endParaRPr b="0" lang="en-US" sz="4400" spc="-1" strike="noStrike">
              <a:solidFill>
                <a:srgbClr val="000000"/>
              </a:solidFill>
              <a:latin typeface="Arial"/>
            </a:endParaRPr>
          </a:p>
        </p:txBody>
      </p:sp>
      <p:sp>
        <p:nvSpPr>
          <p:cNvPr id="122" name="PlaceHolder 2"/>
          <p:cNvSpPr>
            <a:spLocks noGrp="1"/>
          </p:cNvSpPr>
          <p:nvPr>
            <p:ph/>
          </p:nvPr>
        </p:nvSpPr>
        <p:spPr>
          <a:xfrm>
            <a:off x="1447560" y="144756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between the company and the bondholders that includes</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terms of the bond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mount of bonds issued</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property used as security, if applicable</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king fund provision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provision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s of protective covenants</a:t>
            </a:r>
            <a:endParaRPr b="0" lang="en-US" sz="28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84AFA87-1C2F-4585-AE65-371E6E06D8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6A4D0DF-164C-4679-98C0-C34A0F638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Classifications</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ed vs. Bearer 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teral – secured by financial securiti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 secured by real property, normally land or building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ntures – unsecur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 – unsecured debt with original maturity less than 10 yea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ity</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97B64772-89FC-47DB-AEDB-1AAA75D8A4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7954D5-B465-46F3-AE3A-E1EB0D28B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Characteristics and Required Returns</a:t>
            </a:r>
            <a:endParaRPr b="0" lang="en-US" sz="4400" spc="-1" strike="noStrike">
              <a:solidFill>
                <a:srgbClr val="000000"/>
              </a:solidFill>
              <a:latin typeface="Arial"/>
            </a:endParaRPr>
          </a:p>
        </p:txBody>
      </p:sp>
      <p:sp>
        <p:nvSpPr>
          <p:cNvPr id="128"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pon rate depends on the risk characteristics of the bond when issu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bonds will have the higher coupon, all else equ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d debt versus a debentu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d debenture versus senior deb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nd with a sinking fund versus one withou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lable bond versus a non-callable bon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B51A108-B207-4E87-AE40-E275D4E0ED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A5E669F-353E-4A18-BF9E-6A564EFB8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nd Ratings – Investment Quality</a:t>
            </a:r>
            <a:endParaRPr b="0" lang="en-US" sz="4000" spc="-1" strike="noStrike">
              <a:solidFill>
                <a:srgbClr val="000000"/>
              </a:solidFill>
              <a:latin typeface="Arial"/>
            </a:endParaRPr>
          </a:p>
        </p:txBody>
      </p:sp>
      <p:sp>
        <p:nvSpPr>
          <p:cNvPr id="131" name="PlaceHolder 2"/>
          <p:cNvSpPr>
            <a:spLocks noGrp="1"/>
          </p:cNvSpPr>
          <p:nvPr>
            <p:ph/>
          </p:nvPr>
        </p:nvSpPr>
        <p:spPr>
          <a:xfrm>
            <a:off x="1523880" y="182844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Grad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aa and S&amp;P AAA – capacity to pay is extremely strong</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a and S&amp;P AA – capacity to pay is very strong</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Grad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 and S&amp;P A – capacity to pay is strong, but more susceptible to changes in circumstances</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Baa and S&amp;P BBB – capacity to pay is adequate, adverse conditions will have more impact on the firm’s ability to pay</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131AC79B-8055-4064-8E0D-1601E0D47E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5455FA-54D8-4E4C-AE1A-7DECDAD2E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Ratings - Speculative</a:t>
            </a:r>
            <a:endParaRPr b="0" lang="en-US" sz="4400" spc="-1" strike="noStrike">
              <a:solidFill>
                <a:srgbClr val="000000"/>
              </a:solidFill>
              <a:latin typeface="Arial"/>
            </a:endParaRPr>
          </a:p>
        </p:txBody>
      </p:sp>
      <p:sp>
        <p:nvSpPr>
          <p:cNvPr id="134"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Grade</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y’s Ba and B</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P BB and B</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possible that the capacity to pay will degenera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Grade</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y’s C (and below) and S&amp;P C (and below)</a:t>
            </a:r>
            <a:endParaRPr b="0" lang="en-US" sz="28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ome bonds with no interest being paid, or</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default with principal and interest in arrears</a:t>
            </a:r>
            <a:endParaRPr b="0" lang="en-US" sz="22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8A7830AD-E952-405A-A280-351AA13CEC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1A6E9E-BF9F-4CD9-A355-AEB99F152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Bonds</a:t>
            </a:r>
            <a:endParaRPr b="0" lang="en-US" sz="4400" spc="-1" strike="noStrike">
              <a:solidFill>
                <a:srgbClr val="000000"/>
              </a:solidFill>
              <a:latin typeface="Arial"/>
            </a:endParaRPr>
          </a:p>
        </p:txBody>
      </p:sp>
      <p:sp>
        <p:nvSpPr>
          <p:cNvPr id="137" name="PlaceHolder 2"/>
          <p:cNvSpPr>
            <a:spLocks noGrp="1"/>
          </p:cNvSpPr>
          <p:nvPr>
            <p:ph/>
          </p:nvPr>
        </p:nvSpPr>
        <p:spPr>
          <a:xfrm>
            <a:off x="1599840" y="1219320"/>
            <a:ext cx="72961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ury Securiti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government debt</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ills – pure discount bonds with original maturity of one year or les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otes – coupon debt with original maturity between one and ten years</a:t>
            </a:r>
            <a:endParaRPr b="0" lang="en-US" sz="2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onds – coupon debt with original maturity greater</a:t>
            </a:r>
            <a:r>
              <a:rPr b="0" lang="en-US" sz="2200" spc="-1" strike="noStrike">
                <a:solidFill>
                  <a:srgbClr val="000000"/>
                </a:solidFill>
                <a:latin typeface="Arial"/>
              </a:rPr>
              <a:t> than ten years</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 Securiti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of state and local government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degrees of default risk, rated similar to corporate debt</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received is tax-exempt at the federal level</a:t>
            </a:r>
            <a:endParaRPr b="0" lang="en-US" sz="20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C19BEBBA-D90E-4E93-9BF7-96E1A39B12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BA9B54-59C3-4435-8C9E-916451ECB5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4</a:t>
            </a:r>
            <a:endParaRPr b="0" lang="en-US" sz="4400" spc="-1" strike="noStrike">
              <a:solidFill>
                <a:srgbClr val="000000"/>
              </a:solidFill>
              <a:latin typeface="Arial"/>
            </a:endParaRPr>
          </a:p>
        </p:txBody>
      </p:sp>
      <p:sp>
        <p:nvSpPr>
          <p:cNvPr id="14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axable bond has a yield of 8%, and a municipal bond has a yield of 6%</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in a 40% tax bracket, which bond do you prefe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 .4) = 4.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fter-tax return on the corporate bond is 4.8%, compared to a 6% return on the municip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what tax rate would you be indifferent between the two b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 T) = 6%</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25%</a:t>
            </a:r>
            <a:endParaRPr b="0" lang="en-US" sz="20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68B1ABC-8096-4905-B054-EEBD89EAD2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B2051BB-10F7-4CCD-845C-C342425D8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Coupon Bonds</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 periodic interest payments (coupon rate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ire yield-to-maturity comes from the difference between the purchase price and the par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ell for more than par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alled zeroes, deep discount bonds, or original issue discount bonds (O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ury Bills and principal-only Treasury strips are good examples of zeroes</a:t>
            </a:r>
            <a:endParaRPr b="0" lang="en-US" sz="2400" spc="-1" strike="noStrike">
              <a:solidFill>
                <a:srgbClr val="000000"/>
              </a:solidFill>
              <a:latin typeface="Arial"/>
            </a:endParaRPr>
          </a:p>
        </p:txBody>
      </p:sp>
      <p:sp>
        <p:nvSpPr>
          <p:cNvPr id="14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7DE3053-9C5A-4230-B5A6-750A3A8B05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4EE3FF-42DC-4038-BE29-E0392312FE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s and Bond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Bo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 Ra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Different Types of Bo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and Interest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nts of Bond Yield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AD5D29E-D6C3-44DB-B433-739EB33B6A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1DDFFE-CBFB-4A60-9EDA-5F25C1BE19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ating-Rate Bonds</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 rate floats depending on some index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adjustable rate mortgages and inflation-linked Treasu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less price risk with floating rate bond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pon floats, so it is less likely to differ substantially from the yield-to-maturity</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s may have a “collar” – the rate cannot go above a specified “ceiling” or below a specified “floor”</a:t>
            </a:r>
            <a:endParaRPr b="0" lang="en-US" sz="2400" spc="-1" strike="noStrike">
              <a:solidFill>
                <a:srgbClr val="000000"/>
              </a:solidFill>
              <a:latin typeface="Arial"/>
            </a:endParaRPr>
          </a:p>
        </p:txBody>
      </p:sp>
      <p:sp>
        <p:nvSpPr>
          <p:cNvPr id="14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8F7C868F-81F6-41DA-8FDB-1CDD003BFE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BC9C367-26C7-4470-A474-D44F22B86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ond Types</a:t>
            </a:r>
            <a:endParaRPr b="0" lang="en-US" sz="4400" spc="-1" strike="noStrike">
              <a:solidFill>
                <a:srgbClr val="000000"/>
              </a:solidFill>
              <a:latin typeface="Arial"/>
            </a:endParaRPr>
          </a:p>
        </p:txBody>
      </p:sp>
      <p:sp>
        <p:nvSpPr>
          <p:cNvPr id="149"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ble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other types of provisions that can be added to a bond and many bonds have several provisions – it is important to recognize how these provisions affect required returns</a:t>
            </a:r>
            <a:endParaRPr b="0" lang="en-US" sz="2800" spc="-1" strike="noStrike">
              <a:solidFill>
                <a:srgbClr val="000000"/>
              </a:solidFill>
              <a:latin typeface="Arial"/>
            </a:endParaRPr>
          </a:p>
        </p:txBody>
      </p:sp>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2CA1195-8475-4806-91F7-32F7B8B7EE4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6A34427-0C1C-405A-A15A-075A58D48E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Markets</a:t>
            </a:r>
            <a:endParaRPr b="0" lang="en-US" sz="4400" spc="-1" strike="noStrike">
              <a:solidFill>
                <a:srgbClr val="000000"/>
              </a:solidFill>
              <a:latin typeface="Arial"/>
            </a:endParaRPr>
          </a:p>
        </p:txBody>
      </p:sp>
      <p:sp>
        <p:nvSpPr>
          <p:cNvPr id="15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over-the-counter transactions with dealers connected electronic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large number of bond issues, but generally low daily volume in singl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getting up-to-date prices difficult, particularly on small company or municipal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securities are an exception</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2FCDDE1-4EDE-4202-A707-EFDBB15728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D85F38-E781-4D36-8534-830766C701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quote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ite is Bond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the si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bond search, corporate link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company, enter it under Express Search Issue and see what you can find!</a:t>
            </a:r>
            <a:endParaRPr b="0" lang="en-US" sz="2400" spc="-1" strike="noStrike">
              <a:solidFill>
                <a:srgbClr val="000000"/>
              </a:solidFill>
              <a:latin typeface="Arial"/>
            </a:endParaRPr>
          </a:p>
        </p:txBody>
      </p:sp>
      <p:pic>
        <p:nvPicPr>
          <p:cNvPr id="156" name="" descr="">
            <a:hlinkClick r:id="rId1"/>
          </p:cNvPr>
          <p:cNvPicPr/>
          <p:nvPr/>
        </p:nvPicPr>
        <p:blipFill>
          <a:blip r:embed="rId2"/>
          <a:stretch/>
        </p:blipFill>
        <p:spPr>
          <a:xfrm>
            <a:off x="6802560" y="4952880"/>
            <a:ext cx="868320" cy="1143000"/>
          </a:xfrm>
          <a:prstGeom prst="rect">
            <a:avLst/>
          </a:prstGeom>
          <a:ln w="0">
            <a:noFill/>
          </a:ln>
        </p:spPr>
      </p:pic>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6F6AC98-EC19-4016-8F52-E7C2ED5BEC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4389387-A0E4-49FC-8C78-4680A341C143}" type="slidenum">
              <a:t>3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sury Quotations</a:t>
            </a:r>
            <a:endParaRPr b="0" lang="en-US" sz="4400" spc="-1" strike="noStrike">
              <a:solidFill>
                <a:srgbClr val="000000"/>
              </a:solidFill>
              <a:latin typeface="Arial"/>
            </a:endParaRPr>
          </a:p>
        </p:txBody>
      </p:sp>
      <p:sp>
        <p:nvSpPr>
          <p:cNvPr id="159" name="PlaceHolder 2"/>
          <p:cNvSpPr>
            <a:spLocks noGrp="1"/>
          </p:cNvSpPr>
          <p:nvPr>
            <p:ph/>
          </p:nvPr>
        </p:nvSpPr>
        <p:spPr>
          <a:xfrm>
            <a:off x="2285640" y="1447560"/>
            <a:ext cx="65502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ed quote in Figure 7.4</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Nov 21     136.29     136.30     5     4.36</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upon rate on the bond?</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es the bond matur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id price? What does this mea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sk price? What does this mea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id the price change from the previous da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yield based on the ask price?</a:t>
            </a:r>
            <a:endParaRPr b="0" lang="en-US" sz="2400" spc="-1" strike="noStrike">
              <a:solidFill>
                <a:srgbClr val="000000"/>
              </a:solidFill>
              <a:latin typeface="Arial"/>
            </a:endParaRPr>
          </a:p>
        </p:txBody>
      </p:sp>
      <p:sp>
        <p:nvSpPr>
          <p:cNvPr id="16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EF9D7CF-F1A7-4B5F-BFE7-BBCF80BA84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1F0FAF-5CDA-4F38-84F5-9ED8CA9C0D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n vs. Dirty Prices</a:t>
            </a:r>
            <a:endParaRPr b="0" lang="en-US" sz="4400" spc="-1" strike="noStrike">
              <a:solidFill>
                <a:srgbClr val="000000"/>
              </a:solidFill>
              <a:latin typeface="Arial"/>
            </a:endParaRPr>
          </a:p>
        </p:txBody>
      </p:sp>
      <p:sp>
        <p:nvSpPr>
          <p:cNvPr id="162" name="PlaceHolder 2"/>
          <p:cNvSpPr>
            <a:spLocks noGrp="1"/>
          </p:cNvSpPr>
          <p:nvPr>
            <p:ph/>
          </p:nvPr>
        </p:nvSpPr>
        <p:spPr>
          <a:xfrm>
            <a:off x="1752120" y="1447560"/>
            <a:ext cx="718524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price: quoted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price: price actually paid = quoted price plus accrued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onsider a T-bond with a 4% semiannual yield and a clean price of $1,282.50:</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ys since last coupon = 61</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ys in the coupon period = 18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rued interest = (61/184)(.04*1000) = $13.26</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price = $1,282.50 + $13.26 = $1,295.7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would actually pay $ 1,295.76 for the bond</a:t>
            </a:r>
            <a:endParaRPr b="0" lang="en-US" sz="2400" spc="-1" strike="noStrike">
              <a:solidFill>
                <a:srgbClr val="000000"/>
              </a:solidFill>
              <a:latin typeface="Arial"/>
            </a:endParaRPr>
          </a:p>
        </p:txBody>
      </p:sp>
      <p:sp>
        <p:nvSpPr>
          <p:cNvPr id="16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803C7670-EB02-4F8D-A2B2-8ED9DBE1C71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E77C5E-35D4-4BE3-9E41-B14E53DA24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ation and Interest Rates</a:t>
            </a:r>
            <a:endParaRPr b="0" lang="en-US" sz="4400" spc="-1" strike="noStrike">
              <a:solidFill>
                <a:srgbClr val="000000"/>
              </a:solidFill>
              <a:latin typeface="Arial"/>
            </a:endParaRPr>
          </a:p>
        </p:txBody>
      </p:sp>
      <p:sp>
        <p:nvSpPr>
          <p:cNvPr id="16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rate of interest – change in purchasing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rate of interest – quoted rate of interest, change in actual number of doll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ex ante</a:t>
            </a:r>
            <a:r>
              <a:rPr b="0" lang="en-US" sz="2800" spc="-1" strike="noStrike">
                <a:solidFill>
                  <a:srgbClr val="000000"/>
                </a:solidFill>
                <a:latin typeface="Arial"/>
              </a:rPr>
              <a:t> nominal rate of interest includes our desired real rate of return plus an adjustment for expected inflation</a:t>
            </a:r>
            <a:endParaRPr b="0" lang="en-US" sz="2800" spc="-1" strike="noStrike">
              <a:solidFill>
                <a:srgbClr val="000000"/>
              </a:solidFill>
              <a:latin typeface="Arial"/>
            </a:endParaRPr>
          </a:p>
        </p:txBody>
      </p:sp>
      <p:sp>
        <p:nvSpPr>
          <p:cNvPr id="16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472E0BD5-DD1A-4475-BBEF-4FA11BD9F5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6BD155-23CF-44DC-A09A-F49F4351A5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sher Effect</a:t>
            </a:r>
            <a:endParaRPr b="0" lang="en-US" sz="4400" spc="-1" strike="noStrike">
              <a:solidFill>
                <a:srgbClr val="000000"/>
              </a:solidFill>
              <a:latin typeface="Arial"/>
            </a:endParaRPr>
          </a:p>
        </p:txBody>
      </p:sp>
      <p:sp>
        <p:nvSpPr>
          <p:cNvPr id="16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sher Effect defines the relationship between real rates, nominal rates, and inf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R) = (1 + r)(1 + h), wher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nominal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eal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expected inflation ra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 + h</a:t>
            </a:r>
            <a:endParaRPr b="0" lang="en-US" sz="2400" spc="-1" strike="noStrike">
              <a:solidFill>
                <a:srgbClr val="000000"/>
              </a:solidFill>
              <a:latin typeface="Arial"/>
            </a:endParaRPr>
          </a:p>
        </p:txBody>
      </p:sp>
      <p:sp>
        <p:nvSpPr>
          <p:cNvPr id="16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6501E68-1910-453E-BBFE-06032774F0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64A51F-EF70-4AB1-A1C1-ECA35F1A17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5</a:t>
            </a:r>
            <a:endParaRPr b="0" lang="en-US" sz="4400" spc="-1" strike="noStrike">
              <a:solidFill>
                <a:srgbClr val="000000"/>
              </a:solidFill>
              <a:latin typeface="Arial"/>
            </a:endParaRPr>
          </a:p>
        </p:txBody>
      </p:sp>
      <p:sp>
        <p:nvSpPr>
          <p:cNvPr id="171"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require a 10% real return and we expect inflation to be 8%, what is the nominal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1.1)(1.08) – 1 = .188 = 18.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ion: R = 10% + 8% = 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real return and expected inflation are relatively high, there is significant difference between the actual Fisher Effect and the approximation.</a:t>
            </a:r>
            <a:endParaRPr b="0" lang="en-US" sz="2800" spc="-1" strike="noStrike">
              <a:solidFill>
                <a:srgbClr val="000000"/>
              </a:solidFill>
              <a:latin typeface="Arial"/>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C05DD34-3DD8-45F9-B469-F285874699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32AFE8-3093-4FB2-A856-0B815C9B68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Structure of Interest Rates</a:t>
            </a:r>
            <a:endParaRPr b="0" lang="en-US" sz="4400" spc="-1" strike="noStrike">
              <a:solidFill>
                <a:srgbClr val="000000"/>
              </a:solidFill>
              <a:latin typeface="Arial"/>
            </a:endParaRPr>
          </a:p>
        </p:txBody>
      </p:sp>
      <p:sp>
        <p:nvSpPr>
          <p:cNvPr id="174" name="PlaceHolder 2"/>
          <p:cNvSpPr>
            <a:spLocks noGrp="1"/>
          </p:cNvSpPr>
          <p:nvPr>
            <p:ph/>
          </p:nvPr>
        </p:nvSpPr>
        <p:spPr>
          <a:xfrm>
            <a:off x="1434600" y="1599840"/>
            <a:ext cx="7255080" cy="4489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tructure is the relationship between time to maturity and yields, all else equ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recognize that we pull out the effect of default risk, different coupon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curve – graphical representation of the term structur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 upward-sloping; long-term yields are higher than short-term yiel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ted – downward-sloping; long-term yields are lower than short-term yields</a:t>
            </a:r>
            <a:endParaRPr b="0" lang="en-US" sz="2000" spc="-1" strike="noStrike">
              <a:solidFill>
                <a:srgbClr val="000000"/>
              </a:solidFill>
              <a:latin typeface="Arial"/>
            </a:endParaRPr>
          </a:p>
        </p:txBody>
      </p:sp>
      <p:sp>
        <p:nvSpPr>
          <p:cNvPr id="17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3D4C455-6ED4-45E9-A01F-C93C947EEE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561DD0C-72AB-4D18-B183-F297229C8E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value (face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urity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ield or Yield to maturity</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63416E93-9BA2-4644-841A-DA95334FFF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08971C-5839-4BEC-BF13-41DCDB1F08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6 – Upward-Sloping Yield Curve</a:t>
            </a:r>
            <a:endParaRPr b="0" lang="en-US" sz="4400" spc="-1" strike="noStrike">
              <a:solidFill>
                <a:srgbClr val="000000"/>
              </a:solidFill>
              <a:latin typeface="Arial"/>
            </a:endParaRPr>
          </a:p>
        </p:txBody>
      </p:sp>
      <p:pic>
        <p:nvPicPr>
          <p:cNvPr id="177" name="" descr=""/>
          <p:cNvPicPr/>
          <p:nvPr/>
        </p:nvPicPr>
        <p:blipFill>
          <a:blip r:embed="rId1"/>
          <a:srcRect l="36701" t="0" r="0" b="48275"/>
          <a:stretch/>
        </p:blipFill>
        <p:spPr>
          <a:xfrm>
            <a:off x="1981080" y="1905120"/>
            <a:ext cx="6946920" cy="4209840"/>
          </a:xfrm>
          <a:prstGeom prst="rect">
            <a:avLst/>
          </a:prstGeom>
          <a:ln w="0">
            <a:noFill/>
          </a:ln>
        </p:spPr>
      </p:pic>
      <p:sp>
        <p:nvSpPr>
          <p:cNvPr id="1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A246145-0E1A-4D15-A19A-CAF5F75F0C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47F0112-C1A2-4ECF-ADD8-E1C5263178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6 – Downward-Sloping Yield Curve</a:t>
            </a:r>
            <a:endParaRPr b="0" lang="en-US" sz="4400" spc="-1" strike="noStrike">
              <a:solidFill>
                <a:srgbClr val="000000"/>
              </a:solidFill>
              <a:latin typeface="Arial"/>
            </a:endParaRPr>
          </a:p>
        </p:txBody>
      </p:sp>
      <p:pic>
        <p:nvPicPr>
          <p:cNvPr id="180" name="" descr=""/>
          <p:cNvPicPr/>
          <p:nvPr/>
        </p:nvPicPr>
        <p:blipFill>
          <a:blip r:embed="rId1"/>
          <a:srcRect l="36701" t="50934" r="0" b="-3456"/>
          <a:stretch/>
        </p:blipFill>
        <p:spPr>
          <a:xfrm>
            <a:off x="1828800" y="1676520"/>
            <a:ext cx="6678720" cy="5029200"/>
          </a:xfrm>
          <a:prstGeom prst="rect">
            <a:avLst/>
          </a:prstGeom>
          <a:ln w="0">
            <a:noFill/>
          </a:ln>
        </p:spPr>
      </p:pic>
      <p:sp>
        <p:nvSpPr>
          <p:cNvPr id="18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AAA6EA2-719C-4C6D-B44D-D9CF0D3398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386036A-19AC-42E9-AC5D-4A665F989A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7</a:t>
            </a:r>
            <a:endParaRPr b="0" lang="en-US" sz="4400" spc="-1" strike="noStrike">
              <a:solidFill>
                <a:srgbClr val="000000"/>
              </a:solidFill>
              <a:latin typeface="Arial"/>
            </a:endParaRPr>
          </a:p>
        </p:txBody>
      </p:sp>
      <p:sp>
        <p:nvSpPr>
          <p:cNvPr id="183" name=""/>
          <p:cNvSpPr/>
          <p:nvPr/>
        </p:nvSpPr>
        <p:spPr>
          <a:xfrm>
            <a:off x="2590920" y="213372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Figure 7.7 here</a:t>
            </a:r>
            <a:endParaRPr b="0" lang="en-US" sz="1800" spc="-1" strike="noStrike">
              <a:solidFill>
                <a:srgbClr val="000000"/>
              </a:solidFill>
              <a:latin typeface="Times New Roman"/>
            </a:endParaRPr>
          </a:p>
        </p:txBody>
      </p:sp>
      <p:pic>
        <p:nvPicPr>
          <p:cNvPr id="184" name="" descr="">
            <a:hlinkClick r:id="rId1"/>
          </p:cNvPr>
          <p:cNvPicPr/>
          <p:nvPr/>
        </p:nvPicPr>
        <p:blipFill>
          <a:blip r:embed="rId2"/>
          <a:stretch/>
        </p:blipFill>
        <p:spPr>
          <a:xfrm>
            <a:off x="7238880" y="609480"/>
            <a:ext cx="630360" cy="890640"/>
          </a:xfrm>
          <a:prstGeom prst="rect">
            <a:avLst/>
          </a:prstGeom>
          <a:ln w="0">
            <a:noFill/>
          </a:ln>
        </p:spPr>
      </p:pic>
      <p:pic>
        <p:nvPicPr>
          <p:cNvPr id="185" name="" descr=""/>
          <p:cNvPicPr/>
          <p:nvPr/>
        </p:nvPicPr>
        <p:blipFill>
          <a:blip r:embed="rId3"/>
          <a:stretch/>
        </p:blipFill>
        <p:spPr>
          <a:xfrm>
            <a:off x="1981080" y="1523880"/>
            <a:ext cx="6572520" cy="4705560"/>
          </a:xfrm>
          <a:prstGeom prst="rect">
            <a:avLst/>
          </a:prstGeom>
          <a:ln w="0">
            <a:noFill/>
          </a:ln>
        </p:spPr>
      </p:pic>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9FB7635A-7B1A-4DE9-A9AC-A1E8C72FEB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00B35C5-EDE5-49C5-98CA-1C88A90EC382}" type="slidenum">
              <a:t>4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84"/>
                                        </p:tgtEl>
                                        <p:attrNameLst>
                                          <p:attrName>style.visibility</p:attrName>
                                        </p:attrNameLst>
                                      </p:cBhvr>
                                      <p:to>
                                        <p:strVal val="visible"/>
                                      </p:to>
                                    </p:set>
                                    <p:anim calcmode="lin" valueType="num">
                                      <p:cBhvr additive="base">
                                        <p:cTn id="19" dur="500" fill="hold"/>
                                        <p:tgtEl>
                                          <p:spTgt spid="184"/>
                                        </p:tgtEl>
                                        <p:attrNameLst>
                                          <p:attrName>ppt_x</p:attrName>
                                        </p:attrNameLst>
                                      </p:cBhvr>
                                      <p:tavLst>
                                        <p:tav tm="0">
                                          <p:val>
                                            <p:strVal val="0-#ppt_w/2"/>
                                          </p:val>
                                        </p:tav>
                                        <p:tav tm="100000">
                                          <p:val>
                                            <p:strVal val="#ppt_x"/>
                                          </p:val>
                                        </p:tav>
                                      </p:tavLst>
                                    </p:anim>
                                    <p:anim calcmode="lin" valueType="num">
                                      <p:cBhvr additive="base">
                                        <p:cTn id="2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Bond Yields</a:t>
            </a:r>
            <a:endParaRPr b="0" lang="en-US" sz="4400" spc="-1" strike="noStrike">
              <a:solidFill>
                <a:srgbClr val="000000"/>
              </a:solidFill>
              <a:latin typeface="Arial"/>
            </a:endParaRPr>
          </a:p>
        </p:txBody>
      </p:sp>
      <p:sp>
        <p:nvSpPr>
          <p:cNvPr id="188" name="PlaceHolder 2"/>
          <p:cNvSpPr>
            <a:spLocks noGrp="1"/>
          </p:cNvSpPr>
          <p:nvPr>
            <p:ph/>
          </p:nvPr>
        </p:nvSpPr>
        <p:spPr>
          <a:xfrm>
            <a:off x="1600200" y="1599840"/>
            <a:ext cx="72360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risk premium – remember bond rat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ability premium – remember municipal versus tax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premium – bonds that have more frequent trading will generally have lower requir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else that affects the risk of the cash flows to the bondholders will affect the required returns</a:t>
            </a:r>
            <a:endParaRPr b="0" lang="en-US" sz="2800" spc="-1" strike="noStrike">
              <a:solidFill>
                <a:srgbClr val="000000"/>
              </a:solidFill>
              <a:latin typeface="Arial"/>
            </a:endParaRPr>
          </a:p>
        </p:txBody>
      </p:sp>
      <p:sp>
        <p:nvSpPr>
          <p:cNvPr id="1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75186EE-A2FA-46DD-BE4E-8391A26860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A1E361-C45F-4304-8E1E-9FECF4CCB8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find the value of a bond, and why do bond prices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bond indenture, and what are some of the importan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bond ratings, and why are they impor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inflation affect interest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erm structure of interest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actors determine the required return on bonds? </a:t>
            </a:r>
            <a:endParaRPr b="0" lang="en-US" sz="2400" spc="-1" strike="noStrike">
              <a:solidFill>
                <a:srgbClr val="000000"/>
              </a:solidFill>
              <a:latin typeface="Arial"/>
            </a:endParaRPr>
          </a:p>
        </p:txBody>
      </p:sp>
      <p:sp>
        <p:nvSpPr>
          <p:cNvPr id="19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FB6C2AF5-FF41-4A1A-9E9B-65A861EBE0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C30F512-03C1-4389-888C-251141A9F4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6, allegations were made against Moody’s that it was issuing ratings on bonds it had not been hired to rate, in order to pressure issuers to pay for their service. The government conducted an inquiry, but charges of antitrust violations were dropped. Even though no legal action was taken, does an ethical issue exist?</a:t>
            </a:r>
            <a:endParaRPr b="0" lang="en-US" sz="2400" spc="-1" strike="noStrike">
              <a:solidFill>
                <a:srgbClr val="000000"/>
              </a:solidFill>
              <a:latin typeface="Arial"/>
            </a:endParaRPr>
          </a:p>
        </p:txBody>
      </p:sp>
      <p:sp>
        <p:nvSpPr>
          <p:cNvPr id="1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8F82FFC-EB6A-467C-BCD3-A20297D7A4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4CB9E2-09A0-405F-891B-495BE2FC4E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ice of a $1,000 par value bond with a 6% coupon rate paid semiannually, if the bond is priced to yield 5% and it has 9 years to mat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be the price of the bond if the yield rose to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yield on the bond if the YTM is 7%?</a:t>
            </a:r>
            <a:endParaRPr b="0" lang="en-US" sz="2800" spc="-1" strike="noStrike">
              <a:solidFill>
                <a:srgbClr val="000000"/>
              </a:solidFill>
              <a:latin typeface="Arial"/>
            </a:endParaRPr>
          </a:p>
        </p:txBody>
      </p:sp>
      <p:sp>
        <p:nvSpPr>
          <p:cNvPr id="19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17F3ADD-AE99-4E31-93C8-520777CAB4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3D40367-0915-4FBC-BADC-FC9CA7BE52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76520" y="29718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19EB390E-2ECB-4EC9-B58D-37CB390324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72FCD10-F739-4335-A152-2BD556F51201}"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ent Value of Cash Flows as Rates Change</a:t>
            </a:r>
            <a:endParaRPr b="0" lang="en-US" sz="4200" spc="-1" strike="noStrike">
              <a:solidFill>
                <a:srgbClr val="000000"/>
              </a:solidFill>
              <a:latin typeface="Arial"/>
            </a:endParaRPr>
          </a:p>
        </p:txBody>
      </p:sp>
      <p:sp>
        <p:nvSpPr>
          <p:cNvPr id="63"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Value = PV of coupons + PV of p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Value = PV of annuity + PV of lump s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nterest rates increase, present values decre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s interest rates increase, bond prices decrease and vice versa</a:t>
            </a:r>
            <a:endParaRPr b="0" lang="en-US" sz="28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3C2545A9-6D90-48D9-98FC-EDF7D15ABD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7FE3AF3-9657-4D38-AD5E-49D66C904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ing a Discount Bond with Annual Coupons</a:t>
            </a:r>
            <a:endParaRPr b="0" lang="en-US" sz="4400" spc="-1" strike="noStrike">
              <a:solidFill>
                <a:srgbClr val="000000"/>
              </a:solidFill>
              <a:latin typeface="Arial"/>
            </a:endParaRPr>
          </a:p>
        </p:txBody>
      </p:sp>
      <p:sp>
        <p:nvSpPr>
          <p:cNvPr id="66" name="PlaceHolder 2"/>
          <p:cNvSpPr>
            <a:spLocks noGrp="1"/>
          </p:cNvSpPr>
          <p:nvPr>
            <p:ph/>
          </p:nvPr>
        </p:nvSpPr>
        <p:spPr>
          <a:xfrm>
            <a:off x="1447560" y="1717200"/>
            <a:ext cx="7391160" cy="468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bond with a coupon rate of 10% and annual coupons. The par value is $1,000, and the bond has 5 years to maturity. The yield to maturity is 11%. What is the value of the bond?</a:t>
            </a:r>
            <a:endParaRPr b="0" lang="en-US" sz="2400" spc="-1" strike="noStrike">
              <a:solidFill>
                <a:srgbClr val="000000"/>
              </a:solidFill>
              <a:latin typeface="Arial"/>
            </a:endParaRPr>
          </a:p>
          <a:p>
            <a:pPr lvl="1" marL="744480" indent="-287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ormula:</a:t>
            </a:r>
            <a:endParaRPr b="0" lang="en-US" sz="26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PV of annuity + PV of lump sum</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100[1 – 1/(1.11)</a:t>
            </a:r>
            <a:r>
              <a:rPr b="0" lang="en-US" sz="2300" spc="-1" strike="noStrike" baseline="30000">
                <a:solidFill>
                  <a:srgbClr val="000000"/>
                </a:solidFill>
                <a:latin typeface="Arial"/>
              </a:rPr>
              <a:t>5</a:t>
            </a:r>
            <a:r>
              <a:rPr b="0" lang="en-US" sz="2300" spc="-1" strike="noStrike">
                <a:solidFill>
                  <a:srgbClr val="000000"/>
                </a:solidFill>
                <a:latin typeface="Arial"/>
              </a:rPr>
              <a:t>] / .11 + 1,000 / (1.11)</a:t>
            </a:r>
            <a:r>
              <a:rPr b="0" lang="en-US" sz="2300" spc="-1" strike="noStrike" baseline="30000">
                <a:solidFill>
                  <a:srgbClr val="000000"/>
                </a:solidFill>
                <a:latin typeface="Arial"/>
              </a:rPr>
              <a:t>5</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369.59 + 593.45 = 963.04</a:t>
            </a:r>
            <a:endParaRPr b="0" lang="en-US" sz="2300" spc="-1" strike="noStrike">
              <a:solidFill>
                <a:srgbClr val="000000"/>
              </a:solidFill>
              <a:latin typeface="Arial"/>
            </a:endParaRPr>
          </a:p>
          <a:p>
            <a:pPr lvl="1" marL="744480" indent="-287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calculator:</a:t>
            </a:r>
            <a:endParaRPr b="0" lang="en-US" sz="26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 = 5; I/Y = 11; PMT = 100; FV = 1,000</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PT PV = -963.04</a:t>
            </a:r>
            <a:endParaRPr b="0" lang="en-US" sz="23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B6999A8-6F3E-4160-851D-FE381EAEC65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D5C483-F889-40D7-9FB4-54CF57F14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ing a Premium Bond with Annual Coupons</a:t>
            </a:r>
            <a:endParaRPr b="0" lang="en-US" sz="4400" spc="-1" strike="noStrike">
              <a:solidFill>
                <a:srgbClr val="000000"/>
              </a:solidFill>
              <a:latin typeface="Arial"/>
            </a:endParaRPr>
          </a:p>
        </p:txBody>
      </p:sp>
      <p:sp>
        <p:nvSpPr>
          <p:cNvPr id="69" name="PlaceHolder 2"/>
          <p:cNvSpPr>
            <a:spLocks noGrp="1"/>
          </p:cNvSpPr>
          <p:nvPr>
            <p:ph/>
          </p:nvPr>
        </p:nvSpPr>
        <p:spPr>
          <a:xfrm>
            <a:off x="1447560" y="1717560"/>
            <a:ext cx="738828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reviewing a bond that has a 10% annual coupon and a face value of $1000. There are 20 years to maturity, and the yield to maturity is 8%. What is the price of this bon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formula:</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PV of annuity + PV of lump su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100[1 – 1/(1.08)</a:t>
            </a:r>
            <a:r>
              <a:rPr b="0" lang="en-US" sz="2000" spc="-1" strike="noStrike" baseline="30000">
                <a:solidFill>
                  <a:srgbClr val="000000"/>
                </a:solidFill>
                <a:latin typeface="Arial"/>
              </a:rPr>
              <a:t>20</a:t>
            </a:r>
            <a:r>
              <a:rPr b="0" lang="en-US" sz="2000" spc="-1" strike="noStrike">
                <a:solidFill>
                  <a:srgbClr val="000000"/>
                </a:solidFill>
                <a:latin typeface="Arial"/>
              </a:rPr>
              <a:t>] / .08 + 1000 / (1.08)</a:t>
            </a:r>
            <a:r>
              <a:rPr b="0" lang="en-US" sz="2000" spc="-1" strike="noStrike" baseline="30000">
                <a:solidFill>
                  <a:srgbClr val="000000"/>
                </a:solidFill>
                <a:latin typeface="Arial"/>
              </a:rPr>
              <a:t>2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981.81 + 214.55 = 1196.36</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calculator:</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0; I/Y = 8; PMT = 100; FV = 10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196.36</a:t>
            </a:r>
            <a:endParaRPr b="0" lang="en-US" sz="20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344B0476-D488-499B-9F88-694B193AF7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B15E8A2-4668-4791-8ECF-8DB0710882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0" y="1676520"/>
            <a:ext cx="6400800" cy="380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1447920"/>
            <a:ext cx="7086600" cy="464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066320" y="1522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Relationship Between Price and Yield-to-maturity (YTM)</a:t>
            </a:r>
            <a:endParaRPr b="0" lang="en-US" sz="4000" spc="-1" strike="noStrike">
              <a:solidFill>
                <a:srgbClr val="000000"/>
              </a:solidFill>
              <a:latin typeface="Arial"/>
            </a:endParaRPr>
          </a:p>
        </p:txBody>
      </p:sp>
      <p:graphicFrame>
        <p:nvGraphicFramePr>
          <p:cNvPr id="74" name=""/>
          <p:cNvGraphicFramePr/>
          <p:nvPr/>
        </p:nvGraphicFramePr>
        <p:xfrm>
          <a:off x="2286000" y="1752480"/>
          <a:ext cx="6396120" cy="3870360"/>
        </p:xfrm>
        <a:graphic>
          <a:graphicData uri="http://schemas.openxmlformats.org/presentationml/2006/ole">
            <p:oleObj r:id="rId1" spid="">
              <p:embed/>
              <p:pic>
                <p:nvPicPr>
                  <p:cNvPr id="75" name="" descr=""/>
                  <p:cNvPicPr/>
                  <p:nvPr/>
                </p:nvPicPr>
                <p:blipFill>
                  <a:blip r:embed="rId2"/>
                  <a:stretch/>
                </p:blipFill>
                <p:spPr>
                  <a:xfrm>
                    <a:off x="2286000" y="1752480"/>
                    <a:ext cx="6396120" cy="3870360"/>
                  </a:xfrm>
                  <a:prstGeom prst="rect">
                    <a:avLst/>
                  </a:prstGeom>
                  <a:ln w="0">
                    <a:noFill/>
                  </a:ln>
                </p:spPr>
              </p:pic>
            </p:oleObj>
          </a:graphicData>
        </a:graphic>
      </p:graphicFrame>
      <p:sp>
        <p:nvSpPr>
          <p:cNvPr id="76" name=""/>
          <p:cNvSpPr/>
          <p:nvPr/>
        </p:nvSpPr>
        <p:spPr>
          <a:xfrm rot="16200000">
            <a:off x="1174680" y="3244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 Price</a:t>
            </a:r>
            <a:endParaRPr b="0" lang="en-US" sz="1800" spc="-1" strike="noStrike">
              <a:solidFill>
                <a:srgbClr val="000000"/>
              </a:solidFill>
              <a:latin typeface="Times New Roman"/>
            </a:endParaRPr>
          </a:p>
        </p:txBody>
      </p:sp>
      <p:sp>
        <p:nvSpPr>
          <p:cNvPr id="77" name=""/>
          <p:cNvSpPr/>
          <p:nvPr/>
        </p:nvSpPr>
        <p:spPr>
          <a:xfrm>
            <a:off x="3886200" y="563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to-maturity (YTM)</a:t>
            </a:r>
            <a:endParaRPr b="0" lang="en-US" sz="1800" spc="-1" strike="noStrike">
              <a:solidFill>
                <a:srgbClr val="000000"/>
              </a:solidFill>
              <a:latin typeface="Times New Roman"/>
            </a:endParaRPr>
          </a:p>
        </p:txBody>
      </p:sp>
      <p:sp>
        <p:nvSpPr>
          <p:cNvPr id="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C94EE67B-7DC3-4575-86FB-4F2AF87E99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919FEEB-9C81-4C49-BDCE-DF3508077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es: Relationship Between Coupon and Yield</a:t>
            </a:r>
            <a:endParaRPr b="0" lang="en-US" sz="4400" spc="-1" strike="noStrike">
              <a:solidFill>
                <a:srgbClr val="000000"/>
              </a:solidFill>
              <a:latin typeface="Arial"/>
            </a:endParaRPr>
          </a:p>
        </p:txBody>
      </p:sp>
      <p:sp>
        <p:nvSpPr>
          <p:cNvPr id="80" name="PlaceHolder 2"/>
          <p:cNvSpPr>
            <a:spLocks noGrp="1"/>
          </p:cNvSpPr>
          <p:nvPr>
            <p:ph/>
          </p:nvPr>
        </p:nvSpPr>
        <p:spPr>
          <a:xfrm>
            <a:off x="1447920" y="1904760"/>
            <a:ext cx="7270560" cy="452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 coupon rate, then par value = bond pr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gt; coupon rate, then par value &gt; bond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e discount provides yield above coupon rat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below par value, called a discount bo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lt; coupon rate, then par value &lt; bond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Higher coupon rate causes value above pa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above par value, called a premium bond</a:t>
            </a:r>
            <a:endParaRPr b="0" lang="en-US" sz="2000" spc="-1" strike="noStrike">
              <a:solidFill>
                <a:srgbClr val="000000"/>
              </a:solidFill>
              <a:latin typeface="Arial"/>
            </a:endParaRPr>
          </a:p>
        </p:txBody>
      </p:sp>
      <p:sp>
        <p:nvSpPr>
          <p:cNvPr id="8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DA89C96-009C-4C58-AE36-D851C952EE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41B971-025C-416E-AC21-4BC27D2ED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4T00:15:41Z</dcterms:created>
  <dc:creator>Kent P. Ragan</dc:creator>
  <dc:description/>
  <dc:language>en-US</dc:language>
  <cp:lastModifiedBy>mageshkumar.s</cp:lastModifiedBy>
  <dcterms:modified xsi:type="dcterms:W3CDTF">2009-02-13T05:39:56Z</dcterms:modified>
  <cp:revision>44</cp:revision>
  <dc:subject/>
  <dc:title>Interest Rates and Bond Valuation</dc:title>
</cp:coreProperties>
</file>