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EDB7AE75-4551-4F09-80AB-749DE1A6F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growth rate approaches the required return, the stock price increases dramatica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required return approaches the growth rate, the price increases dramatically.  This graph is a mirror image of the previous on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growth: 2 / .15 = 1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growth: 2(1.03) / (.15 - .03) = $17.17</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ler: maintains an inventory and stands ready to trade at quoted bid (price at which they will buy) and ask (price at which they will sell) prices. Make their profit from the difference between the bid and ask prices, called the bid-ask spread. The smaller the spread, the more competition and the more liquid the stock. The move to decimalization allows for a smaller bid-ask spread. There will be more discussion of this la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oker: a broker matches buyers and sellers. They perform the search function for a fee (commission). They do not hold an inventory of securit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ecture Tip:</a:t>
            </a:r>
            <a:r>
              <a:rPr b="1" i="1" lang="en-US" sz="900" spc="-1" strike="noStrike">
                <a:solidFill>
                  <a:srgbClr val="000000"/>
                </a:solidFill>
                <a:latin typeface="Times New Roman"/>
              </a:rPr>
              <a:t> </a:t>
            </a:r>
            <a:r>
              <a:rPr b="0" lang="en-US" sz="900" spc="-1" strike="noStrike">
                <a:solidFill>
                  <a:srgbClr val="000000"/>
                </a:solidFill>
                <a:latin typeface="Times New Roman"/>
              </a:rPr>
              <a:t>Some students find it hard to grasp the relative importance of primary and secondary market transactions. Suggest that they consider automobile sales rather than stocks. New automobiles are sold through a network of dealers and salesman (brokers) to the public. In any given year, however, the majority of transactions are between people buying and selling existing automobiles, i.e., the secondary (used) car market. As with secondary market transactions in stocks, used car purchases do not directly benefit the issuer/manufacturer. You can also introduce the notion of information asymmetry and signaling at this point, see the classic article by George Akerlof titled “Market for Lem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Video: </a:t>
            </a:r>
            <a:r>
              <a:rPr b="0" i="1" lang="en-US" sz="900" spc="-1" strike="noStrike">
                <a:solidFill>
                  <a:srgbClr val="000000"/>
                </a:solidFill>
                <a:latin typeface="Times New Roman"/>
              </a:rPr>
              <a:t>The Financial Markets video discusses how capital is raised in the market and shows the open-outcry market at the CBO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www:</a:t>
            </a:r>
            <a:r>
              <a:rPr b="0" i="1" lang="en-US" sz="900" spc="-1" strike="noStrike">
                <a:solidFill>
                  <a:srgbClr val="000000"/>
                </a:solidFill>
                <a:latin typeface="Times New Roman"/>
              </a:rPr>
              <a:t> Check out the NYSE by clicking on the web surfer. Students are often amazed at all of the information that is availa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Y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cialists manage the order flow by keeping the limit order book.  The limit order book lists the trades that investors have given to their brokers that include desired trading prices. The specialist is also a dealer that holds an inventory in their assigned stock, they post bid and ask prices, and they are supposed to maintain an orderly mark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her participants on the floor of the exchange include floor traders that own exchange seats, commission brokers, and floor bro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NASDAQ market site in Times Square is NOT an exchange. It is just offices and basically a place for reporters to report on what is happening with Nasdaq stock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quote is the Costco quote from the tex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high = 75.2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low = 54.85</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ny is Costco Wholesa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ual dividend = $.64 per sh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vidend yield = 0.9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 ratio = 27.6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recent price = 73.28</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useful assignment is to require students to obtain a recent </a:t>
            </a:r>
            <a:r>
              <a:rPr b="0" lang="en-US" sz="1200" spc="-1" strike="noStrike" u="sng">
                <a:solidFill>
                  <a:srgbClr val="000000"/>
                </a:solidFill>
                <a:uFillTx/>
                <a:latin typeface="Times New Roman"/>
              </a:rPr>
              <a:t>Wall Street Journal </a:t>
            </a:r>
            <a:r>
              <a:rPr b="0" lang="en-US" sz="1200" spc="-1" strike="noStrike">
                <a:solidFill>
                  <a:srgbClr val="000000"/>
                </a:solidFill>
                <a:latin typeface="Times New Roman"/>
              </a:rPr>
              <a:t>and examine the financial section. Have the students examine the dividend column for various stocks and point out the number of non-dividend paying stocks. Also have them identify the information available in each quote. This allows them to see more information at once than they would normally see with online quot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0 + .06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 2/ (.12 - .06) = $3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yield = 2 / 33.33 = 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0BB90-010E-43BB-BFAE-7378D50F6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FEF36-1BB7-4251-98BC-A992C281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EB515-79A0-48FF-8018-8F50E67FB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A8ABE-055F-4B81-966B-EA772B2D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8EB13-0F87-43EB-AABC-8DC7C7CA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86F9-6B2D-451A-9083-565DEED11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78342-9598-4BDA-98D8-20BB8572C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EE99A-7015-40E9-BA6F-9DAEB8BC2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B61D4-5634-40F6-8EFC-CACBF953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2A07-8DD1-42EE-8868-F46A84636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3AAF7-959E-4E0F-85E9-C36421E3B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2339-2A92-4E2B-B2DE-3CDC4D449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94920" y="6248520"/>
            <a:ext cx="16765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nstinet.com/"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loomberg.com/" TargetMode="External"/><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447920"/>
            <a:ext cx="488448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ffffff"/>
                </a:solidFill>
                <a:latin typeface="바탕"/>
              </a:rPr>
              <a:t>Chapter 8</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바탕"/>
              </a:rPr>
              <a:t>Stock Valuation</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662940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9DADCAD-FF88-4982-9ECA-FDA5897F9C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o Growth</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
        <p:nvSpPr>
          <p:cNvPr id="79"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DF53B7C-5866-46E9-8550-923D424925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0B29D5-A210-418A-BBFA-09C4A5059F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Growth Model</a:t>
            </a:r>
            <a:endParaRPr b="0" lang="en-US" sz="4400" spc="-1" strike="noStrike">
              <a:solidFill>
                <a:srgbClr val="000000"/>
              </a:solidFill>
              <a:latin typeface="Arial"/>
            </a:endParaRPr>
          </a:p>
        </p:txBody>
      </p:sp>
      <p:sp>
        <p:nvSpPr>
          <p:cNvPr id="81" name="PlaceHolder 2"/>
          <p:cNvSpPr>
            <a:spLocks noGrp="1"/>
          </p:cNvSpPr>
          <p:nvPr>
            <p:ph/>
          </p:nvPr>
        </p:nvSpPr>
        <p:spPr>
          <a:xfrm>
            <a:off x="1371600" y="1523880"/>
            <a:ext cx="748656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
        <p:nvSpPr>
          <p:cNvPr id="83"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D78A796-C48D-427C-A300-698B3B11419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9B3A2CD-6275-4C6E-82A8-EFD520AD6473}"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animClr clrSpc="rgb">
                                <p:cBhvr>
                                  <p:cTn id="12" dur="1" fill="hold"/>
                                  <p:tgtEl>
                                    <p:spTgt spid="82"/>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just paid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
        <p:nvSpPr>
          <p:cNvPr id="86"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39CD646-6EE6-4AA0-9952-861C8D982EC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88152AD-9FC2-456A-A066-7AC31630F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
        <p:nvSpPr>
          <p:cNvPr id="8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D0815C0-C3FB-424B-A0BD-3B4AB6ACF4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AF84B5-BF9A-4DA2-BF34-C89F241391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Dividend Growth, g</a:t>
            </a:r>
            <a:endParaRPr b="0" lang="en-US" sz="4400" spc="-1" strike="noStrike">
              <a:solidFill>
                <a:srgbClr val="000000"/>
              </a:solidFill>
              <a:latin typeface="Arial"/>
            </a:endParaRPr>
          </a:p>
        </p:txBody>
      </p:sp>
      <p:grpSp>
        <p:nvGrpSpPr>
          <p:cNvPr id="91" name=""/>
          <p:cNvGrpSpPr/>
          <p:nvPr/>
        </p:nvGrpSpPr>
        <p:grpSpPr>
          <a:xfrm>
            <a:off x="1430280" y="1905120"/>
            <a:ext cx="7561440" cy="4267080"/>
            <a:chOff x="1430280" y="1905120"/>
            <a:chExt cx="7561440" cy="4267080"/>
          </a:xfrm>
        </p:grpSpPr>
        <p:graphicFrame>
          <p:nvGraphicFramePr>
            <p:cNvPr id="92" name=""/>
            <p:cNvGraphicFramePr/>
            <p:nvPr/>
          </p:nvGraphicFramePr>
          <p:xfrm>
            <a:off x="1430280" y="1905120"/>
            <a:ext cx="7561440" cy="4267080"/>
          </p:xfrm>
          <a:graphic>
            <a:graphicData uri="http://schemas.openxmlformats.org/presentationml/2006/ole">
              <p:oleObj r:id="rId1" spid="">
                <p:embed/>
                <p:pic>
                  <p:nvPicPr>
                    <p:cNvPr id="93" name="" descr=""/>
                    <p:cNvPicPr/>
                    <p:nvPr/>
                  </p:nvPicPr>
                  <p:blipFill>
                    <a:blip r:embed="rId2"/>
                    <a:stretch/>
                  </p:blipFill>
                  <p:spPr>
                    <a:xfrm>
                      <a:off x="1430280" y="1905120"/>
                      <a:ext cx="7561440" cy="4267080"/>
                    </a:xfrm>
                    <a:prstGeom prst="rect">
                      <a:avLst/>
                    </a:prstGeom>
                    <a:ln w="0">
                      <a:noFill/>
                    </a:ln>
                  </p:spPr>
                </p:pic>
              </p:oleObj>
            </a:graphicData>
          </a:graphic>
        </p:graphicFrame>
        <p:sp>
          <p:nvSpPr>
            <p:cNvPr id="94" name=""/>
            <p:cNvSpPr/>
            <p:nvPr/>
          </p:nvSpPr>
          <p:spPr>
            <a:xfrm>
              <a:off x="2723400" y="2153160"/>
              <a:ext cx="280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R = 20%</a:t>
              </a:r>
              <a:endParaRPr b="0" lang="en-US" sz="2400" spc="-1" strike="noStrike">
                <a:solidFill>
                  <a:srgbClr val="000000"/>
                </a:solidFill>
                <a:latin typeface="Times New Roman"/>
              </a:endParaRPr>
            </a:p>
          </p:txBody>
        </p:sp>
      </p:grpSp>
      <p:sp>
        <p:nvSpPr>
          <p:cNvPr id="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BE470B0-EB1E-44BA-9137-A73C690846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DD4E57F-9455-4CDC-9006-EE173DB1C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Required Return, R</a:t>
            </a:r>
            <a:endParaRPr b="0" lang="en-US" sz="4400" spc="-1" strike="noStrike">
              <a:solidFill>
                <a:srgbClr val="000000"/>
              </a:solidFill>
              <a:latin typeface="Arial"/>
            </a:endParaRPr>
          </a:p>
        </p:txBody>
      </p:sp>
      <p:grpSp>
        <p:nvGrpSpPr>
          <p:cNvPr id="97" name=""/>
          <p:cNvGrpSpPr/>
          <p:nvPr/>
        </p:nvGrpSpPr>
        <p:grpSpPr>
          <a:xfrm>
            <a:off x="1523880" y="2057400"/>
            <a:ext cx="7310520" cy="4114800"/>
            <a:chOff x="1523880" y="2057400"/>
            <a:chExt cx="7310520" cy="4114800"/>
          </a:xfrm>
        </p:grpSpPr>
        <p:graphicFrame>
          <p:nvGraphicFramePr>
            <p:cNvPr id="98" name=""/>
            <p:cNvGraphicFramePr/>
            <p:nvPr/>
          </p:nvGraphicFramePr>
          <p:xfrm>
            <a:off x="1523880" y="2057400"/>
            <a:ext cx="7310520" cy="4114800"/>
          </p:xfrm>
          <a:graphic>
            <a:graphicData uri="http://schemas.openxmlformats.org/presentationml/2006/ole">
              <p:oleObj r:id="rId1" spid="">
                <p:embed/>
                <p:pic>
                  <p:nvPicPr>
                    <p:cNvPr id="99" name="" descr=""/>
                    <p:cNvPicPr/>
                    <p:nvPr/>
                  </p:nvPicPr>
                  <p:blipFill>
                    <a:blip r:embed="rId2"/>
                    <a:stretch/>
                  </p:blipFill>
                  <p:spPr>
                    <a:xfrm>
                      <a:off x="1523880" y="2057400"/>
                      <a:ext cx="7310520" cy="4114800"/>
                    </a:xfrm>
                    <a:prstGeom prst="rect">
                      <a:avLst/>
                    </a:prstGeom>
                    <a:ln w="0">
                      <a:noFill/>
                    </a:ln>
                  </p:spPr>
                </p:pic>
              </p:oleObj>
            </a:graphicData>
          </a:graphic>
        </p:graphicFrame>
        <p:sp>
          <p:nvSpPr>
            <p:cNvPr id="100" name=""/>
            <p:cNvSpPr/>
            <p:nvPr/>
          </p:nvSpPr>
          <p:spPr>
            <a:xfrm>
              <a:off x="2724840" y="2296440"/>
              <a:ext cx="2709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g = 5%</a:t>
              </a:r>
              <a:endParaRPr b="0" lang="en-US" sz="2400" spc="-1" strike="noStrike">
                <a:solidFill>
                  <a:srgbClr val="000000"/>
                </a:solidFill>
                <a:latin typeface="Times New Roman"/>
              </a:endParaRPr>
            </a:p>
          </p:txBody>
        </p:sp>
      </p:grpSp>
      <p:sp>
        <p:nvSpPr>
          <p:cNvPr id="10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D5A97FE-885C-4FA7-B40A-6BE94D73FB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255107D-74E3-4A01-A6A4-BA76A9F245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1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expected to pay a dividend of $4 nex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
        <p:nvSpPr>
          <p:cNvPr id="10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FC78113-2D1E-4C31-B9AD-C312DA3000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4738CA5-5CAD-47D3-B8D9-5C39F61E18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106" name="PlaceHolder 2"/>
          <p:cNvSpPr>
            <a:spLocks noGrp="1"/>
          </p:cNvSpPr>
          <p:nvPr>
            <p:ph/>
          </p:nvPr>
        </p:nvSpPr>
        <p:spPr>
          <a:xfrm>
            <a:off x="1447920" y="1828440"/>
            <a:ext cx="7486560" cy="45306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620CF49-679B-4F95-9460-F567C9B91A2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B2475C-63A9-4404-BCD1-BF37C96D4A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109"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5518A5B-E0F7-4F0A-99E2-7F0DEC1153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659716-FA7E-474C-8A7B-5083DDD1FF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11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74D37A8-A736-430A-A3B8-10EBB8560E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71F41A8-9DDB-41D8-B8E2-BCD7C3E928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7754670-24C9-4BB1-B937-FBE741A1FC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8C8CCA-8AB6-40A7-87A6-5AE05C14B5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1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a stock that is expected to pay a constant dividend of $2 per year if the required return is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company starts increasing dividends by 3% per year, beginning with the next dividend? The required return stays at 15%.</a:t>
            </a:r>
            <a:endParaRPr b="0" lang="en-US" sz="32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9D92753A-36DE-4C7C-846A-2B9601660B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85C375E-513E-4BF8-BF8C-B77B058402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1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D5D0925-8CCB-43F7-B2D6-6823A5E46B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DD3A0A-B6DC-4C03-AACC-7B8D9C32E3A1}" type="slidenum">
              <a:t>21</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2">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1000"/>
                                        <p:tgtEl>
                                          <p:spTgt spid="119"/>
                                        </p:tgtEl>
                                      </p:cBhvr>
                                    </p:animEffect>
                                    <p:anim calcmode="lin" valueType="num">
                                      <p:cBhvr additive="repl">
                                        <p:cTn id="20" dur="1000" fill="hold"/>
                                        <p:tgtEl>
                                          <p:spTgt spid="119"/>
                                        </p:tgtEl>
                                        <p:attrNameLst>
                                          <p:attrName>ppt_x</p:attrName>
                                        </p:attrNameLst>
                                      </p:cBhvr>
                                      <p:tavLst>
                                        <p:tav tm="0">
                                          <p:val>
                                            <p:strVal val="#ppt_x"/>
                                          </p:val>
                                        </p:tav>
                                        <p:tav tm="100000">
                                          <p:val>
                                            <p:strVal val="#ppt_x"/>
                                          </p:val>
                                        </p:tav>
                                      </p:tavLst>
                                    </p:anim>
                                    <p:anim calcmode="lin" valueType="num">
                                      <p:cBhvr additive="repl">
                                        <p:cTn id="2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2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vidend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apital gains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1AFA235-6EEE-4297-9005-C8F950CE32E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208808D-C17B-4566-8ECD-A33091E06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25" name="" descr=""/>
          <p:cNvPicPr/>
          <p:nvPr/>
        </p:nvPicPr>
        <p:blipFill>
          <a:blip r:embed="rId1"/>
          <a:srcRect l="30012" t="0" r="0" b="0"/>
          <a:stretch/>
        </p:blipFill>
        <p:spPr>
          <a:xfrm>
            <a:off x="1981080" y="1420920"/>
            <a:ext cx="5867640" cy="5181480"/>
          </a:xfrm>
          <a:prstGeom prst="rect">
            <a:avLst/>
          </a:prstGeom>
          <a:ln w="0">
            <a:noFill/>
          </a:ln>
        </p:spPr>
      </p:pic>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9D2CC10-FF4A-4FB6-9122-26B6C1300F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DB36051-0CE2-4D1F-95EE-99AB71059C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28" name="PlaceHolder 2"/>
          <p:cNvSpPr>
            <a:spLocks noGrp="1"/>
          </p:cNvSpPr>
          <p:nvPr>
            <p:ph/>
          </p:nvPr>
        </p:nvSpPr>
        <p:spPr>
          <a:xfrm>
            <a:off x="1676520" y="137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6AE0B56-501D-4912-861B-36022EC721F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39B68D5-3508-4A8F-966D-7827A62043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3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
        <p:nvSpPr>
          <p:cNvPr id="13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B1E9EA6-43AE-438E-825D-F3970A1737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E73037-20E9-4CCB-9460-11AC59888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3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
        <p:nvSpPr>
          <p:cNvPr id="13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464F83E-5FFC-47D6-A922-AFA95405AC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46C332-57EB-44D7-B23B-597528CBEA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Market</a:t>
            </a:r>
            <a:endParaRPr b="0" lang="en-US" sz="4400" spc="-1" strike="noStrike">
              <a:solidFill>
                <a:srgbClr val="000000"/>
              </a:solidFill>
              <a:latin typeface="Arial"/>
            </a:endParaRPr>
          </a:p>
        </p:txBody>
      </p:sp>
      <p:sp>
        <p:nvSpPr>
          <p:cNvPr id="137" name="PlaceHolder 2"/>
          <p:cNvSpPr>
            <a:spLocks noGrp="1"/>
          </p:cNvSpPr>
          <p:nvPr>
            <p:ph/>
          </p:nvPr>
        </p:nvSpPr>
        <p:spPr>
          <a:xfrm>
            <a:off x="1523520" y="1447560"/>
            <a:ext cx="7388280" cy="453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ers vs. Broke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Stock Exchange (NYSE)</a:t>
            </a:r>
            <a:endParaRPr b="0" lang="en-US" sz="32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stock market in the world</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holders (1,366)</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s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traders</a:t>
            </a:r>
            <a:endParaRPr b="0" lang="en-US" sz="24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r activity</a:t>
            </a:r>
            <a:endParaRPr b="0" lang="en-US" sz="2800" spc="-1" strike="noStrike">
              <a:solidFill>
                <a:srgbClr val="000000"/>
              </a:solidFill>
              <a:latin typeface="Arial"/>
            </a:endParaRPr>
          </a:p>
        </p:txBody>
      </p:sp>
      <p:sp>
        <p:nvSpPr>
          <p:cNvPr id="13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56A6B26-5A6F-4F1E-BA7E-1D1EEDA421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2DA849-4492-4536-9B7C-6D7954FBCD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SDAQ</a:t>
            </a:r>
            <a:endParaRPr b="0" lang="en-US" sz="4400" spc="-1" strike="noStrike">
              <a:solidFill>
                <a:srgbClr val="000000"/>
              </a:solidFill>
              <a:latin typeface="Arial"/>
            </a:endParaRPr>
          </a:p>
        </p:txBody>
      </p:sp>
      <p:sp>
        <p:nvSpPr>
          <p:cNvPr id="140"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physical exchange – computer-based quotatio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market ma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s Net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of inform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 – median quotes, registered representativ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 – view quotes, brokers &amp; dealer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 – view and update quotes, dealers on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ortion of technology stocks</a:t>
            </a:r>
            <a:endParaRPr b="0" lang="en-US" sz="2400" spc="-1" strike="noStrike">
              <a:solidFill>
                <a:srgbClr val="000000"/>
              </a:solidFill>
              <a:latin typeface="Arial"/>
            </a:endParaRPr>
          </a:p>
        </p:txBody>
      </p:sp>
      <p:sp>
        <p:nvSpPr>
          <p:cNvPr id="14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2906B68-CC47-4E70-A49A-0838E80B24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BBB9C0A-2EC9-4A49-ADBD-8C7C8788E4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unications Networks provide trading in NASDAQ secur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visit Instinet</a:t>
            </a:r>
            <a:endParaRPr b="0" lang="en-US" sz="2800" spc="-1" strike="noStrike">
              <a:solidFill>
                <a:srgbClr val="000000"/>
              </a:solidFill>
              <a:latin typeface="Arial"/>
            </a:endParaRPr>
          </a:p>
        </p:txBody>
      </p:sp>
      <p:pic>
        <p:nvPicPr>
          <p:cNvPr id="144" name="" descr="">
            <a:hlinkClick r:id="rId1"/>
          </p:cNvPr>
          <p:cNvPicPr/>
          <p:nvPr/>
        </p:nvPicPr>
        <p:blipFill>
          <a:blip r:embed="rId2"/>
          <a:stretch/>
        </p:blipFill>
        <p:spPr>
          <a:xfrm>
            <a:off x="6477120" y="4267080"/>
            <a:ext cx="1049040" cy="1067040"/>
          </a:xfrm>
          <a:prstGeom prst="rect">
            <a:avLst/>
          </a:prstGeom>
          <a:ln w="0">
            <a:noFill/>
          </a:ln>
        </p:spPr>
      </p:pic>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41AE39E-B2F0-48D5-9195-5E66D35560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51FC7D5-7AF3-442A-A414-9037F1626161}" type="slidenum">
              <a:t>29</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35D200F-58CF-4683-A091-9A74436F6D7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E4FB0AC-252E-4DA9-8A47-97F1E45C60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599840" y="1600200"/>
            <a:ext cx="7162920" cy="49528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Quote</a:t>
            </a:r>
            <a:endParaRPr b="0" lang="en-US" sz="36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nformation is provided in the stock quote?</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the web surfer to go to Bloomberg for current stock quot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PlaceHolder 2"/>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Stock Quotes</a:t>
            </a:r>
            <a:endParaRPr b="0" lang="en-US" sz="4400" spc="-1" strike="noStrike">
              <a:solidFill>
                <a:srgbClr val="000000"/>
              </a:solidFill>
              <a:latin typeface="Arial"/>
            </a:endParaRPr>
          </a:p>
        </p:txBody>
      </p:sp>
      <p:pic>
        <p:nvPicPr>
          <p:cNvPr id="148" name="" descr=""/>
          <p:cNvPicPr/>
          <p:nvPr/>
        </p:nvPicPr>
        <p:blipFill>
          <a:blip r:embed="rId1"/>
          <a:stretch/>
        </p:blipFill>
        <p:spPr>
          <a:xfrm>
            <a:off x="1752480" y="2209680"/>
            <a:ext cx="6443640" cy="2668680"/>
          </a:xfrm>
          <a:prstGeom prst="rect">
            <a:avLst/>
          </a:prstGeom>
          <a:ln w="0">
            <a:noFill/>
          </a:ln>
        </p:spPr>
      </p:pic>
      <p:pic>
        <p:nvPicPr>
          <p:cNvPr id="149" name="" descr="">
            <a:hlinkClick r:id="rId2"/>
          </p:cNvPr>
          <p:cNvPicPr/>
          <p:nvPr/>
        </p:nvPicPr>
        <p:blipFill>
          <a:blip r:embed="rId3"/>
          <a:stretch/>
        </p:blipFill>
        <p:spPr>
          <a:xfrm>
            <a:off x="6324480" y="5943600"/>
            <a:ext cx="382680" cy="533520"/>
          </a:xfrm>
          <a:prstGeom prst="rect">
            <a:avLst/>
          </a:prstGeom>
          <a:ln w="0">
            <a:noFill/>
          </a:ln>
        </p:spPr>
      </p:pic>
      <p:sp>
        <p:nvSpPr>
          <p:cNvPr id="15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C568E9A-B799-41DA-84D1-AB4D06130B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6D5419-074C-4303-8BFF-9EBEB30F616D}" type="slidenum">
              <a:t>3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149"/>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49"/>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bserve a stock price of $18.75. You expect a dividend growth rate of 5%, and the most recent dividend was $1.50. What is the requir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common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preferred stock?</a:t>
            </a:r>
            <a:endParaRPr b="0" lang="en-US" sz="2800" spc="-1" strike="noStrike">
              <a:solidFill>
                <a:srgbClr val="000000"/>
              </a:solidFill>
              <a:latin typeface="Arial"/>
            </a:endParaRPr>
          </a:p>
        </p:txBody>
      </p:sp>
      <p:sp>
        <p:nvSpPr>
          <p:cNvPr id="15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61B41A4-7E18-4460-AF37-E8344D3B614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4C89069-3D7F-4E45-B50A-3D7AF4DA64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us of pension funding (i.e., over- vs. under-funded) depends heavily on the choice of a discount rate. When actuaries are choosing the appropriate rate, should they give greater priority to future pension recipients, management, or shar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increasing availability and use of the internet impacted the ability of stock traders to act unethically?</a:t>
            </a:r>
            <a:endParaRPr b="0" lang="en-US" sz="2800" spc="-1" strike="noStrike">
              <a:solidFill>
                <a:srgbClr val="000000"/>
              </a:solidFill>
              <a:latin typeface="Arial"/>
            </a:endParaRPr>
          </a:p>
        </p:txBody>
      </p:sp>
      <p:sp>
        <p:nvSpPr>
          <p:cNvPr id="15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FF02172-4146-4D05-AE64-543548F919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819E296-114D-44AE-AF14-A9334D4754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8" name="PlaceHolder 2"/>
          <p:cNvSpPr>
            <a:spLocks noGrp="1"/>
          </p:cNvSpPr>
          <p:nvPr>
            <p:ph/>
          </p:nvPr>
        </p:nvSpPr>
        <p:spPr>
          <a:xfrm>
            <a:off x="1523880" y="1371240"/>
            <a:ext cx="7315200" cy="4876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YZ stock currently sells for $50 per share. The next expected annual dividend is $2, and the growth rate is 6%. What is the expected rate of return on this stoc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required rate of return on this stock were 12%, what would the stock price be, and what would the dividend yield be?</a:t>
            </a:r>
            <a:endParaRPr b="0" lang="en-US" sz="3000" spc="-1" strike="noStrike">
              <a:solidFill>
                <a:srgbClr val="000000"/>
              </a:solidFill>
              <a:latin typeface="Arial"/>
            </a:endParaRPr>
          </a:p>
        </p:txBody>
      </p:sp>
      <p:sp>
        <p:nvSpPr>
          <p:cNvPr id="15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E587BA7-725A-4FD3-8162-733FBA0CD9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4EA559-8FB0-410D-8249-DD1F021E62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7524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4CB0B1D-6992-4F78-935F-89845664938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697E3D0-D6E4-4D1E-A966-DCD5823AAE7B}"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60" name="PlaceHolder 2"/>
          <p:cNvSpPr>
            <a:spLocks noGrp="1"/>
          </p:cNvSpPr>
          <p:nvPr>
            <p:ph/>
          </p:nvPr>
        </p:nvSpPr>
        <p:spPr>
          <a:xfrm>
            <a:off x="1523880" y="16761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5DDC34F-ED1D-45CF-9345-C25676D522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F4EBDA-17A6-4A41-8F29-2CE24AACF3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3" name="PlaceHolder 2"/>
          <p:cNvSpPr>
            <a:spLocks noGrp="1"/>
          </p:cNvSpPr>
          <p:nvPr>
            <p:ph/>
          </p:nvPr>
        </p:nvSpPr>
        <p:spPr>
          <a:xfrm>
            <a:off x="1599840" y="1599840"/>
            <a:ext cx="725796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113BD82-652F-4BB6-9887-59ADB17D2D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D21750-0664-461A-A88D-FE5BAFAFCF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6"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9CCC5511-C13F-40F2-9BD1-57B2A4B2A9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DA77EE-1907-40CC-BAE4-024C3FB849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9" name="PlaceHolder 2"/>
          <p:cNvSpPr>
            <a:spLocks noGrp="1"/>
          </p:cNvSpPr>
          <p:nvPr>
            <p:ph/>
          </p:nvPr>
        </p:nvSpPr>
        <p:spPr>
          <a:xfrm>
            <a:off x="1676160" y="1676160"/>
            <a:ext cx="718164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A0919BC-10DE-4290-9525-72B2C2FDBFC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2914750-7F38-41A3-8C7B-4E2B161D8E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E431358-C403-4BBF-8287-5DBDA15837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40C2A9-286F-4A87-B02C-8CBBFBA35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5" name="PlaceHolder 2"/>
          <p:cNvSpPr>
            <a:spLocks noGrp="1"/>
          </p:cNvSpPr>
          <p:nvPr>
            <p:ph/>
          </p:nvPr>
        </p:nvSpPr>
        <p:spPr>
          <a:xfrm>
            <a:off x="1371240" y="1523520"/>
            <a:ext cx="73342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7D19FC2-1B6A-4F0F-93EA-E130C987C5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B6D0308-FAD2-4FDF-92A1-0FA5B68B29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mageshkumar.s</cp:lastModifiedBy>
  <dcterms:modified xsi:type="dcterms:W3CDTF">2009-02-13T05:49:29Z</dcterms:modified>
  <cp:revision>42</cp:revision>
  <dc:subject/>
  <dc:title>Stock Valuation</dc:title>
</cp:coreProperties>
</file>