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84B9-B264-4E76-A007-95E54C4D8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7B55-AC41-42BE-B94A-235E833BF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81979-2639-4AFD-8951-3A04F82A1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A4D2-759E-4FA5-8770-26EF92A5F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2612-8582-462A-9F5B-8D76A291A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F706-C87D-48EC-99AC-2255A04DF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8CA2-E8FE-48FF-B08A-AAFAD6B07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5072-0839-4DA0-B8B9-290F4CBE3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CCE4-4D2F-430A-82B8-57D9190E1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50A6-297B-441A-A03A-5F629D695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D2FD-E4F3-4FA3-8569-AE69D4B32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B19E-3716-413D-8512-59AA176F4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D02A-DF63-4CBC-87A4-4DF7C41EB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86B7-FD13-4528-B0EE-5A441386B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65AF-8152-443B-ABBE-C958CAECE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A07D-687C-4ED2-9D7B-9CC2D1C76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C0BAF-95CF-41A8-BCFA-A8DA6418C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2F12-1677-41DF-A691-E6E02C6EE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FA35-ABF1-49D2-BF25-0AA43FC21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EC74-7B15-427A-8BC4-BFBB9DDC3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9E50-0B5A-4EB3-8260-AC2047E7E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741A-2B0F-49EE-B4EA-EA9F41958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A6DB-3549-4650-9EA3-B374089DF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136E-318A-4D59-8052-471A656D3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7411-ED70-460A-8D30-BDB33D525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01A5-CECE-43C6-A568-9EF2AA729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5BAE-D92E-4988-B5B5-402E47142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07E7-057E-4DD2-A0E8-A481B2D7E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DC0D-0E9B-4910-B8B8-5A8FEA417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B965-C7D8-4162-936A-C8268FEB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9E6C-6CE6-4686-BD8C-48C715145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667E-5FC1-465A-96AA-76E38C981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8881-2527-47B4-B6E2-6F7A6AC3D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7C5E-763B-4F63-9C98-138F4EE59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1495-B9E8-4C9E-8139-32126FD4E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D090-4320-48B4-B5E3-6FA8FB527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8758-D92D-471C-B0F7-D26D84EB2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5A85-68B1-4D8F-A020-C7FA57B6A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FF3E-C66A-4A7C-9C0E-9BEEADA3A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DF30-0EBC-495F-A92D-2CAAF5F2E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CC65-7390-4E9F-A2A7-FACE85BBE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0234-DCC7-4B56-A0EE-D708FDA97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B0D3-FB87-4B9B-A1B2-05DA977E5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D172-A407-4530-B182-BA9070D1B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Text Box 23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24"/>
          <p:cNvSpPr/>
          <p:nvPr/>
        </p:nvSpPr>
        <p:spPr>
          <a:xfrm>
            <a:off x="3809880" y="265104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Interest Rat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/>
            <a:ahLst/>
            <a:rect l="l" t="t" r="r" b="b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/>
            <a:ahLst/>
            <a:rect l="l" t="t" r="r" b="b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/>
            <a:ahLst/>
            <a:rect l="l" t="t" r="r" b="b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9-</a:t>
            </a:r>
            <a:fld id="{CD22F081-BC7C-418C-9FE4-24EF3F14CE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9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Bond Equivalent Yield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nd Equivalent Yields (BEY) are another way to quote an interest r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can convert a bank discount yield to a bond equivalent yield using this formula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2b2c0e"/>
                </a:solidFill>
                <a:latin typeface="Arial"/>
              </a:rPr>
              <a:t>Note that this formula is correct only for maturities of six months or less. Moreover, if February 29 occurs within the next 12 months, use 366 days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596960" y="3186000"/>
                <a:ext cx="6023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scou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360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y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turity x discou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ield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 I: Bond Equivalent Yield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gure 9.3 shows a T-bill that expires February 11, 2009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has 79 days to maturi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bi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discount is 0.028%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at is the Bond Equivalent (bid) Yield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 is not much difference at this low interest r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ppose, the bid discount w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.00%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this 79-day T-bill. What is the BEY in this case?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158" name="Group 8"/>
          <p:cNvGrpSpPr/>
          <p:nvPr/>
        </p:nvGrpSpPr>
        <p:grpSpPr>
          <a:xfrm>
            <a:off x="1600200" y="2971800"/>
            <a:ext cx="5548320" cy="1911240"/>
            <a:chOff x="1600200" y="2971800"/>
            <a:chExt cx="5548320" cy="1911240"/>
          </a:xfrm>
        </p:grpSpPr>
        <mc:AlternateContent>
          <mc:Choice xmlns:a14="http://schemas.microsoft.com/office/drawing/2010/main" Requires="a14">
            <p:sp>
              <p:nvSpPr>
                <p:cNvPr id="159" name="Object 4"/>
                <p:cNvSpPr txBox="1"/>
                <p:nvPr/>
              </p:nvSpPr>
              <p:spPr>
                <a:xfrm>
                  <a:off x="1600200" y="2971800"/>
                  <a:ext cx="3668760" cy="191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BEY</m:t>
                          </m:r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65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iscount yiel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0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ays to maturity x Discount yield</m:t>
                              </m:r>
                            </m:den>
                          </m:f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BEY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365</m:t>
                              </m:r>
                              <m:r>
                                <m:t xml:space="preserve">×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28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0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9</m:t>
                              </m:r>
                              <m:r>
                                <m:t xml:space="preserve">×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28</m:t>
                              </m:r>
                            </m:den>
                          </m:f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0284, or about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84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Text Box 6"/>
            <p:cNvSpPr/>
            <p:nvPr/>
          </p:nvSpPr>
          <p:spPr>
            <a:xfrm>
              <a:off x="5492880" y="3657600"/>
              <a:ext cx="1655640" cy="824040"/>
            </a:xfrm>
            <a:prstGeom prst="rect">
              <a:avLst/>
            </a:prstGeom>
            <a:noFill/>
            <a:ln w="9360">
              <a:solidFill>
                <a:srgbClr val="367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67d82"/>
                  </a:solidFill>
                  <a:latin typeface="Arial"/>
                </a:rPr>
                <a:t>Remember to multiply before you subtrac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7"/>
            <p:cNvSpPr/>
            <p:nvPr/>
          </p:nvSpPr>
          <p:spPr>
            <a:xfrm flipH="1">
              <a:off x="3740040" y="4191120"/>
              <a:ext cx="1752480" cy="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I: Calculating T-bill Price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Bond Equivalent Yield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calculate a Treasury bill asking price using the 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ked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yield, which is a bond equivalent yiel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ook at Figure 9.3 for the T-bill that expires on February 11, 2009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has 79 days to maturi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reported ask yield is 0.020%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984240" y="3811680"/>
                <a:ext cx="4748400" cy="25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ill Ask Price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ace Value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Bond Equivalend Yield 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Days to Maturity / 365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1,000,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20 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/365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1,000,00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4329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999,95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re Ways to Quote 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imple</a:t>
            </a:r>
            <a:r>
              <a:rPr b="1" i="1" lang="ja-JP" sz="2400" spc="-1" strike="noStrike">
                <a:solidFill>
                  <a:srgbClr val="000099"/>
                </a:solidFill>
                <a:latin typeface="Arial"/>
              </a:rPr>
              <a:t>”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interest basi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- Another method to quote interest rate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alculated just like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annual percentage rates (APRs).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sed for CD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bond equivalent yield on a T-bill with less than six months to maturity is also an APR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APR understates 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nterest rate, which is usually called the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effective annual rate (EAR)</a:t>
            </a: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The BEY on a T-bill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is Really Just an APR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Earlier, using the bid discount rate, we calculated a bid price for an 79-day T-bill to be $999,938.56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t maturity, this T-bill will be worth $1,000,00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will earn $61.44 of interest on an investment of $999,938.56 over 79 days, a return of 0.0061444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a 365-day year, there are 365/79 = 4.62025 periods of 79 days in length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0.0061444% times 4.62025 is 0.2839%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is is the bond equivalent (bid) yield that we calculated before (that we rounded to 0.28%).</a:t>
            </a:r>
            <a:br>
              <a:rPr sz="18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Note: </a:t>
            </a:r>
            <a:r>
              <a:rPr b="1" i="1" lang="en-US" sz="1600" spc="-1" strike="noStrike">
                <a:solidFill>
                  <a:srgbClr val="367d82"/>
                </a:solidFill>
                <a:latin typeface="Arial"/>
              </a:rPr>
              <a:t>The Wall Street Journal </a:t>
            </a: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rounds bid and ask yields to 2 decimal places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onverting APRs to EAR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general, if we let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be the number of periods in a year, an APR can be converted to an EAR as follow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Rs are sometimes called effective annual yields, effective yields, or annualized yiel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3352680" y="2817720"/>
                <a:ext cx="35974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AR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PR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: What is the EAR of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is T-bill</a:t>
            </a:r>
            <a:r>
              <a:rPr b="0" lang="ja-JP" sz="3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 BEY (aka APR)?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2897280" y="1708200"/>
                <a:ext cx="3485880" cy="35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AR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PR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EAR 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002839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02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025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00061447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2025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2839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, the EA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839%  in this case to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4" name="Text Box 4"/>
          <p:cNvSpPr/>
          <p:nvPr/>
        </p:nvSpPr>
        <p:spPr>
          <a:xfrm>
            <a:off x="762120" y="5638680"/>
            <a:ext cx="7924680" cy="3682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 the lower the interest rates, the closer is the APR to the 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I: Converting Credit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ard APRs to EAR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me Credit Cards quote an APR of 18%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18% is used because 18 = 12 times 1.50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at is, the monthly rate is really 1.50%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What is the EAR?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4475160" y="3124080"/>
                <a:ext cx="209088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AR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PR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EAR 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8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956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, the EA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%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8" name="Text Box 5"/>
          <p:cNvSpPr/>
          <p:nvPr/>
        </p:nvSpPr>
        <p:spPr>
          <a:xfrm>
            <a:off x="6781680" y="6019920"/>
            <a:ext cx="914400" cy="3682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O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Excel to Calculate T-bill Prices and Yield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1293840" y="1535040"/>
          <a:ext cx="6730920" cy="39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3840" y="1535040"/>
                    <a:ext cx="673092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Rates and Yields on Fixed-Income Securitie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xed-income securities include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long-ter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debt contracts from a wide variety of issuer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U.S. government,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al estate purchases (mortgage debt),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rporations, an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unicipal governmen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issued, fixed-income securities have a maturity of greater than one yea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issued, money market securities have a maturity of less than one yea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ur goal in this chapter is to discuss the many different interest rates that are commonly reported in the financial pres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will also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Find out how different interest rates are calculated and quoted, and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Discuss theories of what determines interest rat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Treasury Yield Curv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Treasury yield curv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a plot of Treasury yields against maturiti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is fundamental to bond market analysis, because it represents the interest rates for default-free lending across the maturity spectrum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Treasury Yield Curv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7" name="Picture 5" descr="jor30719_cut09c"/>
          <p:cNvPicPr/>
          <p:nvPr/>
        </p:nvPicPr>
        <p:blipFill>
          <a:blip r:embed="rId1"/>
          <a:stretch/>
        </p:blipFill>
        <p:spPr>
          <a:xfrm>
            <a:off x="1371600" y="1066680"/>
            <a:ext cx="662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Term Structure of Interest Rat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erm structure of interest rate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the relationship between time to maturity and the interest rates for default-free,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pure discoun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nstrument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ucture is sometimes called the 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zero-coupon yield curve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to distinguish it from the Treasury yield curve, which is based on coupon bon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Term Structure of Interest Rat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ucture can be seen by examining yields on U.S. Treasury STRIP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TRIPS are pure discount instruments created by 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tripping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the coupons and principal payments of U.S. Treasury notes and bonds into separate parts,which are then sold separately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IPS stands for Separate Trading of Registered Interest and Principal of Securiti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.S. Treasury STRIP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asked yield for a U.S. Treasury STRIP is an APR, calculated as two times the true semiannual r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fore, for STRIP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4419720" y="3048120"/>
                <a:ext cx="385596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sent valu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utur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4267080" y="4724280"/>
                <a:ext cx="40435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RIP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ac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Value</m:t>
                        </m:r>
                      </m:num>
                      <m:den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YTM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Text Box 6"/>
          <p:cNvSpPr/>
          <p:nvPr/>
        </p:nvSpPr>
        <p:spPr>
          <a:xfrm>
            <a:off x="990720" y="5715000"/>
            <a:ext cx="4419360" cy="3682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M is the number of years to mat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igure 9.5: U.S. Treasury STRIP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98" name="Picture 1" descr="C:\Users\Tom Miller\Documents\Godzilla_VI\Sixth_Edition\Tom_Update_Files\Chap_09\Figure_9.5a.jpg"/>
          <p:cNvPicPr/>
          <p:nvPr/>
        </p:nvPicPr>
        <p:blipFill>
          <a:blip r:embed="rId1"/>
          <a:stretch/>
        </p:blipFill>
        <p:spPr>
          <a:xfrm>
            <a:off x="4724280" y="1143000"/>
            <a:ext cx="3962520" cy="2521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Users\Tom Miller\Documents\Godzilla_VI\Sixth_Edition\Tom_Update_Files\Chap_09\Figure_9.5b.jpg"/>
          <p:cNvPicPr/>
          <p:nvPr/>
        </p:nvPicPr>
        <p:blipFill>
          <a:blip r:embed="rId2"/>
          <a:stretch/>
        </p:blipFill>
        <p:spPr>
          <a:xfrm>
            <a:off x="2590920" y="3809880"/>
            <a:ext cx="4438440" cy="2371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Users\Tom Miller\Documents\Godzilla_VI\Sixth_Edition\Tom_Update_Files\Chap_09\Figure_9.5c.jpg"/>
          <p:cNvPicPr/>
          <p:nvPr/>
        </p:nvPicPr>
        <p:blipFill>
          <a:blip r:embed="rId3"/>
          <a:stretch/>
        </p:blipFill>
        <p:spPr>
          <a:xfrm>
            <a:off x="685800" y="1143000"/>
            <a:ext cx="3970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Pricing U.S. Treasury STRIPS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et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verify the price of the November 2016 Strip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ask quote is 80.975, or $80.975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ask YTM is 3.05%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tures in about 7 years from the time of the quote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ose (considering the two-decimal rounding of the ask YTM)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2895480" y="4191120"/>
                <a:ext cx="491040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RIP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ice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Face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Value</m:t>
                            </m:r>
                          </m:num>
                          <m:den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 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TM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M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305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305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×</m:t>
                                </m:r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60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8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b2c0e"/>
                </a:solidFill>
                <a:latin typeface="Arial"/>
              </a:rPr>
              <a:t>Example: Pricing U.S. Treasury STRIPS, II.</a:t>
            </a:r>
            <a:endParaRPr b="0" lang="en-US" sz="33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et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calculate the YTM from the quoted pric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ose again (reported ask YTM was 3.05%--using the actual days to maturity. We used 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bout 7 years.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501920" y="2590920"/>
                <a:ext cx="6051240" cy="19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YTM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ace Value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TRIPS 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Price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M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0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8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975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×</m:t>
                                    </m:r>
                                    <m:r>
                                      <m:t xml:space="preserve">7</m:t>
                                    </m:r>
                                  </m:den>
                                </m:f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495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/14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038, or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%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ominal versus Real 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1536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minal interest rate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re interest rates as they are  observed and quoted, with no adjustment for infl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al interest rates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re adjusted for inflation effect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143000" y="3886200"/>
            <a:ext cx="7620120" cy="3988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eal interest rate = nominal interest rate – inflat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al T-bill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1" name="Picture 5" descr="jor30719_0906"/>
          <p:cNvPicPr/>
          <p:nvPr/>
        </p:nvPicPr>
        <p:blipFill>
          <a:blip r:embed="rId1"/>
          <a:stretch/>
        </p:blipFill>
        <p:spPr>
          <a:xfrm>
            <a:off x="533520" y="1239840"/>
            <a:ext cx="83055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ney Market 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36" name="Picture 6" descr="jor30719_0902"/>
          <p:cNvPicPr/>
          <p:nvPr/>
        </p:nvPicPr>
        <p:blipFill>
          <a:blip r:embed="rId1"/>
          <a:stretch/>
        </p:blipFill>
        <p:spPr>
          <a:xfrm>
            <a:off x="1143000" y="1179360"/>
            <a:ext cx="72388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ominal versus Real 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Fisher Hypothesi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sserts that the general level of nominal interest rates follows the general level of inflation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ccording to the Fisher hypothesis, interest rates are, on average, higher than the rate of infl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flation Rates and T-bill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5" name="Picture 5" descr="jor30719_0907"/>
          <p:cNvPicPr/>
          <p:nvPr/>
        </p:nvPicPr>
        <p:blipFill>
          <a:blip r:embed="rId1"/>
          <a:stretch/>
        </p:blipFill>
        <p:spPr>
          <a:xfrm>
            <a:off x="762120" y="1143000"/>
            <a:ext cx="77724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flation-Indexed Treasury Securiti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Recently, the U.S. Treasury has issued securities that guarantee a fixed rate of return in excess of realized inflation rates. 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se inflation-indexed Treasury securities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ay a fixed coupon rate on their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curren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principal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jus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heir principal semiannually according to the most recent inflation rate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Example: Suppose an inflation-indexed note is issued with a coupon rate of 3.5% and an initial principal of $1,000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ix months later, the note will pay a coupon of $1,00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(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3.5%/2) = $17.50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suming 2 percent inflation over the six months since issuance, the note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 principal is then increased to $1,00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102% = $1,020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ix months later, the note pays $1,02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(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3.5%/2) = $17.85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ts principal is again adjusted to compensate for recent infla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flation-Indexed Treasury Securiti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9" name="Picture 2" descr="C:\Users\Tom Miller\Documents\Godzilla_VI\Sixth_Edition\Tom_Update_Files\Chap_09\Figure_9.8.jpg"/>
          <p:cNvPicPr/>
          <p:nvPr/>
        </p:nvPicPr>
        <p:blipFill>
          <a:blip r:embed="rId1"/>
          <a:stretch/>
        </p:blipFill>
        <p:spPr>
          <a:xfrm>
            <a:off x="3581280" y="1066680"/>
            <a:ext cx="243864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raditional Theories of the Term Structur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ations Theory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ucture of interest rates reflects financial market beliefs about future interest rat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rket Segmentation Theory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ebt markets are segmented by maturity, so interest rates for various maturities are determined separately in each segmen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turity Preference Theory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ong-term interest rates contain a maturity premium necessary to induce lenders into making longer term loan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oblems with Traditional Theori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6854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Expectations Theory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2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term structure is almost always upward sloping, but interest rates have not always risen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2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t is often the case that the term structure turns down at very long maturitie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0">
              <a:lnSpc>
                <a:spcPct val="9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aturity Preference Theory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2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U.S. government borrows much more heavily short-term than long-term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2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Many of the biggest buyers of fixed-income securities, such as pension funds, have a strong preference for long maturitie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oblems with Traditional Theori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arket Segmentation Theory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U.S. government borrows at all maturities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ny institutional investors, such as mutual funds, are more than willing to move maturities to obtain more favorable rates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re are bond trading operations that exist just to exploit perceived premiums, even very small on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dern Term Structure Theory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ong-term bond prices are much more sensitive to interest rate changes than short-term bonds. This is called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interest rate risk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, the modern view of the term structure suggests that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I = RI + IP + RP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this equation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NI = Nominal interest rat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I = Real interest rat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P = Inflation premium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P = Interest rate risk premium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dern Term Structure Theory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29" name="Picture 7" descr="jor82353_f0909"/>
          <p:cNvPicPr/>
          <p:nvPr/>
        </p:nvPicPr>
        <p:blipFill>
          <a:blip r:embed="rId1"/>
          <a:stretch/>
        </p:blipFill>
        <p:spPr>
          <a:xfrm>
            <a:off x="2743200" y="1219320"/>
            <a:ext cx="38685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dern Term Structure Theory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revious equation showed the components of interest rates on default-free bonds that trade in a liquid marke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ot all bonds do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fore, a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liquidity premium (LP)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nd a</a:t>
            </a: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efault premium (DP)</a:t>
            </a: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ust be added to the previous equation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I = RI + IP + RP + LP + DP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ney Market Rat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rime rat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The basic interest rate on short-term loans that the largest commercial banks charge to their most creditworthy corporate customer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Discount rat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The interest rate that the Fed offers to commercial banks for overnight reserve loan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Federal funds rat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Interest rate that banks charge each other for overnight loans of $1 million or more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Banker</a:t>
            </a:r>
            <a:r>
              <a:rPr b="1" i="1" lang="ja-JP" sz="1800" spc="-1" strike="noStrike">
                <a:solidFill>
                  <a:srgbClr val="000099"/>
                </a:solidFill>
                <a:latin typeface="Arial"/>
              </a:rPr>
              <a:t>’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s acceptanc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A postdated check on which a bank has guaranteed payment. Commonly used to finance international trade transaction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all money rat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The interest rate brokerage firms pay for call money loans from banks. This rate is used as the basis for customer rates on margin loan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ommercial paper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Short-term, unsecured debt issued by the largest corporation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Ds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- The interest rate on certificates of deposit, which are large-denomination deposits of $100,000 or more at commercial banks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eful Internet Si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money-rates.com  (for the latest money market ra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bbalibor.com  (learn more about LIBOR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sifma.org  (information on fixed income securiti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bloomberg.com  (current U.S. Treasury ra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smartmoney.com/bonds  (view a 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iving yield curve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fanniemae.com  (one of three mortgage security websi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ginniemae.gov  (one of three mortgage security websi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freddiemac.com  (one of three mortgage security websi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publicdebt.treas.gov  (information on STRIPS; other U.S. debt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terest Rate History and Money Market Rat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terest Rate Histor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oney Market Rates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oney Market Prices and Rat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ank Discount Rate Quot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reasury Bill Quot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ank Discount Yields versus Bond Equivalent Yield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ond Equivalent Yields, APRs, and EAR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6854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ates and Yields on Fixed-Income Securiti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he Treasury Yield Curve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Rates on Other Fixed-Income Investments</a:t>
            </a:r>
            <a:br>
              <a:rPr sz="2600"/>
            </a:b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ucture of Interest Rat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reasury STRIP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Yields for U.S. Treasury STRIPS</a:t>
            </a:r>
            <a:br>
              <a:rPr sz="2600"/>
            </a:b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ominal versus Real Interest Rat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Real Interest Rate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he Fisher Hypothesi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Inflation-Indexed Treasury Securitie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raditional Theories of the Term Structur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Expectations Theor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turity Preference Theor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rket Segmentation Theory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eterminants of Nominal Interest Rates: A Modern Perspectiv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Problems with Traditional Theori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odern Term Structure Theor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Liquidity and Default Risk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ney Market Prices and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ure Discount Security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n interest-bearing asset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t makes a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ingle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ayment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of face value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t maturity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t make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no payments before maturity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re are several different ways market participants quote interest rat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ank Discount Basi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ond Equivalent Yields (BEY)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Annual Percentage Rates (APR)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Effective Annual Rates (EAR)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Bank Discount Basi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Bank Discount Basi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is a method of quoting interest rates on money market instrument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t is commonly used for T-bills and banker</a:t>
            </a:r>
            <a:r>
              <a:rPr b="0" lang="ja-JP" sz="28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 acceptanc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Note that we use 360 days in a year in this (and many other) money market formula.</a:t>
            </a:r>
            <a:br>
              <a:rPr sz="2600"/>
            </a:b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he term </a:t>
            </a:r>
            <a:r>
              <a:rPr b="0" lang="ja-JP" sz="26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discount yield</a:t>
            </a:r>
            <a:r>
              <a:rPr b="0" lang="ja-JP" sz="26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here simply refers to the quoted interest rate.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1143000" y="3552840"/>
                <a:ext cx="76312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rrent Price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alu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x 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ay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turity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x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scou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a Pric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a Bank Discount Rat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ppose a banker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acceptance that will be paid in 71 days has a face value of $100,000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f the discount yield is 4%, what is the current price of the banker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acceptance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2130480" y="3429000"/>
                <a:ext cx="587988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urrent Price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c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ays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o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turit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ou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100,000 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100,000 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-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7889 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99,2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reasury Bill Quote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(online at www.wsj.com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8" name="Picture 5" descr="jor30719_0903"/>
          <p:cNvPicPr/>
          <p:nvPr/>
        </p:nvPicPr>
        <p:blipFill>
          <a:blip r:embed="rId1"/>
          <a:stretch/>
        </p:blipFill>
        <p:spPr>
          <a:xfrm>
            <a:off x="762120" y="1219320"/>
            <a:ext cx="7772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reasury Bill Prices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November 24, 2009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gure 9.3 shows a T-bill that expires February 11, 201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has 79 days to maturi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bid discount is .028% (you use this to calculate the bid price, i.e., the price you will receive for the T-bill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s are quoted for $1,000,000 face valu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1846440" y="3962520"/>
                <a:ext cx="598464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urrent T-bill Price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c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ue</m:t>
                        </m:r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ays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o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aturit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scoun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1,000,000  </m:t>
                        </m:r>
                        <m:r>
                          <m:t xml:space="preserve">×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0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×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28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1,000,000 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 -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06144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999,93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Text Box 5"/>
          <p:cNvSpPr/>
          <p:nvPr/>
        </p:nvSpPr>
        <p:spPr>
          <a:xfrm>
            <a:off x="6019920" y="5638680"/>
            <a:ext cx="2438280" cy="5806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Verify that the ask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ice is $999,956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Nouf Alabdulkarim</cp:lastModifiedBy>
  <dcterms:modified xsi:type="dcterms:W3CDTF">2015-11-26T01:45:43Z</dcterms:modified>
  <cp:revision>87</cp:revision>
  <dc:subject/>
  <dc:title>Slide 1</dc:title>
</cp:coreProperties>
</file>