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104-D0AC-4A9E-8F20-1F91B9F6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3E3-7EB2-40B7-BCE8-68607227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0B98-9BE8-4014-A081-472E9DE8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7227-CE79-41F3-9612-0549D67D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7BBC-C73B-4ED2-AE9E-558642D2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2BA-99F5-4AF4-A4BF-9D0137C2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F28-3572-48D9-9AFF-F025AD90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69A-45AE-4F6C-9328-A744A790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75BE-91A3-4308-ACF3-ECFF9EED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62E-D34F-495F-84B9-FE1513B7D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6127-0921-4DAE-828B-41BA83D5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F96-2574-460A-903A-0445F372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EF2-13FB-4686-A5EA-425C61CF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6C07-08FE-4746-991E-D8594696A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F52-18FD-4182-98CA-EF8ADD32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0A5-DD67-40DC-83FF-66E6FC62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E73-3E99-4C74-921F-4DA20D79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12FF-2E04-4B11-AFB2-A91F6A6D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8051-023E-48F9-AA1D-F808A245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A5CE-C3D3-41B6-AAF7-08442C46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5E6-F4ED-4626-9D54-C380EEB78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50E-636F-4311-B300-C32803088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DF0-FB2D-4CD5-A684-9160D2F6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DFC1-097A-4A0E-AC17-2797E55B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20C-711F-46AE-8888-101D2B51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0AE-1285-4D41-BF07-E663AA75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AEC-9D21-4832-8F57-9E94E62F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012-BB36-422E-ADB3-E9144D81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F5D-5D74-4409-933A-FECE96CE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F92-9092-4EE1-9A1E-AFC6A3BEE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E213-A233-4283-885F-F9563165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BDC0-1500-4E5D-B4C0-451E6B8C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DBE-34D0-435B-8643-0498FE68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569A-F235-4387-8D54-425FA4A1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AF4-8BB8-492D-9E06-28C8E89C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0A0F-79C9-424A-B8FD-97ACB6CC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9D2A-0FCF-4D62-A601-E37AB470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0FE-D6FA-4B4B-A4D1-0B2BBC3C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58A-DEEF-44C4-B940-CED88C23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585-50F5-419F-82C4-26518F69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DBA-1E5E-420A-B38E-56DF0235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3B14-9C22-4766-8123-9DC7C67C3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16F-987D-4E65-B8B7-8A581ABC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26D-1729-4213-B7BF-CC9BAB1D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65104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8E09B116-D344-440F-90E5-96417B312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9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Equivalent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Equivalent Yields (BEY) are another way to quote an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convert a bank discount yield to a bond equivalent yield using this formula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Note that this formula is correct only for maturities of six months or less. Moreover, if February 29 occurs within the next 12 months, use 366 day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6960" y="3186000"/>
                <a:ext cx="602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6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urity x 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: Bond Equivalent Yiel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i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iscount is 0.02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Bond Equivalent (bid) Yiel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not much difference at this low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, the bid discount w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00%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this 79-day T-bill. What is the BEY in this case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1600200" y="2971800"/>
            <a:ext cx="5548320" cy="1911240"/>
            <a:chOff x="1600200" y="2971800"/>
            <a:chExt cx="5548320" cy="1911240"/>
          </a:xfrm>
        </p:grpSpPr>
        <mc:AlternateContent>
          <mc:Choice xmlns:a14="http://schemas.microsoft.com/office/drawing/2010/main" Requires="a14">
            <p:sp>
              <p:nvSpPr>
                <p:cNvPr id="159" name="Object 4"/>
                <p:cNvSpPr txBox="1"/>
                <p:nvPr/>
              </p:nvSpPr>
              <p:spPr>
                <a:xfrm>
                  <a:off x="1600200" y="2971800"/>
                  <a:ext cx="3668760" cy="19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EY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5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ount yiel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ys to maturity x Discount yield</m:t>
                              </m:r>
                            </m:den>
                          </m:f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BEY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5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2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9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28</m:t>
                              </m:r>
                            </m:den>
                          </m:f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284, or about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84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Text Box 6"/>
            <p:cNvSpPr/>
            <p:nvPr/>
          </p:nvSpPr>
          <p:spPr>
            <a:xfrm>
              <a:off x="5492880" y="3657600"/>
              <a:ext cx="1655640" cy="824040"/>
            </a:xfrm>
            <a:prstGeom prst="rect">
              <a:avLst/>
            </a:prstGeom>
            <a:noFill/>
            <a:ln w="93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67d82"/>
                  </a:solidFill>
                  <a:latin typeface="Arial"/>
                </a:rPr>
                <a:t>Remember to multiply before you subtrac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 flipH="1">
              <a:off x="3740040" y="4191120"/>
              <a:ext cx="1752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alculating T-bill Pric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Bond Equivalent Yield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calculate a Treasury bill asking price using the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ked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yield, which is a bond equivalent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ook at Figure 9.3 for the T-bill that expires on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ported ask yield is 0.020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984240" y="3811680"/>
                <a:ext cx="474840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ill Ask Pric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ace Valu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ond Equivalend Yield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ays to Maturity / 365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,00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0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/365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,000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4329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9,9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Ways to Quote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imple</a:t>
            </a:r>
            <a:r>
              <a:rPr b="1" i="1" lang="ja-JP" sz="24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interes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Another method to quote interest rat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ed just lik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annual percentage rates (APRs)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ed for C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bond equivalent yield on a T-bill with less than six months to maturity is also an APR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PR understate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terest rate, which is usually called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ffective annual rate (EAR)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BEY on a T-bil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s Really Just an AP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arlier, using the bid discount rate, we calculated a bid price for an 79-day T-bill to be $999,938.56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maturity, this T-bill will be worth $1,00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earn $61.44 of interest on an investment of $999,938.56 over 79 days, a return of 0.0061444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365-day year, there are 365/79 = 4.62025 periods of 79 days in length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0.0061444% times 4.62025 is 0.2839%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is the bond equivalent (bid) yield that we calculated before (that we rounded to 0.28%).</a:t>
            </a:r>
            <a:br>
              <a:rPr sz="1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367d82"/>
                </a:solidFill>
                <a:latin typeface="Arial"/>
              </a:rPr>
              <a:t>The Wall Street Journal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rounds bid and ask yields to 2 decimal place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nverting APRs to EA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if we let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 the number of periods in a year, an APR can be converted to an EAR as follow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s are sometimes called effective annual yields, effective yields, or annualize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352680" y="2817720"/>
                <a:ext cx="3597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P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at is the EAR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T-bil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 BEY (aka APR)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897280" y="1708200"/>
                <a:ext cx="3485880" cy="35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PR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EAR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2839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02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02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00061447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02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839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, the 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839%  in this case to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Text Box 4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 the lower the interest rates, the closer is the APR to the 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onverting Credit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rd APRs to EAR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Credit Cards quote an APR of 1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18% is used because 18 = 12 times 1.5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the monthly rate is really 1.50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at is the EAR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475160" y="3124080"/>
                <a:ext cx="20908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PR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EAR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6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, the 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Text Box 5"/>
          <p:cNvSpPr/>
          <p:nvPr/>
        </p:nvSpPr>
        <p:spPr>
          <a:xfrm>
            <a:off x="6781680" y="6019920"/>
            <a:ext cx="91440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Excel to Calculate T-bill Prices and Yiel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293840" y="1535040"/>
          <a:ext cx="673092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535040"/>
                    <a:ext cx="67309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xed-income securities includ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long-ter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ebt contracts from a wide variety of issu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U.S. government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 estate purchases (mortgage debt)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rporations, 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nicipal govern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fixed-income securities have a maturity of greater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money market securities have a maturity of less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discuss the many different interest rates that are commonly reported in the financial pres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als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ind out how different interest rates are calculated and quot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cuss theories of what determines interest rat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reasury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a plot of Treasury yields against mat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fundamental to bond market analysis, because it represents the interest rates for default-free lending across the maturity spectru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Picture 5" descr="jor30719_cut09c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rm structure of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relationship between time to maturity and the interest rates for default-free,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ure discoun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strume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is sometimes called the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zero-coupon yield curve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o distinguish it from the Treasury yield curve, which is based on coupon bo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can be seen by examining yields on U.S. Treasury STRI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S are pure discount instruments created by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ping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he coupons and principal payments of U.S. Treasury notes and bonds into separate parts,which are then sold separatel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IPS stands for Separate Trading of Registered Interest and Principal of Sec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sked yield for a U.S. Treasury STRIP is an APR, calculated as two times the true semiannual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STRIP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4419720" y="3048120"/>
                <a:ext cx="3855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sent valu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utu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4267080" y="4724280"/>
                <a:ext cx="40435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IP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Value</m:t>
                        </m:r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YTM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Text Box 6"/>
          <p:cNvSpPr/>
          <p:nvPr/>
        </p:nvSpPr>
        <p:spPr>
          <a:xfrm>
            <a:off x="990720" y="5715000"/>
            <a:ext cx="441936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M is the number of years to mat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gure 9.5: 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8" name="Picture 1" descr="C:\Users\Tom Miller\Documents\Godzilla_VI\Sixth_Edition\Tom_Update_Files\Chap_09\Figure_9.5a.jpg"/>
          <p:cNvPicPr/>
          <p:nvPr/>
        </p:nvPicPr>
        <p:blipFill>
          <a:blip r:embed="rId1"/>
          <a:stretch/>
        </p:blipFill>
        <p:spPr>
          <a:xfrm>
            <a:off x="4724280" y="1143000"/>
            <a:ext cx="3962520" cy="2521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Tom Miller\Documents\Godzilla_VI\Sixth_Edition\Tom_Update_Files\Chap_09\Figure_9.5b.jpg"/>
          <p:cNvPicPr/>
          <p:nvPr/>
        </p:nvPicPr>
        <p:blipFill>
          <a:blip r:embed="rId2"/>
          <a:stretch/>
        </p:blipFill>
        <p:spPr>
          <a:xfrm>
            <a:off x="2590920" y="3809880"/>
            <a:ext cx="4438440" cy="237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Tom Miller\Documents\Godzilla_VI\Sixth_Edition\Tom_Update_Files\Chap_09\Figure_9.5c.jpg"/>
          <p:cNvPicPr/>
          <p:nvPr/>
        </p:nvPicPr>
        <p:blipFill>
          <a:blip r:embed="rId3"/>
          <a:stretch/>
        </p:blipFill>
        <p:spPr>
          <a:xfrm>
            <a:off x="685800" y="1143000"/>
            <a:ext cx="3970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Pricing U.S. Treasury STRIP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verify the price of the November 2016 Strip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quote is 80.975, or $80.975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YTM is 3.05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es in about 7 years from the time of the quo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ose (considering the two-decimal rounding of the ask YTM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895480" y="4191120"/>
                <a:ext cx="491040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IP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ac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Value</m:t>
                            </m:r>
                          </m:num>
                          <m:den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305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305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: Pricing U.S. Treasury STRIPS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alculate the YTM from the quoted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ose again (reported ask YTM was 3.05%--using the actual days to maturity. We used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bout 7 years.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501920" y="2590920"/>
                <a:ext cx="60512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ace Value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RIPS 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rice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M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7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t xml:space="preserve">7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495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/1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38, or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minal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re interest rates as they are  observed and quoted, with no adjustment for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al interest rate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adjusted for inflation effec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43000" y="3886200"/>
            <a:ext cx="7620120" cy="3988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eal interest rate = nominal interest rate – infl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al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1" name="Picture 5" descr="jor30719_0906"/>
          <p:cNvPicPr/>
          <p:nvPr/>
        </p:nvPicPr>
        <p:blipFill>
          <a:blip r:embed="rId1"/>
          <a:stretch/>
        </p:blipFill>
        <p:spPr>
          <a:xfrm>
            <a:off x="533520" y="123984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36" name="Picture 6" descr="jor30719_0902"/>
          <p:cNvPicPr/>
          <p:nvPr/>
        </p:nvPicPr>
        <p:blipFill>
          <a:blip r:embed="rId1"/>
          <a:stretch/>
        </p:blipFill>
        <p:spPr>
          <a:xfrm>
            <a:off x="1143000" y="1179360"/>
            <a:ext cx="7238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isher Hypothe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sserts that the general level of nominal interest rates follows the general level of inflation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cording to the Fisher hypothesis, interest rates are, on average, higher than the rate of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 Rates and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5" name="Picture 5" descr="jor30719_0907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cently, the U.S. Treasury has issued securities that guarantee a fixed rate of return in excess of realized inflation r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se inflation-indexed Treasury securitie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 a fixed coupon rate on their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urr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rincipal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ir principal semiannually according to the most recent inflation rate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: Suppose an inflation-indexed note is issued with a coupon rate of 3.5% and an initial principal of $1,000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will pay a coupon of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5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ing 2 percent inflation over the six months since issuance, the note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principal is then increased to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102% = $1,02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pays $1,02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85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s principal is again adjusted to compensate for recent infl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9" name="Picture 2" descr="C:\Users\Tom Miller\Documents\Godzilla_VI\Sixth_Edition\Tom_Update_Files\Chap_09\Figure_9.8.jpg"/>
          <p:cNvPicPr/>
          <p:nvPr/>
        </p:nvPicPr>
        <p:blipFill>
          <a:blip r:embed="rId1"/>
          <a:stretch/>
        </p:blipFill>
        <p:spPr>
          <a:xfrm>
            <a:off x="3581280" y="1066680"/>
            <a:ext cx="24386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 reflects financial market beliefs about futur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bt markets are segmented by maturity, so interest rates for various maturities are determined separately in each seg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interest rates contain a maturity premium necessary to induce lenders into making longer term loa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term structure is almost always upward sloping, but interest rates have not always risen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t is often the case that the term structure turns down at very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U.S. government borrows much more heavily short-term than long-term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ny of the biggest buyers of fixed-income securities, such as pension funds, have a strong preference for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U.S. government borrows at all maturiti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ny institutional investors, such as mutual funds, are more than willing to move maturities to obtain more favorable rat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re are bond trading operations that exist just to exploit perceived premiums, even very small on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bond prices are much more sensitive to interest rate changes than short-term bonds. This is calle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terest rate risk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the modern view of the term structure suggests tha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I = Nomin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I = Re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P = Inflation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P = Interest rate risk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9" name="Picture 7" descr="jor82353_f0909"/>
          <p:cNvPicPr/>
          <p:nvPr/>
        </p:nvPicPr>
        <p:blipFill>
          <a:blip r:embed="rId1"/>
          <a:stretch/>
        </p:blipFill>
        <p:spPr>
          <a:xfrm>
            <a:off x="2743200" y="1219320"/>
            <a:ext cx="3868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evious equation showed the components of interest rates on default-free bonds that trade in a liquid mark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 all bonds d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iquidity premium (LP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efault premium (DP)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st be added to the previou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 + LP + D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basic interest rate on short-term loans that the largest commercial banks charge to their most creditworthy corporate custome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that the Fed offers to commercial banks for overnight reserve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ederal funds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banks charge each other for overnight loans of $1 million or mor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anker</a:t>
            </a:r>
            <a:r>
              <a:rPr b="1" i="1" lang="ja-JP" sz="1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 acceptanc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postdated check on which a bank has guaranteed payment. Commonly used to finance international trade transaction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ll money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brokerage firms pay for call money loans from banks. This rate is used as the basis for customer rates on margin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mercial pape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Short-term, unsecured debt issued by the largest corporatio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Ds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The interest rate on certificates of deposit, which are large-denomination deposits of $100,000 or more at commercial bank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money-rates.com  (for the latest money market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bbalibor.com  (learn more about LIBOR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sifma.org  (information on fixed income securiti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bloomberg.com  (current U.S. Treasury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smartmoney.com/bonds  (view a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iving yield curve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anniemae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ginniemae.gov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reddiemac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publicdebt.treas.gov  (information on STRIPS; other U.S. deb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History and Money Marke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Hist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ney Market Rat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Rate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reasury Bill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Yields versus Bond Equivalent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, APRs, and EAR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ates on Other Fixed-Income Investment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reasury STRIP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Yields for U.S. Treasury STRIP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eal Interest Rat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Fisher Hypothesi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Inflation-Indexed Treasury Securiti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xpectations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ity Preferenc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ket Segmentation Theory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terminants of Nominal Interest Rates: A Modern Perspectiv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dern Term Structur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Liquidity and Default Risk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ure Discount Security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nterest-bearing asse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of face value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t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payments before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are several different ways market participants quot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 (BEY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nnual Percentage Rates (AP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ffective Annual Rates (EA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ank Discount Ba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is a method of quoting interest rates on money market instrumen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is commonly used for T-bills and banker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acceptanc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ote that we use 360 days in a year in this (and many other) money market formula.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erm </a:t>
            </a:r>
            <a:r>
              <a:rPr b="0" lang="ja-JP" sz="26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iscount yield</a:t>
            </a:r>
            <a:r>
              <a:rPr b="0" lang="ja-JP" sz="26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here simply refers to the quoted interest rate.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1143000" y="3552840"/>
                <a:ext cx="763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lu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y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turi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Pri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a Bank Discount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a banker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eptance that will be paid in 71 days has a face value of $100,00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discount yield is 4%, what is the current price of the banker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eptanc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130480" y="3429000"/>
                <a:ext cx="5879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urrent 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ay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turit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ou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00,000 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00,000 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7889 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,2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Quot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online at www.wsj.com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8" name="Picture 5" descr="jor30719_0903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Price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November 24, 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1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discount is .028% (you use this to calculate the bid price, i.e., the price you will receive for the T-bil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s are quoted for $1,000,000 face valu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846440" y="3962520"/>
                <a:ext cx="5984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urrent T-bill 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ay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turit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ou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,000,000 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8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,000,000 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6144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9,9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Text Box 5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Verify that the ask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ice is $999,95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1-26T01:45:43Z</dcterms:modified>
  <cp:revision>87</cp:revision>
  <dc:subject/>
  <dc:title>Slide 1</dc:title>
</cp:coreProperties>
</file>