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83963D8-0510-4C3A-984A-FF16CC1AA0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BA0879F-0CBB-469D-A481-C32C72CF41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BF05BEE-2BC2-4F32-8238-AE943EA7EA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0BE54DE-2804-4C86-A856-CA9E30C1B8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18400251-12CD-4778-B67D-E745CA53F1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B0342EC-0234-4F79-B71D-60FE1379AB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042FD06B-A488-44E6-8503-1C5FF27EA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6CCD4AE-4FFC-43DC-9020-F78303FB3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D725098-031B-42AF-A222-2484F77499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4D6F514-7DA4-42B1-A133-2EBA55F0A4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296346C-D35B-46DB-AF91-C435B1C55A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405FA07-7A96-4D22-8D9B-CB003EBA17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82BB2D33-2B87-4213-9499-D530DAB0D3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B7F0312-532D-47F8-BE80-D2DE3F1DC9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725C1A3-6D3A-4225-99F7-5A92EDF36D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5D8F394-B448-4589-9DB9-14E8AA3365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6A3ED8E-3C9C-42FA-B19A-B84B09741F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7BA5026-2ADE-4D33-8FF9-8EED330301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D1BA5CD-E321-4430-A399-960EFEAFCE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D6155FF-744D-4207-A3A2-6F8EC60E0B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AF8EB70-DAE9-40B6-AFE9-D1B7EE3B9B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DD9B92C-1252-4FA4-8EA4-A33DACEC36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E0BFCCB-1820-4818-870B-7FCC8687B0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E6F487A-7DC2-4120-94C9-D0236BF93D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950FC5D-8707-48FF-8106-0DB29EB79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9D327CA-AA7B-4559-BC7D-7402A9A5A6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66A7F4C-7A5A-46A6-9BAF-1A53578171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C8E8E79-1F58-480D-9273-732776A81A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D780067-D097-48F1-B4D8-B4D6218699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81662DD-57BA-4B63-B7EE-2FF5301937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AA9F8B2-E7A8-476E-BC1A-7A865B7DC8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C33E834-CBDD-4685-A315-0F7B4C7AE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2180860-7366-4083-B955-F382B0C5B4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2045326-6ED0-40F5-B7EF-09127400DD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3CA0751-538A-4804-B993-839C45DE73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138E255-404E-4088-BA09-5C345C4390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76A3D-9494-4C23-A808-7859B20E0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D32F-3BB7-4004-95C1-B0AD844B5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E169A-B1D9-467F-B25C-043DF5D7B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03431-01FA-4A6B-B6A2-485826B4D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D79A9-7EDB-4E3F-AFFF-085A359F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7184C-C51F-4D33-87CB-9807520D9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B9123-D6BF-4772-9C98-E735DC23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D726-1703-4E34-B1ED-7D2B1263E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B188-4E41-47FD-B1C2-4F0CEA64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1D0C-8B2A-408B-94E6-5CE3F2F8E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9DBD1-A07B-42FE-B4EE-977A92CD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3441-CB51-460F-9D44-095CF9F8B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Arial"/>
            </a:endParaRPr>
          </a:p>
        </p:txBody>
      </p:sp>
      <p:pic>
        <p:nvPicPr>
          <p:cNvPr id="50" name="Picture 10"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Object 5"/>
          <p:cNvGraphicFramePr/>
          <p:nvPr/>
        </p:nvGraphicFramePr>
        <p:xfrm>
          <a:off x="7620120" y="914400"/>
          <a:ext cx="1523880" cy="1143000"/>
        </p:xfrm>
        <a:graphic>
          <a:graphicData uri="http://schemas.openxmlformats.org/presentationml/2006/ole">
            <p:oleObj progId="Excel.Sheet.12" r:id="rId1" spid="">
              <p:embed/>
              <p:pic>
                <p:nvPicPr>
                  <p:cNvPr id="80" name="Object 5"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Rectangle 6"/>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A5413C8-43E4-4573-ADD3-44B2AD305B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8C64B1F-12F0-4B7A-BD9F-670B109EEE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B1CE519-6CF4-4165-BEAD-312E457DF7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66CB4C0-5AFD-46F9-AD94-7D21E333FD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7B2CEF8-8556-4967-91F1-6551F26F81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D7150D0-55AB-44B4-AB8B-200590F140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ED2A1A6-D261-4450-9635-2A42FC5752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74B23FE-845D-4A7E-B4F6-D80D1BD94C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86D5E47-C351-45C4-B44F-C3EB9A2658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1080F87-DD43-47C7-B2DB-4A1BE1FE84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60365D4-8F22-44C9-88EF-7774817AAB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6A67D57-6CF8-4F03-A47F-1FEDEC2D59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016CC80-F192-4FF9-855C-2A66395192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FCEE26B-E68A-4212-BF02-9F68F4B538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DB89E66-69CF-4835-B41B-B99D440DA0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4FED825-B54A-4BA4-8168-066CB89D93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E326486-002D-4B2B-A147-4FE6EFBC01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Object 3"/>
          <p:cNvGraphicFramePr/>
          <p:nvPr/>
        </p:nvGraphicFramePr>
        <p:xfrm>
          <a:off x="1415880" y="1600200"/>
          <a:ext cx="7269480" cy="4524480"/>
        </p:xfrm>
        <a:graphic>
          <a:graphicData uri="http://schemas.openxmlformats.org/presentationml/2006/ole">
            <p:oleObj r:id="rId1" spid="">
              <p:embed/>
              <p:pic>
                <p:nvPicPr>
                  <p:cNvPr id="132"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Text Box 4"/>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Arial"/>
            </a:endParaRPr>
          </a:p>
        </p:txBody>
      </p:sp>
      <p:sp>
        <p:nvSpPr>
          <p:cNvPr id="13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9CA7218-24D7-4D7D-9E0F-DB48D82152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8587ADD-E71C-403C-AAA8-4F05AF99E9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EB9A678-7691-4AB3-BA89-0BA776BFC2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Object 4"/>
          <p:cNvGraphicFramePr/>
          <p:nvPr/>
        </p:nvGraphicFramePr>
        <p:xfrm>
          <a:off x="7543800" y="2286000"/>
          <a:ext cx="1219320" cy="898560"/>
        </p:xfrm>
        <a:graphic>
          <a:graphicData uri="http://schemas.openxmlformats.org/presentationml/2006/ole">
            <p:oleObj progId="Excel.Sheet.12" r:id="rId1" spid="">
              <p:embed/>
              <p:pic>
                <p:nvPicPr>
                  <p:cNvPr id="144" name="Object 4"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AD2FCDC-1541-4F25-9706-EBDA7E6C40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32541E1-AD05-4586-8281-0A68E2BA64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080">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Rectangle 33"/>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10FFD81-8EE9-4B5C-BC64-B752774911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A22EB66-130E-4384-9B26-40B16C6FC1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F1EA5E3-DA09-4003-AF87-1D5FB227E2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E47247A-1933-42BD-89DD-93755C22D7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Object 3"/>
          <p:cNvGraphicFramePr/>
          <p:nvPr/>
        </p:nvGraphicFramePr>
        <p:xfrm>
          <a:off x="1415880" y="1600200"/>
          <a:ext cx="7269480" cy="4524480"/>
        </p:xfrm>
        <a:graphic>
          <a:graphicData uri="http://schemas.openxmlformats.org/presentationml/2006/ole">
            <p:oleObj r:id="rId1" spid="">
              <p:embed/>
              <p:pic>
                <p:nvPicPr>
                  <p:cNvPr id="160"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Text Box 4"/>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Arial"/>
            </a:endParaRPr>
          </a:p>
        </p:txBody>
      </p:sp>
      <p:sp>
        <p:nvSpPr>
          <p:cNvPr id="162"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1CD4749-1264-4835-914F-E260417878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2C30CD1-0329-4EC4-B2B7-5852585446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C8F557E-15EA-4399-952A-173EBC2D42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Text Box 35"/>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Arial"/>
            </a:endParaRPr>
          </a:p>
        </p:txBody>
      </p:sp>
      <p:sp>
        <p:nvSpPr>
          <p:cNvPr id="172" name="Rectangle 40"/>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26B08D8-F6C1-42D6-91B5-C69A0649634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Object 3"/>
          <p:cNvGraphicFramePr/>
          <p:nvPr/>
        </p:nvGraphicFramePr>
        <p:xfrm>
          <a:off x="1415880" y="1600200"/>
          <a:ext cx="7269480" cy="4524480"/>
        </p:xfrm>
        <a:graphic>
          <a:graphicData uri="http://schemas.openxmlformats.org/presentationml/2006/ole">
            <p:oleObj r:id="rId1" spid="">
              <p:embed/>
              <p:pic>
                <p:nvPicPr>
                  <p:cNvPr id="175"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Text Box 4"/>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Arial"/>
            </a:endParaRPr>
          </a:p>
        </p:txBody>
      </p:sp>
      <p:sp>
        <p:nvSpPr>
          <p:cNvPr id="177"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0C101EF-05C8-461F-B857-8FA43E4A21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180529B-C098-4B23-AB15-DE09760C1E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465F6E3-3D82-416D-9F3F-1C85069497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4AFF982-D943-4217-BDC5-859018379A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91917DD-3BF8-470A-A8D8-99D4615A14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6A272A7-34F7-4A2F-A813-778748AA0E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FED9E2F-7B1A-4BC7-A71F-1EA16978BB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6417BAF-A00C-45AE-BEA1-57A093496A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441A68B-092A-4D17-A2A8-A55DEECD43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8535DF1-F86F-48ED-A0CF-A80F2D9710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CB2D4AE-2EC4-4E30-9877-FC6CCDCD2F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F011CEA-B45F-4D94-8F55-C77880F928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248394E-1EE7-461E-9B50-32A73FAB8A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2E4DF65-B680-404D-AEF0-5149BFF96A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5180D01-E3ED-495B-81ED-F566C83503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C925BD3-80C4-47A1-A042-F20969A226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12FFB28-08A5-4B33-A033-467895273D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539C6EA-0E2F-4D11-9E20-03F71190C0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3BAFB7D-667A-4552-BDD3-011D15D8FF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Zia</cp:lastModifiedBy>
  <dcterms:modified xsi:type="dcterms:W3CDTF">2012-03-18T09:48:58Z</dcterms:modified>
  <cp:revision>45</cp:revision>
  <dc:subject/>
  <dc:title>Net Present Value and Other Investment Criteria</dc:title>
</cp:coreProperties>
</file>