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CD2B20ED-B242-4D84-A4F3-B3F436018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payback period can be interpreted as a naïve form of discounting if we consider the class of investments with level cash flows over arbitrarily long lives. Since the present value of a perpetuity is the payment divided by the discount rate, a payback period cutoff can be seen to imply a certain discount rate. That is:</a:t>
            </a: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nnual cash flow = payback period cutoff</a:t>
            </a:r>
            <a:br>
              <a:rPr sz="1200"/>
            </a:br>
            <a:r>
              <a:rPr b="0" lang="en-US" sz="1200" spc="-1" strike="noStrike">
                <a:solidFill>
                  <a:srgbClr val="000000"/>
                </a:solidFill>
                <a:latin typeface="Times New Roman"/>
              </a:rPr>
              <a:t>cost = annual cash flow times payback period cutoff</a:t>
            </a:r>
            <a:br>
              <a:rPr sz="1200"/>
            </a:br>
            <a:br>
              <a:rPr sz="1200"/>
            </a:br>
            <a:r>
              <a:rPr b="0" lang="en-US" sz="1200" spc="-1" strike="noStrike">
                <a:solidFill>
                  <a:srgbClr val="000000"/>
                </a:solidFill>
                <a:latin typeface="Times New Roman"/>
              </a:rPr>
              <a:t>The PV of a perpetuity is: PV = annual cash flow / R. This illustrates the inverse relationship between the payback period cutoff and the discount r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the payback rule seems to put one in a delicate situation – as the text indicates, the rule is flawed as an indicator of project desirability. Yet, past surveys suggest that practitioners often use it as a secondary decision measure. How can we explain this apparent discrepancy between theory and practice? While the payback period is widely used in practice, it is rarely the primary decision criterion. As William Baumol pointed out in the early 1960s, the payback rule serves as a crude “risk screening” device – the longer cash is tied up, the greater the likelihood that it will not be returned. The payback period may be helpful when mutually exclusive projects are compared. Given two similar projects with different paybacks, the project with the shorter payback is often, but not always, the better project. Similarly, the bias toward liquidity may be justifiable in such industries as healthcare, where technology changes rapidly, requiring quick payback to make machines justifiable, or in international investments where the possibility of government seizure of assets ex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 Thus, it is not surprising that most surveys indicate that few large firms employ the payback and/or AAR methods exclusive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An alternative view of the AAR is that it is the micro-level analogue to the ROA discussed in a previous chapter. As you remember, firm ROA is normally computed as Firm Net Income / Firm Total Assets. And, it is not uncommon to employ values averaged over several quarters or years in order to smooth out this measure. Some analysts ask, “If the ROA is appropriate for the firm, why is it less appropriate for a project?” Perhaps the best answer is that whether you compute the measure for the firm or for a project, you need to recognize the limitations – it doesn’t account for risk or the time value of money and it is based on accounting, rather than market, dat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PV profile is also a form of sensitivity analys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es again. In competitive markets, extremely high IRRs should be rare. 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logical prerequisite to the analysis of investment opportunities is the creation of investment opportunities. Unlike the field of investments, where the analyst more or less takes the investment opportunity set as a given, the field of capital budgeting relies on the work of people in the areas of engineering, research and development, information technology and others for the creation of investment opportunities. As such, it is important to remind students of the importance of creativity in this area, as well as the importance of analytical techniqu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good introduction to mutually exclusive projects and non-conventional cash flows is to provide examples that students can relate to. An excellent example of mutually exclusive projects is the choice of which college or university to attend. Many students apply and are accepted to more than one college, yet they cannot attend more than one at a time. Consequently, they have to decide between mutually exclusiv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nconventional cash flows and multiple IRRs occur when there is a net cost to shutting down a project. The most common examples deal with collecting natural resources. After the resource has been harvested, there is generally a cost associated with restoring the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 90,000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 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nonconventional cash flow involves a “financing” project, where there is a positive cash flow followed by a series of negative cash flows. This is the opposite of an “investing” project. In this case, our decision rule reverses, and we accept a project if the IRR is less than the cost of capital, since we are borrowing at a lower r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 The important point is that we DO NOT use IRR to choose between projects regardless of whether or not we have limited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in the analysis, we may want to calculate the NPV of the incremental project, i.e., the additional CF represented by project A above project B. The IRR of this CF stream is the crossover point and provides the return on the incremental invest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students will recognize that the practice of capital budgeting defines the firm’s investment opportunity schedule.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smaller firms more likely to use payback as a primary decision criter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firms don’t have direct access to the capital markets and therefore find it more difficult to estimate discount rates based on funds cos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AR is the project-level equivalent to the ROA measure used for analyzing firm profitability; a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me small firm decision-makers may be less aware of DCF approaches than their large firm counterparts.</a:t>
            </a:r>
            <a:br>
              <a:rPr sz="1200"/>
            </a:br>
            <a:br>
              <a:rPr sz="1200"/>
            </a:br>
            <a:r>
              <a:rPr b="0" lang="en-US" sz="1200" spc="-1" strike="noStrike">
                <a:solidFill>
                  <a:srgbClr val="000000"/>
                </a:solidFill>
                <a:latin typeface="Times New Roman"/>
              </a:rPr>
              <a:t>When managers are judged and rewarded primarily on the basis of periodic accounting figures, there is an incentive to evaluate projects with methods such as payback or average accounting return. On the other hand, when compensation is tied to firm value, it makes more sense to use NPV as the primary decision tool.</a:t>
            </a:r>
            <a:br>
              <a:rPr sz="1200"/>
            </a:b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RR, we assume a conventional investment project. For a financing project, we accept if the IRR is less than the “required”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e publishing company has a cost of capital of 8% and estimates it could sell 10,000 volumes by the end of year one and 5,000 volumes in each of the following two years. The immediate printing costs for the 20,000 volumes would be $20,000. The book would sell for $7.50 per copy and net the company a profit of $6 per copy after royalties, marketing costs and taxes. Year one net would be $60,000. From a capital budgeting standpoint, is it financially wise to buy the publication rights? What is the NPV of this investment? The year 0 cash flow is -20,000, year 1 is 60,000, and years 2 and 3 are 30,000 each. Given a cost of capital of 8%, the NPV is just over $85,000. It looks good, right? Now ask the class if the publishing of this book would encourage cheating and if the publishing company would want to be associated with this text and its message. Some students may feel that one should accept these profitable investment opportunities, while others might prefer that the publication of this profitable text be rejected due to the behavior it could encourage. Although the example is simplistic, this type of issue is not uncommon and serves as a starting point for a discussion of the value of “reputational capital.”</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o comply with the Air Quality Control Act of 1989, a company must install three smoke stack scrubber units to its ventilation stacks at an installed cost of $355,000 per unit. An estimated $100,000 per unit in fines could be saved each year over the five-year life of the ventilation stacks. The cost of capital is 14% for the firm. The analysis of the investment results in a NPV of -$35,076. Could investment in a healthier working environment result in lower long-term costs in the form of lower future health costs? If so, might this decision result in an increase in shareholder wealth? Notice that if the answer to this second question is yes, it suggests that our original analysis omitted some side benefits to the projec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and the required return in subsequent chap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measures the increase in firm value, which is also the increase in the value of what the shareholders own. Thus, making decisions with the NPV rule facilitates the achievement of our goal in Chapter 1 – making decisions that will maximize shareholder 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is point may seem obvious, it is often helpful to stress the word “net” in net present value. It is not uncommon for some students to carelessly calculate the PV of a project’s future cash flows and fail to subtract out its cost (after all this is what the programmers of Lotus and Excel did when they programmed the NPV function). The PV of future cash flows is not NPV; rather, NPV is the amount remaining after offsetting the PV of future cash flows with the initial cost. Thus, the NPV amount determines the incremental value created by undertaking the inves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s another perspective on the meaning of NPV. If we accept a project with a negative NPV of -$2,422, this is financially equivalent to investing $2,422 today and receiving nothing in return. Therefore, the total value of the firm would decrease by $2,422. This assumes that the various components (cash flow estimates, discount rate, etc.) used in the computation are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practice, financial managers are rarely presented with zero NPV projects for at least two reasons. First, in an abstract sense, zero is just another of the infinite number of values the NPV can take; as such, the likelihood of obtaining any particular number is small. Second, and more pragmatically, in most large firms, capital investment proposals are submitted to the finance group from other areas for analysis. Those submitting proposals recognize the ambivalence associated with zero NPVs and are less likely to send them to the finance group in the first pla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is function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536DC-55C1-401B-A339-2F8BE4602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CBC87-304B-4FC9-8E05-67964854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D7D3F-67D7-499A-B784-AB977CEBC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A90DC-5727-4F42-A85C-E2D9D03A9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07195-FA7D-448A-9AA3-94E71E97D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69E71-0B7C-43F3-83D0-E474A3E60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A2A10-2395-4276-B62B-8A228C1C0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36FC1-87E6-4120-975E-84E116BC1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1B551-A0FC-4ADA-90B9-CE08CC8C4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69B58-30C7-4FCD-8FA7-C4A150253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1B32F-E2DA-4048-BECD-6D8554EA1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AB792-BA40-4340-9CCB-0A8EC8994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9</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Net Present Value and Other Investment Criteria</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AFF0CBE-23EB-4D42-81F6-715462AEC2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NPVs with a Spreadsheet</a:t>
            </a:r>
            <a:endParaRPr b="0" lang="en-US" sz="4400" spc="-1" strike="noStrike">
              <a:solidFill>
                <a:srgbClr val="000000"/>
              </a:solidFill>
              <a:latin typeface="Arial"/>
            </a:endParaRPr>
          </a:p>
        </p:txBody>
      </p:sp>
      <p:sp>
        <p:nvSpPr>
          <p:cNvPr id="78" name="PlaceHolder 2"/>
          <p:cNvSpPr>
            <a:spLocks noGrp="1"/>
          </p:cNvSpPr>
          <p:nvPr>
            <p:ph/>
          </p:nvPr>
        </p:nvSpPr>
        <p:spPr>
          <a:xfrm>
            <a:off x="1219320" y="1793520"/>
            <a:ext cx="76168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s are an excellent way to compute NPVs, especially when you have to compute the cash flow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PV func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ponent is the required return entered as a decima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component is the range of cash flows </a:t>
            </a:r>
            <a:r>
              <a:rPr b="0" i="1" lang="en-US" sz="2400" spc="-1" strike="noStrike">
                <a:solidFill>
                  <a:srgbClr val="000000"/>
                </a:solidFill>
                <a:latin typeface="Arial"/>
              </a:rPr>
              <a:t>beginning with year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initial investment after computing the NPV</a:t>
            </a:r>
            <a:endParaRPr b="0" lang="en-US" sz="2400" spc="-1" strike="noStrike">
              <a:solidFill>
                <a:srgbClr val="000000"/>
              </a:solidFill>
              <a:latin typeface="Arial"/>
            </a:endParaRPr>
          </a:p>
        </p:txBody>
      </p:sp>
      <p:graphicFrame>
        <p:nvGraphicFramePr>
          <p:cNvPr id="79" name=""/>
          <p:cNvGraphicFramePr/>
          <p:nvPr/>
        </p:nvGraphicFramePr>
        <p:xfrm>
          <a:off x="7620120" y="914400"/>
          <a:ext cx="1523880" cy="1143000"/>
        </p:xfrm>
        <a:graphic>
          <a:graphicData uri="http://schemas.openxmlformats.org/presentationml/2006/ole">
            <p:oleObj progId="Excel.Sheet.12" r:id="rId1" spid="">
              <p:embed/>
              <p:pic>
                <p:nvPicPr>
                  <p:cNvPr id="80" name="" descr=""/>
                  <p:cNvPicPr/>
                  <p:nvPr/>
                </p:nvPicPr>
                <p:blipFill>
                  <a:blip r:embed="rId2"/>
                  <a:stretch/>
                </p:blipFill>
                <p:spPr>
                  <a:xfrm>
                    <a:off x="7620120" y="914400"/>
                    <a:ext cx="1523880" cy="1143000"/>
                  </a:xfrm>
                  <a:prstGeom prst="rect">
                    <a:avLst/>
                  </a:prstGeom>
                  <a:ln w="0">
                    <a:noFill/>
                  </a:ln>
                </p:spPr>
              </p:pic>
            </p:oleObj>
          </a:graphicData>
        </a:graphic>
      </p:graphicFrame>
      <p:sp>
        <p:nvSpPr>
          <p:cNvPr id="81"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C8B7068-D49B-48B9-BA89-41F62C627D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D43D234-3C19-43DD-AFE9-B826DB37B068}"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back Period</a:t>
            </a:r>
            <a:endParaRPr b="0" lang="en-US" sz="4400" spc="-1" strike="noStrike">
              <a:solidFill>
                <a:srgbClr val="000000"/>
              </a:solidFill>
              <a:latin typeface="Arial"/>
            </a:endParaRPr>
          </a:p>
        </p:txBody>
      </p:sp>
      <p:sp>
        <p:nvSpPr>
          <p:cNvPr id="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to get the initial cost back in a nominal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the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future cash flows from the initial cost until the initial investment has been recove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if the payback period is less than some preset limit</a:t>
            </a:r>
            <a:endParaRPr b="0" lang="en-US" sz="2800" spc="-1" strike="noStrike">
              <a:solidFill>
                <a:srgbClr val="000000"/>
              </a:solidFill>
              <a:latin typeface="Arial"/>
            </a:endParaRPr>
          </a:p>
        </p:txBody>
      </p:sp>
      <p:sp>
        <p:nvSpPr>
          <p:cNvPr id="84"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D7E0467-53AE-41C8-AC93-9429AA32042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280B162-5742-446B-806B-13F259ECD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back for the Project</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we will accept the project if it pays back with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65,000 – 63,120 = 101,8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1,880 – 70,800 = 31,0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31,080 – 91,080 = -60,000 </a:t>
            </a:r>
            <a:r>
              <a:rPr b="0" i="1" lang="en-US" sz="2400" spc="-1" strike="noStrike">
                <a:solidFill>
                  <a:srgbClr val="000000"/>
                </a:solidFill>
                <a:latin typeface="Arial"/>
              </a:rPr>
              <a:t>project pays back in year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87"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AABF2C8-58E1-4741-AF4A-14A41AADCE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8622288-ECF1-41DD-9A32-1B8A8A3D3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Payback</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payback rule for our primary decision rule?</a:t>
            </a:r>
            <a:endParaRPr b="0" lang="en-US" sz="2800" spc="-1" strike="noStrike">
              <a:solidFill>
                <a:srgbClr val="000000"/>
              </a:solidFill>
              <a:latin typeface="Arial"/>
            </a:endParaRPr>
          </a:p>
        </p:txBody>
      </p:sp>
      <p:sp>
        <p:nvSpPr>
          <p:cNvPr id="9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703EDE1-A1D0-482B-A8E4-AB44C62C60A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7E3408F-4060-4573-94DA-088CC43A4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Payback</a:t>
            </a:r>
            <a:endParaRPr b="0" lang="en-US" sz="4200" spc="-1" strike="noStrike">
              <a:solidFill>
                <a:srgbClr val="000000"/>
              </a:solidFill>
              <a:latin typeface="Arial"/>
            </a:endParaRPr>
          </a:p>
        </p:txBody>
      </p:sp>
      <p:sp>
        <p:nvSpPr>
          <p:cNvPr id="92"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s for uncertainty of later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 liquidity</a:t>
            </a:r>
            <a:endParaRPr b="0" lang="en-US" sz="2400" spc="-1" strike="noStrike">
              <a:solidFill>
                <a:srgbClr val="000000"/>
              </a:solidFill>
              <a:latin typeface="Arial"/>
            </a:endParaRPr>
          </a:p>
        </p:txBody>
      </p:sp>
      <p:sp>
        <p:nvSpPr>
          <p:cNvPr id="93" name="PlaceHolder 3"/>
          <p:cNvSpPr>
            <a:spLocks noGrp="1"/>
          </p:cNvSpPr>
          <p:nvPr>
            <p:ph/>
          </p:nvPr>
        </p:nvSpPr>
        <p:spPr>
          <a:xfrm>
            <a:off x="5117760" y="1600200"/>
            <a:ext cx="3568680" cy="45244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the time value of money</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s an arbitrary cutoff point</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cash flows beyond the cutoff date</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ed against long-term projects, such as research and development, and new projects</a:t>
            </a:r>
            <a:endParaRPr b="0" lang="en-US" sz="2300" spc="-1" strike="noStrike">
              <a:solidFill>
                <a:srgbClr val="000000"/>
              </a:solidFill>
              <a:latin typeface="Arial"/>
            </a:endParaRPr>
          </a:p>
        </p:txBody>
      </p:sp>
      <p:sp>
        <p:nvSpPr>
          <p:cNvPr id="9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D5BD941-2971-4AAD-A178-19AC8C5EEC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7DDF0997-D1BB-4D0B-842B-B7777C610E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ed Payback Period</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resent value of each cash flow and then determine how long it takes to pay back on a discounted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a specified requir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the project if it pays back on a discounted basis within the specified time</a:t>
            </a:r>
            <a:endParaRPr b="0" lang="en-US" sz="2800" spc="-1" strike="noStrike">
              <a:solidFill>
                <a:srgbClr val="000000"/>
              </a:solidFill>
              <a:latin typeface="Arial"/>
            </a:endParaRPr>
          </a:p>
        </p:txBody>
      </p:sp>
      <p:sp>
        <p:nvSpPr>
          <p:cNvPr id="9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6501962-2606-4EFE-BA07-529F686E78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F6D43A-BCF9-4B6D-8486-E6BD473C54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ing Discounted Payback for the Project</a:t>
            </a:r>
            <a:endParaRPr b="0" lang="en-US" sz="40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we will accept the project if it pays back on a discounted basis in 2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for each cash flow and determine the payback period using discounted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165,000 – 63,120/1.12</a:t>
            </a:r>
            <a:r>
              <a:rPr b="0" lang="en-US" sz="2000" spc="-1" strike="noStrike" baseline="30000">
                <a:solidFill>
                  <a:srgbClr val="000000"/>
                </a:solidFill>
                <a:latin typeface="Arial"/>
              </a:rPr>
              <a:t>1</a:t>
            </a:r>
            <a:r>
              <a:rPr b="0" lang="en-US" sz="2000" spc="-1" strike="noStrike">
                <a:solidFill>
                  <a:srgbClr val="000000"/>
                </a:solidFill>
                <a:latin typeface="Arial"/>
              </a:rPr>
              <a:t> = 108,643</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108,643 – 70,800/1.12</a:t>
            </a:r>
            <a:r>
              <a:rPr b="0" lang="en-US" sz="2000" spc="-1" strike="noStrike" baseline="30000">
                <a:solidFill>
                  <a:srgbClr val="000000"/>
                </a:solidFill>
                <a:latin typeface="Arial"/>
              </a:rPr>
              <a:t>2</a:t>
            </a:r>
            <a:r>
              <a:rPr b="0" lang="en-US" sz="2000" spc="-1" strike="noStrike">
                <a:solidFill>
                  <a:srgbClr val="000000"/>
                </a:solidFill>
                <a:latin typeface="Arial"/>
              </a:rPr>
              <a:t> = 52,202</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52,202 – 91,080/1.12</a:t>
            </a:r>
            <a:r>
              <a:rPr b="0" lang="en-US" sz="2000" spc="-1" strike="noStrike" baseline="30000">
                <a:solidFill>
                  <a:srgbClr val="000000"/>
                </a:solidFill>
                <a:latin typeface="Arial"/>
              </a:rPr>
              <a:t>3</a:t>
            </a:r>
            <a:r>
              <a:rPr b="0" lang="en-US" sz="2000" spc="-1" strike="noStrike">
                <a:solidFill>
                  <a:srgbClr val="000000"/>
                </a:solidFill>
                <a:latin typeface="Arial"/>
              </a:rPr>
              <a:t> = -12,627 project pays back in year 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we accept or reject the project?</a:t>
            </a:r>
            <a:endParaRPr b="0" lang="en-US" sz="2400" spc="-1" strike="noStrike">
              <a:solidFill>
                <a:srgbClr val="000000"/>
              </a:solidFill>
              <a:latin typeface="Arial"/>
            </a:endParaRPr>
          </a:p>
        </p:txBody>
      </p:sp>
      <p:sp>
        <p:nvSpPr>
          <p:cNvPr id="10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1E4B825-D8DF-459C-A663-B10047D280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DD88FD9-B898-4F7E-8967-8DB10BA57D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Criteria Test – Discounted Payback</a:t>
            </a:r>
            <a:endParaRPr b="0" lang="en-US" sz="4000" spc="-1" strike="noStrike">
              <a:solidFill>
                <a:srgbClr val="000000"/>
              </a:solidFill>
              <a:latin typeface="Arial"/>
            </a:endParaRPr>
          </a:p>
        </p:txBody>
      </p:sp>
      <p:sp>
        <p:nvSpPr>
          <p:cNvPr id="10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time value of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risk of the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provide an indication about the increase in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consider the discounted payback rule for our primary decision r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F7EEFFF-0708-4E92-BF6A-68DC51F48B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973EE26-C8C8-4AB2-80D3-FEB1C213E3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Discounted Payback</a:t>
            </a:r>
            <a:endParaRPr b="0" lang="en-US" sz="4000" spc="-1" strike="noStrike">
              <a:solidFill>
                <a:srgbClr val="000000"/>
              </a:solidFill>
              <a:latin typeface="Arial"/>
            </a:endParaRPr>
          </a:p>
        </p:txBody>
      </p:sp>
      <p:sp>
        <p:nvSpPr>
          <p:cNvPr id="105" name="PlaceHolder 2"/>
          <p:cNvSpPr>
            <a:spLocks noGrp="1"/>
          </p:cNvSpPr>
          <p:nvPr>
            <p:ph/>
          </p:nvPr>
        </p:nvSpPr>
        <p:spPr>
          <a:xfrm>
            <a:off x="1415880" y="1600200"/>
            <a:ext cx="356904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ime value of mone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cept negative estimated NPV investments when all future cash flows are positive</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s liquidity</a:t>
            </a:r>
            <a:endParaRPr b="0" lang="en-US" sz="2400" spc="-1" strike="noStrike">
              <a:solidFill>
                <a:srgbClr val="000000"/>
              </a:solidFill>
              <a:latin typeface="Arial"/>
            </a:endParaRPr>
          </a:p>
        </p:txBody>
      </p:sp>
      <p:sp>
        <p:nvSpPr>
          <p:cNvPr id="106" name="PlaceHolder 3"/>
          <p:cNvSpPr>
            <a:spLocks noGrp="1"/>
          </p:cNvSpPr>
          <p:nvPr>
            <p:ph/>
          </p:nvPr>
        </p:nvSpPr>
        <p:spPr>
          <a:xfrm>
            <a:off x="5117760" y="1600200"/>
            <a:ext cx="3568680" cy="4524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ject positive NPV investments</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arbitrary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cash flows beyond the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against long-term projects, such as R&amp;D and new products</a:t>
            </a:r>
            <a:endParaRPr b="0" lang="en-US" sz="24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D7341C8-FBE9-4848-8BA3-8F6CD00E94D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3C38B4DE-28F5-4FA1-8A6B-A70DDAD11B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Accounting Return</a:t>
            </a:r>
            <a:endParaRPr b="0" lang="en-US" sz="4400" spc="-1" strike="noStrike">
              <a:solidFill>
                <a:srgbClr val="000000"/>
              </a:solidFill>
              <a:latin typeface="Arial"/>
            </a:endParaRPr>
          </a:p>
        </p:txBody>
      </p:sp>
      <p:sp>
        <p:nvSpPr>
          <p:cNvPr id="10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definitions for average accounting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used in the book i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net income / average book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average book value depends on how the asset is depreci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ve a target cutoff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AAR is greater than a preset r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07CE08E-FF2D-40F7-B0EC-C4AF9A3FF8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B9761E-E755-4B53-B572-95390367D1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payback and discounted payback and underst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ccounting rates of return 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internal rates of return (standard and modified) and understand their strengths and weaknesse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net present value and understand why it is the best decision criterion</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profitability index and understand its relation to net present value</a:t>
            </a:r>
            <a:endParaRPr b="0" lang="en-US" sz="26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5E75EA9-56E2-43D7-863D-9CED7C2559A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4B9A13-96FA-4BE7-975B-F71F19A750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AR for the Project</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we require an average accounting return of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Net Incom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20 + 3,300 + 29,100) / 3 = 15,3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R = 15,340 / 72,000 = .213 = 2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o we accept or reject the project?</a:t>
            </a:r>
            <a:endParaRPr b="0" lang="en-US" sz="32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EFA14CA-B7D2-40DC-B1C9-ACD51F1E7B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587302-AD43-4928-8DE0-A5B5449048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AAR</a:t>
            </a:r>
            <a:endParaRPr b="0" lang="en-US" sz="4400" spc="-1" strike="noStrike">
              <a:solidFill>
                <a:srgbClr val="000000"/>
              </a:solidFill>
              <a:latin typeface="Arial"/>
            </a:endParaRPr>
          </a:p>
        </p:txBody>
      </p:sp>
      <p:sp>
        <p:nvSpPr>
          <p:cNvPr id="1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AAR rule for our primary decision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892A492-C989-455C-ADED-D28582438A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1FD610C-FEA0-4F92-AEAD-A300A395DD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AAR</a:t>
            </a:r>
            <a:endParaRPr b="0" lang="en-US" sz="4400" spc="-1" strike="noStrike">
              <a:solidFill>
                <a:srgbClr val="000000"/>
              </a:solidFill>
              <a:latin typeface="Arial"/>
            </a:endParaRPr>
          </a:p>
        </p:txBody>
      </p:sp>
      <p:sp>
        <p:nvSpPr>
          <p:cNvPr id="118" name="PlaceHolder 2"/>
          <p:cNvSpPr>
            <a:spLocks noGrp="1"/>
          </p:cNvSpPr>
          <p:nvPr>
            <p:ph/>
          </p:nvPr>
        </p:nvSpPr>
        <p:spPr>
          <a:xfrm>
            <a:off x="1415880" y="13716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alcul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information will usually be available</a:t>
            </a:r>
            <a:endParaRPr b="0" lang="en-US" sz="2400" spc="-1" strike="noStrike">
              <a:solidFill>
                <a:srgbClr val="000000"/>
              </a:solidFill>
              <a:latin typeface="Arial"/>
            </a:endParaRPr>
          </a:p>
        </p:txBody>
      </p:sp>
      <p:sp>
        <p:nvSpPr>
          <p:cNvPr id="119" name="PlaceHolder 3"/>
          <p:cNvSpPr>
            <a:spLocks noGrp="1"/>
          </p:cNvSpPr>
          <p:nvPr>
            <p:ph/>
          </p:nvPr>
        </p:nvSpPr>
        <p:spPr>
          <a:xfrm>
            <a:off x="5117760" y="1371600"/>
            <a:ext cx="3568680" cy="45244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rue rate of return; time value of money is ignored</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n arbitrary benchmark cutoff rate</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ccounting net income and book values, not cash flows and market values</a:t>
            </a:r>
            <a:endParaRPr b="0" lang="en-US" sz="2400" spc="-1" strike="noStrike">
              <a:solidFill>
                <a:srgbClr val="000000"/>
              </a:solidFill>
              <a:latin typeface="Arial"/>
            </a:endParaRPr>
          </a:p>
        </p:txBody>
      </p:sp>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ACD1774-DE77-4849-A9E1-D0878EF01BF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2FEAB1DB-37D2-4ABA-B3EA-09DB233B0B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Rate of Return</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alternative to NP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in practice and is intuitively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ed entirely on the estimated cash flows and is independent of interest rates found elsewhere</a:t>
            </a:r>
            <a:endParaRPr b="0" lang="en-US" sz="32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DDD9E1C-CE03-4259-8FB2-630D1E3FE34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38BB670-8E90-4019-82D7-6811957BE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 Definition and Decision Rule</a:t>
            </a:r>
            <a:endParaRPr b="0" lang="en-US" sz="4400" spc="-1" strike="noStrike">
              <a:solidFill>
                <a:srgbClr val="000000"/>
              </a:solidFill>
              <a:latin typeface="Arial"/>
            </a:endParaRPr>
          </a:p>
        </p:txBody>
      </p:sp>
      <p:sp>
        <p:nvSpPr>
          <p:cNvPr id="125"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IRR is the return that makes the NPV =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IRR is greater than the required return</a:t>
            </a:r>
            <a:endParaRPr b="0" lang="en-US" sz="2800" spc="-1" strike="noStrike">
              <a:solidFill>
                <a:srgbClr val="000000"/>
              </a:solidFill>
              <a:latin typeface="Arial"/>
            </a:endParaRPr>
          </a:p>
        </p:txBody>
      </p:sp>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FEC8163-88E7-4C15-8BF2-6A8ECA3467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01B8732-3787-41D6-BA08-7C39B65D8D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RR for the Project</a:t>
            </a:r>
            <a:endParaRPr b="0" lang="en-US" sz="4400" spc="-1" strike="noStrike">
              <a:solidFill>
                <a:srgbClr val="000000"/>
              </a:solidFill>
              <a:latin typeface="Arial"/>
            </a:endParaRPr>
          </a:p>
        </p:txBody>
      </p:sp>
      <p:sp>
        <p:nvSpPr>
          <p:cNvPr id="12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have a financial calculator, then this becomes a trial and error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cash flows as you did with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IRR and then CP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16.13% &gt; 12% required retur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6C8EE03-4B92-4767-8AD7-9CBED4A152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DFF9B5A-1AC5-4FD1-B096-8ED405CCB5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 for the Project</a:t>
            </a:r>
            <a:endParaRPr b="0" lang="en-US" sz="4400" spc="-1" strike="noStrike">
              <a:solidFill>
                <a:srgbClr val="000000"/>
              </a:solidFill>
              <a:latin typeface="Arial"/>
            </a:endParaRPr>
          </a:p>
        </p:txBody>
      </p:sp>
      <p:graphicFrame>
        <p:nvGraphicFramePr>
          <p:cNvPr id="131" name=""/>
          <p:cNvGraphicFramePr/>
          <p:nvPr/>
        </p:nvGraphicFramePr>
        <p:xfrm>
          <a:off x="1415880" y="1600200"/>
          <a:ext cx="7269480" cy="4524480"/>
        </p:xfrm>
        <a:graphic>
          <a:graphicData uri="http://schemas.openxmlformats.org/presentationml/2006/ole">
            <p:oleObj r:id="rId1" spid="">
              <p:embed/>
              <p:pic>
                <p:nvPicPr>
                  <p:cNvPr id="132"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33" name=""/>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6.13%</a:t>
            </a:r>
            <a:endParaRPr b="0" lang="en-US" sz="2400" spc="-1" strike="noStrike">
              <a:solidFill>
                <a:srgbClr val="000000"/>
              </a:solidFill>
              <a:latin typeface="Times New Roman"/>
            </a:endParaRPr>
          </a:p>
        </p:txBody>
      </p:sp>
      <p:sp>
        <p:nvSpPr>
          <p:cNvPr id="13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5AA9B50-B0A1-4902-86D3-0D3ED09CBFA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8CC59BC-4800-40AF-9A6A-2D98B40E5566}" type="slidenum">
              <a:t>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2">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anim calcmode="lin" valueType="num">
                                      <p:cBhvr additive="repl">
                                        <p:cTn id="14" dur="1000" fill="hold"/>
                                        <p:tgtEl>
                                          <p:spTgt spid="133"/>
                                        </p:tgtEl>
                                        <p:attrNameLst>
                                          <p:attrName>ppt_x</p:attrName>
                                        </p:attrNameLst>
                                      </p:cBhvr>
                                      <p:tavLst>
                                        <p:tav tm="0">
                                          <p:val>
                                            <p:strVal val="#ppt_x"/>
                                          </p:val>
                                        </p:tav>
                                        <p:tav tm="100000">
                                          <p:val>
                                            <p:strVal val="#ppt_x"/>
                                          </p:val>
                                        </p:tav>
                                      </p:tavLst>
                                    </p:anim>
                                    <p:anim calcmode="lin" valueType="num">
                                      <p:cBhvr additive="repl">
                                        <p:cTn id="1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IRR</a:t>
            </a:r>
            <a:endParaRPr b="0" lang="en-US" sz="4400" spc="-1" strike="noStrike">
              <a:solidFill>
                <a:srgbClr val="000000"/>
              </a:solidFill>
              <a:latin typeface="Arial"/>
            </a:endParaRPr>
          </a:p>
        </p:txBody>
      </p:sp>
      <p:sp>
        <p:nvSpPr>
          <p:cNvPr id="13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IRR rule for our primary decision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0004506-CC0E-4EED-8AF5-2EAD0F5DB7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E3760CF-4212-4645-9745-49DA0695D4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IRR</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a return is intuitively appea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mple way to communicate the value of a project to someone who doesn’t know all the estimation deta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RR is high enough, you may not need to estimate a required return, which is often a difficult task</a:t>
            </a:r>
            <a:endParaRPr b="0" lang="en-US" sz="2800" spc="-1" strike="noStrike">
              <a:solidFill>
                <a:srgbClr val="000000"/>
              </a:solidFill>
              <a:latin typeface="Arial"/>
            </a:endParaRPr>
          </a:p>
        </p:txBody>
      </p:sp>
      <p:sp>
        <p:nvSpPr>
          <p:cNvPr id="14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2A6BDEA-D36A-4AC5-8749-9CEEE28752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1C0CD76-40AA-422A-9FDA-63BD43D6F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RRs With A Spreadsheet</a:t>
            </a:r>
            <a:endParaRPr b="0" lang="en-US" sz="4400" spc="-1" strike="noStrike">
              <a:solidFill>
                <a:srgbClr val="000000"/>
              </a:solidFill>
              <a:latin typeface="Arial"/>
            </a:endParaRPr>
          </a:p>
        </p:txBody>
      </p:sp>
      <p:sp>
        <p:nvSpPr>
          <p:cNvPr id="142"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art with the cash flows the same as you did for th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use the IRR func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rst enter your range of cash flows, beginning with the initial cash flow</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a guess, but it is not necessar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format is a whole percent – you will normally want to increase the decimal places to at least two</a:t>
            </a:r>
            <a:endParaRPr b="0" lang="en-US" sz="2400" spc="-1" strike="noStrike">
              <a:solidFill>
                <a:srgbClr val="000000"/>
              </a:solidFill>
              <a:latin typeface="Arial"/>
            </a:endParaRPr>
          </a:p>
        </p:txBody>
      </p:sp>
      <p:graphicFrame>
        <p:nvGraphicFramePr>
          <p:cNvPr id="143" name=""/>
          <p:cNvGraphicFramePr/>
          <p:nvPr/>
        </p:nvGraphicFramePr>
        <p:xfrm>
          <a:off x="7543800" y="2286000"/>
          <a:ext cx="1219320" cy="898560"/>
        </p:xfrm>
        <a:graphic>
          <a:graphicData uri="http://schemas.openxmlformats.org/presentationml/2006/ole">
            <p:oleObj progId="Excel.Sheet.12" r:id="rId1" spid="">
              <p:embed/>
              <p:pic>
                <p:nvPicPr>
                  <p:cNvPr id="144" name="" descr=""/>
                  <p:cNvPicPr/>
                  <p:nvPr/>
                </p:nvPicPr>
                <p:blipFill>
                  <a:blip r:embed="rId2"/>
                  <a:stretch/>
                </p:blipFill>
                <p:spPr>
                  <a:xfrm>
                    <a:off x="7543800" y="2286000"/>
                    <a:ext cx="1219320" cy="898560"/>
                  </a:xfrm>
                  <a:prstGeom prst="rect">
                    <a:avLst/>
                  </a:prstGeom>
                  <a:ln w="0">
                    <a:noFill/>
                  </a:ln>
                </p:spPr>
              </p:pic>
            </p:oleObj>
          </a:graphicData>
        </a:graphic>
      </p:graphicFrame>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318CE8A-104A-4823-9B85-434B5CCE380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C6CA1C5-DC11-4E97-9A62-3EA7D7C11659}" type="slidenum">
              <a:t>29</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
                                  <p:stCondLst>
                                    <p:cond delay="0"/>
                                  </p:stCondLst>
                                  <p:childTnLst>
                                    <p:set>
                                      <p:cBhvr>
                                        <p:cTn id="2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back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counted Pay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Accounting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al Rate of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e of Capital Budgeting</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94FCF0E-90C1-4BC9-B82D-F1DC761D97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BEE0CB2-CA1C-4322-9633-5CFC95A78C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s for the Project</a:t>
            </a:r>
            <a:endParaRPr b="0" lang="en-US" sz="4400" spc="-1" strike="noStrike">
              <a:solidFill>
                <a:srgbClr val="000000"/>
              </a:solidFill>
              <a:latin typeface="Arial"/>
            </a:endParaRPr>
          </a:p>
        </p:txBody>
      </p:sp>
      <p:graphicFrame>
        <p:nvGraphicFramePr>
          <p:cNvPr id="147" name=""/>
          <p:cNvGraphicFramePr/>
          <p:nvPr/>
        </p:nvGraphicFramePr>
        <p:xfrm>
          <a:off x="1644480" y="1600200"/>
          <a:ext cx="7270920" cy="4381560"/>
        </p:xfrm>
        <a:graphic>
          <a:graphicData uri="http://schemas.openxmlformats.org/drawingml/2006/table">
            <a:tbl>
              <a:tblPr/>
              <a:tblGrid>
                <a:gridCol w="4789800"/>
                <a:gridCol w="2481120"/>
              </a:tblGrid>
              <a:tr h="730440">
                <a:tc gridSpan="2">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9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Present Va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back 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Payback 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counting Re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Rate of Re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03B75E5-1FE2-47F3-A772-9F01481F6FC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FB78C2B-D13B-43AD-A7B8-CCEE5F736E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vs. IRR</a:t>
            </a:r>
            <a:endParaRPr b="0" lang="en-US" sz="4400" spc="-1" strike="noStrike">
              <a:solidFill>
                <a:srgbClr val="000000"/>
              </a:solidFill>
              <a:latin typeface="Arial"/>
            </a:endParaRPr>
          </a:p>
        </p:txBody>
      </p:sp>
      <p:sp>
        <p:nvSpPr>
          <p:cNvPr id="150" name="PlaceHolder 2"/>
          <p:cNvSpPr>
            <a:spLocks noGrp="1"/>
          </p:cNvSpPr>
          <p:nvPr>
            <p:ph/>
          </p:nvPr>
        </p:nvSpPr>
        <p:spPr>
          <a:xfrm>
            <a:off x="1415520" y="1600200"/>
            <a:ext cx="7270920" cy="45244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will generally give us the same decis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ventional cash flows – cash flow signs change more than once</a:t>
            </a:r>
            <a:endParaRPr b="0" lang="en-US" sz="28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ly exclusive projects</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investments are substantially different (issue of scal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cash flows is substantially different</a:t>
            </a:r>
            <a:endParaRPr b="0" lang="en-US" sz="2400" spc="-1" strike="noStrike">
              <a:solidFill>
                <a:srgbClr val="000000"/>
              </a:solidFill>
              <a:latin typeface="Arial"/>
            </a:endParaRPr>
          </a:p>
        </p:txBody>
      </p:sp>
      <p:sp>
        <p:nvSpPr>
          <p:cNvPr id="15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B73D3F6-CA5F-49B6-A47B-F36348C71D2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31FB4BB-EDD8-47C7-8C12-5E890DA156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Nonconventional </a:t>
            </a:r>
            <a:br>
              <a:rPr sz="4400"/>
            </a:br>
            <a:r>
              <a:rPr b="0" lang="en-US" sz="4400" spc="-1" strike="noStrike">
                <a:solidFill>
                  <a:srgbClr val="000000"/>
                </a:solidFill>
                <a:latin typeface="Arial"/>
              </a:rPr>
              <a:t>Cash Flows</a:t>
            </a:r>
            <a:endParaRPr b="0" lang="en-US" sz="4400" spc="-1" strike="noStrike">
              <a:solidFill>
                <a:srgbClr val="000000"/>
              </a:solidFill>
              <a:latin typeface="Arial"/>
            </a:endParaRPr>
          </a:p>
        </p:txBody>
      </p:sp>
      <p:sp>
        <p:nvSpPr>
          <p:cNvPr id="153"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flows change sign more than once, there is more than one IR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more than one IRR, which one do you use to make your decision?</a:t>
            </a:r>
            <a:endParaRPr b="0" lang="en-US" sz="2800" spc="-1" strike="noStrike">
              <a:solidFill>
                <a:srgbClr val="000000"/>
              </a:solidFill>
              <a:latin typeface="Arial"/>
            </a:endParaRPr>
          </a:p>
        </p:txBody>
      </p:sp>
      <p:sp>
        <p:nvSpPr>
          <p:cNvPr id="15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750306E-8061-4E20-98D4-DB269E004B7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358E6C6-4718-43DC-B505-B0A2E7383A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522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 Nonconventional Cash Flows</a:t>
            </a:r>
            <a:endParaRPr b="0" lang="en-US" sz="4400" spc="-1" strike="noStrike">
              <a:solidFill>
                <a:srgbClr val="000000"/>
              </a:solidFill>
              <a:latin typeface="Arial"/>
            </a:endParaRPr>
          </a:p>
        </p:txBody>
      </p:sp>
      <p:sp>
        <p:nvSpPr>
          <p:cNvPr id="156"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n investment will cost $90,000 initially and will generate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3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150,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sp>
        <p:nvSpPr>
          <p:cNvPr id="15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7ACDB9A-F163-4274-BB87-AE5C977BD5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A4169E4-5FF9-4A8C-80D6-C1C335BD2E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a:t>
            </a:r>
            <a:endParaRPr b="0" lang="en-US" sz="4400" spc="-1" strike="noStrike">
              <a:solidFill>
                <a:srgbClr val="000000"/>
              </a:solidFill>
              <a:latin typeface="Arial"/>
            </a:endParaRPr>
          </a:p>
        </p:txBody>
      </p:sp>
      <p:graphicFrame>
        <p:nvGraphicFramePr>
          <p:cNvPr id="159" name=""/>
          <p:cNvGraphicFramePr/>
          <p:nvPr/>
        </p:nvGraphicFramePr>
        <p:xfrm>
          <a:off x="1415880" y="1600200"/>
          <a:ext cx="7269480" cy="4524480"/>
        </p:xfrm>
        <a:graphic>
          <a:graphicData uri="http://schemas.openxmlformats.org/presentationml/2006/ole">
            <p:oleObj r:id="rId1" spid="">
              <p:embed/>
              <p:pic>
                <p:nvPicPr>
                  <p:cNvPr id="160"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61" name=""/>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0.11% and 42.66%</a:t>
            </a:r>
            <a:endParaRPr b="0" lang="en-US" sz="2400" spc="-1" strike="noStrike">
              <a:solidFill>
                <a:srgbClr val="000000"/>
              </a:solidFill>
              <a:latin typeface="Times New Roman"/>
            </a:endParaRPr>
          </a:p>
        </p:txBody>
      </p:sp>
      <p:sp>
        <p:nvSpPr>
          <p:cNvPr id="16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06C4919-1D3B-44A5-AAB3-3D7DA1C9933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2B64E5D-F9BA-45FA-B5C5-D3F0B286268A}" type="slidenum">
              <a:t>34</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42">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1000"/>
                                        <p:tgtEl>
                                          <p:spTgt spid="161"/>
                                        </p:tgtEl>
                                      </p:cBhvr>
                                    </p:animEffect>
                                    <p:anim calcmode="lin" valueType="num">
                                      <p:cBhvr additive="repl">
                                        <p:cTn id="29" dur="1000" fill="hold"/>
                                        <p:tgtEl>
                                          <p:spTgt spid="161"/>
                                        </p:tgtEl>
                                        <p:attrNameLst>
                                          <p:attrName>ppt_x</p:attrName>
                                        </p:attrNameLst>
                                      </p:cBhvr>
                                      <p:tavLst>
                                        <p:tav tm="0">
                                          <p:val>
                                            <p:strVal val="#ppt_x"/>
                                          </p:val>
                                        </p:tav>
                                        <p:tav tm="100000">
                                          <p:val>
                                            <p:strVal val="#ppt_x"/>
                                          </p:val>
                                        </p:tav>
                                      </p:tavLst>
                                    </p:anim>
                                    <p:anim calcmode="lin" valueType="num">
                                      <p:cBhvr additive="repl">
                                        <p:cTn id="3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 Rules</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PV is positive at a required return of 15%, so you should </a:t>
            </a:r>
            <a:r>
              <a:rPr b="1" i="1" lang="en-US" sz="3200" spc="-1" strike="noStrike">
                <a:solidFill>
                  <a:srgbClr val="000000"/>
                </a:solidFill>
                <a:latin typeface="Arial"/>
              </a:rPr>
              <a:t>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e financial calculator, you would get an IRR of 10.11% which would tell you to </a:t>
            </a:r>
            <a:r>
              <a:rPr b="1" i="1" lang="en-US" sz="3200" spc="-1" strike="noStrike">
                <a:solidFill>
                  <a:srgbClr val="000000"/>
                </a:solidFill>
                <a:latin typeface="Arial"/>
              </a:rPr>
              <a:t>Re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cognize that there are non-conventional cash flows and look at the NPV profile</a:t>
            </a:r>
            <a:endParaRPr b="0" lang="en-US" sz="3200" spc="-1" strike="noStrike">
              <a:solidFill>
                <a:srgbClr val="000000"/>
              </a:solidFill>
              <a:latin typeface="Arial"/>
            </a:endParaRPr>
          </a:p>
        </p:txBody>
      </p:sp>
      <p:sp>
        <p:nvSpPr>
          <p:cNvPr id="16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7006286-63D1-4D0A-B596-4C6994EA8E1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B06BBF0-6312-41A0-9F48-E8B9C31671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Mutually Exclusive Projects</a:t>
            </a:r>
            <a:endParaRPr b="0" lang="en-US" sz="4400" spc="-1" strike="noStrike">
              <a:solidFill>
                <a:srgbClr val="000000"/>
              </a:solidFill>
              <a:latin typeface="Arial"/>
            </a:endParaRPr>
          </a:p>
        </p:txBody>
      </p:sp>
      <p:sp>
        <p:nvSpPr>
          <p:cNvPr id="16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tually exclusive project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oose one, you can’t choose the oth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can choose to attend graduate school at either Harvard or Stanford, but not both</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ly, you would use the following decision rul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choose the project with the higher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choose the project with the higher IRR</a:t>
            </a:r>
            <a:endParaRPr b="0" lang="en-US" sz="2400" spc="-1" strike="noStrike">
              <a:solidFill>
                <a:srgbClr val="000000"/>
              </a:solidFill>
              <a:latin typeface="Arial"/>
            </a:endParaRPr>
          </a:p>
        </p:txBody>
      </p:sp>
      <p:sp>
        <p:nvSpPr>
          <p:cNvPr id="16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A835036-E783-427F-A897-6CD095B0CC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AC447F5-7FC3-4E7E-B582-B571B66BA4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With Mutually </a:t>
            </a:r>
            <a:br>
              <a:rPr sz="4000"/>
            </a:br>
            <a:r>
              <a:rPr b="0" lang="en-US" sz="4000" spc="-1" strike="noStrike">
                <a:solidFill>
                  <a:srgbClr val="000000"/>
                </a:solidFill>
                <a:latin typeface="Arial"/>
              </a:rPr>
              <a:t>Exclusive Projects</a:t>
            </a:r>
            <a:endParaRPr b="0" lang="en-US" sz="4000" spc="-1" strike="noStrike">
              <a:solidFill>
                <a:srgbClr val="000000"/>
              </a:solidFill>
              <a:latin typeface="Arial"/>
            </a:endParaRPr>
          </a:p>
        </p:txBody>
      </p:sp>
      <p:graphicFrame>
        <p:nvGraphicFramePr>
          <p:cNvPr id="170" name=""/>
          <p:cNvGraphicFramePr/>
          <p:nvPr/>
        </p:nvGraphicFramePr>
        <p:xfrm>
          <a:off x="1550880" y="1600200"/>
          <a:ext cx="3944880" cy="4741920"/>
        </p:xfrm>
        <a:graphic>
          <a:graphicData uri="http://schemas.openxmlformats.org/drawingml/2006/table">
            <a:tbl>
              <a:tblPr/>
              <a:tblGrid>
                <a:gridCol w="1316160"/>
                <a:gridCol w="1312920"/>
                <a:gridCol w="13158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1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d return for both projects is 1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roject should you accept and why?</a:t>
            </a:r>
            <a:endParaRPr b="0" lang="en-US" sz="2800" spc="-1" strike="noStrike">
              <a:solidFill>
                <a:srgbClr val="000000"/>
              </a:solidFill>
              <a:latin typeface="Times New Roman"/>
            </a:endParaRPr>
          </a:p>
        </p:txBody>
      </p:sp>
      <p:sp>
        <p:nvSpPr>
          <p:cNvPr id="17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D9D3809-5521-4D33-906D-7D00F6C7157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3825F18-BCC3-4BF0-9847-8DA5F5EB9F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s</a:t>
            </a:r>
            <a:endParaRPr b="0" lang="en-US" sz="4400" spc="-1" strike="noStrike">
              <a:solidFill>
                <a:srgbClr val="000000"/>
              </a:solidFill>
              <a:latin typeface="Arial"/>
            </a:endParaRPr>
          </a:p>
        </p:txBody>
      </p:sp>
      <p:graphicFrame>
        <p:nvGraphicFramePr>
          <p:cNvPr id="174" name=""/>
          <p:cNvGraphicFramePr/>
          <p:nvPr/>
        </p:nvGraphicFramePr>
        <p:xfrm>
          <a:off x="1415880" y="1600200"/>
          <a:ext cx="7269480" cy="4524480"/>
        </p:xfrm>
        <a:graphic>
          <a:graphicData uri="http://schemas.openxmlformats.org/presentationml/2006/ole">
            <p:oleObj r:id="rId1" spid="">
              <p:embed/>
              <p:pic>
                <p:nvPicPr>
                  <p:cNvPr id="175"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76" name=""/>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A = 19.4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B = 22.1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over Point = 11.8%</a:t>
            </a:r>
            <a:endParaRPr b="0" lang="en-US" sz="2400" spc="-1" strike="noStrike">
              <a:solidFill>
                <a:srgbClr val="000000"/>
              </a:solidFill>
              <a:latin typeface="Times New Roman"/>
            </a:endParaRPr>
          </a:p>
        </p:txBody>
      </p:sp>
      <p:sp>
        <p:nvSpPr>
          <p:cNvPr id="17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173D62A-2E05-425C-9F9D-44974C54AC5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24340AC-228B-41B4-B840-0189F5834EB6}" type="slidenum">
              <a:t>38</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42">
                                  <p:stCondLst>
                                    <p:cond delay="0"/>
                                  </p:stCondLst>
                                  <p:childTnLst>
                                    <p:set>
                                      <p:cBhvr>
                                        <p:cTn id="36" dur="1" fill="hold">
                                          <p:stCondLst>
                                            <p:cond delay="0"/>
                                          </p:stCondLst>
                                        </p:cTn>
                                        <p:tgtEl>
                                          <p:spTgt spid="176"/>
                                        </p:tgtEl>
                                        <p:attrNameLst>
                                          <p:attrName>style.visibility</p:attrName>
                                        </p:attrNameLst>
                                      </p:cBhvr>
                                      <p:to>
                                        <p:strVal val="visible"/>
                                      </p:to>
                                    </p:set>
                                    <p:animEffect filter="fade" transition="in">
                                      <p:cBhvr additive="repl">
                                        <p:cTn id="37" dur="1000"/>
                                        <p:tgtEl>
                                          <p:spTgt spid="176"/>
                                        </p:tgtEl>
                                      </p:cBhvr>
                                    </p:animEffect>
                                    <p:anim calcmode="lin" valueType="num">
                                      <p:cBhvr additive="repl">
                                        <p:cTn id="38" dur="1000" fill="hold"/>
                                        <p:tgtEl>
                                          <p:spTgt spid="176"/>
                                        </p:tgtEl>
                                        <p:attrNameLst>
                                          <p:attrName>ppt_x</p:attrName>
                                        </p:attrNameLst>
                                      </p:cBhvr>
                                      <p:tavLst>
                                        <p:tav tm="0">
                                          <p:val>
                                            <p:strVal val="#ppt_x"/>
                                          </p:val>
                                        </p:tav>
                                        <p:tav tm="100000">
                                          <p:val>
                                            <p:strVal val="#ppt_x"/>
                                          </p:val>
                                        </p:tav>
                                      </p:tavLst>
                                    </p:anim>
                                    <p:anim calcmode="lin" valueType="num">
                                      <p:cBhvr additive="repl">
                                        <p:cTn id="39"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s Between NPV and IRR</a:t>
            </a:r>
            <a:endParaRPr b="0" lang="en-US" sz="44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directly measures the increase in value to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ever there is a conflict between NPV and another decision rule, you should </a:t>
            </a:r>
            <a:r>
              <a:rPr b="1" i="1" lang="en-US" sz="2800" spc="-1" strike="noStrike">
                <a:solidFill>
                  <a:srgbClr val="000000"/>
                </a:solidFill>
                <a:latin typeface="Arial"/>
              </a:rPr>
              <a:t>always</a:t>
            </a:r>
            <a:r>
              <a:rPr b="0" lang="en-US" sz="2800" spc="-1" strike="noStrike">
                <a:solidFill>
                  <a:srgbClr val="000000"/>
                </a:solidFill>
                <a:latin typeface="Arial"/>
              </a:rPr>
              <a:t> us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 is unreliable in the following situation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ntional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ly exclusive projects</a:t>
            </a:r>
            <a:endParaRPr b="0" lang="en-US" sz="2400" spc="-1" strike="noStrike">
              <a:solidFill>
                <a:srgbClr val="000000"/>
              </a:solidFill>
              <a:latin typeface="Arial"/>
            </a:endParaRPr>
          </a:p>
        </p:txBody>
      </p:sp>
      <p:sp>
        <p:nvSpPr>
          <p:cNvPr id="18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7C93FB8-63C2-471F-B223-E8990267AA4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B672FC8-9A26-4AF8-876E-D3168718B4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Decision Criteria</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sk ourselves the following questions when evaluating capital budgeting decision ru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the time value of mone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risk?</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provide information on whether we are creating value for the firm?</a:t>
            </a:r>
            <a:endParaRPr b="0" lang="en-US" sz="28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CA08998-F029-4BC0-B054-8483259E7CA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837B8FE-D030-4B22-AA47-FACE798076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ed IRR</a:t>
            </a:r>
            <a:endParaRPr b="0" lang="en-US" sz="4400" spc="-1" strike="noStrike">
              <a:solidFill>
                <a:srgbClr val="000000"/>
              </a:solidFill>
              <a:latin typeface="Arial"/>
            </a:endParaRPr>
          </a:p>
        </p:txBody>
      </p:sp>
      <p:sp>
        <p:nvSpPr>
          <p:cNvPr id="182" name="PlaceHolder 2"/>
          <p:cNvSpPr>
            <a:spLocks noGrp="1"/>
          </p:cNvSpPr>
          <p:nvPr>
            <p:ph/>
          </p:nvPr>
        </p:nvSpPr>
        <p:spPr>
          <a:xfrm>
            <a:off x="1415520" y="1600200"/>
            <a:ext cx="7270920" cy="4524480"/>
          </a:xfrm>
          <a:prstGeom prst="rect">
            <a:avLst/>
          </a:prstGeom>
          <a:noFill/>
          <a:ln w="0">
            <a:noFill/>
          </a:ln>
        </p:spPr>
        <p:txBody>
          <a:bodyPr anchor="t">
            <a:normAutofit fontScale="94000"/>
          </a:bodyPr>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present value of all cash outflows using the borrow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future value of all cash inflows using the invest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rate of return that equates these values.</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single answer and specific rates for borrowing and reinvestment</a:t>
            </a:r>
            <a:endParaRPr b="0" lang="en-US" sz="3200" spc="-1" strike="noStrike">
              <a:solidFill>
                <a:srgbClr val="000000"/>
              </a:solidFill>
              <a:latin typeface="Arial"/>
            </a:endParaRPr>
          </a:p>
        </p:txBody>
      </p:sp>
      <p:sp>
        <p:nvSpPr>
          <p:cNvPr id="18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EB54775-AB9E-4577-94DD-FCF9646E4B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3AF2A9B-A465-455E-92F5-5521EBDFF4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ability Index</a:t>
            </a:r>
            <a:endParaRPr b="0" lang="en-US" sz="4400" spc="-1" strike="noStrike">
              <a:solidFill>
                <a:srgbClr val="000000"/>
              </a:solidFill>
              <a:latin typeface="Arial"/>
            </a:endParaRPr>
          </a:p>
        </p:txBody>
      </p:sp>
      <p:sp>
        <p:nvSpPr>
          <p:cNvPr id="1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benefit per unit cost, based on the time value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ility index of 1.1 implies that for every $1 of investment, we create an additional $0.10 in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can be very useful in situations in which we have limited capital</a:t>
            </a:r>
            <a:endParaRPr b="0" lang="en-US" sz="3200" spc="-1" strike="noStrike">
              <a:solidFill>
                <a:srgbClr val="000000"/>
              </a:solidFill>
              <a:latin typeface="Arial"/>
            </a:endParaRPr>
          </a:p>
        </p:txBody>
      </p:sp>
      <p:sp>
        <p:nvSpPr>
          <p:cNvPr id="18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6A99B21-5FB5-4A1A-B6CA-476DDACFA6B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7BAE75C-AA52-46FC-AB4A-DA5A12A7AC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Profitability Index</a:t>
            </a:r>
            <a:endParaRPr b="0" lang="en-US" sz="4000" spc="-1" strike="noStrike">
              <a:solidFill>
                <a:srgbClr val="000000"/>
              </a:solidFill>
              <a:latin typeface="Arial"/>
            </a:endParaRPr>
          </a:p>
        </p:txBody>
      </p:sp>
      <p:sp>
        <p:nvSpPr>
          <p:cNvPr id="188" name="PlaceHolder 2"/>
          <p:cNvSpPr>
            <a:spLocks noGrp="1"/>
          </p:cNvSpPr>
          <p:nvPr>
            <p:ph/>
          </p:nvPr>
        </p:nvSpPr>
        <p:spPr>
          <a:xfrm>
            <a:off x="1371600" y="1793520"/>
            <a:ext cx="3733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related to NPV, generally leading to identical decis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 and communic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useful when available investment funds are limited</a:t>
            </a:r>
            <a:endParaRPr b="0" lang="en-US" sz="2400" spc="-1" strike="noStrike">
              <a:solidFill>
                <a:srgbClr val="000000"/>
              </a:solidFill>
              <a:latin typeface="Arial"/>
            </a:endParaRPr>
          </a:p>
        </p:txBody>
      </p:sp>
      <p:sp>
        <p:nvSpPr>
          <p:cNvPr id="189" name="PlaceHolder 3"/>
          <p:cNvSpPr>
            <a:spLocks noGrp="1"/>
          </p:cNvSpPr>
          <p:nvPr>
            <p:ph/>
          </p:nvPr>
        </p:nvSpPr>
        <p:spPr>
          <a:xfrm>
            <a:off x="5105160" y="1793520"/>
            <a:ext cx="37306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lead to incorrect decisions in comparisons of mutually exclusive investments</a:t>
            </a:r>
            <a:endParaRPr b="0" lang="en-US" sz="2400" spc="-1" strike="noStrike">
              <a:solidFill>
                <a:srgbClr val="000000"/>
              </a:solidFill>
              <a:latin typeface="Arial"/>
            </a:endParaRPr>
          </a:p>
        </p:txBody>
      </p:sp>
      <p:sp>
        <p:nvSpPr>
          <p:cNvPr id="19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C554CBC-017D-48BF-81AA-0319E952C8C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E6943319-E55E-4823-9A51-9A8C3FEFE5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Budgeting In Practice</a:t>
            </a:r>
            <a:endParaRPr b="0" lang="en-US" sz="4400" spc="-1" strike="noStrike">
              <a:solidFill>
                <a:srgbClr val="000000"/>
              </a:solidFill>
              <a:latin typeface="Arial"/>
            </a:endParaRPr>
          </a:p>
        </p:txBody>
      </p:sp>
      <p:sp>
        <p:nvSpPr>
          <p:cNvPr id="1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consider several investment criteria when making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are the most commonly used primary investmen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is a commonly used secondary investment criteria</a:t>
            </a:r>
            <a:endParaRPr b="0" lang="en-US" sz="3200" spc="-1" strike="noStrike">
              <a:solidFill>
                <a:srgbClr val="000000"/>
              </a:solidFill>
              <a:latin typeface="Arial"/>
            </a:endParaRPr>
          </a:p>
        </p:txBody>
      </p:sp>
      <p:sp>
        <p:nvSpPr>
          <p:cNvPr id="19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27D3B79-0161-4FC4-A91F-0535F7ADFE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2BE42F-31C6-4ACA-AC44-1FD11414EF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 DCF Criteria</a:t>
            </a:r>
            <a:endParaRPr b="0" lang="en-US" sz="3600" spc="-1" strike="noStrike">
              <a:solidFill>
                <a:srgbClr val="000000"/>
              </a:solidFill>
              <a:latin typeface="Arial"/>
            </a:endParaRPr>
          </a:p>
        </p:txBody>
      </p:sp>
      <p:sp>
        <p:nvSpPr>
          <p:cNvPr id="195" name="PlaceHolder 2"/>
          <p:cNvSpPr>
            <a:spLocks noGrp="1"/>
          </p:cNvSpPr>
          <p:nvPr>
            <p:ph/>
          </p:nvPr>
        </p:nvSpPr>
        <p:spPr>
          <a:xfrm>
            <a:off x="1523880" y="1295280"/>
            <a:ext cx="731520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present value</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market value and cost</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NPV is positive</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no serious problem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red decision criterio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rate of return</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that makes NPV = 0</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IRR is greater than the required return</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cision as NPV with conventional cash flow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unreliable with nonconventional cash flows or mutually exclusive project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Index</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cost ratio</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vestment if PI &gt; 1</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used to rank mutually exclusive project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used to rank projects in the presence of capital rationing</a:t>
            </a:r>
            <a:endParaRPr b="0" lang="en-US" sz="1800" spc="-1" strike="noStrike">
              <a:solidFill>
                <a:srgbClr val="000000"/>
              </a:solidFill>
              <a:latin typeface="Arial"/>
            </a:endParaRPr>
          </a:p>
        </p:txBody>
      </p:sp>
      <p:sp>
        <p:nvSpPr>
          <p:cNvPr id="19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0EA8E1F-6E08-4C0A-803C-1D346B3BDA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593B719-DECE-403A-AB83-C9925B50F0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Payback Criteria</a:t>
            </a:r>
            <a:endParaRPr b="0" lang="en-US" sz="4400" spc="-1" strike="noStrike">
              <a:solidFill>
                <a:srgbClr val="000000"/>
              </a:solidFill>
              <a:latin typeface="Arial"/>
            </a:endParaRPr>
          </a:p>
        </p:txBody>
      </p:sp>
      <p:sp>
        <p:nvSpPr>
          <p:cNvPr id="198" name="PlaceHolder 2"/>
          <p:cNvSpPr>
            <a:spLocks noGrp="1"/>
          </p:cNvSpPr>
          <p:nvPr>
            <p:ph/>
          </p:nvPr>
        </p:nvSpPr>
        <p:spPr>
          <a:xfrm>
            <a:off x="1523520" y="16761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with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account for time value of money, and there is an arbitrary cutoff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ed 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 on a discounted basi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arbitrary cutoff period</a:t>
            </a:r>
            <a:endParaRPr b="0" lang="en-US" sz="2000" spc="-1" strike="noStrike">
              <a:solidFill>
                <a:srgbClr val="000000"/>
              </a:solidFill>
              <a:latin typeface="Arial"/>
            </a:endParaRPr>
          </a:p>
        </p:txBody>
      </p:sp>
      <p:sp>
        <p:nvSpPr>
          <p:cNvPr id="19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F102A7C-8DB4-47AD-A374-AE3327D21A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3EE72F-5D46-42A5-9036-81022E19BF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Accounting Criterion</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Accounting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of accounting profit relative to book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return on assets meas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he investment if the AAR exceeds some specified return leve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and should not be used</a:t>
            </a:r>
            <a:endParaRPr b="0" lang="en-US" sz="2800" spc="-1" strike="noStrike">
              <a:solidFill>
                <a:srgbClr val="000000"/>
              </a:solidFill>
              <a:latin typeface="Arial"/>
            </a:endParaRPr>
          </a:p>
        </p:txBody>
      </p:sp>
      <p:sp>
        <p:nvSpPr>
          <p:cNvPr id="20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3BD9AD1-8CC1-4E45-8CDA-B0C9E4974D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DF57673-A455-4BDD-AD58-21FF2B472D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204" name="PlaceHolder 2"/>
          <p:cNvSpPr>
            <a:spLocks noGrp="1"/>
          </p:cNvSpPr>
          <p:nvPr>
            <p:ph/>
          </p:nvPr>
        </p:nvSpPr>
        <p:spPr>
          <a:xfrm>
            <a:off x="1447560" y="1371240"/>
            <a:ext cx="7391160" cy="47242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that costs $100,000 and has a cash inflow of $25,000 every year for 5 years. The required return is 9%, and required payback is 4 years.</a:t>
            </a:r>
            <a:endParaRPr b="0" lang="en-US" sz="28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discounted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NPV?</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IRR?</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uld we accept the project?</a:t>
            </a:r>
            <a:endParaRPr b="0" lang="en-US" sz="27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 rule should be the primary decision metho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the IRR rule unreliable?</a:t>
            </a:r>
            <a:endParaRPr b="0" lang="en-US" sz="2800" spc="-1" strike="noStrike">
              <a:solidFill>
                <a:srgbClr val="000000"/>
              </a:solidFill>
              <a:latin typeface="Arial"/>
            </a:endParaRPr>
          </a:p>
        </p:txBody>
      </p:sp>
      <p:sp>
        <p:nvSpPr>
          <p:cNvPr id="20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2F91BF3-6272-4D29-AE2B-AB3D09717EF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C114AAB-A455-4593-A426-F512AB58CD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207" name="PlaceHolder 2"/>
          <p:cNvSpPr>
            <a:spLocks noGrp="1"/>
          </p:cNvSpPr>
          <p:nvPr>
            <p:ph/>
          </p:nvPr>
        </p:nvSpPr>
        <p:spPr>
          <a:xfrm>
            <a:off x="1447560" y="1371600"/>
            <a:ext cx="7467480" cy="51055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C poll in the spring of 2004 found that one-third of students age 12 – 17 admitted to cheating and the percentage increased as the students got older and felt more grade pressure. If a book entitled “How to Cheat: A User’s Guide” would generate a positive NPV, would it be proper for a publishing company to offer the new book?</a:t>
            </a:r>
            <a:endParaRPr b="0" lang="en-US" sz="2400" spc="-1" strike="noStrike">
              <a:solidFill>
                <a:srgbClr val="000000"/>
              </a:solidFill>
              <a:latin typeface="Arial"/>
            </a:endParaRPr>
          </a:p>
          <a:p>
            <a:pPr marL="33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 firm exceed the minimum legal limits of government imposed environmental regulations and be responsible for the environment, even if this responsibility leads to a wealth reduction for the firm? Is environmental damage merely a cost of doing busines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unicipalities offer monetary incentives to induce firms to relocate to their areas?</a:t>
            </a:r>
            <a:endParaRPr b="0" lang="en-US" sz="2400" spc="-1" strike="noStrike">
              <a:solidFill>
                <a:srgbClr val="000000"/>
              </a:solidFill>
              <a:latin typeface="Arial"/>
            </a:endParaRPr>
          </a:p>
        </p:txBody>
      </p:sp>
      <p:sp>
        <p:nvSpPr>
          <p:cNvPr id="20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DCBB196-DFC3-48C9-AF5E-C506E9D1F9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3B7E98F-A89B-45D5-908D-A9E585C170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210" name="PlaceHolder 2"/>
          <p:cNvSpPr>
            <a:spLocks noGrp="1"/>
          </p:cNvSpPr>
          <p:nvPr>
            <p:ph/>
          </p:nvPr>
        </p:nvSpPr>
        <p:spPr>
          <a:xfrm>
            <a:off x="1447560" y="1371240"/>
            <a:ext cx="7467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ment project has the following cash flows: CF0 = -1,000,000; C01 – C08 = 200,000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quired rate of return is 12%, what decision should be made using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e IRR decision rule be used for this project, and what decision would be reac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 above two decisions related? </a:t>
            </a:r>
            <a:endParaRPr b="0" lang="en-US" sz="2800" spc="-1" strike="noStrike">
              <a:solidFill>
                <a:srgbClr val="000000"/>
              </a:solidFill>
              <a:latin typeface="Arial"/>
            </a:endParaRPr>
          </a:p>
        </p:txBody>
      </p:sp>
      <p:sp>
        <p:nvSpPr>
          <p:cNvPr id="21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1255167-A007-45FD-822D-CDCE899D60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F4E893D-A6F1-4CCB-8AA5-61A9BD82BD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Present Value</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market value of a project and its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value is created from undertaking an investmen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estimate the expected futur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step is to estimate the required return for projects of this risk leve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step is to find the present value of the cash flows and subtract the initial investment.</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7A0C915-B11E-4A1F-A642-5594F735F20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ED50B06-4AE4-423E-9D47-497730468C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28800" y="2437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05A238E-BD15-4CE6-9B26-58B85F6E2A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1211B73-A64F-4991-864D-B09955650641}"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Example Information</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viewing a new project and have estimated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a:t>
            </a:r>
            <a:r>
              <a:rPr b="0" lang="en-US" sz="2400" spc="-1" strike="noStrike">
                <a:solidFill>
                  <a:srgbClr val="000000"/>
                </a:solidFill>
                <a:latin typeface="Arial"/>
              </a:rPr>
              <a:t>	</a:t>
            </a:r>
            <a:r>
              <a:rPr b="0" lang="en-US" sz="2400" spc="-1" strike="noStrike">
                <a:solidFill>
                  <a:srgbClr val="000000"/>
                </a:solidFill>
                <a:latin typeface="Arial"/>
              </a:rPr>
              <a:t>CF = -16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a:t>
            </a:r>
            <a:r>
              <a:rPr b="0" lang="en-US" sz="2400" spc="-1" strike="noStrike">
                <a:solidFill>
                  <a:srgbClr val="000000"/>
                </a:solidFill>
                <a:latin typeface="Arial"/>
              </a:rPr>
              <a:t>	</a:t>
            </a:r>
            <a:r>
              <a:rPr b="0" lang="en-US" sz="2400" spc="-1" strike="noStrike">
                <a:solidFill>
                  <a:srgbClr val="000000"/>
                </a:solidFill>
                <a:latin typeface="Arial"/>
              </a:rPr>
              <a:t>CF = 63,120; NI = 13,6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a:t>
            </a:r>
            <a:r>
              <a:rPr b="0" lang="en-US" sz="2400" spc="-1" strike="noStrike">
                <a:solidFill>
                  <a:srgbClr val="000000"/>
                </a:solidFill>
                <a:latin typeface="Arial"/>
              </a:rPr>
              <a:t>	</a:t>
            </a:r>
            <a:r>
              <a:rPr b="0" lang="en-US" sz="2400" spc="-1" strike="noStrike">
                <a:solidFill>
                  <a:srgbClr val="000000"/>
                </a:solidFill>
                <a:latin typeface="Arial"/>
              </a:rPr>
              <a:t>CF = 70,800; NI = 3,3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a:t>
            </a:r>
            <a:r>
              <a:rPr b="0" lang="en-US" sz="2400" spc="-1" strike="noStrike">
                <a:solidFill>
                  <a:srgbClr val="000000"/>
                </a:solidFill>
                <a:latin typeface="Arial"/>
              </a:rPr>
              <a:t>	</a:t>
            </a:r>
            <a:r>
              <a:rPr b="0" lang="en-US" sz="2400" spc="-1" strike="noStrike">
                <a:solidFill>
                  <a:srgbClr val="000000"/>
                </a:solidFill>
                <a:latin typeface="Arial"/>
              </a:rPr>
              <a:t>CF = 91,080; NI = 29,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Book Value = 72,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d return for assets of this risk level is 12%.</a:t>
            </a: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9E248C5-982E-4773-9E88-BC159E45525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347B497-66BF-44F4-B1AF-C0B1C6CD12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 Decision Rule</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NPV is positive, accept th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means that the project is expected to add value to the firm and will therefore increase the wealth of the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ur goal is to increase owner wealth, NPV is a direct measure of how well this project will meet our goal.</a:t>
            </a:r>
            <a:endParaRPr b="0" lang="en-US" sz="28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F92DEC5-2E43-454C-B3AC-E29EA200F6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8993E88-AD0E-43B9-BA15-2DAAEBE5EC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NPV for the Project</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rmula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165,000 + 63,120/(1.12) + 70,800/(1.12)</a:t>
            </a:r>
            <a:r>
              <a:rPr b="0" lang="en-US" sz="2400" spc="-1" strike="noStrike" baseline="30000">
                <a:solidFill>
                  <a:srgbClr val="000000"/>
                </a:solidFill>
                <a:latin typeface="Arial"/>
              </a:rPr>
              <a:t>2</a:t>
            </a:r>
            <a:r>
              <a:rPr b="0" lang="en-US" sz="2400" spc="-1" strike="noStrike">
                <a:solidFill>
                  <a:srgbClr val="000000"/>
                </a:solidFill>
                <a:latin typeface="Arial"/>
              </a:rPr>
              <a:t> + 91,080/(1.12)</a:t>
            </a:r>
            <a:r>
              <a:rPr b="0" lang="en-US" sz="2400" spc="-1" strike="noStrike" baseline="30000">
                <a:solidFill>
                  <a:srgbClr val="000000"/>
                </a:solidFill>
                <a:latin typeface="Arial"/>
              </a:rPr>
              <a:t>3</a:t>
            </a:r>
            <a:r>
              <a:rPr b="0" lang="en-US" sz="2400" spc="-1" strike="noStrike">
                <a:solidFill>
                  <a:srgbClr val="000000"/>
                </a:solidFill>
                <a:latin typeface="Arial"/>
              </a:rPr>
              <a:t>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65,000; C01 = 63,120; F01 = 1; C02 = 70,800; F02 = 1; C03 = 91,080; F03 = 1; NPV; I = 12; CPT NPV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CC1275D-7838-46F2-A506-9BCA8A31C5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5C1D902-2FB2-4653-8189-DDB6CA411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NPV</a:t>
            </a:r>
            <a:endParaRPr b="0" lang="en-US" sz="4400" spc="-1" strike="noStrike">
              <a:solidFill>
                <a:srgbClr val="000000"/>
              </a:solidFill>
              <a:latin typeface="Arial"/>
            </a:endParaRPr>
          </a:p>
        </p:txBody>
      </p:sp>
      <p:sp>
        <p:nvSpPr>
          <p:cNvPr id="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NPV rule for our primary decision rule?</a:t>
            </a:r>
            <a:endParaRPr b="0" lang="en-US" sz="28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C1DCFA3-98A1-4550-9F4F-ED1242A8E68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8CC1DEA-22C2-4CB2-88E2-AAA0322D60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mageshkumar.s</cp:lastModifiedBy>
  <dcterms:modified xsi:type="dcterms:W3CDTF">2009-02-13T05:40:41Z</dcterms:modified>
  <cp:revision>45</cp:revision>
  <dc:subject/>
  <dc:title>Net Present Value and Other Investment Criteria</dc:title>
</cp:coreProperties>
</file>