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ABF9BB59-B157-4D68-A531-75954FBF2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CED80-AA9B-44A9-8784-C3E097D39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DC085-21C7-4E9D-98EB-6FC31500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7A881-4B75-4E17-9320-55340CE60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79E85-61DC-45F9-9551-BC3158196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645D-7D19-432F-841B-2D374B613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B176-0606-44D1-A9F8-AAC3880F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99E5-988B-4B1F-B7F3-430CF202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CDE6-4259-4B68-946F-2B13F19D6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433A2-5969-4A34-96AA-C82137528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F1F4-849E-4CA3-8597-A7A13352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DEF3-9CE2-4B8C-9878-F760971A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3238-ED40-49D1-854E-5E8145F12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30D9DBE-91E2-49E1-B7B2-FC65C063B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
          <p:cNvGraphicFramePr/>
          <p:nvPr/>
        </p:nvGraphicFramePr>
        <p:xfrm>
          <a:off x="7620120" y="914400"/>
          <a:ext cx="1523880" cy="1143000"/>
        </p:xfrm>
        <a:graphic>
          <a:graphicData uri="http://schemas.openxmlformats.org/presentationml/2006/ole">
            <p:oleObj progId="Excel.Sheet.12" r:id="rId1" spid="">
              <p:embed/>
              <p:pic>
                <p:nvPicPr>
                  <p:cNvPr id="80" name=""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181109C-196B-482B-9B68-F09CEF7145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F8B033-9B07-4D55-ABE3-2E8279FA1A5C}"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70B3604-1209-4219-B0D5-3B63AEAD0B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005D149-07F0-428A-908D-CFCFD2E4A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081789B-5FC0-45EA-9180-E24AEDFB78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B17C78-CE47-43FE-B8A2-9DEB9BCE66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55D2575-50DA-45CF-A749-17360A3D36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10F9A2-B573-42F0-B610-7E15E7368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248FEB6-5708-4C78-AA31-E7BFA35EB48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A7B3040E-790C-46FD-812F-7E2A7943A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B117062-534C-4059-8A3E-32BC7FBEEC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533610C-5E52-450F-824D-2CFBA9ADD9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2F97164-1815-4579-811F-274B141A61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E0EC96-FFCC-43C1-B63E-458A17117E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8EB8311-1C02-475E-9DCE-6957CCC1F6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94A869-D152-4247-9D6E-0BA3D548EB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BABFBCB-919F-47A5-AEDB-AF4D297DEF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555FD197-CF29-4575-B367-19FD7EE609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EED27AE-32DB-4EB0-A38E-74F35E040B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3518C4A-6256-43ED-AB2E-22A4FE6253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73ADBDC-1FE8-4995-80C0-1162B0AA42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EAADA3-CF2C-4958-BDF0-A56010EB8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88755EB-1862-40C8-AFB1-18E64747D8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8585C0-3BF3-4B7E-88AE-610C238C0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0368E4A-2CD1-4043-B160-5B90FC4251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8B25A9-291C-46C1-9F67-D56DD76F7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BD8526F-B662-4162-A7DD-DE7284E487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0B9AB68B-A06A-4069-A4BB-311BC72490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664848E-AE4F-4E44-A8BB-BFE1B42016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B9B891-5491-420B-8D4A-6B8537D5D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CBF1CED-A265-45ED-816D-346343D620E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318CAE-3CCB-4ADF-AFBD-B13E24AA5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04E96D2-8915-4157-BCB8-A4037989D6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E4A2C1-C2E2-4E23-91A3-722B1D99D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
          <p:cNvGraphicFramePr/>
          <p:nvPr/>
        </p:nvGraphicFramePr>
        <p:xfrm>
          <a:off x="1415880" y="1600200"/>
          <a:ext cx="7269480" cy="4524480"/>
        </p:xfrm>
        <a:graphic>
          <a:graphicData uri="http://schemas.openxmlformats.org/presentationml/2006/ole">
            <p:oleObj r:id="rId1" spid="">
              <p:embed/>
              <p:pic>
                <p:nvPicPr>
                  <p:cNvPr id="132"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Times New Roman"/>
            </a:endParaRPr>
          </a:p>
        </p:txBody>
      </p:sp>
      <p:sp>
        <p:nvSpPr>
          <p:cNvPr id="13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4A1A308-86D9-48ED-9597-2EC9D092CC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B96FA43-FEF4-4A3F-BD73-FFDCE1AE0FB8}" type="slidenum">
              <a:t>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187B802-6E97-481F-A25F-6F661CAA24A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C5D86CF-EA40-43FE-891C-B7FD83CD85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676D945-CD78-4FF5-BB91-3B71E2681C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3C1B09-866F-4815-9035-2EEA89EA8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
          <p:cNvGraphicFramePr/>
          <p:nvPr/>
        </p:nvGraphicFramePr>
        <p:xfrm>
          <a:off x="7543800" y="2286000"/>
          <a:ext cx="1219320" cy="898560"/>
        </p:xfrm>
        <a:graphic>
          <a:graphicData uri="http://schemas.openxmlformats.org/presentationml/2006/ole">
            <p:oleObj progId="Excel.Sheet.12" r:id="rId1" spid="">
              <p:embed/>
              <p:pic>
                <p:nvPicPr>
                  <p:cNvPr id="144" name=""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ABA4E9F-BBEF-4A07-9874-20DE59160A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313188-80CC-4722-81C1-8392DEBE8BEC}" type="slidenum">
              <a:t>29</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A762BE6-31E3-4D04-A86C-50BB3D501A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C8BA1A-776C-4942-A81E-2F1E5CC40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440">
                <a:tc grid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566212E-A79A-4380-BFC1-907A0B7D0E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3FD1E39-16A2-4F32-BEBE-6E50540E5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51B496F-4C3D-4E9B-840A-4938554DB9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DAC1EF-8854-4618-B738-B03CA3D518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C4EFCF7-1591-472D-896E-97AA947E70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64DF0A-D93D-4C60-AF62-E7219CD16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115E004-7BAC-4D6B-8DB6-2DC275B0D4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635F7F-FEB6-4E5C-8ABD-01C9AEED10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
          <p:cNvGraphicFramePr/>
          <p:nvPr/>
        </p:nvGraphicFramePr>
        <p:xfrm>
          <a:off x="1415880" y="1600200"/>
          <a:ext cx="7269480" cy="4524480"/>
        </p:xfrm>
        <a:graphic>
          <a:graphicData uri="http://schemas.openxmlformats.org/presentationml/2006/ole">
            <p:oleObj r:id="rId1" spid="">
              <p:embed/>
              <p:pic>
                <p:nvPicPr>
                  <p:cNvPr id="160"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Times New Roman"/>
            </a:endParaRPr>
          </a:p>
        </p:txBody>
      </p:sp>
      <p:sp>
        <p:nvSpPr>
          <p:cNvPr id="16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5928C74-78A9-43F1-9583-DA8D95885C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3C4731A-521F-4AD9-9D3E-4FF2D0826CAF}" type="slidenum">
              <a:t>3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5290871-C9B1-40E9-BEAC-748D9D8EAF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39DD9F-652F-4586-A396-C6F27B9FDD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6B7E9C0-D586-4ED1-ADA3-6A124E0097F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F73F7F-470B-4B34-BABC-4C3CCBC45B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Times New Roman"/>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57EBFD6-606B-46B3-8E88-43412C5A03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995A66C-AF92-45E1-A2BA-C485C249E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
          <p:cNvGraphicFramePr/>
          <p:nvPr/>
        </p:nvGraphicFramePr>
        <p:xfrm>
          <a:off x="1415880" y="1600200"/>
          <a:ext cx="7269480" cy="4524480"/>
        </p:xfrm>
        <a:graphic>
          <a:graphicData uri="http://schemas.openxmlformats.org/presentationml/2006/ole">
            <p:oleObj r:id="rId1" spid="">
              <p:embed/>
              <p:pic>
                <p:nvPicPr>
                  <p:cNvPr id="175"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Times New Roman"/>
            </a:endParaRPr>
          </a:p>
        </p:txBody>
      </p:sp>
      <p:sp>
        <p:nvSpPr>
          <p:cNvPr id="17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8B4CB9D-0695-49E1-9646-6946A06195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668C6D9-5143-4268-8104-98A457839888}" type="slidenum">
              <a:t>38</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37FA61C-8B73-49F6-AB3B-FC76EF4066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97A6CF-70E2-4B7D-85D8-917B70BCFF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661B426-0034-41AB-BA62-5FA0864FDE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77AE10-9CA6-4E24-924A-89307B9A1D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BF038BD-D39D-47E1-A0CA-3F539616F1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795D137-4FB4-4295-A8C6-3D2B29D9DD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86AC5AD-945B-4FCD-99B5-4D1DCDF9C5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457675-FF3F-4330-94C6-700B031EB9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D2C0D81-6949-41F0-A0BC-CB1B44A7B0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67607942-5752-4C09-B839-01B6BBB458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DD97381-A904-4651-9990-A6354CC23C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A8947C8-DFCF-4CAD-AA79-C98FA5BE99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2BEA867-C6A9-4DF3-8C78-1CF14492F2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384E0A8-130B-4719-A2AF-6326AA2827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60859D3-CED1-4F6F-8761-9DA6591598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ED4548-2E5C-4BBC-8D0B-0EB7A677E7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5C136FB-FA8A-49F2-9950-7F6670DD589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244EB0-1DBD-465D-AC2C-B571577187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D1A7F9F-D8CD-4C88-AEC1-95C0E9A4B4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108FD3-C340-41C4-87B7-BC18063E62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FE061A8-6FAE-455E-A2F6-0C2674E0592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FDFE3D-0D57-4676-8C88-3EC643D341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6CE077C-7711-403C-8F12-4C661BE713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66E88E5-5156-40C7-971B-DFF04666D4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7897AD8-FF10-45A3-A158-108D2CA7A1F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1D2D2B-B45D-4ACA-B72B-EE04C29B0A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76871C5-8929-47D7-8ACD-85BD8AA3B3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737B20D-D732-423D-9F20-9D9B6D24C619}"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8D589F1-F3B8-4C5D-87C7-BCD9660C825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D60FEF-0210-4F71-9171-B4FD14D464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7F8EBEE-DF0F-4DFE-B47C-153C9C0540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047DB3-C403-41E0-A6A3-E9CFBA6E71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49EDA0A-8708-4AAD-8B81-CA9A738AD5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7B8C80-66F0-4B4F-B1DE-A8CADC5DE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82D575B-1139-493C-9CED-CA26788326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96A98B9-DED7-483D-A339-A904189C1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mageshkumar.s</cp:lastModifiedBy>
  <dcterms:modified xsi:type="dcterms:W3CDTF">2009-02-13T05:40:41Z</dcterms:modified>
  <cp:revision>45</cp:revision>
  <dc:subject/>
  <dc:title>Net Present Value and Other Investment Criteria</dc:title>
</cp:coreProperties>
</file>