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A6CEF-575E-4B79-AFA9-DA1D7FECAF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cture Tip:</a:t>
            </a:r>
            <a:r>
              <a:rPr b="0" lang="en-US" sz="1200" spc="-1" strike="noStrike">
                <a:solidFill>
                  <a:srgbClr val="000000"/>
                </a:solidFill>
                <a:latin typeface="Arial"/>
              </a:rPr>
              <a:t> A very useful software is </a:t>
            </a:r>
            <a:r>
              <a:rPr b="0" i="1" lang="en-US" sz="1200" spc="-1" strike="noStrike">
                <a:solidFill>
                  <a:srgbClr val="000000"/>
                </a:solidFill>
                <a:latin typeface="Arial"/>
              </a:rPr>
              <a:t>Crystal Ball</a:t>
            </a:r>
            <a:r>
              <a:rPr b="0" lang="en-US" sz="1200" spc="-1" strike="noStrike">
                <a:solidFill>
                  <a:srgbClr val="000000"/>
                </a:solidFill>
                <a:latin typeface="Arial"/>
              </a:rPr>
              <a:t>, which is a simulation package that integrates with Excel. It is relatively inexpensive, yet it is very useful for basic-to-moderate simulation analysis. For example, the software allows you to build models (such as NPV) in Excel, then define the assumptions behind the inputs (such as distribution, possible extreme values, etc.), as well as the interaction (i.e., correlation) between the inputs. Output is then generated based on a simulation of 1,000 runs, providing distribution analysis and numerical summary statist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 1000 units: TC = 3000 + 15*1000 = 18,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 5000 units: TC = 3000 + 15*5000 = 78,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cture Tip: </a:t>
            </a:r>
            <a:r>
              <a:rPr b="0" lang="en-US" sz="1200" spc="-1" strike="noStrike">
                <a:solidFill>
                  <a:srgbClr val="000000"/>
                </a:solidFill>
                <a:latin typeface="Arial"/>
              </a:rPr>
              <a:t>You may wish to emphasize that, in computing total variable costs, the only relevant costs are those that are directly related to the manufacture and sale of the product. Allocated (or indirect) costs should not enter the analysis. Suggest to the students that when they are uncertain, they should use the “with/without” criterion: will the costs be different if the investment is made? If not, the cost is, by definition, not directly related to the decision and should not be included.</a:t>
            </a:r>
            <a:br>
              <a:rPr sz="1200"/>
            </a:b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cture Tip:</a:t>
            </a:r>
            <a:r>
              <a:rPr b="1" i="1" lang="en-US" sz="1200" spc="-1" strike="noStrike">
                <a:solidFill>
                  <a:srgbClr val="000000"/>
                </a:solidFill>
                <a:latin typeface="Arial"/>
              </a:rPr>
              <a:t> </a:t>
            </a:r>
            <a:r>
              <a:rPr b="0" lang="en-US" sz="1200" spc="-1" strike="noStrike">
                <a:solidFill>
                  <a:srgbClr val="000000"/>
                </a:solidFill>
                <a:latin typeface="Arial"/>
              </a:rPr>
              <a:t>Students should recognize that as quantity increases, total fixed costs remain constant, but, on a per unit basis, they decrease with increasing volume. And, as quantity increases, total cost per unit approaches variable cost per unit. If a company expects a high unit sales volume, the company may desire to exploit the possible economies of scale by investing more in fixed costs in an effort to lower variable cost per unit. However, this could create future financial problems if sales expectations fail to materialize. You might mention that this sensitivity to earnings declines will be examined later in this chapter through the discussion of the degree of operating leverage.</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ish to expand on this issue, there is an example provided in the I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reak-even occurs where operating cash flow = 0.</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Lecture Tip:</a:t>
            </a:r>
            <a:r>
              <a:rPr b="0" i="1" lang="en-US" sz="1200" spc="-1" strike="noStrike">
                <a:solidFill>
                  <a:srgbClr val="000000"/>
                </a:solidFill>
                <a:latin typeface="Arial"/>
              </a:rPr>
              <a:t> Inquisitive students may ask how the computations change when you include taxes. The equations change as follows:</a:t>
            </a:r>
            <a:br>
              <a:rPr sz="1200"/>
            </a:br>
            <a:br>
              <a:rPr sz="1200"/>
            </a:br>
            <a:r>
              <a:rPr b="0" i="1" lang="en-US" sz="1200" spc="-1" strike="noStrike">
                <a:solidFill>
                  <a:srgbClr val="000000"/>
                </a:solidFill>
                <a:latin typeface="Arial"/>
              </a:rPr>
              <a:t>OCF = [(P – v)Q – FC – D](1 – T) + D</a:t>
            </a:r>
            <a:br>
              <a:rPr sz="1200"/>
            </a:br>
            <a:br>
              <a:rPr sz="1200"/>
            </a:br>
            <a:r>
              <a:rPr b="0" i="1" lang="en-US" sz="1200" spc="-1" strike="noStrike">
                <a:solidFill>
                  <a:srgbClr val="000000"/>
                </a:solidFill>
                <a:latin typeface="Arial"/>
              </a:rPr>
              <a:t>Use a tax rate = 40% and rework the Wettways example from the book:</a:t>
            </a:r>
            <a:endParaRPr b="0" lang="en-US" sz="1200" spc="-1" strike="noStrike">
              <a:solidFill>
                <a:srgbClr val="000000"/>
              </a:solidFill>
              <a:latin typeface="Arial"/>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eed 1170 in OCF to break-even on a financial basis</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CF = [(40 – 20)(Q) – 500 – 700](1 - .4) + 700 = 1170</a:t>
            </a:r>
            <a:br>
              <a:rPr sz="1200"/>
            </a:br>
            <a:br>
              <a:rPr sz="1200"/>
            </a:br>
            <a:r>
              <a:rPr b="0" i="1" lang="en-US" sz="1200" spc="-1" strike="noStrike">
                <a:solidFill>
                  <a:srgbClr val="000000"/>
                </a:solidFill>
                <a:latin typeface="Arial"/>
              </a:rPr>
              <a:t>Q = 99.2</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 end up with a new quantity of 100 units. The firm must sell an additional 16 units to offset the effects of taxes.</a:t>
            </a:r>
            <a:br>
              <a:rPr sz="1200"/>
            </a:br>
            <a:br>
              <a:rPr sz="1200"/>
            </a:b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ptions: Cash flows are the same every year, no salvage and no NWC. If there were salvage and NWC, you would net it out to year 0 so that all you have in future years is OCF.</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32DC7-B517-4936-ABC1-3A6DFDAAE5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face hard rationing, you need to reevaluate your analysis. If you truly estimated the required return and expected cash flows appropriately and computed a positive NPV, then capital should be avail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cture Tip: </a:t>
            </a:r>
            <a:r>
              <a:rPr b="0" lang="en-US" sz="1200" spc="-1" strike="noStrike">
                <a:solidFill>
                  <a:srgbClr val="000000"/>
                </a:solidFill>
                <a:latin typeface="Arial"/>
              </a:rPr>
              <a:t>In 2008, the economy was suffering from a real estate and credit crisis. As a result, lenders essentially withdrew from the market and credit dried up. This is a perfect example of an issue that would create a situation very close to Hard Rationing for many businesses.</a:t>
            </a:r>
            <a:br>
              <a:rPr sz="1200"/>
            </a:br>
            <a:br>
              <a:rPr sz="1200"/>
            </a:b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Researchers associated with South Miami Hospital (SMH) developed a new experimental laser treatment for heart patients. Its development team and the physicians who use the laser consider it to be a lifesaving advance. It should be noted that the physicians who are touting the laser hold a significant stake in the company that produces the la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offer a substitute for a balloon angioplasty to treat heart blockages, the experimental laser was developed at a cost of $250,000. SMH estimates that it will cost $20,000 to install the laser. The procedure requires a nurse at $50 per hour, a technician at $30 per hour, and a physician who is paid $750 per hour. Patients are billed $3,000 for the procedure compared to $1,500 for the traditional balloon 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sk the students to determine the break-even quantity for the new proced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xed cost = 250,000 + 20,000 = 27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riable cost = 50 + 30 + 750 = 830 per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h Break-Even = 250,000 / (3,000 – 830) = 115.2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approximately 116 patients (assuming a one-hour procedure per patien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ing break-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 (FC + D) / (P – V) = ($350,000 + $100,000) / ($1,000 - $700) = 1,500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F = ( S – VC – FC – D) + D = (1,500 x $1,000 – 1,500 x $700 - $350,000 - $100,000) + $100,000 = $1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L  = 1 + (FC / OCF) = 1 + ($350,000 / 100,000) = 4.5</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primary reasons for a positive NPV: (1) we have constructed a good project or (2) we have done a bad job of estimating NPV.</a:t>
            </a:r>
            <a:br>
              <a:rPr sz="1200"/>
            </a:br>
            <a:br>
              <a:rPr sz="1200"/>
            </a:br>
            <a:r>
              <a:rPr b="0" i="1" lang="en-US" sz="1200" spc="-1" strike="noStrike">
                <a:solidFill>
                  <a:srgbClr val="000000"/>
                </a:solidFill>
                <a:latin typeface="Arial"/>
              </a:rPr>
              <a:t>Lecture Tip:</a:t>
            </a:r>
            <a:r>
              <a:rPr b="1" i="1" lang="en-US" sz="1200" spc="-1" strike="noStrike">
                <a:solidFill>
                  <a:srgbClr val="000000"/>
                </a:solidFill>
                <a:latin typeface="Arial"/>
              </a:rPr>
              <a:t> </a:t>
            </a:r>
            <a:r>
              <a:rPr b="0" lang="en-US" sz="1200" spc="-1" strike="noStrike">
                <a:solidFill>
                  <a:srgbClr val="000000"/>
                </a:solidFill>
                <a:latin typeface="Arial"/>
              </a:rPr>
              <a:t>Perhaps the single largest source of positive NPVs is the economic concept of monopoly rents – positive profits that occur from being the only one able or allowed to do something. Monopoly rents are often associated with patent rights and technological edges and they quickly disappear in a competitive market. Introducing this notion in class provides a springboard for discussions of both business and financial strategy, as well as for discussion of the application of economic theory to the real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Alan Shapiro, the following are project characteristics associated with positive NPVs.</a:t>
            </a:r>
            <a:br>
              <a:rPr sz="1200"/>
            </a:br>
            <a:r>
              <a:rPr b="0" lang="en-US" sz="1200" spc="-1" strike="noStrike">
                <a:solidFill>
                  <a:srgbClr val="000000"/>
                </a:solidFill>
                <a:latin typeface="Arial"/>
              </a:rPr>
              <a:t>	</a:t>
            </a:r>
            <a:r>
              <a:rPr b="0" lang="en-US" sz="1200" spc="-1" strike="noStrike">
                <a:solidFill>
                  <a:srgbClr val="000000"/>
                </a:solidFill>
                <a:latin typeface="Arial"/>
              </a:rPr>
              <a:t> 1) Economies of scale</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roduct differentiation</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st advantages</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ccess to distribution channels</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Favorable government polic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61995-2CCC-4482-85E9-403B808238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4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od example of the worst case actually happening is the sinking of the Titanic. There were a lot of little things that went wrong, none of which were that important by themselves, but in combination they were dead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recent example of the worst case scenario happening is the 2004 hurricane season in Florida. During the months of August and September, 4 hurricanes (Charley, Frances, Ivan, Jeanne) hit the state of Florida (the most previously had been 3 in the state of Texas in the late 1880s). This is ignoring tropical storm Bonnie that hit the panhandle a week before Charley came through. The eyes of 3 of the 4 hurricanes (all but Ivan, who tore through the panhandle) passed over Polk County in central Florida. The probability of 3 hurricanes passing over the same location in the span of 6 weeks is extremely low. The eyes of two of the hurricanes (Frances and Jeanne) made landfall on the east side of Florida within 10 miles of each other. Again, the probability of this happening 3 weeks apart is very, very small. To imagine anything more devastating would have been difficult, making this truly a worst-case scenario…until Katrina paid a visit to New Orleans and the levees fai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cture Tip:</a:t>
            </a:r>
            <a:r>
              <a:rPr b="1" i="1" lang="en-US" sz="1200" spc="-1" strike="noStrike">
                <a:solidFill>
                  <a:srgbClr val="000000"/>
                </a:solidFill>
                <a:latin typeface="Arial"/>
              </a:rPr>
              <a:t> </a:t>
            </a:r>
            <a:r>
              <a:rPr b="0" lang="en-US" sz="1200" spc="-1" strike="noStrike">
                <a:solidFill>
                  <a:srgbClr val="000000"/>
                </a:solidFill>
                <a:latin typeface="Arial"/>
              </a:rPr>
              <a:t>A major misconception about a project’s estimated NPV at this point is that it depends upon how the cash flows actually turn out. This thinking misses the point that NPV is an ex ante valuation of an uncertain future. The distinction between the valuation of what is expected versus the ex post value of what transpired is often difficult for students to apprec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ful analogy for getting this point across is the market value of a new car. The potential to be a “lemon” is in every car, as is the possibility of being a “cream puff.” The greater the likelihood that a car will have problems, the lower the price will be. The point, however, is that a new car doesn’t have many different prices right now – one for each conceivable repair record. Rather, there is one price embodying the different potential outcomes and their expected value. So it is with NPV – the potential for good and bad cash flows is reflected in a single market value.</a:t>
            </a:r>
            <a:br>
              <a:rPr sz="1200"/>
            </a:br>
            <a:br>
              <a:rPr sz="1200"/>
            </a:b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D18EB-18F5-481A-975C-79DB570669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4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excel icon to go to a spreadsheet that includes both the scenario analysis and the sensitivity analysis presented in the boo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cture Tip: </a:t>
            </a:r>
            <a:r>
              <a:rPr b="0" lang="en-US" sz="1200" spc="-1" strike="noStrike">
                <a:solidFill>
                  <a:srgbClr val="000000"/>
                </a:solidFill>
                <a:latin typeface="Arial"/>
              </a:rPr>
              <a:t>You may wish to integrate this discussion of risk with some of the topics to be discussed in forthcoming chapters. The variability between best- and worst-case scenarios is the essence of forecasting risk. Similarly, we link the risk of a security with the variability of its expected return. This point provides another opportunity to link economic theory (investor/manager rationality versus required returns) with real-world decision-making. You might also want to point out that the cases examined in this type of analysis typically aren’t literally the best and worst cases possible. The true worst-case scenario is something absurdly unlikely, such as an earthquake that swallows our production plant. Instead, the worst-case used in scenario analysis is simply a pessimistic (but possible) forecast used to develop expected cash flow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Excel icon to return to the new project spreadsheet. If desired, it may be a good point at which to demonstrate the Solver function in Excel, as you can identify how high/low an input could go before NPV becomes negat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741D21-C970-43AA-A173-F904A72C2E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7A1E8-3684-4173-BC1C-BCEE01C0F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E93E53-1115-499B-936A-DE046ACBA7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8917D-33A7-4899-BC59-DDFB9AF7DE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4FC70-417A-4598-97E3-DE280F454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8D742-A066-4C39-95A2-6B3FC3E92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EEC08-15B0-4C52-BB16-DAA47D66C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C3C96-C63A-494E-8820-D53D7D9A8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EE9BA-6A8B-4A13-B25A-9A6BB38F1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8CEF0-F338-4BBA-9ACB-2E697FC20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CB4D2-C16B-4458-82FA-936F93BA9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3C770-649C-44FE-A414-E9128A9F51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
          <p:cNvSpPr/>
          <p:nvPr/>
        </p:nvSpPr>
        <p:spPr>
          <a:xfrm>
            <a:off x="1905120" y="1676520"/>
            <a:ext cx="4952880" cy="4038480"/>
          </a:xfrm>
          <a:prstGeom prst="rect">
            <a:avLst/>
          </a:prstGeom>
          <a:noFill/>
          <a:ln w="0">
            <a:noFill/>
          </a:ln>
        </p:spPr>
        <p:style>
          <a:lnRef idx="0"/>
          <a:fillRef idx="0"/>
          <a:effectRef idx="0"/>
          <a:fontRef idx="minor"/>
        </p:style>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Chapter 11</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Project Analysis and Evaluation</a:t>
            </a:r>
            <a:endParaRPr b="0" lang="en-US" sz="3600" spc="-1" strike="noStrike">
              <a:solidFill>
                <a:srgbClr val="000000"/>
              </a:solidFill>
              <a:latin typeface="Arial"/>
            </a:endParaRPr>
          </a:p>
        </p:txBody>
      </p:sp>
      <p:pic>
        <p:nvPicPr>
          <p:cNvPr id="50" name="" descr=""/>
          <p:cNvPicPr/>
          <p:nvPr/>
        </p:nvPicPr>
        <p:blipFill>
          <a:blip r:embed="rId1"/>
          <a:stretch/>
        </p:blipFill>
        <p:spPr>
          <a:xfrm>
            <a:off x="6477120" y="304920"/>
            <a:ext cx="2138400" cy="275724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61557EF9-7FBE-4122-981A-94B2116059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ulation Analysis</a:t>
            </a:r>
            <a:endParaRPr b="0" lang="en-US" sz="4400" spc="-1" strike="noStrike">
              <a:solidFill>
                <a:srgbClr val="000000"/>
              </a:solidFill>
              <a:latin typeface="Arial"/>
            </a:endParaRPr>
          </a:p>
        </p:txBody>
      </p:sp>
      <p:sp>
        <p:nvSpPr>
          <p:cNvPr id="8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ion is really just an expanded sensitivity and scenario analysi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Carlo simulation can estimate thousands of possible outcomes based on conditional probability distributions and constraints for each of the variab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is a probability distribution for NPV with an estimate of the probability of obtaining a positive net present valu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mulation only works as well as the information that is entered, and very bad decisions can be made if care is not taken to analyze the interaction between variables</a:t>
            </a:r>
            <a:endParaRPr b="0" lang="en-US" sz="2400" spc="-1" strike="noStrike">
              <a:solidFill>
                <a:srgbClr val="000000"/>
              </a:solidFill>
              <a:latin typeface="Arial"/>
            </a:endParaRPr>
          </a:p>
        </p:txBody>
      </p:sp>
      <p:sp>
        <p:nvSpPr>
          <p:cNvPr id="83"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AD49648B-630E-49F7-A1E7-6F376037DDE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622AFA3D-9152-4F06-872D-FBF0FF2CF1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ing a Decision</a:t>
            </a:r>
            <a:endParaRPr b="0" lang="en-US" sz="4400" spc="-1" strike="noStrike">
              <a:solidFill>
                <a:srgbClr val="000000"/>
              </a:solidFill>
              <a:latin typeface="Arial"/>
            </a:endParaRPr>
          </a:p>
        </p:txBody>
      </p:sp>
      <p:sp>
        <p:nvSpPr>
          <p:cNvPr id="85" name="PlaceHolder 2"/>
          <p:cNvSpPr>
            <a:spLocks noGrp="1"/>
          </p:cNvSpPr>
          <p:nvPr>
            <p:ph/>
          </p:nvPr>
        </p:nvSpPr>
        <p:spPr>
          <a:xfrm>
            <a:off x="1447560" y="1371240"/>
            <a:ext cx="7388280" cy="4530600"/>
          </a:xfrm>
          <a:prstGeom prst="rect">
            <a:avLst/>
          </a:prstGeom>
          <a:noFill/>
          <a:ln w="0">
            <a:noFill/>
          </a:ln>
        </p:spPr>
        <p:txBody>
          <a:bodyPr anchor="t">
            <a:normAutofit/>
          </a:bodyPr>
          <a:p>
            <a:pPr marL="2541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ware “Paralysis of Analysis”</a:t>
            </a:r>
            <a:endParaRPr b="0" lang="en-US" sz="2800" spc="-1" strike="noStrike">
              <a:solidFill>
                <a:srgbClr val="000000"/>
              </a:solidFill>
              <a:latin typeface="Arial"/>
            </a:endParaRPr>
          </a:p>
          <a:p>
            <a:pPr marL="2541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some point you have to make a decision</a:t>
            </a:r>
            <a:endParaRPr b="0" lang="en-US" sz="2800" spc="-1" strike="noStrike">
              <a:solidFill>
                <a:srgbClr val="000000"/>
              </a:solidFill>
              <a:latin typeface="Arial"/>
            </a:endParaRPr>
          </a:p>
          <a:p>
            <a:pPr marL="2541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majority of your scenarios have positive NPVs, then you can feel reasonably comfortable about accepting the project</a:t>
            </a:r>
            <a:endParaRPr b="0" lang="en-US" sz="2800" spc="-1" strike="noStrike">
              <a:solidFill>
                <a:srgbClr val="000000"/>
              </a:solidFill>
              <a:latin typeface="Arial"/>
            </a:endParaRPr>
          </a:p>
          <a:p>
            <a:pPr marL="2541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have a crucial variable that leads to a negative NPV with a small change in the estimates, then you may want to forego the project</a:t>
            </a:r>
            <a:endParaRPr b="0" lang="en-US" sz="2800" spc="-1" strike="noStrike">
              <a:solidFill>
                <a:srgbClr val="000000"/>
              </a:solidFill>
              <a:latin typeface="Arial"/>
            </a:endParaRPr>
          </a:p>
        </p:txBody>
      </p:sp>
      <p:sp>
        <p:nvSpPr>
          <p:cNvPr id="86"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2A29F2CC-0CB7-4BE9-A93F-424337538DA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F2E2C540-ED5A-4DFD-BB33-AF489A954D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eak-Even Analysis</a:t>
            </a:r>
            <a:endParaRPr b="0" lang="en-US" sz="4400" spc="-1" strike="noStrike">
              <a:solidFill>
                <a:srgbClr val="000000"/>
              </a:solidFill>
              <a:latin typeface="Arial"/>
            </a:endParaRPr>
          </a:p>
        </p:txBody>
      </p:sp>
      <p:sp>
        <p:nvSpPr>
          <p:cNvPr id="88" name="PlaceHolder 2"/>
          <p:cNvSpPr>
            <a:spLocks noGrp="1"/>
          </p:cNvSpPr>
          <p:nvPr>
            <p:ph/>
          </p:nvPr>
        </p:nvSpPr>
        <p:spPr>
          <a:xfrm>
            <a:off x="1371240" y="1717560"/>
            <a:ext cx="7464600" cy="453096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on tool for analyzing the relationship between sales volume and profitability</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are three common break-even measures</a:t>
            </a:r>
            <a:endParaRPr b="0" lang="en-US" sz="26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 break-even – sales volume at which NI = 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break-even – sales volume at which OCF = 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break-even – sales volume at which NPV = 0</a:t>
            </a:r>
            <a:endParaRPr b="0" lang="en-US" sz="2400" spc="-1" strike="noStrike">
              <a:solidFill>
                <a:srgbClr val="000000"/>
              </a:solidFill>
              <a:latin typeface="Arial"/>
            </a:endParaRPr>
          </a:p>
        </p:txBody>
      </p:sp>
      <p:sp>
        <p:nvSpPr>
          <p:cNvPr id="89"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0C48BE41-294B-4C69-AA97-D5C4D9FC799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D93E279B-1A3D-4C8D-B2D0-F9FE6319FE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sts</a:t>
            </a:r>
            <a:endParaRPr b="0" lang="en-US" sz="4400" spc="-1" strike="noStrike">
              <a:solidFill>
                <a:srgbClr val="000000"/>
              </a:solidFill>
              <a:latin typeface="Arial"/>
            </a:endParaRPr>
          </a:p>
        </p:txBody>
      </p:sp>
      <p:sp>
        <p:nvSpPr>
          <p:cNvPr id="91" name="PlaceHolder 2"/>
          <p:cNvSpPr>
            <a:spLocks noGrp="1"/>
          </p:cNvSpPr>
          <p:nvPr>
            <p:ph/>
          </p:nvPr>
        </p:nvSpPr>
        <p:spPr>
          <a:xfrm>
            <a:off x="1371240" y="1447920"/>
            <a:ext cx="7620120" cy="4952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types of costs that are important in breakeven analysis: variable and fixed</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tal variable costs = quantity * cost per uni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xed costs are constant, regardless of output, over some time period</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tal costs = fixed + variable = FC + vQ</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r firm pays $3,000 per month in fixed costs. You also pay $15 per unit to produce your product.</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your total cost if you produce 1,000 unit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f you produce 5,000 units?</a:t>
            </a:r>
            <a:endParaRPr b="0" lang="en-US" sz="2200" spc="-1" strike="noStrike">
              <a:solidFill>
                <a:srgbClr val="000000"/>
              </a:solidFill>
              <a:latin typeface="Arial"/>
            </a:endParaRPr>
          </a:p>
        </p:txBody>
      </p:sp>
      <p:sp>
        <p:nvSpPr>
          <p:cNvPr id="9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427E9C5C-A55C-4F31-9646-429A5EB21A8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45592386-3EE8-4182-8853-F04F44EB16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verage vs. Marginal Cost</a:t>
            </a:r>
            <a:endParaRPr b="0" lang="en-US" sz="4400" spc="-1" strike="noStrike">
              <a:solidFill>
                <a:srgbClr val="000000"/>
              </a:solidFill>
              <a:latin typeface="Arial"/>
            </a:endParaRPr>
          </a:p>
        </p:txBody>
      </p:sp>
      <p:sp>
        <p:nvSpPr>
          <p:cNvPr id="94" name="PlaceHolder 2"/>
          <p:cNvSpPr>
            <a:spLocks noGrp="1"/>
          </p:cNvSpPr>
          <p:nvPr>
            <p:ph/>
          </p:nvPr>
        </p:nvSpPr>
        <p:spPr>
          <a:xfrm>
            <a:off x="1523880" y="1447560"/>
            <a:ext cx="7312320" cy="45306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erage Cost</a:t>
            </a:r>
            <a:endParaRPr b="0" lang="en-US" sz="22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 / # of units</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 decrease as # of units increases</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rginal Cost</a:t>
            </a:r>
            <a:endParaRPr b="0" lang="en-US" sz="22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st to produce one more unit</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as variable cost per unit</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 What is the average cost and marginal cost under each situation in the previous example</a:t>
            </a:r>
            <a:endParaRPr b="0" lang="en-US" sz="22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 1,000 units: Average = 18,000 / 1000 = $18</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 5,000 units: Average = 78,000 / 5000 = $15.60</a:t>
            </a:r>
            <a:endParaRPr b="0" lang="en-US" sz="2000" spc="-1" strike="noStrike">
              <a:solidFill>
                <a:srgbClr val="000000"/>
              </a:solidFill>
              <a:latin typeface="Arial"/>
            </a:endParaRPr>
          </a:p>
        </p:txBody>
      </p:sp>
      <p:sp>
        <p:nvSpPr>
          <p:cNvPr id="9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6FA80B55-F90D-4B4C-8DF8-EE3DBE47C14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3A687EEE-E06F-44BD-B8A9-79C3F0F764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ounting Break-Even</a:t>
            </a:r>
            <a:endParaRPr b="0" lang="en-US" sz="4400" spc="-1" strike="noStrike">
              <a:solidFill>
                <a:srgbClr val="000000"/>
              </a:solidFill>
              <a:latin typeface="Arial"/>
            </a:endParaRPr>
          </a:p>
        </p:txBody>
      </p:sp>
      <p:sp>
        <p:nvSpPr>
          <p:cNvPr id="9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quantity that leads to a zero net inco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 = (Sales – VC – FC – D)(1 – T) = 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P – vQ – FC – D = 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P – v) = FC + 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 = (FC + D) / (P – v)</a:t>
            </a:r>
            <a:endParaRPr b="0" lang="en-US" sz="3200" spc="-1" strike="noStrike">
              <a:solidFill>
                <a:srgbClr val="000000"/>
              </a:solidFill>
              <a:latin typeface="Arial"/>
            </a:endParaRPr>
          </a:p>
        </p:txBody>
      </p:sp>
      <p:sp>
        <p:nvSpPr>
          <p:cNvPr id="9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1B5F9066-EC60-427A-8DB1-448C0307DB3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A8496884-F596-4C07-AAE8-C4CAFC1FF4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ccounting Break-Even</a:t>
            </a:r>
            <a:endParaRPr b="0" lang="en-US" sz="4400" spc="-1" strike="noStrike">
              <a:solidFill>
                <a:srgbClr val="000000"/>
              </a:solidFill>
              <a:latin typeface="Arial"/>
            </a:endParaRPr>
          </a:p>
        </p:txBody>
      </p:sp>
      <p:sp>
        <p:nvSpPr>
          <p:cNvPr id="10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 break-even is often used as an early stage screening numb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project cannot break-even on an accounting basis, then it is not going to be a worthwhile proj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 break-even gives managers an indication of how a project will impact accounting profit</a:t>
            </a:r>
            <a:endParaRPr b="0" lang="en-US" sz="3200" spc="-1" strike="noStrike">
              <a:solidFill>
                <a:srgbClr val="000000"/>
              </a:solidFill>
              <a:latin typeface="Arial"/>
            </a:endParaRPr>
          </a:p>
        </p:txBody>
      </p:sp>
      <p:sp>
        <p:nvSpPr>
          <p:cNvPr id="101"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F1D83E09-C1D6-4F9C-AF71-748D4F100C7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93153009-AEC4-4A88-A12D-D1A2F0DB3E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ounting Break-Even and Cash Flow</a:t>
            </a:r>
            <a:endParaRPr b="0" lang="en-US" sz="4400" spc="-1" strike="noStrike">
              <a:solidFill>
                <a:srgbClr val="000000"/>
              </a:solidFill>
              <a:latin typeface="Arial"/>
            </a:endParaRPr>
          </a:p>
        </p:txBody>
      </p:sp>
      <p:sp>
        <p:nvSpPr>
          <p:cNvPr id="103" name="PlaceHolder 2"/>
          <p:cNvSpPr>
            <a:spLocks noGrp="1"/>
          </p:cNvSpPr>
          <p:nvPr>
            <p:ph/>
          </p:nvPr>
        </p:nvSpPr>
        <p:spPr>
          <a:xfrm>
            <a:off x="1447560" y="1793520"/>
            <a:ext cx="739116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re more interested in cash flow than we are in accounting numb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long as a firm has non-cash deductions, there will be a positive cash flo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firm just breaks even on an accounting basis, cash flow = depreci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firm just breaks even on an accounting basis, NPV will generally be &lt; 0</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3DA81AD9-8893-4232-85E4-6A1B66BCEAD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3F50082A-F97E-4965-B3DF-7926C203AA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415520" y="274680"/>
            <a:ext cx="725652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06" name="PlaceHolder 2"/>
          <p:cNvSpPr>
            <a:spLocks noGrp="1"/>
          </p:cNvSpPr>
          <p:nvPr>
            <p:ph/>
          </p:nvPr>
        </p:nvSpPr>
        <p:spPr>
          <a:xfrm>
            <a:off x="1447560" y="1371240"/>
            <a:ext cx="7391160" cy="4876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the following project</a:t>
            </a:r>
            <a:endParaRPr b="0" lang="en-US" sz="26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product requires an initial investment of $5 million and will be depreciated to an expected salvage of zero over 5 yea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ce of the new product is expected to be $25,000, and the variable cost per unit is $15,00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xed cost is $1 million</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ccounting break-even point each yea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reciation = 5,000,000 / 5 = 1,000,000</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 = (1,000,000 + 1,000,000)/(25,000 – 15,000) = 200 units</a:t>
            </a: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ADE2D11E-53C2-4450-8D58-09C57AB9F39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85C8F152-7607-4325-A9EA-037B21D6C2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les Volume and Operating Cash Flow</a:t>
            </a:r>
            <a:endParaRPr b="0" lang="en-US" sz="4400" spc="-1" strike="noStrike">
              <a:solidFill>
                <a:srgbClr val="000000"/>
              </a:solidFill>
              <a:latin typeface="Arial"/>
            </a:endParaRPr>
          </a:p>
        </p:txBody>
      </p:sp>
      <p:sp>
        <p:nvSpPr>
          <p:cNvPr id="109" name="PlaceHolder 2"/>
          <p:cNvSpPr>
            <a:spLocks noGrp="1"/>
          </p:cNvSpPr>
          <p:nvPr>
            <p:ph/>
          </p:nvPr>
        </p:nvSpPr>
        <p:spPr>
          <a:xfrm>
            <a:off x="1294920" y="1869840"/>
            <a:ext cx="7540920" cy="453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operating cash flow at the accounting break-even point (ignoring taxe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F = (S – VC – FC - D) + D</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F = (200*25,000 – 200*15,000 – 1,000,000 -1,000,000) + 1,000,000 = 1,000,000</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cash break-even quantity?</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F = [(P-v)Q – FC – D] + D = (P-v)Q – FC</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 (OCF + FC) / (P – v)</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 (0 + 1,000,000) / (25,000 – 15,000) = 100 units</a:t>
            </a:r>
            <a:endParaRPr b="0" lang="en-US" sz="2000" spc="-1" strike="noStrike">
              <a:solidFill>
                <a:srgbClr val="000000"/>
              </a:solidFill>
              <a:latin typeface="Arial"/>
            </a:endParaRPr>
          </a:p>
        </p:txBody>
      </p:sp>
      <p:sp>
        <p:nvSpPr>
          <p:cNvPr id="110"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2D0DB5A4-1382-41B4-AD65-682F93CF0EF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8F9F0034-5803-4DDC-833B-F90FFA0D02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15520" y="1600200"/>
            <a:ext cx="7270920" cy="452448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forecasting risk and sources of value</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and be able to conduct scenario and sensitivity analysis</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various forms of break-even analysis</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operating leverage</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capital rationing and its effects</a:t>
            </a:r>
            <a:endParaRPr b="0" lang="en-US" sz="3200" spc="-1" strike="noStrike">
              <a:solidFill>
                <a:srgbClr val="000000"/>
              </a:solidFill>
              <a:latin typeface="Arial"/>
            </a:endParaRPr>
          </a:p>
        </p:txBody>
      </p:sp>
      <p:sp>
        <p:nvSpPr>
          <p:cNvPr id="5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99BE5E6A-D136-4BB6-8657-C68EB294964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B831D15C-36E9-41F8-AE31-DABF77C8AD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 Types of Break-Even Analysis</a:t>
            </a:r>
            <a:endParaRPr b="0" lang="en-US" sz="4400" spc="-1" strike="noStrike">
              <a:solidFill>
                <a:srgbClr val="000000"/>
              </a:solidFill>
              <a:latin typeface="Arial"/>
            </a:endParaRPr>
          </a:p>
        </p:txBody>
      </p:sp>
      <p:sp>
        <p:nvSpPr>
          <p:cNvPr id="112" name="PlaceHolder 2"/>
          <p:cNvSpPr>
            <a:spLocks noGrp="1"/>
          </p:cNvSpPr>
          <p:nvPr>
            <p:ph/>
          </p:nvPr>
        </p:nvSpPr>
        <p:spPr>
          <a:xfrm>
            <a:off x="1294920" y="1869840"/>
            <a:ext cx="754092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 Break-even</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NI = 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 (FC + D)/(P – v)</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Break-even</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OCF = 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 (FC + OCF)/(P – v)   (ignoring taxe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Break-even</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NPV = 0</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BE &lt; Accounting BE &lt; Financial BE</a:t>
            </a:r>
            <a:endParaRPr b="0" lang="en-US" sz="2400" spc="-1" strike="noStrike">
              <a:solidFill>
                <a:srgbClr val="000000"/>
              </a:solidFill>
              <a:latin typeface="Arial"/>
            </a:endParaRPr>
          </a:p>
        </p:txBody>
      </p:sp>
      <p:sp>
        <p:nvSpPr>
          <p:cNvPr id="113"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735B9048-2475-4694-967F-C768221DF1F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0FB73094-8E06-4D17-9208-0F482815FB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Break-Even Analysis</a:t>
            </a:r>
            <a:endParaRPr b="0" lang="en-US" sz="4400" spc="-1" strike="noStrike">
              <a:solidFill>
                <a:srgbClr val="000000"/>
              </a:solidFill>
              <a:latin typeface="Arial"/>
            </a:endParaRPr>
          </a:p>
        </p:txBody>
      </p:sp>
      <p:sp>
        <p:nvSpPr>
          <p:cNvPr id="115" name="PlaceHolder 2"/>
          <p:cNvSpPr>
            <a:spLocks noGrp="1"/>
          </p:cNvSpPr>
          <p:nvPr>
            <p:ph/>
          </p:nvPr>
        </p:nvSpPr>
        <p:spPr>
          <a:xfrm>
            <a:off x="1447560" y="1676160"/>
            <a:ext cx="7311960" cy="4530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previous example</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a required return of 18%</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 break-even = 200</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break-even = 100</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financial break-even poin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 process to that of finding the bid pric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OCF (or payment) makes NPV = 0?</a:t>
            </a:r>
            <a:endParaRPr b="0" lang="en-US" sz="20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 = 5; PV = 5,000,000; I/Y = 18; CPT PMT = 1,598,889 = OCF</a:t>
            </a:r>
            <a:endParaRPr b="0" lang="en-US" sz="19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 (1,000,000 + 1,598,889) / (25,000 – 15,000) = 260 units</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question now becomes: Can we sell at least 260 units per year?</a:t>
            </a:r>
            <a:endParaRPr b="0" lang="en-US" sz="2800" spc="-1" strike="noStrike">
              <a:solidFill>
                <a:srgbClr val="000000"/>
              </a:solidFill>
              <a:latin typeface="Arial"/>
            </a:endParaRPr>
          </a:p>
          <a:p>
            <a:pPr lvl="3" marL="16002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36C862AB-F5F2-4AFC-BADA-F18835397FF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BC8367B1-F9BD-402B-ADE7-6906F1586F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ting Leverage</a:t>
            </a:r>
            <a:endParaRPr b="0" lang="en-US" sz="4400" spc="-1" strike="noStrike">
              <a:solidFill>
                <a:srgbClr val="000000"/>
              </a:solidFill>
              <a:latin typeface="Arial"/>
            </a:endParaRPr>
          </a:p>
        </p:txBody>
      </p:sp>
      <p:sp>
        <p:nvSpPr>
          <p:cNvPr id="118" name="PlaceHolder 2"/>
          <p:cNvSpPr>
            <a:spLocks noGrp="1"/>
          </p:cNvSpPr>
          <p:nvPr>
            <p:ph/>
          </p:nvPr>
        </p:nvSpPr>
        <p:spPr>
          <a:xfrm>
            <a:off x="1447560" y="1447560"/>
            <a:ext cx="738828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ng leverage is the relationship between sales and operating cash flo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gree of operating leverage measures this relationship</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igher the DOL, the greater the variability in operating cash flow</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igher the fixed costs, the higher the DOL</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L depends on the sales level you are starting from</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L = 1 + (FC / OCF)</a:t>
            </a:r>
            <a:endParaRPr b="0" lang="en-US" sz="2800" spc="-1" strike="noStrike">
              <a:solidFill>
                <a:srgbClr val="000000"/>
              </a:solidFill>
              <a:latin typeface="Arial"/>
            </a:endParaRPr>
          </a:p>
        </p:txBody>
      </p:sp>
      <p:sp>
        <p:nvSpPr>
          <p:cNvPr id="11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48B355F0-32C8-4DBD-8F1A-E633CF46BA6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5035D3FD-71DC-41D8-A1D5-CE4D3AA0CC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415520" y="274680"/>
            <a:ext cx="72565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DOL</a:t>
            </a:r>
            <a:endParaRPr b="0" lang="en-US" sz="4400" spc="-1" strike="noStrike">
              <a:solidFill>
                <a:srgbClr val="000000"/>
              </a:solidFill>
              <a:latin typeface="Arial"/>
            </a:endParaRPr>
          </a:p>
        </p:txBody>
      </p:sp>
      <p:sp>
        <p:nvSpPr>
          <p:cNvPr id="121" name="PlaceHolder 2"/>
          <p:cNvSpPr>
            <a:spLocks noGrp="1"/>
          </p:cNvSpPr>
          <p:nvPr>
            <p:ph/>
          </p:nvPr>
        </p:nvSpPr>
        <p:spPr>
          <a:xfrm>
            <a:off x="1523880" y="1294920"/>
            <a:ext cx="7391520" cy="525780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the previous exampl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ose sales are 300 units</a:t>
            </a:r>
            <a:endParaRPr b="0" lang="en-US" sz="26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ets all three break-even measures</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DOL at this sales level?</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CF = (25,000 – 15,000)*300 – 1,000,000 = 2,000,000</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L = 1 + 1,000,000 / 2,000,000 = 1.5</a:t>
            </a:r>
            <a:endParaRPr b="0" lang="en-US" sz="22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will happen to OCF if unit sales increases by 20%?</a:t>
            </a:r>
            <a:endParaRPr b="0" lang="en-US" sz="26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change in OCF = DOL*Percentage change in Q</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change in OCF = 1.5(.2) = .3 or 30%</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CF would increase to 2,000,000(1.3) = 2,600,000</a:t>
            </a:r>
            <a:endParaRPr b="0" lang="en-US" sz="2200" spc="-1" strike="noStrike">
              <a:solidFill>
                <a:srgbClr val="000000"/>
              </a:solidFill>
              <a:latin typeface="Arial"/>
            </a:endParaRPr>
          </a:p>
        </p:txBody>
      </p:sp>
      <p:sp>
        <p:nvSpPr>
          <p:cNvPr id="12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3E2E4EC4-78E8-4BAC-B2E1-D499FC28084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5C79B066-186A-42D5-8BFF-7EFCE45C2E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pital Rationing</a:t>
            </a:r>
            <a:endParaRPr b="0" lang="en-US" sz="4400" spc="-1" strike="noStrike">
              <a:solidFill>
                <a:srgbClr val="000000"/>
              </a:solidFill>
              <a:latin typeface="Arial"/>
            </a:endParaRPr>
          </a:p>
        </p:txBody>
      </p:sp>
      <p:sp>
        <p:nvSpPr>
          <p:cNvPr id="124" name="PlaceHolder 2"/>
          <p:cNvSpPr>
            <a:spLocks noGrp="1"/>
          </p:cNvSpPr>
          <p:nvPr>
            <p:ph/>
          </p:nvPr>
        </p:nvSpPr>
        <p:spPr>
          <a:xfrm>
            <a:off x="1294920" y="1447560"/>
            <a:ext cx="754092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 rationing occurs when a firm or division has limited resource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 rationing – the limited resources are temporary, often self-imposed</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 rationing – capital will never be available for this projec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fitability index is a useful tool when a manager is faced with soft ration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D6B6A46B-6F26-42F8-9DF6-004A5A77132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54FB4A9C-000E-414F-8ACD-E29FFE993E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127" name="PlaceHolder 2"/>
          <p:cNvSpPr>
            <a:spLocks noGrp="1"/>
          </p:cNvSpPr>
          <p:nvPr>
            <p:ph/>
          </p:nvPr>
        </p:nvSpPr>
        <p:spPr>
          <a:xfrm>
            <a:off x="1447560" y="137124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sensitivity analysis, scenario analysis and simul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are these analyses important, and how should they be u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three types of break-even analysis, and how should each be u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degree of operating levera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difference between hard rationing and soft rationing?</a:t>
            </a:r>
            <a:endParaRPr b="0" lang="en-US" sz="2800" spc="-1" strike="noStrike">
              <a:solidFill>
                <a:srgbClr val="000000"/>
              </a:solidFill>
              <a:latin typeface="Arial"/>
            </a:endParaRPr>
          </a:p>
        </p:txBody>
      </p:sp>
      <p:sp>
        <p:nvSpPr>
          <p:cNvPr id="12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6FCD4983-2C16-42C2-B8D3-FC7AFA7B5A7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E30A422C-7C24-48C1-A9DE-6FFB8C0ABA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130" name="PlaceHolder 2"/>
          <p:cNvSpPr>
            <a:spLocks noGrp="1"/>
          </p:cNvSpPr>
          <p:nvPr>
            <p:ph/>
          </p:nvPr>
        </p:nvSpPr>
        <p:spPr>
          <a:xfrm>
            <a:off x="1371240" y="1371240"/>
            <a:ext cx="74646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ethical for a medical patient to pay for a portion of R&amp;D costs (since experimental procedures are not covered by insurance) prior to the introduction of the final product? Is it proper for physicians to recommend this procedure when they have a vested interest in its usage?</a:t>
            </a:r>
            <a:endParaRPr b="0" lang="en-US" sz="2800" spc="-1" strike="noStrike">
              <a:solidFill>
                <a:srgbClr val="000000"/>
              </a:solidFill>
              <a:latin typeface="Arial"/>
            </a:endParaRPr>
          </a:p>
        </p:txBody>
      </p:sp>
      <p:sp>
        <p:nvSpPr>
          <p:cNvPr id="131"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A59FC137-0FC4-4451-A199-769676E7B6A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F9E6B61C-580E-437E-82A2-DE6E67C2F3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3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ject requires an initial investment of $1,000,000 and is depreciated straight-line to zero salvage over its 10-year life. The project produces items that sell for $1,000 each, with variable costs of $700 per unit. Fixed costs are $350,000 per yea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ccounting break-even quantity, operating cash flow at accounting break-even, and DOL at that output level?</a:t>
            </a:r>
            <a:endParaRPr b="0" lang="en-US" sz="2400" spc="-1" strike="noStrike">
              <a:solidFill>
                <a:srgbClr val="000000"/>
              </a:solidFill>
              <a:latin typeface="Arial"/>
            </a:endParaRPr>
          </a:p>
        </p:txBody>
      </p:sp>
      <p:sp>
        <p:nvSpPr>
          <p:cNvPr id="134"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5BEE9CB1-D958-4ACD-94CC-1DD21A6A39D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1957C580-CD4C-4950-9B93-4182FF90C4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52480" y="28195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3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3E1800EB-7384-453C-97EF-1121BDC4FD2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 name="PlaceHolder 2"/>
          <p:cNvSpPr>
            <a:spLocks noGrp="1"/>
          </p:cNvSpPr>
          <p:nvPr>
            <p:ph type="sldNum" idx="3"/>
          </p:nvPr>
        </p:nvSpPr>
        <p:spPr/>
        <p:txBody>
          <a:bodyPr/>
          <a:p>
            <a:fld id="{897E92F8-1911-47DA-B7F2-927495460FC5}" type="slidenum">
              <a:t>28</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ng NPV Estim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enario and Other What-If Analy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k-Even Analy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ng Cash Flow, Sales Volume, and Break-Ev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ng Lever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 Rationing</a:t>
            </a:r>
            <a:endParaRPr b="0" lang="en-US" sz="3200" spc="-1" strike="noStrike">
              <a:solidFill>
                <a:srgbClr val="000000"/>
              </a:solidFill>
              <a:latin typeface="Arial"/>
            </a:endParaRPr>
          </a:p>
        </p:txBody>
      </p:sp>
      <p:sp>
        <p:nvSpPr>
          <p:cNvPr id="5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85DD1A2F-26AA-440D-817D-4B45C940610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1AFA3EC6-A07F-4D21-A321-594950B1DD6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aluating NPV Estimates</a:t>
            </a:r>
            <a:endParaRPr b="0" lang="en-US" sz="4400" spc="-1" strike="noStrike">
              <a:solidFill>
                <a:srgbClr val="000000"/>
              </a:solidFill>
              <a:latin typeface="Arial"/>
            </a:endParaRPr>
          </a:p>
        </p:txBody>
      </p:sp>
      <p:sp>
        <p:nvSpPr>
          <p:cNvPr id="6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PV estimates are just that – estim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ositive NPV is a good start – now we need to take a closer look</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casting risk – how sensitive is our NPV to changes in the cash flow estimates; the more sensitive, the greater the forecasting risk</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of value – why does this project create value?</a:t>
            </a:r>
            <a:endParaRPr b="0" lang="en-US" sz="2400" spc="-1" strike="noStrike">
              <a:solidFill>
                <a:srgbClr val="000000"/>
              </a:solidFill>
              <a:latin typeface="Arial"/>
            </a:endParaRPr>
          </a:p>
        </p:txBody>
      </p:sp>
      <p:sp>
        <p:nvSpPr>
          <p:cNvPr id="61"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856E0347-2ABE-42C4-89A7-2C0E6C348A5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2F81CE98-C09A-473E-B709-50E5E2D36E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 Analysis</a:t>
            </a:r>
            <a:endParaRPr b="0" lang="en-US" sz="4400" spc="-1" strike="noStrike">
              <a:solidFill>
                <a:srgbClr val="000000"/>
              </a:solidFill>
              <a:latin typeface="Arial"/>
            </a:endParaRPr>
          </a:p>
        </p:txBody>
      </p:sp>
      <p:sp>
        <p:nvSpPr>
          <p:cNvPr id="6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ppens to the NPV under different cash flow scenari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very least, look a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t case – high revenues, low cost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st case – low revenues, high cost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of the range of possible outcom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st case and worst case are not necessarily probable, but they can still be possible</a:t>
            </a:r>
            <a:endParaRPr b="0" lang="en-US" sz="2800" spc="-1" strike="noStrike">
              <a:solidFill>
                <a:srgbClr val="000000"/>
              </a:solidFill>
              <a:latin typeface="Arial"/>
            </a:endParaRPr>
          </a:p>
        </p:txBody>
      </p:sp>
      <p:sp>
        <p:nvSpPr>
          <p:cNvPr id="64"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EB1FA97D-8C52-4F68-A60F-56A5BFEDA38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45AD0A1A-6070-4B37-B661-B91CFAD5D7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Project Example</a:t>
            </a:r>
            <a:endParaRPr b="0" lang="en-US" sz="4400" spc="-1" strike="noStrike">
              <a:solidFill>
                <a:srgbClr val="000000"/>
              </a:solidFill>
              <a:latin typeface="Arial"/>
            </a:endParaRPr>
          </a:p>
        </p:txBody>
      </p:sp>
      <p:sp>
        <p:nvSpPr>
          <p:cNvPr id="6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project discussed in the tex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itial cost is $200,000, and the project has a 5-year life. There is no salvage. Depreciation is straight-line, the required return is 12%, and the tax rate is 3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e case NPV is 15,567</a:t>
            </a:r>
            <a:endParaRPr b="0" lang="en-US" sz="2800" spc="-1" strike="noStrike">
              <a:solidFill>
                <a:srgbClr val="000000"/>
              </a:solidFill>
              <a:latin typeface="Arial"/>
            </a:endParaRPr>
          </a:p>
        </p:txBody>
      </p:sp>
      <p:graphicFrame>
        <p:nvGraphicFramePr>
          <p:cNvPr id="67" name=""/>
          <p:cNvGraphicFramePr/>
          <p:nvPr/>
        </p:nvGraphicFramePr>
        <p:xfrm>
          <a:off x="7543800" y="5105520"/>
          <a:ext cx="758880" cy="712800"/>
        </p:xfrm>
        <a:graphic>
          <a:graphicData uri="http://schemas.openxmlformats.org/presentationml/2006/ole">
            <p:oleObj progId="Excel.Sheet.12" r:id="rId1" spid="">
              <p:embed/>
              <p:pic>
                <p:nvPicPr>
                  <p:cNvPr id="68" name="" descr=""/>
                  <p:cNvPicPr/>
                  <p:nvPr/>
                </p:nvPicPr>
                <p:blipFill>
                  <a:blip r:embed="rId2"/>
                  <a:stretch/>
                </p:blipFill>
                <p:spPr>
                  <a:xfrm>
                    <a:off x="7543800" y="5105520"/>
                    <a:ext cx="758880" cy="712800"/>
                  </a:xfrm>
                  <a:prstGeom prst="rect">
                    <a:avLst/>
                  </a:prstGeom>
                  <a:ln w="0">
                    <a:noFill/>
                  </a:ln>
                </p:spPr>
              </p:pic>
            </p:oleObj>
          </a:graphicData>
        </a:graphic>
      </p:graphicFrame>
      <p:sp>
        <p:nvSpPr>
          <p:cNvPr id="6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D71AB1AC-D5BA-40E2-A75B-67084AB5415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6E58F266-37DE-487C-9541-B640A4744834}"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Scenario Analysis</a:t>
            </a:r>
            <a:endParaRPr b="0" lang="en-US" sz="4400" spc="-1" strike="noStrike">
              <a:solidFill>
                <a:srgbClr val="000000"/>
              </a:solidFill>
              <a:latin typeface="Arial"/>
            </a:endParaRPr>
          </a:p>
        </p:txBody>
      </p:sp>
      <p:graphicFrame>
        <p:nvGraphicFramePr>
          <p:cNvPr id="71" name=""/>
          <p:cNvGraphicFramePr/>
          <p:nvPr/>
        </p:nvGraphicFramePr>
        <p:xfrm>
          <a:off x="1415880" y="1600200"/>
          <a:ext cx="7270920" cy="4524480"/>
        </p:xfrm>
        <a:graphic>
          <a:graphicData uri="http://schemas.openxmlformats.org/drawingml/2006/table">
            <a:tbl>
              <a:tblPr/>
              <a:tblGrid>
                <a:gridCol w="1454760"/>
                <a:gridCol w="1452960"/>
                <a:gridCol w="1454760"/>
                <a:gridCol w="1453680"/>
                <a:gridCol w="1454760"/>
              </a:tblGrid>
              <a:tr h="113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enario</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V</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r>
              <a:tr h="113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case</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0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80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567</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1%</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r>
              <a:tr h="113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st Case</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510</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490</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1,719</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4%</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r>
              <a:tr h="113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Case</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730</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9,730</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9,504</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9%</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r>
            </a:tbl>
          </a:graphicData>
        </a:graphic>
      </p:graphicFrame>
      <p:sp>
        <p:nvSpPr>
          <p:cNvPr id="7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96B516DA-8370-4344-82B2-4DB062DA2ED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 name="PlaceHolder 2"/>
          <p:cNvSpPr>
            <a:spLocks noGrp="1"/>
          </p:cNvSpPr>
          <p:nvPr>
            <p:ph type="sldNum" idx="3"/>
          </p:nvPr>
        </p:nvSpPr>
        <p:spPr/>
        <p:txBody>
          <a:bodyPr/>
          <a:p>
            <a:fld id="{90A82FE1-9F85-495C-823C-F8E6C5EBDF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nsitivity Analysis</a:t>
            </a:r>
            <a:endParaRPr b="0" lang="en-US" sz="4400" spc="-1" strike="noStrike">
              <a:solidFill>
                <a:srgbClr val="000000"/>
              </a:solidFill>
              <a:latin typeface="Arial"/>
            </a:endParaRPr>
          </a:p>
        </p:txBody>
      </p:sp>
      <p:sp>
        <p:nvSpPr>
          <p:cNvPr id="74" name="PlaceHolder 2"/>
          <p:cNvSpPr>
            <a:spLocks noGrp="1"/>
          </p:cNvSpPr>
          <p:nvPr>
            <p:ph/>
          </p:nvPr>
        </p:nvSpPr>
        <p:spPr>
          <a:xfrm>
            <a:off x="1752120" y="1371240"/>
            <a:ext cx="7083720" cy="4530600"/>
          </a:xfrm>
          <a:prstGeom prst="rect">
            <a:avLst/>
          </a:prstGeom>
          <a:noFill/>
          <a:ln w="0">
            <a:noFill/>
          </a:ln>
        </p:spPr>
        <p:txBody>
          <a:bodyPr anchor="t">
            <a:normAutofit/>
          </a:bodyPr>
          <a:p>
            <a:pPr marL="2541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ppens to NPV when we change one variable at a time</a:t>
            </a:r>
            <a:endParaRPr b="0" lang="en-US" sz="2800" spc="-1" strike="noStrike">
              <a:solidFill>
                <a:srgbClr val="000000"/>
              </a:solidFill>
              <a:latin typeface="Arial"/>
            </a:endParaRPr>
          </a:p>
          <a:p>
            <a:pPr marL="2541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subset of scenario analysis where we are looking at the effect of specific variables on NPV</a:t>
            </a:r>
            <a:endParaRPr b="0" lang="en-US" sz="2800" spc="-1" strike="noStrike">
              <a:solidFill>
                <a:srgbClr val="000000"/>
              </a:solidFill>
              <a:latin typeface="Arial"/>
            </a:endParaRPr>
          </a:p>
          <a:p>
            <a:pPr marL="2541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ater the volatility in NPV in relation to a specific variable, the larger the forecasting risk associated with that variable, and the more attention we want to pay to its estimation</a:t>
            </a:r>
            <a:endParaRPr b="0" lang="en-US" sz="2800" spc="-1" strike="noStrike">
              <a:solidFill>
                <a:srgbClr val="000000"/>
              </a:solidFill>
              <a:latin typeface="Arial"/>
            </a:endParaRPr>
          </a:p>
        </p:txBody>
      </p:sp>
      <p:graphicFrame>
        <p:nvGraphicFramePr>
          <p:cNvPr id="75" name=""/>
          <p:cNvGraphicFramePr/>
          <p:nvPr/>
        </p:nvGraphicFramePr>
        <p:xfrm>
          <a:off x="7924680" y="5638680"/>
          <a:ext cx="838440" cy="652680"/>
        </p:xfrm>
        <a:graphic>
          <a:graphicData uri="http://schemas.openxmlformats.org/presentationml/2006/ole">
            <p:oleObj progId="Excel.Sheet.12" r:id="rId1" spid="">
              <p:embed/>
              <p:pic>
                <p:nvPicPr>
                  <p:cNvPr id="76" name="" descr=""/>
                  <p:cNvPicPr/>
                  <p:nvPr/>
                </p:nvPicPr>
                <p:blipFill>
                  <a:blip r:embed="rId2"/>
                  <a:stretch/>
                </p:blipFill>
                <p:spPr>
                  <a:xfrm>
                    <a:off x="7924680" y="5638680"/>
                    <a:ext cx="838440" cy="652680"/>
                  </a:xfrm>
                  <a:prstGeom prst="rect">
                    <a:avLst/>
                  </a:prstGeom>
                  <a:ln w="0">
                    <a:noFill/>
                  </a:ln>
                </p:spPr>
              </p:pic>
            </p:oleObj>
          </a:graphicData>
        </a:graphic>
      </p:graphicFrame>
      <p:sp>
        <p:nvSpPr>
          <p:cNvPr id="77"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D153392F-196A-4249-B61D-C56A4F1F756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C71C5527-6A73-48BD-BCBF-F8CCF6662E09}" type="slidenum">
              <a:t>8</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
                                  <p:stCondLst>
                                    <p:cond delay="0"/>
                                  </p:stCondLst>
                                  <p:childTnLst>
                                    <p:set>
                                      <p:cBhvr>
                                        <p:cTn id="12"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447920" y="304920"/>
            <a:ext cx="76960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mmary of Sensitivity Analysis for New Project</a:t>
            </a:r>
            <a:endParaRPr b="0" lang="en-US" sz="4000" spc="-1" strike="noStrike">
              <a:solidFill>
                <a:srgbClr val="000000"/>
              </a:solidFill>
              <a:latin typeface="Arial"/>
            </a:endParaRPr>
          </a:p>
        </p:txBody>
      </p:sp>
      <p:graphicFrame>
        <p:nvGraphicFramePr>
          <p:cNvPr id="79" name=""/>
          <p:cNvGraphicFramePr/>
          <p:nvPr/>
        </p:nvGraphicFramePr>
        <p:xfrm>
          <a:off x="1415880" y="1600200"/>
          <a:ext cx="7270920" cy="4483080"/>
        </p:xfrm>
        <a:graphic>
          <a:graphicData uri="http://schemas.openxmlformats.org/drawingml/2006/table">
            <a:tbl>
              <a:tblPr/>
              <a:tblGrid>
                <a:gridCol w="1454400"/>
                <a:gridCol w="1454040"/>
                <a:gridCol w="1454040"/>
                <a:gridCol w="1454400"/>
                <a:gridCol w="1454040"/>
              </a:tblGrid>
              <a:tr h="1131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enario</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 Sales</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V</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r>
              <a:tr h="1130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case</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80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567</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1%</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r>
              <a:tr h="109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st case</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00</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200</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226</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3%</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r>
              <a:tr h="1130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case</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0</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400</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357</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r>
            </a:tbl>
          </a:graphicData>
        </a:graphic>
      </p:graphicFrame>
      <p:sp>
        <p:nvSpPr>
          <p:cNvPr id="80"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0F4444E0-2647-4512-A8FC-794596187AC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 name="PlaceHolder 2"/>
          <p:cNvSpPr>
            <a:spLocks noGrp="1"/>
          </p:cNvSpPr>
          <p:nvPr>
            <p:ph type="sldNum" idx="3"/>
          </p:nvPr>
        </p:nvSpPr>
        <p:spPr/>
        <p:txBody>
          <a:bodyPr/>
          <a:p>
            <a:fld id="{FF7AC52A-95E4-4C07-AB84-0E5BE6494B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3T19:29:12Z</dcterms:created>
  <dc:creator>Kent P. Ragan</dc:creator>
  <dc:description/>
  <dc:language>en-US</dc:language>
  <cp:lastModifiedBy>mageshkumar.s</cp:lastModifiedBy>
  <dcterms:modified xsi:type="dcterms:W3CDTF">2009-02-13T05:41:43Z</dcterms:modified>
  <cp:revision>27</cp:revision>
  <dc:subject/>
  <dc:title>Project Analysis and Evaluation</dc:title>
</cp:coreProperties>
</file>