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163D-A082-4A51-A866-CC44EBDA5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0" lang="en-US" sz="1200" spc="-1" strike="noStrike">
                <a:solidFill>
                  <a:srgbClr val="000000"/>
                </a:solidFill>
                <a:latin typeface="Arial"/>
              </a:rPr>
              <a:t> A very useful software is </a:t>
            </a:r>
            <a:r>
              <a:rPr b="0" i="1" lang="en-US" sz="1200" spc="-1" strike="noStrike">
                <a:solidFill>
                  <a:srgbClr val="000000"/>
                </a:solidFill>
                <a:latin typeface="Arial"/>
              </a:rPr>
              <a:t>Crystal Ball</a:t>
            </a:r>
            <a:r>
              <a:rPr b="0" lang="en-US" sz="1200" spc="-1" strike="noStrike">
                <a:solidFill>
                  <a:srgbClr val="000000"/>
                </a:solidFill>
                <a:latin typeface="Arial"/>
              </a:rPr>
              <a:t>, which is a simulation package that integrates with Excel. It is relatively inexpensive, yet it is very useful for basic-to-moderate simulation analysis. For example, the software allows you to build models (such as NPV) in Excel, then define the assumptions behind the inputs (such as distribution, possible extreme values, etc.), as well as the interaction (i.e., correlation) between the inputs. Output is then generated based on a simulation of 1,000 runs, providing distribution analysis and numerical summary statist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emphasize that, in computing total variable costs, the only relevant costs are those that are directly related to the manufacture and sale of the product. Allocated (or indirect) costs should not enter the analysis. Suggest to the students that when they are uncertain, they should use the “with/without” criterion: will the costs be different if the investment is made? If not, the cost is, by definition, not directly related to the decision and should not be included.</a:t>
            </a:r>
            <a:br>
              <a:rPr sz="1200"/>
            </a:b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Students should recognize that as quantity increases, total fixed costs remain constant, but, on a per unit basis, they decrease with increasing volume. And, as quantity increases, total cost per unit approaches variable cost per unit. If a company expects a high unit sales volume, the company may desire to exploit the possible economies of scale by investing more in fixed costs in an effort to lower variable cost per unit. However, this could create future financial problems if sales expectations fail to materialize. You might mention that this sensitivity to earnings declines will be examined later in this chapter through the discussion of the degree of operating leverag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 to expand on this issue, there is an example provided in the I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cture Tip:</a:t>
            </a:r>
            <a:r>
              <a:rPr b="0" i="1" lang="en-US" sz="1200" spc="-1" strike="noStrike">
                <a:solidFill>
                  <a:srgbClr val="000000"/>
                </a:solidFill>
                <a:latin typeface="Arial"/>
              </a:rPr>
              <a:t> Inquisitive students may ask how the computations change when you include taxes. The equations change as follows:</a:t>
            </a:r>
            <a:br>
              <a:rPr sz="1200"/>
            </a:br>
            <a:br>
              <a:rPr sz="1200"/>
            </a:br>
            <a:r>
              <a:rPr b="0" i="1" lang="en-US" sz="1200" spc="-1" strike="noStrike">
                <a:solidFill>
                  <a:srgbClr val="000000"/>
                </a:solidFill>
                <a:latin typeface="Arial"/>
              </a:rPr>
              <a:t>OCF = [(P – v)Q – FC – D](1 – T) + D</a:t>
            </a:r>
            <a:br>
              <a:rPr sz="1200"/>
            </a:br>
            <a:br>
              <a:rPr sz="1200"/>
            </a:br>
            <a:r>
              <a:rPr b="0" i="1" lang="en-US" sz="1200" spc="-1" strike="noStrike">
                <a:solidFill>
                  <a:srgbClr val="000000"/>
                </a:solidFill>
                <a:latin typeface="Arial"/>
              </a:rPr>
              <a:t>Use a tax rate = 40% and rework the Wettways example from the book:</a:t>
            </a:r>
            <a:endParaRPr b="0" lang="en-US" sz="1200" spc="-1" strike="noStrike">
              <a:solidFill>
                <a:srgbClr val="000000"/>
              </a:solidFill>
              <a:latin typeface="Arial"/>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 1170 in OCF to break-even on a financial basi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CF = [(40 – 20)(Q) – 500 – 700](1 - .4) + 700 = 1170</a:t>
            </a:r>
            <a:br>
              <a:rPr sz="1200"/>
            </a:br>
            <a:br>
              <a:rPr sz="1200"/>
            </a:br>
            <a:r>
              <a:rPr b="0" i="1" lang="en-US" sz="1200" spc="-1" strike="noStrike">
                <a:solidFill>
                  <a:srgbClr val="000000"/>
                </a:solidFill>
                <a:latin typeface="Arial"/>
              </a:rPr>
              <a:t>Q = 99.2</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end up with a new quantity of 100 units. The firm must sell an additional 16 units to offset the effects of taxes.</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B3B9-3F7E-4D69-883E-306269366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In 2008, the economy was suffering from a real estate and credit crisis. As a result, lenders essentially withdrew from the market and credit dried up. This is a perfect example of an issue that would create a situation very close to Hard Rationing for many businesses.</a:t>
            </a:r>
            <a:br>
              <a:rPr sz="1200"/>
            </a:br>
            <a:br>
              <a:rPr sz="1200"/>
            </a:b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searchers associated with South Miami Hospital (SMH) developed a new experimental laser treatment for heart patients. Its development team and the physicians who use the laser consider it to be a lifesaving advance. It should be noted that the physicians who are touting the laser hold a significant stake in the company that produces the la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offer a substitute for a balloon angioplasty to treat heart blockages, the experimental laser was developed at a cost of $250,000. SMH estimates that it will cost $20,000 to install the laser. The procedure requires a nurse at $50 per hour, a technician at $30 per hour, and a physician who is paid $750 per hour. Patients are billed $3,000 for the procedure compared to $1,500 for the traditional balloon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k the students to determine the break-even quantity for the new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cost = 250,000 + 20,000 = 27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riable cost = 50 + 30 + 750 = 830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reak-Even = 250,000 / (3,000 – 830) = 115.2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roximately 116 patients (assuming a one-hour procedure per patien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rimary reasons for a positive NPV: (1) we have constructed a good project or (2) we have done a bad job of estimating NPV.</a:t>
            </a:r>
            <a:br>
              <a:rPr sz="1200"/>
            </a:br>
            <a:br>
              <a:rPr sz="1200"/>
            </a:b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Perhaps the single largest source of positive NPVs is the economic concept of monopoly rents – positive profits that occur from being the only one able or allowed to do something. Monopoly rents are often associated with patent rights and technological edges and they quickly disappear in a competitive market. Introducing this notion in class provides a springboard for discussions of both business and financial strategy, as well as for discussion of the application of economic theory to the re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Alan Shapiro, the following are project characteristics associated with positive NPVs.</a:t>
            </a:r>
            <a:br>
              <a:rPr sz="1200"/>
            </a:br>
            <a:r>
              <a:rPr b="0" lang="en-US" sz="1200" spc="-1" strike="noStrike">
                <a:solidFill>
                  <a:srgbClr val="000000"/>
                </a:solidFill>
                <a:latin typeface="Arial"/>
              </a:rPr>
              <a:t>	</a:t>
            </a:r>
            <a:r>
              <a:rPr b="0" lang="en-US" sz="1200" spc="-1" strike="noStrike">
                <a:solidFill>
                  <a:srgbClr val="000000"/>
                </a:solidFill>
                <a:latin typeface="Arial"/>
              </a:rPr>
              <a:t> 1) Economies of scal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differentiation</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st advantage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cess to distribution channel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avorable government polic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0DCE-506D-4AF8-9E2C-17BF7E58C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a:t>
            </a:r>
            <a:r>
              <a:rPr b="1" i="1" lang="en-US" sz="1200" spc="-1" strike="noStrike">
                <a:solidFill>
                  <a:srgbClr val="000000"/>
                </a:solidFill>
                <a:latin typeface="Arial"/>
              </a:rPr>
              <a:t> </a:t>
            </a:r>
            <a:r>
              <a:rPr b="0" lang="en-US" sz="1200" spc="-1" strike="noStrike">
                <a:solidFill>
                  <a:srgbClr val="000000"/>
                </a:solidFill>
                <a:latin typeface="Arial"/>
              </a:rPr>
              <a:t>A major misconception about a project’s estimated NPV at this point is that it depends upon how the cash flows actually turn out. This thinking misses the point that NPV is an ex ante valuation of an uncertain future. The distinction between the valuation of what is expected versus the ex post value of what transpired is often difficult for students to apprec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ful analogy for getting this point across is the market value of a new car. The potential to be a “lemon” is in every car, as is the possibility of being a “cream puff.” The greater the likelihood that a car will have problems, the lower the price will be. The point, however, is that a new car doesn’t have many different prices right now – one for each conceivable repair record. Rather, there is one price embodying the different potential outcomes and their expected value. So it is with NPV – the potential for good and bad cash flows is reflected in a single market value.</a:t>
            </a:r>
            <a:br>
              <a:rPr sz="1200"/>
            </a:b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1C14-25BF-4B98-9CEB-46129FDA3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cture Tip: </a:t>
            </a:r>
            <a:r>
              <a:rPr b="0" lang="en-US" sz="1200" spc="-1" strike="noStrike">
                <a:solidFill>
                  <a:srgbClr val="000000"/>
                </a:solidFill>
                <a:latin typeface="Arial"/>
              </a:rPr>
              <a:t>You may wish to integrate this discussion of risk with some of the topics to be discussed in forthcoming chapters. The variability between best- and worst-case scenarios is the essence of forecasting risk. Similarly, we link the risk of a security with the variability of its expected return. This point provides another opportunity to link economic theory (investor/manager rationality versus required returns) with real-world decision-making. You might also want to point out that the cases examined in this type of analysis typically aren’t literally the best and worst cases possible. The true worst-case scenario is something absurdly unlikely, such as an earthquake that swallows our production plant. Instead, the worst-case used in scenario analysis is simply a pessimistic (but possible) forecast used to develop expected cash flow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 If desired, it may be a good point at which to demonstrate the Solver function in Excel, as you can identify how high/low an input could go before NPV becomes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648CF-3A3D-4BC2-A902-605099FC1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D912-4DE9-47F9-84CA-6ECD22E3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17EC4-BE71-424D-990F-DE7590987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50D46-5598-4250-A161-1B6EA1366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D0227-DAC0-4B1C-899A-52E50B14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28AFC-AB7E-49BC-9D54-54702F7F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F0BA9-B179-48C8-8A16-EC77C1FB3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EA802-EACC-4FB3-9B24-228FADFFA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21F65-3AEA-423E-B0AF-87E97BF50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2677-1188-45DD-8695-75304DC9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81AD8-F75A-4A58-82D7-EB00A2B2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1CDE-596C-47B9-9A92-1F4A6F52B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
          <p:cNvSpPr/>
          <p:nvPr/>
        </p:nvSpPr>
        <p:spPr>
          <a:xfrm>
            <a:off x="1905120" y="1676520"/>
            <a:ext cx="4952880" cy="403848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1</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Project Analysis and Evaluation</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602C5417-0664-4CD5-A091-8B07B746F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is really just an expanded sensitivity and scenario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imulation can estimate thousands of possible outcomes based on conditional probability distributions and constraints for each of the variab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is a probability distribution for NPV with an estimate of the probability of obtaining a positive net presen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000000"/>
              </a:solidFill>
              <a:latin typeface="Arial"/>
            </a:endParaRPr>
          </a:p>
        </p:txBody>
      </p:sp>
      <p:sp>
        <p:nvSpPr>
          <p:cNvPr id="83"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3A59ED66-8143-4B5E-B28E-DABFD75EDB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377F302-00B0-4A64-9D37-82C1F151D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Decision</a:t>
            </a:r>
            <a:endParaRPr b="0" lang="en-US" sz="4400" spc="-1" strike="noStrike">
              <a:solidFill>
                <a:srgbClr val="000000"/>
              </a:solidFill>
              <a:latin typeface="Arial"/>
            </a:endParaRPr>
          </a:p>
        </p:txBody>
      </p:sp>
      <p:sp>
        <p:nvSpPr>
          <p:cNvPr id="85" name="PlaceHolder 2"/>
          <p:cNvSpPr>
            <a:spLocks noGrp="1"/>
          </p:cNvSpPr>
          <p:nvPr>
            <p:ph/>
          </p:nvPr>
        </p:nvSpPr>
        <p:spPr>
          <a:xfrm>
            <a:off x="1447560" y="1371240"/>
            <a:ext cx="738828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Paralysis of Analysis”</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ome point you have to make a decision</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ajority of your scenarios have positive NPVs, then you can feel reasonably comfortable about accepting the project</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 crucial variable that leads to a negative NPV with a small change in the estimates, then you may want to forego the project</a:t>
            </a:r>
            <a:endParaRPr b="0" lang="en-US" sz="2800" spc="-1" strike="noStrike">
              <a:solidFill>
                <a:srgbClr val="000000"/>
              </a:solidFill>
              <a:latin typeface="Arial"/>
            </a:endParaRPr>
          </a:p>
        </p:txBody>
      </p:sp>
      <p:sp>
        <p:nvSpPr>
          <p:cNvPr id="86"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6983B66-71E8-4ABD-82C5-1F00D57B4F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1A371AB-CF8F-4983-B91C-E914FDD80D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Even Analysis</a:t>
            </a:r>
            <a:endParaRPr b="0" lang="en-US" sz="4400" spc="-1" strike="noStrike">
              <a:solidFill>
                <a:srgbClr val="000000"/>
              </a:solidFill>
              <a:latin typeface="Arial"/>
            </a:endParaRPr>
          </a:p>
        </p:txBody>
      </p:sp>
      <p:sp>
        <p:nvSpPr>
          <p:cNvPr id="88"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n tool for analyzing the relationship between sales volume and profitabi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common break-even measures</a:t>
            </a:r>
            <a:endParaRPr b="0" lang="en-US" sz="26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sales volume at which NI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sales volume at which OCF = 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 – sales volume at which NPV = 0</a:t>
            </a:r>
            <a:endParaRPr b="0" lang="en-US" sz="2400" spc="-1" strike="noStrike">
              <a:solidFill>
                <a:srgbClr val="000000"/>
              </a:solidFill>
              <a:latin typeface="Arial"/>
            </a:endParaRPr>
          </a:p>
        </p:txBody>
      </p:sp>
      <p:sp>
        <p:nvSpPr>
          <p:cNvPr id="89" name=""/>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799F48F-52BD-4DDA-BC08-02599B5DA3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728EAB54-06D2-4DFE-8395-8D868F2B7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s</a:t>
            </a:r>
            <a:endParaRPr b="0" lang="en-US" sz="4400" spc="-1" strike="noStrike">
              <a:solidFill>
                <a:srgbClr val="000000"/>
              </a:solidFill>
              <a:latin typeface="Arial"/>
            </a:endParaRPr>
          </a:p>
        </p:txBody>
      </p:sp>
      <p:sp>
        <p:nvSpPr>
          <p:cNvPr id="91" name="PlaceHolder 2"/>
          <p:cNvSpPr>
            <a:spLocks noGrp="1"/>
          </p:cNvSpPr>
          <p:nvPr>
            <p:ph/>
          </p:nvPr>
        </p:nvSpPr>
        <p:spPr>
          <a:xfrm>
            <a:off x="1371240" y="1447920"/>
            <a:ext cx="762012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costs that are important in breakeven analysis: variable and fixed</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variable costs = quantity * cost per uni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costs are constant, regardless of output, over some time period</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osts = fixed + variable = FC + vQ</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firm pays $3,000 per month in fixed costs. You also pay $15 per unit to produce your produc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total cost if you produce 1,000 uni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f you produce 5,000 units?</a:t>
            </a:r>
            <a:endParaRPr b="0" lang="en-US" sz="2200" spc="-1" strike="noStrike">
              <a:solidFill>
                <a:srgbClr val="000000"/>
              </a:solidFill>
              <a:latin typeface="Arial"/>
            </a:endParaRPr>
          </a:p>
        </p:txBody>
      </p:sp>
      <p:sp>
        <p:nvSpPr>
          <p:cNvPr id="9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8E69D4E-355D-41BA-82E3-BF81362521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C8E65D3-5F6F-4AD1-8AAC-77B261BB4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erage vs. Marginal Cost</a:t>
            </a:r>
            <a:endParaRPr b="0" lang="en-US" sz="4400" spc="-1" strike="noStrike">
              <a:solidFill>
                <a:srgbClr val="000000"/>
              </a:solidFill>
              <a:latin typeface="Arial"/>
            </a:endParaRPr>
          </a:p>
        </p:txBody>
      </p:sp>
      <p:sp>
        <p:nvSpPr>
          <p:cNvPr id="94"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 # of unit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decrease as # of units increase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ginal Cost</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 to produce one more unit</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variable cost per uni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average cost and marginal cost under each situation in the previous example</a:t>
            </a:r>
            <a:endParaRPr b="0" lang="en-US" sz="22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1,000 units: Average = 18,000 / 1000 = $1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5,000 units: Average = 78,000 / 5000 = $15.60</a:t>
            </a:r>
            <a:endParaRPr b="0" lang="en-US" sz="2000" spc="-1" strike="noStrike">
              <a:solidFill>
                <a:srgbClr val="000000"/>
              </a:solidFill>
              <a:latin typeface="Arial"/>
            </a:endParaRPr>
          </a:p>
        </p:txBody>
      </p:sp>
      <p:sp>
        <p:nvSpPr>
          <p:cNvPr id="9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B7941AAF-6437-4412-B279-24A5F71D87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23C9189-A48A-45BC-A36F-7CD5CEAC0C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a:t>
            </a:r>
            <a:endParaRPr b="0" lang="en-US" sz="4400" spc="-1" strike="noStrike">
              <a:solidFill>
                <a:srgbClr val="000000"/>
              </a:solidFill>
              <a:latin typeface="Arial"/>
            </a:endParaRPr>
          </a:p>
        </p:txBody>
      </p:sp>
      <p:sp>
        <p:nvSpPr>
          <p:cNvPr id="9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quantity that leads to a zero net in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 = (Sales – VC – FC – D)(1 – T)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Q – FC – D =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P – v) = FC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FC + D) / (P – v)</a:t>
            </a:r>
            <a:endParaRPr b="0" lang="en-US" sz="3200" spc="-1" strike="noStrike">
              <a:solidFill>
                <a:srgbClr val="000000"/>
              </a:solidFill>
              <a:latin typeface="Arial"/>
            </a:endParaRPr>
          </a:p>
        </p:txBody>
      </p:sp>
      <p:sp>
        <p:nvSpPr>
          <p:cNvPr id="9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92582FD-2D48-4A98-B4B9-47BE2F25F8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071D780-F363-401E-8954-21EDE08FA4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ccounting Break-Even</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is often used as an early stage screening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roject cannot break-even on an accounting basis, then it is not going to be a worthwhile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 break-even gives managers an indication of how a project will impact accounting profit</a:t>
            </a:r>
            <a:endParaRPr b="0" lang="en-US" sz="3200" spc="-1" strike="noStrike">
              <a:solidFill>
                <a:srgbClr val="000000"/>
              </a:solidFill>
              <a:latin typeface="Arial"/>
            </a:endParaRPr>
          </a:p>
        </p:txBody>
      </p:sp>
      <p:sp>
        <p:nvSpPr>
          <p:cNvPr id="10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4F5CA1C-F699-4393-A712-D421257A39F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31D1665-D8D9-49D2-B4D2-D2EAFB227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Break-Even and Cash Flow</a:t>
            </a:r>
            <a:endParaRPr b="0" lang="en-US" sz="4400" spc="-1" strike="noStrike">
              <a:solidFill>
                <a:srgbClr val="000000"/>
              </a:solidFill>
              <a:latin typeface="Arial"/>
            </a:endParaRPr>
          </a:p>
        </p:txBody>
      </p:sp>
      <p:sp>
        <p:nvSpPr>
          <p:cNvPr id="103" name="PlaceHolder 2"/>
          <p:cNvSpPr>
            <a:spLocks noGrp="1"/>
          </p:cNvSpPr>
          <p:nvPr>
            <p:ph/>
          </p:nvPr>
        </p:nvSpPr>
        <p:spPr>
          <a:xfrm>
            <a:off x="1447560" y="1793520"/>
            <a:ext cx="739116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more interested in cash flow than we are in accounting nu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a firm has non-cash deductions, there will be a positive cash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cash flow = deprec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irm just breaks even on an accounting basis, NPV will generally be &lt;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D420F6F-ACD7-4D53-A3E3-90397EE50B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7F0876F-2845-403D-81E3-7FE9A5E06D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15520" y="274680"/>
            <a:ext cx="7256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06" name="PlaceHolder 2"/>
          <p:cNvSpPr>
            <a:spLocks noGrp="1"/>
          </p:cNvSpPr>
          <p:nvPr>
            <p:ph/>
          </p:nvPr>
        </p:nvSpPr>
        <p:spPr>
          <a:xfrm>
            <a:off x="1447560" y="1371240"/>
            <a:ext cx="73911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project</a:t>
            </a:r>
            <a:endParaRPr b="0" lang="en-US" sz="26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product requires an initial investment of $5 million and will be depreciated to an expected salvage of zero over 5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 of the new product is expected to be $25,000, and the variable cost per unit is $15,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xed cost is $1 million</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point each ye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 5,000,000 / 5 = 1,000,0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1,000,000 + 1,000,000)/(25,000 – 15,000) = 200 units</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B567D913-C563-4C8A-8E02-00B97B2D220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6A1A16B7-233C-47F8-9339-E29D18045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s Volume and Operating Cash Flow</a:t>
            </a:r>
            <a:endParaRPr b="0" lang="en-US" sz="4400" spc="-1" strike="noStrike">
              <a:solidFill>
                <a:srgbClr val="000000"/>
              </a:solidFill>
              <a:latin typeface="Arial"/>
            </a:endParaRPr>
          </a:p>
        </p:txBody>
      </p:sp>
      <p:sp>
        <p:nvSpPr>
          <p:cNvPr id="109"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erating cash flow at the accounting break-even point (ignoring tax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S – VC – FC - D) + D</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200*25,000 – 200*15,000 – 1,000,000 -1,000,000) + 1,000,000 = 1,000,0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ash break-even quantity?</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F = [(P-v)Q – FC – D] + D = (P-v)Q – FC</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OCF + FC) / (P – 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 + 1,000,000) / (25,000 – 15,000) = 100 units</a:t>
            </a:r>
            <a:endParaRPr b="0" lang="en-US" sz="2000" spc="-1" strike="noStrike">
              <a:solidFill>
                <a:srgbClr val="000000"/>
              </a:solidFill>
              <a:latin typeface="Arial"/>
            </a:endParaRPr>
          </a:p>
        </p:txBody>
      </p:sp>
      <p:sp>
        <p:nvSpPr>
          <p:cNvPr id="11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AA04DAF-6084-4E7A-A17F-7D885427A5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4807F56-717B-4ED5-B5F7-547C89B17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forecasting risk and sources of valu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nd be able to conduct scenario and sensitivity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forms of break-even analysi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operating leverag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capital rationing and its effects</a:t>
            </a:r>
            <a:endParaRPr b="0" lang="en-US" sz="3200" spc="-1" strike="noStrike">
              <a:solidFill>
                <a:srgbClr val="000000"/>
              </a:solidFill>
              <a:latin typeface="Arial"/>
            </a:endParaRPr>
          </a:p>
        </p:txBody>
      </p:sp>
      <p:sp>
        <p:nvSpPr>
          <p:cNvPr id="5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98EA490-ED5A-4048-9F0E-8F6AC5E1FD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8102C8E-208B-4550-BC05-B3C62DD93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Break-Even Analysis</a:t>
            </a:r>
            <a:endParaRPr b="0" lang="en-US" sz="4400" spc="-1" strike="noStrike">
              <a:solidFill>
                <a:srgbClr val="000000"/>
              </a:solidFill>
              <a:latin typeface="Arial"/>
            </a:endParaRPr>
          </a:p>
        </p:txBody>
      </p:sp>
      <p:sp>
        <p:nvSpPr>
          <p:cNvPr id="112"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I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D)/(P – v)</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OCF =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FC + OCF)/(P – v)   (ignoring tax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Break-even</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NPV = 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E &lt; Accounting BE &lt; Financial BE</a:t>
            </a:r>
            <a:endParaRPr b="0" lang="en-US" sz="2400" spc="-1" strike="noStrike">
              <a:solidFill>
                <a:srgbClr val="000000"/>
              </a:solidFill>
              <a:latin typeface="Arial"/>
            </a:endParaRPr>
          </a:p>
        </p:txBody>
      </p:sp>
      <p:sp>
        <p:nvSpPr>
          <p:cNvPr id="113"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E38C26D-DBF0-4AD2-9F02-EEBFA1B73A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A796EB7-7FDB-467B-ABB3-05D8DF888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Break-Even Analysis</a:t>
            </a:r>
            <a:endParaRPr b="0" lang="en-US" sz="4400" spc="-1" strike="noStrike">
              <a:solidFill>
                <a:srgbClr val="000000"/>
              </a:solidFill>
              <a:latin typeface="Arial"/>
            </a:endParaRPr>
          </a:p>
        </p:txBody>
      </p:sp>
      <p:sp>
        <p:nvSpPr>
          <p:cNvPr id="115" name="PlaceHolder 2"/>
          <p:cNvSpPr>
            <a:spLocks noGrp="1"/>
          </p:cNvSpPr>
          <p:nvPr>
            <p:ph/>
          </p:nvPr>
        </p:nvSpPr>
        <p:spPr>
          <a:xfrm>
            <a:off x="1447560" y="1676160"/>
            <a:ext cx="731196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required return of 18%</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break-even = 2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break-even = 100</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nancial break-even poin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process to that of finding the bid pri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CF (or payment) makes NPV = 0?</a:t>
            </a:r>
            <a:endParaRPr b="0" lang="en-US" sz="20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 = 5; PV = 5,000,000; I/Y = 18; CPT PMT = 1,598,889 = OCF</a:t>
            </a:r>
            <a:endParaRPr b="0" lang="en-US" sz="19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1,000,000 + 1,598,889) / (25,000 – 15,000) = 260 unit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now becomes: Can we sell at least 260 units per year?</a:t>
            </a:r>
            <a:endParaRPr b="0" lang="en-US" sz="2800" spc="-1" strike="noStrike">
              <a:solidFill>
                <a:srgbClr val="000000"/>
              </a:solidFill>
              <a:latin typeface="Arial"/>
            </a:endParaRPr>
          </a:p>
          <a:p>
            <a:pPr lvl="3" marL="1600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1B7B2042-23B0-4584-BECE-3911617490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3F90603-BE0B-4B92-9056-8072F5D04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Leverage</a:t>
            </a:r>
            <a:endParaRPr b="0" lang="en-US" sz="4400" spc="-1" strike="noStrike">
              <a:solidFill>
                <a:srgbClr val="000000"/>
              </a:solidFill>
              <a:latin typeface="Arial"/>
            </a:endParaRPr>
          </a:p>
        </p:txBody>
      </p:sp>
      <p:sp>
        <p:nvSpPr>
          <p:cNvPr id="11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leverage is the relationship between sales and operating cash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operating leverage measures this relationship</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DOL, the greater the variability in operating cash 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fixed costs, the higher the DOL</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 depends on the sales level you are starting fro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L = 1 + (FC / OCF)</a:t>
            </a:r>
            <a:endParaRPr b="0" lang="en-US" sz="2800" spc="-1" strike="noStrike">
              <a:solidFill>
                <a:srgbClr val="000000"/>
              </a:solidFill>
              <a:latin typeface="Arial"/>
            </a:endParaRPr>
          </a:p>
        </p:txBody>
      </p:sp>
      <p:sp>
        <p:nvSpPr>
          <p:cNvPr id="11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7F833E0-1191-4059-BD9B-16C306A058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E10E5E5-BAEC-476C-82B1-597ACCCDE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OL</a:t>
            </a:r>
            <a:endParaRPr b="0" lang="en-US" sz="4400" spc="-1" strike="noStrike">
              <a:solidFill>
                <a:srgbClr val="000000"/>
              </a:solidFill>
              <a:latin typeface="Arial"/>
            </a:endParaRPr>
          </a:p>
        </p:txBody>
      </p:sp>
      <p:sp>
        <p:nvSpPr>
          <p:cNvPr id="121" name="PlaceHolder 2"/>
          <p:cNvSpPr>
            <a:spLocks noGrp="1"/>
          </p:cNvSpPr>
          <p:nvPr>
            <p:ph/>
          </p:nvPr>
        </p:nvSpPr>
        <p:spPr>
          <a:xfrm>
            <a:off x="1523880" y="1294920"/>
            <a:ext cx="739152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previous exam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sales are 300 units</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ets all three break-even measures</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DOL at this sales level?</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 (25,000 – 15,000)*300 – 1,000,000 = 2,00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 = 1 + 1,000,000 / 2,000,000 = 1.5</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happen to OCF if unit sales increases by 20%?</a:t>
            </a:r>
            <a:endParaRPr b="0" lang="en-US" sz="26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DOL*Percentage change in Q</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change in OCF = 1.5(.2) = .3 or 3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F would increase to 2,000,000(1.3) = 2,600,000</a:t>
            </a:r>
            <a:endParaRPr b="0" lang="en-US" sz="2200" spc="-1" strike="noStrike">
              <a:solidFill>
                <a:srgbClr val="000000"/>
              </a:solidFill>
              <a:latin typeface="Arial"/>
            </a:endParaRPr>
          </a:p>
        </p:txBody>
      </p:sp>
      <p:sp>
        <p:nvSpPr>
          <p:cNvPr id="12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783D321-6DE0-4B53-A15E-35AF0BA355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B715C6A-7F86-4DEE-AC65-AA6940772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ital Rationing</a:t>
            </a:r>
            <a:endParaRPr b="0" lang="en-US" sz="4400" spc="-1" strike="noStrike">
              <a:solidFill>
                <a:srgbClr val="000000"/>
              </a:solidFill>
              <a:latin typeface="Arial"/>
            </a:endParaRPr>
          </a:p>
        </p:txBody>
      </p:sp>
      <p:sp>
        <p:nvSpPr>
          <p:cNvPr id="124" name="PlaceHolder 2"/>
          <p:cNvSpPr>
            <a:spLocks noGrp="1"/>
          </p:cNvSpPr>
          <p:nvPr>
            <p:ph/>
          </p:nvPr>
        </p:nvSpPr>
        <p:spPr>
          <a:xfrm>
            <a:off x="1294920" y="1447560"/>
            <a:ext cx="75409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 occurs when a firm or division has limited resourc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rationing – the limited resources are temporary, often self-imposed</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rationing – capital will never be available for this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fitability index is a useful tool when a manager is faced with soft ratio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866A26E-EDF4-48B8-A113-A8D68279F8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20C73FC6-FAB2-4852-A3B4-E81DFA13CE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27"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ensitivity analysis, scenario analysis and sim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se analyses important, and how should they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hree types of break-even analysis, and how should each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egree of operating leve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hard rationing and soft rationing?</a:t>
            </a:r>
            <a:endParaRPr b="0" lang="en-US" sz="2800" spc="-1" strike="noStrike">
              <a:solidFill>
                <a:srgbClr val="000000"/>
              </a:solidFill>
              <a:latin typeface="Arial"/>
            </a:endParaRPr>
          </a:p>
        </p:txBody>
      </p:sp>
      <p:sp>
        <p:nvSpPr>
          <p:cNvPr id="12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A1FC1B21-965D-47B8-B12A-A594B08959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4EE8878-C48C-4D11-AB5D-9384481A7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30" name="PlaceHolder 2"/>
          <p:cNvSpPr>
            <a:spLocks noGrp="1"/>
          </p:cNvSpPr>
          <p:nvPr>
            <p:ph/>
          </p:nvPr>
        </p:nvSpPr>
        <p:spPr>
          <a:xfrm>
            <a:off x="1371240" y="13712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ethical for a medical patient to pay for a portion of R&amp;D costs (since experimental procedures are not covered by insurance) prior to the introduction of the final product? Is it proper for physicians to recommend this procedure when they have a vested interest in its usage?</a:t>
            </a:r>
            <a:endParaRPr b="0" lang="en-US" sz="2800" spc="-1" strike="noStrike">
              <a:solidFill>
                <a:srgbClr val="000000"/>
              </a:solidFill>
              <a:latin typeface="Arial"/>
            </a:endParaRPr>
          </a:p>
        </p:txBody>
      </p:sp>
      <p:sp>
        <p:nvSpPr>
          <p:cNvPr id="13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7513D4E-F737-484B-AA1E-6B948595AE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42D32B0D-DEC5-4CB3-B8EE-842090B31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3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ccounting break-even quantity, operating cash flow at accounting break-even, and DOL at that output level?</a:t>
            </a:r>
            <a:endParaRPr b="0" lang="en-US" sz="2400" spc="-1" strike="noStrike">
              <a:solidFill>
                <a:srgbClr val="000000"/>
              </a:solidFill>
              <a:latin typeface="Arial"/>
            </a:endParaRPr>
          </a:p>
        </p:txBody>
      </p:sp>
      <p:sp>
        <p:nvSpPr>
          <p:cNvPr id="13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5FEE5166-51F1-4D8D-9A93-B80846E143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5A13E61-CCC9-4914-B9EC-CD0A6E65B7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52480" y="2819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36"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B869988B-16B3-4C30-82C9-49A1E17C57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0E682EF0-E5F6-4598-95DE-5017C0722FB0}"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NPV Estim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d Other What-If Analy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Even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Cash Flow, Sales Volume, and Break-E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Leve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ationing</a:t>
            </a:r>
            <a:endParaRPr b="0" lang="en-US" sz="3200" spc="-1" strike="noStrike">
              <a:solidFill>
                <a:srgbClr val="000000"/>
              </a:solidFill>
              <a:latin typeface="Arial"/>
            </a:endParaRPr>
          </a:p>
        </p:txBody>
      </p:sp>
      <p:sp>
        <p:nvSpPr>
          <p:cNvPr id="58"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4037B35-66A7-4F8D-9C82-3053ED8518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9FB0279F-89DA-40C8-B692-42B200CF21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NPV Estimate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V estimates are just that –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sitive NPV is a good start – now we need to take a closer look</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isk – how sensitive is our NPV to changes in the cash flow estimates; the more sensitive, the greater the forecasting risk</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of value – why does this project create value?</a:t>
            </a:r>
            <a:endParaRPr b="0" lang="en-US" sz="2400" spc="-1" strike="noStrike">
              <a:solidFill>
                <a:srgbClr val="000000"/>
              </a:solidFill>
              <a:latin typeface="Arial"/>
            </a:endParaRPr>
          </a:p>
        </p:txBody>
      </p:sp>
      <p:sp>
        <p:nvSpPr>
          <p:cNvPr id="61"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9F788295-FD93-4CB8-8870-732A22BF7E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AB5D4E59-459D-4E0C-A0D8-8D87CFDA8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 Analysis</a:t>
            </a:r>
            <a:endParaRPr b="0" lang="en-US" sz="4400" spc="-1" strike="noStrike">
              <a:solidFill>
                <a:srgbClr val="000000"/>
              </a:solidFill>
              <a:latin typeface="Arial"/>
            </a:endParaRPr>
          </a:p>
        </p:txBody>
      </p:sp>
      <p:sp>
        <p:nvSpPr>
          <p:cNvPr id="6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the NPV under different cash flow scen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very least, look a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 high revenues, low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 low revenues, high cost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the range of possible outco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case and worst case are not necessarily probable, but they can still be possible</a:t>
            </a:r>
            <a:endParaRPr b="0" lang="en-US" sz="2800" spc="-1" strike="noStrike">
              <a:solidFill>
                <a:srgbClr val="000000"/>
              </a:solidFill>
              <a:latin typeface="Arial"/>
            </a:endParaRPr>
          </a:p>
        </p:txBody>
      </p:sp>
      <p:sp>
        <p:nvSpPr>
          <p:cNvPr id="64"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EA62F131-8CB2-4595-9EE0-8A74B3E8D1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06FD9C8B-0DC5-4079-81FD-7776E4E700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 Example</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oject discussed in th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cost is $200,000, and the project has a 5-year life. There is no salvage. Depreciation is straight-line, the required return is 12%, and the tax rate is 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 case NPV is 15,567</a:t>
            </a:r>
            <a:endParaRPr b="0" lang="en-US" sz="2800" spc="-1" strike="noStrike">
              <a:solidFill>
                <a:srgbClr val="000000"/>
              </a:solidFill>
              <a:latin typeface="Arial"/>
            </a:endParaRPr>
          </a:p>
        </p:txBody>
      </p:sp>
      <p:graphicFrame>
        <p:nvGraphicFramePr>
          <p:cNvPr id="67" name=""/>
          <p:cNvGraphicFramePr/>
          <p:nvPr/>
        </p:nvGraphicFramePr>
        <p:xfrm>
          <a:off x="7543800" y="5105520"/>
          <a:ext cx="758880" cy="712800"/>
        </p:xfrm>
        <a:graphic>
          <a:graphicData uri="http://schemas.openxmlformats.org/presentationml/2006/ole">
            <p:oleObj progId="Excel.Sheet.12" r:id="rId1" spid="">
              <p:embed/>
              <p:pic>
                <p:nvPicPr>
                  <p:cNvPr id="68" name="" descr=""/>
                  <p:cNvPicPr/>
                  <p:nvPr/>
                </p:nvPicPr>
                <p:blipFill>
                  <a:blip r:embed="rId2"/>
                  <a:stretch/>
                </p:blipFill>
                <p:spPr>
                  <a:xfrm>
                    <a:off x="7543800" y="5105520"/>
                    <a:ext cx="758880" cy="712800"/>
                  </a:xfrm>
                  <a:prstGeom prst="rect">
                    <a:avLst/>
                  </a:prstGeom>
                  <a:ln w="0">
                    <a:noFill/>
                  </a:ln>
                </p:spPr>
              </p:pic>
            </p:oleObj>
          </a:graphicData>
        </a:graphic>
      </p:graphicFrame>
      <p:sp>
        <p:nvSpPr>
          <p:cNvPr id="69"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4D93BDC2-42E7-414B-909A-385C0D810D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3B561D28-06E3-4A4F-B239-36D7E45F0BE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Scenario Analysis</a:t>
            </a:r>
            <a:endParaRPr b="0" lang="en-US" sz="4400" spc="-1" strike="noStrike">
              <a:solidFill>
                <a:srgbClr val="000000"/>
              </a:solidFill>
              <a:latin typeface="Arial"/>
            </a:endParaRPr>
          </a:p>
        </p:txBody>
      </p:sp>
      <p:graphicFrame>
        <p:nvGraphicFramePr>
          <p:cNvPr id="71" name=""/>
          <p:cNvGraphicFramePr/>
          <p:nvPr/>
        </p:nvGraphicFramePr>
        <p:xfrm>
          <a:off x="1415880" y="1600200"/>
          <a:ext cx="7270920" cy="4524480"/>
        </p:xfrm>
        <a:graphic>
          <a:graphicData uri="http://schemas.openxmlformats.org/drawingml/2006/table">
            <a:tbl>
              <a:tblPr/>
              <a:tblGrid>
                <a:gridCol w="1454760"/>
                <a:gridCol w="1452960"/>
                <a:gridCol w="1454760"/>
                <a:gridCol w="1453680"/>
                <a:gridCol w="1454760"/>
              </a:tblGrid>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1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719</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73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9,504</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2"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2EB7072-69C2-45FB-9C88-ACB01C54603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2D00DDCE-39AA-405D-BBDF-CB0F4544A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itivity Analysis</a:t>
            </a:r>
            <a:endParaRPr b="0" lang="en-US" sz="4400" spc="-1" strike="noStrike">
              <a:solidFill>
                <a:srgbClr val="000000"/>
              </a:solidFill>
              <a:latin typeface="Arial"/>
            </a:endParaRPr>
          </a:p>
        </p:txBody>
      </p:sp>
      <p:sp>
        <p:nvSpPr>
          <p:cNvPr id="74" name="PlaceHolder 2"/>
          <p:cNvSpPr>
            <a:spLocks noGrp="1"/>
          </p:cNvSpPr>
          <p:nvPr>
            <p:ph/>
          </p:nvPr>
        </p:nvSpPr>
        <p:spPr>
          <a:xfrm>
            <a:off x="1752120" y="1371240"/>
            <a:ext cx="7083720" cy="4530600"/>
          </a:xfrm>
          <a:prstGeom prst="rect">
            <a:avLst/>
          </a:prstGeom>
          <a:noFill/>
          <a:ln w="0">
            <a:noFill/>
          </a:ln>
        </p:spPr>
        <p:txBody>
          <a:bodyPr anchor="t">
            <a:normAutofit/>
          </a:bodyPr>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NPV when we change one variable at a time</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ubset of scenario analysis where we are looking at the effect of specific variables on NPV</a:t>
            </a:r>
            <a:endParaRPr b="0" lang="en-US" sz="2800" spc="-1" strike="noStrike">
              <a:solidFill>
                <a:srgbClr val="000000"/>
              </a:solidFill>
              <a:latin typeface="Arial"/>
            </a:endParaRPr>
          </a:p>
          <a:p>
            <a:pPr marL="2541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000000"/>
              </a:solidFill>
              <a:latin typeface="Arial"/>
            </a:endParaRPr>
          </a:p>
        </p:txBody>
      </p:sp>
      <p:graphicFrame>
        <p:nvGraphicFramePr>
          <p:cNvPr id="75" name=""/>
          <p:cNvGraphicFramePr/>
          <p:nvPr/>
        </p:nvGraphicFramePr>
        <p:xfrm>
          <a:off x="7924680" y="5638680"/>
          <a:ext cx="838440" cy="652680"/>
        </p:xfrm>
        <a:graphic>
          <a:graphicData uri="http://schemas.openxmlformats.org/presentationml/2006/ole">
            <p:oleObj progId="Excel.Sheet.12" r:id="rId1" spid="">
              <p:embed/>
              <p:pic>
                <p:nvPicPr>
                  <p:cNvPr id="76" name="" descr=""/>
                  <p:cNvPicPr/>
                  <p:nvPr/>
                </p:nvPicPr>
                <p:blipFill>
                  <a:blip r:embed="rId2"/>
                  <a:stretch/>
                </p:blipFill>
                <p:spPr>
                  <a:xfrm>
                    <a:off x="7924680" y="5638680"/>
                    <a:ext cx="838440" cy="652680"/>
                  </a:xfrm>
                  <a:prstGeom prst="rect">
                    <a:avLst/>
                  </a:prstGeom>
                  <a:ln w="0">
                    <a:noFill/>
                  </a:ln>
                </p:spPr>
              </p:pic>
            </p:oleObj>
          </a:graphicData>
        </a:graphic>
      </p:graphicFrame>
      <p:sp>
        <p:nvSpPr>
          <p:cNvPr id="77"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C4D4BBF0-CF00-44FF-BB90-EC4B1BC588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CCDE1D5-5284-4659-9A94-3DF789B98FC6}" type="slidenum">
              <a:t>8</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ensitivity Analysis for New Project</a:t>
            </a:r>
            <a:endParaRPr b="0" lang="en-US" sz="4000" spc="-1" strike="noStrike">
              <a:solidFill>
                <a:srgbClr val="000000"/>
              </a:solidFill>
              <a:latin typeface="Arial"/>
            </a:endParaRPr>
          </a:p>
        </p:txBody>
      </p:sp>
      <p:graphicFrame>
        <p:nvGraphicFramePr>
          <p:cNvPr id="79" name=""/>
          <p:cNvGraphicFramePr/>
          <p:nvPr/>
        </p:nvGraphicFramePr>
        <p:xfrm>
          <a:off x="1415880" y="1600200"/>
          <a:ext cx="7270920" cy="4483080"/>
        </p:xfrm>
        <a:graphic>
          <a:graphicData uri="http://schemas.openxmlformats.org/drawingml/2006/table">
            <a:tbl>
              <a:tblPr/>
              <a:tblGrid>
                <a:gridCol w="1454400"/>
                <a:gridCol w="1454040"/>
                <a:gridCol w="1454040"/>
                <a:gridCol w="1454400"/>
                <a:gridCol w="145404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Sales</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67</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109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26</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ase</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400</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35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80" name=""/>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06561377-2E8B-4292-B927-7489C1E8D77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3"/>
          </p:nvPr>
        </p:nvSpPr>
        <p:spPr/>
        <p:txBody>
          <a:bodyPr/>
          <a:p>
            <a:fld id="{2EFE0521-7DCC-4263-A7B7-C5AE5FCC8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mageshkumar.s</cp:lastModifiedBy>
  <dcterms:modified xsi:type="dcterms:W3CDTF">2009-02-13T05:41:43Z</dcterms:modified>
  <cp:revision>27</cp:revision>
  <dc:subject/>
  <dc:title>Project Analysis and Evaluation</dc:title>
</cp:coreProperties>
</file>