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3240" y="-1440"/>
            <a:ext cx="915048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-3240" y="-1440"/>
            <a:ext cx="915048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24:38Z</dcterms:modified>
  <cp:revision>23</cp:revision>
  <dc:subject/>
  <dc:title>PowerPoint Presentation</dc:title>
</cp:coreProperties>
</file>