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-9360" y="-6480"/>
            <a:ext cx="91627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-7920" y="-4680"/>
            <a:ext cx="91598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-7920" y="-4680"/>
            <a:ext cx="91598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-7920" y="-4680"/>
            <a:ext cx="91598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7:28:14Z</dcterms:created>
  <dc:creator>RB</dc:creator>
  <dc:description/>
  <dc:language>en-US</dc:language>
  <cp:lastModifiedBy>Bob</cp:lastModifiedBy>
  <cp:lastPrinted>2002-06-07T15:13:42Z</cp:lastPrinted>
  <dcterms:modified xsi:type="dcterms:W3CDTF">2003-01-27T14:41:08Z</dcterms:modified>
  <cp:revision>22</cp:revision>
  <dc:subject/>
  <dc:title>PowerPoint Presentation</dc:title>
</cp:coreProperties>
</file>