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C5D-000F-46D1-AEEF-254E0AFC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C6C-59FE-41C6-9152-C9000C80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208-4946-4B2F-8C87-FB2913CC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900-48B8-46EE-9902-E1E8821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FDE-0EB5-4D8B-98CD-2A62007D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88F-A718-408A-BD47-B597862E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6AD-94F6-4D4E-BDFC-670C4642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E26-34AF-4BA1-ABE7-10C1BA5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F03-37BA-4990-9508-8F44B69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866-4DCF-42B3-9429-14F42F6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9ED-BE34-400B-8A09-135BEC23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6A4-9B98-4F71-9D62-E6ACCA33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2481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CA9-9041-4653-BB31-7FC002D767D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1DB-1429-419A-9456-43DA12867D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hapter 8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Understanding Inheritance and Interfaces</a:t>
            </a: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3A1-3CA4-4A2B-9E20-24D46A00E69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the class header to implement a sub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s which class the new class is exten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header to define the Sailboat class as a subclass of Bo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Sail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Bo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B95-D696-4EF8-B7BD-614294AB536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definition of a sub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any attributes and metho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ddition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inherited from th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seven parame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for attributes defined in the Boat super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for additional attributes defined in Sail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D15-8E15-45F0-A6CA-15DD4224F23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construct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yBase.New ca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set attributes for registration number, length, manufacturer, and yea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s constructor of the supercla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the first statement in the constru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d unless the superclass includes a default constructor without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set accessor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set the three remaining attribute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6A71-0BD1-4473-B08A-C43EAFDB1B4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 Second Subclass – Powerboat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 the 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es two attributes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Eng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el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or expects six parame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required by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additional attributes for Power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F33B-7D91-4F4D-A257-7260FAF657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 Second Subclass – Powerboat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ce the boats are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ur getter methods inherited from 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nvoked for both sailboats and powerbo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additional getter methods of Sail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 present in powerbo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wo additional getter methods of Powerboa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 present in sailboa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D4E-B3CF-4786-9C44-392D1D6308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bstract and Final Classe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that can be instanti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cla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 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FE8-07ED-4A15-98D5-1060AAAECDD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MustInherit Keywor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t intended to be instanti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ly used to extend into sub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facilitat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Inherit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class header to declare an abstract clas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header to make the Boat class abstract: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MustInherit Class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B480-B0DE-4DE2-B443-82FA8B479D0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NotInheritable Keywor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nal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lass that cannot be extend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for security purposes or effici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using the NotInheritable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header for the Powerboat clas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NotInheritable Class Powerbo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Bo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582C-4AD8-4BC6-96B7-984758FA8D5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a Superclass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overri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in subclass will be invoked instead of method in the superclass if both methods have the same signatu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lows the subclass to modify the behavior of the super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8C20-0B79-4B3B-ACAF-ECF851E43E3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a Superclass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overriding vs. method over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verloa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or more methods in the same class have the same name but a different return type or parameter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 in both the superclass and subclass have the same sign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635-7972-4564-9C3A-CB602BBE0EA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the Boat generalization/specialization class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abstract and final classes and the MustInherit and NotInheritable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e a superclass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private versus protected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606-4009-43D3-BFC5-ECD47D675E8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the Boat TellAboutSelf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lAboutSelf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s method overri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make it easier to get information about an instance of the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able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d in method header to make a method overrid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1F2-461A-48D0-8D1A-CC657F27811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the Boat TellAboutSelf Method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override the TellAboutSelf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same method signature in the subclass, except for u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es keyword in place of Overridable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ce a method is overri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ments in the subclass method control what system does when a sailboat instance is asked to tell about itsel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in Boat is igno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5B7-A684-451A-82FB-A6A7CD0D8D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and Invoking a Superclass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the programmer needs to override a method by extending what the method do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 TellAboutSelf method invokes the superclass method u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yBase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lass method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0009-E487-4B34-B33D-4E82E8C4544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, Polymorphism, and Dynamic Binding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s of different classes can respond to the same message in their own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bi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resolve which method to invoke when the system runs and finds more than one method with the same n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flexibility when adding new subclasses that override superclass metho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F669-F3C2-408A-BF18-D0D68B8C37F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Private Versus Protected Acce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ing attributes as priv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e by using Private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 other object can directly read or modify the val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objects must use methods of the class to get or set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sures encapsulation and information hi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s the ability of an instance of a subclass to directly access attributes defined by the superclas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F78-F631-4435-A72B-D4C1014071C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Private Versus Protected Acce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ing attributes as Pro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e by using Protected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 can be directly accessed by subclass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le only to statements within a method where it is decla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only as long as the method is execu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not need to be declared as private, protected, friend, or 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A3F4-B2D7-4B01-BA4B-0D6CE8C3795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Private Versus Protected Acce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only be invoked from a method within th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not be invoked even by subclass metho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nvoked by a method in a sub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F68-8184-424D-9F3A-D91D804C271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Lease Subclasses and Abstract Method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          Lease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يجا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يجار سنو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ilyLeas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يجار يوم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tribu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: a numeric value (Sing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date: a reference variable   (Date “Date is type and object so we said reference variable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d date : a reference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d as abstra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MustInherit keyword in hea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C5D6-8BA0-4B3E-887A-86828DBB5B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Lease Subclasses and Abstract Method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153" name="Picture 5" descr="Fig08-19"/>
          <p:cNvPicPr/>
          <p:nvPr/>
        </p:nvPicPr>
        <p:blipFill>
          <a:blip r:embed="rId1"/>
          <a:srcRect l="0" t="7501" r="0" b="7501"/>
          <a:stretch/>
        </p:blipFill>
        <p:spPr>
          <a:xfrm>
            <a:off x="1344600" y="1981080"/>
            <a:ext cx="645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351C-AFF8-456D-8D35-1FDE3BCD734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Lease Subclasses and Abstract Method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 construct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one parameter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فروض يس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بارامترز ، لكن  الكاتب اختار بارامتر واحد ، وقت البداية ، لأننا ما نعرف مدة الايجار ، فاذا كان الايجار سنوي فتاريخ الانتهاء يساوي تاريخ البداية + مدة الايجار ،، ما نعرف هل الايجار سنوي او يوم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ference to a DateTime instance for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start 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 the 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ts end date to No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ts amount of the lease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 set end date and calculate amount depending on type of the 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4E13-E03D-4E69-B67E-3748F91E1A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re the Lease subclasses and abstrac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and use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ustom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the Object class and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1E0-ABB5-4458-A8DD-CB66EAE82FD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n Abstract Method to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it is desirable to require all subclasses to include a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Lease subclasses need a CalculateFee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 are responsible for determining what the lease amount will 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for polymorph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22F-2B01-461C-865C-9953F21BF47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n Abstract Method to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 without any statements that must be overridden by all sub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ed by using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MustOverri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keyword in method header </a:t>
            </a:r>
            <a:r>
              <a:rPr b="1" lang="ar-SA" sz="2200" spc="-1" strike="noStrike">
                <a:solidFill>
                  <a:srgbClr val="ff6600"/>
                </a:solidFill>
                <a:latin typeface="Arial"/>
                <a:cs typeface="Times New Roman"/>
              </a:rPr>
              <a:t>تكتب في السوبر كلاس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Fee method of the Leas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5B5-4689-4BEF-84DF-599E1E7188D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AnnualLease Sub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 subclass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D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ount of the annual lease that remains unpa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yMonthly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o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s whether monthly payments will be made for the annual 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D422-5E0E-4968-8C59-8005256998D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AnnualLease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payMonthly is tr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Due is initially set to eleven-twelfths of the lease amou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payMonthly is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Due will be zer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2D7B-3B39-48A9-905F-0470E95247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DailyLease Sub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ily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class of the Lease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a customer leases a slip for a short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days of the 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d based on the start date and end 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03E4-7008-4171-9747-65ECE7AD6F5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nd Using Interface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face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كلاسات نكتب فيها رؤوس الدوا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ا نقدر نعمل وراثة من اكثر من كلاس ، فلذلك نستخدم الانترفي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دف من ذلك اجبار البروقرامر كتابة كود للميثود ، فلو خاف ينسى ميثود يكتب الانترفيس وفيه جميع الميثود ولو نسى أي ميثود بيعطيه خطأ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abstract methods and constants that must be implemented by classes that use the interfa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ensure that an instance has a defined set of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B53-4F90-4876-B62C-E2D83D7BB8E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nd Using Interfac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-based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s interact in a system using a well-defined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s might be built using a variety of technolog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how components can be u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lay an important role in developing component-based system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B3F9-5186-47D8-B5B2-CB4AFC690EE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nd Using Interfac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VB .NE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herit from only one super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lement one or more interfa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 allow VB .NET subclasses a form of 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inherit from more than one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class is part of two or more generalization/specialization hierarchi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0E77-E456-4690-B511-1B00557CF64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 VB .NET Interfac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(by conven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with a capital letter “I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word “interfac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Interface keyword, followed by the interfac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no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5EC-4875-41D0-A010-8E75A367F77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 VB .NET Interfac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lass can implement an interface by adding the  following to the class head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s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of the interfa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5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E6E-F245-4931-9B25-D6C3A5E5C4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Boat Generalization/Specification Hierarchy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res information about a boat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registration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Fig08-01"/>
          <p:cNvPicPr/>
          <p:nvPr/>
        </p:nvPicPr>
        <p:blipFill>
          <a:blip r:embed="rId1"/>
          <a:srcRect l="29383" t="28752" r="29361" b="36253"/>
          <a:stretch/>
        </p:blipFill>
        <p:spPr>
          <a:xfrm>
            <a:off x="4648320" y="2825640"/>
            <a:ext cx="38098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0EB-F095-47A0-8AB8-47ABD99EE4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More Than One Interfac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mplement more than on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 Implements keyword in the class head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multiple interface names by comm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Daily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s ILeaseInterface, ICompanyInterfa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F9ED-0EE9-437E-AE08-4D3E3890239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Custom Exception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 exce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ception written specifically for an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asePaymentExcep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 exce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by defining a class that extends the Exception 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ed for use by the AnnualLeas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wn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 payment is inval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9961-9DB4-4E37-B0A8-4577478194C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Throwing a Custom Exception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LeasePaym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s a pay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s to receive the amount of the pay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rows a LeasePaymentException instance if payment amount is not vali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464D-6A2D-4F49-9980-9882B93676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the Object Class and Inheritanc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ed by all classes in VB .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basic functionality that other classes need in VB .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String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 of the Objec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ed by all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y default, returns a string representation of the class n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den by other classes to provide more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5C9E-1E16-4AE3-BD74-11AB020CD59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the Object Class and Inheritanc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other methods of the Objec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qu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Hash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Ty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Equ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fault New construct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C21A-A9C5-4A08-9687-6B4410E843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tion/specialization hierarchies show superclasses and subclas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bclass inherits attributes and methods of th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bstract class: a class that is not instantiated; exists only to serve as a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nal class: a class that cannot be ext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9CF-7F92-4720-A841-B2789B1E0AF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bstract method in a superclass must be implemented by all the sub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face can be used to require that classes contain specific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 exceptions can provide detailed information following an exce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VB .NET, the Object class is the superclass of all cla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5356-78BB-4936-8172-CB1E7B052CA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Boat Generalization/Specification Hierarch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ized constru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values for all four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ight standard accessor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setter metho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gette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llAboutSelf metho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9BD-7478-4FD8-A2B0-E691528F63F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Testing the Boat Superclass with a Windows Form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Windows application and a Windows form with buttons can be used to test all problem domain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form te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omplish the same objective as a class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systematically test each problem domain class to demonstrate that all functionality works as intend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2BEA-F820-4BC4-93F1-27D34E1B21A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tion/specialization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attributes and methods that are common to specialized sub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ces of the sub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 attributes and methods of the super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additional attributes and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4C2-61A2-4852-AB61-B1039C9164D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attributes and eight access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additional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additional attribu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812-FC88-456C-AB90-2A83DB7AAB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77" name="Picture 7" descr="Fig08-07"/>
          <p:cNvPicPr/>
          <p:nvPr/>
        </p:nvPicPr>
        <p:blipFill>
          <a:blip r:embed="rId1"/>
          <a:srcRect l="0" t="7501" r="0" b="6249"/>
          <a:stretch/>
        </p:blipFill>
        <p:spPr>
          <a:xfrm>
            <a:off x="1392120" y="1981080"/>
            <a:ext cx="635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4:25:40Z</dcterms:created>
  <dc:creator/>
  <dc:description/>
  <dc:language>en-US</dc:language>
  <cp:lastModifiedBy>26s547</cp:lastModifiedBy>
  <dcterms:modified xsi:type="dcterms:W3CDTF">2011-03-13T11:44:40Z</dcterms:modified>
  <cp:revision>510</cp:revision>
  <dc:subject/>
  <dc:title>Chapter 4</dc:title>
</cp:coreProperties>
</file>