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324F-6C82-4184-960D-582B70AD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9CBE-2D14-4CB7-8BD7-BECDF0CA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EE9D-53F3-410D-B15A-DA73D9A2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7B19-1D04-4426-A2A8-F311F091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188-78E7-46A3-93F4-84DD8DD4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F55-05A5-43D1-A364-2EED203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003-28C7-4564-9C21-1B54F5C3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395-9A8B-403F-BEEE-769AEACB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64A-F1C7-44A3-ACD7-13BA0C0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581-D322-4394-953D-1F71EC91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50C-D7C4-4685-BB38-0BE3E97F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A0A9-BD2A-4789-9987-75A9EC67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2481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B7D-B874-4337-B3E5-F7D968D8C93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670-A0F9-4A6E-BF6A-82D44751046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hapter 8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2640" y="213372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Understanding Inheritance and Interfaces</a:t>
            </a: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E1A5-838E-4A3A-9194-FDA055E5FD2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the class header to implement a sub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s which class the new class is exten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to define the Sailboat class as a subclass of Boa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Sail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Bo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E7FE-559C-4AA2-8FE7-C744BB90C82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definition of a sub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any attributes and method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ddition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inherited from th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onstru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seven 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for attributes defined in the Boat super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for additional attributes defined in Sail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3AF7-A035-42DD-9141-838DB9FEA6A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onstruct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yBase.New ca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set attributes for registration number, length, manufacturer, and yea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vokes constructor of the super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st be the first statement in the constru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d unless the superclass includes a default constructor without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set 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set the three remaining attribute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4567-C7C3-4849-A991-2CE644D4074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 Second Subclass – Powerboat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 the 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es two attributes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Eng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uel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or expects six parame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required by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attributes for Power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04D8-E446-486F-86DA-3343A6599EB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 Second Subclass – Powerboat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ce the boats are cre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ur getter methods inherited from 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nvoked for both sailboats and powerbo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additional getter methods of Sail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 present in powerbo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getter methods of Powerboa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t present in sailbo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0EF-3D9D-41B1-8186-6B61FF1740B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bstract and Final Classe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s that can be instanti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 cla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5F1A-BA0D-4A18-900E-F31C94157EF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MustInherit Keywor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t intended to be instantia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nly used to extend into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facilitat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stInherit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in class header to declare an abstract clas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to make the Boat class abstract: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MustInherit Class Bo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945D-A33E-4E7E-AC92-15715C9FFF7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NotInheritable Keywor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nal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that cannot be extend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for security purposes or efficien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using the NotInheritable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header for the Powerboat class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NotInheritable Class Powerboa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Bo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98F8-09E4-4453-91D5-E510536481D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overri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in subclass will be invoked instead of method in the superclass if both methods have the same signatur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llows the subclass to modify the behavior of the 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73E3-11DC-4B3A-9D21-6CBCEB61A21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overriding vs. method over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loa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or more methods in the same class have the same name but a different return type or parameter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 in both the superclass and subclass have the same sign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DBB3-02DF-4002-8906-ACD1E0B0817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the Boat generalization/specialization class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abstract and final classes and the MustInherit and NotInheritable key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e a superclass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private versus protected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683-5D30-422B-A5E6-89E13A4F02B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the Boat TellAboutSelf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s method overr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make it easier to get information about an instance of th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able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d in method header to make a method overrid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F2E7-B3FD-4F20-B06B-90C18EBE0A5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the Boat TellAboutSelf Method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override the TellAboutSelf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the same method signature in the subclass, except for 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es keyword in place of Overridabl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ce a method is overrid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tatements in the subclass method control what system does when a sailboat instance is asked to tell about itsel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 in Boat is igno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C5DE-1D8D-4647-A482-2E3F07B2ED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 and Invoking a Superclass Method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the programmer needs to override a method by extending what the method do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 TellAboutSelf method invokes the superclass method us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yBase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 method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0AA-40D5-4794-839F-5C3552E69A1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Overriding, Polymorphism, and Dynamic Binding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ymorph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s of different classes can respond to the same message in their own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bi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to resolve which method to invoke when the system runs and finds more than one method with the same n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flexibility when adding new subclasses that override superclass method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1AB-BAED-46F6-8491-3246586ED4F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ing attributes as priv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 using Private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 other object can directly read or modify the valu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objects must use methods of the class to get or set val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sures encapsulation and information hid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imits the ability of an instance of a subclass to directly access attributes defined by the superclas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550F-F91E-4805-9F25-6E926A5367E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ing attributes as Prot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ne by using Protected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lues can be directly accessed by subclass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al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ible only to statements within a method where it is declar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only as long as the method is execu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need to be declared as private, protected, friend, or publi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2962-3AD5-4CC0-B761-FACECB75AB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Private Versus Protected Acce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only be invoked from a method within th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ivate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not be invoked even by subclass metho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tected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nvoked by a method in a sub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43E-560F-4217-9E98-74DCBCD26F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          Lease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 سنو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يجار يومي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ttribu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: a numeric value (Sing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date: a reference variable   (Date “Date is type and object so we said reference variable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d date : a reference var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d as abstra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MustInherit keyword in hea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D51-A9EA-4BA8-AB23-D5AF7127DC3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153" name="Picture 5" descr="Fig08-19"/>
          <p:cNvPicPr/>
          <p:nvPr/>
        </p:nvPicPr>
        <p:blipFill>
          <a:blip r:embed="rId1"/>
          <a:srcRect l="0" t="7501" r="0" b="7501"/>
          <a:stretch/>
        </p:blipFill>
        <p:spPr>
          <a:xfrm>
            <a:off x="1344600" y="1981080"/>
            <a:ext cx="6453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57B-9964-4972-9346-99AA490C98C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ntroducing the Lease Subclasses and Abstract Method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ase class constructo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one parameter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فروض ي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بارامترز ، لكن  الكاتب اختار بارامتر واحد ، وقت البداية ، لأننا ما نعرف مدة الايجار ، فاذا كان الايجار سنوي فتاريخ الانتهاء يساوي تاريخ البداية + مدة الايجار ،، ما نعرف هل الايجار سنوي او يوم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reference to a DateTime instance for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Times New Roman"/>
              </a:rPr>
              <a:t>start d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 the 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ts end date to No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ts amount of the lease to ze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set end date and calculate amount depending on type of the l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670C-0E9C-46D5-AE96-C3639FB804C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 this chapter, you wil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re the Lease subclasses and abstract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and use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ustom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 the Object class and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BA6-9DBB-4D67-9B68-B60367709B3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n Abstract Method to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times it is desirable to require all subclasses to include a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l Lease subclasses need a CalculateFee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 are responsible for determining what the lease amount will b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ary for polymorph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5133-44CA-4DBF-99CF-4D7ABE80AEB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Adding an Abstract Method to Leas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trac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without any statements that must be overridden by all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ed by using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Times New Roman"/>
              </a:rPr>
              <a:t>MustOverrid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keyword in method header </a:t>
            </a:r>
            <a:r>
              <a:rPr b="1" lang="ar-SA" sz="2200" spc="-1" strike="noStrike">
                <a:solidFill>
                  <a:srgbClr val="ff6600"/>
                </a:solidFill>
                <a:latin typeface="Arial"/>
                <a:cs typeface="Times New Roman"/>
              </a:rPr>
              <a:t>تكتب في السوبر كلاس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Fee method of the 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E518-FCE5-4234-9405-B98659988F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AnnualLease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nualLease subclass attrib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ount of the annual lease that remains unpa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yMonthly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o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dicates whether monthly payments will be made for the annual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0267-099C-4400-8162-B808507E19E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AnnualLease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payMonthly is tru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 is initially set to eleven-twelfths of the lease amou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payMonthly is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Due will be zer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673-9FFA-4007-A48C-E7AE752C7B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DailyLease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ilyL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of the Leas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a customer leases a slip for a short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dditional attribu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umber of days of the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ed based on the start date and end 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908-AA3B-409A-B3C3-4B308F6DC19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face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كلاسات نكتب فيها رؤوس الدوا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ما نقدر نعمل وراثة من اكثر من كلاس ، فلذلك نستخدم الانترفي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دف من ذلك اجبار البروقرامر كتابة كود للميثود ، فلو خاف ينسى ميثود يكتب الانترفيس وفيه جميع الميثود ولو نسى أي ميثود بيعطيه خطأ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abstract methods and constants that must be implemented by classes that use the interfa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used to ensure that an instance has a defined set of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8A7F-59AF-4D2D-8028-C255A2984F2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-based develop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interact in a system using a well-defined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s might be built using a variety of technolog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how components can be u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lay an important role in developing component-based system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A411-BFA4-44F4-ACC1-FA7128EF888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and Using Interface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VB .NE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inherit from only one 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lement one or more interfa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s allow VB .NET subclasses a form of 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inheri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bility to inherit from more than one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subclass is part of two or more generalization/specialization hierarchi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33AE-1D48-4E5A-B6F2-89D07882B99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 VB .NET Interfa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(by conven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gins with a capital letter “I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the word “interfac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Interface keyword, followed by the interfac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no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BF9-05C5-4363-8009-3058ADED397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Creating a VB .NET Interfac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lass can implement an interface by adding the  following to the class head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keywor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ame of the interfac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5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D494-9C71-453C-866F-BD7448161FD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Boat Generalization/Specification Hierarchy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ores information about a boat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te registration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ufactur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y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Fig08-01"/>
          <p:cNvPicPr/>
          <p:nvPr/>
        </p:nvPicPr>
        <p:blipFill>
          <a:blip r:embed="rId1"/>
          <a:srcRect l="29383" t="28752" r="29361" b="36253"/>
          <a:stretch/>
        </p:blipFill>
        <p:spPr>
          <a:xfrm>
            <a:off x="4648320" y="2825640"/>
            <a:ext cx="38098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68EF-57DB-41EE-A3EB-95D3368D068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More Than One Interfa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implement more than one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se Implements keyword in the class head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multiple interface names by comm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exampl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 Class Daily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s L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s ILeaseInterface, ICompanyInterfa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0FB-F68B-42ED-944A-7CF8CF5A06B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Custom Exception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exc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 exception written specifically for an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easePaymentExcep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 exce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by defining a class that extends the Exception cla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ed for use by the AnnualLease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wn 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 payment is inval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3E1D-9C7C-40E7-8C58-FE3E5E17D59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Throwing a Custom Exception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LeasePaymen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custom metho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s a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pects to receive the amount of the pay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rows a LeasePaymentException instance if payment amount is not vali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E01-BB29-495D-BD14-0877695AADD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the Object Class and Inheritance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 by all classes in VB .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s basic functionality that other classes need in VB .NE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String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method of the Objec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ed by all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y default, returns a string representation of the class na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verridden by other classes to provide more specific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3133-031C-49F9-9038-23D158E7C19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nderstanding the Object Class and Inheritance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other methods of the Objec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qu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Hash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GetTy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ferenceEqu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fault New construct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0A7D-4D65-40BC-B788-E94E8555B56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/specialization hierarchies show superclasses and subclas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bclass inherits attributes and methods of the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bstract class: a class that is not instantiated; exists only to serve as a 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inal class: a class that cannot be ext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BF8-D1D3-4AD2-AAAF-B274C5725D1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bstract method in a superclass must be implemented by all the sub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face can be used to require that classes contain specific metho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 exceptions can provide detailed information following an exce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VB .NET, the Object class is the superclass of all cla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4049-C902-4E44-B5A2-CF7A730B839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Implementing the Boat Generalization/Specification Hierarchy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arameterized construc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cepts values for all four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ight standard accessor metho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setter metho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gette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ellAboutSelf metho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9A3-62AE-4D58-8996-FAB190AACEA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Testing the Boat Superclass with a Windows Form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Windows application and a Windows form with buttons can be used to test all problem domain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 form te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ccomplish the same objective as a class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 systematically test each problem domain class to demonstrate that all functionality works as intend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B493-4C7A-4B43-9067-C8A1F8E2866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ization/specialization hierarc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s attributes and methods that are common to specialized sub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nces of the sub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herit attributes and methods of the super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 additional attributes and metho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98C9-A542-4094-9ED7-45B345B22A8F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at cla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ur attributes and eight access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ail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additional attrib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bo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wo additional attribu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4"/>
          <p:cNvSpPr/>
          <p:nvPr/>
        </p:nvSpPr>
        <p:spPr>
          <a:xfrm>
            <a:off x="2666880" y="62485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Application Development Using VB 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5E65-86A8-48C5-81A8-F0E0269BEAE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Using the </a:t>
            </a:r>
            <a:r>
              <a:rPr b="1" lang="en-US" sz="3200" spc="-1" strike="noStrike">
                <a:solidFill>
                  <a:srgbClr val="00cc99"/>
                </a:solidFill>
                <a:latin typeface="GexCourier-Bold"/>
                <a:ea typeface="Times New Roman"/>
              </a:rPr>
              <a:t>Inherits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  <a:ea typeface="Times New Roman"/>
              </a:rPr>
              <a:t>Keyword to Create the Sailboat Subclass</a:t>
            </a:r>
            <a:endParaRPr b="1" lang="en-US" sz="3200" spc="-1" strike="noStrike">
              <a:solidFill>
                <a:srgbClr val="00cc99"/>
              </a:solidFill>
              <a:latin typeface="Arial"/>
            </a:endParaRPr>
          </a:p>
        </p:txBody>
      </p:sp>
      <p:pic>
        <p:nvPicPr>
          <p:cNvPr id="77" name="Picture 7" descr="Fig08-07"/>
          <p:cNvPicPr/>
          <p:nvPr/>
        </p:nvPicPr>
        <p:blipFill>
          <a:blip r:embed="rId1"/>
          <a:srcRect l="0" t="7501" r="0" b="6249"/>
          <a:stretch/>
        </p:blipFill>
        <p:spPr>
          <a:xfrm>
            <a:off x="1392120" y="1981080"/>
            <a:ext cx="6359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6T14:25:40Z</dcterms:created>
  <dc:creator/>
  <dc:description/>
  <dc:language>en-US</dc:language>
  <cp:lastModifiedBy>26s547</cp:lastModifiedBy>
  <dcterms:modified xsi:type="dcterms:W3CDTF">2011-03-13T11:44:40Z</dcterms:modified>
  <cp:revision>510</cp:revision>
  <dc:subject/>
  <dc:title>Chapter 4</dc:title>
</cp:coreProperties>
</file>