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8D1-573B-4C87-9553-C2ED761E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F96-2D94-4074-990F-E806180D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DD1-88AF-4057-A1AB-F7001BDA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4EE-F675-414E-B4D2-E34D96A6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E20-0EDA-448F-9E4F-90DE5949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CDC-505A-4263-A715-7BD9B964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3DC3-2FA7-4CB7-8EC2-47624650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D19-93CA-42B3-8876-7CC6BE24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8E6-A7E0-4EA3-9F6F-238C07DB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0AF-B16C-471E-96DB-4D582292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FE7-1C15-471C-AF52-908CA270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35D-E1E7-4468-88A5-9CCBF87E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2481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DCEC-13C8-48E8-AA2D-EA577E26691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hapter 9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Implementing Association Relationsh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B06-217D-4C13-BD61-63D01CF378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VB .NET Classes in a 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ne-to-One Relationship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implement an association relationship in VB .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 a reference variable as an attribute of a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نستخدم قيمة من نوع ريفرنس (إذا شفنا كلمة ريفرنس فمعناها اوبجكت والعكس صحيح 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reference variable points to an actual in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677-1566-45E3-BCF3-2DF8C0F63B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VB .NET Classes in a 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ne-to-One Relationship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1051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B47-8FF2-47BB-815A-D61F1E26E0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VB .NET Classes in a 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ne-to-One Relationship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reference variable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لرفرن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ints to a Customer instanc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ؤشر على نسخة من الزبو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dded as an attribute in the Boat class, each Boat instance c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لما تكون العلاقة من نوع ون تو ون نضيف داخل البوت رفرنس فاربيل(اوبجكت) من نوع كوستمر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to a Customer instance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وشر على نسخة من الزبو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voke the customer’s method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تعامل مع ميثود الكوستم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E78-0FE8-4B21-895A-1E092BD146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VB .NET Classes in a 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ne-to-One Relationship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reference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ints to a Boat inst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dded as an attribute in the Customer class, each Customer instance c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int to a Boat in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voke the boat’s metho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B8F-01D1-408A-8E66-42A24ABFBB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Modifying the Customer 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ying the Customer class implements one direction of the association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rom Customer to 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Bo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trib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الخلاصة في البوت نضيف اوبجكت من نوع كوستمر وفي الكوستمر نضيف اوبجكت من نوع بو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reference varia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to the Customer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implement a one-to-one association relationship with the Boat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1F5-4424-44A7-BA55-EE34523055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Modifying the Customer 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لمى نضيف الرفرنس اتربيوت نضيف له الست والقي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s a Boat reference as a para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s the reference to the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et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s the Boat refer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8E7-E646-4A06-A403-13B551DF8D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Modifying the Customer 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s the Boat reference variable to Nothing using the SetBoat metho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في الكونستراكتر تبع الزبون ، نضع في الاتربيوت بوت ولاشيء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TH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ce Customer instance is cre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عندما ننشئ الزبو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at reference variable can be set to an actual Boat refere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عن طريق السيت نسند له قيمت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134-CD05-4312-AF6B-175946E061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Modifying the Boat Class</a:t>
            </a:r>
            <a:r>
              <a:rPr b="1" lang="ar-SA" sz="3200" spc="-1" strike="noStrike">
                <a:solidFill>
                  <a:srgbClr val="00cc99"/>
                </a:solidFill>
                <a:latin typeface="Arial"/>
                <a:cs typeface="Times New Roman"/>
              </a:rPr>
              <a:t>التعديل في كلاس القارب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ying the Boat class implements the other direction of the association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s owned b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البوت يملك بواسطة زبون ون تو و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Customer attrib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reference variabl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نضيف اتربيوت من نوع زبون في الكلاس قارب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to the Boat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implement a one-to-one association relationship with the Customer class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لانشاء العلاقة واحد الى واحد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58B-CA68-4268-8BAC-C5907A9092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Modifying the Boat 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نضع السيت والقيت للزبون المضاف كاتربيوت في كلاس القار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etCustom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s the Customer refer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Custom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s a Customer reference as a para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s the reference to the attrib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DB2-F3AA-4A60-96F9-E56798D25C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Functionality to the Boat 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ality of classes that have association relationships can be incre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BoatToCustomer custom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ded in Boat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ضاف في القارب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es the association between Boat and Customer in both directions in one step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نشئ العلاقة بين القارب والزبون في الاتجاهين المختلفين في خطوه وحده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78A-6B68-4A94-A7D6-6DFB1DC205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this chapter, you wil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ssociation relationships on Bradshaw Marina’s class dia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 VB .NET classes in a one-to-one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functionality to the Boa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5D0-1198-458E-8BFF-8E8142E745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Functionality to the Boat 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datory association between Boat and Custo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le beca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adshaw Marina does not want to keep information about a boat if its owner is not a custo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ne 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ding a Customer reference parameter to the Boat constru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E01-EC63-44B9-8AAF-37747F9926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Functionality to the Boat 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ed Boat TellAboutSelf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تعديل ميثود تيل اباوت سيلف في البوت كلا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s information abou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بجعلها ترجع معلومات البوت والكوستمر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ssible beca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must be associated with a custom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ممكنه لان القارب يجب ان يربط بزبو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986-847E-4943-9ACB-0324845F1A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Docks and Slips: A One-to-Many Association Relationship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 between Slip and D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wo directions of the relationsh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 between Slip and D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e-to-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slip i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tached t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oc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 between Dock and Sl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علاقة بين الدوك والسلي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e-to-many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واحد الى كثي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dock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ny sl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C28-F282-43BD-992F-5E64121E88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Docks and Slips: A One-to-Many Association Relationship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imple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one-to-one association relationship between Slip and D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كون العلاقة واحد الى واحد اذا كان الاتجاه من السليب للدوك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 the technique used to implement the Customer and Boat assoc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one-to-many association relationship between Dock and Sl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كون العلاقة واحد الى مجموعة من الدوك للسلي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s that a dock instance have reference variables for more than one sl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e an ArrayList in the Dock class to hold many Slip reference vari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نضع متغير من نوع اراي ليست يحمل العديد من اوبجتات السليب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316-78D9-4EB7-84E7-6A4AF43730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Docks and Slips: A One-to-Many Association Relationship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rayList cla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used to instantiate a container that can hold many reference variab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فيه ميثود للاضافة للاراي ليست اسمها (اد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as methods which can be used t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d Slip reference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ضيف اوبجكت من نوع سلي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trieve Slip reference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ونقدر نسترجع السليبز اوبجكت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2A0-7F84-4B94-B20A-5E3F0BFB1D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ntroducing the Dock 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ck clas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ur previous attribu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ID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Boolean variables indica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ther the dock has electric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ther the dock has w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ifth attribut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اتربيوت خامس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l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 ArrayLi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s the one-to-many association relations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نسوي الامبلمنتيشن للعلاقة واحد الى مجموع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437-7AE5-4DC2-B4A5-4E4D72D86F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ntroducing the Dock 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ck class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s values for the four attributes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وضعنا القيم في الاتربيوت الاربعة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ntiates the new ArrayList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انشاء المتغير من نوع اراي ليست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s the new ArrayList to the slips attribu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Sl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getter metho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s the slips reference variabl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رجع الاراي ليست اوبجكت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946-0DE3-4627-A0E5-3946A39FBF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ntroducing the Dock 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Slip custom method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دالة اد سلي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add a slip to the dock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ستعمل لاضافة سليب للدوك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voked by the Slip AddSlipToDock method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ستدعى من السليب عن طريق الدالة اضافة سليب الى الدو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tains the slips.Add(aSlip) stat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add a Slip reference to the ArrayList referenced by the variable sli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91A-FE46-4DC7-AB66-0AF1E1C73F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the Slip Class with Dock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Slip class to implement the mandatory one-to-one association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Dock attribu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Dock reference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 for the Dock reference attribu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C5C-738C-442D-BB4A-8D6F9CC296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the Slip Class with Dock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Slip clas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ed construc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s a Dock reference para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: When a slip is instantiated, it must be associated with a d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vokes the slip’s AddSlipToDock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SlipToDock method establishes the association in both directions b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voking the dock’s AddSlip method using the Me keywor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7B3-33A4-4F2D-AA03-1889898B40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this chapter, you wil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ociate Dock and Slips in a one-to-many relations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he Boat and Customer classes to the Slip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d use an association class—L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CA6-A42C-45F2-BE28-E24B2B4C57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the Slip Class with Dock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Slip clas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TellAboutSelf metho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يل اباوت سيلف الموجوده في السليب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turns information ab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l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lip’s do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ترجع معلومات عن السليب والدوك الذي يحتوي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لا نستطيع نرجع معلومات الدوك بدون ما نضع اتربيوت من نوع دوك يحتوي على معلومات الدوك الذي ينتمي له هذا السلي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5BC-7DB3-4B40-A4E6-AECD9DD2BC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the Boat and Customer Classes to the Slip Example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 between Slip and Bo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Slip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reference attribute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ضيف اتربيوت من نوع بوت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ونضيف القيت والسيت بوت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tBo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tBo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داخل السليب نضع اتربيوت من نوع بوت واتربيوت اخر من نوع دوك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وفي البوت نضيف اتربيوت من نوع سليب واتربيوت اخر من نوع كوستمر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وفي الدوك اراي لست فيها السليب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Times New Roman"/>
              </a:rPr>
              <a:t>وفي الكوستمر نضيف فيه اتربيوت من نوع بوت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Boat class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تعديلات في كلاس القرا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Slip reference attribute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ضافة اوبجكت من نوع سليب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ضافة ميثود الوصول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ssignBoatToSlip method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ضيف ميثود ربط البوت بالسليب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Arial"/>
              </a:rPr>
              <a:t>لايمكن وضع علاقه ون تو ون اجباري في الجهتين ، لابد ان يكون احدهما اختياري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0،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 او كلاهما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C0B-7461-4EFB-B3F2-4FA3636CAB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the Boat and Customer Classes to the Slip Exampl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include the Customer class in this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at class does not need to be modifi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lready designed to associate with a custom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ven a Customer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navigate to fi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ustomer’s 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boat’s sl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lip’s d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1B68-21C5-46C7-BE62-34FFBEF88B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the Boat and Customer Classes to the Slip Exampl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ven a Dock refer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navigate t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ach sl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lip’s 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customer who owns the 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DDD-F100-4BE2-A674-91A01F4E613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Creating and Using an Association Class – Lease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ase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association class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كلاس وعلاقة في نفس الوقت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Lease is like an association between a customer and a slip, but with attributes for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كعلاقة بين الزبون والسليب لكن مع اتربيوت ل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date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اريخ البدايه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d date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اريخ النهاي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lease, and so 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b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Le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ilyLe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ي الكلاس ليز نضيف اوبجكتين واحد من نوع زبون والاخر من نوع سلي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ي كلاس الزبون وكلاس السليب نضيف اتربيوت واحد فقط عباره عن اوبجكت من نوع ليز ، لم نضع اتربيوت منهما لان العلاقة بينهما غير مباشر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B4D-39DD-4A8B-99BF-D0AF14279A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Creating and Using an Association Class – Lease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Lease 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Slip reference attribu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reference attribu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Leas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subclass of Lea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s the association between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ترث العلاقة بين الليز والسليب والليز والزبو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ase and Sl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ase and Custom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6EA-E861-4D73-840A-F290972A05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Creating and Using an Association Class – Leas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modifications needed for the Boat class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لا تعديل على كلاس البو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ason: Boat is not directly associated with Lea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لان البوت ما عنده علاقه مباشرة باللي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Customer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Lease reference attribut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نضيف اوبجكت من نوع لي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ميثود الوصو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7A1-4F12-45CE-A2C4-429CC66AD0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Creating and Using an Association Class – Leas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ifications to the Slip class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لتعديل على كلاس اللسلي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Lease reference attribute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اوبجكت من نوع لي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or methods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ميثود الوصول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easeAnnualSlip method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ميثود ايجار سليب سنوي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s an AnnualLease instance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نشئ نسخة من الايجار السنو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F7B-CD8A-49DF-866B-B7BD5202D0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s are shown on the class diagram as lines connecting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s are implemented in two directions that must be considered separ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s can be optional or manda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-to-one association relationships are implemented by including a reference variable as an attribute in one class that points to an instance of another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A64-6033-4BA7-990F-B56C4E0595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e-to-many association relationships are implemented using an ArrayList that contains a collection of reference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s can be directly navigated by writing one statement with multiple method calls that are executed from left to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association class exists because of a relationship between two classes, such as Lease between Slip and Custo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C5D-3FAC-4DBF-A53D-FCD194A8034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dentifying Association Relationships on Bradshaw Marina’s Class Diagram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how how instances of classes are associated, or connected, to each oth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مشاهدة كيفية ارتباط النسخ وعلاقتها ببعض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te that the system requires information about these associ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used to navigate from instance to instance following the associ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ممكن ننتقل من كلاس لكلاس عن طريق هذا الاسوسييش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41D-939F-490C-82CA-B864EBC5EA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dentifying Association Relationships on Bradshaw Marina’s Class Diagram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a class dia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 association relationship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ears as a line connecting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تظهر كخط يربط الكلاسي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icity of the associ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ted by numbers written at both ends of the 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ارقام الموجودة بقرب الكلا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مكن تسمى كاردنيلاتي كما في الاي ار ولكن  الافضل تسمى مولتيسبلت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ED7-03BE-4281-AC8B-972AAC679A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dentifying Association Relationships on Bradshaw Marina’s Class Diagram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s in the Bradshaw class diag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ustomer owns a boat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كل زبون يملك قار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oat is owned by a customer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كل قارب يمتلك من زبون واح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oat is assigned to a slip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كل قارب يسند الى سليب معين ( المكان الذي تتوقف عنده القوارب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lip contains a boat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لسليب يحتوي قارب (</a:t>
            </a:r>
            <a:r>
              <a:rPr b="1" lang="ar-SA" sz="1800" spc="-1" strike="noStrike">
                <a:solidFill>
                  <a:srgbClr val="ff6600"/>
                </a:solidFill>
                <a:latin typeface="Arial"/>
                <a:cs typeface="Arial"/>
              </a:rPr>
              <a:t>ون تو ون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ock contains many slips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لدوك يحتوي على عدد من السليب (</a:t>
            </a:r>
            <a:r>
              <a:rPr b="1" lang="ar-SA" sz="1800" spc="-1" strike="noStrike">
                <a:solidFill>
                  <a:srgbClr val="ff6600"/>
                </a:solidFill>
                <a:latin typeface="Arial"/>
                <a:cs typeface="Arial"/>
              </a:rPr>
              <a:t>ون تو ماني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lip is attached to a do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lip is leased to a customer (Lease is an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ssociation 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هي عباره عن علاقة وكلاس في نفس الوقت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ذا العلاقة فيها اتربيوت نحطها على شكل كلا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لماذا لا نضع الاتربيوت في احد الكلاسين المشتركه في العلاقه ، لان الاتربيوت خاصية مشتركه في كلا الكلاسين ، فيختلف من زبون الى زبون ومن سليب لاخ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leases a slip (Lease is an association clas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6600"/>
                </a:solidFill>
                <a:latin typeface="Arial"/>
                <a:cs typeface="Arial"/>
              </a:rPr>
              <a:t>انواع العلاقات</a:t>
            </a:r>
            <a:r>
              <a:rPr b="1" lang="ar-SA" sz="1800" spc="-1" strike="noStrike">
                <a:solidFill>
                  <a:srgbClr val="ff6600"/>
                </a:solidFill>
                <a:latin typeface="Arial"/>
                <a:ea typeface="Arial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8B7-A34C-4499-B1F1-30F68612F8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dentifying Association Relationships on Bradshaw Marina’s Class Diagram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25780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865-90C9-4FC3-8DC3-F55AE83F09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dentifying Association Relationships on Bradshaw Marina’s Class Diagram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se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ample of a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because of the relationship between a slip and a custom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وجودة بسبب العلاقة بين السليب والزبو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class dia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hown as a class connected by a dashed line to an association between Slip and Custom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تكتب على شكل خط مقطع الى العلاقة بين الزبون والسلي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9CAD-F954-401E-9FAB-6BF151EA38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ssociating VB .NET Classes in a </a:t>
            </a:r>
            <a:br>
              <a:rPr sz="3200"/>
            </a:b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ne-to-One Relationship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sociation relationship between Customer and Bo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أي علاقة تقرأ في الاتجاهي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as two “directions”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  <a:cs typeface="Times New Roman"/>
              </a:rPr>
              <a:t>لها اتجاهي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w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(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ن الزبون الى القار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own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er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ن القارب للزبو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ach direction of the relationsh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st be defined separately by the system develo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كل اتجاه لازم يعرف منفصل من مطور النظا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st be handled separately with VB .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لابد ان يعامل بشكل منفصل في الفي ب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lanning, Developing and Marketing Successful Websi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1DB-49E3-4A16-A5A1-F085B0C33F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14:25:40Z</dcterms:created>
  <dc:creator/>
  <dc:description/>
  <dc:language>en-US</dc:language>
  <cp:lastModifiedBy>26s547</cp:lastModifiedBy>
  <dcterms:modified xsi:type="dcterms:W3CDTF">2011-03-20T11:33:01Z</dcterms:modified>
  <cp:revision>543</cp:revision>
  <dc:subject/>
  <dc:title>Chapter 4</dc:title>
</cp:coreProperties>
</file>