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40D7-7613-4BD1-92AB-69B4DBF2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060A-E5DA-416C-8C32-D6FE3721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0ECD-04FA-4BDF-925A-2378CE1D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88D1-E2C5-4A8C-9A01-5237C7C9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3075-C143-4EB2-9C90-2FE9A258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9A61-5E54-4CCB-82A6-7FCBC097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DAB2-5603-4AEB-82C0-FCD06516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F96D-25EA-4315-A7F3-C9A4AD08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E184-F0A5-49F6-B53D-BC15C210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9594-7216-425A-8CE9-2EC89A3B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497C-F882-4677-A9D0-EB18F1E5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7AF6-E81B-4791-A760-A91D9881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248160"/>
            <a:ext cx="3886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D920-5C8A-4966-AEBD-641E01A5AFE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Chapter 9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Implementing Association Relationsh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7C36-80AD-4993-BD3E-A9F13D8BD5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ssociating VB .NET Classes in a </a:t>
            </a:r>
            <a:br>
              <a:rPr sz="3200"/>
            </a:b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One-to-One Relationship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implement an association relationship in VB .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se a reference variable as an attribute of a 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نستخدم قيمة من نوع ريفرنس (إذا شفنا كلمة ريفرنس فمعناها اوبجكت والعكس صحيح 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reference variable points to an actual in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47D1-FF71-4D92-910B-DB0DF59811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ssociating VB .NET Classes in a </a:t>
            </a:r>
            <a:br>
              <a:rPr sz="3200"/>
            </a:b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One-to-One Relationship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51051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7995-2620-40D8-B628-120777B82F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ssociating VB .NET Classes in a </a:t>
            </a:r>
            <a:br>
              <a:rPr sz="3200"/>
            </a:b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One-to-One Relationship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Customer reference variable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الرفرن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ints to a Customer instance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تؤشر على نسخة من الزبون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added as an attribute in the Boat class, each Boat instance c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لما تكون العلاقة من نوع ون تو ون نضيف داخل البوت رفرنس فاربيل(اوبجكت) من نوع كوستمر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int to a Customer instance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توشر على نسخة من الزبو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voke the customer’s method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تتعامل مع ميثود الكوستمر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0E31-BDC5-4949-A6EA-05C4CC1900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ssociating VB .NET Classes in a </a:t>
            </a:r>
            <a:br>
              <a:rPr sz="3200"/>
            </a:b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One-to-One Relationship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Boat reference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ints to a Boat inst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added as an attribute in the Customer class, each Customer instance c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int to a Boat in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voke the boat’s metho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CC44-A35B-437F-9101-D07D6BF675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Modifying the Customer Class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ifying the Customer class implements one direction of the association relations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rom Customer to Bo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Bo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tribu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خلاصة في البوت نضيف اوبجكت من نوع كوستمر وفي الكوستمر نضيف اوبجكت من نوع بو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Boat reference variab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dded to the Customer 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sed to implement a one-to-one association relationship with the Boat 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A68A-7453-4C07-94DD-409ECA1353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Modifying the Customer Cla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or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لمى نضيف الرفرنس اتربيوت نضيف له الست والقي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tBo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cepts a Boat reference as a parame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igns the reference to the attrib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etBo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turns the Boat refer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99D4-F894-49C3-8B2A-858753CCC0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Modifying the Customer Cla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ts the Boat reference variable to Nothing using the SetBoat metho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في الكونستراكتر تبع الزبون ، نضع في الاتربيوت بوت ولاشيء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OTH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nce Customer instance is crea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عندما ننشئ الزبون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oat reference variable can be set to an actual Boat refere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عن طريق السيت نسند له قيمت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00C2-D3E0-4880-975C-DF7B571CCA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Modifying the Boat Class</a:t>
            </a:r>
            <a:r>
              <a:rPr b="1" lang="ar-SA" sz="3200" spc="-1" strike="noStrike">
                <a:solidFill>
                  <a:srgbClr val="00cc99"/>
                </a:solidFill>
                <a:latin typeface="Arial"/>
                <a:cs typeface="Times New Roman"/>
              </a:rPr>
              <a:t>التعديل في كلاس القارب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ifying the Boat class implements the other direction of the association relations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boa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s owned b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customer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البوت يملك بواسطة زبون ون تو ون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Customer attribu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Customer reference variable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نضيف اتربيوت من نوع زبون في الكلاس قارب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dded to the Boat 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sed to implement a one-to-one association relationship with the Customer class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لانشاء العلاقة واحد الى واحد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B3DB-230C-4651-9680-A76FB4B455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Modifying the Boat Class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or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نضع السيت والقيت للزبون المضاف كاتربيوت في كلاس القار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etCustom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turns the Customer refer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tCustom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cepts a Customer reference as a parame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igns the reference to the attrib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BF19-77F6-4CDC-8FD7-F251B9DEEA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dding Functionality to the Boat Class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nctionality of classes that have association relationships can be increa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ignBoatToCustomer custom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dded in Boat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تضاف في القارب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es the association between Boat and Customer in both directions in one step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تنشئ العلاقة بين القارب والزبون في الاتجاهين المختلفين في خطوه وحده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C4FE-B934-4099-B400-D6180409E6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 this chapter, you wil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association relationships on Bradshaw Marina’s class dia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e VB .NET classes in a one-to-one relations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functionality to the Boat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F77F-FEB5-4AA2-87B5-E9D3F69422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dding Functionality to the Boat Cla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datory association between Boat and Custom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ssible beca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radshaw Marina does not want to keep information about a boat if its owner is not a custom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one 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ding a Customer reference parameter to the Boat constru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F00-E5D6-4779-A238-A08D63108B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dding Functionality to the Boat Cla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ed Boat TellAboutSelf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تعديل ميثود تيل اباوت سيلف في البوت كلا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turns information abou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o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بجعلها ترجع معلومات البوت والكوستمر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ssible beca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boat must be associated with a custom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ممكنه لان القارب يجب ان يربط بزبو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0F9-2D0C-4EFA-8370-4DE3615F3E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ssociating Docks and Slips: A One-to-Many Association Relationship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 relationship between Slip and D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wo directions of the relationshi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 relationship between Slip and D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e-to-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slip i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ttached t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do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 relationship between Dock and Sl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علاقة بين الدوك والسلي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e-to-many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واحد الى كثي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dock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ain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y sl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20B2-BC6D-4745-B206-4239DDC5C5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ssociating Docks and Slips: A One-to-Many Association Relationship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 impleme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one-to-one association relationship between Slip and D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تكون العلاقة واحد الى واحد اذا كان الاتجاه من السليب للدو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e the technique used to implement the Customer and Boat assoc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one-to-many association relationship between Dock and Sl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تكون العلاقة واحد الى مجموعة من الدوك للسلي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s that a dock instance have reference variables for more than one sl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se an ArrayList in the Dock class to hold many Slip reference vari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نضع متغير من نوع اراي ليست يحمل العديد من اوبجتات السليب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320B-749B-4D9C-AE21-BFAEED248D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ssociating Docks and Slips: A One-to-Many Association Relationship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rayList clas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used to instantiate a container that can hold many reference variab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فيه ميثود للاضافة للاراي ليست اسمها (اد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as methods which can be used t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d Slip reference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تضيف اوبجكت من نوع سلي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trieve Slip reference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ونقدر نسترجع السليبز اوبجكت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987F-5781-4A95-8EDC-953CC754FF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ntroducing the Dock Class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ck clas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ur previous attribu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 ID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l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wo Boolean variables indica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ether the dock has electric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ether the dock has w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ifth attribute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اتربيوت خامس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li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 Array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s the one-to-many association 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نسوي الامبلمنتيشن للعلاقة واحد الى مجموع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860-B249-4D21-90F1-0F11DEA219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ntroducing the Dock Cla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ck class constru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ts values for the four attributes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وضعنا القيم في الاتربيوت الاربعة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stantiates the new ArrayList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انشاء المتغير من نوع اراي ليست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ssigns the new ArrayList to the slips attribu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Sli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getter metho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turns the slips reference variable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ترجع الاراي ليست اوبجكت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4BDA-FB07-43BE-AA62-00F90CD88A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ntroducing the Dock Cla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Slip custom method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دالة اد سلي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sed to add a slip to the dock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تستعمل لاضافة سليب للدوك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voked by the Slip AddSlipToDock method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تستدعى من السليب عن طريق الدالة اضافة سليب الى الدوك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tains the slips.Add(aSlip) stat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d to add a Slip reference to the ArrayList referenced by the variable sli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254E-2689-4D76-AD7A-36BDE6C8B7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ssociating the Slip Class with Dock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tions to the Slip class to implement the mandatory one-to-one association relations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Dock attribu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Dock reference var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or methods for the Dock reference attribu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FDE4-59DE-41AF-B28F-E7A23A2E889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ssociating the Slip Class with Dock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tions to the Slip class (Continu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ed construc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pects a Dock reference parame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: When a slip is instantiated, it must be associated with a do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vokes the slip’s AddSlipToDock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SlipToDock method establishes the association in both directions b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voking the dock’s AddSlip method using the Me keywor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4430-19BE-46EC-BF91-32B05A9A8F0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 this chapter, you wil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e Dock and Slips in a one-to-many relations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he Boat and Customer classes to the Slip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nd use an association class—Le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67C-309C-4696-90EE-65811F7AE5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ssociating the Slip Class with Dock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tions to the Slip class (Continu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TellAboutSelf metho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تيل اباوت سيلف الموجوده في السليب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turns information ab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sl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slip’s do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ترجع معلومات عن السليب والدوك الذي يحتوي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لا نستطيع نرجع معلومات الدوك بدون ما نضع اتربيوت من نوع دوك يحتوي على معلومات الدوك الذي ينتمي له هذا السليب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9C6F-A3D2-469C-BAA5-E180F0A5FF3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dding the Boat and Customer Classes to the Slip Example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 relationship between Slip and Bo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tions to the Slip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Boat reference attribute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نضيف اتربيوت من نوع بوت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or methods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ونضيف القيت والسيت بوت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etBo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etBo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داخل السليب نضع اتربيوت من نوع بوت واتربيوت اخر من نوع دوك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وفي البوت نضيف اتربيوت من نوع سليب واتربيوت اخر من نوع كوستمر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وفي الدوك اراي لست فيها السليب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وفي الكوستمر نضيف فيه اتربيوت من نوع بوت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tions to the Boat class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تعديلات في كلاس القراب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Slip reference attribute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ضافة اوبجكت من نوع سليب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or methods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ضافة ميثود الوصول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ssignBoatToSlip method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نضيف ميثود ربط البوت بالسليب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لايمكن وضع علاقه ون تو ون اجباري في الجهتين ، لابد ان يكون احدهما اختياري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0،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 او كلاهما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1506-1867-4906-AA0F-8BBA4335714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dding the Boat and Customer Classes to the Slip Example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include the Customer class in this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oat class does not need to be modifi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lready designed to associate with a custom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iven a Customer refer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n navigate to fi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ustomer’s bo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boat’s sl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lip’s d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DA17-49B0-46EB-AD5E-166C77438DB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dding the Boat and Customer Classes to the Slip Example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iven a Dock refer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n navigate t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ach sl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lip’s bo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ustomer who owns the bo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020-F13E-4D6D-B794-9B2B1113E92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Creating and Using an Association Class – Lease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ase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 association clas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كلاس وعلاقة في نفس الوقت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Lease is like an association between a customer and a slip, but with attributes for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كعلاقة بين الزبون والسليب لكن مع اتربيوت ل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art date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تاريخ البدايه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d date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تاريخ النهاي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mount of lease, and so 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b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nualLe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ilyLe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في الكلاس ليز نضيف اوبجكتين واحد من نوع زبون والاخر من نوع سليب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في كلاس الزبون وكلاس السليب نضيف اتربيوت واحد فقط عباره عن اوبجكت من نوع ليز ، لم نضع اتربيوت منهما لان العلاقة بينهما غير مباشر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33CA-CFEF-46CC-9614-E3E151E50D0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Creating and Using an Association Class – Lease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tions to the Lease super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Slip reference attribu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Customer reference attribu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or metho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nualLeas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subclass of Lea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herits the association between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ترث العلاقة بين الليز والسليب والليز والزبون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ase and Sl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ase and Custom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9066-7780-4D65-A0AB-43824F7592F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Creating and Using an Association Class – Lease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 modifications needed for the Boat class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لا تعديل على كلاس البو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ason: Boat is not directly associated with Lea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لان البوت ما عنده علاقه مباشرة بالليز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tions to the Customer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Lease reference attribute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نضيف اوبجكت من نوع ليز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or methods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ميثود الوصول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013B-1ABE-41F8-976D-3E3318D2E49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Creating and Using an Association Class – Lease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tions to the Slip class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التعديل على كلاس اللسلي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Lease reference attribute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اوبجكت من نوع ليز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or methods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ميثود الوصول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easeAnnualSlip method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ميثود ايجار سليب سنوي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s an AnnualLease instance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تنشئ نسخة من الايجار السنوي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628C-0A84-47F0-872F-42675009BC8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 relationships are shown on the class diagram as lines connecting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 relationships are implemented in two directions that must be considered separa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 relationships can be optional or manda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e-to-one association relationships are implemented by including a reference variable as an attribute in one class that points to an instance of another cla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E5AD-3A0A-42BC-B9E6-6F459153974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e-to-many association relationships are implemented using an ArrayList that contains a collection of reference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 relationships can be directly navigated by writing one statement with multiple method calls that are executed from left to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association class exists because of a relationship between two classes, such as Lease between Slip and Custo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D37-1C61-488E-BF84-F9BFFF39AF3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dentifying Association Relationships on Bradshaw Marina’s Class Diagram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 relationshi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how how instances of classes are associated, or connected, to each oth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مشاهدة كيفية ارتباط النسخ وعلاقتها ببعض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dicate that the system requires information about these associ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used to navigate from instance to instance following the associ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ممكن ننتقل من كلاس لكلاس عن طريق هذا الاسوسييشن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D620-EB8D-4BCA-8A3D-E5F013EF49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dentifying Association Relationships on Bradshaw Marina’s Class Diagram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a class dia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 association relationship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pears as a line connecting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تظهر كخط يربط الكلاسي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icity of the associ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dicated by numbers written at both ends of the 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ارقام الموجودة بقرب الكلا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مكن تسمى كاردنيلاتي كما في الاي ار ولكن  الافضل تسمى مولتيسبلتي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7106-B68C-4B63-A90A-47BACBDAA5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dentifying Association Relationships on Bradshaw Marina’s Class Diagram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 relationships in the Bradshaw class diagra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ustomer owns a boat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كل زبون يملك قارب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oat is owned by a customer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كل قارب يمتلك من زبون واح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oat is assigned to a slip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كل قارب يسند الى سليب معين ( المكان الذي تتوقف عنده القوارب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lip contains a boat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السليب يحتوي قارب (</a:t>
            </a:r>
            <a:r>
              <a:rPr b="1" lang="ar-SA" sz="1800" spc="-1" strike="noStrike">
                <a:solidFill>
                  <a:srgbClr val="ff6600"/>
                </a:solidFill>
                <a:latin typeface="Arial"/>
                <a:cs typeface="Arial"/>
              </a:rPr>
              <a:t>ون تو ون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dock contains many slips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الدوك يحتوي على عدد من السليب (</a:t>
            </a:r>
            <a:r>
              <a:rPr b="1" lang="ar-SA" sz="1800" spc="-1" strike="noStrike">
                <a:solidFill>
                  <a:srgbClr val="ff6600"/>
                </a:solidFill>
                <a:latin typeface="Arial"/>
                <a:cs typeface="Arial"/>
              </a:rPr>
              <a:t>ون تو ماني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slip is attached to a d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lip is leased to a customer (Lease is an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association 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هي عباره عن علاقة وكلاس في نفس الوقت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اذا العلاقة فيها اتربيوت نحطها على شكل كلاس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لماذا لا نضع الاتربيوت في احد الكلاسين المشتركه في العلاقه ، لان الاتربيوت خاصية مشتركه في كلا الكلاسين ، فيختلف من زبون الى زبون ومن سليب لاخ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customer leases a slip (Lease is an association clas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6600"/>
                </a:solidFill>
                <a:latin typeface="Arial"/>
                <a:cs typeface="Arial"/>
              </a:rPr>
              <a:t>انواع العلاقات</a:t>
            </a:r>
            <a:r>
              <a:rPr b="1" lang="ar-SA" sz="1800" spc="-1" strike="noStrike">
                <a:solidFill>
                  <a:srgbClr val="ff6600"/>
                </a:solidFill>
                <a:latin typeface="Arial"/>
                <a:ea typeface="Arial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461C-08F2-4DFD-A4FA-39F3A25C41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dentifying Association Relationships on Bradshaw Marina’s Class Diagram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25780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5388-BC9F-440D-8778-B5E16EB83A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dentifying Association Relationships on Bradshaw Marina’s Class Diagram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as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 example of a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 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because of the relationship between a slip and a custom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وجودة بسبب العلاقة بين السليب والزبو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class diag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hown as a class connected by a dashed line to an association between Slip and Custom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كتب على شكل خط مقطع الى العلاقة بين الزبون والسلي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D420-BB33-4E2F-82E1-C6E677A615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ssociating VB .NET Classes in a </a:t>
            </a:r>
            <a:br>
              <a:rPr sz="3200"/>
            </a:b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One-to-One Relationship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 relationship between Customer and Bo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أي علاقة تقرأ في الاتجاهي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as two “directions”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لها اتجاهين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custom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w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boat (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ن الزبون الى القار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boa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 own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customer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ن القارب للزبو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ach direction of the relationshi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ust be defined separately by the system develop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كل اتجاه لازم يعرف منفصل من مطور النظا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ust be handled separately with VB .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لابد ان يعامل بشكل منفصل في الفي بي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A4D0-3B29-404D-B828-8D29A7C281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14:25:40Z</dcterms:created>
  <dc:creator/>
  <dc:description/>
  <dc:language>en-US</dc:language>
  <cp:lastModifiedBy>26s547</cp:lastModifiedBy>
  <dcterms:modified xsi:type="dcterms:W3CDTF">2011-03-20T11:33:01Z</dcterms:modified>
  <cp:revision>543</cp:revision>
  <dc:subject/>
  <dc:title>Chapter 4</dc:title>
</cp:coreProperties>
</file>