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2"/>
          <p:cNvSpPr>
            <a:spLocks noGrp="1"/>
          </p:cNvSpPr>
          <p:nvPr>
            <p:ph type="dt" idx="2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5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6" name="PlaceHolder 5"/>
          <p:cNvSpPr>
            <a:spLocks noGrp="1"/>
          </p:cNvSpPr>
          <p:nvPr>
            <p:ph type="ftr" idx="2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7" name="PlaceHolder 6"/>
          <p:cNvSpPr>
            <a:spLocks noGrp="1"/>
          </p:cNvSpPr>
          <p:nvPr>
            <p:ph type="sldNum" idx="2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D736-7767-41D4-ACA9-247FDBA8F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D5F6-111A-4551-8D3A-61A4EB758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D5EA-169C-46ED-B7D4-BB67453B3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3A4C-6DE0-4BAC-BAA1-FB4B244F5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03AF-D4E3-42C9-8903-F3F3093D2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st of the economic research from the various banks is available online. The Federal Reserve Economic Data Base, FRED, is available through the St. Louis Fed. Asearch engine for all of the bank research articles is available at the San Francisco F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EEEC-7F68-488A-8205-191678C2F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FDA-7F16-417D-AE6C-9275B62CB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investor obviously cannot advertise in the local newspaper his or her willingness to lend money to businesses that need to finance investments. Instead, financial intermediaries such as banks, investment companies, insurance companies, or credit unions naturally evolve to bring the two sectors together</a:t>
            </a:r>
            <a:endParaRPr b="0" lang="en-US" sz="1200" spc="-1" strike="noStrike">
              <a:solidFill>
                <a:srgbClr val="000000"/>
              </a:solidFill>
              <a:latin typeface="Times New Roman"/>
            </a:endParaRPr>
          </a:p>
        </p:txBody>
      </p:sp>
      <p:sp>
        <p:nvSpPr>
          <p:cNvPr id="59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10E2-D0D3-4108-BFAC-5B27252D8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D023EE8-07F1-440D-BA45-6664DA8E7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86D8E8-784E-4ACD-B1A0-E022E4AA20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EF11847-2A05-4CB1-A508-1C3767A542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6B43DC-54CF-40F6-9BEE-0A44A978B5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109621-2428-462B-82D6-2AA5B4AE64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8876DB-BEA4-4532-A981-75B2F0F9A99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B8CFDC-6898-4C1C-80B7-B2ABDD8EE4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1ECED8-9FF8-4C94-8762-96DFF03224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C31D97-C8FE-4BD2-8F99-5EFB55202F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89C3B5-AA8A-48D7-A3C7-60BD5911AC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1DBDAD0-DBF1-446E-94F1-C2E1A9A1DD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912887A-1E40-422C-9D26-83853F1F78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7279A0-2899-4119-B3ED-F091AB52AC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CB9F4DD-32D0-4565-B238-C274CB1020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4BC0359-2848-4585-A58C-9A651D38D7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E579548-E143-493A-AB71-2D36275CB6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55A7207-8744-42C9-93FC-7BAC005337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08A3F76-19D1-4864-BB06-ECE6A1A80B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A4EAEF4-104C-40BB-9C22-87F7ADAD53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F6880EE-31E9-4D57-A172-06BFCA15C5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FE2C11A-8E90-4205-B22C-75E2A2E15F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35FD7B2-B4FE-4C47-8CDD-DDCA8B5BCF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F87BFF6D-B314-4CD2-A45F-6C65A21F9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29658F-4104-4048-AE57-B264CA0B0B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46644D45-33A6-474F-8954-F466FAC95E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DE2ED221-8D9B-4925-ABFB-ED6172D975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76AC1E59-37AE-46BA-850D-D14E4B1C21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C930481D-47EF-4D18-835F-1770E8D8E4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B918FD13-3CF6-4E35-9748-FB105E263B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E8F046CB-B1CC-46A3-BF90-38C8427D081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48B5590B-D805-4E4F-91B5-8BAB6131B9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0DED8C6-0EFD-401B-B8E0-D26074E782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4AEB83C-2AAC-4C55-BF65-D637CE44BD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33FE429-3CE2-467F-B68B-A39E8D8D0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20A6D30-1A92-4289-A076-7BCA149C685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910F3FA1-70C2-473E-8C5A-2A23EE3B49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47C0F5F3-F8A6-41EF-91C8-F76F9F4740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238F54DB-8BB2-430C-AB8F-16068396D7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F1A8EEA-5CEE-4C4A-B57C-B3F1B2563D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486D509-7537-45B7-B318-3EE004885C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D8AAE86-C7FB-485E-9A88-4F1EE6C8FA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978D48F-8C64-45C6-AA77-82D65F756D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52522E5-6E2A-4C0D-9083-F14BA4C194D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FF42F4D-1DAC-414E-9615-03C5A1D789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5E8D543-DB0D-46B2-B885-705DF9F9BE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C6694C1-09A0-44E3-AFA8-9807B3EC652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1D30114-3827-470B-BCF9-445E3AC411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10719C9-01CA-4CE5-B053-CCD573811E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A830551-E521-4157-977D-34BD98F7FBF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EF15621-91B8-4D90-BBB1-5A99B3335A2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FC0121D-D20F-436F-AA49-75394B10EAD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1136A933-CA4F-4850-A140-3D98D1BD969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7A85ADF-133F-4E73-81B0-E8F7B576F86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97FED51D-8781-4D80-8694-3FF1D6199DF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AAD1453-5B77-4E74-A4D7-F76F3A1803F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92B42879-FAFD-4473-BBA4-E5584209EA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F778B45-6DF7-4655-9CE3-7460EC2AB13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DD42F6E-1B24-444C-BB76-F554D4B0CC0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4C2CC46-CCED-47D4-8560-7D2E0CB2EDC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C811C8E2-9A95-4997-A0A2-61F5E4162CB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E021A6FA-5A7E-4FE1-B036-2FE7A5DA63E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A259995-561E-46B2-9FFF-99C60E919B0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CE7344B1-0FAC-49C1-9B62-C177C2C5F6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8E0A5C0F-1A0D-4EC8-A214-DBF64FE67E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161B472-107F-40A5-B6DD-B4E738C4C6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223B296-6CFB-4ECC-83D3-148366DCAC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C85F350-5C31-4475-AC16-A0274CF95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C9BB788-6863-41DF-9115-F584AC46A2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E4D7A3-01E2-402C-A596-6063718E1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1774737-E48A-4C3D-B5A0-325BECD430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F3CB5ED-3FBD-4965-876C-362F3D209D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D228153-1031-4CE4-B6F3-B18F398F39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B3545F8-B49E-4232-BB07-2BD3F6226B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7B0DEC3-99A7-49EA-A5D9-8311A6D54B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8E10784-9542-4B07-8C88-E3F6A6D85B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B28753-CD06-43AC-B556-21FD37CE0F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400719-F802-45A2-B4E9-F7972D3A40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2DF1D7-30BD-4F7E-9BF8-A8BB49CD79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CB9C06-9E97-43B7-8406-EA098D2DEC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FEF6E8-A373-4747-97D3-1AF6A64CA3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05E967-DA49-4E6A-A36C-151EEDC992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7D28D3-5D4C-48F6-9F98-F6EDF745B8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B84D44-979D-4C16-ABCA-241E6772D6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5E9995-A276-4025-8466-B341FDD9B2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1D12DD-9CD4-4F62-8AD4-19CCEB80FC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6DA5EA-DF74-4846-A970-CB9CCA33C4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98F870-A1FE-49E0-AE99-93D085373E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42C12F1-AB69-4552-8955-E66F839078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6E7CCF9-C71B-4F56-9BAC-A33DA974356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79AA1D-7BD0-47AB-A450-A8FFBA02D1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96165B-95B6-4A0D-AAC6-6B527AD328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2445CF-FB12-4782-9274-C91D26C6F3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10196E7-A315-41B9-BC6F-AD5436F0A8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6B85BEA-C271-4B4B-A444-2D8A6730AF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04C886-CE4B-4DDB-B47D-C2C05D3199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2ABF10-8C07-490F-90A2-B05EDBA033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A89E3E-9D4F-406A-81E7-573F167F58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32D766-9481-4350-93DA-20B0D49EFD9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2A39B85-7276-4F52-84AB-39FC5707E9D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4C9E47B-AB1A-4631-8E5C-9C1FA6A3F3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5F0121DC-3FEB-4AD4-9405-E24536D4D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4FEDB40-2E84-4414-8132-E3472AB4B8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CD3F081-B7D0-4045-9BD4-18030178D5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8AF72FEA-F5FA-4299-B14A-A429A6FA68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5D572D65-2CD4-43D9-98F8-EF3D2AEDEC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3C285F36-3C59-4C96-AE6E-DB82F9225C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CBB81D94-19CB-47EE-80BF-1597469C184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70D3DDB-FC20-4ACE-91B8-CAE6E8496CD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A8AEE0D-D71E-4A93-A580-92A3FC42FF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3139E94-87EF-496A-899A-9601598934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99C9A88C-2BCC-4123-8285-76492ECA640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7EAB7C07-4A7D-47BF-9ED7-4506691C9A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B94D95-55CF-4F83-A4CF-C36D12D8B3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33A73D07-25BB-45DA-8335-E17DC26BD4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ABC03D-B6D6-4577-997A-998F844EBC6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E01DDF-B255-43D1-B3AD-CBF1EB78D7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66C083-84E8-4CEE-8D41-89F7965299F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251ADD-084F-4EEA-BA96-C7C07EC0B7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6CFFC0-3610-492F-B471-6D73104354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BCD912-83B3-443A-A08D-E57D0545C15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23CA04-4970-4297-B38F-999D88C7F3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333ED5-36CC-4EDA-8CCE-E0FA13B8051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9D485B-B638-4451-849A-A6FB211CC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CB08DA-A5FE-4B84-A6D3-FAF96300E1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CA82FE-174A-4F31-A1E5-9DC8AC4F11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B1FC903-65E5-4F14-92F6-46EFCAB7A7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9ED866-D783-4EDF-8629-4F8444EFA3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3EF144C-EF82-44B1-AA86-91175416CC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EE1E3CD-F771-4C1E-86BF-51EC843F71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3C56C2F-D1AE-4D3A-8DCC-9552256770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BFF5AE91-73AF-4563-941D-410DEACC7E0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25BAEC1-AFF2-43C0-B289-2DA1870EF8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90BDCA1-8533-498F-98E2-EBB3AAB7C3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08232BE-C5C4-44F6-A1B8-48DB1AEAB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5BB8B4-34AC-4A4E-B631-1F6CFD867E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428F83A-C471-4C30-AB25-883D3F38996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DB1C323-A49D-4BC3-9EF8-784A4052FC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FC2C8FA-17D9-432A-AB5C-449B1BED16B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D88B005E-4FD0-4593-B350-007F1EC5FF9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29D93E9-FA44-4247-AF2D-60AD234904C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BBC89A1B-9E3F-4D94-AE04-A57A362D88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D22525CA-5C4F-4897-B040-415B5FF3C5F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1BA7E7B7-2FF0-44EC-B4D6-5C3A74FC8C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40005AC-9820-49B1-BB30-D49CCF6AB10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23CB013-BAFC-435B-9F24-F89277BD9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1FCF1F-2F4C-4CD7-8B21-E501CBC2CF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277DAAE1-DAC6-43F1-84E9-A20FF0BCC0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4F37C69-9D57-439C-9BFA-F1082DF95D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FD452334-A6AD-4972-9A9C-BD43CC55272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DB0C7CA-49A0-4463-930D-09A2121563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1D29DAB-61A1-4690-B438-EBE21F0492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B4EBBA31-59DF-43A3-971A-147D3BA324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FBBB7063-B62F-4EEF-ACDA-F904982DC2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81C6A5-C01E-4384-8EB3-2C0DB44540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4946FD-A2A6-4261-8943-55D9E2FC25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8D1C7E-92A6-41E9-B686-D05550D9E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A294D23-F56B-48A3-AD9C-F893979D727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3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363" name="PlaceHolder 3"/>
          <p:cNvSpPr>
            <a:spLocks noGrp="1"/>
          </p:cNvSpPr>
          <p:nvPr>
            <p:ph type="sldNum" idx="19"/>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02201121-6044-43F5-8A02-32F84181417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64" name="PlaceHolder 4"/>
          <p:cNvSpPr>
            <a:spLocks noGrp="1"/>
          </p:cNvSpPr>
          <p:nvPr>
            <p:ph type="ftr" idx="20"/>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03" name="PlaceHolder 3"/>
          <p:cNvSpPr>
            <a:spLocks noGrp="1"/>
          </p:cNvSpPr>
          <p:nvPr>
            <p:ph type="sldNum" idx="2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AD86D5C5-C3A4-4718-9C9A-EBBC9B72195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04" name="PlaceHolder 4"/>
          <p:cNvSpPr>
            <a:spLocks noGrp="1"/>
          </p:cNvSpPr>
          <p:nvPr>
            <p:ph type="ftr" idx="2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3" name="PlaceHolder 3"/>
          <p:cNvSpPr>
            <a:spLocks noGrp="1"/>
          </p:cNvSpPr>
          <p:nvPr>
            <p:ph type="sldNum" idx="2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8B1794A-D999-4B4D-BA2F-594366507E2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44" name="PlaceHolder 4"/>
          <p:cNvSpPr>
            <a:spLocks noGrp="1"/>
          </p:cNvSpPr>
          <p:nvPr>
            <p:ph type="ftr" idx="2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83" name="PlaceHolder 3"/>
          <p:cNvSpPr>
            <a:spLocks noGrp="1"/>
          </p:cNvSpPr>
          <p:nvPr>
            <p:ph type="sldNum" idx="2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660BE41-F689-4E7E-994C-F5E590F1A2C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84" name="PlaceHolder 4"/>
          <p:cNvSpPr>
            <a:spLocks noGrp="1"/>
          </p:cNvSpPr>
          <p:nvPr>
            <p:ph type="ftr" idx="2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3" name="PlaceHolder 3"/>
          <p:cNvSpPr>
            <a:spLocks noGrp="1"/>
          </p:cNvSpPr>
          <p:nvPr>
            <p:ph type="sldNum" idx="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E5C4F3DF-4CAE-430B-91C0-63745D9E9F2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4"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3" name="PlaceHolder 3"/>
          <p:cNvSpPr>
            <a:spLocks noGrp="1"/>
          </p:cNvSpPr>
          <p:nvPr>
            <p:ph type="sldNum" idx="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30AC5DE-98E3-4AE6-B756-5F1F6FA07E1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4"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123" name="PlaceHolder 3"/>
          <p:cNvSpPr>
            <a:spLocks noGrp="1"/>
          </p:cNvSpPr>
          <p:nvPr>
            <p:ph type="sldNum" idx="7"/>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5E36A42D-7DEE-4D6D-9850-E54CA6A8305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4" name="PlaceHolder 4"/>
          <p:cNvSpPr>
            <a:spLocks noGrp="1"/>
          </p:cNvSpPr>
          <p:nvPr>
            <p:ph type="ftr" idx="8"/>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163" name="PlaceHolder 3"/>
          <p:cNvSpPr>
            <a:spLocks noGrp="1"/>
          </p:cNvSpPr>
          <p:nvPr>
            <p:ph type="sldNum" idx="9"/>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3A35A47E-DC34-4529-AF62-47B227140A7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4" name="PlaceHolder 4"/>
          <p:cNvSpPr>
            <a:spLocks noGrp="1"/>
          </p:cNvSpPr>
          <p:nvPr>
            <p:ph type="ftr" idx="10"/>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03" name="PlaceHolder 3"/>
          <p:cNvSpPr>
            <a:spLocks noGrp="1"/>
          </p:cNvSpPr>
          <p:nvPr>
            <p:ph type="sldNum" idx="1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E3C92A49-A265-4C7C-A13B-286B0A95CC5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4" name="PlaceHolder 4"/>
          <p:cNvSpPr>
            <a:spLocks noGrp="1"/>
          </p:cNvSpPr>
          <p:nvPr>
            <p:ph type="ftr" idx="1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43" name="PlaceHolder 3"/>
          <p:cNvSpPr>
            <a:spLocks noGrp="1"/>
          </p:cNvSpPr>
          <p:nvPr>
            <p:ph type="sldNum" idx="1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63E8682-5BE4-43B6-89BA-0B365C9C6AB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44" name="PlaceHolder 4"/>
          <p:cNvSpPr>
            <a:spLocks noGrp="1"/>
          </p:cNvSpPr>
          <p:nvPr>
            <p:ph type="ftr" idx="1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83" name="PlaceHolder 3"/>
          <p:cNvSpPr>
            <a:spLocks noGrp="1"/>
          </p:cNvSpPr>
          <p:nvPr>
            <p:ph type="sldNum" idx="1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6E4404B-AB41-4CA1-81F4-33E0E7F452F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84" name="PlaceHolder 4"/>
          <p:cNvSpPr>
            <a:spLocks noGrp="1"/>
          </p:cNvSpPr>
          <p:nvPr>
            <p:ph type="ftr" idx="1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3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323" name="PlaceHolder 3"/>
          <p:cNvSpPr>
            <a:spLocks noGrp="1"/>
          </p:cNvSpPr>
          <p:nvPr>
            <p:ph type="sldNum" idx="17"/>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863FF62D-493D-45C1-99BC-BCF15E58551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24" name="PlaceHolder 4"/>
          <p:cNvSpPr>
            <a:spLocks noGrp="1"/>
          </p:cNvSpPr>
          <p:nvPr>
            <p:ph type="ftr" idx="18"/>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5"/>
          <p:cNvSpPr/>
          <p:nvPr/>
        </p:nvSpPr>
        <p:spPr>
          <a:xfrm>
            <a:off x="304920" y="380880"/>
            <a:ext cx="868680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One</a:t>
            </a:r>
            <a:endParaRPr b="0" lang="en-US" sz="6000" spc="-1" strike="noStrike">
              <a:solidFill>
                <a:srgbClr val="000000"/>
              </a:solidFill>
              <a:latin typeface="Times New Roman"/>
            </a:endParaRPr>
          </a:p>
        </p:txBody>
      </p:sp>
      <p:sp>
        <p:nvSpPr>
          <p:cNvPr id="532" name="Text Box 6"/>
          <p:cNvSpPr/>
          <p:nvPr/>
        </p:nvSpPr>
        <p:spPr>
          <a:xfrm>
            <a:off x="380880" y="18097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0000"/>
                </a:solidFill>
                <a:latin typeface="Arial"/>
              </a:rPr>
              <a:t>The Investment Envirenment</a:t>
            </a:r>
            <a:endParaRPr b="0" lang="en-US" sz="4400" spc="-1" strike="noStrike">
              <a:solidFill>
                <a:srgbClr val="000000"/>
              </a:solidFill>
              <a:latin typeface="Times New Roman"/>
            </a:endParaRPr>
          </a:p>
        </p:txBody>
      </p:sp>
      <p:sp>
        <p:nvSpPr>
          <p:cNvPr id="533"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TextBox 1"/>
          <p:cNvSpPr/>
          <p:nvPr/>
        </p:nvSpPr>
        <p:spPr>
          <a:xfrm>
            <a:off x="4419720" y="6581880"/>
            <a:ext cx="472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presentation has been amended/updated by Dr</a:t>
            </a:r>
            <a:r>
              <a:rPr b="0" lang="fr-FR" sz="1200" spc="-1" strike="noStrike">
                <a:solidFill>
                  <a:srgbClr val="000000"/>
                </a:solidFill>
                <a:latin typeface="Times New Roman"/>
              </a:rPr>
              <a:t>. Mounira Ben Arab</a:t>
            </a:r>
            <a:endParaRPr b="0" lang="en-US" sz="12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90F7450-2918-4D05-920C-EE999A2D292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6" name="Rectangle 3"/>
          <p:cNvSpPr/>
          <p:nvPr/>
        </p:nvSpPr>
        <p:spPr>
          <a:xfrm>
            <a:off x="685800" y="152280"/>
            <a:ext cx="7696080" cy="61722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ment Banking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y are constantly in the market, Investment bankers can provide more than just expertise to security issuer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emple, Merrill Lynch, Salomon Smith Barney, or Goldman, Sachs advise the issuing firm on the prices it can charge for the securities issued, market conditions, appropriate interest rates, and so forth.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Innovation and Derivatives </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tgage-backed securities  such as :</a:t>
            </a:r>
            <a:endParaRPr b="0" lang="en-US" sz="2000" spc="-1" strike="noStrike">
              <a:solidFill>
                <a:srgbClr val="000000"/>
              </a:solidFill>
              <a:latin typeface="Times New Roman"/>
            </a:endParaRPr>
          </a:p>
          <a:p>
            <a:pPr lvl="2" marL="1257480" indent="-343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rtgage pass-through securities (first introduced by the Government National Mortgage Association</a:t>
            </a:r>
            <a:endParaRPr b="0" lang="en-US" sz="2000" spc="-1" strike="noStrike">
              <a:solidFill>
                <a:srgbClr val="000000"/>
              </a:solidFill>
              <a:latin typeface="Times New Roman"/>
            </a:endParaRPr>
          </a:p>
          <a:p>
            <a:pPr lvl="2" marL="1257480" indent="-343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ateralized mortgage obligation, or CMO</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Derivatives have become an integral part of the investment environment.  </a:t>
            </a:r>
            <a:endParaRPr b="0" lang="en-US" sz="20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CB6F8D72-0ADF-4776-8854-6046660DF29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5 MARKETS AND MARKET STRUCTURE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59"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search markets,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kered market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ler marke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ction market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A9CB0177-DD82-4A1E-A23A-BD5BFCE0754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6 ONGOING TRENDS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6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ization,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iz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Enginee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Network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80E4BD97-CEEE-46EC-81CE-D511CF1CE62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64" name="Espace réservé du pied de page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6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00"/>
                </a:solidFill>
                <a:latin typeface="Times New Roman"/>
              </a:rPr>
              <a:t>Reasons of Growth in Foreign Financial Market</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ol of savings from foreign investors </a:t>
            </a:r>
            <a:r>
              <a:rPr b="0" lang="tr-TR" sz="2000" spc="-1" strike="noStrike">
                <a:solidFill>
                  <a:srgbClr val="000000"/>
                </a:solidFill>
                <a:latin typeface="Times New Roman"/>
              </a:rPr>
              <a:t>(i.e from EU) </a:t>
            </a:r>
            <a:r>
              <a:rPr b="0" lang="en-US" sz="2000" spc="-1" strike="noStrike">
                <a:solidFill>
                  <a:srgbClr val="000000"/>
                </a:solidFill>
                <a:latin typeface="Times New Roman"/>
              </a:rPr>
              <a:t>is increasing and </a:t>
            </a:r>
            <a:r>
              <a:rPr b="1" lang="en-US" sz="2000" spc="-1" strike="noStrike">
                <a:solidFill>
                  <a:srgbClr val="000000"/>
                </a:solidFill>
                <a:latin typeface="Times New Roman"/>
              </a:rPr>
              <a:t>investors look to diversify globally </a:t>
            </a:r>
            <a:r>
              <a:rPr b="0" lang="en-US" sz="2000" spc="-1" strike="noStrike">
                <a:solidFill>
                  <a:srgbClr val="000000"/>
                </a:solidFill>
                <a:latin typeface="Times New Roman"/>
              </a:rPr>
              <a:t>now more than ever before</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a:t>
            </a:r>
            <a:r>
              <a:rPr b="0" lang="en-US" sz="2000" spc="-1" strike="noStrike">
                <a:solidFill>
                  <a:srgbClr val="000000"/>
                </a:solidFill>
                <a:latin typeface="Times New Roman"/>
              </a:rPr>
              <a:t> on foreign markets and investments is </a:t>
            </a:r>
            <a:r>
              <a:rPr b="1" lang="en-US" sz="2000" spc="-1" strike="noStrike">
                <a:solidFill>
                  <a:srgbClr val="000000"/>
                </a:solidFill>
                <a:latin typeface="Times New Roman"/>
              </a:rPr>
              <a:t>becoming readily accessible </a:t>
            </a:r>
            <a:r>
              <a:rPr b="0" lang="en-US" sz="2000" spc="-1" strike="noStrike">
                <a:solidFill>
                  <a:srgbClr val="000000"/>
                </a:solidFill>
                <a:latin typeface="Times New Roman"/>
              </a:rPr>
              <a:t>and deregulation across the globe is allowing even greater access</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mutual funds allow diversified foreign investment with low transactions costs</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uro is also having a notable impact on the global financial sytem.</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Global capital flows are larger than ever mainly due to deregulation in many foreign countries.</a:t>
            </a:r>
            <a:endParaRPr b="0" lang="en-US" sz="20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lIns="105840" rIns="105840" tIns="62640" bIns="62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400" spc="-1" strike="noStrike">
              <a:solidFill>
                <a:srgbClr val="000000"/>
              </a:solidFill>
              <a:latin typeface="Times New Roman"/>
            </a:endParaRPr>
          </a:p>
        </p:txBody>
      </p:sp>
      <p:pic>
        <p:nvPicPr>
          <p:cNvPr id="569" name="Picture 7" descr=""/>
          <p:cNvPicPr/>
          <p:nvPr/>
        </p:nvPicPr>
        <p:blipFill>
          <a:blip r:embed="rId1"/>
          <a:stretch/>
        </p:blipFill>
        <p:spPr>
          <a:xfrm>
            <a:off x="3124080" y="2019240"/>
            <a:ext cx="5886720" cy="4000680"/>
          </a:xfrm>
          <a:prstGeom prst="rect">
            <a:avLst/>
          </a:prstGeom>
          <a:ln w="0">
            <a:noFill/>
          </a:ln>
        </p:spPr>
      </p:pic>
      <p:sp>
        <p:nvSpPr>
          <p:cNvPr id="570" name="TextBox 3"/>
          <p:cNvSpPr/>
          <p:nvPr/>
        </p:nvSpPr>
        <p:spPr>
          <a:xfrm>
            <a:off x="762120" y="2019240"/>
            <a:ext cx="236196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US financial markets dominate world markets, the growth of US financial markets depends more and more on the growth and development of other economies. </a:t>
            </a:r>
            <a:br>
              <a:rPr sz="1800"/>
            </a:br>
            <a:r>
              <a:rPr b="0" lang="en-US" sz="1800" spc="-1" strike="noStrike">
                <a:solidFill>
                  <a:srgbClr val="000000"/>
                </a:solidFill>
                <a:latin typeface="Times New Roman"/>
              </a:rPr>
              <a:t> The success of other economies depends to a significant extent on their financial market development</a:t>
            </a:r>
            <a:endParaRPr b="0" lang="en-US" sz="1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98CA787-5F23-4CB9-A277-0A53B948F1D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2" name="Espace réservé du pied de page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7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Times New Roman"/>
              </a:rPr>
              <a:t>The Largest Banks in the World</a:t>
            </a:r>
            <a:endParaRPr b="0" lang="en-US" sz="28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rPr>
              <a:t>Competition is also increased due to global markets. </a:t>
            </a:r>
            <a:endParaRPr b="0" lang="en-US" sz="2500" spc="-1" strike="noStrike">
              <a:solidFill>
                <a:srgbClr val="000000"/>
              </a:solidFill>
              <a:latin typeface="Times New Roman"/>
            </a:endParaRPr>
          </a:p>
        </p:txBody>
      </p:sp>
      <p:pic>
        <p:nvPicPr>
          <p:cNvPr id="575" name="Picture 7" descr=""/>
          <p:cNvPicPr/>
          <p:nvPr/>
        </p:nvPicPr>
        <p:blipFill>
          <a:blip r:embed="rId1"/>
          <a:stretch/>
        </p:blipFill>
        <p:spPr>
          <a:xfrm>
            <a:off x="1692360" y="3200400"/>
            <a:ext cx="5924520" cy="28195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978E8D0D-3059-4A22-804C-E3D92DD6194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Secondary Mortgage Market</a:t>
            </a:r>
            <a:br>
              <a:rPr sz="3600"/>
            </a:br>
            <a:r>
              <a:rPr b="1" lang="en-US" sz="2200" spc="-1" strike="noStrike">
                <a:solidFill>
                  <a:srgbClr val="cc0000"/>
                </a:solidFill>
                <a:latin typeface="Times New Roman"/>
              </a:rPr>
              <a:t>Mortgage Sales</a:t>
            </a:r>
            <a:endParaRPr b="0" lang="en-US" sz="2200" spc="-1" strike="noStrike">
              <a:solidFill>
                <a:srgbClr val="008000"/>
              </a:solidFill>
              <a:latin typeface="Times New Roman"/>
            </a:endParaRPr>
          </a:p>
        </p:txBody>
      </p:sp>
      <p:sp>
        <p:nvSpPr>
          <p:cNvPr id="578"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sellers</a:t>
            </a:r>
            <a:r>
              <a:rPr b="0" lang="en-US" sz="2400" spc="-1" strike="noStrike">
                <a:solidFill>
                  <a:srgbClr val="000000"/>
                </a:solidFill>
                <a:latin typeface="Times New Roman"/>
              </a:rPr>
              <a:t>: money center banks, smaller banks, foreign banks, investment bank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tgage sales allow FIs to manage credit risk, achieve better asset diversification, and improve their liquidity and interest rate risk posi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 are encouraged to sell loans for economic and regulatory reas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d mortgages can still generate fee income for the ban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d mortgages reduce the cost of reserve and capital requirement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buyers</a:t>
            </a:r>
            <a:r>
              <a:rPr b="0" lang="en-US" sz="2400" spc="-1" strike="noStrike">
                <a:solidFill>
                  <a:srgbClr val="000000"/>
                </a:solidFill>
                <a:latin typeface="Times New Roman"/>
              </a:rPr>
              <a:t>: foreign and domestic banks, insurance companies, pension funds, closed-end bank loan mutual funds, and nonfinancial corporations</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98CC0C4B-6A75-4451-BCE5-E7BC595CA15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0"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Secondary Mortgage Market</a:t>
            </a:r>
            <a:br>
              <a:rPr sz="3600"/>
            </a:br>
            <a:r>
              <a:rPr b="1" lang="en-US" sz="2200" spc="-1" strike="noStrike">
                <a:solidFill>
                  <a:srgbClr val="cc0000"/>
                </a:solidFill>
                <a:latin typeface="Times New Roman"/>
              </a:rPr>
              <a:t>Mortgage Backed Securities</a:t>
            </a:r>
            <a:endParaRPr b="0" lang="en-US" sz="2200" spc="-1" strike="noStrike">
              <a:solidFill>
                <a:srgbClr val="008000"/>
              </a:solidFill>
              <a:latin typeface="Times New Roman"/>
            </a:endParaRPr>
          </a:p>
        </p:txBody>
      </p:sp>
      <p:sp>
        <p:nvSpPr>
          <p:cNvPr id="581"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There are 3 different major types of mortgage backed securities. </a:t>
            </a:r>
            <a:r>
              <a:rPr b="1" lang="tr-TR" sz="2000" spc="-1" strike="noStrike">
                <a:solidFill>
                  <a:srgbClr val="ff0000"/>
                </a:solidFill>
                <a:latin typeface="Times New Roman"/>
              </a:rPr>
              <a:t>Pass through </a:t>
            </a:r>
            <a:r>
              <a:rPr b="1" lang="tr-TR" sz="2000" spc="-1" strike="noStrike">
                <a:solidFill>
                  <a:srgbClr val="000000"/>
                </a:solidFill>
                <a:latin typeface="Times New Roman"/>
              </a:rPr>
              <a:t>and </a:t>
            </a:r>
            <a:r>
              <a:rPr b="1" lang="tr-TR" sz="2000" spc="-1" strike="noStrike">
                <a:solidFill>
                  <a:srgbClr val="ff0000"/>
                </a:solidFill>
                <a:latin typeface="Times New Roman"/>
              </a:rPr>
              <a:t>CMOs</a:t>
            </a:r>
            <a:r>
              <a:rPr b="1" lang="tr-TR" sz="2000" spc="-1" strike="noStrike">
                <a:solidFill>
                  <a:srgbClr val="000000"/>
                </a:solidFill>
                <a:latin typeface="Times New Roman"/>
              </a:rPr>
              <a:t> are </a:t>
            </a:r>
            <a:r>
              <a:rPr b="1" lang="tr-TR" sz="2000" spc="-1" strike="noStrike">
                <a:solidFill>
                  <a:srgbClr val="ff0000"/>
                </a:solidFill>
                <a:latin typeface="Times New Roman"/>
              </a:rPr>
              <a:t>securitized mortgage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gencies are directly involved in the creation of pass-through securities</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anniemae and Freddiemac is a stockholder owned corporation with a line of credit from the US Treasury. Its bonds are rated AA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ss-through securities</a:t>
            </a:r>
            <a:r>
              <a:rPr b="0" lang="en-US" sz="2000" spc="-1" strike="noStrike" u="sng">
                <a:solidFill>
                  <a:srgbClr val="000000"/>
                </a:solidFill>
                <a:uFillTx/>
                <a:latin typeface="Times New Roman"/>
              </a:rPr>
              <a:t> </a:t>
            </a:r>
            <a:r>
              <a:rPr b="0" lang="en-US" sz="2000" spc="-1" strike="noStrike">
                <a:solidFill>
                  <a:srgbClr val="000000"/>
                </a:solidFill>
                <a:latin typeface="Times New Roman"/>
              </a:rPr>
              <a:t>“pass through” promised principal and interest payments to investor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 mortgage pass-through issuers </a:t>
            </a:r>
            <a:r>
              <a:rPr b="0" lang="en-US" sz="2000" spc="-1" strike="noStrike">
                <a:solidFill>
                  <a:srgbClr val="000000"/>
                </a:solidFill>
                <a:latin typeface="Times New Roman"/>
              </a:rPr>
              <a:t>create pass-throughs from nonconforming mortgages</a:t>
            </a:r>
            <a:r>
              <a:rPr b="0" lang="tr-TR"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82" name="Picture 6" descr=""/>
          <p:cNvPicPr/>
          <p:nvPr/>
        </p:nvPicPr>
        <p:blipFill>
          <a:blip r:embed="rId1"/>
          <a:srcRect l="0" t="0" r="0" b="24201"/>
          <a:stretch/>
        </p:blipFill>
        <p:spPr>
          <a:xfrm>
            <a:off x="2362320" y="2855880"/>
            <a:ext cx="4417920" cy="128916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3B32CCA0-369F-40C5-93B4-FAF979574A1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Mortgage Backed Securities</a:t>
            </a:r>
            <a:endParaRPr b="0" lang="en-US" sz="3600" spc="-1" strike="noStrike">
              <a:solidFill>
                <a:srgbClr val="000000"/>
              </a:solidFill>
              <a:latin typeface="Times New Roman"/>
            </a:endParaRPr>
          </a:p>
        </p:txBody>
      </p:sp>
      <p:sp>
        <p:nvSpPr>
          <p:cNvPr id="585" name="Rectangle 3"/>
          <p:cNvSpPr/>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ateralized mortgage obligations (CMOs)</a:t>
            </a:r>
            <a:r>
              <a:rPr b="0" lang="en-US" sz="2400" spc="-1" strike="noStrike">
                <a:solidFill>
                  <a:srgbClr val="000000"/>
                </a:solidFill>
                <a:latin typeface="Times New Roman"/>
              </a:rPr>
              <a:t> are multiclass pass-throughs with multiple bond holder classes or </a:t>
            </a:r>
            <a:r>
              <a:rPr b="1" lang="en-US" sz="2400" spc="-1" strike="noStrike">
                <a:solidFill>
                  <a:srgbClr val="000000"/>
                </a:solidFill>
                <a:latin typeface="Times New Roman"/>
              </a:rPr>
              <a:t>tranches</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rPr>
              <a:t>Unlike a pass through </a:t>
            </a:r>
            <a:r>
              <a:rPr b="0" lang="en-US" sz="2000" spc="-1" strike="noStrike">
                <a:solidFill>
                  <a:srgbClr val="ff0000"/>
                </a:solidFill>
                <a:latin typeface="Times New Roman"/>
              </a:rPr>
              <a:t>each bond holder class has a different guaranteed coup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tgage prepayments retire only one tranche at a time, so all other trances are sequentially prepayment protec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backed bonds (MBB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Bs allow FIs to raise long-term low-cost funds </a:t>
            </a:r>
            <a:r>
              <a:rPr b="0" lang="en-US" sz="2000" spc="-1" strike="noStrike">
                <a:solidFill>
                  <a:srgbClr val="ff0000"/>
                </a:solidFill>
                <a:latin typeface="Times New Roman"/>
              </a:rPr>
              <a:t>without removing mortgages from their balance she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cash flow on the mortgages backing the bond are not necessarily directly connected to interest and principal payments on the MBB.</a:t>
            </a:r>
            <a:endParaRPr b="0" lang="en-US" sz="20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7A8572A-B7EF-44F9-8DB3-077512CCE47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7" name="PlaceHolder 1"/>
          <p:cNvSpPr>
            <a:spLocks noGrp="1"/>
          </p:cNvSpPr>
          <p:nvPr>
            <p:ph type="title"/>
          </p:nvPr>
        </p:nvSpPr>
        <p:spPr>
          <a:xfrm>
            <a:off x="685800" y="1519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WEBSITES</a:t>
            </a:r>
            <a:r>
              <a:rPr b="1" lang="en-US" sz="3600" spc="-1" strike="noStrike">
                <a:solidFill>
                  <a:srgbClr val="cc0000"/>
                </a:solidFill>
                <a:latin typeface="Times New Roman"/>
              </a:rPr>
              <a:t>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88" name="PlaceHolder 2"/>
          <p:cNvSpPr>
            <a:spLocks noGrp="1"/>
          </p:cNvSpPr>
          <p:nvPr>
            <p:ph/>
          </p:nvPr>
        </p:nvSpPr>
        <p:spPr>
          <a:xfrm>
            <a:off x="685800" y="1219320"/>
            <a:ext cx="7772400" cy="533376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financewise.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finance search engine for other financial si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federalreserve.gov/otherfrb.ht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ite contains a map that allows you to access all of the Federal Reserve Bank si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cob.ohio-state.edu/fin/journal/jofsites.ht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ite contains a directory of finance journals and associations related to education in the financial are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finance.yahoo.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nvestment site contains information on financial markets. Portfolios can be constructed and monitored at no charge. Limited historical return data is available for actively traded securit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moneycentral.msn.com/home.asp</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ilar to Yahoo! finance, this investment site contains very complete information on financial marke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F2F5F288-F5D4-4E7D-8D44-EF686323846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36"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1.1 REAL ASSETS VERSUS FINANCIAL ASSETS </a:t>
            </a:r>
            <a:endParaRPr b="0" lang="en-US" sz="3600" spc="-1" strike="noStrike">
              <a:solidFill>
                <a:srgbClr val="008000"/>
              </a:solidFill>
              <a:latin typeface="Times New Roman"/>
            </a:endParaRPr>
          </a:p>
        </p:txBody>
      </p:sp>
      <p:sp>
        <p:nvSpPr>
          <p:cNvPr id="537"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land, buildings, knowledge, and machine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gether, physical and “human” assets generate the entire spectrum of output produced and consumed by the socie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inancial Ass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cks or bond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e no more than sheets of paper or more likely, computer entries, and do not directly contribute to the productive capacity of the economy. Instead, financial assets contribute to the productive capacity of the economy indirectly</a:t>
            </a:r>
            <a:endParaRPr b="0" lang="en-US" sz="20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8C790625-6210-4598-AB20-8781D534929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90" name="PlaceHolder 1"/>
          <p:cNvSpPr>
            <a:spLocks noGrp="1"/>
          </p:cNvSpPr>
          <p:nvPr>
            <p:ph type="title"/>
          </p:nvPr>
        </p:nvSpPr>
        <p:spPr>
          <a:xfrm>
            <a:off x="685800" y="281916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0000"/>
                </a:solidFill>
                <a:latin typeface="Times New Roman"/>
              </a:rPr>
              <a:t>End of Chapter 1</a:t>
            </a:r>
            <a:br>
              <a:rPr sz="3200"/>
            </a:br>
            <a:r>
              <a:rPr b="1" lang="fr-FR" sz="3200" spc="-1" strike="noStrike">
                <a:solidFill>
                  <a:srgbClr val="cc0000"/>
                </a:solidFill>
                <a:latin typeface="Times New Roman"/>
              </a:rPr>
              <a:t>Thanks</a:t>
            </a:r>
            <a:endParaRPr b="0" lang="en-US" sz="3200" spc="-1" strike="noStrike">
              <a:solidFill>
                <a:srgbClr val="008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Espace réservé du numéro de diapositive 3"/>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70685000-7817-41AD-A4E2-409DFF1B80F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39"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 and financial Assets are distinguish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ly by the balance sheets of individuals and firms in the economy:  Whereas real assets appear only on the asset side of the balance sheet, financial assets always appear on both sides of balance she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are created and destroyed in the ordinary course of doing business. For example, when a loan is paid off, both the creditor’s claim (a financial asset) and the debtor’s obligation (a financial liability) cease to exist. In contrast, real assets are destroyed only by accident or by wearing out over time. </a:t>
            </a:r>
            <a:endParaRPr b="0" lang="en-US" sz="20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Espace réservé du numéro de diapositive 3"/>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E9648871-CD46-4439-B129-8BB678DA723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2 FINANCIAL MARKETS AND THE ECONOMY</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42" name="Rectangle 3"/>
          <p:cNvSpPr/>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 determine the wealth of an economy, whereas financial assets merely represent claims on real assets.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ancial assets allow us to make the most of the economy’s real asset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sumption Timing</a:t>
            </a:r>
            <a:r>
              <a:rPr b="1" lang="en-US" sz="2400" spc="-1" strike="noStrike">
                <a:solidFill>
                  <a:srgbClr val="000000"/>
                </a:solidFill>
                <a:latin typeface="Times New Roman"/>
              </a:rPr>
              <a:t> : </a:t>
            </a:r>
            <a:r>
              <a:rPr b="0" lang="en-US" sz="2000" spc="-1" strike="noStrike">
                <a:solidFill>
                  <a:srgbClr val="000000"/>
                </a:solidFill>
                <a:latin typeface="Times New Roman"/>
              </a:rPr>
              <a:t>How can you shift your purchasing power from high-earnings periods to low-earnings periods of life? </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gh-earnings periods, you can invest your savings in financial assets such as stocks and bonds.</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low-earnings periods, you can sell these assets to provide funds for your consumption needs.</a:t>
            </a:r>
            <a:endParaRPr b="0" lang="en-US" sz="20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E0DF302E-A2E4-45B9-99A2-A610C84E9C8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4"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cation of Risk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ncial markets and the diverse financial instruments traded in those markets allow investors with the greatest taste for risk to bear that risk.</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optimistic, or risk-tolerant, investors buy shares of stock</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conservative individuals can buy bonds, which promise to provide a fixed pay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 of Ownership and Management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businesses are owned and managed by the same individual.</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lobal markets and large-scale production, the size and capital requirements of firms have skyrocketed. General Electric actually has about one-half million stockholders,. Such a large group of individuals obviously cannot actively participate in the day-to-day management of the firm. Instead, they elect a board of directors, which in turn hires and supervises the management of the firm. </a:t>
            </a:r>
            <a:endParaRPr b="0" lang="en-US" sz="20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7DDD4079-1743-4A8E-9542-372D1DF0239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3 CLIENTS OF THE FINANCIAL SYSTEM </a:t>
            </a:r>
            <a:r>
              <a:rPr b="1" lang="tr-TR" sz="3600" spc="-1" strike="noStrike">
                <a:solidFill>
                  <a:srgbClr val="cc0000"/>
                </a:solidFill>
                <a:latin typeface="Times New Roman"/>
              </a:rPr>
              <a:t> </a:t>
            </a:r>
            <a:endParaRPr b="0" lang="en-US" sz="3600" spc="-1" strike="noStrike">
              <a:solidFill>
                <a:srgbClr val="000000"/>
              </a:solidFill>
              <a:latin typeface="Times New Roman"/>
            </a:endParaRPr>
          </a:p>
        </p:txBody>
      </p:sp>
      <p:sp>
        <p:nvSpPr>
          <p:cNvPr id="547" name="Rectangle 3"/>
          <p:cNvSpPr/>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ousehold Sector: </a:t>
            </a:r>
            <a:r>
              <a:rPr b="0" lang="en-US" sz="2400" spc="-1" strike="noStrike">
                <a:solidFill>
                  <a:srgbClr val="000000"/>
                </a:solidFill>
                <a:latin typeface="Times New Roman"/>
              </a:rPr>
              <a:t>are potentially interested in a wide array of assets. Assets that are attractive can vary considerably depending on the household’s economic situ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axes lead to varying asset demands because people in different tax brackets “transform” before-tax income to after-tax income at different ra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isk considerations also create demand for a diverse set of investment alternativ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e Business Sector</a:t>
            </a:r>
            <a:r>
              <a:rPr b="1" lang="en-US" sz="2400" spc="-1" strike="noStrike">
                <a:solidFill>
                  <a:srgbClr val="000000"/>
                </a:solidFill>
                <a:latin typeface="Times New Roman"/>
              </a:rPr>
              <a:t>: </a:t>
            </a:r>
            <a:r>
              <a:rPr b="0" lang="en-US" sz="2400" spc="-1" strike="noStrike">
                <a:solidFill>
                  <a:srgbClr val="000000"/>
                </a:solidFill>
                <a:latin typeface="Times New Roman"/>
              </a:rPr>
              <a:t>businesses typically need to raise money to finance their investments in real assets</a:t>
            </a: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6397C82-82EC-4B52-9699-4593FA399B4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9"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overnment Sector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ike businesses, governments often need to finance their expenditures by borrowing.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nlike businesses, governments cannot sell equity shares; they are restricted to borrowing to raise funds when tax revenues are not sufficient to cover expenditur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B3BFF63-55B6-44E4-BED8-AC64E4D8578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1" name="Rectangle 3"/>
          <p:cNvSpPr/>
          <p:nvPr/>
        </p:nvSpPr>
        <p:spPr>
          <a:xfrm>
            <a:off x="685800" y="1905120"/>
            <a:ext cx="7696080" cy="41907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Intermediation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olve to bring the two sectors together (demanders and suppliers)</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a bank raises funds by borrowing and lending that money to other borrowers. In this way, lenders and borrowers do not need to contact each other directly. Instea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2"/>
          <p:cNvSpPr/>
          <p:nvPr/>
        </p:nvSpPr>
        <p:spPr>
          <a:xfrm>
            <a:off x="685800" y="609480"/>
            <a:ext cx="807732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1.4 THE ENVIRONMENT RESPONDS TO CLIENTELE DEMANDS  </a:t>
            </a:r>
            <a:endParaRPr b="0" lang="en-US" sz="3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3B161366-7911-42FF-8B61-1B7F5FF8C10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4"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the intermediaries , banks, insurance, investment companies, credit unions ,…   offer similar advantage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by pooling the resources of many small investors, they are able to lend considerable sums to large borrowers.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lending to many borrowers, intermediaries achieve significant diversification,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intermediaries build expertise through the volume of business they do.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 of scale related to the expense of collecting information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 companies and mutual funds arise out the “smallness problem.” </a:t>
            </a:r>
            <a:endParaRPr b="0" lang="en-US" sz="20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Mounira Ben Arab</cp:lastModifiedBy>
  <dcterms:modified xsi:type="dcterms:W3CDTF">2015-02-01T21:22:01Z</dcterms:modified>
  <cp:revision>344</cp:revision>
  <dc:subject/>
  <dc:title>FINANCIAL MARKETS AND INSTITIUTIONS: A Modern Perspective</dc:title>
</cp:coreProperties>
</file>