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BC2-CAC7-4B48-85F2-259FF738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F05-29A9-4AC5-8E66-F5FD3EB0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ADA-88F7-4946-96F9-13CE57532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764-989E-4849-BD7F-7EB65A77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0771-96B3-437E-813C-4FFDE5B2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97F-CD26-425F-B51C-33A78EBB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o rate is typically lower than the Fed funds rate because repos are collateralized lo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risky securities are pledged as collateral, the fund’s lender may require a larger ‘haircut,’ i.e. repos normally have to be slightly overcollateralized.  For instance, to borrow $100 the repo seller would have to sell securities currently worth $102, for a $2 hairc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k of America (BofA) used repos to hide about $10.7 billion of debt from the public from 2007 to 2009.  Under accounting rules if the value of the securities pledged on the repo are worth 105% of the cash received the borrowing firm (BofA) can book the transaction as an asset sale rather than as a loan.  So for the term of the repo the borrower can report lower leverage ratios (i.e., it will have a higher equity to asset ratio).  If these transactions occur a few days before a financial report date such as the end of a quarter, the firm can appear to be safer than it actually is.  The strategy is called a ‘Repo 105’ strategy because of the 105% collateral requirement.  It is actually not allowed under U.S. law but may be allowed for European subsidiaries under British laws. Lehman Brothers used a similar strategy to hide debt amounts of between $8 billion and $15 billion in 2007 and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ed, M and J. Werdigier. The Origins of Lehmans Repo 105.  Investment Banking, NY Times Dealbook, March 12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ability to roll over their repo financing of their extensive mortgage holdings was one factor that led to the collapse of Bear Stea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999-D447-4EE3-83AC-29691CEC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o rate is typically lower than the Fed funds rate because repos are collateralized lo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C8D-BA96-4C6D-8ED7-26D3949D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0EBF-F7EF-4F6F-96A3-3ED9BC231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C20-6D8D-48AA-94AA-7555732E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6A2-A5F0-4412-BBD4-8DFCBC82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59C-0F58-4ED3-8ABF-31B80163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06D-E12C-4E88-A23B-D846A396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5E1-F998-4741-B95B-A966E0B2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50F0-9687-46F9-B4A1-B1900B99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F53B-6C2D-436A-8BAC-27F6089B6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964-F606-4513-A049-62C26E45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F36-6F5C-4CCC-B316-F3B77C66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4269-28C4-4A14-9018-34A22562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4D4E-5F14-49EF-AE97-9A1736BD6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ly issued Treasuries are called ‘on the run’ and older Treasuries are called ‘off the run.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debt held by the public was at $9.0 trillion at the end of 2010 (62% GDP) and is projected to grow to $17.4 trillion by 2020 (76% of projected 2020 GDP, 120% of current GDP) according to the Economic Report of the President.  Large levels of debt held by the public create the potential for crowding out and/or excessive dependence on foreign investment.  Total Federal debt is currently $14.1 trillion (97% GDP) and is projected to grow to $23.1 trillion by 2020 (64% increase).  Interest expense is projected to grow to 3.5% of GDP by 2020 (from about 1.5%).  The 2011 proposed budget puts the deficit at $1.65 trillion or 10.9% of GDP, a post World War II high. When debt held by public (which is the measure that affects the credit markets) hits about 90% most economists believe that GDP growth will be retarded, perhaps holding back GDP growth by up to 1%!  … But nobody knows for sure, and it depends on interest rates and ability to get foreign source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s debt owed to various government trust funds.  This debt does not usually affect credit market interest 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549C-C2A1-4449-B571-C57EA827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1B1-733F-450C-8E53-E69AFDFF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D89-D105-41BC-BDB5-806B8BB6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F26-CEF8-4EE4-8B6E-674890A8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C83-D0B5-47A1-B081-55404FA5B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B374-CE38-4A53-BBEF-3FBB8F54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yield i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ield to c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the price is above par 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ield to matu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below par.  The yield calculation uses semiannual compo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9A1-5405-4D8E-80B4-7AAA16CD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B02-9934-4DC7-A5BC-B80AC775F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1B7E-9333-4DE0-887D-A077CDC60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427F-83A8-41EE-B62F-85AD8D35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B1C-71FA-4C7F-B0BA-687BB5B4B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3CB6-DB89-4536-A24A-5E8B9559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B09-9EED-4BA8-9CE4-08EC6C09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EC22-700F-4773-AAAF-534E2026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7C0-86C5-4677-AF65-516836D1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56D-5A09-4436-B9B3-C933CFAD8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F36-0786-413E-9F94-1C60E10B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FC7-8B23-4C36-9161-5A5E3A6ED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E3E-58BF-4A89-8BA8-9A7586213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93D-6879-433F-968E-B382A6CD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454D-5E7C-4F3F-A378-18597E9B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C768-5E51-4AED-BE8C-8F55BFC5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60F-0BCB-4003-B3C1-F424B03B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increase in yield spreads that occurred during the financial crisis. Spreads have decreased since the crisis but remained elevated above pre-crisis levels in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53A-D5D9-41AC-8B48-926B24EC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E4D-DFF9-4811-A211-86D6439C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F35-55F0-47DC-9BD7-76926181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815-5A7B-421C-9943-1A5DF943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3E5-5306-40AA-9BC6-E8C97704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021-0E2A-4CED-B906-808CC1CE9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Residual cla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94F1-6983-41ED-A13E-F8C40CFF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Under current tax laws, capital gains tax rates are lower than ordinary income tax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C265-8E09-45EF-8133-5D425E39E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23E-2762-4771-8FA0-A8ACC960F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Cumulative voting is required  by law in some stat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Most shareholders do not attend annual meetings. Most corporations mail proxies to their stockholders prior to the annual mee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EF85-FA73-4B64-94C7-C8884E288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449-7FF5-4C89-9BD3-DFB9790B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FDDC-F7A8-420A-89D0-A464422F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F17-6282-4498-BAB9-011FC6C9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A44-407B-4A13-A1C6-BCD3BB4A1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5C70-A70E-40ED-8DA5-A6CCF6FC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2A2-815F-4E44-9222-DC2C3FE2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1EEF-FA94-4EBC-BF26-C74B1404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9CD-C431-4CEC-9921-B4FD154C0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BF9-A656-4B1C-90A6-13245AB2B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4A2F-6EAA-48FC-95FE-7F6509660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EDDF-C7D2-427E-BFCC-596914A58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D8D2-A5F8-498E-BCC2-3C7995F760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256B5-4575-4E8F-ABE9-71863FF9B6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5DC61-D70A-4D17-AAD3-5A5F1050B8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79F25-FEBA-420E-A099-B481BC2308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8AD0E-3A65-43A7-A174-960B7C2FE1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EE36A-1CAD-44B3-8728-FAFDB15ECD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B38B3-FFB5-4A7A-85EA-4CDA5F3889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65237-22A3-4B61-A679-86FCB9BA59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A7C2B-EE33-4657-9DE4-2E569FC6E2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3EBFA-6D39-4F06-A134-F89E96426B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3986EC-0B63-495A-AE1C-B3255476D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E49F-C5BE-45B9-BC94-0A7D750A7F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CE02E-AC00-42D8-B5A1-0720C15FD33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EAAAD-AB2B-41BC-9CB1-479F559BD9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3C180-1F1D-44A5-9D1D-217EB2C0B3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4D4A5-6DF2-446C-824D-B9941E0764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CEB4C-4829-44F5-88CA-388F46828B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69692-2610-4679-AB9F-1B283B8F5E3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8DF89-F02D-43CA-A3F6-103B12B4ED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FCDCCF-6188-4D5F-B89C-A8DA4DE38E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597FE-7A56-4944-A2B5-FCB38DB0837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C49EF-6415-41F1-9B47-238258603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B017-9A8F-4970-8B62-D98027C026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6916D5-ED45-41BD-ACFD-007F13DFF9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32CF-20F0-4B12-847C-413EFB574DD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429B0-574F-4B90-959F-21D2DFD2AE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5082-823B-40F4-BB2D-326BE00968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E08A-B072-491F-A5CA-017B16DB2B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BBD9-7469-4AF5-8589-055394C899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5452-575C-4788-BFEA-40DC3F6F076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8C47-DA09-463D-836C-B8F67FDEC6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3154-EBF1-49D5-9BED-1EEA5C8D3B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04A7-0423-4C1A-907A-61449E3CA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DCE-3261-4A2D-A9EF-2572568828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3BE3-5F6E-4AFC-9119-8A64035D6D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15E13-2562-44EA-9592-8F97716F3FB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9D5A1-5B2F-45BF-8904-1B9B9B84D3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D1668-3FA6-4509-A8BE-4E53D06F51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C397A-ABF5-4EAC-8AD9-DF58BCFDAF6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46F90-C32F-4FB9-BB92-BED0E87EE3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867A54-F56E-41D0-88F2-5BCBD03CE4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7E5CE-A636-4898-A235-05347F2E06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23F5A-7788-458F-969A-5EBAE4E07B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B501E-D92E-4307-8D30-2267392071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8C6-0D9C-4097-A139-15D1743088D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9F0E1-D8DD-4D29-8280-9C37295536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0E9D1-53B3-418A-9F82-835B3B2E85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D4F93-4C24-48C8-B337-898FD94ADB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AD16B-C3FC-4309-AAF8-7ADC45BF2BB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FBACB-957B-48C1-B2BD-21D661CF0B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4B7F2-0F01-467F-8B56-5B62F0B346F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0AE87-49CE-44C0-B88F-4D2CDB078F2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D5285-C310-4EB4-BA9E-89C2A0DC12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C6321-866A-455A-91B5-80279CB361D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C9837-B638-4FEC-9410-DE34AB476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A04-6458-4A9D-B101-CCAAC8CBD2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329ED-614F-4595-BB3A-6D963D85D3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4919A-0CDC-4A92-B291-1EB2964DB9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F3AD0-491E-4E64-B434-EF3A0033DE4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5CB68-9E1F-4D0F-955D-F8CEB0532E1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8FA49-9007-49A8-948C-3126C931E1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F67F4-7E61-455A-914B-B9DDCBC388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9EDC5-4188-4336-8A7F-37E6FAE3E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378-FD01-4AA6-902B-5963CBB1FE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BD3-7BDD-4F99-8A57-86F3BE3CC3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4E8-06AA-47B5-9A1B-D4EC87A181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496-0C87-4BA5-BBBE-384976B92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59EC-C943-4938-A60D-C9F09B9C4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042-6C9D-439D-B832-E2126B57B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56F-5176-47EA-AB8C-D5C9FCF9F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74E-BFB2-4C96-BD3F-CD14BA599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C46-B8BF-4725-B4B7-6D8489975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AEB-2569-4081-BDFB-B4F77A7330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A71D2-3F6C-4151-B71C-05F11A3776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935E9-3D7D-4569-92DE-79D0FF9703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49033-1890-4366-916E-D42772A9A8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B4807-53B0-4833-8739-D5FECBA734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2C6E8-54C5-4E03-948A-D949A3848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90FE-E9C7-487A-BB9B-962071C4D2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EA851-604B-4D4C-A5A4-35861DA09D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2BBE-56A5-4AF3-92B7-8F6D329EED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CBB4-994F-4D02-80CC-538B8772BF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684E7-74DB-48AD-BB41-3E37B5A76C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D5B8-445D-4172-AE16-D75E2C9A99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4629E-8536-412C-AE0B-68A4855D42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DF2D-2BA4-4E14-B2F0-9A2C26ABE4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E7B4E-BA44-4DF1-A2AD-17BBD4F6D0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0722F-0ED4-4F91-8E8A-F970A145B6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F7C42-AE65-443A-9F6A-B030CE97D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E0B5-FCE8-4340-A1FD-5D99694196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AAA3D-0A7D-43DF-AEC9-A3B5D7066B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F89BE-F12A-4DC8-9C96-6D88A27D64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C6080-D223-405E-94DF-D81658A2B5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A1002-B009-42D8-A10B-2D0644031E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C8271-8DFA-40BB-B7F5-5F18C3048C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B92D5-8C0B-4ED6-8E07-E8F3196943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7195B-464B-408D-A872-FEDF1C4759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7ABE2-14F8-4423-B038-1DB3A40058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D8885-A8A6-4276-BA4F-5A4FB8C920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BCB3-97B4-4A8C-BCCF-48AC1052E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FF1F-F510-45F6-8A1F-FAC222B27A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1A03-D483-4917-A9A2-0AA699BAFE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A06D-DF54-4649-819A-C9862E2660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234D-06E3-40DF-9F7C-9CFFAA71E0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C712-1EFE-45CE-BA7F-BB101396E8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014A-D462-45E9-84DE-75CC550E30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8F31-D143-4F23-A2D3-1D37AC3C32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332C-9304-4F78-A53A-E06C48C737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4976-1174-48B3-B06D-FE2BAA402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9E00-71FC-4EE2-B823-446D8D7E83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2974-C48C-475D-8E9B-44B5E3382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D56D-72F1-4DDF-A8F7-CD65BC602A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663C-2033-4A9F-B802-446A8516D7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A75D2-D2ED-4120-9DED-7AFDBBC0D2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25B18-8DE2-46B5-B3FF-BF6DB5F587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F4FD4-4312-4482-9D11-8B5D5405CD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14FD8-1449-4888-AD53-915D4EE6A5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B509F-FDA6-4A5F-B48A-C18BBF22E3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FC7C2-0824-4FEC-B358-7790C80F84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DC718-4F62-4763-89FD-70976F197A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C153A-02A0-4DE6-9CB3-ACEAF43E0D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AC960-7263-4A22-B1A4-DE35C8F5C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0A07-FA1F-4A7E-B6A9-05D0C9E347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D9E16-99A0-43EC-80AA-63AF10CDD9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F82DB-982E-4341-AF2A-3EE4C94CB4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AA4F0-C35D-4101-B704-B253A88711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A1F6D4-E0FA-4118-B3F9-35D932E9FB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AC44D-0E9B-47F1-975B-BE813E9E5E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7C84E-2049-4116-A89E-362032BB1B3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48FEB-8AB3-4B40-A04C-B31BD2249B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C4CB3D-FC83-40F3-BB99-996755FCB0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E59EF-D7F4-4C5A-9DE4-1F1D0EA2F0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37523-69BB-4EB6-9298-41D6294B7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F8FE-CF43-4CA0-91F3-19CDD2C008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966DD-28E1-414F-ABBE-4E52A59794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1A00C-CE13-4F5D-A118-E799993897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F13222-C15F-4E66-A87D-9DBEED992C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B0263-EB04-4BD2-9618-6A05F3C302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30635D-A14B-4682-9EE3-EFB364E264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CC21-F110-4324-8A7A-0F293F7212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D94A-7189-4932-B37A-8A14ACAFA2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C2A0-FECD-40AA-8E81-9FC2866D94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6A668-7BAD-40B6-8A66-B24F03486E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4E46-4678-4D01-AF6A-2629C8BDB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746A-0278-4DF6-8A8B-5C22D9CEDD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29AA-B751-4BD7-8A64-E3791BDE28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269B-3D39-4493-816F-24016B1210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1829-6A6B-4EF8-B298-C043E10CC5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DA9DF-CCE6-4A5B-BE4F-D5C1D1991D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5067-80CF-40B7-ABFE-400C416303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957E-243C-4698-A7B5-591798094B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14EB-28C1-4C07-968C-455D31CA30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B8D56-629F-4C43-869E-0ABE6F267A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9D99F-2F49-454A-A0B4-BDC76D54FD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05A72-62B9-420E-9E90-D2307D294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A825394-F95C-4CD2-9362-CDEBD6B9B6E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9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525FB84-01E4-45CC-B6A8-83655C56179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2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19EF9FC-91B0-4E7B-AB65-210AF55D9BE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FDDB491-776A-4D7A-978D-1286D67B8AF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A928D30-81E9-40BB-A9CB-6F92970E7D1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D590DDB-1275-4AE3-BEBC-A656E0D675D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319702E-1014-4B60-BE3C-697FD288779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7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02494A2-E9D1-4F1C-9D63-7C1BD26FAEA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271523A-1E1E-485A-B001-D1C88575BA2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AC2D10E-2E84-4AE8-9E5E-CAF1C71D705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2FEDD82-1462-4579-AA8B-18E4608EE9F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5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1E351C8-FC86-4A4B-B826-1D722B3C9CF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7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0C112E3-97AD-41E3-BBE4-A0103394B1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8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04920" y="3808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Tw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380880" y="18097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0000"/>
                </a:solidFill>
                <a:latin typeface="Arial"/>
              </a:rPr>
              <a:t>MARKETS AND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4419720" y="65818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The presentation has been amended/updated by D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 Mounira Ben Ar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he Secondary Market for T-Bill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ary market for T-bills is the largest of any U.S. money market instru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 primary dealers “make” a market in T-bills by buying the majority sold at auction and by creating an active secondary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dealers trade for themselves and for custo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 purchases and sales are book-entry transactions conducted over Fedw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-Bills are sold on a discount ba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ederal Fu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7414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(fed funds) 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target rate in the conduct of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d fund transactions are short-term (mostly overnight) unsecured loans. Multimillion dollars loans may be arranged in a matter of min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nks with excess reserves lend fed funds, while banks with deficient reserves borrow fed fu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d funds are single-payment loans and thus us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ngle-payment yields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ingle-payment yield to a bond equivalent yie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irectly convert a single payment yield to an 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4"/>
              <p:cNvSpPr txBox="1"/>
              <p:nvPr/>
            </p:nvSpPr>
            <p:spPr>
              <a:xfrm>
                <a:off x="3162240" y="2971800"/>
                <a:ext cx="2400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2505240" y="4114800"/>
                <a:ext cx="3659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y</m:t>
                                </m:r>
                              </m:sub>
                            </m:sSub>
                            <m:f>
                              <m:num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"/>
              <p:cNvSpPr txBox="1"/>
              <p:nvPr/>
            </p:nvSpPr>
            <p:spPr>
              <a:xfrm>
                <a:off x="3124080" y="1828800"/>
                <a:ext cx="24973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TextBox 8"/>
          <p:cNvSpPr/>
          <p:nvPr/>
        </p:nvSpPr>
        <p:spPr>
          <a:xfrm>
            <a:off x="4041720" y="3467160"/>
            <a:ext cx="646200" cy="344520"/>
          </a:xfrm>
          <a:prstGeom prst="rect">
            <a:avLst/>
          </a:prstGeom>
          <a:solidFill>
            <a:srgbClr val="ff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repurchase agreement (repo or RP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sale of a security with an agreement to buy the security back at a set price in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pos are short-term collateralized loans (typical collateral is U.S. Treasury securiti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ilar to a fed fund lo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collateral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ds may be transferred over FedWir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ollateralized by risky assets, the repo may involve a ‘haircut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ypical denominations on repos of one week or less are $25 million and longer term repos usually have $10 million denomin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reverse repurchase agreement is the purchase of a security with an agreement to sell it back in the fu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Repurchase Agreemen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052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ield on repurchase agreement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s a 360-day year like the discount rate, but uses the current price in the denominator like the bond equivalent y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repurchase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selling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number of days until the repo m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4"/>
              <p:cNvSpPr txBox="1"/>
              <p:nvPr/>
            </p:nvSpPr>
            <p:spPr>
              <a:xfrm>
                <a:off x="3119400" y="3313080"/>
                <a:ext cx="2643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mmercial Paper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Paper (CP) is unsecured short-term corporate debt issued to raise short-term funds (e.g., for working capi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 sold in large denominations (e.g., $100,000 to $1 million) with maturities between 1 and 270 d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is usually sold to investors indirectly through brokers and dealers (approximately 85% of the t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is usually held by investors until maturity and has no activ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bil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oted on a discount ba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Example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$1M investment in 90 day commercial paper has a 2% discount yield and an equivalent size and risk 90 day CD has a 2% single payment yield.  Which security offers the better return?  For the commercial pap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ond equivalent yield for the commercial paper is 2.03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885960" y="3465360"/>
                <a:ext cx="24969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3"/>
              <p:cNvSpPr txBox="1"/>
              <p:nvPr/>
            </p:nvSpPr>
            <p:spPr>
              <a:xfrm>
                <a:off x="3733920" y="3579840"/>
                <a:ext cx="4349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;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995,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4"/>
              <p:cNvSpPr txBox="1"/>
              <p:nvPr/>
            </p:nvSpPr>
            <p:spPr>
              <a:xfrm>
                <a:off x="885960" y="4556160"/>
                <a:ext cx="2496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7"/>
              <p:cNvSpPr txBox="1"/>
              <p:nvPr/>
            </p:nvSpPr>
            <p:spPr>
              <a:xfrm>
                <a:off x="3649680" y="4556160"/>
                <a:ext cx="4627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1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$995,0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995,00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TextBox 12"/>
          <p:cNvSpPr/>
          <p:nvPr/>
        </p:nvSpPr>
        <p:spPr>
          <a:xfrm>
            <a:off x="2843280" y="3121200"/>
            <a:ext cx="3417840" cy="458640"/>
          </a:xfrm>
          <a:prstGeom prst="rect">
            <a:avLst/>
          </a:prstGeom>
          <a:solidFill>
            <a:srgbClr val="92d05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289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ond equivalent yield for the CD is 2.027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mmercial paper has the better return since its bond equivalent yield is 2.03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"/>
              <p:cNvSpPr txBox="1"/>
              <p:nvPr/>
            </p:nvSpPr>
            <p:spPr>
              <a:xfrm>
                <a:off x="2057400" y="3124080"/>
                <a:ext cx="4478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8"/>
              <p:cNvSpPr txBox="1"/>
              <p:nvPr/>
            </p:nvSpPr>
            <p:spPr>
              <a:xfrm>
                <a:off x="1600200" y="1711440"/>
                <a:ext cx="5303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7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sset-Backed Commercial Paper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type of commercial paper that is backed by assets of the issuing fi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ew very rapidly prior to the financial crisis peaking at $2.16 trillion. Much of it was backed by mortgage invest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market collapsed during the financial cris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773AC99-421F-4D5D-B61A-FA8BD82EFCF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609480" y="304920"/>
            <a:ext cx="7543800" cy="129528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2.1 THE MONEY MARK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609480" y="175248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bills (T-b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funds (fed fu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rchase agreements (repos or 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ble certificates of deposit (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er acceptances (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Negotiable Certificate of Deposit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0520"/>
            <a:ext cx="8229600" cy="48085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gotiable certificate of deposit (C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bank-issued time deposit that specifies the interest rate and the maturity 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Ds are bearer instruments and thus are salable in the secondary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ominations range from $100,000 to $10 million; $1 million being the most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ten purchased by money market mutual funds with pools of funds from individual inves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ble (or jumbo) CDs like fed funds are money market securities that pay interest only at maturity.  These u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ngle-payme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anker’s Acceptanc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78236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anker’s Acceptance (BA)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time draft payable to a seller of goods with payment guaranteed by a ban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d in international trade transactions to finance trade in goods that have yet to be shipped from a foreign exporter (seller) to a domestic importer (buye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eign exporters prefer that banks act as payment guarantors before sending goods to impor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nker’s acceptances are bearer instruments and thus are salable in secondary mark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85640" y="-6696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Diagram of a Banker’s Acceptanc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820800" y="893880"/>
            <a:ext cx="7029360" cy="2997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2770200" y="3929040"/>
            <a:ext cx="3911760" cy="28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International Money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20520"/>
            <a:ext cx="8148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.S. dollars held outside the U.S. are tracked among multinational banks in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dollar marke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ate offered for sale on Eurodollar funds is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ondon Interbank Offered Rate (LIBO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dollar Certificates of Deposi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U.S. dollar-denominated CDs held in foreign ban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urocommercial paper (Euro-CP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issued in Europe and can be in local currencies or U.S. doll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and Bond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8600" cy="44114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Instruments Outstanding, 1994-2010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6" name="TextBox 1"/>
          <p:cNvSpPr/>
          <p:nvPr/>
        </p:nvSpPr>
        <p:spPr>
          <a:xfrm>
            <a:off x="1790640" y="2109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Market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Chart 9" descr=""/>
          <p:cNvPicPr/>
          <p:nvPr/>
        </p:nvPicPr>
        <p:blipFill>
          <a:blip r:embed="rId1"/>
          <a:stretch/>
        </p:blipFill>
        <p:spPr>
          <a:xfrm>
            <a:off x="1628640" y="2571840"/>
            <a:ext cx="6201000" cy="321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Notes and Bond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urrent &amp; Projected Federal Debt Level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32" name="Chart 7" descr=""/>
          <p:cNvPicPr/>
          <p:nvPr/>
        </p:nvPicPr>
        <p:blipFill>
          <a:blip r:embed="rId1"/>
          <a:stretch/>
        </p:blipFill>
        <p:spPr>
          <a:xfrm>
            <a:off x="1542960" y="2057400"/>
            <a:ext cx="6134040" cy="3276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8"/>
          <p:cNvSpPr/>
          <p:nvPr/>
        </p:nvSpPr>
        <p:spPr>
          <a:xfrm>
            <a:off x="1542960" y="53341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Source: C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Notes and Bond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Sample Treasury Bond Quot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2230560"/>
            <a:ext cx="8229600" cy="39002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urity mo/yr: Month and year, the bond matures November 15, 2017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pon: Coupon rate of 4.250% or $42.50 per year but paid semiannually ($1,000 fa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: The closing price per $100 of par the dealer will pay to buy the bond; the seller would receive this price from selling to the dealer.  Prices are quoted in 32nds.  In this case, 112:26 = 112 26/32% of $1,000 or $1,128.12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131840" y="2408400"/>
          <a:ext cx="6773760" cy="622080"/>
        </p:xfrm>
        <a:graphic>
          <a:graphicData uri="http://schemas.openxmlformats.org/drawingml/2006/table">
            <a:tbl>
              <a:tblPr/>
              <a:tblGrid>
                <a:gridCol w="1440000"/>
                <a:gridCol w="1003320"/>
                <a:gridCol w="1104840"/>
                <a:gridCol w="1017360"/>
                <a:gridCol w="1019520"/>
                <a:gridCol w="1188720"/>
              </a:tblGrid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 Y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Nov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CBA58D8-4DF3-4693-AAEE-E102E289AFA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- bil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the simplest form of borrowing: The government raises money by selling bills to the 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Reserve buys and sells T-bills to implement 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virtually default risk free, highly liquid, and have little interest rate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s sell in minimum denominations of only $1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come earned on T-bills is exempt from all state and local taxes, as a consequence there is a strong international demand for T-bills as safe haven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Sample Treasury Bond Quot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ed: The closing price per $100 of par the dealer requires to sell the bond; the buyer would pay this price to the dealer.  In this case, 112:27 = 112 27/32% of $1,000 or $1,128.437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g: The change from the prior closing ASKED price in 32nds.  In this case, the ASKED price increased thirteen 32nds from the prior quoted closing ask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ed Yld = Promised compound yield rate if purchased at the Asked price. In this case, the yield is 2.3316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227240" y="2057400"/>
          <a:ext cx="6773760" cy="622440"/>
        </p:xfrm>
        <a:graphic>
          <a:graphicData uri="http://schemas.openxmlformats.org/drawingml/2006/table">
            <a:tbl>
              <a:tblPr/>
              <a:tblGrid>
                <a:gridCol w="1439640"/>
                <a:gridCol w="1003320"/>
                <a:gridCol w="1104840"/>
                <a:gridCol w="1017720"/>
                <a:gridCol w="1019160"/>
                <a:gridCol w="1189080"/>
              </a:tblGrid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ked Y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Nov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: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Mounira\Desktop\Mounira\Semester 1 2014\230\Appendix &amp; reading asignments\table 6.jpg"/>
          <p:cNvPicPr/>
          <p:nvPr/>
        </p:nvPicPr>
        <p:blipFill>
          <a:blip r:embed="rId1"/>
          <a:stretch/>
        </p:blipFill>
        <p:spPr>
          <a:xfrm>
            <a:off x="18288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reasury STRIPS</a:t>
            </a:r>
            <a:r>
              <a:rPr b="0" lang="en-US" sz="43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and Pric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crued inter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be paid by the buyer of a bond to the seller of a bond if the bond is purchased between interest payment dat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ce of the bond with accrued interest is called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ll pric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ty pri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price without accounting for accrued interest is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ean pri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and Pric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1"/>
              <p:cNvSpPr txBox="1"/>
              <p:nvPr/>
            </p:nvSpPr>
            <p:spPr>
              <a:xfrm>
                <a:off x="1359000" y="2324160"/>
                <a:ext cx="57340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on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677880" y="2795760"/>
                <a:ext cx="77868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Accrued Interest Example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buy a 6% coupon $1,000 par T-bond 59 days after the last coupon payment.  Settlement occurs in two days.  You become the owner 61 days after the last coupon payment (59+2), and there are 121 days remaining until the next coupon payment.  The bond’s clean price quote is 120:19.   What is the full or dirty price (sometimes called the invoice price)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clean price is 120:19 or 120 19/32% of $1,000 or $1,205.9375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us, the dirty price is $1,205.9375 + $10.05 = $1,215.9875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3"/>
              <p:cNvSpPr txBox="1"/>
              <p:nvPr/>
            </p:nvSpPr>
            <p:spPr>
              <a:xfrm>
                <a:off x="2286000" y="3979800"/>
                <a:ext cx="457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eres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Notes and Bonds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-, 5-, and 10-year notes are auctioned quarterly (Feb, May, Aug, and No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148600" cy="53946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s with initial maturities of 91 days or 182 days are issued weekly. Offerings of 52-week bills are made monthly. Sales are conducted via auction, at which investors can submit competitive or noncompetitive b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etitive bid is an order for a given quantity of bills at a specific offered price. The order is filled only if the bid is high enough relative to other bids to be accepte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competitive bid is an unconditional offer to purchase bills at the average price of the successful competitive bi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 Rates &amp; Tax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28% tax bracket, what is the equivalent after tax rate of a 6% corporate yiel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%(1- 0.28) = 4.3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28% tax bracket, what corporate taxable yield is equivalent to a 4.5% muni bond ra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5% / (1-0.28) = 6.2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Municipal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1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2"/>
              <p:cNvSpPr txBox="1"/>
              <p:nvPr/>
            </p:nvSpPr>
            <p:spPr>
              <a:xfrm>
                <a:off x="3065400" y="2771640"/>
                <a:ext cx="3011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king fund provis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9"/>
              <p:cNvSpPr txBox="1"/>
              <p:nvPr/>
            </p:nvSpPr>
            <p:spPr>
              <a:xfrm>
                <a:off x="2992320" y="2346480"/>
                <a:ext cx="3159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bond division of the N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major bond rating agencies 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dy’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ndard &amp; Poor’s (S&amp;P)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Credit Rating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78" name="Picture 1" descr=""/>
          <p:cNvPicPr/>
          <p:nvPr/>
        </p:nvPicPr>
        <p:blipFill>
          <a:blip r:embed="rId1"/>
          <a:stretch/>
        </p:blipFill>
        <p:spPr>
          <a:xfrm>
            <a:off x="1301760" y="1743120"/>
            <a:ext cx="6407280" cy="463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Yield Spread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80" name="Picture 2" descr="ALFRED Graph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6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Corporate Bond Quot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319120"/>
            <a:ext cx="8229600" cy="38113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suer name, ticker symbol and coup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urity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d rating by the three major ratings agen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, Low, and Last prices in decimal form as a percent of p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 high price was $1,084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is the change from the prior day’s last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ield % is the promised yield to maturity using the last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762120" y="2414520"/>
          <a:ext cx="7619760" cy="654120"/>
        </p:xfrm>
        <a:graphic>
          <a:graphicData uri="http://schemas.openxmlformats.org/drawingml/2006/table">
            <a:tbl>
              <a:tblPr/>
              <a:tblGrid>
                <a:gridCol w="750600"/>
                <a:gridCol w="723960"/>
                <a:gridCol w="760680"/>
                <a:gridCol w="806400"/>
                <a:gridCol w="1284120"/>
                <a:gridCol w="784440"/>
                <a:gridCol w="663480"/>
                <a:gridCol w="657000"/>
                <a:gridCol w="628920"/>
                <a:gridCol w="560160"/>
              </a:tblGrid>
              <a:tr h="417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p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u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y’s/S&amp;P/ F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igro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HV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/--/A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.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.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Indexe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3"/>
          <p:cNvSpPr/>
          <p:nvPr/>
        </p:nvSpPr>
        <p:spPr>
          <a:xfrm>
            <a:off x="1828800" y="22860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7253640" y="5181480"/>
            <a:ext cx="14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34600" y="23464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7"/>
          <p:cNvCxnSpPr/>
          <p:nvPr/>
        </p:nvCxnSpPr>
        <p:spPr>
          <a:xfrm>
            <a:off x="2420640" y="3123720"/>
            <a:ext cx="70380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6" name="AutoShape 8"/>
          <p:cNvCxnSpPr/>
          <p:nvPr/>
        </p:nvCxnSpPr>
        <p:spPr>
          <a:xfrm>
            <a:off x="3048120" y="350532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7" name="AutoShape 9"/>
          <p:cNvCxnSpPr/>
          <p:nvPr/>
        </p:nvCxnSpPr>
        <p:spPr>
          <a:xfrm>
            <a:off x="3505320" y="388620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8" name="AutoShape 10"/>
          <p:cNvCxnSpPr/>
          <p:nvPr/>
        </p:nvCxnSpPr>
        <p:spPr>
          <a:xfrm>
            <a:off x="3901680" y="4266720"/>
            <a:ext cx="59436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49" name="AutoShape 11"/>
          <p:cNvCxnSpPr/>
          <p:nvPr/>
        </p:nvCxnSpPr>
        <p:spPr>
          <a:xfrm>
            <a:off x="4419360" y="46483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0" name="AutoShape 12"/>
          <p:cNvCxnSpPr/>
          <p:nvPr/>
        </p:nvCxnSpPr>
        <p:spPr>
          <a:xfrm>
            <a:off x="4952880" y="5028840"/>
            <a:ext cx="457920" cy="3056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551" name="Line 13"/>
          <p:cNvSpPr/>
          <p:nvPr/>
        </p:nvSpPr>
        <p:spPr>
          <a:xfrm>
            <a:off x="5410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AutoShape 14"/>
          <p:cNvCxnSpPr/>
          <p:nvPr/>
        </p:nvCxnSpPr>
        <p:spPr>
          <a:xfrm>
            <a:off x="1855440" y="2759040"/>
            <a:ext cx="888120" cy="365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553" name="Text Box 15"/>
          <p:cNvSpPr/>
          <p:nvPr/>
        </p:nvSpPr>
        <p:spPr>
          <a:xfrm>
            <a:off x="1912680" y="232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236376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2827080" y="306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328428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3741480" y="38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0"/>
          <p:cNvSpPr/>
          <p:nvPr/>
        </p:nvSpPr>
        <p:spPr>
          <a:xfrm>
            <a:off x="4275000" y="42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808520" y="45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2"/>
          <p:cNvSpPr/>
          <p:nvPr/>
        </p:nvSpPr>
        <p:spPr>
          <a:xfrm flipV="1">
            <a:off x="4267080" y="2655360"/>
            <a:ext cx="0" cy="2907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3"/>
          <p:cNvSpPr/>
          <p:nvPr/>
        </p:nvSpPr>
        <p:spPr>
          <a:xfrm flipV="1">
            <a:off x="4648320" y="2682720"/>
            <a:ext cx="0" cy="2880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3786840" y="2514600"/>
            <a:ext cx="3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4785120" y="25290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6"/>
          <p:cNvSpPr/>
          <p:nvPr/>
        </p:nvSpPr>
        <p:spPr>
          <a:xfrm>
            <a:off x="4451400" y="2286000"/>
            <a:ext cx="0" cy="5335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7"/>
          <p:cNvSpPr/>
          <p:nvPr/>
        </p:nvSpPr>
        <p:spPr>
          <a:xfrm>
            <a:off x="4464000" y="2286000"/>
            <a:ext cx="9907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5362920" y="207180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546840" y="4343400"/>
            <a:ext cx="1166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>
            <a:off x="1828800" y="4648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-Bill Auction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ond Market Participan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International Bonds and Markets</a:t>
            </a:r>
            <a:endParaRPr b="0" lang="en-US" sz="35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government issue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C96813A-CDCE-4804-99A7-464FED95E7F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mon stoc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The characteristics of common stock differentiate it from other types of financial securities in 4 dimention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Discretionary divident payments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not guarante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Residual claim status 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have the lowest priority claim in the event of bankcrupcy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fter paying creditors, employees, bond holders, goverment and preferred stockhold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Limited Liability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mmon stockholders can lose no more than their original investment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, not like sole proprietorship or partnership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tr-TR" sz="1900" spc="-1" strike="noStrike">
                <a:solidFill>
                  <a:srgbClr val="000000"/>
                </a:solidFill>
                <a:latin typeface="Times New Roman"/>
              </a:rPr>
              <a:t>Voting Rights </a:t>
            </a: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(common stockholders control the firm’s activities indirectly by exercising their voting rights in the election of the board of directors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E22E79D-1FA8-4F70-835A-E07AB5915A7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2 (note for divident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Can be paid or not !!! Once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en it is paid dividents are taxed twice (firm level </a:t>
            </a:r>
            <a:r>
              <a:rPr b="0" lang="tr-TR" sz="2000" spc="-1" strike="noStrike">
                <a:solidFill>
                  <a:srgbClr val="ff0000"/>
                </a:solidFill>
                <a:latin typeface="Times New Roman"/>
              </a:rPr>
              <a:t>corporate tax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nd personel level </a:t>
            </a:r>
            <a:r>
              <a:rPr b="0" lang="tr-TR" sz="2000" spc="-1" strike="noStrike">
                <a:solidFill>
                  <a:srgbClr val="ff0000"/>
                </a:solidFill>
                <a:latin typeface="Times New Roman"/>
              </a:rPr>
              <a:t>personal income tax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) . Holding stocks in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growth firms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can help avoiding this double taxation effec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n the context of return; (reinvesment of earnings instead of paying divident)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he divident component of returns decreases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ile generally increase the capital gains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If dividents are paid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; 50-50/50 + 2/50 = 4%  . Ordinary tax is 30 %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4% (1-.30) =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2.8 % net return after the tax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If dividents are not paid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: 52-50/50+ 0/50 = 4% (capital gain tax 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4% (1-.20) =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3.2 % net return after the ta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0E09AFBF-C322-4952-B91E-D37B09EE2F3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3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indirectly by exercising their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voting rights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the election of the board of director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300"/>
            </a:b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Direct control is with the managers hired to act in the best interests of the firm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Voting rights are arranged usually one vote per share of common stock. Some companies are organized as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</a:rPr>
              <a:t>dual class firm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</a:rPr>
              <a:t>two classes of common stock are outstanding with different voting right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 u="sng">
                <a:solidFill>
                  <a:srgbClr val="000000"/>
                </a:solidFill>
                <a:uFillTx/>
                <a:latin typeface="Times New Roman"/>
              </a:rPr>
              <a:t>To offset the reduced voting rights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r-TR" sz="2300" spc="-1" strike="noStrike">
                <a:solidFill>
                  <a:srgbClr val="000066"/>
                </a:solidFill>
                <a:latin typeface="Times New Roman"/>
              </a:rPr>
              <a:t>inferior class shares are often assigned higher divident rights.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037AE1B-DB93-4294-BD07-4FBC879BB7E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4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Voting can be cumulative or  stra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number of votes assigned to each stockholder equals the number of shares held multiplied by the number of directors to be 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hare holder may assign all of his or her votes to a singe candidate or may spread them over mo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his methods permits minority stockholders to have some real say in the el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straight voting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: One director at a time. Owner of over half the voting shares can elect the entire board of directors. 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xample in page 227, 8-3 or 8-2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905278D-812F-4C08-A75F-39AC85A89F3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-5 (note for voting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 firm has 1 million shares of common stocks outstanding and three directors up for election. (and there are 4 candidat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Cumulative vo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 million shares for 3 directors = 1 millionX 3= 3,000,000 v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at if there are 4 candidates: the highest 3 gets the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traight vo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 million shares for 3 directors (not 3 m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For each candidate there is an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ou vote for each candidate sepe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f you are a big investor than in each election, you will be the strong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5A548078-82D0-4E57-98FD-7F29A53D1A4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ybrid securit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has characteristics of bo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Represents an ownership interest in the issuing firm, 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like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stocks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 And it pays a fixed periodic (divident) </a:t>
            </a:r>
            <a:r>
              <a:rPr b="0" lang="tr-TR" sz="1800" spc="-1" strike="noStrike">
                <a:solidFill>
                  <a:srgbClr val="ff0000"/>
                </a:solidFill>
                <a:latin typeface="Times New Roman"/>
              </a:rPr>
              <a:t>like a </a:t>
            </a: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bond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f the dividents are not paid, the company can’t  be forced to bankrup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Drawb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Not like coupon interest paid on corporate bonds, dividends are paid out of after tax earnings. This raises the cost of preferred stock relative to bonds for the sharehol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f the dividents are not paid, new investors will be reluctant to make investment. Divident should be a good one (costly!) to attract the inves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1C4B33A7-CF56-47B6-82D7-A9930A3E3D2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&amp; Dividents...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Calculation of Preferred Stock Dividen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uppose you own a preferred stock that promises to pay an annual divident of 5 prcnt (in quarterly installmens). If the face value of the stock is $10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$100x .05= $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Quarterly divident = 5/4=1.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pically, preferred stock is nonparticipating and cumulative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(about profit sharing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In Nonparticipating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vident is fixed  </a:t>
            </a:r>
            <a:r>
              <a:rPr b="0" lang="tr-TR" sz="1800" spc="-1" strike="noStrike">
                <a:solidFill>
                  <a:srgbClr val="00664d"/>
                </a:solidFill>
                <a:latin typeface="Times New Roman"/>
              </a:rPr>
              <a:t>as % or USD  and not effected from the increase in the prof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bout the divident payments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Cumulative divident payment means any </a:t>
            </a:r>
            <a:r>
              <a:rPr b="0" lang="tr-TR" sz="1800" spc="-1" strike="noStrike">
                <a:solidFill>
                  <a:srgbClr val="00664d"/>
                </a:solidFill>
                <a:latin typeface="Times New Roman"/>
              </a:rPr>
              <a:t>missed dividents must be made up before any common stock divident is paid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.) If noncumulativ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, missed divident payments are never p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97E95A2D-E1DA-4C8B-98F6-F6562032A8B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5 DERIVATIV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most significant developments in financial markets in recent years has been the growth of futures, options, and related derivatives mark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instruments provide payoffs that depend on the values of other assets such as commodity prices, bond and stock prices, or market index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is reason these instruments sometimes are called derivative assets, or contingent clai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values derive from or are contingent on the values of other as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19285BD-F0D0-443C-97BF-369886569B2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5960" y="0"/>
            <a:ext cx="8762760" cy="91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- bil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 yields in the financial pages are quoted using the bank discount meth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3" descr="C:\Users\Mounira\Desktop\Mounira\Semester 1 2014\230\Quiz &amp; Exam\Table 5.5.jpg"/>
          <p:cNvPicPr/>
          <p:nvPr/>
        </p:nvPicPr>
        <p:blipFill>
          <a:blip r:embed="rId1"/>
          <a:stretch/>
        </p:blipFill>
        <p:spPr>
          <a:xfrm>
            <a:off x="76320" y="914400"/>
            <a:ext cx="8839080" cy="533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7772400" cy="193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t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sell an asset at a specified exercise price on or before the exercis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914400" y="228600"/>
            <a:ext cx="775980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buy an asset at a specified exercise price on or before the exercis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2"/>
              <p:cNvSpPr txBox="1"/>
              <p:nvPr/>
            </p:nvSpPr>
            <p:spPr>
              <a:xfrm>
                <a:off x="838080" y="4557600"/>
                <a:ext cx="7986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Buy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eller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all op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ight to buy asse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bligation to sell asse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ut op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ight to sell asse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bligation to buy asse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01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an option at expiration is a function of the stock price and the exercise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 Option values given a exercise price of $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765000" y="2971800"/>
                <a:ext cx="753768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tock Pri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$3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all Value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ut Valu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F28084D-589B-49FD-BC91-E570882C9A7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End of Chapter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3200"/>
            </a:b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Than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A390C37-BFBD-4439-8D14-EAA995C7A6C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04920" y="129528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s use special rate quoting conven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unt yields 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 Interest rate is quoted on an annual basis assuming a 360 day year as a percent of redemption price or fac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face valu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discount price of the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the number of days until mat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ay be converted to a bond equivalent yield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comparison with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5"/>
              <p:cNvSpPr txBox="1"/>
              <p:nvPr/>
            </p:nvSpPr>
            <p:spPr>
              <a:xfrm>
                <a:off x="2438280" y="2514600"/>
                <a:ext cx="3581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ce réservé du numéro de diapositive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A305DCC-1742-4BD4-A9C9-E3C1B7AE173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57200" y="137160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are discount securities to bonds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ond equivalent yield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bond equivalent yields int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ffective annual returns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A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2895480" y="2286000"/>
                <a:ext cx="26434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2579760" y="4038480"/>
                <a:ext cx="3659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y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T-Bill Prices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71680" y="1820520"/>
            <a:ext cx="8229600" cy="4411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-Bill prices can be calculated from quotes (e.g.,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Wall Street Jou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by rearranging the discount yield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, by rearranging the bond equivalent yield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2575080" y="2647800"/>
                <a:ext cx="3822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il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2460600" y="4494240"/>
                <a:ext cx="333216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ill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Mounira Ben Arab</cp:lastModifiedBy>
  <dcterms:modified xsi:type="dcterms:W3CDTF">2015-02-22T18:45:10Z</dcterms:modified>
  <cp:revision>384</cp:revision>
  <dc:subject/>
  <dc:title>FINANCIAL MARKETS AND INSTITIUTIONS: A Modern Perspective</dc:title>
</cp:coreProperties>
</file>