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416F-1F03-4DEF-9C97-6AD08C72C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6D67-1F5E-4D92-A335-B84C16DD9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8679-B9A5-4616-BDD8-E4D01CCB4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2E00-7C49-47AC-B357-EF6B4AFC1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BC22-09D3-4DBC-B6E6-254BB841D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2402-1B44-4F0F-808A-40FB8694A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o rate is typically lower than the Fed funds rate because repos are collateralized lo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risky securities are pledged as collateral, the fund’s lender may require a larger ‘haircut,’ i.e. repos normally have to be slightly overcollateralized.  For instance, to borrow $100 the repo seller would have to sell securities currently worth $102, for a $2 haircu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nk of America (BofA) used repos to hide about $10.7 billion of debt from the public from 2007 to 2009.  Under accounting rules if the value of the securities pledged on the repo are worth 105% of the cash received the borrowing firm (BofA) can book the transaction as an asset sale rather than as a loan.  So for the term of the repo the borrower can report lower leverage ratios (i.e., it will have a higher equity to asset ratio).  If these transactions occur a few days before a financial report date such as the end of a quarter, the firm can appear to be safer than it actually is.  The strategy is called a ‘Repo 105’ strategy because of the 105% collateral requirement.  It is actually not allowed under U.S. law but may be allowed for European subsidiaries under British laws. Lehman Brothers used a similar strategy to hide debt amounts of between $8 billion and $15 billion in 2007 and 200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ed, M and J. Werdigier. The Origins of Lehmans Repo 105.  Investment Banking, NY Times Dealbook, March 12, 20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ability to roll over their repo financing of their extensive mortgage holdings was one factor that led to the collapse of Bear Stea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2D46-EB41-4A08-A989-B56EBB343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o rate is typically lower than the Fed funds rate because repos are collateralized lo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5DDB-2AC7-4110-8734-631EAC7DF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FFD8-F23B-47B5-8A15-E115FEDD1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564F-9556-4DEE-9DEA-5E7F2978D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BD0D-1AC1-4CA4-AB07-5EEB079B0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CEC9-B777-48D3-8860-109A8B71F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14EF-E1EB-4290-8DF5-ED91755FD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907B-F836-4E56-8EF0-B1E9431A3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1D51-1ECF-405F-BD92-CDDF4A3D0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8387-0F20-4A5F-B66F-2B5C17292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0C6E-85ED-4E40-A545-18BF84910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58BC-7FF0-4D6E-A67A-079C2365A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0F7D-F922-4965-98C3-FD09961DB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CF22-F741-4C9B-81B3-4E2A19BAC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ly issued Treasuries are called ‘on the run’ and older Treasuries are called ‘off the run.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deral debt held by the public was at $9.0 trillion at the end of 2010 (62% GDP) and is projected to grow to $17.4 trillion by 2020 (76% of projected 2020 GDP, 120% of current GDP) according to the Economic Report of the President.  Large levels of debt held by the public create the potential for crowding out and/or excessive dependence on foreign investment.  Total Federal debt is currently $14.1 trillion (97% GDP) and is projected to grow to $23.1 trillion by 2020 (64% increase).  Interest expense is projected to grow to 3.5% of GDP by 2020 (from about 1.5%).  The 2011 proposed budget puts the deficit at $1.65 trillion or 10.9% of GDP, a post World War II high. When debt held by public (which is the measure that affects the credit markets) hits about 90% most economists believe that GDP growth will be retarded, perhaps holding back GDP growth by up to 1%!  … But nobody knows for sure, and it depends on interest rates and ability to get foreign source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s debt owed to various government trust funds.  This debt does not usually affect credit market interest 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B22A-3FC9-4B36-AC41-C2F6DBDA5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4A2E-BF3F-43B3-BAD2-B943CC71A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2573-C2BB-4808-808D-00505310C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C34B-AE4E-41B1-B4DC-3114E58B8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9EDB-4FDA-4CC7-85F4-B7E25E793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0D20-27C1-4851-8802-1F9ED7386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yield i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ield to c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f the price is above par a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ield to matu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f below par.  The yield calculation uses semiannual compou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0D72-5328-4C88-A4F8-5D7B8AB2D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96B5-7E97-4835-9708-6FB0FB358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A341-7419-4478-B9FB-3EDF2D266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2D32-1EE0-4CBB-9540-554C5C233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8CD0-2049-4D83-B5C3-64B8491C0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9741-CD7B-4B1F-93F0-8FDC4444F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7758-DC4A-4F87-9126-657A5E006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575E-DE3A-40E4-81D6-7A02C21B5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E3BC-F0AC-4115-AA27-1C571A98C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198A-9634-417A-97C0-B094E7CD9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1BFD-9CD5-438C-88AD-D8ACDF9A0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27A7-203F-4170-A35C-1BD094654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C26D-E9FA-478E-9E47-9FDA23D33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CDB6-95D9-4875-B9FF-9AA613D3E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7DA1-2A71-455B-9362-1F54D2C40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E199-DB45-4071-8B5E-6E273FA4E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5574-F378-47F1-8C8A-8D53C8807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increase in yield spreads that occurred during the financial crisis. Spreads have decreased since the crisis but remained elevated above pre-crisis levels in 20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E41E-3F85-4E06-952B-1F4C7AF0B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886F-AF14-487C-B7E4-CC3525386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C451-2B99-4BA7-95D0-65B3163CC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B20C-77C0-48E6-9ECA-0E46259D8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6DCC-09ED-453D-84D9-17FF8ED26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1DD8-64F7-4337-8AE3-A5135C55A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Residual clai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56E2-2E1F-4752-88F7-54C17F3E1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Under current tax laws, capital gains tax rates are lower than ordinary income tax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8088-C9F2-4426-9207-6906072B7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E861-E4E7-4FF8-93FC-1A6E0E73B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Cumulative voting is required  by law in some stat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Most shareholders do not attend annual meetings. Most corporations mail proxies to their stockholders prior to the annual meet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AE74-3A5E-4395-96C9-08D0B4128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CB1F-5ED1-4876-8E7B-711AF29E6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7264-139C-4AE2-88C7-93016BFE5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D357-AA17-4600-91C4-F0876D7CD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B87C-8EA1-457F-A502-41F713314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D9D7-D6D3-440F-979C-E7513B2E4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5260-D442-4C16-B9A6-81ED89311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0F58-7009-46CD-9562-22032812E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635A-1D76-48CB-935A-B5469AE7D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698B-FF39-482B-AC44-8492A6443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02C8-93E1-45A4-95D4-F1519130F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1FF2-EDFB-4D5A-B316-2EB40C42F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DC7C-2FC6-4973-90EF-78A790DD237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23D3B-F819-4E64-A983-142C7A26860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F71D2-6F6F-4D7E-B524-F361419A7A8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DAE7BF-3F05-494F-90BC-6AC81E2168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DD981-2904-459F-A5EC-DA68DF77172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D4E931-5FAA-4AD8-81AA-3260EEC5DF6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3F485F-8398-495B-AD11-0F961ECEB53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F3F7DB-88D7-46C9-95E4-B3277F20C9E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A0DA7-E36C-45F6-8E5C-8B9139D1E64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46703-075F-424C-B11C-F8B6BCD711F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6D7B74-1991-496D-852E-34332694A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D7D1-A5B5-44F0-82AA-21B61E85176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E33F2A-6163-407C-B0BB-50D57FC57D3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967301-7D79-444F-8B8B-DFC964745D6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427EAD-60E9-4DFA-AFFC-9E39F0E10F7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45920D-D012-4645-AB85-44F4D8B14B3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48BEA8-C533-45BB-83BA-7C43EA30C36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96A436-F211-4A6C-A365-83DDA1C6FF2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1163AD-189D-43BF-94C6-7AE59274055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BA1CFF-199D-4307-807F-6AAD6694C05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3AF3B3-647A-4A6E-91F5-13D1C7F2DD1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0B5CF7-83B8-4C09-BE47-C526BCCE0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F4DE-4CAB-4BD2-AC55-B0FC02A1CD8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65C0BF-38BA-46E8-A9A0-87EF37D5CD5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B4146-2AA9-4892-A459-2A1A7519293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C40B5-140A-4712-A8C2-144366DA6E6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B5894-E0BC-4674-BFEF-C2F468A1E94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DC0C5-A7CB-49BD-A7A4-A262568C59F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E55F7-BCF5-4C6D-9393-02D33446694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B290F-4819-4C1B-8375-8D13C6A7872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846FD-4E18-4B41-8438-2FAC9626D85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95809-C06C-4B50-98DF-35D27E632F4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D3B93-6244-474F-9747-4A9555477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577-1513-4899-AFDB-45E3891192C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E1C5B-DEC6-4438-A9F2-01D46CB17DB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6E7D9-3BDB-4F85-B7E1-284F632F9FE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CAAB0-70F4-4E80-9BCF-9C56EC24C6F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B1C150-7C4D-418D-8F26-5B9AA078B9D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FDE4BA-849D-409E-9E9E-E57908C6F7B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B36AF7-D3B7-4C7E-B3C0-BF70A476AF7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FFF686-0EF6-4693-A973-373F9320A40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4DCF92-0D2F-4881-A11E-EC9026DA40A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DAA261-A48F-43B4-BEFF-C5585D968C8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F9EE83-8379-4697-B63E-08F427B527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CEA-788F-47E1-99DD-EBE5B4C0431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AF9FFE-4633-4468-A378-5D56C06A58A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9648F5-DC01-4989-926C-AFF0D4A53B5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8C618D-CFF5-40EF-B563-25EEFC4F847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9A7068-D19D-496D-A12A-4F5AAF97FAA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AD279B-B907-48E4-ACC9-963A08285CC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BF233-B63F-4849-9911-C62D8C27763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7A0AE-CFFA-48E2-8F59-C2024FEE40B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55D7B-5A3B-46F2-AFE4-2202E7C530F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BFC99-FD27-4D03-9049-B0F34353892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7AF90-5CDD-4471-BC1E-058BF3375D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728-30C1-4467-8E8C-B6A32AD4EFC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64DFE-6D59-443E-A9B0-7A2DD35B929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D50FB-41E3-4334-A474-9EB5921F814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325F8-8033-40E0-8609-C61A42900AE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376E4-D30D-452A-BBD7-7F681F43FD5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EDAAD-1551-4BB0-85B0-F6B50B3A31D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F4433-291E-44D4-B8E6-306934D6268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97332-3F83-4341-9D60-4A8B974DFD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D8C-6AE3-4FF8-9F42-E178A9F800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128-7FD7-481E-B705-57D32B78AE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B48-4D8E-44B7-B0C1-A23FC7F0BB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062-F213-43D6-A0C9-4389A30E8E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545B-5E91-421A-984B-BDA429A69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CB0-4778-4E38-9C8B-C6C1FAE0EB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50B-328C-40C7-9FEB-2513A850B6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7D0-C8B8-45F5-9AC1-90AB6FB5AF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4FB-158C-48D8-ADF3-F3EE71F71E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202-5212-48E8-AB3A-6F601B8093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ABEB3-F4FA-47AA-AC8F-AB68C5BE3B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93B19-DCC2-422D-AD5C-23C5D6F0A6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DEF16-C4C5-454C-8CE3-4C4F41CBDF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AE82E-6074-47AE-B7AE-D4E411E83C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89571-0713-427A-8C22-1897B21570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1C09-6410-488C-BEF8-327FF59AEF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28C2C-E8BD-4EA5-893C-B712BA313C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732FA-F8B8-4319-AEE5-052DFA504F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41087-EA71-480F-86DC-3A2DA609FA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B0444-8085-4103-B510-16314EEAA9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BE140-2120-44D6-94E5-FC7F44EFF5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BA039-4CC8-48C9-86BC-BDB6147E55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2542D-5233-40B5-B53B-8C01726CE4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DEC7DC-41C5-4426-A714-0F2716ED46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3D710-AFA1-4B51-9B61-B8571BD285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2AD378-CFED-40C2-AB48-31286136E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F892-A702-4B59-8965-D0BC88E4A4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F76573-53CA-4000-9A08-B2CA97060C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2C3EF-5A3D-4539-B89D-8F56928856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27FE54-54C5-4CA8-AD07-C548177800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AEB91C-9FAA-4849-A5A0-FA0237CCD5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BA8EA2-2E59-4FD7-A3F9-2E698CC7EA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B7CA2F-3EB2-4225-B7CF-EAC82C3219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1894B8-DCCE-4995-B915-C6B50483BB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FFBDA5-864C-4CAA-813B-48F8B06076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E58E45-0A74-4242-AAAB-0E3A24F79D6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45A62-E693-45C7-8E89-963E13A28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6ED6-3DBB-41BF-8533-B06D3F6908E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3A00-1E02-44F5-B8EF-8026897AB3C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8681E-1BF1-4027-ADCB-646125AE7C7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BF400-B43A-4428-B75C-6187D653DE2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288F1-73E2-41E9-B223-81E9DE64B3B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84F84-487E-49F7-8A6F-E60CFD6A368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83985-8B3B-4B23-AC2A-9D2F95B5859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430B9-0FC1-4A69-ADD1-29693B99F2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65B5C-A4D3-4903-BB43-D1E0CAD5840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BF9B-1962-4CE4-9C3C-5483D5ED09C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88C90-C7AD-456D-BCAF-08261307F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C9A5-B6AE-4059-899B-F2A8472462B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C2A75-ED67-46F0-B63B-844FBFF941B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41E6D-FD7B-43E1-B681-B58BC5A47E9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5B753-A105-4F31-9AB4-904E16E81A3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47B6C-A678-44FF-9F41-D0B5E81EC73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4915C-A30D-4C35-95E2-8B1E6959554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98CAE-5687-4B0D-A0F5-AC3A82D1EE2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751987-80F3-4A28-991C-C959D01DE0A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F1E5CE-68F3-4FD1-99AC-A3FED4BE4A6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DBEC8-C15E-43F3-8B07-1DC0C1D8DBD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A5A89E-4727-4A8B-B414-362D226A4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120B-BC25-4129-BC32-B2268B8D56C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48443-5BCB-4741-833F-D3EE5C3E7F3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95255-B137-4EF3-A980-DB804AF08E1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A40E38-BF1F-4788-BED7-77B10158523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4CB4B7-272A-479B-85FB-1F02DEE5378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AE65EC-489B-4830-9E55-927EF2589EF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C51474-EBFA-4AC1-A247-3C1E477794D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E58C8C-0F0F-47C3-BA1E-84F931C76F1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5925E0-29D7-4674-9EF9-6637E529A31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41A872-74F7-4E0D-9883-25886FD4A57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BE50DB-30AB-4E7A-8099-DFC1FBA30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E7AD-B1AE-4200-809A-FE7EEE9E9D5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F1CF04-1AC4-4A84-B60D-8F0CA027FC6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3958E6-3D1E-4EF0-B0BA-4AFCAA84690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BFE7ED-124E-426E-95E6-4FFCF0FA350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F9CAD7-3EA2-42BA-91A5-00CA5D8CEDC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F7E9E0-43D7-4806-8916-3F305709834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656E7-98D0-46CA-B0EF-E6AC0124B6E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506E6-402D-42B3-B026-68F6364CDB7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DF703-3A70-4234-A4E9-F438E720DF2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30860-0378-4DC8-941C-4C68110D35E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8D8BE-CC2E-4693-954B-C564CE421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64BC-C235-4694-9731-9137C6179F0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E6312-876A-400F-87C1-6D0195DF4F0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F3BE3-D3EF-451A-BE28-5711C4DDD5F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EF805-73D8-4A39-873E-C9742CB6728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A0CA3-B97E-4662-9533-88E72EE72EA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55756-D70D-436D-BD1A-AC0D1711901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60F1D-B95E-4A76-9BFB-263796AEB6F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A02F9-8A12-4E3C-84E5-9416158558E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46A4D3-DE46-426C-99D2-8873969D920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EE958-122A-40A4-AA78-0B143AD0897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1757D-38D3-4CCA-A395-E001E35F6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24F7ABFF-D927-4F37-B203-4AD2F771A36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19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DA79004D-5406-4927-A39E-138C98721F5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21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D62C080A-78BB-44AC-BA45-6460413F6DA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23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1C6E8657-90A4-4D25-86C0-333674C688B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25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01624A1C-2E9E-415F-A928-E46D93E6E62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486DED7E-6435-4DB5-B991-B821502DF97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B344CB4-4466-4859-9582-E93FB37E575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7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93B108FF-838B-4908-A3A4-6D24CE515DE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9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49675AC1-148A-42C8-B8C3-C4B6D72DB95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0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1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6C2FCD33-301B-434C-BF1E-C8640020C63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3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6AFB6AD6-9226-4144-9F10-82A246912C6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15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B7ADA095-E430-47DD-8A8D-0539411215A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17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32C2C582-2E18-4BA2-8319-CD9F054FDF8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8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304920" y="38088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Tw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380880" y="18097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0000"/>
                </a:solidFill>
                <a:latin typeface="Arial"/>
              </a:rPr>
              <a:t>MARKETS AND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"/>
          <p:cNvSpPr/>
          <p:nvPr/>
        </p:nvSpPr>
        <p:spPr>
          <a:xfrm>
            <a:off x="4419720" y="658188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The presentation has been amended/updated by Dr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. Mounira Ben Ar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The Secondary Market for T-Bill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782360"/>
            <a:ext cx="8148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econdary market for T-bills is the largest of any U.S. money market instru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2 primary dealers “make” a market in T-bills by buying the majority sold at auction and by creating an active secondary 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mary dealers trade for themselves and for custo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-bill purchases and sales are book-entry transactions conducted over Fedw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-Bills are sold on a discount ba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Federal Fu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153280" cy="37414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ederal funds (fed funds) r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target rate in the conduct of monetary 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d fund transactions are short-term (mostly overnight) unsecured loans. Multimillion dollars loans may be arranged in a matter of minu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nks with excess reserves lend fed funds, while banks with deficient reserves borrow fed fun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2894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d funds are single-payment loans and thus us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ingle-payment yields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sp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nvert a single-payment yield to a bond equivalent yiel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irectly convert a single payment yield to an 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4"/>
              <p:cNvSpPr txBox="1"/>
              <p:nvPr/>
            </p:nvSpPr>
            <p:spPr>
              <a:xfrm>
                <a:off x="3162240" y="2971800"/>
                <a:ext cx="24004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y</m:t>
                        </m:r>
                      </m:sub>
                    </m:sSub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5"/>
              <p:cNvSpPr txBox="1"/>
              <p:nvPr/>
            </p:nvSpPr>
            <p:spPr>
              <a:xfrm>
                <a:off x="2505240" y="4114800"/>
                <a:ext cx="36590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AR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y</m:t>
                                </m:r>
                              </m:sub>
                            </m:sSub>
                            <m:f>
                              <m:num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0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5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1"/>
              <p:cNvSpPr txBox="1"/>
              <p:nvPr/>
            </p:nvSpPr>
            <p:spPr>
              <a:xfrm>
                <a:off x="3124080" y="1828800"/>
                <a:ext cx="24973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2" name="TextBox 8"/>
          <p:cNvSpPr/>
          <p:nvPr/>
        </p:nvSpPr>
        <p:spPr>
          <a:xfrm>
            <a:off x="4041720" y="3467160"/>
            <a:ext cx="646200" cy="344520"/>
          </a:xfrm>
          <a:prstGeom prst="rect">
            <a:avLst/>
          </a:prstGeom>
          <a:solidFill>
            <a:srgbClr val="ffff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Repurchase Agreement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48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repurchase agreement (repo or RP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the sale of a security with an agreement to buy the security back at a set price in the fu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pos are short-term collateralized loans (typical collateral is U.S. Treasury securitie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imilar to a fed fund loa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but collateral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ds may be transferred over FedWire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collateralized by risky assets, the repo may involve a ‘haircut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Repurchase Agreement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820520"/>
            <a:ext cx="8148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ypical denominations on repos of one week or less are $25 million and longer term repos usually have $10 million denomin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reverse repurchase agreement is the purchase of a security with an agreement to sell it back in the fu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Repurchase Agreement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20520"/>
            <a:ext cx="8229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ield on repurchase agreements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uses a 360-day year like the discount rate, but uses the current price in the denominator like the bond equivalent yie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the repurchase price of the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the selling price of the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the number of days until the repo m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4"/>
              <p:cNvSpPr txBox="1"/>
              <p:nvPr/>
            </p:nvSpPr>
            <p:spPr>
              <a:xfrm>
                <a:off x="3119400" y="3313080"/>
                <a:ext cx="26431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Commercial Paper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820520"/>
            <a:ext cx="8148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ercial Paper (CP) is unsecured short-term corporate debt issued to raise short-term funds (e.g., for working capit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lly sold in large denominations (e.g., $100,000 to $1 million) with maturities between 1 and 270 day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P is usually sold to investors indirectly through brokers and dealers (approximately 85% of the tim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P is usually held by investors until maturity and has no active secondary 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P li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sury bill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quoted on a discount ba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Example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94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$1M investment in 90 day commercial paper has a 2% discount yield and an equivalent size and risk 90 day CD has a 2% single payment yield.  Which security offers the better return?  For the commercial pap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bond equivalent yield for the commercial paper is 2.03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2"/>
              <p:cNvSpPr txBox="1"/>
              <p:nvPr/>
            </p:nvSpPr>
            <p:spPr>
              <a:xfrm>
                <a:off x="885960" y="3465360"/>
                <a:ext cx="24969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3"/>
              <p:cNvSpPr txBox="1"/>
              <p:nvPr/>
            </p:nvSpPr>
            <p:spPr>
              <a:xfrm>
                <a:off x="3733920" y="3579840"/>
                <a:ext cx="4349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$1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1M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;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$995,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4"/>
              <p:cNvSpPr txBox="1"/>
              <p:nvPr/>
            </p:nvSpPr>
            <p:spPr>
              <a:xfrm>
                <a:off x="885960" y="4556160"/>
                <a:ext cx="24969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7"/>
              <p:cNvSpPr txBox="1"/>
              <p:nvPr/>
            </p:nvSpPr>
            <p:spPr>
              <a:xfrm>
                <a:off x="3649680" y="4556160"/>
                <a:ext cx="4627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$1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$995,00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995,000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8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8" name="TextBox 12"/>
          <p:cNvSpPr/>
          <p:nvPr/>
        </p:nvSpPr>
        <p:spPr>
          <a:xfrm>
            <a:off x="2843280" y="3121200"/>
            <a:ext cx="3417840" cy="458640"/>
          </a:xfrm>
          <a:prstGeom prst="rect">
            <a:avLst/>
          </a:prstGeom>
          <a:solidFill>
            <a:srgbClr val="92d05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2894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bond equivalent yield for the CD is 2.027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mmercial paper has the better return since its bond equivalent yield is 2.03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"/>
              <p:cNvSpPr txBox="1"/>
              <p:nvPr/>
            </p:nvSpPr>
            <p:spPr>
              <a:xfrm>
                <a:off x="2057400" y="3124080"/>
                <a:ext cx="4478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y</m:t>
                        </m:r>
                      </m:sub>
                    </m:sSub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8"/>
              <p:cNvSpPr txBox="1"/>
              <p:nvPr/>
            </p:nvSpPr>
            <p:spPr>
              <a:xfrm>
                <a:off x="1600200" y="1711440"/>
                <a:ext cx="53038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×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7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Asset-Backed Commercial Paper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782360"/>
            <a:ext cx="8148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type of commercial paper that is backed by assets of the issuing fi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rew very rapidly prior to the financial crisis peaking at $2.16 trillion. Much of it was backed by mortgage investm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market collapsed during the financial crisi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BC4591F9-72D9-4502-8967-148BD1A9852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609480" y="304920"/>
            <a:ext cx="7543800" cy="129528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2.1 THE MONEY MARKE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609480" y="1752480"/>
            <a:ext cx="8148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sury bills (T-bi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 funds (fed fun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urchase agreements (repos or R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paper (C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ble certificates of deposit (C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ker acceptances (B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Negotiable Certificate of Deposit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20520"/>
            <a:ext cx="8229600" cy="48085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egotiable certificate of deposit (CD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bank-issued time deposit that specifies the interest rate and the maturity d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Ds are bearer instruments and thus are salable in the secondary 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nominations range from $100,000 to $10 million; $1 million being the most comm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ten purchased by money market mutual funds with pools of funds from individual inves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ble (or jumbo) CDs like fed funds are money market securities that pay interest only at maturity.  These u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ingle-payment yield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sp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anker’s Acceptance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782360"/>
            <a:ext cx="8148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Banker’s Acceptance (BA)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s a time draft payable to a seller of goods with payment guaranteed by a ban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d in international trade transactions to finance trade in goods that have yet to be shipped from a foreign exporter (seller) to a domestic importer (buyer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reign exporters prefer that banks act as payment guarantors before sending goods to import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anker’s acceptances are bearer instruments and thus are salable in secondary marke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85640" y="-6696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Diagram of a Banker’s Acceptance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820800" y="893880"/>
            <a:ext cx="7029360" cy="29970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"/>
          <p:cNvPicPr/>
          <p:nvPr/>
        </p:nvPicPr>
        <p:blipFill>
          <a:blip r:embed="rId2"/>
          <a:stretch/>
        </p:blipFill>
        <p:spPr>
          <a:xfrm>
            <a:off x="2770200" y="3929040"/>
            <a:ext cx="3911760" cy="2874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International Money Market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820520"/>
            <a:ext cx="8148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.S. dollars held outside the U.S. are tracked among multinational banks in the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urodollar marke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rate offered for sale on Eurodollar funds is the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London Interbank Offered Rate (LIBOR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urodollar Certificates of Deposi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U.S. dollar-denominated CDs held in foreign bank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urocommercial paper (Euro-CP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issued in Europe and can be in local currencies or U.S. dolla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ond and Bond Market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148600" cy="441144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pital market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volve equity and debt instruments with maturities of more than one y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ond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ong-term debt obligations issued by corporations and government un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ond market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markets in which bonds are issued and tra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asury notes (T-notes) and bonds (T-bon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nicipal bonds (Mun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rporate bo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ond Market Instruments Outstanding, 1994-2010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6" name="TextBox 1"/>
          <p:cNvSpPr/>
          <p:nvPr/>
        </p:nvSpPr>
        <p:spPr>
          <a:xfrm>
            <a:off x="1790640" y="21099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 Market 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Chart 9" descr=""/>
          <p:cNvPicPr/>
          <p:nvPr/>
        </p:nvPicPr>
        <p:blipFill>
          <a:blip r:embed="rId1"/>
          <a:stretch/>
        </p:blipFill>
        <p:spPr>
          <a:xfrm>
            <a:off x="1628640" y="2571840"/>
            <a:ext cx="6201000" cy="321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Treasury Notes and Bonds</a:t>
            </a:r>
            <a:r>
              <a:rPr b="0" lang="en-US" sz="43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sury notes and bonds (T-notes and T-bond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ssued by the U.S. Treasury to finance the national debt and other government expendi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fault risk fr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backed by the full faith and credit of the U.S. gover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w retur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ow interest rates (yields to maturity) reflect low default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because of their long maturity, T-notes and T-bonds experience wider price fluctuations than money market securities when interest rates ch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iquidity ris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older issued T-bonds and T-notes trade less frequently than newly issued T-bonds and T-n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Current &amp; Projected Federal Debt Level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632" name="Chart 7" descr=""/>
          <p:cNvPicPr/>
          <p:nvPr/>
        </p:nvPicPr>
        <p:blipFill>
          <a:blip r:embed="rId1"/>
          <a:stretch/>
        </p:blipFill>
        <p:spPr>
          <a:xfrm>
            <a:off x="1542960" y="2057400"/>
            <a:ext cx="6134040" cy="3276720"/>
          </a:xfrm>
          <a:prstGeom prst="rect">
            <a:avLst/>
          </a:prstGeom>
          <a:ln w="0">
            <a:noFill/>
          </a:ln>
        </p:spPr>
      </p:pic>
      <p:sp>
        <p:nvSpPr>
          <p:cNvPr id="633" name="TextBox 8"/>
          <p:cNvSpPr/>
          <p:nvPr/>
        </p:nvSpPr>
        <p:spPr>
          <a:xfrm>
            <a:off x="1542960" y="53341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Source: C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Treasury Notes and Bonds</a:t>
            </a:r>
            <a:r>
              <a:rPr b="0" lang="en-US" sz="43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-notes have original maturities from over 1 to 10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-bonds have original maturities from over 10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sued in minimum denominations (multiples) of $1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either fixed principal or inflation-index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lation-indexed bonds are 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easury Inflation Protection Securities (TI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incipal value of TIPS is adjusted by the percentage change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Price Index (CPI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ery six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de in very active secondary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ces are quoted as percentages of face value, in 32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Sample Treasury Bond Quote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2230560"/>
            <a:ext cx="8229600" cy="390024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turity mo/yr: Month and year, the bond matures November 15, 2017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pon: Coupon rate of 4.250% or $42.50 per year but paid semiannually ($1,000 fac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d: The closing price per $100 of par the dealer will pay to buy the bond; the seller would receive this price from selling to the dealer.  Prices are quoted in 32nds.  In this case, 112:26 = 112 26/32% of $1,000 or $1,128.12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131840" y="2408400"/>
          <a:ext cx="6773760" cy="622080"/>
        </p:xfrm>
        <a:graphic>
          <a:graphicData uri="http://schemas.openxmlformats.org/drawingml/2006/table">
            <a:tbl>
              <a:tblPr/>
              <a:tblGrid>
                <a:gridCol w="1440000"/>
                <a:gridCol w="1003320"/>
                <a:gridCol w="1104840"/>
                <a:gridCol w="1017360"/>
                <a:gridCol w="1019520"/>
                <a:gridCol w="1188720"/>
              </a:tblGrid>
              <a:tr h="311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ur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p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k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ked Yl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 Nov 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: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: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3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Espace réservé du numéro de diapositive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ED7D043D-FB9E-4215-A83E-123B8D3A42F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- bill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the simplest form of borrowing: The government raises money by selling bills to the publ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ederal Reserve buys and sells T-bills to implement 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virtually default risk free, highly liquid, and have little interest rate ris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bills sell in minimum denominations of only $10,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come earned on T-bills is exempt from all state and local taxes, as a consequence there is a strong international demand for T-bills as safe haven inves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Sample Treasury Bond Quote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ed: The closing price per $100 of par the dealer requires to sell the bond; the buyer would pay this price to the dealer.  In this case, 112:27 = 112 27/32% of $1,000 or $1,128.437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g: The change from the prior closing ASKED price in 32nds.  In this case, the ASKED price increased thirteen 32nds from the prior quoted closing ask pri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ed Yld = Promised compound yield rate if purchased at the Asked price. In this case, the yield is 2.3316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1227240" y="2057400"/>
          <a:ext cx="6773760" cy="622440"/>
        </p:xfrm>
        <a:graphic>
          <a:graphicData uri="http://schemas.openxmlformats.org/drawingml/2006/table">
            <a:tbl>
              <a:tblPr/>
              <a:tblGrid>
                <a:gridCol w="1439640"/>
                <a:gridCol w="1003320"/>
                <a:gridCol w="1104840"/>
                <a:gridCol w="1017720"/>
                <a:gridCol w="1019160"/>
                <a:gridCol w="1189080"/>
              </a:tblGrid>
              <a:tr h="311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ur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p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k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ked Yl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 Nov 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: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: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3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C:\Users\Mounira\Desktop\Mounira\Semester 1 2014\230\Appendix &amp; reading asignments\table 6.jpg"/>
          <p:cNvPicPr/>
          <p:nvPr/>
        </p:nvPicPr>
        <p:blipFill>
          <a:blip r:embed="rId1"/>
          <a:stretch/>
        </p:blipFill>
        <p:spPr>
          <a:xfrm>
            <a:off x="182880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Treasury STRIPS</a:t>
            </a:r>
            <a:r>
              <a:rPr b="0" lang="en-US" sz="43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parate Trading of Registered Interest and Principal Securities (STRIP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.k.a. Treasury zero bonds or Treasury zero-coupon bo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ancial institutions and government securities brokers and dealers create STRIPS from T-notes and T-bo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PS have the periodic interest payments separated from each other and from the principal pay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t of securities reflects interest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t of securities reflects principal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PS are used to immunize against interest rate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Accrued Interest and Price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crued inter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ust be paid by the buyer of a bond to the seller of a bond if the bond is purchased between interest payment dat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price of the bond with accrued interest is called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ull pric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rty pri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 price without accounting for accrued interest is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ean pri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Accrued Interest and Price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ean” prices are calculat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1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the present value of the bo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the par value of the bo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annual interest payment (in dollar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the number of years until the bond m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the number of times per year interest is pa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1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interest rate used to discount cash flows on the bo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11"/>
              <p:cNvSpPr txBox="1"/>
              <p:nvPr/>
            </p:nvSpPr>
            <p:spPr>
              <a:xfrm>
                <a:off x="1359000" y="2324160"/>
                <a:ext cx="57340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IFA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I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Accrued Interest on Bo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crued interest on T-notes and T-bonds is calculat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ull (or dirty) price of a T-note or T-bond is the sum of the clean price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the accrued inter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20"/>
              <p:cNvSpPr txBox="1"/>
              <p:nvPr/>
            </p:nvSpPr>
            <p:spPr>
              <a:xfrm>
                <a:off x="677880" y="2795760"/>
                <a:ext cx="778680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crued interes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 number of days since last coupon paymen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ual number of days in coupon perio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Accrued Interest Example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You buy a 6% coupon $1,000 par T-bond 59 days after the last coupon payment.  Settlement occurs in two days.  You become the owner 61 days after the last coupon payment (59+2), and there are 121 days remaining until the next coupon payment.  The bond’s clean price quote is 120:19.   What is the full or dirty price (sometimes called the invoice price)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clean price is 120:19 or 120 19/32% of $1,000 or $1,205.9375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us, the dirty price is $1,205.9375 + $10.05 = $1,215.9875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13"/>
              <p:cNvSpPr txBox="1"/>
              <p:nvPr/>
            </p:nvSpPr>
            <p:spPr>
              <a:xfrm>
                <a:off x="2286000" y="3979800"/>
                <a:ext cx="45720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crue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eres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Notes and Bonds Market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primary market of T-notes and T-bonds is similar to that of T-bills; the U.S. Treasury sells T-notes and T-bonds through competitive and noncompetitive single-bid au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-year notes are auctioned month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-, 5-, and 10-year notes are auctioned quarterly (Feb, May, Aug, and No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0-year bonds are auctioned semi-annually (Feb and Au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secondary trading occurs directly through brokers and deal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Municipal Bo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unicipal bonds (Muni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securities issued by state and local govern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und imbalances between expenditures and rece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ance long-term capital out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active to household investors because interest is exempt from federal and most local income ta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eneral obligation (GO) bon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backed by the full faith and credit of the issuing municip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venue bon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d to finance specific revenue generating proje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Municipal Bo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Muni returns with fully taxable corporate bonds by finding the after tax return for corporate bond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after-tax rate of return on a taxable corporate bo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before-tax rate of return on a taxable bo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marginal total income tax rate of the bond hold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ely, convert Muni interest rates to tax equivalent rates of return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(1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148600" cy="53946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-bills with initial maturities of 91 days or 182 days are issued weekly. Offerings of 52-week bills are made monthly. Sales are conducted via auction, at which investors can submit competitive or noncompetitive b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etitive bid is an order for a given quantity of bills at a specific offered price. The order is filled only if the bid is high enough relative to other bids to be accepte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oncompetitive bid is an unconditional offer to purchase bills at the average price of the successful competitive bi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Municipal Bond Rates &amp; Taxe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28% tax bracket, what is the equivalent after tax rate of a 6% corporate yiel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6%(1- 0.28) = 4.3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28% tax bracket, what corporate taxable yield is equivalent to a 4.5% muni bond rat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5% / (1-0.28) = 6.2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Municipal Bo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m commitment underwri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public offering of Munis made through an investment bank, where the investment bank guarantees a price for the newly issued bonds by buying the entire issue and then reselling it to th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efforts offe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public offering in which the investment bank does not guarantee a firm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ate plac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onds are sold on a semi-private basis to qualified investors (generally F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Munis trade infrequently due mainly to a lack of information on bond issu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Corporate Bo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rporate bon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long-term bonds issued by corpor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ond indentu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legal contract that specifies the rights and obligations of the issuer and the hol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ear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ist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ortgage bond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secured debt iss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Corporate Bo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bentur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bordinated debent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vertible bon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n-convertible bo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100" spc="-1" strike="noStrike" baseline="-25000">
                <a:solidFill>
                  <a:srgbClr val="000000"/>
                </a:solidFill>
                <a:latin typeface="Times New Roman"/>
              </a:rPr>
              <a:t>cvb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rate of return on a convertible bo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100" spc="-1" strike="noStrike" baseline="-25000">
                <a:solidFill>
                  <a:srgbClr val="000000"/>
                </a:solidFill>
                <a:latin typeface="Times New Roman"/>
              </a:rPr>
              <a:t>ncvb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rate of return on a nonconvertible bo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i="1" lang="en-US" sz="2100" spc="-1" strike="noStrike" baseline="-25000">
                <a:solidFill>
                  <a:srgbClr val="000000"/>
                </a:solidFill>
                <a:latin typeface="Times New Roman"/>
              </a:rPr>
              <a:t>cvb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value of the conversion op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ock warra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ive bondholders the opportunity to purchase common stock at a prespecified pr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22"/>
              <p:cNvSpPr txBox="1"/>
              <p:nvPr/>
            </p:nvSpPr>
            <p:spPr>
              <a:xfrm>
                <a:off x="3065400" y="2771640"/>
                <a:ext cx="3011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v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Corporate Bo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ll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onds versu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n-call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nc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rate of return on a noncallable b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rate of return on a callable b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value of the call o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king fund provis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quirement that the issuer retire a certain amount of the bond issue early as the bonds approach matu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19"/>
              <p:cNvSpPr txBox="1"/>
              <p:nvPr/>
            </p:nvSpPr>
            <p:spPr>
              <a:xfrm>
                <a:off x="2992320" y="2346480"/>
                <a:ext cx="3159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Corporate Bo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identical to that of Mun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change mark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bond division of the NY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ver-the-counter (OTC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ond rat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hree major bond rating agencies a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ody’s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andard &amp; Poor’s (S&amp;P)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i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nds are rated b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erceived default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nds may be eithe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peculativ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i.e.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un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gr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ond Credit Rating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678" name="Picture 1" descr=""/>
          <p:cNvPicPr/>
          <p:nvPr/>
        </p:nvPicPr>
        <p:blipFill>
          <a:blip r:embed="rId1"/>
          <a:stretch/>
        </p:blipFill>
        <p:spPr>
          <a:xfrm>
            <a:off x="1301760" y="1743120"/>
            <a:ext cx="6407280" cy="4635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ond Yield Sprea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680" name="Picture 2" descr="ALFRED Graph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664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Corporate Bond Quote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319120"/>
            <a:ext cx="8229600" cy="38113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suer name, ticker symbol and coup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turity month and y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nd rating by the three major ratings agenc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, Low, and Last prices in decimal form as a percent of p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ily high price was $1,084.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 is the change from the prior day’s last pr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ield % is the promised yield to maturity using the last pr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762120" y="2414520"/>
          <a:ext cx="7619760" cy="654120"/>
        </p:xfrm>
        <a:graphic>
          <a:graphicData uri="http://schemas.openxmlformats.org/drawingml/2006/table">
            <a:tbl>
              <a:tblPr/>
              <a:tblGrid>
                <a:gridCol w="750600"/>
                <a:gridCol w="723960"/>
                <a:gridCol w="760680"/>
                <a:gridCol w="806400"/>
                <a:gridCol w="1284120"/>
                <a:gridCol w="784440"/>
                <a:gridCol w="663480"/>
                <a:gridCol w="657000"/>
                <a:gridCol w="628920"/>
                <a:gridCol w="560160"/>
              </a:tblGrid>
              <a:tr h="417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suer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p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ur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ody’s/S&amp;P/ F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ield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igro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.HV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3/--/A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.4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.9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.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ond Market Indexe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aged by major investment ban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flect both the monthly capital gain and loss on bonds plus any interest (coupon) income ear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anges in values of bond indexes can be used by bond traders to evaluate changes in the investment attractiveness of bonds of different types and matur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Line 3"/>
          <p:cNvSpPr/>
          <p:nvPr/>
        </p:nvSpPr>
        <p:spPr>
          <a:xfrm>
            <a:off x="1828800" y="22860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4"/>
          <p:cNvSpPr/>
          <p:nvPr/>
        </p:nvSpPr>
        <p:spPr>
          <a:xfrm>
            <a:off x="1828800" y="556272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7253640" y="5181480"/>
            <a:ext cx="143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ntit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-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534600" y="234648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7"/>
          <p:cNvCxnSpPr/>
          <p:nvPr/>
        </p:nvCxnSpPr>
        <p:spPr>
          <a:xfrm>
            <a:off x="2420640" y="3123720"/>
            <a:ext cx="703800" cy="3819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46" name="AutoShape 8"/>
          <p:cNvCxnSpPr/>
          <p:nvPr/>
        </p:nvCxnSpPr>
        <p:spPr>
          <a:xfrm>
            <a:off x="3048120" y="3505320"/>
            <a:ext cx="457920" cy="38160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47" name="AutoShape 9"/>
          <p:cNvCxnSpPr/>
          <p:nvPr/>
        </p:nvCxnSpPr>
        <p:spPr>
          <a:xfrm>
            <a:off x="3505320" y="3886200"/>
            <a:ext cx="457920" cy="38160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48" name="AutoShape 10"/>
          <p:cNvCxnSpPr/>
          <p:nvPr/>
        </p:nvCxnSpPr>
        <p:spPr>
          <a:xfrm>
            <a:off x="3901680" y="4266720"/>
            <a:ext cx="594360" cy="3819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49" name="AutoShape 11"/>
          <p:cNvCxnSpPr/>
          <p:nvPr/>
        </p:nvCxnSpPr>
        <p:spPr>
          <a:xfrm>
            <a:off x="4419360" y="46483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50" name="AutoShape 12"/>
          <p:cNvCxnSpPr/>
          <p:nvPr/>
        </p:nvCxnSpPr>
        <p:spPr>
          <a:xfrm>
            <a:off x="4952880" y="5028840"/>
            <a:ext cx="457920" cy="30564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551" name="Line 13"/>
          <p:cNvSpPr/>
          <p:nvPr/>
        </p:nvSpPr>
        <p:spPr>
          <a:xfrm>
            <a:off x="54100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AutoShape 14"/>
          <p:cNvCxnSpPr/>
          <p:nvPr/>
        </p:nvCxnSpPr>
        <p:spPr>
          <a:xfrm>
            <a:off x="1855440" y="2759040"/>
            <a:ext cx="888120" cy="3657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553" name="Text Box 15"/>
          <p:cNvSpPr/>
          <p:nvPr/>
        </p:nvSpPr>
        <p:spPr>
          <a:xfrm>
            <a:off x="1912680" y="2324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6"/>
          <p:cNvSpPr/>
          <p:nvPr/>
        </p:nvSpPr>
        <p:spPr>
          <a:xfrm>
            <a:off x="2363760" y="268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7"/>
          <p:cNvSpPr/>
          <p:nvPr/>
        </p:nvSpPr>
        <p:spPr>
          <a:xfrm>
            <a:off x="2827080" y="306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8"/>
          <p:cNvSpPr/>
          <p:nvPr/>
        </p:nvSpPr>
        <p:spPr>
          <a:xfrm>
            <a:off x="328428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9"/>
          <p:cNvSpPr/>
          <p:nvPr/>
        </p:nvSpPr>
        <p:spPr>
          <a:xfrm>
            <a:off x="3741480" y="38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20"/>
          <p:cNvSpPr/>
          <p:nvPr/>
        </p:nvSpPr>
        <p:spPr>
          <a:xfrm>
            <a:off x="4275000" y="420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808520" y="4586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2"/>
          <p:cNvSpPr/>
          <p:nvPr/>
        </p:nvSpPr>
        <p:spPr>
          <a:xfrm flipV="1">
            <a:off x="4267080" y="2655360"/>
            <a:ext cx="0" cy="2907000"/>
          </a:xfrm>
          <a:prstGeom prst="line">
            <a:avLst/>
          </a:prstGeom>
          <a:ln w="507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23"/>
          <p:cNvSpPr/>
          <p:nvPr/>
        </p:nvSpPr>
        <p:spPr>
          <a:xfrm flipV="1">
            <a:off x="4648320" y="2682720"/>
            <a:ext cx="0" cy="2880000"/>
          </a:xfrm>
          <a:prstGeom prst="line">
            <a:avLst/>
          </a:prstGeom>
          <a:ln w="507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3786840" y="2514600"/>
            <a:ext cx="3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5"/>
          <p:cNvSpPr/>
          <p:nvPr/>
        </p:nvSpPr>
        <p:spPr>
          <a:xfrm>
            <a:off x="4785120" y="252900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26"/>
          <p:cNvSpPr/>
          <p:nvPr/>
        </p:nvSpPr>
        <p:spPr>
          <a:xfrm>
            <a:off x="4451400" y="2286000"/>
            <a:ext cx="0" cy="5335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27"/>
          <p:cNvSpPr/>
          <p:nvPr/>
        </p:nvSpPr>
        <p:spPr>
          <a:xfrm>
            <a:off x="4464000" y="2286000"/>
            <a:ext cx="99072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8"/>
          <p:cNvSpPr/>
          <p:nvPr/>
        </p:nvSpPr>
        <p:spPr>
          <a:xfrm>
            <a:off x="5362920" y="207180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competitive B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9"/>
          <p:cNvSpPr/>
          <p:nvPr/>
        </p:nvSpPr>
        <p:spPr>
          <a:xfrm>
            <a:off x="546840" y="4343400"/>
            <a:ext cx="1166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-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32"/>
          <p:cNvSpPr/>
          <p:nvPr/>
        </p:nvSpPr>
        <p:spPr>
          <a:xfrm>
            <a:off x="1828800" y="46483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T-Bill Auction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ond Market Participant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major issuers of debt market securities are federal, state and local governments, and corpo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major purchasers of capital market securities are households, businesses, government units, and foreign inves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es and financial firms (e.g., banks, insurance companies, and mutual funds) are the major suppliers of funds for Munis and corporate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 investors and governments are the major suppliers of funds for T-notes and T-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International Bonds and Market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 bond mark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olve unregistered bonds that are internationally syndicated, offered simultaneously to investors in several countries, and issued outside of the jurisdiction of any single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robo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long-term bonds issued outside the country of the currency in which they are deno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ign Bo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long-term bonds issued outside of the issuer’s home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vereign Bo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government issued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7623C964-62D6-4DDC-85FF-661278B305E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mmon stoc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damental ownership clai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 public or private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00"/>
                </a:solidFill>
                <a:latin typeface="Times New Roman"/>
              </a:rPr>
              <a:t>The characteristics of common stock differentiate it from other types of financial securities in 4 dimentions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tr-TR" sz="1900" spc="-1" strike="noStrike">
                <a:solidFill>
                  <a:srgbClr val="000000"/>
                </a:solidFill>
                <a:latin typeface="Times New Roman"/>
              </a:rPr>
              <a:t>Discretionary divident payments </a:t>
            </a: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(not guarante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tr-TR" sz="1900" spc="-1" strike="noStrike">
                <a:solidFill>
                  <a:srgbClr val="000000"/>
                </a:solidFill>
                <a:latin typeface="Times New Roman"/>
              </a:rPr>
              <a:t>Residual claim status  </a:t>
            </a: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(have the lowest priority claim in the event of bankcrupcy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fter paying creditors, employees, bond holders, goverment and preferred stockhold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tr-TR" sz="1900" spc="-1" strike="noStrike">
                <a:solidFill>
                  <a:srgbClr val="000000"/>
                </a:solidFill>
                <a:latin typeface="Times New Roman"/>
              </a:rPr>
              <a:t>Limited Liability </a:t>
            </a: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ommon stockholders can lose no more than their original investment</a:t>
            </a: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, not like sole proprietorship or partnership.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tr-TR" sz="1900" spc="-1" strike="noStrike">
                <a:solidFill>
                  <a:srgbClr val="000000"/>
                </a:solidFill>
                <a:latin typeface="Times New Roman"/>
              </a:rPr>
              <a:t>Voting Rights </a:t>
            </a: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(common stockholders control the firm’s activities indirectly by exercising their voting rights in the election of the board of directors.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FE11D381-D13F-4035-B99F-90E309B93A9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-2 (note for dividents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Can be paid or not !!! Once or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When it is paid dividents are taxed twice (firm level </a:t>
            </a:r>
            <a:r>
              <a:rPr b="0" lang="tr-TR" sz="2000" spc="-1" strike="noStrike">
                <a:solidFill>
                  <a:srgbClr val="ff0000"/>
                </a:solidFill>
                <a:latin typeface="Times New Roman"/>
              </a:rPr>
              <a:t>corporate tax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nd personel level </a:t>
            </a:r>
            <a:r>
              <a:rPr b="0" lang="tr-TR" sz="2000" spc="-1" strike="noStrike">
                <a:solidFill>
                  <a:srgbClr val="ff0000"/>
                </a:solidFill>
                <a:latin typeface="Times New Roman"/>
              </a:rPr>
              <a:t>personal income tax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) . Holding stocks in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growth firms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can help avoiding this double taxation effec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In the context of return; (reinvesment of earnings instead of paying divident)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he divident component of returns decreases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while generally increase the capital gains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If dividents are paid</a:t>
            </a:r>
            <a:r>
              <a:rPr b="0" lang="tr-TR" sz="1800" spc="-1" strike="noStrike">
                <a:solidFill>
                  <a:srgbClr val="ff0000"/>
                </a:solidFill>
                <a:latin typeface="Times New Roman"/>
              </a:rPr>
              <a:t>; 50-50/50 + 2/50 = 4%  . Ordinary tax is 30 %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imes New Roman"/>
              </a:rPr>
              <a:t>4% (1-.30) = </a:t>
            </a: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2.8 % net return after the tax</a:t>
            </a:r>
            <a:r>
              <a:rPr b="0" lang="tr-TR" sz="1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If dividents are not paid</a:t>
            </a:r>
            <a:r>
              <a:rPr b="0" lang="tr-TR" sz="1800" spc="-1" strike="noStrike">
                <a:solidFill>
                  <a:srgbClr val="ff0000"/>
                </a:solidFill>
                <a:latin typeface="Times New Roman"/>
              </a:rPr>
              <a:t>: 52-50/50+ 0/50 = 4% (capital gain tax 2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imes New Roman"/>
              </a:rPr>
              <a:t>4% (1-.20) = </a:t>
            </a: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3.2 % net return after the ta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F0543E4C-7ECC-4E3D-BDB1-A2FD1937F02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-3 (note for voting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mmon stockholders control the firm’s activities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indirectly by exercising their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voting rights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n the election of the board of directors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300"/>
            </a:br>
            <a:r>
              <a:rPr b="0" lang="tr-TR" sz="2300" spc="-1" strike="noStrike">
                <a:solidFill>
                  <a:srgbClr val="000000"/>
                </a:solidFill>
                <a:latin typeface="Times New Roman"/>
              </a:rPr>
              <a:t>Direct control is with the managers hired to act in the best interests of the firm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Times New Roman"/>
              </a:rPr>
              <a:t>Voting rights are arranged usually one vote per share of common stock. Some companies are organized as 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</a:rPr>
              <a:t>dual class firms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</a:rPr>
              <a:t>two classes of common stock are outstanding with different voting rights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 u="sng">
                <a:solidFill>
                  <a:srgbClr val="000000"/>
                </a:solidFill>
                <a:uFillTx/>
                <a:latin typeface="Times New Roman"/>
              </a:rPr>
              <a:t>To offset the reduced voting rights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r-TR" sz="2300" spc="-1" strike="noStrike">
                <a:solidFill>
                  <a:srgbClr val="000066"/>
                </a:solidFill>
                <a:latin typeface="Times New Roman"/>
              </a:rPr>
              <a:t>inferior class shares are often assigned higher divident rights.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A00F806C-8AAA-4DA4-BC05-61240295137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-4 (note for voting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Voting can be cumulative or  strai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mulative voting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number of votes assigned to each stockholder equals the number of shares held multiplied by the number of directors to be e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hare holder may assign all of his or her votes to a singe candidate or may spread them over mo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his methods permits minority stockholders to have some real say in the ele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number of shares needed to elect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irectors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[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# of shares outstanding)/(# of directors to be elected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] 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straight voting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: One director at a time. Owner of over half the voting shares can elect the entire board of directors.  (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example in page 227, 8-3 or 8-2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 vo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stockholders to vote by absentee ballot (e.g., by mai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EC1A2BCC-F13A-4D89-A280-617DC190DBE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-5 (note for voting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A firm has 1 million shares of common stocks outstanding and three directors up for election. (and there are 4 candidat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Cumulative vo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 million shares for 3 directors = 1 millionX 3= 3,000,000 vo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What if there are 4 candidates: the highest 3 gets the po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Straight vo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 million shares for 3 directors (not 3 mil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For each candidate there is an el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ou vote for each candidate sepe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If you are a big investor than in each election, you will be the strong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2A160E0A-A44B-4542-82DD-091F8A02253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eferred Stock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ferred stoc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ybrid securit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has characteristics of bo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n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on stock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Represents an ownership interest in the issuing firm, </a:t>
            </a:r>
            <a:r>
              <a:rPr b="0" lang="tr-TR" sz="1800" spc="-1" strike="noStrike">
                <a:solidFill>
                  <a:srgbClr val="ff0000"/>
                </a:solidFill>
                <a:latin typeface="Times New Roman"/>
              </a:rPr>
              <a:t>like </a:t>
            </a: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stocks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.  And it pays a fixed periodic (divident) </a:t>
            </a:r>
            <a:r>
              <a:rPr b="0" lang="tr-TR" sz="1800" spc="-1" strike="noStrike">
                <a:solidFill>
                  <a:srgbClr val="ff0000"/>
                </a:solidFill>
                <a:latin typeface="Times New Roman"/>
              </a:rPr>
              <a:t>like a </a:t>
            </a: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bond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ha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xed dividen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at are paid quarte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es not have voting righ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nless dividend payments are mi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If the dividents are not paid, the company can’t  be forced to bankrupc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Drawba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Not like coupon interest paid on corporate bonds, dividends are paid out of after tax earnings. This raises the cost of preferred stock relative to bonds for the sharehol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If the dividents are not paid, new investors will be reluctant to make investment. Divident should be a good one (costly!) to attract the invest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810D24FA-11F7-4660-AF35-3EAC4549625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eferred Stock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 &amp; Dividents...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Calculation of Preferred Stock Dividen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uppose you own a preferred stock that promises to pay an annual divident of 5 prcnt (in quarterly installmens). If the face value of the stock is $10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$100x .05= $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Quarterly divident = 5/4=1.2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000000"/>
                </a:solidFill>
                <a:uFillTx/>
                <a:latin typeface="Times New Roman"/>
              </a:rPr>
              <a:t>Typically, preferred stock is nonparticipating and cumulative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nparticipating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icipa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(about profit sharing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In Nonparticipating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divident is fixed  </a:t>
            </a:r>
            <a:r>
              <a:rPr b="0" lang="tr-TR" sz="1800" spc="-1" strike="noStrike">
                <a:solidFill>
                  <a:srgbClr val="00664d"/>
                </a:solidFill>
                <a:latin typeface="Times New Roman"/>
              </a:rPr>
              <a:t>as % or USD  and not effected from the increase in the prof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ncumulative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bout the divident payments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Cumulative divident payment means any </a:t>
            </a:r>
            <a:r>
              <a:rPr b="0" lang="tr-TR" sz="1800" spc="-1" strike="noStrike">
                <a:solidFill>
                  <a:srgbClr val="00664d"/>
                </a:solidFill>
                <a:latin typeface="Times New Roman"/>
              </a:rPr>
              <a:t>missed dividents must be made up before any common stock divident is paid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.) If noncumulative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, missed divident payments are never pai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7A4ED9C9-F5D4-4C2B-A161-311B2CA6AE5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.5 DERIVATIVE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of the most significant developments in financial markets in recent years has been the growth of futures, options, and related derivatives mark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instruments provide payoffs that depend on the values of other assets such as commodity prices, bond and stock prices, or market index val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is reason these instruments sometimes are called derivative assets, or contingent clai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ir values derive from or are contingent on the values of other ass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Espace réservé du numéro de diapositive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6CB039B-1CC4-4FFB-9A69-FE1D5EFC4EC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75960" y="0"/>
            <a:ext cx="8762760" cy="9144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- bill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-bill yields in the financial pages are quoted using the bank discount metho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3" descr="C:\Users\Mounira\Desktop\Mounira\Semester 1 2014\230\Quiz &amp; Exam\Table 5.5.jpg"/>
          <p:cNvPicPr/>
          <p:nvPr/>
        </p:nvPicPr>
        <p:blipFill>
          <a:blip r:embed="rId1"/>
          <a:stretch/>
        </p:blipFill>
        <p:spPr>
          <a:xfrm>
            <a:off x="76320" y="914400"/>
            <a:ext cx="8839080" cy="533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914400" y="2286000"/>
            <a:ext cx="7772400" cy="193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cc33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ut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to sell an asset at a specified exercise price on or before the exercise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914400" y="228600"/>
            <a:ext cx="775980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ll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to buy an asset at a specified exercise price on or before the exercise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Object 2"/>
              <p:cNvSpPr txBox="1"/>
              <p:nvPr/>
            </p:nvSpPr>
            <p:spPr>
              <a:xfrm>
                <a:off x="838080" y="4557600"/>
                <a:ext cx="79869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Buyer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eller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Call opt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ight to buy asse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bligation to sell asse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ut opt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ight to sell asse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bligation to buy asse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010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lue of an option at expiration is a function of the stock price and the exercise pr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ampl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 Option values given a exercise price of $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2"/>
              <p:cNvSpPr txBox="1"/>
              <p:nvPr/>
            </p:nvSpPr>
            <p:spPr>
              <a:xfrm>
                <a:off x="765000" y="2971800"/>
                <a:ext cx="7537680" cy="19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Stock Pri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$3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8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Call Value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ut Valu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e>
                          <m:r>
                            <m:t xml:space="preserve">5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230E10D-2BA8-4119-8881-01546FDC396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End of Chapter </a:t>
            </a: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br>
              <a:rPr sz="3200"/>
            </a:b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Thank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Espace réservé du numéro de diapositive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222458B6-537C-4C95-8356-19AA9DAEBFB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304920" y="1295280"/>
            <a:ext cx="8229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-bills use special rate quoting conventi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unt yields (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 Interest rate is quoted on an annual basis assuming a 360 day year as a percent of redemption price or fac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the face value of the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the discount price of the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the number of days until mat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may be converted to a bond equivalent yield (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be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comparison with bo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5"/>
              <p:cNvSpPr txBox="1"/>
              <p:nvPr/>
            </p:nvSpPr>
            <p:spPr>
              <a:xfrm>
                <a:off x="2438280" y="2514600"/>
                <a:ext cx="3581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Espace réservé du numéro de diapositive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244FC25D-59EB-48D9-B982-704AE72B954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457200" y="1371600"/>
            <a:ext cx="8229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are discount securities to bonds with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ond equivalent yields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be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vert bond equivalent yields int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ffective annual returns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A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4"/>
              <p:cNvSpPr txBox="1"/>
              <p:nvPr/>
            </p:nvSpPr>
            <p:spPr>
              <a:xfrm>
                <a:off x="2895480" y="2286000"/>
                <a:ext cx="26434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5"/>
              <p:cNvSpPr txBox="1"/>
              <p:nvPr/>
            </p:nvSpPr>
            <p:spPr>
              <a:xfrm>
                <a:off x="2579760" y="4038480"/>
                <a:ext cx="36590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AR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y</m:t>
                                    </m:r>
                                  </m:sub>
                                </m:sSub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5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T-Bill Prices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71680" y="1820520"/>
            <a:ext cx="8229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-Bill prices can be calculated from quotes (e.g., fro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e Wall Street Journ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by rearranging the discount yield eq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, by rearranging the bond equivalent yield eq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4"/>
              <p:cNvSpPr txBox="1"/>
              <p:nvPr/>
            </p:nvSpPr>
            <p:spPr>
              <a:xfrm>
                <a:off x="2575080" y="2647800"/>
                <a:ext cx="38224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il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5"/>
              <p:cNvSpPr txBox="1"/>
              <p:nvPr/>
            </p:nvSpPr>
            <p:spPr>
              <a:xfrm>
                <a:off x="2460600" y="4494240"/>
                <a:ext cx="333216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5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ill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ey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Mounira Ben Arab</cp:lastModifiedBy>
  <dcterms:modified xsi:type="dcterms:W3CDTF">2015-02-22T18:45:10Z</dcterms:modified>
  <cp:revision>384</cp:revision>
  <dc:subject/>
  <dc:title>FINANCIAL MARKETS AND INSTITIUTIONS: A Modern Perspective</dc:title>
</cp:coreProperties>
</file>