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34200" cy="10072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D0B-F8B2-4FB9-BB1F-BFBAE9FA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2FA-43E1-431C-A135-657D348A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904C-8805-4EC4-9DD6-457F7F0D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748-161E-417C-AD57-11BD4C57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38EB-C572-4931-9DE2-4CE15218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4FE4-01A8-4E33-AB31-A99120D9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77D2-A23A-4263-9F70-3D5EDCD1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76FC-39A5-4D11-A325-38394882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85EE-52B4-45CA-9B96-41B810D2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F410-8408-4BAB-A5D3-44F0BDBA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E3F3-081C-458C-9BA6-688E5C1E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4F9-4D48-4E0F-B561-F9257CE6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AAC2-1906-45BB-9768-C19FEFE2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3EE0-853F-4DB9-9472-BA83916F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06DE-3046-4A13-AEA6-C15D7F6C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FEC9-FB12-4966-9F17-30592B76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BBAB-E659-4F24-94AE-672AF316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5F2-AC3E-4086-8F49-8D2FFE00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550-14C8-4A46-ABBE-10187937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217D-45D5-49C6-9D5B-BF5A9E82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AF8D-C10E-444F-AFBC-DA116998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F3A-FCDE-48FF-8687-FF2590A3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3F70-C9D3-4840-9E87-9BAAC8ED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0821-2D25-4B2D-830A-D159BD48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AAEA-296B-4283-895E-3DAFC4A773C3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3372-EC22-4218-87EF-F146535EE40A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1.1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1.2" TargetMode="Externa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58680" y="376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 Light"/>
              </a:rPr>
              <a:t>Introduction to Computers and Java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0200" y="5281560"/>
            <a:ext cx="6400800" cy="10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uxiliary 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condary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k drives, CDs, DVDs, flash driv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or less permanent (nonvolati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measured in gigabytes (e.g. 50 gigabyte hard dr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its, Bytes, and Addre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22480" y="2030040"/>
            <a:ext cx="712152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digit with a value of either 0 or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y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sists of 8 b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byte in main memory resides at a numbered location called i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ddr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ain 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1868400" y="1692360"/>
            <a:ext cx="6419880" cy="4647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oring Dat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of all kinds (numbers, letters, strings of characters, audio, video, even programs) are encoded and stored using 1s and 0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more than a single byte is needed, several adjacent bytes are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ddress of the first byte is the address of the unit of by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i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groups of bytes in auxiliary memory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es have na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es are organized into group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rectori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programs are stored in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 files are copied from auxiliary memory to main memory in order to be r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0s and 1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hines with only 2 stable states are easy to make, but programming using only 0s and 1s is difficu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unately, the conversion of numbers, letters, strings of characters, audio, video, and programs is done automatic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et of instructions for a computer to fol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programs almost daily (email, word processors, video games, bank ATMs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ing the instruction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un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xecu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put and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ly, a computer receives two kinds of inpu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eeded by the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utput is the result(s) produced by following the instructions in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unning a Progra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440" y="1302840"/>
            <a:ext cx="754380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metimes the computer and the program are considered to be one uni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ers typically find this view to be more conveni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1"/>
          <a:stretch/>
        </p:blipFill>
        <p:spPr>
          <a:xfrm>
            <a:off x="1241280" y="1944720"/>
            <a:ext cx="7156440" cy="245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Operating Syste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perating syst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upervisory program that oversees the operation of the compu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perating system retrieves and starts program for y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l-known operating systems including: Microsoft Windows, Apple’s Mac OS, Linux, and UNI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86000" y="2071440"/>
            <a:ext cx="7300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view of computer hardware and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 program design and object-oriented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view of the Java programming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ptional) introduce applets and graphics bas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Languag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igh-level languag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relatively easy to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, C#, C++, Visual Basic, Python, Rub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fortunately, computer hardware does not understand high-level langu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a high-level language program must be translated into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ow-level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il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lates a program from a high-level language to a low-level language the computer can r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program by running the compiler on the high-level-language version of the program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urc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ilers produ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chine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ssembly-langu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ject progr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high-level languages need a different compiler for each type of computer and for each operating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ompilers are very large programs that are expensive to produ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Byte-Co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Jav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es not translate a Java program in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sembly langu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chine langu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a particular compu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, it translates a Java program in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yte-c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te-code is the machine language for a hypothetical computer (o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pret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called the Java Virtual Machi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Byte-Co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5120" y="1539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yte-code program is easy to translate into machine language for any particular compu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 called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terpre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ranslates each byte-code instruction, executing the resulting machine-language instructions on the particular computer before translating the next byte-code instr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Java programs today are executed using a Just-In-Time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piler in which byte-code is compiled as needed and stored for later reuse without needing to be re-compil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9040" y="46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ing, Interpreting, Runn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191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compiler to translate the Java program into byte-code (done using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ava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Java virtual machine for your computer to translate each byte-code instruction into machine language and to run the resulting machine-language instructions (done using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av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ortabilit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compiling a Java program into byte-code, that byte-code can be used on any computer with a byte-code interpreter and without a need to recomp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te-code can be sent over the Internet and used anywhere in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akes Java suitable for Internet applic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Load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typically consists of several piece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lass may have a separate author and each is compiled (translated into byte-code) separ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 load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nk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ther programming languages) automatically connects the classes toge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6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ompiling and Running a Program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397160"/>
            <a:ext cx="822960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3246480" y="1309680"/>
            <a:ext cx="4967280" cy="48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 Sip of Java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06320" y="1600200"/>
            <a:ext cx="708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tory of the Java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s and App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irst Java Application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ing, Compiling, and Running a Jav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69840" y="1945800"/>
            <a:ext cx="6816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Bas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ing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ip of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Sup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istory of Jav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991, James Gosling and Sun Microsystems began designing a language for home appliances (toasters, TVs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ing, because home appliances are controlled by many different chips (process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s were translated first into an intermediate language common to all appliance process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istory of Jav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the intermediate language was translated into the machine language for a particular appliance’s process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ance manufacturers weren’t impress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994, Gosling realized that his language would be ideal for a Web browser that could run programs over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 produced the browser known today as HotJa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pplications and Apple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kinds of java programs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pplic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pp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r progra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t to be run on your compu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tle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t to be sent to another location on the internet and run t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 First Java Applic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294920"/>
            <a:ext cx="72388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1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urier New"/>
              </a:rPr>
              <a:t>class First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9" descr=""/>
          <p:cNvPicPr/>
          <p:nvPr/>
        </p:nvPicPr>
        <p:blipFill>
          <a:blip r:embed="rId2"/>
          <a:srcRect l="3405" t="13971" r="2416" b="12003"/>
          <a:stretch/>
        </p:blipFill>
        <p:spPr>
          <a:xfrm>
            <a:off x="1571760" y="3127320"/>
            <a:ext cx="6810120" cy="2154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/>
            </a:outerShdw>
          </a:effectLst>
        </p:spPr>
      </p:pic>
      <p:sp>
        <p:nvSpPr>
          <p:cNvPr id="156" name="Text Box 7"/>
          <p:cNvSpPr/>
          <p:nvPr/>
        </p:nvSpPr>
        <p:spPr>
          <a:xfrm>
            <a:off x="7203960" y="3603600"/>
            <a:ext cx="1524240" cy="1008720"/>
          </a:xfrm>
          <a:prstGeom prst="rect">
            <a:avLst/>
          </a:prstGeom>
          <a:solidFill>
            <a:srgbClr val="9dc3e6"/>
          </a:solidFill>
          <a:ln w="0">
            <a:noFill/>
          </a:ln>
          <a:effectLst>
            <a:outerShdw dist="107932" dir="27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me Termin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son who writes a program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ogramm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son who interacts with the program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ack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library of classes that have been defined alre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mport java.util.Scann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me Termin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tem(s) inside parenthese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rgument(s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provide the information needed by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omething that can store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struction to the computer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t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it ends with a semicol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mmar rules for a programming language are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langu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nting to the Scre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3052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for sending output to the scre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method to print whatever is in parentheses to the scre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31840" y="1666800"/>
            <a:ext cx="9115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Courier New"/>
              </a:rPr>
              <a:t>System.out.println (“Whatever you want to print”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nting to the Scre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31800" y="231120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bject performs an action when you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vok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e of its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1028"/>
          <p:cNvSpPr/>
          <p:nvPr/>
        </p:nvSpPr>
        <p:spPr>
          <a:xfrm>
            <a:off x="566640" y="3497400"/>
            <a:ext cx="8577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Courier New"/>
              </a:rPr>
              <a:t>objectName.methodName(argumentsTheMethodNeeds</a:t>
            </a:r>
            <a:r>
              <a:rPr b="1" lang="en-US" sz="2300" spc="-1" strike="noStrike">
                <a:solidFill>
                  <a:srgbClr val="ed7d31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ing a Java Program or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81764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consists of one or more classes, which must be compiled before running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need not compile classes that accompany Java (e.g.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yste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lass should be in a separate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me of the file should be the same as the name of the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ing and Runn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integrated development environment) which combines a text editor with commands for compiling and running Java progr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Java program is compiled, the byte-code version of the program has the same name, but the ending is changed from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.jav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o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.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uter Basic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39680" y="1600200"/>
            <a:ext cx="76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ware and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Languages and Compil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Byte-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Sup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ing and Runn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can involve any number of clas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to run will contain the 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whe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asic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ing and Debug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ware Re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is a creative pro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can be learned by discovering the techniques used by experienced program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techniques are applicable to almost every programming language, including Ja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0040" y="52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-Oriented 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world consists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je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people, trees, cars, cities, airline reservations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can perform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cti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affect themselves and other objects in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-oriented programming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O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treats a program as a collection of objects that interact by means of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OP Termin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, appropriately,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of the same kind have the s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belong to the s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s within a class have a common set of methods and the same kinds of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each object can have it’s own data val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303120"/>
            <a:ext cx="822960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OP Design Princip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482480" y="2107800"/>
            <a:ext cx="720396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OP adheres to three primary design princi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and methods associated with any particular class are encapsulated (“put together in a capsule”), but only part of the contents is made acce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apsulation provides a means of using the class, but it omits the details of how the class wor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apsulation often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formation hi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ibility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utomobile consists of several parts and pieces and is capable of doing many useful th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wareness of the accelerator pedal, the brake pedal, and the steering wheel is important to the driv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wareness of the fuel injectors, the automatic braking control system, and the power steering pump is not important to the driv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Polymorphis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the Greek meaning “many form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ame program instruction adapts to mean different things in different contex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ethod name, used as an instruction, produces results that depend on the class of the object that used the meth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day analogy: “take time to recreate” causes different people to do different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bout polymorphism in Chapter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Inheritan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1332000" y="2639880"/>
            <a:ext cx="6534000" cy="310536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ardware and Softw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systems consist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ardwa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ware includes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angi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ts of computer sys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 includ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ogra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sets of instructions for the computer to foll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iarity with hardware basics helps us understand 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Inheritan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 can be organized us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heri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at lower levels inherits all the characteristics of classes above it in the hierarch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each level, classifications become more specialized by adding other characterist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classes are more inclusive; lower classes are less inclus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heritance in Jav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48960" y="1731960"/>
            <a:ext cx="773748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organize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erited” characteristics do not need to be repe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characteristics are ad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bout inheritance in chapter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lgorith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designing methods, programmers provide actions for objects to per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gorit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scribes a means of performing an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an algorithm is defined, expressing it in Java (or in another programming language) usually is eas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lgorith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96480" y="160020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gorithm is a set of instructions for solving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gorithm must be expressed completely and precis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s usually are expressed in English or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seudoc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xample: Total Cost of All Ite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number 0 on the whitebo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item on the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the cost of the item to the number on the white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 the number on the whiteboard with the result of this ad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ounce that the answer is the number written on the whitebo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eusable Compon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07720" y="1585800"/>
            <a:ext cx="78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rograms are created by combining components that exist alre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using components saves time and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used components are likely to be better developed, and more reli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components should designed to be reusable by other applic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esting and Debugg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minate errors by avoiding them in the first pl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efully design classes, algorithms and metho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efully code everything into Ja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your program with appropriate test cases (some where the answer is known), discover and fix any errors, then ret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rr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1264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rror in a program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u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minating error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bugg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kinds or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ntime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yntax Err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mmatical mistakes in 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rammatical rules for writing a program are very 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iler catches syntax errors and prints an error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using a period where a program expects a co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untime Err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s that are detected when your program is running, but not during compi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computer detects an error, it terminates the program and prints an error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attempting to divide by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ardware and 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modern computers have similar components inclu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devices (keyboard, mouse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 devices (display screen, printer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kinds of memory (main memory and auxiliary memor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gic Err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s that are not detected during compilation or while running, but which cause the program to produce incorrect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an attempt to calculate a Fahrenheit temperature from a Celsius temperature by multiplying by 9/5 and adding 23 instead of 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ftware Reus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s not usually created entirely from scratc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st contain components which already exi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usable classes are us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 class objects which are gene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va provides many cl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ocumentation on following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719280" y="1393920"/>
            <a:ext cx="7502400" cy="31716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ftware Reus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218" name="Group 11"/>
          <p:cNvGrpSpPr/>
          <p:nvPr/>
        </p:nvGrpSpPr>
        <p:grpSpPr>
          <a:xfrm>
            <a:off x="500040" y="1735200"/>
            <a:ext cx="4713120" cy="1618560"/>
            <a:chOff x="500040" y="1735200"/>
            <a:chExt cx="4713120" cy="1618560"/>
          </a:xfrm>
        </p:grpSpPr>
        <p:sp>
          <p:nvSpPr>
            <p:cNvPr id="219" name="Oval 8"/>
            <p:cNvSpPr/>
            <p:nvPr/>
          </p:nvSpPr>
          <p:spPr>
            <a:xfrm>
              <a:off x="500040" y="1735200"/>
              <a:ext cx="1751040" cy="8276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 flipH="1" flipV="1">
              <a:off x="2261880" y="2255040"/>
              <a:ext cx="1356840" cy="551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0"/>
            <p:cNvSpPr/>
            <p:nvPr/>
          </p:nvSpPr>
          <p:spPr>
            <a:xfrm>
              <a:off x="3551760" y="2711160"/>
              <a:ext cx="166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ackage na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6"/>
          <p:cNvGrpSpPr/>
          <p:nvPr/>
        </p:nvGrpSpPr>
        <p:grpSpPr>
          <a:xfrm>
            <a:off x="719280" y="2849400"/>
            <a:ext cx="4360320" cy="2286000"/>
            <a:chOff x="719280" y="2849400"/>
            <a:chExt cx="4360320" cy="2286000"/>
          </a:xfrm>
        </p:grpSpPr>
        <p:sp>
          <p:nvSpPr>
            <p:cNvPr id="223" name="AutoShape 12"/>
            <p:cNvSpPr/>
            <p:nvPr/>
          </p:nvSpPr>
          <p:spPr>
            <a:xfrm>
              <a:off x="719280" y="2849400"/>
              <a:ext cx="1200960" cy="2286000"/>
            </a:xfrm>
            <a:custGeom>
              <a:avLst/>
              <a:gdLst>
                <a:gd name="textAreaLeft" fmla="*/ 58320 w 1200960"/>
                <a:gd name="textAreaRight" fmla="*/ 1142640 w 1200960"/>
                <a:gd name="textAreaTop" fmla="*/ 58320 h 2286000"/>
                <a:gd name="textAreaBottom" fmla="*/ 2227680 h 2286000"/>
              </a:gdLst>
              <a:ahLst/>
              <a:rect l="textAreaLeft" t="textAreaTop" r="textAreaRight" b="textAreaBottom"/>
              <a:pathLst>
                <a:path w="21600" h="41109">
                  <a:moveTo>
                    <a:pt x="3600" y="0"/>
                  </a:moveTo>
                  <a:arcTo wR="3600" hR="3600" stAng="16200000" swAng="-5400000"/>
                  <a:lnTo>
                    <a:pt x="0" y="37509"/>
                  </a:lnTo>
                  <a:arcTo wR="3600" hR="3600" stAng="10800000" swAng="-5400000"/>
                  <a:lnTo>
                    <a:pt x="18000" y="411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 flipH="1" flipV="1">
              <a:off x="1933920" y="3615840"/>
              <a:ext cx="1495800" cy="329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5"/>
            <p:cNvSpPr/>
            <p:nvPr/>
          </p:nvSpPr>
          <p:spPr>
            <a:xfrm>
              <a:off x="3054240" y="3816000"/>
              <a:ext cx="202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lass na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9"/>
          <p:cNvGrpSpPr/>
          <p:nvPr/>
        </p:nvGrpSpPr>
        <p:grpSpPr>
          <a:xfrm>
            <a:off x="2365200" y="1735200"/>
            <a:ext cx="5833800" cy="3399840"/>
            <a:chOff x="2365200" y="1735200"/>
            <a:chExt cx="5833800" cy="3399840"/>
          </a:xfrm>
        </p:grpSpPr>
        <p:sp>
          <p:nvSpPr>
            <p:cNvPr id="227" name="AutoShape 17"/>
            <p:cNvSpPr/>
            <p:nvPr/>
          </p:nvSpPr>
          <p:spPr>
            <a:xfrm>
              <a:off x="2365200" y="1735200"/>
              <a:ext cx="5833800" cy="33998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5205600" y="1905120"/>
              <a:ext cx="22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escription of class Scan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03360" y="2265480"/>
            <a:ext cx="71690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and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ample Graphics Ap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ing Ovals and Cir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 and Position of Fig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ing Ar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ning and Closing an Ap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s and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that a method is an action which can be performed by an o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is section, we’ll name our object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anv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we’ll use it to draw figures inside an applet displ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 Sample Graphics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294920" y="1523880"/>
            <a:ext cx="725652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1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HappyFa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age 3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"/>
          <p:cNvPicPr/>
          <p:nvPr/>
        </p:nvPicPr>
        <p:blipFill>
          <a:blip r:embed="rId2"/>
          <a:srcRect l="2247" t="5076" r="2363" b="1973"/>
          <a:stretch/>
        </p:blipFill>
        <p:spPr>
          <a:xfrm>
            <a:off x="2522520" y="2911320"/>
            <a:ext cx="3844800" cy="313848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  <p:sp>
        <p:nvSpPr>
          <p:cNvPr id="236" name="Text Box 7"/>
          <p:cNvSpPr/>
          <p:nvPr/>
        </p:nvSpPr>
        <p:spPr>
          <a:xfrm>
            <a:off x="5651640" y="3922560"/>
            <a:ext cx="1523880" cy="1008720"/>
          </a:xfrm>
          <a:prstGeom prst="rect">
            <a:avLst/>
          </a:prstGeom>
          <a:solidFill>
            <a:srgbClr val="9dc3e6"/>
          </a:solidFill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 Sample Graphics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103480"/>
            <a:ext cx="822960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specifies what is drawn in the ap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invoked automatically when the applet is r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Coordinate Syste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501920" y="1474920"/>
            <a:ext cx="71848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098720" y="2263680"/>
            <a:ext cx="7448400" cy="383544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Coordinate Syste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227240" y="2454120"/>
            <a:ext cx="718344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x-coordinate the the number of pixels from the l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y-coordinate is the number of pixels from the top (not from the botto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rawing Ovals and Circ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drawO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draws only the outline of the ov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anvas.drawOval(100, 50, 90, 50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fillO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draws a filled-in ov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anvas.fillOval(100, 50, 90, 50)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Process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entral processing unit) or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e.g. Pentium process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program’s instru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n process only very simple instru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wer of computing comes from speed and program intrica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rawing Ovals and Circ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5880" y="20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drawOv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fillOv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s take four argu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two arguments indicate the upper-left corner of an invisible rectangle around the o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ast two arguments indicate the width and height of the o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ircle is just an oval whose height is the same as its wid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rawing Ovals and Circ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1.7 The Oval Drawn by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anvas.drawOval(100, 50, 90, 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1874880" y="2744640"/>
            <a:ext cx="6064200" cy="331956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ze and Positions of Figur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82240" y="1978200"/>
            <a:ext cx="75042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s and positions in a Java applet are given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i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of the display surface for the applet as being a two-dimensional grid of individual pi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rawing Ar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drawAr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draws an 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drawArc(100, 50, 200, 200, 180, 18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drawAr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takes six argu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four arguments are the same as the four arguments needed by the 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</a:rPr>
              <a:t>drawOv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ast two arguments indicate where the arc starts, and the number of degrees through which is swee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 degrees is horizontal and to the r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fying an Arc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9200" y="1337760"/>
            <a:ext cx="7692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8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2604960" y="2043000"/>
            <a:ext cx="5064120" cy="417996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fying an Arc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79200" y="1337760"/>
            <a:ext cx="7692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8b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rcRect l="0" t="0" r="0" b="-5892"/>
          <a:stretch/>
        </p:blipFill>
        <p:spPr>
          <a:xfrm>
            <a:off x="2468520" y="2027160"/>
            <a:ext cx="4991040" cy="416088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Running and Closing an Apple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ways to run an app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ed the applet in a Web page and run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let view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the I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corresponding ways to end an app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are running the applet from a web site, close the page or navigate away from the 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are using an applet viewer, use the mouse to click the close-window butt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completed an overview of computer hardware and 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introduced to program design and object-oriented programm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completed an overview of the Java programming langu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introduced to applets and graphics bas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ory ho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for the computer to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sults of intermediate process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kinds of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xiliary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ain 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ing memory used to st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urrent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ata the program is u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ults of intermediate calcu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measured in megabytes (e.g. 8 gigabytes of RA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M is short f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andom access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y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quantity of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7:48:18Z</dcterms:created>
  <dc:creator>Robert P. Burton</dc:creator>
  <dc:description/>
  <dc:language>en-US</dc:language>
  <cp:lastModifiedBy>Kenrick Mock</cp:lastModifiedBy>
  <dcterms:modified xsi:type="dcterms:W3CDTF">2014-04-06T10:01:16Z</dcterms:modified>
  <cp:revision>95</cp:revision>
  <dc:subject/>
  <dc:title>Chapter 1 Introduction to Computers and Java</dc:title>
</cp:coreProperties>
</file>