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34200" cy="10072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AA25-4563-40E8-B2B3-2B2B74F7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76FE-0325-4EC8-945F-0A6463DD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EED2-D81E-4566-8EFC-96EBFB7C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AEEB-A52A-4A34-B169-F7CAFAF3A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75A4-B790-4867-A454-065BF5DC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E8E6-A020-4BAC-9D93-78C1284F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7BA0-0394-4147-BED9-189B5888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8CFB-C6F0-44FE-8E9E-1CCC5D8B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D638-4C1A-48E2-A008-60AC86BB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AE3C-7BF6-446F-B011-887951FD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AF29-8F8B-4144-AD11-674F3303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5387-6D71-4BB7-A18B-EA6B9C24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1B8C-B3B6-432C-A6AD-2243AAFA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69ED-C873-4E01-8E9F-BC086C40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4601-D39C-4A5D-89DD-5F08C591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91A7-35D5-475D-A10A-9C21A4E6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6F34-E822-4316-A7AD-1715D103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55BF-B814-4DFE-B709-3A38D57A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2813-33BA-496A-9208-E66CFF86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17AC-71C5-4D75-8F9D-EA71574A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9036-403A-4FA0-8164-44CCE9DF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E95C-4F0E-43E6-85E2-93DE3614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9447-3C6B-4124-9A10-5BB5D10F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C677-941E-473F-BD16-DC7B3824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2A95-CC0C-4187-93BC-DD5F4F96B40B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685800" y="6400800"/>
            <a:ext cx="82296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6"/>
          <p:cNvSpPr/>
          <p:nvPr/>
        </p:nvSpPr>
        <p:spPr>
          <a:xfrm>
            <a:off x="685800" y="6400800"/>
            <a:ext cx="82296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2195640" y="525600"/>
            <a:ext cx="4505040" cy="1790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5653080" y="2313000"/>
            <a:ext cx="1609560" cy="399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CD00-B0E9-4BEE-98AB-4721A76DA224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1.1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1.2" TargetMode="Externa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58680" y="376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 Light"/>
              </a:rPr>
              <a:t>Introduction to Computers and Java</a:t>
            </a: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30200" y="5281560"/>
            <a:ext cx="6400800" cy="10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pter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uxiliary Memo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econdary mem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k drives, CDs, DVDs, flash driv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or less permanent (nonvolati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measured in gigabytes (e.g. 50 gigabyte hard driv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Bits, Bytes, and Address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22480" y="2030040"/>
            <a:ext cx="7121520" cy="36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digit with a value of either 0 or 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y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sists of 8 b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byte in main memory resides at a numbered location called it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ddr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ain Memo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16532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1.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1"/>
          <a:stretch/>
        </p:blipFill>
        <p:spPr>
          <a:xfrm>
            <a:off x="1868400" y="1692360"/>
            <a:ext cx="6419880" cy="4647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7f7f7f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toring Data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of all kinds (numbers, letters, strings of characters, audio, video, even programs) are encoded and stored using 1s and 0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more than a single byte is needed, several adjacent bytes are u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ddress of the first byte is the address of the unit of by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Fi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ge groups of bytes in auxiliary memory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i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les have na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les are organized into group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irectori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old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va programs are stored in fi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s files are copied from auxiliary memory to main memory in order to be ru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0s and 1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hines with only 2 stable states are easy to make, but programming using only 0s and 1s is difficul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unately, the conversion of numbers, letters, strings of characters, audio, video, and programs is done automatical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rogr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set of instructions for a computer to foll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use programs almost daily (email, word processors, video games, bank ATMs, etc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llowing the instructions i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unn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xecut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put and Out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mally, a computer receives two kinds of inpu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needed by the progr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utput is the result(s) produced by following the instructions in the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Running a Program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440" y="1302840"/>
            <a:ext cx="754380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1.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ometimes the computer and the program are considered to be one uni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mers typically find this view to be more conveni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10" descr=""/>
          <p:cNvPicPr/>
          <p:nvPr/>
        </p:nvPicPr>
        <p:blipFill>
          <a:blip r:embed="rId1"/>
          <a:stretch/>
        </p:blipFill>
        <p:spPr>
          <a:xfrm>
            <a:off x="1241280" y="1944720"/>
            <a:ext cx="7156440" cy="2451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7f7f7f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Operating System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perating syste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supervisory program that oversees the operation of the compu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perating system retrieves and starts program for y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ll-known operating systems including: Microsoft Windows, Apple’s Mac OS, Linux, and UNI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386000" y="2071440"/>
            <a:ext cx="73008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view of computer hardware and 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duce program design and object-oriented program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view of the Java programming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Optional) introduce applets and graphics bas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Languag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igh-level languag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relatively easy to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va, C#, C++, Visual Basic, Python, Rub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fortunately, computer hardware does not understand high-level languag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fore, a high-level language program must be translated into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ow-level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ile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mpile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lates a program from a high-level language to a low-level language the computer can ru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mpi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program by running the compiler on the high-level-language version of the program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ource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ilers produc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achine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ssembly-languag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bject progra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ile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high-level languages need a different compiler for each type of computer and for each operating syst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compilers are very large programs that are expensive to produ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Java Byte-Co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Jav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oes not translate a Java program into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ssembly langua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achine langua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a particular compu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ead, it translates a Java program into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yte-cod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te-code is the machine language for a hypothetical computer (or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pret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called the Java Virtual Machin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Java Byte-Co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5120" y="1539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yte-code program is easy to translate into machine language for any particular compu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gram called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terpret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ranslates each byte-code instruction, executing the resulting machine-language instructions on the particular computer before translating the next byte-code instru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Java programs today are executed using a Just-In-Time 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JI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mpiler in which byte-code is compiled as needed and stored for later reuse without needing to be re-compil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9040" y="46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iling, Interpreting, Runn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919160"/>
            <a:ext cx="82296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he compiler to translate the Java program into byte-code (done using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javac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and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he Java virtual machine for your computer to translate each byte-code instruction into machine language and to run the resulting machine-language instructions (done using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jav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and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ortabilit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compiling a Java program into byte-code, that byte-code can be used on any computer with a byte-code interpreter and without a need to recompi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te-code can be sent over the Internet and used anywhere in the wor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makes Java suitable for Internet applic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Loade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Java program typically consists of several piece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las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class may have a separate author and each is compiled (translated into byte-code) separate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lass load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called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inke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other programming languages) automatically connects the classes toge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66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Compiling and Running a Program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397160"/>
            <a:ext cx="822960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1.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1"/>
          <a:stretch/>
        </p:blipFill>
        <p:spPr>
          <a:xfrm>
            <a:off x="3246480" y="1309680"/>
            <a:ext cx="4967280" cy="4890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7f7f7f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 Sip of Java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606320" y="1600200"/>
            <a:ext cx="708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story of the Java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cations and Appl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irst Java Application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ing, Compiling, and Running a Java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869840" y="1945800"/>
            <a:ext cx="6816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 Bas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ing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ip of Ja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phics Suppl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History of Java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1991, James Gosling and Sun Microsystems began designing a language for home appliances (toasters, TVs, etc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llenging, because home appliances are controlled by many different chips (processo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ams were translated first into an intermediate language common to all appliance processo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History of Java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n the intermediate language was translated into the machine language for a particular appliance’s process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iance manufacturers weren’t impress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1994, Gosling realized that his language would be ideal for a Web browser that could run programs over the 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n produced the browser known today as HotJav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pplications and Apple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kinds of java programs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pplica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ppl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c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ular program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nt to be run on your compu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ttle appl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nt to be sent to another location on the internet and run t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 First Java Applic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294920"/>
            <a:ext cx="723888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1.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urier New"/>
              </a:rPr>
              <a:t>class First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9" descr=""/>
          <p:cNvPicPr/>
          <p:nvPr/>
        </p:nvPicPr>
        <p:blipFill>
          <a:blip r:embed="rId2"/>
          <a:srcRect l="3405" t="13971" r="2416" b="12003"/>
          <a:stretch/>
        </p:blipFill>
        <p:spPr>
          <a:xfrm>
            <a:off x="1571760" y="3127320"/>
            <a:ext cx="6810120" cy="2154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7f7f7f"/>
            </a:outerShdw>
          </a:effectLst>
        </p:spPr>
      </p:pic>
      <p:sp>
        <p:nvSpPr>
          <p:cNvPr id="156" name="Text Box 7"/>
          <p:cNvSpPr/>
          <p:nvPr/>
        </p:nvSpPr>
        <p:spPr>
          <a:xfrm>
            <a:off x="7203960" y="3603600"/>
            <a:ext cx="1524240" cy="1008720"/>
          </a:xfrm>
          <a:prstGeom prst="rect">
            <a:avLst/>
          </a:prstGeom>
          <a:solidFill>
            <a:srgbClr val="9dc3e6"/>
          </a:solidFill>
          <a:ln w="0">
            <a:noFill/>
          </a:ln>
          <a:effectLst>
            <a:outerShdw dist="107932" dir="2700000" blurRad="0" rotWithShape="0">
              <a:srgbClr val="7f7f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ome Terminolog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erson who writes a program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rogramm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erson who interacts with the program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s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ackag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library of classes that have been defined alread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mport java.util.Scanne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ome Terminolog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tem(s) inside parentheses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rgument(s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provide the information needed by metho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aria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something that can store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nstruction to the computer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tat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 it ends with a semicol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rammar rules for a programming language are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langu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inting to the Scree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73052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Courier New"/>
              </a:rPr>
              <a:t>System.o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n object for sending output to the scre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Courier New"/>
              </a:rPr>
              <a:t>printl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method to print whatever is in parentheses to the scre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31840" y="1666800"/>
            <a:ext cx="9115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Courier New"/>
              </a:rPr>
              <a:t>System.out.println (“Whatever you want to print”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inting to the Scree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31800" y="2311200"/>
            <a:ext cx="822960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bject performs an action when you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vok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a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e of its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 Box 1028"/>
          <p:cNvSpPr/>
          <p:nvPr/>
        </p:nvSpPr>
        <p:spPr>
          <a:xfrm>
            <a:off x="566640" y="3497400"/>
            <a:ext cx="8577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Courier New"/>
              </a:rPr>
              <a:t>objectName.methodName(argumentsTheMethodNeeds</a:t>
            </a:r>
            <a:r>
              <a:rPr b="1" lang="en-US" sz="2300" spc="-1" strike="noStrike">
                <a:solidFill>
                  <a:srgbClr val="ed7d31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418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iling a Java Program or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817640"/>
            <a:ext cx="82296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Java program consists of one or more classes, which must be compiled before running the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need not compile classes that accompany Java (e.g.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Syste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class should be in a separate fi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ame of the file should be the same as the name of the cla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iling and Runn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D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integrated development environment) which combines a text editor with commands for compiling and running Java progra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 Java program is compiled, the byte-code version of the program has the same name, but the ending is changed from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.jav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to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.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uter Basics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39680" y="1600200"/>
            <a:ext cx="764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rdware and Mem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ing Languages and Compil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va Byte-C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phics Suppl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iling and Runn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Java program can involve any number of clas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lass to run will contain the w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ublic static void main(String[] arg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whe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the 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Basics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-Oriented Program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gorith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ing and Debug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ftware Re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ing is a creative proc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ing can be learned by discovering the techniques used by experienced programm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techniques are applicable to almost every programming language, including Jav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0040" y="522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-Oriented Programm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20934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r world consists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bjec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people, trees, cars, cities, airline reservations, etc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s can perform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ction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affect themselves and other objects in the wor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-oriented programming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O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treats a program as a collection of objects that interact by means of a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OP Terminolog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s, appropriately,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bjec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on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etho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s of the same kind have the sam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belong to the sam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la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s within a class have a common set of methods and the same kinds of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each object can have it’s own data valu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303120"/>
            <a:ext cx="822960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OP Design Princip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482480" y="2107800"/>
            <a:ext cx="720396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OP adheres to three primary design princip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troduction to 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ata and methods associated with any particular class are encapsulated (“put together in a capsule”), but only part of the contents is made acces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apsulation provides a means of using the class, but it omits the details of how the class work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apsulation often is call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formation hid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ccessibility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utomobile consists of several parts and pieces and is capable of doing many useful th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wareness of the accelerator pedal, the brake pedal, and the steering wheel is important to the driv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wareness of the fuel injectors, the automatic braking control system, and the power steering pump is not important to the driv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troduction to Polymorphism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the Greek meaning “many form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ame program instruction adapts to mean different things in different contex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method name, used as an instruction, produces results that depend on the class of the object that used the meth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day analogy: “take time to recreate” causes different people to do different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about polymorphism in Chapter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troduction to Inheritanc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1.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7" descr=""/>
          <p:cNvPicPr/>
          <p:nvPr/>
        </p:nvPicPr>
        <p:blipFill>
          <a:blip r:embed="rId1"/>
          <a:stretch/>
        </p:blipFill>
        <p:spPr>
          <a:xfrm>
            <a:off x="1332000" y="2639880"/>
            <a:ext cx="6534000" cy="3105360"/>
          </a:xfrm>
          <a:prstGeom prst="rect">
            <a:avLst/>
          </a:prstGeom>
          <a:ln w="0">
            <a:noFill/>
          </a:ln>
          <a:effectLst>
            <a:outerShdw dist="114219" dir="2999180" blurRad="0" rotWithShape="0">
              <a:srgbClr val="7f7f7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Hardware and Softw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 systems consist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ardwa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oftwa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dware includes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angi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arts of computer syst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ftware include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rogram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sets of instructions for the computer to follo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miliarity with hardware basics helps us understand softwa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troduction to Inheritanc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es can be organized using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herit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lass at lower levels inherits all the characteristics of classes above it in the hierarch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each level, classifications become more specialized by adding other characteristi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er classes are more inclusive; lower classes are less inclus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heritance in Java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48960" y="1731960"/>
            <a:ext cx="773748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organize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herited” characteristics do not need to be repea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characteristics are ad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about inheritance in chapter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lgorith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designing methods, programmers provide actions for objects to perfo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lgorith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scribes a means of performing an a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an algorithm is defined, expressing it in Java (or in another programming language) usually is eas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lgorith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996480" y="1600200"/>
            <a:ext cx="768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lgorithm is a set of instructions for solving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lgorithm must be expressed completely and precise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gorithms usually are expressed in English or i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seudoco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xample: Total Cost of All Ite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the number 0 on the whiteboar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item on the 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the cost of the item to the number on the whitebo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lace the number on the whiteboard with the result of this addi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nounce that the answer is the number written on the whiteboar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Reusable Compon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107720" y="1585800"/>
            <a:ext cx="78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programs are created by combining components that exist alread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using components saves time and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used components are likely to be better developed, and more reli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components should designed to be reusable by other applic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esting and Debugg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iminate errors by avoiding them in the first pla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efully design classes, algorithms and metho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efully code everything into Jav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 your program with appropriate test cases (some where the answer is known), discover and fix any errors, then rete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rr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412640" y="160020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error in a program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u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iminating errors i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ebugg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kinds or err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 err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untime err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gic err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yntax Err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mmatical mistakes in a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rammatical rules for writing a program are very stri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mpiler catches syntax errors and prints an error mess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using a period where a program expects a co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Runtime Err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rors that are detected when your program is running, but not during compi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e computer detects an error, it terminates the program and prints an error mess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attempting to divide by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Hardware and Memo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modern computers have similar components inclu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devices (keyboard, mouse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put devices (display screen, printer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cess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kinds of memory (main memory and auxiliary memory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Logic Err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rors that are not detected during compilation or while running, but which cause the program to produce incorrect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an attempt to calculate a Fahrenheit temperature from a Celsius temperature by multiplying by 9/5 and adding 23 instead of 3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oftware Reus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s not usually created entirely from scratch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ost contain components which already exis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usable classes are us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ign class objects which are gene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ava provides many clas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documentation on following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" descr=""/>
          <p:cNvPicPr/>
          <p:nvPr/>
        </p:nvPicPr>
        <p:blipFill>
          <a:blip r:embed="rId1"/>
          <a:stretch/>
        </p:blipFill>
        <p:spPr>
          <a:xfrm>
            <a:off x="719280" y="1393920"/>
            <a:ext cx="7502400" cy="31716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oftware Reus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218" name="Group 11"/>
          <p:cNvGrpSpPr/>
          <p:nvPr/>
        </p:nvGrpSpPr>
        <p:grpSpPr>
          <a:xfrm>
            <a:off x="500040" y="1735200"/>
            <a:ext cx="4713120" cy="1618560"/>
            <a:chOff x="500040" y="1735200"/>
            <a:chExt cx="4713120" cy="1618560"/>
          </a:xfrm>
        </p:grpSpPr>
        <p:sp>
          <p:nvSpPr>
            <p:cNvPr id="219" name="Oval 8"/>
            <p:cNvSpPr/>
            <p:nvPr/>
          </p:nvSpPr>
          <p:spPr>
            <a:xfrm>
              <a:off x="500040" y="1735200"/>
              <a:ext cx="1751040" cy="8276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9"/>
            <p:cNvSpPr/>
            <p:nvPr/>
          </p:nvSpPr>
          <p:spPr>
            <a:xfrm flipH="1" flipV="1">
              <a:off x="2261880" y="2255040"/>
              <a:ext cx="1356840" cy="551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0"/>
            <p:cNvSpPr/>
            <p:nvPr/>
          </p:nvSpPr>
          <p:spPr>
            <a:xfrm>
              <a:off x="3551760" y="2711160"/>
              <a:ext cx="166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Package nam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16"/>
          <p:cNvGrpSpPr/>
          <p:nvPr/>
        </p:nvGrpSpPr>
        <p:grpSpPr>
          <a:xfrm>
            <a:off x="719280" y="2849400"/>
            <a:ext cx="4360320" cy="2286000"/>
            <a:chOff x="719280" y="2849400"/>
            <a:chExt cx="4360320" cy="2286000"/>
          </a:xfrm>
        </p:grpSpPr>
        <p:sp>
          <p:nvSpPr>
            <p:cNvPr id="223" name="AutoShape 12"/>
            <p:cNvSpPr/>
            <p:nvPr/>
          </p:nvSpPr>
          <p:spPr>
            <a:xfrm>
              <a:off x="719280" y="2849400"/>
              <a:ext cx="1200960" cy="2286000"/>
            </a:xfrm>
            <a:custGeom>
              <a:avLst/>
              <a:gdLst>
                <a:gd name="textAreaLeft" fmla="*/ 58320 w 1200960"/>
                <a:gd name="textAreaRight" fmla="*/ 1142640 w 1200960"/>
                <a:gd name="textAreaTop" fmla="*/ 58320 h 2286000"/>
                <a:gd name="textAreaBottom" fmla="*/ 2227680 h 2286000"/>
              </a:gdLst>
              <a:ahLst/>
              <a:rect l="textAreaLeft" t="textAreaTop" r="textAreaRight" b="textAreaBottom"/>
              <a:pathLst>
                <a:path w="21600" h="41109">
                  <a:moveTo>
                    <a:pt x="3600" y="0"/>
                  </a:moveTo>
                  <a:arcTo wR="3600" hR="3600" stAng="16200000" swAng="-5400000"/>
                  <a:lnTo>
                    <a:pt x="0" y="37509"/>
                  </a:lnTo>
                  <a:arcTo wR="3600" hR="3600" stAng="10800000" swAng="-5400000"/>
                  <a:lnTo>
                    <a:pt x="18000" y="411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4"/>
            <p:cNvSpPr/>
            <p:nvPr/>
          </p:nvSpPr>
          <p:spPr>
            <a:xfrm flipH="1" flipV="1">
              <a:off x="1933920" y="3615840"/>
              <a:ext cx="1495800" cy="329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5"/>
            <p:cNvSpPr/>
            <p:nvPr/>
          </p:nvSpPr>
          <p:spPr>
            <a:xfrm>
              <a:off x="3054240" y="3816000"/>
              <a:ext cx="202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Class nam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19"/>
          <p:cNvGrpSpPr/>
          <p:nvPr/>
        </p:nvGrpSpPr>
        <p:grpSpPr>
          <a:xfrm>
            <a:off x="2365200" y="1735200"/>
            <a:ext cx="5833800" cy="3399840"/>
            <a:chOff x="2365200" y="1735200"/>
            <a:chExt cx="5833800" cy="3399840"/>
          </a:xfrm>
        </p:grpSpPr>
        <p:sp>
          <p:nvSpPr>
            <p:cNvPr id="227" name="AutoShape 17"/>
            <p:cNvSpPr/>
            <p:nvPr/>
          </p:nvSpPr>
          <p:spPr>
            <a:xfrm>
              <a:off x="2365200" y="1735200"/>
              <a:ext cx="5833800" cy="33998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5205600" y="1905120"/>
              <a:ext cx="22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Description of class Scan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Graphics Supplement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503360" y="2265480"/>
            <a:ext cx="716904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s and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ample Graphics Appl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wing Ovals and Cir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ze and Position of Fig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wing Ar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nning and Closing an Appl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s and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all that a method is an action which can be performed by an obj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is section, we’ll name our object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canva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we’ll use it to draw figures inside an applet displ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 Sample Graphics Appl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294920" y="1523880"/>
            <a:ext cx="725652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1.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HappyFac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page 3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"/>
          <p:cNvPicPr/>
          <p:nvPr/>
        </p:nvPicPr>
        <p:blipFill>
          <a:blip r:embed="rId2"/>
          <a:srcRect l="2247" t="5076" r="2363" b="1973"/>
          <a:stretch/>
        </p:blipFill>
        <p:spPr>
          <a:xfrm>
            <a:off x="2522520" y="2911320"/>
            <a:ext cx="3844800" cy="3138480"/>
          </a:xfrm>
          <a:prstGeom prst="rect">
            <a:avLst/>
          </a:prstGeom>
          <a:ln w="0">
            <a:noFill/>
          </a:ln>
          <a:effectLst>
            <a:outerShdw dist="114219" dir="2999180" blurRad="0" rotWithShape="0">
              <a:srgbClr val="7f7f7f"/>
            </a:outerShdw>
          </a:effectLst>
        </p:spPr>
      </p:pic>
      <p:sp>
        <p:nvSpPr>
          <p:cNvPr id="236" name="Text Box 7"/>
          <p:cNvSpPr/>
          <p:nvPr/>
        </p:nvSpPr>
        <p:spPr>
          <a:xfrm>
            <a:off x="5651640" y="3922560"/>
            <a:ext cx="1523880" cy="1008720"/>
          </a:xfrm>
          <a:prstGeom prst="rect">
            <a:avLst/>
          </a:prstGeom>
          <a:solidFill>
            <a:srgbClr val="9dc3e6"/>
          </a:solidFill>
          <a:ln w="0">
            <a:noFill/>
          </a:ln>
          <a:effectLst>
            <a:outerShdw dist="114219" dir="2999180" blurRad="0" rotWithShape="0">
              <a:srgbClr val="7f7f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 Sample Graphics Appl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103480"/>
            <a:ext cx="822960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a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specifies what is drawn in the appl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a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is invoked automatically when the applet is ru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creen Coordinate System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501920" y="1474920"/>
            <a:ext cx="71848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1.6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1098720" y="2263680"/>
            <a:ext cx="7448400" cy="3835440"/>
          </a:xfrm>
          <a:prstGeom prst="rect">
            <a:avLst/>
          </a:prstGeom>
          <a:ln w="0">
            <a:noFill/>
          </a:ln>
          <a:effectLst>
            <a:outerShdw dist="114219" dir="2999180" blurRad="0" rotWithShape="0">
              <a:srgbClr val="7f7f7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creen Coordinate System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227240" y="2454120"/>
            <a:ext cx="718344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x-coordinate the the number of pixels from the lef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y-coordinate is the number of pixels from the top (not from the botto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rawing Ovals and Circ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drawOv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 draws only the outline of the ov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canvas.drawOval(100, 50, 90, 50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fillOv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 draws a filled-in ov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canvas.fillOval(100, 50, 90, 50)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Processo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central processing unit) or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hi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e.g. Pentium processo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cesso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cess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program’s instru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can process only very simple instru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ower of computing comes from speed and program intrica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rawing Ovals and Circ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15880" y="20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drawOv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fillOv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s take four argu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irst two arguments indicate the upper-left corner of an invisible rectangle around the ov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last two arguments indicate the width and height of the ov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ircle is just an oval whose height is the same as its wid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rawing Ovals and Circ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1.7 The Oval Drawn by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canvas.drawOval(100, 50, 90, 5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1"/>
          <a:stretch/>
        </p:blipFill>
        <p:spPr>
          <a:xfrm>
            <a:off x="1874880" y="2744640"/>
            <a:ext cx="6064200" cy="3319560"/>
          </a:xfrm>
          <a:prstGeom prst="rect">
            <a:avLst/>
          </a:prstGeom>
          <a:ln w="0">
            <a:noFill/>
          </a:ln>
          <a:effectLst>
            <a:outerShdw dist="114219" dir="2999180" blurRad="0" rotWithShape="0">
              <a:srgbClr val="7f7f7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ize and Positions of Figur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182240" y="1978200"/>
            <a:ext cx="750420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zes and positions in a Java applet are given i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ix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k of the display surface for the applet as being a two-dimensional grid of individual pix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rawing Arc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drawAr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 draws an ar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drawArc(100, 50, 200, 200, 180, 180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drawAr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 takes six argu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irst four arguments are the same as the four arguments needed by the </a:t>
            </a:r>
            <a:r>
              <a:rPr b="1" lang="en-US" sz="1800" spc="-1" strike="noStrike">
                <a:solidFill>
                  <a:srgbClr val="0070c0"/>
                </a:solidFill>
                <a:latin typeface="Courier New"/>
              </a:rPr>
              <a:t>drawOva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h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last two arguments indicate where the arc starts, and the number of degrees through which is sweep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 degrees is horizontal and to the righ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pecifying an Arc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79200" y="1337760"/>
            <a:ext cx="76928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1.8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7" descr=""/>
          <p:cNvPicPr/>
          <p:nvPr/>
        </p:nvPicPr>
        <p:blipFill>
          <a:blip r:embed="rId1"/>
          <a:stretch/>
        </p:blipFill>
        <p:spPr>
          <a:xfrm>
            <a:off x="2604960" y="2043000"/>
            <a:ext cx="5064120" cy="4179960"/>
          </a:xfrm>
          <a:prstGeom prst="rect">
            <a:avLst/>
          </a:prstGeom>
          <a:ln w="0">
            <a:noFill/>
          </a:ln>
          <a:effectLst>
            <a:outerShdw dist="114219" dir="2999180" blurRad="0" rotWithShape="0">
              <a:srgbClr val="7f7f7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pecifying an Arc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79200" y="1337760"/>
            <a:ext cx="76928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1.8b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1"/>
          <a:srcRect l="0" t="0" r="0" b="-5892"/>
          <a:stretch/>
        </p:blipFill>
        <p:spPr>
          <a:xfrm>
            <a:off x="2468520" y="2027160"/>
            <a:ext cx="4991040" cy="4160880"/>
          </a:xfrm>
          <a:prstGeom prst="rect">
            <a:avLst/>
          </a:prstGeom>
          <a:ln w="0">
            <a:noFill/>
          </a:ln>
          <a:effectLst>
            <a:outerShdw dist="114219" dir="2999180" blurRad="0" rotWithShape="0">
              <a:srgbClr val="7f7f7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Running and Closing an Applet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o ways to run an apple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bed the applet in a Web page and run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pplet view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the I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o corresponding ways to end an apple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are running the applet from a web site, close the page or navigate away from the p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are using an applet viewer, use the mouse to click the close-window butt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completed an overview of computer hardware and softwa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been introduced to program design and object-oriented programm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completed an overview of the Java programming langu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been introduced to applets and graphics basi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mo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ory hol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for the computer to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results of intermediate process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kinds of mem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 mem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xiliary mem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ain memo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ing memory used to st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urrent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ata the program is u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sults of intermediate calcul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measured in megabytes (e.g. 8 gigabytes of RA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M is short f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andom access mem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y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 quantity of mem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0T17:48:18Z</dcterms:created>
  <dc:creator>Robert P. Burton</dc:creator>
  <dc:description/>
  <dc:language>en-US</dc:language>
  <cp:lastModifiedBy>Kenrick Mock</cp:lastModifiedBy>
  <dcterms:modified xsi:type="dcterms:W3CDTF">2014-04-06T10:01:16Z</dcterms:modified>
  <cp:revision>95</cp:revision>
  <dc:subject/>
  <dc:title>Chapter 1 Introduction to Computers and Java</dc:title>
</cp:coreProperties>
</file>