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DCD-7A28-4EDC-92B7-66A3C046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D17-AA9A-4F8B-AA3D-91145247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DC6-7118-4BE8-9BFB-33795EC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B66-5215-44EA-9D65-ACC616EB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A43-9EEA-4DC4-BEB3-FF57A8E6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BC7F-A3C7-4772-905E-624EB201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86FF-D70D-4AB6-A2F6-68C7478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C37B-35E5-4E93-9BF3-815EDA3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144C-6D7B-417A-AC6C-B5BC1B8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ABB-C42D-4ABA-997E-BF9B89C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AA14-A6B5-4E0C-83BF-895E436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4F7-5EE2-4258-BD0B-C4440F75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AB33-5425-48AD-B5DC-999BCB4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1756-43D9-4D3D-B366-F11DE16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C45-BDA9-45AB-A625-7466DB6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0F5-C09E-4BC7-9636-73EE8CE7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A557-9DD3-4C53-BBB4-8825BE30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24B-F035-4398-98FF-2306B81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D2E-B662-4C3A-8C7F-77F8CDB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478-2249-4CD4-AC63-7D8E74CC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1B8-8A6E-4813-9E67-D6D3B14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9C9-BE81-49B0-93DD-A1679BF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9A4-41B2-41A8-85BE-C7F3CA7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664-D99C-4768-BE3A-55FC63C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B977-05C9-4994-8C03-BB4D1781803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3C2-FCB5-48A9-A3B5-51216397E78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2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8680" y="376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 Light"/>
              </a:rPr>
              <a:t>Introduction to Computers and Java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0200" y="5281560"/>
            <a:ext cx="640080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uxiliary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ondary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k drives, CDs, DVDs, flash driv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or less permanent (nonvolat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gigabytes (e.g. 50 gigabyte hard dr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ts, Bytes, and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22480" y="2030040"/>
            <a:ext cx="712152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igit with a value of either 0 or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sts of 8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yte in main memory resides at a numbered location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d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868400" y="1692360"/>
            <a:ext cx="6419880" cy="464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oring Da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of all kinds (numbers, letters, strings of characters, audio, video, even programs) are encoded and stored using 1s and 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ore than a single byte is needed, several adjacent bytes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dress of the first byte is the address of the unit of b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i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of bytes in auxiliary memor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have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are organized into group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or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programs are stored in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files are copied from auxiliary memory to main memory in order to be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0s and 1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with only 2 stable states are easy to make, but programming using only 0s and 1s is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unately, the conversion of numbers, letters, strings of characters, audio, video, and programs is done automat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et of instructions for a computer to fol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programs almost daily (email, word processors, video games, bank ATM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instruction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 and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a computer receives two kinds of inp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eded by the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is the result(s) produced by following the instructions 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ning a Progra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302840"/>
            <a:ext cx="75438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times the computer and the program are considered to be one un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s typically find this view to be more conven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241280" y="1944720"/>
            <a:ext cx="7156440" cy="245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perating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pervisory program that oversees the operation of the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rating system retrieves and starts program for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known operating systems including: Microsoft Windows, Apple’s Mac OS, Linux, and UNI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86000" y="2071440"/>
            <a:ext cx="7300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computer hardware and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program design and 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the Jav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introduce applets and graphics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Langua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level langu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, C#, C++, Visual Basic, Python, Ru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, computer hardware does not understand high-level langu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high-level language program must be translated in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w-level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s a program from a high-level language to a low-level language the computer can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 by running the compiler on the high-level-language version of the program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rs pro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ssembly-langu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high-level languages need a different compiler for each type of computer and for each operating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pilers are very large programs that are expensive to produ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translate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mbly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particular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it translates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te-code is the machine language for a hypothetical computer (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called the Java Virtual Mach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5120" y="1539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yte-code program is easy to translate into machine language for any particular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lates each byte-code instruction, executing the resulting machine-language instructions on the particular computer before translating the next byte-code i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Java programs today are executed using a Just-In-Time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iler in which byte-code is compiled as needed and stored for later reuse without needing to be re-compi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, Interpreting,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compiler to translate the Java program into byte-code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Java virtual machine for your computer to translate each byte-code instruction into machine language and to run the resulting machine-language instructions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orta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ing a Java program into byte-code, that byte-code can be used on any computer with a byte-code interpreter and without a need to recomp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-code can be sent over the Internet and used anywher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Java suitable for Internet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Lo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typically consists of several piec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may have a separate author and each is compiled (translated into byte-code)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loa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k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programming languages) automatically connects the classe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mpiling and Running a Pro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9716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246480" y="1309680"/>
            <a:ext cx="4967280" cy="48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ip of Java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06320" y="1600200"/>
            <a:ext cx="708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st Java Applic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, Compiling, and Running 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69840" y="1945800"/>
            <a:ext cx="6816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p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1, James Gosling and Sun Microsystems began designing a language for home appliances (toasters, TV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ing, because home appliances are controlled by many different chips (process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were translated first into an intermediate language common to all appliance process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intermediate language was translated into the machine language for a particular appliance’s process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ance manufacturers weren’t impres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4, Gosling realized that his language would be ideal for a Web browser that could run programs over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 produced the browser known today as Hot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s and Appl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java program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run on your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sent to another location on the internet and run t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First Java 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294920"/>
            <a:ext cx="72388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urier New"/>
              </a:rPr>
              <a:t>class First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rcRect l="3405" t="13971" r="2416" b="12003"/>
          <a:stretch/>
        </p:blipFill>
        <p:spPr>
          <a:xfrm>
            <a:off x="1571760" y="3127320"/>
            <a:ext cx="681012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7203960" y="3603600"/>
            <a:ext cx="152424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writes a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interacts with the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ibrary of classes that have been defined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tem(s) inside parenthe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gument(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the information needed by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omething that can stor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ruction to the computer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it ends with a semicol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mar rules for a programming language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3052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for sending output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to print whatever is in parentheses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31840" y="1666800"/>
            <a:ext cx="91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.println (“Whatever you want to print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31800" y="23112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ject performs an action 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of it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028"/>
          <p:cNvSpPr/>
          <p:nvPr/>
        </p:nvSpPr>
        <p:spPr>
          <a:xfrm>
            <a:off x="566640" y="3497400"/>
            <a:ext cx="857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objectName.methodName(argumentsTheMethodNeeds</a:t>
            </a:r>
            <a:r>
              <a:rPr b="1" lang="en-US" sz="2300" spc="-1" strike="noStrike">
                <a:solidFill>
                  <a:srgbClr val="ed7d31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 Java Program o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1764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onsists of one or more classes, which must be compiled before running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not compile classes that accompany Java (e.g.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should be in a separat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file should be the same as the name of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tegrated development environment) which combines a text editor with commands for compiling and running Java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Java program is compiled, the byte-code version of the program has the same name, but the ending is changed from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o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uter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9680" y="1600200"/>
            <a:ext cx="76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s and Compi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Byte-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an involve any number of 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o run will contain th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and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s a creative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can be learned by discovering the techniques used by experienced program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echniques are applicable to almost every programming language, including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52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-Oriented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world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eople, trees, cars, cities, airline reservation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can perfor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ffect themselves and other objects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reats a program as a collection of objects that interact by means of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, appropriately,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same kind have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elong to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s within a class have a common set of methods and the same kinds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ach object can have it’s own data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0312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Design Princi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82480" y="2107800"/>
            <a:ext cx="720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OP adheres to three primary design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and methods associated with any particular class are encapsulated (“put together in a capsule”), but only part of the contents is made acce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provides a means of using the class, but it omits the details of how the class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often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ibility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tomobile consists of several parts and pieces and is capable of doing many useful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accelerator pedal, the brake pedal, and the steering wheel is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fuel injectors, the automatic braking control system, and the power steering pump is not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Polymorphi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e Greek meaning “many form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program instruction adapts to mean different things in different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name, used as an instruction, produces results that depend on the class of the object that used the 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day analogy: “take time to recreate” causes different people to do differ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polymorphism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332000" y="2639880"/>
            <a:ext cx="6534000" cy="31053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Softw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ystems consis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ang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s of computer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includ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ets of instructions for the computer to fol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ty with hardware basics helps us underst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can be organized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at lower levels inherits all the characteristics of classes above it in the hierarc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level, classifications become more specialized by adding other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classes are more inclusive; lower classes are less inclu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heritance in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8960" y="1731960"/>
            <a:ext cx="77374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organiz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ed” characteristics do not need to be rep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haracteristics are ad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inheritance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designing methods, programmers provide actions for objects to per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cribes a means of performing an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n algorithm is defined, expressing it in Java (or in another programming language) usually i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64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is a set of instructions for solving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must be expressed completely and precis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 usually are expressed in English or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: Total Cost of All Ite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umber 0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tem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e cost of the item to the number on the white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number on the whiteboard with the result of this ad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 that the answer is the number writte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usable Compon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7720" y="158580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created by combining components that exis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components saves time and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d components are likely to be better developed, and more rel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mponents should designed to be reusable by other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and Debug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errors by avoiding them in the first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design classes, algorithms and metho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code everything into 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your program with appropriate test cases (some where the answer is known), discover and fix any errors, then re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1264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ror in a progra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ing error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bug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kinds 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time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tical mistake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ammatical rules for writing a program are very 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catches syntax errors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sing a period where a program expects a co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time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detected when your program is running, but not during comp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detects an error, it terminates the program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ttempting to divide by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odern computers have similar component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devices (keyboard, mous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devices (display screen, print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kinds of memory (main memory and auxiliary memo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gic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not detected during compilation or while running, but which cause the program to produce incorrec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n attempt to calculate a Fahrenheit temperature from a Celsius temperature by multiplying by 9/5 and adding 23 instead of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s not usually created entirely from scrat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contain components which already ex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usable classes are us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lass objects which are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provides many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ocumentation on following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19280" y="1393920"/>
            <a:ext cx="7502400" cy="317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00040" y="1735200"/>
            <a:ext cx="4713120" cy="1618560"/>
            <a:chOff x="500040" y="1735200"/>
            <a:chExt cx="4713120" cy="1618560"/>
          </a:xfrm>
        </p:grpSpPr>
        <p:sp>
          <p:nvSpPr>
            <p:cNvPr id="219" name="Oval 8"/>
            <p:cNvSpPr/>
            <p:nvPr/>
          </p:nvSpPr>
          <p:spPr>
            <a:xfrm>
              <a:off x="500040" y="1735200"/>
              <a:ext cx="1751040" cy="82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H="1" flipV="1">
              <a:off x="2261880" y="2255040"/>
              <a:ext cx="1356840" cy="551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3551760" y="2711160"/>
              <a:ext cx="16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ackage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719280" y="2849400"/>
            <a:ext cx="4360320" cy="2286000"/>
            <a:chOff x="719280" y="2849400"/>
            <a:chExt cx="4360320" cy="2286000"/>
          </a:xfrm>
        </p:grpSpPr>
        <p:sp>
          <p:nvSpPr>
            <p:cNvPr id="223" name="AutoShape 12"/>
            <p:cNvSpPr/>
            <p:nvPr/>
          </p:nvSpPr>
          <p:spPr>
            <a:xfrm>
              <a:off x="719280" y="2849400"/>
              <a:ext cx="1200960" cy="228600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2286000"/>
                <a:gd name="textAreaBottom" fmla="*/ 2227680 h 2286000"/>
              </a:gdLst>
              <a:ahLst/>
              <a:rect l="textAreaLeft" t="textAreaTop" r="textAreaRight" b="textAreaBottom"/>
              <a:pathLst>
                <a:path w="21600" h="41109">
                  <a:moveTo>
                    <a:pt x="3600" y="0"/>
                  </a:moveTo>
                  <a:arcTo wR="3600" hR="3600" stAng="16200000" swAng="-5400000"/>
                  <a:lnTo>
                    <a:pt x="0" y="37509"/>
                  </a:lnTo>
                  <a:arcTo wR="3600" hR="3600" stAng="10800000" swAng="-5400000"/>
                  <a:lnTo>
                    <a:pt x="18000" y="4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 flipH="1" flipV="1">
              <a:off x="1933920" y="3615840"/>
              <a:ext cx="1495800" cy="32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3054240" y="3816000"/>
              <a:ext cx="20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lass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365200" y="1735200"/>
            <a:ext cx="5833800" cy="3399840"/>
            <a:chOff x="2365200" y="1735200"/>
            <a:chExt cx="5833800" cy="3399840"/>
          </a:xfrm>
        </p:grpSpPr>
        <p:sp>
          <p:nvSpPr>
            <p:cNvPr id="227" name="AutoShape 17"/>
            <p:cNvSpPr/>
            <p:nvPr/>
          </p:nvSpPr>
          <p:spPr>
            <a:xfrm>
              <a:off x="2365200" y="1735200"/>
              <a:ext cx="5833800" cy="33998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5205600" y="190512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 of class Sca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3360" y="2265480"/>
            <a:ext cx="71690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vals and 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and Position of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Ar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nd Closing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s an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a method is an action which can be performed by an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, we’ll name our object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’ll use it to draw figures inside an applet displ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4920" y="1523880"/>
            <a:ext cx="72565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HappyFa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ge 3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rcRect l="2247" t="5076" r="2363" b="1973"/>
          <a:stretch/>
        </p:blipFill>
        <p:spPr>
          <a:xfrm>
            <a:off x="2522520" y="2911320"/>
            <a:ext cx="3844800" cy="31384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  <p:sp>
        <p:nvSpPr>
          <p:cNvPr id="236" name="Text Box 7"/>
          <p:cNvSpPr/>
          <p:nvPr/>
        </p:nvSpPr>
        <p:spPr>
          <a:xfrm>
            <a:off x="5651640" y="3922560"/>
            <a:ext cx="152388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specifies what is drawn in the ap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invoked automatically when the applet is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01920" y="1474920"/>
            <a:ext cx="71848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98720" y="2263680"/>
            <a:ext cx="7448400" cy="383544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27240" y="2454120"/>
            <a:ext cx="718344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x-coordinate the the number of pixels from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y-coordinate is the number of pixels from the top (not from the bott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only the outline of the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 filled-in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fillOval(100, 50, 90, 50)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cess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entral processing unit) 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.g. Pentium process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’s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process only very simple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of computing comes from speed and program intric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588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s take four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wo arguments indicate the upper-left corner of an invisible rectangle around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the width and height of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 just an oval whose height is the same as its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1.7 The Oval Drawn by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874880" y="2744640"/>
            <a:ext cx="6064200" cy="33195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ze and Positions of Figur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2240" y="1978200"/>
            <a:ext cx="75042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s and positions in a Java applet are give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the display surface for the applet as being a two-dimensional grid of individual 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Ar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n 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drawArc(100, 50, 200, 200, 180, 18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takes six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our arguments are the same as the four arguments needed by the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where the arc starts, and the number of degrees through which is swe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degrees is horizontal and to the r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2604960" y="2043000"/>
            <a:ext cx="5064120" cy="41799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0" t="0" r="0" b="-5892"/>
          <a:stretch/>
        </p:blipFill>
        <p:spPr>
          <a:xfrm>
            <a:off x="2468520" y="2027160"/>
            <a:ext cx="4991040" cy="41608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Running and Closing an Apple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the applet in a Web page and ru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et vie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rresponding ways to end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unning the applet from a web site, close the page or navigate away from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using an applet viewer, use the mouse to click the close-window bu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computer hardware 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program design and object-oriented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the Java programming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applets and graphics bas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for the computer to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s of intermediate proces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xiliary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memory used to st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urr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he program is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intermediat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megabytes (e.g. 8 gigabytes of 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 is short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quantity of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48:18Z</dcterms:created>
  <dc:creator>Robert P. Burton</dc:creator>
  <dc:description/>
  <dc:language>en-US</dc:language>
  <cp:lastModifiedBy>Kenrick Mock</cp:lastModifiedBy>
  <dcterms:modified xsi:type="dcterms:W3CDTF">2014-04-06T10:01:16Z</dcterms:modified>
  <cp:revision>95</cp:revision>
  <dc:subject/>
  <dc:title>Chapter 1 Introduction to Computers and Java</dc:title>
</cp:coreProperties>
</file>