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34200" cy="10072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FF06-E349-4B27-8942-48756280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F7D-0AA9-4EC8-97DC-94E2E85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D9DE-31BB-410C-BE82-4D2749EF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1AC-387C-4BB8-8B49-EB15EE83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0A24-F805-4044-A015-78C909F0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868A-C5F0-40A0-B4D7-8E517167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58F4-58EA-4935-85A0-6ECED214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9868-172C-46C0-B8A3-334471E9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CD59-EF38-4591-A080-F1450B56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5A36-FA42-4B39-B5C0-58F4E2D6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6646-442C-4681-8D72-BF0303F0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DBD2-D01F-4C58-AE4A-CC6B95DD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E043-5A17-47DD-BB77-79211C7C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27A9-584B-4D51-881F-45AF73B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8E4E-C054-45FB-AAF4-139D714C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DCCD-161F-4936-999C-AE8062292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FE19-B53C-4D47-8283-7F293E0D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252-329A-4D67-A300-C36778DF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D85C-10BD-43C6-BDE5-C643D5D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E56-B1BB-43C1-BDEF-64ECA6F4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AF0-4DA7-49BC-998E-D67081D8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9CEA-3A17-4BD2-81B6-DE4AB2D5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A2F3-8141-40C3-A3E8-6C14DAD7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7FB-D661-473B-BB69-84158B16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A9DD-797F-43D6-BE6B-7707CDA5EF9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B959-5F4E-4076-8D2F-4A60ACDD51CB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1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CodeSamples1.htm#Listing 1.2" TargetMode="Externa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58680" y="376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alibri Light"/>
              </a:rPr>
              <a:t>Introduction to Computers and Java</a:t>
            </a: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0200" y="5281560"/>
            <a:ext cx="6400800" cy="10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pter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uxiliary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condary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k drives, CDs, DVDs, flash driv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or less permanent (nonvolati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gigabytes (e.g. 50 gigabyte hard dr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ts, Bytes, and Addre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22480" y="2030040"/>
            <a:ext cx="7121520" cy="36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digit with a value of either 0 or 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sists of 8 bi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byte in main memory resides at a numbered location called it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dd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1868400" y="1692360"/>
            <a:ext cx="6419880" cy="464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oring Dat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of all kinds (numbers, letters, strings of characters, audio, video, even programs) are encoded and stored using 1s and 0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more than a single byte is needed, several adjacent bytes are u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address of the first byte is the address of the unit of b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i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groups of bytes in auxiliary memory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have na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les are organized into group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irectori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old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programs are stored in fi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files are copied from auxiliary memory to main memory in order to be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0s and 1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hines with only 2 stable states are easy to make, but programming using only 0s and 1s is difficul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tunately, the conversion of numbers, letters, strings of characters, audio, video, and programs is done automatic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et of instructions for a computer to fol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use programs almost daily (email, word processors, video games, bank ATM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ing the instruction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put and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ly, a computer receives two kinds of inp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eded by the progr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utput is the result(s) produced by following the instructions in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ning a Progra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440" y="1302840"/>
            <a:ext cx="754380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times the computer and the program are considered to be one uni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s typically find this view to be more conveni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1241280" y="1944720"/>
            <a:ext cx="7156440" cy="245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Operating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perating syste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supervisory program that oversees the operation of the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perating system retrieves and starts program for y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known operating systems including: Microsoft Windows, Apple’s Mac OS, Linux, and UNI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86000" y="2071440"/>
            <a:ext cx="7300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computer hardware and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roduce program design and 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view of the Java programming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ptional) introduce applets and graphics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Languag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igh-level langua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relatively easy to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va, C#, C++, Visual Basic, Python, Rub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fortunately, computer hardware does not understand high-level languag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fore, a high-level language program must be translated in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low-level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lates a program from a high-level language to a low-level language the computer can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 by running the compiler on the high-level-language version of the program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c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ilers produc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ssembly-langu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high-level languages need a different compiler for each type of computer and for each operating syst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ompilers are very large programs that are expensive to produ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Jav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oes not translate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sembly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chine langua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a particular compu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, it translates a Java program in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yte-c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te-code is the machine language for a hypothetical computer (o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called the Java Virtual Mach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Java Byte-Co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5120" y="1539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byte-code program is easy to translate into machine language for any particular compu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gram called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terpre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ranslates each byte-code instruction, executing the resulting machine-language instructions on the particular computer before translating the next byte-code instr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Java programs today are executed using a Just-In-Time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JI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iler in which byte-code is compiled as needed and stored for later reuse without needing to be re-compil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463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, Interpreting,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1916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compiler to translate the Java program into byte-code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the Java virtual machine for your computer to translate each byte-code instruction into machine language and to run the resulting machine-language instructions (done usi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av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and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orta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ompiling a Java program into byte-code, that byte-code can be used on any computer with a byte-code interpreter and without a need to recomp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-code can be sent over the Internet and used anywhere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makes Java suitable for Internet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Loade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typically consists of several piece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may have a separate author and each is compiled (translated into byte-code) separ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 loa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inke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programming languages) automatically connects the classes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ompiling and Running a Program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39716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246480" y="1309680"/>
            <a:ext cx="4967280" cy="48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ip of Java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606320" y="1600200"/>
            <a:ext cx="708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the Java Langu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and 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First Java Application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, Compiling, and Running a Jav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69840" y="1945800"/>
            <a:ext cx="6816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Ba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ing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ip of Ja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1, James Gosling and Sun Microsystems began designing a language for home appliances (toasters, TV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ing, because home appliances are controlled by many different chips (process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s were translated first into an intermediate language common to all appliance process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istory of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n the intermediate language was translated into the machine language for a particular appliance’s process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iance manufacturers weren’t impress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94, Gosling realized that his language would be ideal for a Web browser that could run programs over the 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 produced the browser known today as Hot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pplications and Apple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java program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ic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run on your compu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ttle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t to be sent to another location on the internet and run t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First Java Applic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294920"/>
            <a:ext cx="723888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urier New"/>
              </a:rPr>
              <a:t>class First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9" descr=""/>
          <p:cNvPicPr/>
          <p:nvPr/>
        </p:nvPicPr>
        <p:blipFill>
          <a:blip r:embed="rId2"/>
          <a:srcRect l="3405" t="13971" r="2416" b="12003"/>
          <a:stretch/>
        </p:blipFill>
        <p:spPr>
          <a:xfrm>
            <a:off x="1571760" y="3127320"/>
            <a:ext cx="6810120" cy="2154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</p:pic>
      <p:sp>
        <p:nvSpPr>
          <p:cNvPr id="156" name="Text Box 7"/>
          <p:cNvSpPr/>
          <p:nvPr/>
        </p:nvSpPr>
        <p:spPr>
          <a:xfrm>
            <a:off x="7203960" y="3603600"/>
            <a:ext cx="152424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07932" dir="270000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writes a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rogramm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erson who interacts with the program is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s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library of classes that have been defined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import java.util.Scann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me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tem(s) inside parenthe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rgument(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provide the information needed by 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something that can store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struction to the computer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it ends with a semicol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mmar rules for a programming language are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ynta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73052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n object for sending output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printl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a method to print whatever is in parentheses to the scre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31840" y="1666800"/>
            <a:ext cx="9115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System.out.println (“Whatever you want to print”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inting to the Scre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31800" y="231120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object performs an action when you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vo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e of its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028"/>
          <p:cNvSpPr/>
          <p:nvPr/>
        </p:nvSpPr>
        <p:spPr>
          <a:xfrm>
            <a:off x="566640" y="3497400"/>
            <a:ext cx="85773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Courier New"/>
              </a:rPr>
              <a:t>objectName.methodName(argumentsTheMethodNeeds</a:t>
            </a:r>
            <a:r>
              <a:rPr b="1" lang="en-US" sz="2300" spc="-1" strike="noStrike">
                <a:solidFill>
                  <a:srgbClr val="ed7d31"/>
                </a:solidFill>
                <a:latin typeface="Courier New"/>
              </a:rPr>
              <a:t>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 Java Program or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817640"/>
            <a:ext cx="82296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onsists of one or more classes, which must be compiled before running the progra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need not compile classes that accompany Java (e.g.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yste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Sca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 should be in a separate fi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me of the file should be the same as the name of the 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integrated development environment) which combines a text editor with commands for compiling and running Java pro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Java program is compiled, the byte-code version of the program has the same name, but the ending is changed from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jav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to 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.cla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uter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9680" y="1600200"/>
            <a:ext cx="76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rdware and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Languages and Compil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ava Byte-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Suppl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iling and Runn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Java program can involve any number of clas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ass to run will contain the 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public static void main(String[] ar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wh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asic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67616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ing and Debug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ftware R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is a creative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can be learned by discovering the techniques used by experienced program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techniques are applicable to almost every programming language, including Jav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0040" y="52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-Oriented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0934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r world consists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eople, trees, cars, cities, airline reservations, etc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can perfor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ffect themselves and other objects in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-oriented programming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O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treats a program as a collection of objects that interact by means of a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Terminolog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, appropriately,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tho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of the same kind have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belong to the s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la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s within a class have a common set of methods and the same kinds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t each object can have it’s own data valu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0312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OP Design Princip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482480" y="2107800"/>
            <a:ext cx="720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OP adheres to three primary design princi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data and methods associated with any particular class are encapsulated (“put together in a capsule”), but only part of the contents is made accessi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provides a means of using the class, but it omits the details of how the class work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capsulation often is calle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 hid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ibility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utomobile consists of several parts and pieces and is capable of doing many useful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accelerator pedal, the brake pedal, and the steering wheel is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wareness of the fuel injectors, the automatic braking control system, and the power steering pump is not important to the driv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Polymorphis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he Greek meaning “many form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ame program instruction adapts to mean different things in different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method name, used as an instruction, produces results that depend on the class of the object that used the 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day analogy: “take time to recreate” causes different people to do different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polymorphism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1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1332000" y="2639880"/>
            <a:ext cx="6534000" cy="31053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Softwa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 systems consist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ardwa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dware includes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angib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s of computer sys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ftware include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rogram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sets of instructions for the computer to fol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iarity with hardware basics helps us underst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troduction to Inheritanc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can be organized using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nherit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ass at lower levels inherits all the characteristics of classes above it in the hierarc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each level, classifications become more specialized by adding other characterist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classes are more inclusive; lower classes are less inclu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heritance in Java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48960" y="1731960"/>
            <a:ext cx="773748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organiz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erited” characteristics do not need to be rep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haracteristics are ad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about inheritance in chapter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designing methods, programmers provide actions for objects to perfor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scribes a means of performing an a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ce an algorithm is defined, expressing it in Java (or in another programming language) usually is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lgorith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96480" y="160020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is a set of instructions for solving a probl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lgorithm must be expressed completely and precis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gorithms usually are expressed in English or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co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xample: Total Cost of All Ite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e the number 0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item on the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the cost of the item to the number on the white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 the number on the whiteboard with the result of this ad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nounce that the answer is the number writte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eusable Component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07720" y="1585800"/>
            <a:ext cx="78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rograms are created by combining components that exist alrea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ing components saves time and mone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d components are likely to be better developed, and more reli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components should designed to be reusable by other applic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and Debugg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e errors by avoiding them in the first pl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design classes, algorithms and metho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efully code everything into Ja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your program with appropriate test cases (some where the answer is known), discover and fix any errors, then re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1264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error in a program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iminating errors is calle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ebugg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kinds or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ntime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c err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yntax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mmatical mistakes in a 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rammatical rules for writing a program are very 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mpiler catches syntax errors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using a period where a program expects a co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untime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detected when your program is running, but not during comp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the computer detects an error, it terminates the program and prints an error mess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ttempting to divide by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Hardware and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odern computers have similar components inclu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devices (keyboard, mouse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put devices (display screen, printer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kinds of memory (main memory and auxiliary memory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gic Err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rors that are not detected during compilation or while running, but which cause the program to produce incorrec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an attempt to calculate a Fahrenheit temperature from a Celsius temperature by multiplying by 9/5 and adding 23 instead of 3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s not usually created entirely from scratc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contain components which already exi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usable classes are us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 class objects which are gene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provides many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ocumentation on following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19280" y="1393920"/>
            <a:ext cx="7502400" cy="31716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oftware Reus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00040" y="1735200"/>
            <a:ext cx="4713120" cy="1618560"/>
            <a:chOff x="500040" y="1735200"/>
            <a:chExt cx="4713120" cy="1618560"/>
          </a:xfrm>
        </p:grpSpPr>
        <p:sp>
          <p:nvSpPr>
            <p:cNvPr id="219" name="Oval 8"/>
            <p:cNvSpPr/>
            <p:nvPr/>
          </p:nvSpPr>
          <p:spPr>
            <a:xfrm>
              <a:off x="500040" y="1735200"/>
              <a:ext cx="1751040" cy="8276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9"/>
            <p:cNvSpPr/>
            <p:nvPr/>
          </p:nvSpPr>
          <p:spPr>
            <a:xfrm flipH="1" flipV="1">
              <a:off x="2261880" y="2255040"/>
              <a:ext cx="1356840" cy="551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0"/>
            <p:cNvSpPr/>
            <p:nvPr/>
          </p:nvSpPr>
          <p:spPr>
            <a:xfrm>
              <a:off x="3551760" y="2711160"/>
              <a:ext cx="166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ackage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6"/>
          <p:cNvGrpSpPr/>
          <p:nvPr/>
        </p:nvGrpSpPr>
        <p:grpSpPr>
          <a:xfrm>
            <a:off x="719280" y="2849400"/>
            <a:ext cx="4360320" cy="2286000"/>
            <a:chOff x="719280" y="2849400"/>
            <a:chExt cx="4360320" cy="2286000"/>
          </a:xfrm>
        </p:grpSpPr>
        <p:sp>
          <p:nvSpPr>
            <p:cNvPr id="223" name="AutoShape 12"/>
            <p:cNvSpPr/>
            <p:nvPr/>
          </p:nvSpPr>
          <p:spPr>
            <a:xfrm>
              <a:off x="719280" y="2849400"/>
              <a:ext cx="1200960" cy="2286000"/>
            </a:xfrm>
            <a:custGeom>
              <a:avLst/>
              <a:gdLst>
                <a:gd name="textAreaLeft" fmla="*/ 58320 w 1200960"/>
                <a:gd name="textAreaRight" fmla="*/ 1142640 w 1200960"/>
                <a:gd name="textAreaTop" fmla="*/ 58320 h 2286000"/>
                <a:gd name="textAreaBottom" fmla="*/ 2227680 h 2286000"/>
              </a:gdLst>
              <a:ahLst/>
              <a:rect l="textAreaLeft" t="textAreaTop" r="textAreaRight" b="textAreaBottom"/>
              <a:pathLst>
                <a:path w="21600" h="41109">
                  <a:moveTo>
                    <a:pt x="3600" y="0"/>
                  </a:moveTo>
                  <a:arcTo wR="3600" hR="3600" stAng="16200000" swAng="-5400000"/>
                  <a:lnTo>
                    <a:pt x="0" y="37509"/>
                  </a:lnTo>
                  <a:arcTo wR="3600" hR="3600" stAng="10800000" swAng="-5400000"/>
                  <a:lnTo>
                    <a:pt x="18000" y="4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 flipH="1" flipV="1">
              <a:off x="1933920" y="3615840"/>
              <a:ext cx="1495800" cy="32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5"/>
            <p:cNvSpPr/>
            <p:nvPr/>
          </p:nvSpPr>
          <p:spPr>
            <a:xfrm>
              <a:off x="3054240" y="3816000"/>
              <a:ext cx="202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lass na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365200" y="1735200"/>
            <a:ext cx="5833800" cy="3399840"/>
            <a:chOff x="2365200" y="1735200"/>
            <a:chExt cx="5833800" cy="3399840"/>
          </a:xfrm>
        </p:grpSpPr>
        <p:sp>
          <p:nvSpPr>
            <p:cNvPr id="227" name="AutoShape 17"/>
            <p:cNvSpPr/>
            <p:nvPr/>
          </p:nvSpPr>
          <p:spPr>
            <a:xfrm>
              <a:off x="2365200" y="1735200"/>
              <a:ext cx="5833800" cy="33998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5205600" y="1905120"/>
              <a:ext cx="22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Description of class Scan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03360" y="2265480"/>
            <a:ext cx="71690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and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ample Graphics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Ovals and Cir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and Position of Fig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wing Ar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nning and Closing an App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s an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that a method is an action which can be performed by an ob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is section, we’ll name our object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we’ll use it to draw figures inside an applet displ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294920" y="1523880"/>
            <a:ext cx="725652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ing 1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HappyFa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ge 3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rcRect l="2247" t="5076" r="2363" b="1973"/>
          <a:stretch/>
        </p:blipFill>
        <p:spPr>
          <a:xfrm>
            <a:off x="2522520" y="2911320"/>
            <a:ext cx="3844800" cy="31384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  <p:sp>
        <p:nvSpPr>
          <p:cNvPr id="236" name="Text Box 7"/>
          <p:cNvSpPr/>
          <p:nvPr/>
        </p:nvSpPr>
        <p:spPr>
          <a:xfrm>
            <a:off x="5651640" y="3922560"/>
            <a:ext cx="1523880" cy="1008720"/>
          </a:xfrm>
          <a:prstGeom prst="rect">
            <a:avLst/>
          </a:prstGeom>
          <a:solidFill>
            <a:srgbClr val="9dc3e6"/>
          </a:solidFill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 Sample Graphics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10348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specifies what is drawn in the ap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 is invoked automatically when the applet is r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501920" y="1474920"/>
            <a:ext cx="718488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98720" y="2263680"/>
            <a:ext cx="7448400" cy="383544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creen Coordinate System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27240" y="2454120"/>
            <a:ext cx="718344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x-coordinate the the number of pixels from the lef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y-coordinate is the number of pixels from the top (not from the botto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only the outline of the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 filled-in ov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fillOval(100, 50, 90, 50)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cesso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P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entral processing unit) 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hi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e.g. Pentium processo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program’s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can process only very simple instruc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wer of computing comes from speed and program intrica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15880" y="2065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fillOv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thods take four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two arguments indicate the upper-left corner of an invisible rectangle around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the width and height of the o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ircle is just an oval whose height is the same as its wid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Ovals and Circ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1.7 The Oval Drawn by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canvas.drawOval(100, 50, 90, 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1874880" y="2744640"/>
            <a:ext cx="6064200" cy="33195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ize and Positions of Figur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182240" y="1978200"/>
            <a:ext cx="750420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s and positions in a Java applet are given i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k of the display surface for the applet as being a two-dimensional grid of individual pi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rawing Ar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draws an 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ourier New"/>
              </a:rPr>
              <a:t>drawArc(100, 50, 200, 200, 180, 180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70c0"/>
                </a:solidFill>
                <a:latin typeface="Courier New"/>
              </a:rPr>
              <a:t>drawArc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takes six argu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our arguments are the same as the four arguments needed by the </a:t>
            </a:r>
            <a:r>
              <a:rPr b="1" lang="en-US" sz="1800" spc="-1" strike="noStrike">
                <a:solidFill>
                  <a:srgbClr val="0070c0"/>
                </a:solidFill>
                <a:latin typeface="Courier New"/>
              </a:rPr>
              <a:t>drawOv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ast two arguments indicate where the arc starts, and the number of degrees through which is sweep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 degrees is horizontal and to the r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1"/>
          <a:stretch/>
        </p:blipFill>
        <p:spPr>
          <a:xfrm>
            <a:off x="2604960" y="2043000"/>
            <a:ext cx="5064120" cy="417996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pecifying an Arc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79200" y="1337760"/>
            <a:ext cx="7692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1.8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rcRect l="0" t="0" r="0" b="-5892"/>
          <a:stretch/>
        </p:blipFill>
        <p:spPr>
          <a:xfrm>
            <a:off x="2468520" y="2027160"/>
            <a:ext cx="4991040" cy="4160880"/>
          </a:xfrm>
          <a:prstGeom prst="rect">
            <a:avLst/>
          </a:prstGeom>
          <a:ln w="0">
            <a:noFill/>
          </a:ln>
          <a:effectLst>
            <a:outerShdw dist="114219" dir="2999180" blurRad="0" rotWithShape="0">
              <a:srgbClr val="7f7f7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Running and Closing an Applet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9980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ways to run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ed the applet in a Web page and ru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pplet view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the I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are two corresponding ways to end an appl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running the applet from a web site, close the page or navigate away from the p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you are using an applet viewer, use the mouse to click the close-window bu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computer hardware and softwa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program design and object-oriented programm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completed an overview of the Java programming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introduced to applets and graphics basic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ory ho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for the computer to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results of intermediate process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kinds of mem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xiliary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ain memo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ing memory used to st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urrent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ata the program is u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sults of intermediate calcul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measured in megabytes (e.g. 8 gigabytes of R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M is short f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random access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y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a quantity of mem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0T17:48:18Z</dcterms:created>
  <dc:creator>Robert P. Burton</dc:creator>
  <dc:description/>
  <dc:language>en-US</dc:language>
  <cp:lastModifiedBy>Kenrick Mock</cp:lastModifiedBy>
  <dcterms:modified xsi:type="dcterms:W3CDTF">2014-04-06T10:01:16Z</dcterms:modified>
  <cp:revision>95</cp:revision>
  <dc:subject/>
  <dc:title>Chapter 1 Introduction to Computers and Java</dc:title>
</cp:coreProperties>
</file>