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27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6.wmf" ContentType="image/x-wmf"/>
  <Override PartName="/ppt/media/image15.png" ContentType="image/png"/>
  <Override PartName="/ppt/media/image25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9.png" ContentType="image/png"/>
  <Override PartName="/ppt/media/image24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9A0-9B2F-462D-B0D6-43581E84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DEA-C316-4D70-8A0D-BCE169AB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FDD-6C2C-4C1C-85CC-113317B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746-0220-419C-A5F4-F3903CE9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D827-8AE8-4751-91AF-DBA8E864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0277-1F7C-4B51-83F8-A1F2A68A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750F-A405-4736-B46C-D1156D2D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D76-8BC9-4789-B49F-1A099A42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7AEB-7286-4BC8-9EA5-EBD20C4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01BB-063B-47D8-9178-033D24A0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057-5324-424F-965B-A5184B8D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1EF-9EC1-42E6-BB74-0C9F9ADF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D246-FE2A-468B-B284-0167B66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5E0D-89C1-4293-9DC4-8204522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F928-2565-4963-BCC0-5D6F1DC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2A87-5230-4522-87A3-07A6AB42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794-5C9D-49A3-AED5-84E0F4A3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E74-0E69-4A46-B4EC-5D8CD87E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896-A42F-484E-AF59-21B04589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37B-2275-41F6-9A7C-411E8AE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521-CFDB-452D-B367-57382E88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53F4-7518-43DB-97C6-25F0FDE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CFF2-D1CD-4BAC-91A5-D47945D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0B2-E975-47BB-B34C-3B1CEE0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DD01-49D5-48B4-88F8-C8EC788504D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070B-33C8-4C5A-9A8B-064CDEB3C558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7" TargetMode="External"/><Relationship Id="rId2" Type="http://schemas.openxmlformats.org/officeDocument/2006/relationships/image" Target="../media/image18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8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9" TargetMode="External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0" TargetMode="External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1" TargetMode="External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2" TargetMode="External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2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3" TargetMode="Externa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4" TargetMode="External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1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5" TargetMode="Externa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2.6" TargetMode="Externa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2763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Basic Computation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43160" y="5105520"/>
            <a:ext cx="6400800" cy="12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Naming and Declaring Variabl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850760"/>
            <a:ext cx="82296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that are helpful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no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cl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variable, you provide its name and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numberOfBaskets,eggsPerBaske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rmines what kinds of values it can hold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must be declared before it is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n to Use 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 each program file with an explanatory com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program do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name of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ct information for the 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e of the last modifi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only those comments which the expected reader of the program file will need in order to understand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9"/>
          <p:cNvSpPr/>
          <p:nvPr/>
        </p:nvSpPr>
        <p:spPr>
          <a:xfrm>
            <a:off x="763560" y="3218040"/>
            <a:ext cx="765324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15440" y="1371600"/>
            <a:ext cx="84582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762120" y="3216240"/>
            <a:ext cx="7684920" cy="2082960"/>
            <a:chOff x="762120" y="3216240"/>
            <a:chExt cx="7684920" cy="2082960"/>
          </a:xfrm>
        </p:grpSpPr>
        <p:pic>
          <p:nvPicPr>
            <p:cNvPr id="332" name="Picture 5" descr=""/>
            <p:cNvPicPr/>
            <p:nvPr/>
          </p:nvPicPr>
          <p:blipFill>
            <a:blip r:embed="rId2"/>
            <a:srcRect l="84012" t="0" r="0" b="0"/>
            <a:stretch/>
          </p:blipFill>
          <p:spPr>
            <a:xfrm>
              <a:off x="6973920" y="3218040"/>
              <a:ext cx="1473120" cy="208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6" descr=""/>
            <p:cNvPicPr/>
            <p:nvPr/>
          </p:nvPicPr>
          <p:blipFill>
            <a:blip r:embed="rId3"/>
            <a:srcRect l="0" t="0" r="31306" b="0"/>
            <a:stretch/>
          </p:blipFill>
          <p:spPr>
            <a:xfrm>
              <a:off x="762120" y="3216240"/>
              <a:ext cx="6329160" cy="208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Text Box 8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communicate nesting clear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ood choice is four spaces for each level of ind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consis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should be used for second and subsequent lines of statements which do not fit on a single li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den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 does not change the behavior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indentation helps communicate to the human reader the nested structures of th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avoid confusion, always name consta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nd variabl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PI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clearer th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rea = 3.14159 * radius * radi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 constants near the beginning of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the value of a constant is set (or changed by an editor), it can be used (or reflected) throughout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final double INTEREST_RATE = 6.65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literal (such as 6.65) is used instead, every occurrence must be changed, with the risk than another literal with the same value might be changed unintention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laring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Variable_Type = Consta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double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I = 3.14159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ublic static final String MOTTO = "The customer is always right.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nvention, uppercase letters are used for consta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49280" y="1295280"/>
            <a:ext cx="889776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ircleCalculation2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2"/>
          <a:stretch/>
        </p:blipFill>
        <p:spPr>
          <a:xfrm>
            <a:off x="628560" y="3240000"/>
            <a:ext cx="7683480" cy="176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48" name="Text Box 6"/>
          <p:cNvSpPr/>
          <p:nvPr/>
        </p:nvSpPr>
        <p:spPr>
          <a:xfrm>
            <a:off x="7521480" y="3666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01680" y="2107800"/>
            <a:ext cx="748512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yle Rules Applied to a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putting Numeric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-Line Output 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6640" y="1828800"/>
            <a:ext cx="863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HappyFac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2"/>
          <a:stretch/>
        </p:blipFill>
        <p:spPr>
          <a:xfrm>
            <a:off x="2365200" y="3106800"/>
            <a:ext cx="3794400" cy="317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54" name="Text Box 6"/>
          <p:cNvSpPr/>
          <p:nvPr/>
        </p:nvSpPr>
        <p:spPr>
          <a:xfrm>
            <a:off x="5710320" y="45655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and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ype variable_1, variable_2, …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variable_1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generic variable called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yntactic variable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styleChoice, numberOfCheck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balance, interestRa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 jointOrIndividu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136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yle Rules Applied to a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46348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makes it easier to find val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nd named constants make changing the code much eas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 protect against changing the wrong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9536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Fram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used to create a standalone GUI appli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ull explanation of how this work in Chapter 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creating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lace the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2. Replace the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xtends JFr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3.  Add what is called a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NameOfClass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Size(600,40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etDefaultCloseOperation(EXIT_ON_CLOS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reating a </a:t>
            </a: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4. Add a main method that displays the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HappyFace guiWindow = new HappyFace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uiWindow.setVisible(true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69800" y="4875120"/>
            <a:ext cx="81788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iew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</a:t>
            </a:r>
            <a:br>
              <a:rPr sz="3200"/>
            </a:b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HappyFaceJFrame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ing 2.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47760" y="1600200"/>
            <a:ext cx="87962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2"/>
          <a:stretch/>
        </p:blipFill>
        <p:spPr>
          <a:xfrm>
            <a:off x="560520" y="2654280"/>
            <a:ext cx="3450960" cy="1600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7" name="Picture 6" descr=""/>
          <p:cNvPicPr/>
          <p:nvPr/>
        </p:nvPicPr>
        <p:blipFill>
          <a:blip r:embed="rId3"/>
          <a:stretch/>
        </p:blipFill>
        <p:spPr>
          <a:xfrm>
            <a:off x="3157560" y="3749760"/>
            <a:ext cx="3438360" cy="1584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68" name="Picture 7" descr=""/>
          <p:cNvPicPr/>
          <p:nvPr/>
        </p:nvPicPr>
        <p:blipFill>
          <a:blip r:embed="rId4"/>
          <a:stretch/>
        </p:blipFill>
        <p:spPr>
          <a:xfrm>
            <a:off x="5681520" y="4873680"/>
            <a:ext cx="3124440" cy="151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69" name="Text Box 8"/>
          <p:cNvSpPr/>
          <p:nvPr/>
        </p:nvSpPr>
        <p:spPr>
          <a:xfrm>
            <a:off x="2475000" y="497196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construct windows that interact with the 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s import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x.swing.JApple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produces windows for obtaining input or displaying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InputDialog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inpu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string values can be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onvert an input value from a string to an integer use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rseInt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from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,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ppleCount = Integer.parseInt(appleString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 is display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wMessageDialo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(nul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total number of fruits = " + totalFruit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Variable = JOptionPane.showInputDialogue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null, String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s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au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94880" y="1750680"/>
            <a:ext cx="789156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input is not in the correct format, the program wi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ra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omit the last lin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exit(0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 program will not end, even when th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utton in the output window is cli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label any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ata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a class of objects and has both data and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 is fun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a value of class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imitive 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used for simple, nondecomposable values such as an individual number or individual charac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primitive typ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ting Numeric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371600"/>
            <a:ext cx="8026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Input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input any of the numeric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elveticaNeue-MediumCond"/>
              </a:rPr>
              <a:t>Figure 2.8 </a:t>
            </a:r>
            <a:r>
              <a:rPr b="0" lang="en-US" sz="2800" spc="-1" strike="noStrike">
                <a:solidFill>
                  <a:srgbClr val="231f20"/>
                </a:solidFill>
                <a:latin typeface="HelveticaNeue-MediumCond"/>
              </a:rPr>
              <a:t>Methods for converting strings to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"/>
          <p:cNvPicPr/>
          <p:nvPr/>
        </p:nvPicPr>
        <p:blipFill>
          <a:blip r:embed="rId1"/>
          <a:stretch/>
        </p:blipFill>
        <p:spPr>
          <a:xfrm>
            <a:off x="1860480" y="3225960"/>
            <a:ext cx="548172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output multiple lines using 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.showMessageDialo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sert the new line charact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\n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to the string used as the second argu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ptionPane.showMessageDialog(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The number of appl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plus the number of oranges\n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is equal to " + totalFrui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-Line Output Window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9 A dialog window containing multiline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6" descr=""/>
          <p:cNvPicPr/>
          <p:nvPr/>
        </p:nvPicPr>
        <p:blipFill>
          <a:blip r:embed="rId1"/>
          <a:stretch/>
        </p:blipFill>
        <p:spPr>
          <a:xfrm>
            <a:off x="2284560" y="3009960"/>
            <a:ext cx="451296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440" y="14479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ngeMakerWindow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1136520" y="2709720"/>
            <a:ext cx="3905280" cy="230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5345280" y="3770280"/>
            <a:ext cx="3394080" cy="2401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392" name="Text Box 7"/>
          <p:cNvSpPr/>
          <p:nvPr/>
        </p:nvSpPr>
        <p:spPr>
          <a:xfrm>
            <a:off x="3659040" y="52261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82160" y="1990440"/>
            <a:ext cx="760428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Java primitive types (numbers, character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assignment statements and expr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t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come familiar with classes, methods, and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47520" y="1940040"/>
            <a:ext cx="773892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simple keyboard input and screen out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windows-based input and output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57200" y="1530360"/>
            <a:ext cx="852156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ntifi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name, such as the name of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contain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gits (0 through 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nderscore character (_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 dollar sign symbol ($) which has a special mea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charact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an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 a dig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Identifi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may not contain any spaces, do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asterisk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or other charact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7-11  oracle.com  util.*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ot allow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iers can be arbitrarily lo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Java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en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UF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different identifi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words or Reserved Wor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d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served wor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have special, predefined mean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not be used as identifi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 Appendix 1 for a complete list of Java keywor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keyword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Conven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types begin with an uppercase let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itive types begin with a lowercase letter 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of both class and primitive types begin with a lowercase lett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.g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yBal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word names are "punctuated" using uppercase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here to Declar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e a varia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st before it is used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beginning of the section of your program that is enclosed i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 /* declare variables here */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  . . .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mitive Typ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integer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st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floating-point typ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more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character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boolean type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the Java data types used for simple data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o declare variables, define name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ssignment statements, expressions containing variables and consta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strings of characters, perform simple string process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 of Primitive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  -1  365  120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0.99  -22.8  3.14159 5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a'  'A'  '#'  ' '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  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ssignment statement is used to assign a value to a var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swer = 4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"equal sign"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ay, "The variable nam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a value of 42," or more simply, "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ssigned 42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variable = ex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nother variable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a number), or something more complicated which combines variables and literals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such a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3.99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irstInitial = 'W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 that has been declared, but no yet given a value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nitializ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class variables have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nitialized primitive variables may have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's good practice not to rely on a default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protect against an uninitialized variable (and to keep the compiler happy), assign a value at the time the variable is declar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count = 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grade = 'A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ype variable_1 = expression_1, variable_2 = expression_2, …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xpression on the right-hand side of the assignment operator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is evaluated fir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used to set the value of the variable on the left-hand side of the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ore = numberOfCards +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andica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752120"/>
            <a:ext cx="7696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the data needed for a computation are obtained from the user at run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 requ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mport java.util.Scan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beginning of th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can be entered from the keyboard us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 Scanner(System.in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, for example,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 = keyboard.nextInt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reads 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lue from the keyboard and assigns i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Java statements that accomplish keyboard input, screen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here to stylistic guidelines and conven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aningful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ing a GUI application using the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JFrame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window-based input and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371240"/>
            <a:ext cx="7162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EggBasket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"/>
          <p:cNvPicPr/>
          <p:nvPr/>
        </p:nvPicPr>
        <p:blipFill>
          <a:blip r:embed="rId2"/>
          <a:srcRect l="1528" t="2178" r="1912" b="4357"/>
          <a:stretch/>
        </p:blipFill>
        <p:spPr>
          <a:xfrm>
            <a:off x="1576440" y="2517840"/>
            <a:ext cx="6153120" cy="3606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9" name="Text Box 7"/>
          <p:cNvSpPr/>
          <p:nvPr/>
        </p:nvSpPr>
        <p:spPr>
          <a:xfrm>
            <a:off x="6797520" y="327672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mple 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7652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The count is " + cou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puts the sting literal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the count is 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the current value of the variabl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teral expression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2, 3.7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'y'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ger constants can be preceded by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gn, but cannot contain com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constants can be writte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digits after a decimal point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 not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 Not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notation is 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cientific n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ating-point n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65000000.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written a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.65e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.00048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.83e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in fron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need to contain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200" y="609480"/>
            <a:ext cx="87044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Imprecision in Floating-Point Numbe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ing-point numbers often are only approximations since they are stored with a finite number of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nc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lightly less than 1/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1.0/3.0 + 1.0/3.0 + 1.0/3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less than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d Consta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mechanism to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ine a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x the value so it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Type Variable = Constant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ublic static final double PI = 3.14159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s said to b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rongly ty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't, for example, assign a floating point value to a variable declared to store an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conversions between numbers are po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= 7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possible even 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Variab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ignment Compatibilit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one type can be assigned to a variable of any type further to the r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not to a variable of any type further to the le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assign a value of typ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a variabl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 cas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ily changes the value of a variable from the declared type to some other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 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 = 9.0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points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ints = (int)dist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llegal witho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ype Ca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int)dist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oth before and after the cast, i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9.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onzero value to the right of the decimal point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uncate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ther th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47920" y="2057400"/>
            <a:ext cx="7238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and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and Screen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ation and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expressions can be form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together with variables or numbers referred to a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both operands are of the same type, the result is of tha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one of the operands is a floating-point type and the other is an integer, the result is a floating point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the valu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40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s been assigned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yR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8.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as been assig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rsWorked * payR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 a value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500.0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ressions with two or more operators can be viewed as a series of steps, each involving only two opera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 of one step produces one of the operands to be used in the next ste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balance * rat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rithmetic Op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t least one of the operands is a floating-point type and the rest are integers, the result will be a floating 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sult is the rightmost type from the following list that occurs in th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yte --&gt; short --&gt; int --&gt; lo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-&gt; float --&gt; 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Division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ivision operator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behaves as expected if one of the operands is a floating-point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oth operands are integer types, the result is truncated, not roun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39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9/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s a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 is used with operators of integer type to obtain the remainder after integer divi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4 divided by 4 is 3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a remainder of 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nce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4 % 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equal to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 operator has many uses,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an integer is odd or 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termining if one integer is evenly divisible by another inte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entheses and Precede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can communicate the order in which arithmetic operations are per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tax) * 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cost + (tax * discou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out parentheses, an expressions is evaluated according to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les of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2.2 Precedence Ru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2125800" y="2751120"/>
            <a:ext cx="5611680" cy="265284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n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, -, ++, --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but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an the binary arithmetic operator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binary operators have equal precedence, the operator on the left acts before the operator(s) on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unary operators have equal precedence, the operator on the right acts before the operation(s) on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when parentheses are not needed, they can be used to make the code clear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(interestRate * bal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aces also make code clear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+ interestRate*bal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spaces do not dictate prece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883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23880" y="18284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Ident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ple 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ample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3 Some Arithmetic Expressions in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069920" y="2770200"/>
            <a:ext cx="7201080" cy="2306520"/>
          </a:xfrm>
          <a:prstGeom prst="rect">
            <a:avLst/>
          </a:prstGeom>
          <a:ln w="12600">
            <a:solidFill>
              <a:srgbClr val="203864"/>
            </a:solidFill>
            <a:miter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alized Assign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perators can be combined with arithmetic operators (inclu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-, *, /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%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lat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= amount +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+= 5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ielding the same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se Study:Vending Machine Chang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514240"/>
            <a:ext cx="8229600" cy="34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user enters an amount between 1 cent and 99 c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 determines a combination of coins equal to that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xample, 55 cents can be two quarters and one nick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mple 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nter a whole number from 1 to 9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he machine will determine a combination of coi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87 cents in coi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3 quar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 d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 nick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2 pen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96880" y="1600200"/>
            <a:ext cx="718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amount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quarter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ime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ickels, 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ennie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- first 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,cont.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gorithm doesn't work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amount is changed by the intermediate st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 value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mou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l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 the list of 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 amount, originalAmount, quarters, dimes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ickles, penn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date the algorith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– second 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ad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ake a copy of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ind the maximum number of quarters in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ubtract the value of the quarters from the amou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peat the last two steps for dimes, nickels, and penn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Courier New"/>
              <a:buAutoNum type="arabicPeriod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int the original amount and the quantities of each co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Java co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mplem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lgorithm written in pseudocode – listing 2.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2"/>
          <a:srcRect l="1103" t="1912" r="1248" b="4878"/>
          <a:stretch/>
        </p:blipFill>
        <p:spPr>
          <a:xfrm>
            <a:off x="998640" y="2733840"/>
            <a:ext cx="7453080" cy="324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9" name="Text Box 5"/>
          <p:cNvSpPr/>
          <p:nvPr/>
        </p:nvSpPr>
        <p:spPr>
          <a:xfrm>
            <a:off x="6248520" y="4343400"/>
            <a:ext cx="1676160" cy="1008720"/>
          </a:xfrm>
          <a:prstGeom prst="rect">
            <a:avLst/>
          </a:prstGeom>
          <a:solidFill>
            <a:srgbClr val="2f5597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number of quarters (or dimes, nickels, or pennies) in an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2 quarters in 55 cents, but there are also 2 quarters in 65 c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's becau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/ 2 = 2 and 65 / 25 =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0556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Variables and Express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47560" y="1828440"/>
            <a:ext cx="7086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Compat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e 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thmetic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and Precedence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Assign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se Study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ending Machin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ment and Decrement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 we determine the remaining amoun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emaining amount can be determined using th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5 % 25 = 5 and 65 % 25 = 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ly for dimes and nick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nies are simpl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mount % 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ram should be tested with several different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values that give zero values for each possible coin denomin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with amounts close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 values such as 0, 1, 98 and 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in denominations, such as 24, 25, and 2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increase (or decrease) the value of a variable by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y to use, important to recogn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n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ecrement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++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++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+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--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-coun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count - 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crement and Decrement Operators i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480" y="21337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++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execu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m = 4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result = 3 * (m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a value o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lass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used constant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Enter a whole number from 1 to 99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lue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quence of charact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eated as a single i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Constant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la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 greeting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!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new String("Hello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greeting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on of Strin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strings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catenat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entenc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ntence = greeting + " officer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sentenc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number of strings can be concatenated using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catenating Strings and Integ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olutio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olution = "The answer is " + 4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 (solutio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1733400" y="4025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temperature is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1"/>
          <p:cNvGrpSpPr/>
          <p:nvPr/>
        </p:nvGrpSpPr>
        <p:grpSpPr>
          <a:xfrm>
            <a:off x="1612800" y="3778200"/>
            <a:ext cx="5894640" cy="2286000"/>
            <a:chOff x="1612800" y="3778200"/>
            <a:chExt cx="5894640" cy="2286000"/>
          </a:xfrm>
        </p:grpSpPr>
        <p:sp>
          <p:nvSpPr>
            <p:cNvPr id="232" name="Rectangle 12"/>
            <p:cNvSpPr/>
            <p:nvPr/>
          </p:nvSpPr>
          <p:spPr>
            <a:xfrm>
              <a:off x="1612800" y="3778200"/>
              <a:ext cx="5894640" cy="2286000"/>
            </a:xfrm>
            <a:prstGeom prst="rect">
              <a:avLst/>
            </a:prstGeom>
            <a:solidFill>
              <a:srgbClr val="2f5597"/>
            </a:solidFill>
            <a:ln w="0">
              <a:noFill/>
            </a:ln>
            <a:effectLst>
              <a:outerShdw dist="101823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3"/>
            <p:cNvSpPr/>
            <p:nvPr/>
          </p:nvSpPr>
          <p:spPr>
            <a:xfrm>
              <a:off x="1904400" y="4006800"/>
              <a:ext cx="5245560" cy="1786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4"/>
          <p:cNvSpPr/>
          <p:nvPr/>
        </p:nvSpPr>
        <p:spPr>
          <a:xfrm>
            <a:off x="1949400" y="431496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e answer is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r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stores data consisting of a sequence of charac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have methods as well as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returns the number of characters in a particula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greeting = "Hello";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 = greeting.length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ore data such as numbers and let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 of them as places to store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implemented as memory loc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stored by a variable is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lue is stored in the memory loc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value can be chang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length(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1840" y="1990440"/>
            <a:ext cx="882180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turns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can use a call to metho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length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where 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count = command.length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Length is " +    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  command.length()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unt = command.length() + 3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440000"/>
            <a:ext cx="7772400" cy="46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2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s start with 0, not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'J' in "Java is fun." is in position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sition is referred to an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Java is fun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index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685800" y="322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Courier New"/>
              </a:rPr>
              <a:t>String </a:t>
            </a: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I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512640" y="2217600"/>
            <a:ext cx="8102880" cy="15224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6201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990720" y="69840"/>
            <a:ext cx="6858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rocess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 methods allow you to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ut you can change the value of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ringDemo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2.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538440" y="4419720"/>
            <a:ext cx="4824360" cy="1717200"/>
            <a:chOff x="3538440" y="4419720"/>
            <a:chExt cx="4824360" cy="1717200"/>
          </a:xfrm>
        </p:grpSpPr>
        <p:pic>
          <p:nvPicPr>
            <p:cNvPr id="247" name="Picture 4" descr=""/>
            <p:cNvPicPr/>
            <p:nvPr/>
          </p:nvPicPr>
          <p:blipFill>
            <a:blip r:embed="rId2"/>
            <a:srcRect l="429" t="1569" r="33178" b="0"/>
            <a:stretch/>
          </p:blipFill>
          <p:spPr>
            <a:xfrm>
              <a:off x="3538440" y="4419720"/>
              <a:ext cx="423540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48" name="Picture 5" descr=""/>
            <p:cNvPicPr/>
            <p:nvPr/>
          </p:nvPicPr>
          <p:blipFill>
            <a:blip r:embed="rId3"/>
            <a:srcRect l="84849" t="1569" r="-794" b="0"/>
            <a:stretch/>
          </p:blipFill>
          <p:spPr>
            <a:xfrm>
              <a:off x="7345080" y="4421160"/>
              <a:ext cx="1017720" cy="17157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49" name="Text Box 7"/>
          <p:cNvSpPr/>
          <p:nvPr/>
        </p:nvSpPr>
        <p:spPr>
          <a:xfrm>
            <a:off x="7502400" y="542772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ould you pr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Java" refers to a language.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needs to be told that the quotation marks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do not signal the start or end of a string, but instead are to be prin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\"Java\" refers to a language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scape Charac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44400" y="4021200"/>
            <a:ext cx="80424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escape sequence is a single character even though it is written with two symbo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147680" y="1643040"/>
            <a:ext cx="6648480" cy="2081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abc\\def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("new\nline"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 singleQuote = '\''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.println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(singleQuote);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1949400" y="2205000"/>
            <a:ext cx="2355840" cy="879480"/>
            <a:chOff x="1949400" y="2205000"/>
            <a:chExt cx="2355840" cy="879480"/>
          </a:xfrm>
        </p:grpSpPr>
        <p:sp>
          <p:nvSpPr>
            <p:cNvPr id="258" name="Rectangle 5"/>
            <p:cNvSpPr/>
            <p:nvPr/>
          </p:nvSpPr>
          <p:spPr>
            <a:xfrm>
              <a:off x="1949400" y="22050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066040" y="22928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5691240" y="5407200"/>
            <a:ext cx="2355840" cy="879480"/>
            <a:chOff x="5691240" y="5407200"/>
            <a:chExt cx="2355840" cy="879480"/>
          </a:xfrm>
        </p:grpSpPr>
        <p:sp>
          <p:nvSpPr>
            <p:cNvPr id="261" name="Rectangle 13"/>
            <p:cNvSpPr/>
            <p:nvPr/>
          </p:nvSpPr>
          <p:spPr>
            <a:xfrm>
              <a:off x="5691240" y="540720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>
              <a:off x="5807880" y="549504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5724360" y="5573880"/>
            <a:ext cx="8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Arial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201760" y="2436840"/>
            <a:ext cx="2303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bc\d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9"/>
          <p:cNvGrpSpPr/>
          <p:nvPr/>
        </p:nvGrpSpPr>
        <p:grpSpPr>
          <a:xfrm>
            <a:off x="1965240" y="3813120"/>
            <a:ext cx="2355840" cy="879480"/>
            <a:chOff x="1965240" y="3813120"/>
            <a:chExt cx="2355840" cy="879480"/>
          </a:xfrm>
        </p:grpSpPr>
        <p:sp>
          <p:nvSpPr>
            <p:cNvPr id="266" name="Rectangle 10"/>
            <p:cNvSpPr/>
            <p:nvPr/>
          </p:nvSpPr>
          <p:spPr>
            <a:xfrm>
              <a:off x="1965240" y="3813120"/>
              <a:ext cx="2355840" cy="87948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>
              <a:off x="2081880" y="3900960"/>
              <a:ext cx="2096640" cy="687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8"/>
          <p:cNvSpPr/>
          <p:nvPr/>
        </p:nvSpPr>
        <p:spPr>
          <a:xfrm>
            <a:off x="2197080" y="3843360"/>
            <a:ext cx="225252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Unicode Character S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ming languages use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CI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us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racter set which includes the ASCII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icode character set includes characters from many different alphabets (but you probably won't use the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and Screen</a:t>
            </a: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/O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73280" y="2763720"/>
            <a:ext cx="611352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board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lass Egg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rcRect l="3056" t="14443" r="3649" b="18617"/>
          <a:stretch/>
        </p:blipFill>
        <p:spPr>
          <a:xfrm>
            <a:off x="912960" y="2844720"/>
            <a:ext cx="7515000" cy="17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313320" y="327960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've seen several examples of screen outpu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that is part of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ln(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ne of the methods available to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43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is useful when everything does not fit on one line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Lucky number = " + 13 +</a:t>
            </a:r>
            <a:br>
              <a:rPr sz="1800"/>
            </a:b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"Secret number = " + numb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break the line except immediately before or after the concatenation operator (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ternatively, use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rint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One, two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" buckle my shoe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Three, four,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" shut the door.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ing with 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rintln(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has reasonable facilities for handling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facilities are provided by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in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ava.uti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ck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ack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library of clas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the Scanne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ar the beginning of your program, ins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ort java.util.Scanner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an object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canner keyboard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ew Scanner (System.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data (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for examp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nt n1 = keyboard.nextInt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d1 = keyboard,nextDoubl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Keyboard Input Demonstr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5800" y="1295280"/>
            <a:ext cx="7840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canner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1243080" y="2341440"/>
            <a:ext cx="6335640" cy="397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6" name="Text Box 6"/>
          <p:cNvSpPr/>
          <p:nvPr/>
        </p:nvSpPr>
        <p:spPr>
          <a:xfrm>
            <a:off x="5792760" y="33796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240" y="43956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1098720" y="2252520"/>
            <a:ext cx="7213320" cy="403416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439200"/>
            <a:ext cx="84582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Scanne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9212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2.7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1487520" y="1938240"/>
            <a:ext cx="6510240" cy="4432320"/>
          </a:xfrm>
          <a:prstGeom prst="rect">
            <a:avLst/>
          </a:prstGeom>
          <a:ln w="12600">
            <a:solidFill>
              <a:srgbClr val="996633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10780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xtLine()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rea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mainder of the current lin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n if it is emp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nextLine()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Cau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34604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– given following decla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tring s1, s2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 = keyboard.nextInt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1 = keyboard.nextLine();</a:t>
            </a:r>
            <a:br>
              <a:rPr sz="24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2 = keyboard.nextLine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input show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 set to the empty st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7" name="Group 5"/>
          <p:cNvGrpSpPr/>
          <p:nvPr/>
        </p:nvGrpSpPr>
        <p:grpSpPr>
          <a:xfrm>
            <a:off x="4687920" y="4102200"/>
            <a:ext cx="3051000" cy="1625400"/>
            <a:chOff x="4687920" y="4102200"/>
            <a:chExt cx="3051000" cy="1625400"/>
          </a:xfrm>
        </p:grpSpPr>
        <p:sp>
          <p:nvSpPr>
            <p:cNvPr id="298" name="Rectangle 6"/>
            <p:cNvSpPr/>
            <p:nvPr/>
          </p:nvSpPr>
          <p:spPr>
            <a:xfrm>
              <a:off x="4687920" y="4102200"/>
              <a:ext cx="3051000" cy="1625400"/>
            </a:xfrm>
            <a:prstGeom prst="rect">
              <a:avLst/>
            </a:prstGeom>
            <a:solidFill>
              <a:srgbClr val="6ac2a5"/>
            </a:solidFill>
            <a:ln w="12600">
              <a:solidFill>
                <a:srgbClr val="e7e6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7"/>
            <p:cNvSpPr/>
            <p:nvPr/>
          </p:nvSpPr>
          <p:spPr>
            <a:xfrm>
              <a:off x="4838760" y="4264920"/>
              <a:ext cx="2715120" cy="1270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Text Box 4"/>
          <p:cNvSpPr/>
          <p:nvPr/>
        </p:nvSpPr>
        <p:spPr>
          <a:xfrm>
            <a:off x="4537080" y="4267080"/>
            <a:ext cx="3065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nd don't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ge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and Valu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umberOfBas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Eg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ing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6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ggsPerBasket = eggsPerBasket - 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Empty Str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tring can have any number of characters, including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ring with zero characters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p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mpty string is useful and can be created in many way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3 = "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572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 (optional)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12680"/>
            <a:ext cx="82296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most any combination of characters and strings can be used to separate keyboard inp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change the delimiter to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"##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.useDelimiter("##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tespace will no longer be a delimiter for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keyboard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ther Input Delimit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85800" y="169200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br>
              <a:rPr sz="28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elimitersDemo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2.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860400" y="2906640"/>
            <a:ext cx="7627680" cy="3247560"/>
            <a:chOff x="860400" y="2906640"/>
            <a:chExt cx="7627680" cy="3247560"/>
          </a:xfrm>
        </p:grpSpPr>
        <p:sp>
          <p:nvSpPr>
            <p:cNvPr id="308" name="Rectangle 6"/>
            <p:cNvSpPr/>
            <p:nvPr/>
          </p:nvSpPr>
          <p:spPr>
            <a:xfrm>
              <a:off x="860400" y="2906640"/>
              <a:ext cx="7627680" cy="3247560"/>
            </a:xfrm>
            <a:prstGeom prst="rect">
              <a:avLst/>
            </a:prstGeom>
            <a:solidFill>
              <a:srgbClr val="6ac2a5"/>
            </a:solidFill>
            <a:ln w="0">
              <a:noFill/>
            </a:ln>
            <a:effectLst>
              <a:outerShdw dist="114551" dir="2700000" blurRad="0" rotWithShape="0">
                <a:srgbClr val="7f7f7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7"/>
            <p:cNvSpPr/>
            <p:nvPr/>
          </p:nvSpPr>
          <p:spPr>
            <a:xfrm>
              <a:off x="1057320" y="3048120"/>
              <a:ext cx="7233480" cy="29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0" name="Picture 5" descr=""/>
          <p:cNvPicPr/>
          <p:nvPr/>
        </p:nvPicPr>
        <p:blipFill>
          <a:blip r:embed="rId2"/>
          <a:srcRect l="3403" t="6601" r="11977" b="5734"/>
          <a:stretch/>
        </p:blipFill>
        <p:spPr>
          <a:xfrm>
            <a:off x="1270080" y="3343320"/>
            <a:ext cx="6840360" cy="2484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7655040" y="4052880"/>
            <a:ext cx="110016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968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677600" y="2717640"/>
            <a:ext cx="700884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ingful N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Cons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ocumentation and Sty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31680" y="1971720"/>
            <a:ext cx="77547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modified over time to respond to new requir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which are easy to read and understand are easy to modif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if it will be used only once, you have to read it in order to debug it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4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aningful Variable Nam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variable's name should suggest its 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erve conventions in choosing names for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nly letters and dig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"Punctuate" using uppercase letters at word boundaries (e.g.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ax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variables with low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 class names with uppercase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est programs are self-documen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ll-chosen na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ts are written into a program as needed expla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are useful to the programmer, but they are ignored by the compi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 comment can begin with //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ter these symbols and to the end of the line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uble radius; //in centi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ent can begin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between these symbols is treated as a comment and is ignored by the compi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his program should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be used on alternate Thursday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xcept during leap years, when it shou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nly be used on alternate Tuesday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mment, begin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**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nds wit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*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be extracted automatically from Java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/** method change requires the number of coins to be nonnegative *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0:13:46Z</dcterms:created>
  <dc:creator>Robert P. Burton</dc:creator>
  <dc:description/>
  <dc:language>en-US</dc:language>
  <cp:lastModifiedBy>Kenrick Mock</cp:lastModifiedBy>
  <dcterms:modified xsi:type="dcterms:W3CDTF">2014-04-06T10:07:44Z</dcterms:modified>
  <cp:revision>204</cp:revision>
  <dc:subject/>
  <dc:title>Chapter 2 Primitive Types, Strongs, and Console I/O</dc:title>
</cp:coreProperties>
</file>