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27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png" ContentType="image/png"/>
  <Override PartName="/ppt/media/image24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</p:sldIdLst>
  <p:sldSz cx="9144000" cy="6858000"/>
  <p:notesSz cx="6934200" cy="10072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6C1-CBB0-4C40-97EA-37211F17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F43-86B2-4DD7-8F84-EECE4EC3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621-31BC-490D-88A0-4F80FA11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0B7-5AA7-4E5D-ADB4-2131B1A6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B9DD-1156-47D4-A38B-B37735EA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2E7D-3B36-4492-8DFC-BC954723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61C5-6251-4355-B5FD-EF8D149C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ED3A-F1B3-4C8E-B315-7782E789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278D-400C-453C-B031-D555A55C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0700-83F6-45EF-9EC8-CCEE00BF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497A-A61A-4D72-8E09-CB2DD5A1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7A9-F6A0-4B87-8D89-E5323262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EC04-9EB4-489D-A7FB-A4087DFD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1B5C-DA60-474A-AB71-28AD221F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3CE0-E185-4DF0-8765-EF1DBC18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7003-DD0F-4F1C-964D-EA8D42D7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CA44-41FC-4D11-BCF1-0BD9A478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8F3-6EDF-4772-806C-FCCAF182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97E-390B-411B-A394-C24EF6CB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4A1-5A9C-4968-934D-76AE2C6C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93B-1AD8-4A2C-B00B-0760AB8B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ABD-4145-4009-BCA8-CC148F2D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4EB-8C67-436A-BB82-9B4C9713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200F-461D-4405-8EC9-8214E325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78B8-0286-4709-A8C0-D0CA77EF0F1A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5644-BE08-47B0-92CF-83372F11D4B7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7" TargetMode="External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8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9" TargetMode="Externa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10" TargetMode="External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11" TargetMode="External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12" TargetMode="External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2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3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4" TargetMode="External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1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5" TargetMode="Externa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6" TargetMode="Externa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2763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Basic Computation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43160" y="5105520"/>
            <a:ext cx="6400800" cy="12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Naming and Declaring Variable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85076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names that are helpful such a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pe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ut not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you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cla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variable, you provide its name and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 numberOfBaskets,eggsPerBaske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'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rmines what kinds of values it can hold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must be declared before it is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hen to Use 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in each program file with an explanatory com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program d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ame of the auth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ct information for the auth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e of the last modific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only those comments which the expected reader of the program file will need in order to understand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9"/>
          <p:cNvSpPr/>
          <p:nvPr/>
        </p:nvSpPr>
        <p:spPr>
          <a:xfrm>
            <a:off x="763560" y="3218040"/>
            <a:ext cx="765324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15440" y="137160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ircleCalculation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Group 7"/>
          <p:cNvGrpSpPr/>
          <p:nvPr/>
        </p:nvGrpSpPr>
        <p:grpSpPr>
          <a:xfrm>
            <a:off x="762120" y="3216240"/>
            <a:ext cx="7684920" cy="2082960"/>
            <a:chOff x="762120" y="3216240"/>
            <a:chExt cx="7684920" cy="2082960"/>
          </a:xfrm>
        </p:grpSpPr>
        <p:pic>
          <p:nvPicPr>
            <p:cNvPr id="332" name="Picture 5" descr=""/>
            <p:cNvPicPr/>
            <p:nvPr/>
          </p:nvPicPr>
          <p:blipFill>
            <a:blip r:embed="rId2"/>
            <a:srcRect l="84012" t="0" r="0" b="0"/>
            <a:stretch/>
          </p:blipFill>
          <p:spPr>
            <a:xfrm>
              <a:off x="6973920" y="3218040"/>
              <a:ext cx="1473120" cy="20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6" descr=""/>
            <p:cNvPicPr/>
            <p:nvPr/>
          </p:nvPicPr>
          <p:blipFill>
            <a:blip r:embed="rId3"/>
            <a:srcRect l="0" t="0" r="31306" b="0"/>
            <a:stretch/>
          </p:blipFill>
          <p:spPr>
            <a:xfrm>
              <a:off x="762120" y="3216240"/>
              <a:ext cx="6329160" cy="20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4" name="Text Box 8"/>
          <p:cNvSpPr/>
          <p:nvPr/>
        </p:nvSpPr>
        <p:spPr>
          <a:xfrm>
            <a:off x="7521480" y="366696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dent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 should communicate nesting clear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ood choice is four spaces for each level of ind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 should be consist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 should be used for second and subsequent lines of statements which do not fit on a single l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dent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 does not change the behavior of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er indentation helps communicate to the human reader the nested structures of th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Named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void confusion, always name constan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nd variabl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rea = PI * radius * radiu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clearer th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rea = 3.14159 * radius * radiu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 constants near the beginning of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ed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the value of a constant is set (or changed by an editor), it can be used (or reflected) throughout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public static final double INTEREST_RATE = 6.6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literal (such as 6.65) is used instead, every occurrence must be changed, with the risk than another literal with the same value might be changed unintention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claring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ublic static final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Variable_Type = Constan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ublic static final double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I = 3.14159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ublic static final String MOTTO = "The customer is always right.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convention, uppercase letters are used for consta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ed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49280" y="1295280"/>
            <a:ext cx="889776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ircleCalculation2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2"/>
          <a:stretch/>
        </p:blipFill>
        <p:spPr>
          <a:xfrm>
            <a:off x="628560" y="3240000"/>
            <a:ext cx="7683480" cy="1765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348" name="Text Box 6"/>
          <p:cNvSpPr/>
          <p:nvPr/>
        </p:nvSpPr>
        <p:spPr>
          <a:xfrm>
            <a:off x="7521480" y="366696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201680" y="2107800"/>
            <a:ext cx="748512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yle Rules Applied to a Graphics Ap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ting Numeric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-Line Output 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yle Rules Applied to a Graphics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96640" y="1828800"/>
            <a:ext cx="863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100"/>
            </a:b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HappyFace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2.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5" descr=""/>
          <p:cNvPicPr/>
          <p:nvPr/>
        </p:nvPicPr>
        <p:blipFill>
          <a:blip r:embed="rId2"/>
          <a:stretch/>
        </p:blipFill>
        <p:spPr>
          <a:xfrm>
            <a:off x="2365200" y="3106800"/>
            <a:ext cx="3794400" cy="317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354" name="Text Box 6"/>
          <p:cNvSpPr/>
          <p:nvPr/>
        </p:nvSpPr>
        <p:spPr>
          <a:xfrm>
            <a:off x="5710320" y="456552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yntax and Examp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ype variable_1, variable_2, …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variable_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 generic variable called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yntactic variable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 styleChoice, numberOfCheck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 balance, interestRat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har jointOrIndividu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136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yle Rules Applied to a Graphics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246348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constants makes it easier to find val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 and named constants make changing the code much eas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constants protect against changing the wrong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reating a </a:t>
            </a: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JFrame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pplic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9536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Fram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be used to create a standalone GUI applic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ull explanation of how this work in Chapter 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milar to creating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lace the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ort javax.swing.JApple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ort javax.swing.JFra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reating a </a:t>
            </a: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JFrame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pplic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2. Replace the tex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xtends JApple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xtends JFra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3.  Add what is called a constru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public NameOfClass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etSize(600,40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etDefaultCloseOperation(EXIT_ON_CLOS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reating a </a:t>
            </a: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JFrame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pplic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4. Add a main method that displays the windo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HappyFace guiWindow = new HappyFac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guiWindow.setVisible(tru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69800" y="4875120"/>
            <a:ext cx="81788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View </a:t>
            </a:r>
            <a:r>
              <a:rPr b="0" lang="en-US" sz="32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sample program</a:t>
            </a:r>
            <a:br>
              <a:rPr sz="3200"/>
            </a:b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HappyFaceJFrame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ing 2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47760" y="1600200"/>
            <a:ext cx="879624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OptionPaneDemo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2"/>
          <a:stretch/>
        </p:blipFill>
        <p:spPr>
          <a:xfrm>
            <a:off x="560520" y="2654280"/>
            <a:ext cx="3450960" cy="1600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367" name="Picture 6" descr=""/>
          <p:cNvPicPr/>
          <p:nvPr/>
        </p:nvPicPr>
        <p:blipFill>
          <a:blip r:embed="rId3"/>
          <a:stretch/>
        </p:blipFill>
        <p:spPr>
          <a:xfrm>
            <a:off x="3157560" y="3749760"/>
            <a:ext cx="3438360" cy="158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368" name="Picture 7" descr=""/>
          <p:cNvPicPr/>
          <p:nvPr/>
        </p:nvPicPr>
        <p:blipFill>
          <a:blip r:embed="rId4"/>
          <a:stretch/>
        </p:blipFill>
        <p:spPr>
          <a:xfrm>
            <a:off x="5681520" y="4873680"/>
            <a:ext cx="3124440" cy="1515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369" name="Text Box 8"/>
          <p:cNvSpPr/>
          <p:nvPr/>
        </p:nvSpPr>
        <p:spPr>
          <a:xfrm>
            <a:off x="2475000" y="497196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 to construct windows that interact with the us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is imported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ort javax.swing.JApple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produces windows for obtaining input or displaying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howInputDialog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input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string values can be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onvert an input value from a string to an integer use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arseInt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from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,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ppleCount = Integer.parseInt(appleString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is displayed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howMessageDialo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JOptionPane.showMessageDialog(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The total number of fruits = " + totalFruitCoun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_Variable = JOptionPane.showInputDialogue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String_Expressi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JOptionPane.showMessageDialog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null, String_Expressi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exit(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s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au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94880" y="1750680"/>
            <a:ext cx="789156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input is not in the correct format, the program wil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ra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omit the last line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exit(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the program will not end, even when th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utton in the output window is click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ways label any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ata Typ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 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for a class of objects and has both data and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Java is fun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 value of class typ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rimitive 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for simple, nondecomposable values such as an individual number or individual charac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primitive typ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putting Numeric Typ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1371600"/>
            <a:ext cx="8026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.showInputDialo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 to input any of the numeric typ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Neue-MediumCond"/>
              </a:rPr>
              <a:t>Figure 2.8 </a:t>
            </a:r>
            <a:r>
              <a:rPr b="0" lang="en-US" sz="2800" spc="-1" strike="noStrike">
                <a:solidFill>
                  <a:srgbClr val="231f20"/>
                </a:solidFill>
                <a:latin typeface="HelveticaNeue-MediumCond"/>
              </a:rPr>
              <a:t>Methods for converting strings to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1860480" y="3225960"/>
            <a:ext cx="5481720" cy="2944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ulti-Line Output Window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utput multiple lines using the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.showMessageDialo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nsert the new line characte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'\n'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o the string used as the second argu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OptionPane.showMessageDialog(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The number of apples\n"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plus the number of oranges\n"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is equal to " + totalFrui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ulti-Line Output Window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2.9 A dialog window containing multiline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6" descr=""/>
          <p:cNvPicPr/>
          <p:nvPr/>
        </p:nvPicPr>
        <p:blipFill>
          <a:blip r:embed="rId1"/>
          <a:stretch/>
        </p:blipFill>
        <p:spPr>
          <a:xfrm>
            <a:off x="2284560" y="3009960"/>
            <a:ext cx="4512960" cy="2576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440" y="14479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ngeMakerWindow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2"/>
          <a:stretch/>
        </p:blipFill>
        <p:spPr>
          <a:xfrm>
            <a:off x="1136520" y="2709720"/>
            <a:ext cx="3905280" cy="2305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391" name="Picture 6" descr=""/>
          <p:cNvPicPr/>
          <p:nvPr/>
        </p:nvPicPr>
        <p:blipFill>
          <a:blip r:embed="rId3"/>
          <a:stretch/>
        </p:blipFill>
        <p:spPr>
          <a:xfrm>
            <a:off x="5345280" y="3770280"/>
            <a:ext cx="3394080" cy="240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392" name="Text Box 7"/>
          <p:cNvSpPr/>
          <p:nvPr/>
        </p:nvSpPr>
        <p:spPr>
          <a:xfrm>
            <a:off x="3659040" y="522612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82160" y="1990440"/>
            <a:ext cx="760428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come familiar with Java primitive types (numbers, characters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assignment statements and expres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s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come familiar with classes, methods, and o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47520" y="1940040"/>
            <a:ext cx="773892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simple keyboard input and screen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windows-based input and output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mitive Typ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457200" y="1530360"/>
            <a:ext cx="852156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Identifi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dent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name, such as the name of a vari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rs may contain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gits (0 through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nderscore character (_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 dollar sign symbol ($) which has a special mea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charact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 a dig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Identifi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rs may not contain any spaces, dot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asterisk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or other charact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7-11  oracle.com  util.*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ot allow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rs can be arbitrarily lo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Java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se sensi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uf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uf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UF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different identifi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Keywords or Reserved Wor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ds such a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eywor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served wor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have special, predefined mean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not be used as identif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 Appendix 1 for a complete list of Java keywo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keywords: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ing Conven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types begin with an uppercase let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.g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itive types begin with a lowercase letter (e.g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of both class and primitive types begin with a lowercase lett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.g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my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myBal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word names are "punctuated" using uppercase let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here to Declare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lare a vari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 before it is used 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beginning of the section of your program that is enclosed in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{}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{ /* declare variables here */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    . . .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mitive Typ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 integer types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yt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hor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lo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most com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floating-point types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more com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character type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boolean type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the Java data types used for simple data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Java statements to declare variables, define named consta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assignment statements, expressions containing variables and consta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strings of characters, perform simple string process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xamples of Primitive Valu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er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0  -1  365  1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ing-point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0.99  -22.8  3.14159 5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'a'  'A'  '#'  ' '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lean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rue  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ignment statement is used to assign a value to a vari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nswer = 4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"equal sign"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signment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say, "The variable name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ssigned a value of 42," or more simply, "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ssigned 42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variable = ex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another variable,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sta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uch as a number), or something more complicated which combines variables and literals us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uch a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Examp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mount = 3.99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irstInitial = 'W'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ore = numberOfCards + handica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ggsPerBasket = eggsPerBasket - 2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itializing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that has been declared, but no yet given a value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initializ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nitialized class variables have the valu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nitialized primitive variables may have a default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's good practice not to rely on a default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itializing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otect against an uninitialized variable (and to keep the compiler happy), assign a value at the time the variable is decla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 count = 0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 grade = 'A'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itializing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ype variable_1 = expression_1, variable_2 = expression_2, …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Evalu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xpression on the right-hand side of the assignment operator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evaluated fir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ult is used to set the value of the variable on the left-hand side of the assignment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ore = numberOfCards +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handica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ggsPerBasket = eggsPerBasket - 2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mple In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0720" y="1752120"/>
            <a:ext cx="7696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the data needed for a computation are obtained from the user at run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board input requ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mport java.util.Scan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beginning of the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mple In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can be entered from the keyboard us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anner keyboard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new Scanner(System.in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ed, for example,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ggsPerBasket = keyboard.nextInt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reads o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ue from the keyboard and assigns it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ggsPerBask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Java statements that accomplish keyboard input, screen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here to stylistic guidelines and conven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meaningful com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ing a GUI application using th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  <a:ea typeface="Courier New"/>
              </a:rPr>
              <a:t>JFrame</a:t>
            </a: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the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or window-based input and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mple In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440" y="13712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2.2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EggBasket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2"/>
          <a:srcRect l="1528" t="2178" r="1912" b="4357"/>
          <a:stretch/>
        </p:blipFill>
        <p:spPr>
          <a:xfrm>
            <a:off x="1576440" y="2517840"/>
            <a:ext cx="6153120" cy="3606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49" name="Text Box 7"/>
          <p:cNvSpPr/>
          <p:nvPr/>
        </p:nvSpPr>
        <p:spPr>
          <a:xfrm>
            <a:off x="6797520" y="327672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mple Screen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7652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("The count is " + cou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s the sting literal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"the count is 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ed by the current value of the variabl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teral expressions such a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2, 3.7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'y'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sta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er constants can be preceded by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gn, but cannot contain comm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ing-point constants can be writt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digits after a decimal point 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 not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 Not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notation is 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cientific no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loating-point no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865000000.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written a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8.65e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0.00048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4.83e-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in front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es not need to contain a decimal p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9200" y="609480"/>
            <a:ext cx="8704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Imprecision in Floating-Point Number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ing-point numbers often are only approximations since they are stored with a finite number of b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nc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1.0/3.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lightly less than 1/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1.0/3.0 + 1.0/3.0 + 1.0/3.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less than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ed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rovides mechanism to …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e a vari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iz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x the value so it cannot be chan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ublic static final Type Variable = Constant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ublic static final double PI = 3.14159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Compatibiliti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rongly typ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't, for example, assign a floating point value to a variable declared to store an integ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conversions between numbers are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Variable = 7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possible even i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Variab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of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exam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Compatibiliti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lue of one type can be assigned to a variable of any type further to the r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yte --&gt; short --&gt; int --&gt; lo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-&gt; float --&gt; do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not to a variable of any type further to the le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assign a value of typ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a variable of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ype Cas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 cas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orarily changes the value of a variable from the declared type to some other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 dist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istance = 9.0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 points;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oints = (int)dist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legal withou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ype Cas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o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int)dist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o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oth before and after the cast, i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9.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nonzero value to the right of the decimal point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runcat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her th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oun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47920" y="2057400"/>
            <a:ext cx="7238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and Expr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board and Screen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ation and St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Sup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rithmetic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thmetic expressions can be formed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s together with variables or numbers 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pera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oth operands are of the same type, the result is of that ty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one of the operands is a floating-point type and the other is an integer, the result is a floating point ty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rithmetic Oper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hoursWork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which the valu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40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been assigned,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ayR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whic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8.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s been assig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hoursWorked * payR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a value o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500.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rithmetic Oper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ressions with two or more operators can be viewed as a series of steps, each involving only two opera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ult of one step produces one of the operands to be used in the next ste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balance + (balance * ra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rithmetic Oper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t least one of the operands is a floating-point type and the rest are integers, the result will be a floating point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ult is the rightmost type from the following list that occurs in the expre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yte --&gt; short --&gt; int --&gt; lo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-&gt; float --&gt; do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Division Operat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vision operator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behaves as expected if one of the operands is a floating-point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both operands are integer types, the result is truncated, not roun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9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nce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99/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s a value of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800" spc="-1" strike="noStrike">
                <a:solidFill>
                  <a:srgbClr val="ed7d31"/>
                </a:solidFill>
                <a:latin typeface="Courier New"/>
              </a:rPr>
              <a:t>mo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Operat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m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perator is used with operators of integer type to obtain the remainder after integer divi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4 divided by 4 is 3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ith a remainder of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nce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14 % 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equal to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d operator has many uses, inclu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ing if an integer is odd or 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ing if one integer is evenly divisible by another integ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entheses and Preceden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heses can communicate the order in which arithmetic operations are per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cost + tax) * dis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cost + (tax * discou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out parentheses, an expressions is evaluated according to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ules of preced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2.2 Precedence Ru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2125800" y="2751120"/>
            <a:ext cx="5611680" cy="2652840"/>
          </a:xfrm>
          <a:prstGeom prst="rect">
            <a:avLst/>
          </a:prstGeom>
          <a:ln w="12600">
            <a:solidFill>
              <a:srgbClr val="203864"/>
            </a:solidFill>
            <a:miter/>
          </a:ln>
          <a:effectLst>
            <a:outerShdw dist="101823" dir="270000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in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ithmetic operator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*, /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ha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wer preceden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n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, -, ++, --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ut ha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igher preced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n the binary arithmetic operator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binary operators have equal precedence, the operator on the left acts before the operator(s) on the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unary operators have equal precedence, the operator on the right acts before the operation(s) on the l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when parentheses are not needed, they can be used to make the code clear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balance + (interestRate * balan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ces also make code clear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balance + interestRate*bal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spaces do not dictate preced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Variables and Expression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23880" y="18284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Ident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Screen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Cons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ample Express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2.3 Some Arithmetic Expressions in 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069920" y="2770200"/>
            <a:ext cx="7201080" cy="2306520"/>
          </a:xfrm>
          <a:prstGeom prst="rect">
            <a:avLst/>
          </a:prstGeom>
          <a:ln w="12600">
            <a:solidFill>
              <a:srgbClr val="203864"/>
            </a:solidFill>
            <a:miter/>
          </a:ln>
          <a:effectLst>
            <a:outerShdw dist="101823" dir="270000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pecialized Assignment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operators can be combined with arithmetic operators (including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, *, /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%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late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mount = amount + 5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mount += 5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ielding the same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ase Study:Vending Machine Chang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514240"/>
            <a:ext cx="8229600" cy="34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r enters an amount between 1 cent and 99 c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gram determines a combination of coins equal to that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55 cents can be two quarters and one nick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dial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nter a whole number from 1 to 9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he machine will determine a combination of coi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87 cents in coi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3 quar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1 d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0 nick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2 pen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96880" y="1600200"/>
            <a:ext cx="718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 amount,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quarters,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imes,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nickels,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ennie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 - first 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ad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Find the maximum number of quarters in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ubtract the value of the quarters from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peat the last two steps for dimes, nickels, and penn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rint the original amount and the quantities of each co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,cont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lgorithm doesn't work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 amount is changed by the intermediate ste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 value of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mou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lo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the list of variab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 amount, originalAmount, quarters, dimes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nickles, penni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the algorith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gorithm – second vers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ad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Make a copy of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Find the maximum number of quarters in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ubtract the value of the quarters from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peat the last two steps for dimes, nickels, and penn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rint the original amount and the quantities of each co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Java cod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lem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algorithm written in pseudocode – listing 2.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rcRect l="1103" t="1912" r="1248" b="4878"/>
          <a:stretch/>
        </p:blipFill>
        <p:spPr>
          <a:xfrm>
            <a:off x="998640" y="2733840"/>
            <a:ext cx="7453080" cy="3246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9" name="Text Box 5"/>
          <p:cNvSpPr/>
          <p:nvPr/>
        </p:nvSpPr>
        <p:spPr>
          <a:xfrm>
            <a:off x="6248520" y="4343400"/>
            <a:ext cx="1676160" cy="1008720"/>
          </a:xfrm>
          <a:prstGeom prst="rect">
            <a:avLst/>
          </a:prstGeom>
          <a:solidFill>
            <a:srgbClr val="2f5597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we determine the number of quarters (or dimes, nickels, or pennies) in an amou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2 quarters in 55 cents, but there are also 2 quarters in 65 c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's becau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55 / 2 = 2 and 65 / 25 =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3055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Variables and Expression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47560" y="1828440"/>
            <a:ext cx="7086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Compat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thmetic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heses and Precedence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ized Assignment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se Stud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nding Machine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ment and Decrement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we determine the remaining amou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maining amount can be determined using th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55 % 25 = 5 and 65 % 25 = 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ly for dimes and nick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nies are simply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mount % 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gram should be tested with several different amou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with values that give zero values for each possible coin denomin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with amounts close 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 values such as 0, 1, 98 and 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in denominations, such as 24, 25, and 2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crement and Decrement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increase (or decrease) the value of a variable by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y to use, important to recogn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crement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+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++c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crement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-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--c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crement and Decrement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1034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valent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++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++coun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 = count +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--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--coun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 = count -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crement and Decrement Operators in Express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480" y="21337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execu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m = 4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result = 3 * (++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value o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value o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execu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m = 4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result = 3 * (m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value o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value o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Class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've used constants of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rea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Enter a whole number from 1 to 99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lue of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quence of charac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ed as a single i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ring Constants and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la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 greet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greeting = "Hello!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greeting = "Hello!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greeting = new String("Hello!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.println(greeting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ncatenation of String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strings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catena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greeting = "Hello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sentenc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entence = greeting + " officer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(sentenc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number of strings can be concatenated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ncatenating Strings and Integ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tring solutio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olution = "The answer is " + 4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 (solution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733400" y="402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The temperature is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1"/>
          <p:cNvGrpSpPr/>
          <p:nvPr/>
        </p:nvGrpSpPr>
        <p:grpSpPr>
          <a:xfrm>
            <a:off x="1612800" y="3778200"/>
            <a:ext cx="5894640" cy="2286000"/>
            <a:chOff x="1612800" y="3778200"/>
            <a:chExt cx="5894640" cy="2286000"/>
          </a:xfrm>
        </p:grpSpPr>
        <p:sp>
          <p:nvSpPr>
            <p:cNvPr id="232" name="Rectangle 12"/>
            <p:cNvSpPr/>
            <p:nvPr/>
          </p:nvSpPr>
          <p:spPr>
            <a:xfrm>
              <a:off x="1612800" y="3778200"/>
              <a:ext cx="5894640" cy="2286000"/>
            </a:xfrm>
            <a:prstGeom prst="rect">
              <a:avLst/>
            </a:prstGeom>
            <a:solidFill>
              <a:srgbClr val="2f5597"/>
            </a:solidFill>
            <a:ln w="0">
              <a:noFill/>
            </a:ln>
            <a:effectLst>
              <a:outerShdw dist="101823" dir="2700000" blurRad="0" rotWithShape="0">
                <a:srgbClr val="7f7f7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3"/>
            <p:cNvSpPr/>
            <p:nvPr/>
          </p:nvSpPr>
          <p:spPr>
            <a:xfrm>
              <a:off x="1904400" y="4006800"/>
              <a:ext cx="5245560" cy="1786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4"/>
          <p:cNvSpPr/>
          <p:nvPr/>
        </p:nvSpPr>
        <p:spPr>
          <a:xfrm>
            <a:off x="1949400" y="43149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The answer is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r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bject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stores data consisting of a sequence of charac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have methods as well as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length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returns the number of characters in a particula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greeting = "Hello";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 n = greeting.length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ore data such as numbers and let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nk of them as places to store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re implemented as memory loc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stored by a variable is called i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lue is stored in the memory loc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s value can be chang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Metho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length(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1840" y="1990440"/>
            <a:ext cx="88218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length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turns 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use a call to metho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length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where 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count = command.length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("Length is " +    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  command.length()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count = command.length() + 3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1440000"/>
            <a:ext cx="7772400" cy="46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s start with 0, not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'J' in "Java is fun." is in position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sition is referred to an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"Java is fun.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index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85800" y="322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d7d31"/>
                </a:solidFill>
                <a:latin typeface="Courier New"/>
              </a:rPr>
              <a:t>String </a:t>
            </a: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I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512640" y="2217600"/>
            <a:ext cx="8102880" cy="152244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990720" y="69840"/>
            <a:ext cx="685800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Process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 methods allow you to change the value of 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objec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ut you can change the value of 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ringDemo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2.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3538440" y="4419720"/>
            <a:ext cx="4824360" cy="1717200"/>
            <a:chOff x="3538440" y="4419720"/>
            <a:chExt cx="4824360" cy="1717200"/>
          </a:xfrm>
        </p:grpSpPr>
        <p:pic>
          <p:nvPicPr>
            <p:cNvPr id="247" name="Picture 4" descr=""/>
            <p:cNvPicPr/>
            <p:nvPr/>
          </p:nvPicPr>
          <p:blipFill>
            <a:blip r:embed="rId2"/>
            <a:srcRect l="429" t="1569" r="33178" b="0"/>
            <a:stretch/>
          </p:blipFill>
          <p:spPr>
            <a:xfrm>
              <a:off x="3538440" y="4419720"/>
              <a:ext cx="4235400" cy="17157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248" name="Picture 5" descr=""/>
            <p:cNvPicPr/>
            <p:nvPr/>
          </p:nvPicPr>
          <p:blipFill>
            <a:blip r:embed="rId3"/>
            <a:srcRect l="84849" t="1569" r="-794" b="0"/>
            <a:stretch/>
          </p:blipFill>
          <p:spPr>
            <a:xfrm>
              <a:off x="7345080" y="4421160"/>
              <a:ext cx="1017720" cy="17157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  <p:sp>
        <p:nvSpPr>
          <p:cNvPr id="249" name="Text Box 7"/>
          <p:cNvSpPr/>
          <p:nvPr/>
        </p:nvSpPr>
        <p:spPr>
          <a:xfrm>
            <a:off x="7502400" y="542772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scape Charact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ould you pr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Java" refers to a language.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iler needs to be told that the quotation marks (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o not signal the start or end of a string, but instead are to be prin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\"Java\" refers to a language.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scape Charact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44400" y="4021200"/>
            <a:ext cx="80424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2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escape sequence is a single character even though it is written with two symbo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1147680" y="1643040"/>
            <a:ext cx="6648480" cy="2081160"/>
          </a:xfrm>
          <a:prstGeom prst="rect">
            <a:avLst/>
          </a:prstGeom>
          <a:ln w="12600">
            <a:solidFill>
              <a:srgbClr val="996633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xamp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.println("abc\\def"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.println("new\nline"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 singleQuote = '\''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.println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(singleQuote);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1949400" y="2205000"/>
            <a:ext cx="2355840" cy="879480"/>
            <a:chOff x="1949400" y="2205000"/>
            <a:chExt cx="2355840" cy="879480"/>
          </a:xfrm>
        </p:grpSpPr>
        <p:sp>
          <p:nvSpPr>
            <p:cNvPr id="258" name="Rectangle 5"/>
            <p:cNvSpPr/>
            <p:nvPr/>
          </p:nvSpPr>
          <p:spPr>
            <a:xfrm>
              <a:off x="1949400" y="2205000"/>
              <a:ext cx="2355840" cy="879480"/>
            </a:xfrm>
            <a:prstGeom prst="rect">
              <a:avLst/>
            </a:prstGeom>
            <a:solidFill>
              <a:srgbClr val="6ac2a5"/>
            </a:solidFill>
            <a:ln w="1260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6"/>
            <p:cNvSpPr/>
            <p:nvPr/>
          </p:nvSpPr>
          <p:spPr>
            <a:xfrm>
              <a:off x="2066040" y="2292840"/>
              <a:ext cx="2096640" cy="687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2"/>
          <p:cNvGrpSpPr/>
          <p:nvPr/>
        </p:nvGrpSpPr>
        <p:grpSpPr>
          <a:xfrm>
            <a:off x="5691240" y="5407200"/>
            <a:ext cx="2355840" cy="879480"/>
            <a:chOff x="5691240" y="5407200"/>
            <a:chExt cx="2355840" cy="879480"/>
          </a:xfrm>
        </p:grpSpPr>
        <p:sp>
          <p:nvSpPr>
            <p:cNvPr id="261" name="Rectangle 13"/>
            <p:cNvSpPr/>
            <p:nvPr/>
          </p:nvSpPr>
          <p:spPr>
            <a:xfrm>
              <a:off x="5691240" y="5407200"/>
              <a:ext cx="2355840" cy="879480"/>
            </a:xfrm>
            <a:prstGeom prst="rect">
              <a:avLst/>
            </a:prstGeom>
            <a:solidFill>
              <a:srgbClr val="6ac2a5"/>
            </a:solidFill>
            <a:ln w="1260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4"/>
            <p:cNvSpPr/>
            <p:nvPr/>
          </p:nvSpPr>
          <p:spPr>
            <a:xfrm>
              <a:off x="5807880" y="5495040"/>
              <a:ext cx="2096640" cy="687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5724360" y="5573880"/>
            <a:ext cx="8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2201760" y="2436840"/>
            <a:ext cx="2303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bc\d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9"/>
          <p:cNvGrpSpPr/>
          <p:nvPr/>
        </p:nvGrpSpPr>
        <p:grpSpPr>
          <a:xfrm>
            <a:off x="1965240" y="3813120"/>
            <a:ext cx="2355840" cy="879480"/>
            <a:chOff x="1965240" y="3813120"/>
            <a:chExt cx="2355840" cy="879480"/>
          </a:xfrm>
        </p:grpSpPr>
        <p:sp>
          <p:nvSpPr>
            <p:cNvPr id="266" name="Rectangle 10"/>
            <p:cNvSpPr/>
            <p:nvPr/>
          </p:nvSpPr>
          <p:spPr>
            <a:xfrm>
              <a:off x="1965240" y="3813120"/>
              <a:ext cx="2355840" cy="879480"/>
            </a:xfrm>
            <a:prstGeom prst="rect">
              <a:avLst/>
            </a:prstGeom>
            <a:solidFill>
              <a:srgbClr val="6ac2a5"/>
            </a:solidFill>
            <a:ln w="1260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11"/>
            <p:cNvSpPr/>
            <p:nvPr/>
          </p:nvSpPr>
          <p:spPr>
            <a:xfrm>
              <a:off x="2081880" y="3900960"/>
              <a:ext cx="2096640" cy="687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8"/>
          <p:cNvSpPr/>
          <p:nvPr/>
        </p:nvSpPr>
        <p:spPr>
          <a:xfrm>
            <a:off x="2197080" y="3843360"/>
            <a:ext cx="225252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Unicode Character S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rogramming languages use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CI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aracter s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uses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ic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aracter set which includes the ASCII character s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nicode character set includes characters from many different alphabets (but you probably won't use the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Keyboard and Screen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/O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573280" y="2763720"/>
            <a:ext cx="611352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reen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board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lass EggBas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rcRect l="3056" t="14443" r="3649" b="18617"/>
          <a:stretch/>
        </p:blipFill>
        <p:spPr>
          <a:xfrm>
            <a:off x="912960" y="2844720"/>
            <a:ext cx="7515000" cy="178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03" name="Text Box 7"/>
          <p:cNvSpPr/>
          <p:nvPr/>
        </p:nvSpPr>
        <p:spPr>
          <a:xfrm>
            <a:off x="6313320" y="327960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've seen several examples of screen output alrea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that is part of Ja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rintln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ne of the methods available to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43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concatenation operator (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 is useful when everything does not fit on one line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("Lucky number = " + 13 +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Secret number = " + numb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o not break the line except immediately before or after the concatenation operator (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ternatively, use 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rint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("One, two,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(" buckle my shoe.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(" Three, four,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(" shut the door.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ing with 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rintln(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Keyboard In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has reasonable facilities for handling keyboard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facilities are provided by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in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ck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library of clas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the Scanner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ar the beginning of your program, ins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ort java.util.Scanne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n object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canner keyboard 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new Scanner (System.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data (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examp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 n1 = keyboard.nextInt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 d1 = keyboard,nextDoubl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Keyboard Input Demonstr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1295280"/>
            <a:ext cx="78408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cannerDemo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1243080" y="2341440"/>
            <a:ext cx="6335640" cy="397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86" name="Text Box 6"/>
          <p:cNvSpPr/>
          <p:nvPr/>
        </p:nvSpPr>
        <p:spPr>
          <a:xfrm>
            <a:off x="5792760" y="337968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43956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me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Scanne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2.7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1098720" y="2252520"/>
            <a:ext cx="7213320" cy="4034160"/>
          </a:xfrm>
          <a:prstGeom prst="rect">
            <a:avLst/>
          </a:prstGeom>
          <a:ln w="12600">
            <a:solidFill>
              <a:srgbClr val="996633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439200"/>
            <a:ext cx="845820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me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Scanne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39212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2.7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1487520" y="1938240"/>
            <a:ext cx="6510240" cy="4432320"/>
          </a:xfrm>
          <a:prstGeom prst="rect">
            <a:avLst/>
          </a:prstGeom>
          <a:ln w="12600">
            <a:solidFill>
              <a:srgbClr val="996633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nextLine()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 Cau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10780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nextLine()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read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mainder of the current lin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en if it is emp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nextLine()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 Cau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– given following decla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n;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tring s1, s2;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n = keyboard.nextInt();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1 = keyboard.nextLine();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2 = keyboard.nextLine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 input sh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set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set to the empty str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5"/>
          <p:cNvGrpSpPr/>
          <p:nvPr/>
        </p:nvGrpSpPr>
        <p:grpSpPr>
          <a:xfrm>
            <a:off x="4687920" y="4102200"/>
            <a:ext cx="3051000" cy="1625400"/>
            <a:chOff x="4687920" y="4102200"/>
            <a:chExt cx="3051000" cy="1625400"/>
          </a:xfrm>
        </p:grpSpPr>
        <p:sp>
          <p:nvSpPr>
            <p:cNvPr id="298" name="Rectangle 6"/>
            <p:cNvSpPr/>
            <p:nvPr/>
          </p:nvSpPr>
          <p:spPr>
            <a:xfrm>
              <a:off x="4687920" y="4102200"/>
              <a:ext cx="3051000" cy="1625400"/>
            </a:xfrm>
            <a:prstGeom prst="rect">
              <a:avLst/>
            </a:prstGeom>
            <a:solidFill>
              <a:srgbClr val="6ac2a5"/>
            </a:solidFill>
            <a:ln w="1260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7"/>
            <p:cNvSpPr/>
            <p:nvPr/>
          </p:nvSpPr>
          <p:spPr>
            <a:xfrm>
              <a:off x="4838760" y="4264920"/>
              <a:ext cx="2715120" cy="127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 Box 4"/>
          <p:cNvSpPr/>
          <p:nvPr/>
        </p:nvSpPr>
        <p:spPr>
          <a:xfrm>
            <a:off x="4537080" y="4267080"/>
            <a:ext cx="3065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nd don't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forge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and Valu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numberOfBask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ggsPerBas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otalEg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ing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ggsPerBasket = 6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ggsPerBasket = eggsPerBasket -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Empty Str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ring can have any number of characters, including z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ring with zero characters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mpt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mpty string is useful and can be created in many ways inclu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s3 = "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57280" y="32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ther Input Delimiters (optional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12680"/>
            <a:ext cx="82296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most any combination of characters and strings can be used to separate keyboard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hange the delimiter to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"##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keyboard2.useDelimiter("##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tespace will no longer be a delimiter for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keyboard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ther Input Delimit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169200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elimitersDemo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" name="Group 5"/>
          <p:cNvGrpSpPr/>
          <p:nvPr/>
        </p:nvGrpSpPr>
        <p:grpSpPr>
          <a:xfrm>
            <a:off x="860400" y="2906640"/>
            <a:ext cx="7627680" cy="3247560"/>
            <a:chOff x="860400" y="2906640"/>
            <a:chExt cx="7627680" cy="3247560"/>
          </a:xfrm>
        </p:grpSpPr>
        <p:sp>
          <p:nvSpPr>
            <p:cNvPr id="308" name="Rectangle 6"/>
            <p:cNvSpPr/>
            <p:nvPr/>
          </p:nvSpPr>
          <p:spPr>
            <a:xfrm>
              <a:off x="860400" y="2906640"/>
              <a:ext cx="7627680" cy="3247560"/>
            </a:xfrm>
            <a:prstGeom prst="rect">
              <a:avLst/>
            </a:prstGeom>
            <a:solidFill>
              <a:srgbClr val="6ac2a5"/>
            </a:solidFill>
            <a:ln w="0">
              <a:noFill/>
            </a:ln>
            <a:effectLst>
              <a:outerShdw dist="114551" dir="2700000" blurRad="0" rotWithShape="0">
                <a:srgbClr val="7f7f7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7"/>
            <p:cNvSpPr/>
            <p:nvPr/>
          </p:nvSpPr>
          <p:spPr>
            <a:xfrm>
              <a:off x="1057320" y="3048120"/>
              <a:ext cx="7233480" cy="2953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Picture 5" descr=""/>
          <p:cNvPicPr/>
          <p:nvPr/>
        </p:nvPicPr>
        <p:blipFill>
          <a:blip r:embed="rId2"/>
          <a:srcRect l="3403" t="6601" r="11977" b="5734"/>
          <a:stretch/>
        </p:blipFill>
        <p:spPr>
          <a:xfrm>
            <a:off x="1270080" y="3343320"/>
            <a:ext cx="6840360" cy="24843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7655040" y="405288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68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ocumentation and Style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677600" y="2717640"/>
            <a:ext cx="7008840" cy="34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ingful N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Cons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ocumentation and Sty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31680" y="1971720"/>
            <a:ext cx="77547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rograms are modified over time to respond to new requir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 which are easy to read and understand are easy to mod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if it will be used only once, you have to read it in order to debug it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4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aningful Variable Nam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's name should suggest its 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conventions in choosing names for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nly letters and dig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Punctuate" using uppercase letters at word boundaries (e.g.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axR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 variables with lowercase let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 class names with uppercase let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est programs are self-documen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n st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ll-chosen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 are written into a program as needed explain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re useful to the programmer, but they are ignored by the compil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comment can begin with //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thing after these symbols and to the end of the line is treated as a comment and is ignored by the compi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 radius; //in centime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ent can begin wit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/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end wit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*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thing between these symbols is treated as a comment and is ignored by the compi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This program should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be used on alternate Thursday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except during leap years, when it sh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only be used on alternate Tuesda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javado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ment, begins wit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/*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ends wit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*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an be extracted automatically from Java soft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/** method change requires the number of coins to be nonnegative *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0:13:46Z</dcterms:created>
  <dc:creator>Robert P. Burton</dc:creator>
  <dc:description/>
  <dc:language>en-US</dc:language>
  <cp:lastModifiedBy>Kenrick Mock</cp:lastModifiedBy>
  <dcterms:modified xsi:type="dcterms:W3CDTF">2014-04-06T10:07:44Z</dcterms:modified>
  <cp:revision>204</cp:revision>
  <dc:subject/>
  <dc:title>Chapter 2 Primitive Types, Strongs, and Console I/O</dc:title>
</cp:coreProperties>
</file>