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BD84-9A1A-4E5D-AD8A-AD9BF045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F33-32AA-4D39-BFBE-B284E404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86CE-FFCF-4AE2-8FBB-2BF6AF51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F6A7-227A-46E3-9A6D-0A8721FB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5A18-3B78-4D5A-BFE1-0E8FD8122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8F35-29A7-4F5B-B630-06B5FBA5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5449-ABA1-4390-8A65-DAD2BC74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342A-6EB1-48A6-A1BC-4DE48417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99C3-4D4E-4DBE-A136-B43C14F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B616-8B5E-40A8-A2A6-DECA6831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0009-CDAF-46A9-B6CF-B729FC83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447-96BB-4519-8A19-97A85CCF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2F17-08E7-49C1-95D4-3964FBF9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E44F-563D-4462-9C65-FDD2BFE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A506-C416-464D-9F65-98527A29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69F9-8061-45B9-A65B-6950CD27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07333-3DE8-41ED-84F2-FEBA0F8A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21E-2E2F-4F0B-8507-A40D1D8B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B6A-47DE-4650-80B6-51AC7E83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A66-8D7F-4CCF-9707-5679550A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C1B5-AB4D-4C08-AAA2-55DC9B62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0B1-F2CC-439C-B4F4-3C14AA6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167-6A15-422C-89E2-2254EB08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6A13-1B8B-4969-AE01-EDE00E04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4810-7AC2-48E3-ADB0-ACA15CE4EFD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D958-68FD-4917-8877-670F20FEC55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7" TargetMode="External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8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9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0" TargetMode="Externa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1" TargetMode="External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2" TargetMode="External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2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3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4" TargetMode="External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5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6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Basic Computatio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43160" y="5105520"/>
            <a:ext cx="6400800" cy="12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Naming and Declaring Variabl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85076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names that are helpful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not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variable, you provide its name and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numberOfBaskets,eggsPerBaske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what kinds of values it can hold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must be declared before it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n to Use 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 each program file with an explanatory com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program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of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information for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 of the last mod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only those comments which the expected reader of the program file will need in order to understand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"/>
          <p:cNvSpPr/>
          <p:nvPr/>
        </p:nvSpPr>
        <p:spPr>
          <a:xfrm>
            <a:off x="763560" y="3218040"/>
            <a:ext cx="765324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15440" y="137160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762120" y="3216240"/>
            <a:ext cx="7684920" cy="2082960"/>
            <a:chOff x="762120" y="3216240"/>
            <a:chExt cx="7684920" cy="2082960"/>
          </a:xfrm>
        </p:grpSpPr>
        <p:pic>
          <p:nvPicPr>
            <p:cNvPr id="332" name="Picture 5" descr=""/>
            <p:cNvPicPr/>
            <p:nvPr/>
          </p:nvPicPr>
          <p:blipFill>
            <a:blip r:embed="rId2"/>
            <a:srcRect l="84012" t="0" r="0" b="0"/>
            <a:stretch/>
          </p:blipFill>
          <p:spPr>
            <a:xfrm>
              <a:off x="6973920" y="3218040"/>
              <a:ext cx="1473120" cy="20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"/>
            <p:cNvPicPr/>
            <p:nvPr/>
          </p:nvPicPr>
          <p:blipFill>
            <a:blip r:embed="rId3"/>
            <a:srcRect l="0" t="0" r="31306" b="0"/>
            <a:stretch/>
          </p:blipFill>
          <p:spPr>
            <a:xfrm>
              <a:off x="762120" y="3216240"/>
              <a:ext cx="6329160" cy="20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Text Box 8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communicate nesting cle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choice is four spaces for each level of ind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consis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used for second and subsequent lines of statements which do not fit on a single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does not change the behavior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indentation helps communicate to the human reader the nested structures 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void confusion, always name consta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d variabl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PI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clearer th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3.14159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constants near the beginning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the value of a constant is set (or changed by an editor), it can be used (or reflected) throughout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final double INTEREST_RATE = 6.6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literal (such as 6.65) is used instead, every occurrence must be changed, with the risk than another literal with the same value might be changed unintention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laring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Variable_Type = Consta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double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I = 3.1415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String MOTTO = "The customer is always right.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nvention, uppercase letters are used for const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280" y="1295280"/>
            <a:ext cx="88977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2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2"/>
          <a:stretch/>
        </p:blipFill>
        <p:spPr>
          <a:xfrm>
            <a:off x="628560" y="3240000"/>
            <a:ext cx="7683480" cy="176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48" name="Text Box 6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01680" y="2107800"/>
            <a:ext cx="74851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yle Rules Applied to a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ting Numeric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Line Output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640" y="1828800"/>
            <a:ext cx="86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HappyFac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2"/>
          <a:stretch/>
        </p:blipFill>
        <p:spPr>
          <a:xfrm>
            <a:off x="2365200" y="3106800"/>
            <a:ext cx="3794400" cy="317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54" name="Text Box 6"/>
          <p:cNvSpPr/>
          <p:nvPr/>
        </p:nvSpPr>
        <p:spPr>
          <a:xfrm>
            <a:off x="5710320" y="45655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and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ype variable_1, variable_2, …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variable_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generic variable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yntactic variabl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styleChoice, numberOfCheck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balance, interestR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 jointOrIndividu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136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46348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makes it easier to fi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nd named constants make changing the code much ea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protect against changing the wrong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9536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Fram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be used to create a standalone GUI appli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ull explanation of how this work in Chapter 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ilar to creating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lace th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. Replace the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.  Add what is called a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NameOfClass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Size(600,40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DefaultCloseOperation(EXIT_ON_CLO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4. Add a main method that displays the wind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HappyFace guiWindow = new HappyFac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uiWindow.setVisi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69800" y="4875120"/>
            <a:ext cx="8178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View 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sample program</a:t>
            </a:r>
            <a:br>
              <a:rPr sz="3200"/>
            </a:b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HappyFaceJFram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ng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47760" y="1600200"/>
            <a:ext cx="87962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OptionPane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560520" y="2654280"/>
            <a:ext cx="3450960" cy="16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3157560" y="3749760"/>
            <a:ext cx="3438360" cy="15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8" name="Picture 7" descr=""/>
          <p:cNvPicPr/>
          <p:nvPr/>
        </p:nvPicPr>
        <p:blipFill>
          <a:blip r:embed="rId4"/>
          <a:stretch/>
        </p:blipFill>
        <p:spPr>
          <a:xfrm>
            <a:off x="5681520" y="4873680"/>
            <a:ext cx="3124440" cy="151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69" name="Text Box 8"/>
          <p:cNvSpPr/>
          <p:nvPr/>
        </p:nvSpPr>
        <p:spPr>
          <a:xfrm>
            <a:off x="2475000" y="4971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construct windows that interact with the 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impor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produces windows for obtaining input or displaying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InputDialog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inpu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string values can be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nvert an input value from a string to an integer use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rseInt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ppleCount = Integer.parseInt(appleStrin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is display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MessageDialo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(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total number of fruits = " + totalFruitCou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Variable = JOptionPane.showInputDialogue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null, 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s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au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94880" y="1750680"/>
            <a:ext cx="789156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input is not in the correct format, the program wi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omit the last lin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 program will not end, even when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utton in the output window is cli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label any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ata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a class of objects and has both data and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 is fu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value of class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imitive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simple, nondecomposable values such as an individual number or individual charac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rimitive ty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ting Numeric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371600"/>
            <a:ext cx="802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Input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input any of the numeric 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-MediumCond"/>
              </a:rPr>
              <a:t>Figure 2.8 </a:t>
            </a:r>
            <a:r>
              <a:rPr b="0" lang="en-US" sz="2800" spc="-1" strike="noStrike">
                <a:solidFill>
                  <a:srgbClr val="231f20"/>
                </a:solidFill>
                <a:latin typeface="HelveticaNeue-MediumCond"/>
              </a:rPr>
              <a:t>Methods for converting strings to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1860480" y="3225960"/>
            <a:ext cx="548172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utput multiple lines using 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sert the new line charact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\n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the string used as the second argu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OptionPane.showMessageDialog(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number of appl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plus the number of orang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is equal to " + totalFrui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9 A dialog window containing multiline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1"/>
          <a:stretch/>
        </p:blipFill>
        <p:spPr>
          <a:xfrm>
            <a:off x="2284560" y="3009960"/>
            <a:ext cx="4512960" cy="257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44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ngeMakerWindow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1136520" y="2709720"/>
            <a:ext cx="3905280" cy="230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5345280" y="3770280"/>
            <a:ext cx="3394080" cy="24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92" name="Text Box 7"/>
          <p:cNvSpPr/>
          <p:nvPr/>
        </p:nvSpPr>
        <p:spPr>
          <a:xfrm>
            <a:off x="3659040" y="52261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82160" y="1990440"/>
            <a:ext cx="76042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Java primitive types (numbers, character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assignment statements and expr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classes, methods, and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47520" y="1940040"/>
            <a:ext cx="77389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imple keyboard input and screen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windows-based input and output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57200" y="1530360"/>
            <a:ext cx="85215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name, such as the name of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contain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s (0 through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nderscore character (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dollar sign symbol ($) which has a special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charact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 dig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not contain any spaces, do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sterisk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or other charac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7-11  oracle.com  util.*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ot allow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can be arbitrarily lo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Java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fferent identifi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words or Reserved Wor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erved wor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ave special, predefined mean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be used as ident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Appendix 1 for a complete list of Java key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keywords: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ing Conven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types begin with an uppercase let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itive types begin with a lowercase letter 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of both class and primitive types begin with a lowercase lett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Bal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ord names are "punctuated" using uppercase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re to Declar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e a vari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before it is used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beginning of the section of your program that is enclosed i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{ /* declare variables here */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  . . .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integer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st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loating-point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re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haracter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oolean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the Java data types used for simple dat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o declare variables, define name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ssignment statements, expressions containing variables an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strings of characters, perform simple string proc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 of Primitive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  -1  365  1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.99  -22.8  3.14159 5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a'  'A'  '#'  ' '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 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ignment statement is used to assign a value to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swer = 4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"equal sign"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ay, "The variable nam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a value of 42," or more simply, "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42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variable =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nother variable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a number), or something more complicated which combines variables and literals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3.99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irstInitial = 'W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that has been declared, but no yet given a value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niti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class variables have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primitive variables may have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's good practice not to rely on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tect against an uninitialized variable (and to keep the compiler happy), assign a value at the time the variable is decla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count = 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grade = 'A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ype variable_1 = expression_1, variable_2 = expression_2, …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pression on the right-hand side of the assignment operato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valuated fir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used to set the value of the variable on the left-hand side of the 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7521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the data needed for a computation are obtained from the user at ru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 re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mport java.util.Sc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beginning of th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an be entered from the keyboard us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 Scanner(System.in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, for example,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keyboard.nextIn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reads 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from the keyboard and assigns i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hat accomplish keyboard input, screen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here to stylistic guidelines and conven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aningful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ing a GUI application using th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th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window-based input and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EggBasket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rcRect l="1528" t="2178" r="1912" b="4357"/>
          <a:stretch/>
        </p:blipFill>
        <p:spPr>
          <a:xfrm>
            <a:off x="1576440" y="2517840"/>
            <a:ext cx="6153120" cy="3606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9" name="Text Box 7"/>
          <p:cNvSpPr/>
          <p:nvPr/>
        </p:nvSpPr>
        <p:spPr>
          <a:xfrm>
            <a:off x="6797520" y="327672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52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The count is " + cou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s the sting literal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the count is 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 by the current value of the variabl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l expression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2, 3.7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y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constants can be preceded by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gn, but cannot contain com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constants can be writ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digits after a decimal point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 no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 No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notation is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ating-point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65000000.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written a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.65e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.00048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.83e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in fron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need to contain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9200" y="609480"/>
            <a:ext cx="8704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Imprecision in Floating-Point Numbe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numbers often are only approximations since they are stored with a finite number of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c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lightly less than 1/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 + 1.0/3.0 + 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less than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mechanism to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a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x the value so it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Type Variable = Constan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double PI = 3.14159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ongly ty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't, for example, assign a floating point value to a variable declared to store an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onversions between numbers ar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= 7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ossible even 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one type can be assigned to a variable of any type further to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not to a variable of any type further to t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ssign a value of ty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a variabl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 ca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ily changes the value of a variable from the declared type to some other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 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 = 9.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points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oints = (int)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egal witho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dist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oth before and after the cast, 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onzero value to the right of the decimal point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runcat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2057400"/>
            <a:ext cx="7238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and Ex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and Screen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 and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expressions can be form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together with variables or number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oth operands are of the same type, the result is of tha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ne of the operands is a floating-point type and the other is an integer, the result is a floating poin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4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been assigned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y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8.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been assig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 * pay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a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500.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s with two or more operators can be viewed as a series of steps, each involving only two 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 of one step produces one of the operands to be used in the next ste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balance * ra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t least one of the operands is a floating-point type and the rest are integers, the result will be a floating 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the rightmost type from the following list that occurs in the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Division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vision operator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behaves as expected if one of the operands is a floating-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oth operands are integer types, the result is truncated, not 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99/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perator is used with operators of integer type to obtain the remainder after integer div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 divided by 4 is 3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ith a remainder of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4 % 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qual to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 operator has many uses,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an integer is odd or 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one integer is evenly divisible by another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entheses and Precede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can communicate the order in which arithmetic operations are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tax) * dis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(tax * discou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parentheses, an expressions is evaluated according to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les of prece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2 Precedence Ru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2125800" y="2751120"/>
            <a:ext cx="5611680" cy="265284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wer preced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, -, ++, --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er prece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the binary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inary operators have equal precedence, the operator on the left acts before the operator(s) on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nary operators have equal precedence, the operator on the right acts before the operation(s) on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when parentheses are not needed, they can be used to make the code clear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interestRate * bal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es also make code clea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interestRate*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spaces do not dictate prece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3880" y="18284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dent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ample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3 Some Arithmetic Expressions in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069920" y="2770200"/>
            <a:ext cx="7201080" cy="230652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alized Assign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s can be combined with arithmetic operators (includ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, 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lat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amount +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+=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ing the sam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se Study:Vending Machine Chang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514240"/>
            <a:ext cx="822960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enters an amount between 1 cent and 99 c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determines a combination of coins equal to that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55 cents can be two quarters and one nick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di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nter a whole number from 1 to 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he machine will determine a combination of coi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 cents in coi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3 quar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 d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 nick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 pen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96880" y="1600200"/>
            <a:ext cx="718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amount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quarter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ime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ickel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enni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- first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,cont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gorithm doesn't work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amount is changed by the intermediate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list of 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amount, originalAmount, quarters, dimes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ickles, penni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algorith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– second 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ake a copy of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Java co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lgorithm written in pseudocode – listing 2.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rcRect l="1103" t="1912" r="1248" b="4878"/>
          <a:stretch/>
        </p:blipFill>
        <p:spPr>
          <a:xfrm>
            <a:off x="998640" y="2733840"/>
            <a:ext cx="7453080" cy="324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9" name="Text Box 5"/>
          <p:cNvSpPr/>
          <p:nvPr/>
        </p:nvSpPr>
        <p:spPr>
          <a:xfrm>
            <a:off x="6248520" y="4343400"/>
            <a:ext cx="1676160" cy="1008720"/>
          </a:xfrm>
          <a:prstGeom prst="rect">
            <a:avLst/>
          </a:prstGeom>
          <a:solidFill>
            <a:srgbClr val="2f5597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number of quarters (or dimes, nickels, or pennies) in an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2 quarters in 55 cents, but there are also 2 quarters in 65 c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's beca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/ 2 = 2 and 65 / 25 =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47560" y="1828440"/>
            <a:ext cx="7086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Compat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and Precedenc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d Assign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tud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nding Machin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and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remaining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maining amount can be determined using t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% 25 = 5 and 65 % 25 = 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ly for dimes and nick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nies are simpl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% 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am should be tested with several different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values that give zero values for each possible coin denomi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amounts close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 values such as 0, 1, 98 and 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n denominations, such as 24, 25, and 2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increase (or decrease) the value of a variable by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 to use, important to recog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+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-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 i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++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m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lass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used constant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Enter a whole number from 1 to 99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of charac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ed as a single i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Constants and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 gree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new String("Hello!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greeting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on of Strin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trings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caten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enten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ntence = greeting + " officer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sentenc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umber of strings can be concatenat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ng Strings and Integ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olu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olution = "The answer is " + 4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 (solut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33400" y="402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temperature is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1612800" y="3778200"/>
            <a:ext cx="5894640" cy="2286000"/>
            <a:chOff x="1612800" y="3778200"/>
            <a:chExt cx="5894640" cy="2286000"/>
          </a:xfrm>
        </p:grpSpPr>
        <p:sp>
          <p:nvSpPr>
            <p:cNvPr id="232" name="Rectangle 12"/>
            <p:cNvSpPr/>
            <p:nvPr/>
          </p:nvSpPr>
          <p:spPr>
            <a:xfrm>
              <a:off x="1612800" y="3778200"/>
              <a:ext cx="5894640" cy="2286000"/>
            </a:xfrm>
            <a:prstGeom prst="rect">
              <a:avLst/>
            </a:prstGeom>
            <a:solidFill>
              <a:srgbClr val="2f5597"/>
            </a:solidFill>
            <a:ln w="0">
              <a:noFill/>
            </a:ln>
            <a:effectLst>
              <a:outerShdw dist="101823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3"/>
            <p:cNvSpPr/>
            <p:nvPr/>
          </p:nvSpPr>
          <p:spPr>
            <a:xfrm>
              <a:off x="1904400" y="4006800"/>
              <a:ext cx="5245560" cy="1786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4"/>
          <p:cNvSpPr/>
          <p:nvPr/>
        </p:nvSpPr>
        <p:spPr>
          <a:xfrm>
            <a:off x="1949400" y="43149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answer is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stores data consisting of a sequence of charac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have methods as well a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returns the number of characters in a particula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 = greeting.lengt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re data such as numbers and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 of them as places to stor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implemented as memory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stored by a variable is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is stored in the memory lo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value can be chan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length(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1840" y="1990440"/>
            <a:ext cx="88218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e a call to 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where 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count = command.length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Length is " +    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command.length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unt = command.length() + 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1440000"/>
            <a:ext cx="77724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s start with 0, not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'J' in "Java is fun." is in position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ition is referred to a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Java is fun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index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322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7d31"/>
                </a:solidFill>
                <a:latin typeface="Courier New"/>
              </a:rPr>
              <a:t>String </a:t>
            </a: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512640" y="2217600"/>
            <a:ext cx="8102880" cy="15224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990720" y="69840"/>
            <a:ext cx="68580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Process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methods allow you to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ut you can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Demo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3538440" y="4419720"/>
            <a:ext cx="4824360" cy="1717200"/>
            <a:chOff x="3538440" y="4419720"/>
            <a:chExt cx="4824360" cy="1717200"/>
          </a:xfrm>
        </p:grpSpPr>
        <p:pic>
          <p:nvPicPr>
            <p:cNvPr id="247" name="Picture 4" descr=""/>
            <p:cNvPicPr/>
            <p:nvPr/>
          </p:nvPicPr>
          <p:blipFill>
            <a:blip r:embed="rId2"/>
            <a:srcRect l="429" t="1569" r="33178" b="0"/>
            <a:stretch/>
          </p:blipFill>
          <p:spPr>
            <a:xfrm>
              <a:off x="3538440" y="4419720"/>
              <a:ext cx="423540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48" name="Picture 5" descr=""/>
            <p:cNvPicPr/>
            <p:nvPr/>
          </p:nvPicPr>
          <p:blipFill>
            <a:blip r:embed="rId3"/>
            <a:srcRect l="84849" t="1569" r="-794" b="0"/>
            <a:stretch/>
          </p:blipFill>
          <p:spPr>
            <a:xfrm>
              <a:off x="7345080" y="4421160"/>
              <a:ext cx="101772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49" name="Text Box 7"/>
          <p:cNvSpPr/>
          <p:nvPr/>
        </p:nvSpPr>
        <p:spPr>
          <a:xfrm>
            <a:off x="7502400" y="54277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ould you p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" refers to a language.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needs to be told that the quotation marks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o not signal the start or end of a string, but instead are to be prin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\"Java\" refers to a language.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4400" y="4021200"/>
            <a:ext cx="80424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escape sequence is a single character even though it is written with two symb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147680" y="1643040"/>
            <a:ext cx="6648480" cy="2081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abc\\def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new\nline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singleQuote = '\'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(singleQuote)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949400" y="2205000"/>
            <a:ext cx="2355840" cy="879480"/>
            <a:chOff x="1949400" y="2205000"/>
            <a:chExt cx="2355840" cy="879480"/>
          </a:xfrm>
        </p:grpSpPr>
        <p:sp>
          <p:nvSpPr>
            <p:cNvPr id="258" name="Rectangle 5"/>
            <p:cNvSpPr/>
            <p:nvPr/>
          </p:nvSpPr>
          <p:spPr>
            <a:xfrm>
              <a:off x="1949400" y="22050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6"/>
            <p:cNvSpPr/>
            <p:nvPr/>
          </p:nvSpPr>
          <p:spPr>
            <a:xfrm>
              <a:off x="2066040" y="22928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5691240" y="5407200"/>
            <a:ext cx="2355840" cy="879480"/>
            <a:chOff x="5691240" y="5407200"/>
            <a:chExt cx="2355840" cy="879480"/>
          </a:xfrm>
        </p:grpSpPr>
        <p:sp>
          <p:nvSpPr>
            <p:cNvPr id="261" name="Rectangle 13"/>
            <p:cNvSpPr/>
            <p:nvPr/>
          </p:nvSpPr>
          <p:spPr>
            <a:xfrm>
              <a:off x="5691240" y="54072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>
              <a:off x="5807880" y="54950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5724360" y="5573880"/>
            <a:ext cx="8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201760" y="2436840"/>
            <a:ext cx="230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bc\d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1965240" y="3813120"/>
            <a:ext cx="2355840" cy="879480"/>
            <a:chOff x="1965240" y="3813120"/>
            <a:chExt cx="2355840" cy="879480"/>
          </a:xfrm>
        </p:grpSpPr>
        <p:sp>
          <p:nvSpPr>
            <p:cNvPr id="266" name="Rectangle 10"/>
            <p:cNvSpPr/>
            <p:nvPr/>
          </p:nvSpPr>
          <p:spPr>
            <a:xfrm>
              <a:off x="1965240" y="381312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>
              <a:off x="2081880" y="390096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8"/>
          <p:cNvSpPr/>
          <p:nvPr/>
        </p:nvSpPr>
        <p:spPr>
          <a:xfrm>
            <a:off x="2197080" y="3843360"/>
            <a:ext cx="22525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Unicode Character S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ming languages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CI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 which includes the ASCII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icode character set includes characters from many different alphabets (but you probably won't use th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and Screen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/O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73280" y="2763720"/>
            <a:ext cx="611352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lass Egg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rcRect l="3056" t="14443" r="3649" b="18617"/>
          <a:stretch/>
        </p:blipFill>
        <p:spPr>
          <a:xfrm>
            <a:off x="912960" y="2844720"/>
            <a:ext cx="7515000" cy="17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313320" y="327960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seen several examples of screen outpu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is part of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ln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 of the methods available to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43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useful when everything does not fit on one lin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"Lucky number = " + 13 +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Secret number = " + numb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break the line except immediately before or after 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ternatively, use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One, two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 buckle my shoe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Three, four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shut the door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ing with 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rintln(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has reasonable facilities for handling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facilities are provided by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n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ck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library of cl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the Scanne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 the beginning of your program, in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ew Scanner (System.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data (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1 = keyboard.nextI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d1 = keyboard,nextDoubl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 Demonst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295280"/>
            <a:ext cx="7840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canner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1243080" y="2341440"/>
            <a:ext cx="6335640" cy="397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6" name="Text Box 6"/>
          <p:cNvSpPr/>
          <p:nvPr/>
        </p:nvSpPr>
        <p:spPr>
          <a:xfrm>
            <a:off x="5792760" y="33796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098720" y="2252520"/>
            <a:ext cx="7213320" cy="4034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439200"/>
            <a:ext cx="84582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921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487520" y="1938240"/>
            <a:ext cx="6510240" cy="443232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10780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xtLine()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rea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mainder of the current lin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 if it is emp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– given following decla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n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1, s2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n = keyboard.nextInt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1 = keyboard.nextLine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2 = keyboard.nextLin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input sh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 the empty st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4687920" y="4102200"/>
            <a:ext cx="3051000" cy="1625400"/>
            <a:chOff x="4687920" y="4102200"/>
            <a:chExt cx="3051000" cy="1625400"/>
          </a:xfrm>
        </p:grpSpPr>
        <p:sp>
          <p:nvSpPr>
            <p:cNvPr id="298" name="Rectangle 6"/>
            <p:cNvSpPr/>
            <p:nvPr/>
          </p:nvSpPr>
          <p:spPr>
            <a:xfrm>
              <a:off x="4687920" y="4102200"/>
              <a:ext cx="3051000" cy="162540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7"/>
            <p:cNvSpPr/>
            <p:nvPr/>
          </p:nvSpPr>
          <p:spPr>
            <a:xfrm>
              <a:off x="4838760" y="4264920"/>
              <a:ext cx="2715120" cy="127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4"/>
          <p:cNvSpPr/>
          <p:nvPr/>
        </p:nvSpPr>
        <p:spPr>
          <a:xfrm>
            <a:off x="4537080" y="4267080"/>
            <a:ext cx="3065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d don'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ge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and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umberOfBas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Eg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ing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6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Empty 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ing can have any number of characters, including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ing with zero character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p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ty string is useful and can be created in many way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3 = "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5728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 (optional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12680"/>
            <a:ext cx="8229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any combination of characters and strings can be used to separate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delimiter to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##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.useDelimiter("##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space will no longer be a delimiter for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6920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elimiters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860400" y="2906640"/>
            <a:ext cx="7627680" cy="3247560"/>
            <a:chOff x="860400" y="2906640"/>
            <a:chExt cx="7627680" cy="3247560"/>
          </a:xfrm>
        </p:grpSpPr>
        <p:sp>
          <p:nvSpPr>
            <p:cNvPr id="308" name="Rectangle 6"/>
            <p:cNvSpPr/>
            <p:nvPr/>
          </p:nvSpPr>
          <p:spPr>
            <a:xfrm>
              <a:off x="860400" y="2906640"/>
              <a:ext cx="7627680" cy="3247560"/>
            </a:xfrm>
            <a:prstGeom prst="rect">
              <a:avLst/>
            </a:prstGeom>
            <a:solidFill>
              <a:srgbClr val="6ac2a5"/>
            </a:solidFill>
            <a:ln w="0">
              <a:noFill/>
            </a:ln>
            <a:effectLst>
              <a:outerShdw dist="114551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7"/>
            <p:cNvSpPr/>
            <p:nvPr/>
          </p:nvSpPr>
          <p:spPr>
            <a:xfrm>
              <a:off x="1057320" y="3048120"/>
              <a:ext cx="7233480" cy="295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5" descr=""/>
          <p:cNvPicPr/>
          <p:nvPr/>
        </p:nvPicPr>
        <p:blipFill>
          <a:blip r:embed="rId2"/>
          <a:srcRect l="3403" t="6601" r="11977" b="5734"/>
          <a:stretch/>
        </p:blipFill>
        <p:spPr>
          <a:xfrm>
            <a:off x="1270080" y="3343320"/>
            <a:ext cx="6840360" cy="2484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7655040" y="40528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68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677600" y="2717640"/>
            <a:ext cx="700884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ful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1680" y="1971720"/>
            <a:ext cx="77547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modified over time to respond to new requi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which are easy to read and understand are easy to mod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f it will be used only once, you have to read it in order to debug i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aningful Variable Na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name should suggest its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conventions in choosing names for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nly letters and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Punctuate" using uppercase letters at word boundaries (e.g.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ax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variables with low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class names with upp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programs are self-documen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ll-chosen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re written into a program as needed expla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useful to the programmer, but they are ignored by the compi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comment can begin with /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ter these symbols and to the end of the line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radius; //in centi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ent can begin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between these symbols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is program should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be used on alternate Thursday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xcept during leap years, when it 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nly be used on alternate Tuesd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ment, begin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be extracted automatically from Java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/** method change requires the number of coins to be nonnegative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0:13:46Z</dcterms:created>
  <dc:creator>Robert P. Burton</dc:creator>
  <dc:description/>
  <dc:language>en-US</dc:language>
  <cp:lastModifiedBy>Kenrick Mock</cp:lastModifiedBy>
  <dcterms:modified xsi:type="dcterms:W3CDTF">2014-04-06T10:07:44Z</dcterms:modified>
  <cp:revision>204</cp:revision>
  <dc:subject/>
  <dc:title>Chapter 2 Primitive Types, Strongs, and Console I/O</dc:title>
</cp:coreProperties>
</file>