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750-4324-4BA7-B8E6-3D06E11F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600-483A-4D9C-B713-AFDCEF8B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FF6-80A0-43BD-991C-9CE83763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6DC-F1CB-4AFD-AA2B-7C9A04D0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5283-959F-4C1C-BFC6-2F045385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DB43-7C44-44A8-84AE-BF63F52E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BD91-C8A2-482D-B9F7-3276A84B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5890-95BE-4844-B7B8-9937413B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ABB9-8C2C-44FD-BD3B-368152D9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4AF8-6066-437A-851A-CFDEAC97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B09A-B1EC-4AE0-80E5-6E5CB0EA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B11-B16A-4C69-A1CF-FAEAA57E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0726-A088-4B08-B102-433EA0B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4C75-9C97-43DA-8F79-C72AA8DC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0AD2-7470-4124-946B-88C3CED5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954E-4C50-44BE-9C8B-07161612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7214-9B39-4890-855B-83AB1881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714-C684-4DBC-AAF2-4F4590C8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BCD-40F6-4C8D-B8A2-A217B232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EB8-A6EC-4FD9-B803-EDFAD734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213-4EF6-4AC5-9251-67196609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37A-4896-49BB-92F0-72698696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BFE-827A-40CA-AF86-7CAED1BC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0D5-1A0F-4D00-A7A0-88D06AD5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2E6B-EA4E-4883-8D16-AB4E8B73722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5534-EA9D-4260-A314-6E7E5B3805AC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3.2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3.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3.4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3.5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3.6" TargetMode="Externa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3.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68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 Light"/>
              </a:rPr>
              <a:t>Flow of Control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6120" y="5246280"/>
            <a:ext cx="64008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Semantics of 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611360" y="2468520"/>
            <a:ext cx="57722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clude multiple statements in a branch, enclose the statements in br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count &lt; 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otal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mitting 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Par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40976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3.3 The Semantics of 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without 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738440" y="2440080"/>
            <a:ext cx="5667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Boolea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20320" y="2125440"/>
            <a:ext cx="7566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oolean expre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eithe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ime &lt; lim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&lt;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Comparison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3.4 Java Comparison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714240" y="2330280"/>
            <a:ext cx="8075880" cy="336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Boolea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0360" y="196164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expressions can be combined using the "and"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&amp;&amp;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(score &gt; 0) &amp;&amp; (score &lt;= 100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ow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0 &lt; score &lt;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0028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Boolea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9760" y="2187360"/>
            <a:ext cx="8229600" cy="33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(Sub_Expression_1) &amp;&amp; (Sub_Expression_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 often are used to enhance read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arger expression is true only when both of the smaller expressions are tr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6168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Boolea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expressions can be combined using the "or"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||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(quantity &gt; 5) || (cost &lt; 10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(Sub_Expression_1) || (Sub_Expression_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80028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Boolea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980720"/>
            <a:ext cx="800100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arger expression is tr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either of the smaller expressions is 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both of the smaller expressions are tr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ava version of "or" i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clusive 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allows either or both to be tr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clusive 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one or the other, but not both to be tr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0028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gating a Boolean Express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7960" y="204948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oolean expression can be negated using the "not"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!(Boolean_Expres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a || b) &amp;&amp; !(a &amp;&amp; 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is 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xclusive 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45920" y="1600200"/>
            <a:ext cx="794052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Java branching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values of primitive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objects such as st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primitive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simple enumerations in 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color in a graphics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to create yes-no dialog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4240" y="78228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gating a Boolean Expression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57280" y="21081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3.5 Avoiding the Negation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2060640" y="3059280"/>
            <a:ext cx="50641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Logical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048040"/>
            <a:ext cx="82296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851040" y="3254400"/>
            <a:ext cx="7813440" cy="1509840"/>
          </a:xfrm>
          <a:prstGeom prst="rect">
            <a:avLst/>
          </a:prstGeom>
          <a:ln w="12600">
            <a:solidFill>
              <a:srgbClr val="66ffcc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7 The Effect of the Boolean Operators </a:t>
            </a:r>
            <a:r>
              <a:rPr b="1" i="1" lang="en-US" sz="2800" spc="-1" strike="noStrike">
                <a:solidFill>
                  <a:srgbClr val="ed7d31"/>
                </a:solidFill>
                <a:latin typeface="Courier New"/>
              </a:rPr>
              <a:t>&amp;&amp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and), </a:t>
            </a:r>
            <a:r>
              <a:rPr b="1" i="1" lang="en-US" sz="2800" spc="-1" strike="noStrike">
                <a:solidFill>
                  <a:srgbClr val="ed7d31"/>
                </a:solidFill>
                <a:latin typeface="Courier New"/>
              </a:rPr>
              <a:t>||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or),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!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not) on Boolean valu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1317600" y="3435480"/>
            <a:ext cx="6981840" cy="2200320"/>
          </a:xfrm>
          <a:prstGeom prst="rect">
            <a:avLst/>
          </a:prstGeom>
          <a:ln w="12600">
            <a:solidFill>
              <a:srgbClr val="66ffcc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==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82880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ppropriate for determining if two integers or characters have the same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a == 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n integer 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ppropriate for determining if two floating points values are equal.   Us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ome appropriate tolerance inste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abs(b - c) &lt; epsil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psil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floating point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==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t appropriate for determining if two objects have the same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s1 == s2)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fer to strings, determines only if s1 and s2 refer the a common memory loc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fer to strings with identical sequences of characters, but stored in different memory locations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s1 == s2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fal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est the equality of objects of class String, us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1.equals(s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2.equals(s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est for equality ignoring case, us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qualsIgnore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"Hello".equalsIgnoreCase("hello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IgnoreCas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304812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ring.equals(Other_Str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ring.equalsIgnoreCase(Other_Str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sting Strings for Equal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440" y="1843200"/>
            <a:ext cx="811836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3.2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StringEqualityD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954000" y="3559320"/>
            <a:ext cx="7683480" cy="238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51" name="Text Box 7"/>
          <p:cNvSpPr/>
          <p:nvPr/>
        </p:nvSpPr>
        <p:spPr>
          <a:xfrm>
            <a:off x="6485040" y="41911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exicographic Ord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xicographic order is similar to alphabetical order, but is it based on the order of the characters in the ASCII (and Unicode) character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the digits come before all the lett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the uppercase letters come before all the lower case lett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exicographic Ord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ngs consisting of alphabetical characters can be compared using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mpare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oUpperC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oLow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s1 = "Hello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lowerS1 = s1.toLowerCas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s2 = "hello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s1.compareTo(s2)) =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"Equal!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7040" y="167616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e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ptional) 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compareTo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String_1.compareTo(String_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compare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negative number i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_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ecede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_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ero if the two strings are eq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ositive number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_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ecede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_1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sted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75248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can contain any sort of statement withi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it can contain anothe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nested within the "if" pa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nested within the "else" pa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nested within both par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sted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82844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if (Boolean_Expression_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if (Boolean_Expression_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_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_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if (Boolean_Expression_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_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_4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sted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aired with the nearest unmatch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 used proper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dentation communicates whic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oes with whic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ces can be used like parentheses to group stat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sted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600200"/>
            <a:ext cx="72975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tly different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898560" y="2363760"/>
            <a:ext cx="34146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 (a &gt; b)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{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if (c &gt; d)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    e = f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}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else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    g = 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257800" y="2394000"/>
            <a:ext cx="3414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 (a &gt; b) 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if (c &gt; d)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    e = f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else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    g = 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/ 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84080" y="2235240"/>
            <a:ext cx="3643560" cy="3976560"/>
          </a:xfrm>
          <a:prstGeom prst="rect">
            <a:avLst/>
          </a:prstGeom>
          <a:noFill/>
          <a:ln w="1260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941720" y="2227320"/>
            <a:ext cx="3643560" cy="3976560"/>
          </a:xfrm>
          <a:prstGeom prst="rect">
            <a:avLst/>
          </a:prstGeom>
          <a:noFill/>
          <a:ln w="1260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list of statements is enclosed in braces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{}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they form a singl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ound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_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_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pound statement can be used wherever a statement can b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total &gt; 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um = sum + tot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otal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9637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branch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if (Boolean_Expression_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Statement_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else if (Boolean_Expression_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Statement_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else if (Boolean_Expression_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Statement_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else if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Default_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1160" y="552240"/>
            <a:ext cx="293364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Multibranch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State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3325320"/>
            <a:ext cx="272556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8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mant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3730680" y="128520"/>
            <a:ext cx="49132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0920" y="882360"/>
            <a:ext cx="84582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branch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6002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3.3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Gr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668160" y="2992320"/>
            <a:ext cx="7975800" cy="1717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2" name="Text Box 7"/>
          <p:cNvSpPr/>
          <p:nvPr/>
        </p:nvSpPr>
        <p:spPr>
          <a:xfrm>
            <a:off x="6458040" y="430200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low of Contro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low of contr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order in which a program performs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 to this point, the order has been sequent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branching state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s between two or more possible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op 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eats an action until a stopping condition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6868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branch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17200" y="1600200"/>
            <a:ext cx="78692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valent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if (score &gt;= 9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rade = 'A'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else if ((score &gt;= 80) &amp;&amp; (score &lt; 90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rade = 'B'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else if ((score &gt;= 70) &amp;&amp; (score &lt; 80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rade = 'C'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else if ((score &gt;= 60) &amp;&amp; (score &lt; 70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rade = 'D'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rade = 'F'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 – Body Mass Inde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61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Mass Index (BMI) is used to estimate the risk of weight-related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MI = mass / heigh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 in kilograms, height in 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lth assessment if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MI &lt; 18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we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.5 ≤ BMI &lt; 2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 we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≤ BMI &lt; 3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we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 ≤ BM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 – Body Mass Inde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height in feet &amp; inches, weight in pou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 to meters and kilogra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lb = 2.2 k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inch = 0.254 met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 B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 health risk using if stat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650880" y="523080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ing 3.4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B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Conditional Operat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 (n1 &gt; n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max = n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max = n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max = (n1 &gt; n2) ? n1 : n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gether are call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ditional operat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ernary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Conditional Operat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12640" y="22363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nditional operator is useful with print and println stat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("You worked "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(hours &gt; 1) ? "hours" ; "hour"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x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82844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a situation arises that makes continuing the program pointl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gram can be terminated normally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exit(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x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numberOfWinners == 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 ("Error: Dividing by zero.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exit (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oneShare = payoff / numberOfWinne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 ("Each winner will receive $" + oneShar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Typ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primitive type with only two values: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variables can make programs more read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systemsAreO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((temperature &lt;= 100) &amp;&amp; (thrust &gt;= 12000) &amp;&amp; (cabinPressure &gt; 30) &amp;&amp; 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 Expressions and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74640" y="2254320"/>
            <a:ext cx="82296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, constants, and expressions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 evaluate to eithe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oolean variable can be given the value of a boolean expression by using an assignment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oolean isPositive = (number &gt; 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isPositive) 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ing Boolean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14400" y="2557080"/>
            <a:ext cx="8229600" cy="18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names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sPosi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sAreO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names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umberSig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Statu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34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040" y="1812960"/>
            <a:ext cx="667692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Expr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ng St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st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branc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ptional) The Conditional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x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2572920"/>
            <a:ext cx="8229600" cy="18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 should be used to indicate the order of oper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parentheses are omitted, the order of operation is determined b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ecedence ru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71600" y="196344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s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igher precede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erformed before operations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wer preced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s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qual prece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done left-to-right (except for unary operations which are done right-to-lef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307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3421080" y="1228680"/>
            <a:ext cx="5288040" cy="4862520"/>
          </a:xfrm>
          <a:prstGeom prst="rect">
            <a:avLst/>
          </a:prstGeom>
          <a:ln w="12600">
            <a:solidFill>
              <a:srgbClr val="66ffcc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what order are the operations performed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42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42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core &lt; min/2 - 10 || score &gt; 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42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core &lt; (min/2) - 10 || score &gt; 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42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core &lt; ((min/2) - 10) || score &gt; 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42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(score &lt; ((min/2) - 10)) || score &gt; 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42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(score &lt; ((min/2) - 10)) || (score &gt; 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hort-circuit Evalu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only part of a boolean expression needs to be evaluated to determine the value of the entire expr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first operand associated with a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||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expression i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first operand associated with a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expression i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hort-circu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z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val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hort-circuit Evalu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-circuit evaluation is not only efficient, sometimes it is essential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un-time error can result, for example, from an attempt to divide by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f ((number != 0) &amp;&amp; (sum/number &gt; 5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lete evalu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chieved by substituting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||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760" y="626760"/>
            <a:ext cx="8742240" cy="11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put and Output of Boolean Valu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46200" y="2281320"/>
            <a:ext cx="822960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boolean booleanVar =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ystem.out.println(booleanVa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ystem.out.println("Enter a boolean value: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canner keyboard = new Scanner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booleanVar = keyboard.nextBoolean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ystem.out.println("You entered " + booleanVa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8240" y="737280"/>
            <a:ext cx="8645400" cy="11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put and Output of Boolean Valu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4680" y="2426760"/>
            <a:ext cx="8229600" cy="25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nter a boolean value: 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rue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You entered 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Input Valid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should check your input to ensure that it is within a valid or reasonable range. For example, consider a program that converts feet to inches. You might write the follow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at if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ser types a negative number for fee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ser enters an unreasonable value like 100?  Or a number larger than can be stored in an int? (2,147,483,64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847800" y="3057480"/>
            <a:ext cx="61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int feet = keyboard.nextI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int inches = feet * 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Input Valid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 these problems by ensuring that the entered values are reasonabl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814320" y="3016080"/>
            <a:ext cx="6043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9bd5"/>
                </a:solidFill>
                <a:latin typeface="Courier New"/>
                <a:ea typeface="Calibri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feet = keyboard.next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9bd5"/>
                </a:solidFill>
                <a:latin typeface="Courier New"/>
                <a:ea typeface="Calibri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((feet &gt;= 0) &amp;&amp; (feet &lt; 10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5b9bd5"/>
                </a:solidFill>
                <a:latin typeface="Courier New"/>
                <a:ea typeface="Calibri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inches = feet * 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ranching statement that chooses between two possible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if (Boolean_Expres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Statement_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Statement_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is a mutltiway branch that makes a decision based on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egr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nteger or character) expr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7 allows String expr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begins with the keywor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ed by an integral expression in parentheses and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trolling expr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752120"/>
            <a:ext cx="77724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ist of cases follows, enclosed in br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ase consists of the keywor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nstant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ase 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list of stat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ist is searched for a case label matching the controlling expr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82880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action associated with a matching case label is execute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no match is found, the case label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efaul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execute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ase is optional, but recommended, even if it simply prints a mess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peated case labels are not allowe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832040"/>
            <a:ext cx="77724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witch (Controlling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case Case_Lab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(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case Case_Lab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defaul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2949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3.5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MultipleBir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477800" y="2228760"/>
            <a:ext cx="5427720" cy="1216080"/>
            <a:chOff x="1477800" y="2228760"/>
            <a:chExt cx="5427720" cy="1216080"/>
          </a:xfrm>
        </p:grpSpPr>
        <p:sp>
          <p:nvSpPr>
            <p:cNvPr id="238" name="Rectangle 17"/>
            <p:cNvSpPr/>
            <p:nvPr/>
          </p:nvSpPr>
          <p:spPr>
            <a:xfrm>
              <a:off x="1514160" y="2228760"/>
              <a:ext cx="5272200" cy="1214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89095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8"/>
            <p:cNvGrpSpPr/>
            <p:nvPr/>
          </p:nvGrpSpPr>
          <p:grpSpPr>
            <a:xfrm>
              <a:off x="1477800" y="2237400"/>
              <a:ext cx="5427720" cy="1207440"/>
              <a:chOff x="1477800" y="2237400"/>
              <a:chExt cx="5427720" cy="1207440"/>
            </a:xfrm>
          </p:grpSpPr>
          <p:pic>
            <p:nvPicPr>
              <p:cNvPr id="240" name="Picture 5" descr=""/>
              <p:cNvPicPr/>
              <p:nvPr/>
            </p:nvPicPr>
            <p:blipFill>
              <a:blip r:embed="rId2"/>
              <a:srcRect l="0" t="0" r="47642" b="0"/>
              <a:stretch/>
            </p:blipFill>
            <p:spPr>
              <a:xfrm>
                <a:off x="1477800" y="2237400"/>
                <a:ext cx="4596840" cy="12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5" descr=""/>
              <p:cNvPicPr/>
              <p:nvPr/>
            </p:nvPicPr>
            <p:blipFill>
              <a:blip r:embed="rId3"/>
              <a:srcRect l="87234" t="0" r="-1268" b="0"/>
              <a:stretch/>
            </p:blipFill>
            <p:spPr>
              <a:xfrm>
                <a:off x="5672880" y="2237400"/>
                <a:ext cx="1232640" cy="1207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2" name="Group 20"/>
          <p:cNvGrpSpPr/>
          <p:nvPr/>
        </p:nvGrpSpPr>
        <p:grpSpPr>
          <a:xfrm>
            <a:off x="2220840" y="3143160"/>
            <a:ext cx="5486400" cy="1208160"/>
            <a:chOff x="2220840" y="3143160"/>
            <a:chExt cx="5486400" cy="1208160"/>
          </a:xfrm>
        </p:grpSpPr>
        <p:sp>
          <p:nvSpPr>
            <p:cNvPr id="243" name="Rectangle 16"/>
            <p:cNvSpPr/>
            <p:nvPr/>
          </p:nvSpPr>
          <p:spPr>
            <a:xfrm>
              <a:off x="2228760" y="3143160"/>
              <a:ext cx="5457960" cy="11862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89095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11"/>
            <p:cNvGrpSpPr/>
            <p:nvPr/>
          </p:nvGrpSpPr>
          <p:grpSpPr>
            <a:xfrm>
              <a:off x="2220840" y="3159720"/>
              <a:ext cx="5486400" cy="1191600"/>
              <a:chOff x="2220840" y="3159720"/>
              <a:chExt cx="5486400" cy="1191600"/>
            </a:xfrm>
          </p:grpSpPr>
          <p:pic>
            <p:nvPicPr>
              <p:cNvPr id="245" name="Picture 7" descr=""/>
              <p:cNvPicPr/>
              <p:nvPr/>
            </p:nvPicPr>
            <p:blipFill>
              <a:blip r:embed="rId4"/>
              <a:srcRect l="0" t="0" r="46786" b="0"/>
              <a:stretch/>
            </p:blipFill>
            <p:spPr>
              <a:xfrm>
                <a:off x="2220840" y="3159720"/>
                <a:ext cx="4780080" cy="119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7" descr=""/>
              <p:cNvPicPr/>
              <p:nvPr/>
            </p:nvPicPr>
            <p:blipFill>
              <a:blip r:embed="rId5"/>
              <a:srcRect l="91519" t="0" r="0" b="0"/>
              <a:stretch/>
            </p:blipFill>
            <p:spPr>
              <a:xfrm>
                <a:off x="6945480" y="3159720"/>
                <a:ext cx="761760" cy="119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 22"/>
          <p:cNvGrpSpPr/>
          <p:nvPr/>
        </p:nvGrpSpPr>
        <p:grpSpPr>
          <a:xfrm>
            <a:off x="1628640" y="4057560"/>
            <a:ext cx="5129280" cy="1344600"/>
            <a:chOff x="1628640" y="4057560"/>
            <a:chExt cx="5129280" cy="1344600"/>
          </a:xfrm>
        </p:grpSpPr>
        <p:sp>
          <p:nvSpPr>
            <p:cNvPr id="248" name="Rectangle 21"/>
            <p:cNvSpPr/>
            <p:nvPr/>
          </p:nvSpPr>
          <p:spPr>
            <a:xfrm>
              <a:off x="1628640" y="4093920"/>
              <a:ext cx="5116680" cy="12891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89095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634760" y="4057560"/>
              <a:ext cx="5123160" cy="1344600"/>
              <a:chOff x="1634760" y="4057560"/>
              <a:chExt cx="5123160" cy="1344600"/>
            </a:xfrm>
          </p:grpSpPr>
          <p:pic>
            <p:nvPicPr>
              <p:cNvPr id="250" name="Picture 6" descr=""/>
              <p:cNvPicPr/>
              <p:nvPr/>
            </p:nvPicPr>
            <p:blipFill>
              <a:blip r:embed="rId6"/>
              <a:srcRect l="0" t="0" r="47652" b="0"/>
              <a:stretch/>
            </p:blipFill>
            <p:spPr>
              <a:xfrm>
                <a:off x="1634760" y="4057560"/>
                <a:ext cx="4383720" cy="134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6" descr=""/>
              <p:cNvPicPr/>
              <p:nvPr/>
            </p:nvPicPr>
            <p:blipFill>
              <a:blip r:embed="rId7"/>
              <a:srcRect l="88957" t="0" r="0" b="0"/>
              <a:stretch/>
            </p:blipFill>
            <p:spPr>
              <a:xfrm>
                <a:off x="5833080" y="4057560"/>
                <a:ext cx="924840" cy="13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2" name="Rectangle 23"/>
          <p:cNvSpPr/>
          <p:nvPr/>
        </p:nvSpPr>
        <p:spPr>
          <a:xfrm>
            <a:off x="2614680" y="5114880"/>
            <a:ext cx="5189400" cy="12430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5"/>
          <p:cNvGrpSpPr/>
          <p:nvPr/>
        </p:nvGrpSpPr>
        <p:grpSpPr>
          <a:xfrm>
            <a:off x="2603520" y="5114880"/>
            <a:ext cx="5351400" cy="1243080"/>
            <a:chOff x="2603520" y="5114880"/>
            <a:chExt cx="5351400" cy="1243080"/>
          </a:xfrm>
        </p:grpSpPr>
        <p:pic>
          <p:nvPicPr>
            <p:cNvPr id="254" name="Picture 7" descr=""/>
            <p:cNvPicPr/>
            <p:nvPr/>
          </p:nvPicPr>
          <p:blipFill>
            <a:blip r:embed="rId8"/>
            <a:srcRect l="0" t="0" r="52118" b="0"/>
            <a:stretch/>
          </p:blipFill>
          <p:spPr>
            <a:xfrm>
              <a:off x="2603520" y="5119200"/>
              <a:ext cx="4340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7" descr=""/>
            <p:cNvPicPr/>
            <p:nvPr/>
          </p:nvPicPr>
          <p:blipFill>
            <a:blip r:embed="rId9"/>
            <a:srcRect l="88346" t="0" r="-1377" b="0"/>
            <a:stretch/>
          </p:blipFill>
          <p:spPr>
            <a:xfrm>
              <a:off x="6772680" y="5114880"/>
              <a:ext cx="1182240" cy="12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Text Box 7"/>
          <p:cNvSpPr/>
          <p:nvPr/>
        </p:nvSpPr>
        <p:spPr>
          <a:xfrm>
            <a:off x="7024680" y="45925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59984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tion for each case typically ends with the wor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ptio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ment prevents the consideration of other ca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ntrolling expression can be anything that evaluates to an integral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 need to restrict contents of a variable to certain valu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numeration lists the values a variable can ha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1" lang="pt-BR" sz="2800" spc="-1" strike="noStrike">
                <a:solidFill>
                  <a:srgbClr val="ed7d31"/>
                </a:solidFill>
                <a:latin typeface="Courier New"/>
              </a:rPr>
              <a:t>enum MovieRating {E, A, B}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ovieRating rating;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rating = MovieRating.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w possible to use in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1444680" y="2678040"/>
            <a:ext cx="6638760" cy="309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4" name="Rectangle 4"/>
          <p:cNvSpPr/>
          <p:nvPr/>
        </p:nvSpPr>
        <p:spPr>
          <a:xfrm>
            <a:off x="1839960" y="5433840"/>
            <a:ext cx="1519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ven better choice of descriptive identifiers for the constants</a:t>
            </a:r>
            <a:br>
              <a:rPr sz="2100"/>
            </a:b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num MovieRating 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  {EXCELLENT, AVERAGE, BAD}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rating = MovieRating.AVERAGE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ase EXCELLENT: 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6253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(Optional) 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34640" y="3120840"/>
            <a:ext cx="720900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pecifying a Drawing Col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Yes/No Wind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12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87020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1023840" y="3106800"/>
            <a:ext cx="7540560" cy="1392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 Drawing Col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rawing a shape inside an applet’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, think of the drawing being done with a pen that can change col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etCol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nges the color of the "pen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anvas.setColor(Color.YELLOW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ings done later appear on top of drawings done earl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 Drawing Col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3.6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Yellow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2"/>
          <a:stretch/>
        </p:blipFill>
        <p:spPr>
          <a:xfrm>
            <a:off x="2502000" y="2685960"/>
            <a:ext cx="4370400" cy="354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74" name="Text Box 7"/>
          <p:cNvSpPr/>
          <p:nvPr/>
        </p:nvSpPr>
        <p:spPr>
          <a:xfrm>
            <a:off x="6181560" y="409896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 Drawing Col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10 Predefined Colors for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etColo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1604880" y="3006720"/>
            <a:ext cx="6299280" cy="2878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60240" y="1118880"/>
            <a:ext cx="8483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A Dialog Box for a Yes-or-No Ques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2507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present the user with a yes/no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indow cont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question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buttons label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93520" y="641880"/>
            <a:ext cx="8250120" cy="107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A Dialog Box for a Yes-or-No Ques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209340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int answer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JOptionPane.showConfirmDialog(null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"End program?"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"Click Yes or No:",    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JOptionPane.YES_NO_OPTIO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if (answer == JOptionPane.YES_OP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else if (answer == JOptionPane.NO_OP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ystem.out.println("One more time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60240" y="394200"/>
            <a:ext cx="8229600" cy="107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A Dialog Box for a Yes-or-No Ques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74636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11 A Yes-or No-Dialog Bo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73200" y="2946240"/>
            <a:ext cx="5883120" cy="265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Java branching stat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the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ptional) You have learned to use color and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s/no wind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9760" y="1271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1 The Action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3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387440" y="2403360"/>
            <a:ext cx="6551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12720" y="2421000"/>
            <a:ext cx="7637400" cy="176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254240" y="4473720"/>
            <a:ext cx="7638840" cy="173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07" name="Text Box 7"/>
          <p:cNvSpPr/>
          <p:nvPr/>
        </p:nvSpPr>
        <p:spPr>
          <a:xfrm>
            <a:off x="7088040" y="20350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3:56:18Z</dcterms:created>
  <dc:creator>Robert P. Burton</dc:creator>
  <dc:description/>
  <dc:language>en-US</dc:language>
  <cp:lastModifiedBy>Kenrick Mock</cp:lastModifiedBy>
  <dcterms:modified xsi:type="dcterms:W3CDTF">2014-04-06T10:13:35Z</dcterms:modified>
  <cp:revision>89</cp:revision>
  <dc:subject/>
  <dc:title>Chapter 3 Flow of Control</dc:title>
</cp:coreProperties>
</file>