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4.png" ContentType="image/png"/>
  <Override PartName="/ppt/media/image3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9080-BD10-4270-9EEC-06183367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779-DBD6-477F-A8A5-FF114526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6A66-859E-4628-86DB-E4E5FD29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7E0-7E51-454A-B249-FA6C7A14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66E8-448E-4F5D-B062-671ACED8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BE1A-3881-4892-A96E-284BE13B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42C7-759C-47D9-8337-9EE286D8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D253-B461-4238-B53F-85FFA994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E88D-2105-4DB1-869A-05A8426B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7B62-AC4A-4F00-B455-79E34658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AA0F-5014-47C1-8910-0E15BD61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5F2E-E7F0-4D47-873A-A708CDDE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E8D4-905F-4257-BF99-7869BDA9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358A-5078-49A3-9D31-387C50FC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8DAE-6A8B-4F47-9E21-9F58D8B8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B420-902D-470A-8B7F-24D4F14D3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1512-D954-44E8-8B09-B1EB6BFA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BC8-6855-4BC9-B4F8-7B54484B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CFD-863A-4E87-8BE6-8BFC4BE7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EE4-CBB7-4A06-8756-7D0FD689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91D-3EFE-47B5-8DE2-AD26280A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37D-914B-451D-AB04-02A08283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A49-8982-4D52-84AA-233B804B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E451-0831-4E53-8C6F-CCE9D0DD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0D8E-DD9F-4B42-A27B-E1EF744B9872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E38B-B577-4AFC-88A8-E5E15BF58BBF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3.2" TargetMode="External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3.3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3.4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3.5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3.6" TargetMode="Externa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3.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68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alibri Light"/>
              </a:rPr>
              <a:t>Flow of Control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6120" y="5246280"/>
            <a:ext cx="64008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pter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Semantics of 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3.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611360" y="2468520"/>
            <a:ext cx="57722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ound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nclude multiple statements in a branch, enclose the statements in bra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count &lt; 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otal = 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ount = 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mitting 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Par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409760"/>
            <a:ext cx="822960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3.3 The Semantics of 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without 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738440" y="2440080"/>
            <a:ext cx="5667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Boolean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20320" y="2125440"/>
            <a:ext cx="7566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alue of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oolean expres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eithe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ime &lt; lim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alance &lt;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Comparison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3.4 Java Comparison Op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714240" y="2330280"/>
            <a:ext cx="8075880" cy="3362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ound Boolean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0360" y="196164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expressions can be combined using the "and"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&amp;&amp;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(score &gt; 0) &amp;&amp; (score &lt;= 100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allow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0 &lt; score &lt;= 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80028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ound Boolean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9760" y="2187360"/>
            <a:ext cx="8229600" cy="33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(Sub_Expression_1) &amp;&amp; (Sub_Expression_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heses often are used to enhance read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arger expression is true only when both of the smaller expressions are tr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66168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ound Boolean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expressions can be combined using the "or"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(||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(quantity &gt; 5) || (cost &lt; 10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(Sub_Expression_1) || (Sub_Expression_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80028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ound Boolean Express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440" y="1980720"/>
            <a:ext cx="800100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arger expression is tru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either of the smaller expressions is tr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both of the smaller expressions are tru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Java version of "or" i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clusive 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allows either or both to be tr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xclusive 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one or the other, but not both to be tr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80028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gating a Boolean Express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7960" y="204948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oolean expression can be negated using the "not"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!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!(Boolean_Express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a || b) &amp;&amp; !(a &amp;&amp; 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ch is 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xclusive 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45920" y="1600200"/>
            <a:ext cx="794052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Java branching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values of primitive 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objects such as st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primitive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simple enumerations in 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color in a graphics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lass to create yes-no dialog 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4240" y="78228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gating a Boolean Expression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57280" y="21081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3.5 Avoiding the Negation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2060640" y="3059280"/>
            <a:ext cx="506412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Logical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048040"/>
            <a:ext cx="8229600" cy="40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3.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851040" y="3254400"/>
            <a:ext cx="7813440" cy="1509840"/>
          </a:xfrm>
          <a:prstGeom prst="rect">
            <a:avLst/>
          </a:prstGeom>
          <a:ln w="12600">
            <a:solidFill>
              <a:srgbClr val="66ffcc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oolean Opera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3.7 The Effect of the Boolean Operators </a:t>
            </a:r>
            <a:r>
              <a:rPr b="1" i="1" lang="en-US" sz="2800" spc="-1" strike="noStrike">
                <a:solidFill>
                  <a:srgbClr val="ed7d31"/>
                </a:solidFill>
                <a:latin typeface="Courier New"/>
              </a:rPr>
              <a:t>&amp;&amp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and), </a:t>
            </a:r>
            <a:r>
              <a:rPr b="1" i="1" lang="en-US" sz="2800" spc="-1" strike="noStrike">
                <a:solidFill>
                  <a:srgbClr val="ed7d31"/>
                </a:solidFill>
                <a:latin typeface="Courier New"/>
              </a:rPr>
              <a:t>||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or),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!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not) on Boolean valu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1317600" y="3435480"/>
            <a:ext cx="6981840" cy="2200320"/>
          </a:xfrm>
          <a:prstGeom prst="rect">
            <a:avLst/>
          </a:prstGeom>
          <a:ln w="12600">
            <a:solidFill>
              <a:srgbClr val="66ffcc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==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828800"/>
            <a:ext cx="77724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ppropriate for determining if two integers or characters have the same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a == 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n integer 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ppropriate for determining if two floating points values are equal.   Us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some appropriate tolerance inste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abs(b - c) &lt; epsil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psil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floating point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==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not appropriate for determining if two objects have the same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s1 == s2)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fer to strings, determines only if s1 and s2 refer the a common memory loc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fer to strings with identical sequences of characters, but stored in different memory locations,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s1 == s2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fal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test the equality of objects of class String, use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1.equals(s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2.equals(s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test for equality ignoring case, use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qualsIgnore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"Hello".equalsIgnoreCase("hello"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95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and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qualsIgnoreCas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520" y="3048120"/>
            <a:ext cx="822960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ring.equals(Other_Str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ring.equalsIgnoreCase(Other_Str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esting Strings for Equalit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440" y="1843200"/>
            <a:ext cx="811836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3.2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StringEqualityDe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954000" y="3559320"/>
            <a:ext cx="7683480" cy="2384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51" name="Text Box 7"/>
          <p:cNvSpPr/>
          <p:nvPr/>
        </p:nvSpPr>
        <p:spPr>
          <a:xfrm>
            <a:off x="6485040" y="41911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exicographic Ord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xicographic order is similar to alphabetical order, but is it based on the order of the characters in the ASCII (and Unicode) character 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the digits come before all the lett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the uppercase letters come before all the lower case lett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exicographic Ord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ngs consisting of alphabetical characters can be compared using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ompare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oUpperC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oLower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s1 = "Hello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lowerS1 = s1.toLowerCase(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 s2 = "hello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s1.compareTo(s2)) ==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("Equal!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057040" y="1676160"/>
            <a:ext cx="6629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e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oole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ptional) Graphics Sup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compareTo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39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String_1.compareTo(String_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compareT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negative number i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_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recede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_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ero if the two strings are eq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ositive number o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_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recede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ring_1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sted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752480"/>
            <a:ext cx="77724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can contain any sort of statement within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particular, it can contain anothe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be nested within the "if" par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be nested within the "else" par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be nested within both par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sted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82844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if (Boolean_Expression_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if (Boolean_Expression_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atement_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atement_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if (Boolean_Expression_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atement_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atement_4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sted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37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paired with the nearest unmatche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f used proper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dentation communicates whic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goes with whic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aces can be used like parentheses to group stat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ested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600200"/>
            <a:ext cx="72975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tly different 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898560" y="2363760"/>
            <a:ext cx="34146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 (a &gt; b)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{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 if (c &gt; d)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     e = f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}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 else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     g = 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257800" y="2394000"/>
            <a:ext cx="3414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 (a &gt; b) 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if (c &gt; d)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     e = f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 else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     g = 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// 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84080" y="2235240"/>
            <a:ext cx="3643560" cy="3976560"/>
          </a:xfrm>
          <a:prstGeom prst="rect">
            <a:avLst/>
          </a:prstGeom>
          <a:noFill/>
          <a:ln w="1260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4941720" y="2227320"/>
            <a:ext cx="3643560" cy="3976560"/>
          </a:xfrm>
          <a:prstGeom prst="rect">
            <a:avLst/>
          </a:prstGeom>
          <a:noFill/>
          <a:ln w="1260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ound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list of statements is enclosed in braces (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{}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they form a singl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ound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atement_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atement_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ound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pound statement can be used wherever a statement can be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total &gt; 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um = sum + tot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otal = 0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9637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ultibranch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1981080"/>
            <a:ext cx="77724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if (Boolean_Expression_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Statement_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else if (Boolean_Expression_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Statement_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else if (Boolean_Expression_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Statement_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else if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ed7d31"/>
                </a:solidFill>
                <a:latin typeface="Courier New"/>
              </a:rPr>
              <a:t>Default_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1160" y="552240"/>
            <a:ext cx="2933640" cy="25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Multibranch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State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6840" y="3325320"/>
            <a:ext cx="272556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3.8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mantic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3730680" y="128520"/>
            <a:ext cx="49132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0920" y="882360"/>
            <a:ext cx="845820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ultibranch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6002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3.3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Gr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668160" y="2992320"/>
            <a:ext cx="7975800" cy="1717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2" name="Text Box 7"/>
          <p:cNvSpPr/>
          <p:nvPr/>
        </p:nvSpPr>
        <p:spPr>
          <a:xfrm>
            <a:off x="6458040" y="430200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low of Control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low of contr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order in which a program performs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p to this point, the order has been sequent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branching statem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s between two or more possible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op stat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peats an action until a stopping condition occu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64840"/>
            <a:ext cx="86868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ultibranch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17200" y="1600200"/>
            <a:ext cx="78692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valent 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if (score &gt;= 9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grade = 'A'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else if ((score &gt;= 80) &amp;&amp; (score &lt; 90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grade = 'B'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else if ((score &gt;= 70) &amp;&amp; (score &lt; 80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grade = 'C'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else if ((score &gt;= 60) &amp;&amp; (score &lt; 70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grade = 'D'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grade = 'F'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 – Body Mass Index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61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Mass Index (BMI) is used to estimate the risk of weight-related 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MI = mass / heigh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ss in kilograms, height in met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lth assessment if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MI &lt; 18.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derwe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.5 ≤ BMI &lt; 2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 we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5 ≤ BMI &lt; 3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we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 ≤ BM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e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ase Study – Body Mass Index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put height in feet &amp; inches, weight in pou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 to meters and kilogram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 lb = 2.2 k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1 inch = 0.254 mete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 BM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put health risk using if stat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1"/>
          <p:cNvSpPr/>
          <p:nvPr/>
        </p:nvSpPr>
        <p:spPr>
          <a:xfrm>
            <a:off x="650880" y="5230800"/>
            <a:ext cx="68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ing 3.4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B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Conditional Operat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 (n1 &gt; n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max = n1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max = n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written 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max = (n1 &gt; n2) ? n1 : n2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gether are call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ditional operato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ernary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Conditional Operat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12640" y="22363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nditional operator is useful with print and println stat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("You worked "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((hours &gt; 1) ? "hours" ; "hour"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xit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828440"/>
            <a:ext cx="77724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a situation arises that makes continuing the program pointl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rogram can be terminated normally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exit(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xit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828800"/>
            <a:ext cx="7772400" cy="41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numberOfWinners == 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 ("Error: Dividing by zero."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exit (0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oneShare = payoff / numberOfWinner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ystem.out.println ("Each winner will receive $" + oneShare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Typ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boolea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primitive type with only two values: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variables can make programs more read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systemsAreO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((temperature &lt;= 100) &amp;&amp; (thrust &gt;= 12000) &amp;&amp; (cabinPressure &gt; 30) &amp;&amp; 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oolean Expressions and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74640" y="2254320"/>
            <a:ext cx="822960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s, constants, and expressions of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l evaluate to eithe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oolean variable can be given the value of a boolean expression by using an assignment oper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boolean isPositive = (number &gt; 0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f (isPositive) 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ing Boolean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14400" y="2557080"/>
            <a:ext cx="8229600" cy="18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names such a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sPositiv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sAreO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void names such a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numberSig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ystemStatu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34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14040" y="1812960"/>
            <a:ext cx="6676920" cy="41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ic 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Expr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ng St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ste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branch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ptional) The Conditional Op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x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2572920"/>
            <a:ext cx="8229600" cy="18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heses should be used to indicate the order of oper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parentheses are omitted, the order of operation is determined by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ecedence ru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71600" y="196344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s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igher precede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erformed before operations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ower preced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s with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qual prece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done left-to-right (except for unary operations which are done right-to-lef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307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3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7" descr=""/>
          <p:cNvPicPr/>
          <p:nvPr/>
        </p:nvPicPr>
        <p:blipFill>
          <a:blip r:embed="rId1"/>
          <a:stretch/>
        </p:blipFill>
        <p:spPr>
          <a:xfrm>
            <a:off x="3421080" y="1228680"/>
            <a:ext cx="5288040" cy="4862520"/>
          </a:xfrm>
          <a:prstGeom prst="rect">
            <a:avLst/>
          </a:prstGeom>
          <a:ln w="12600">
            <a:solidFill>
              <a:srgbClr val="66ffcc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ecedence Ru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what order are the operations performed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42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42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core &lt; min/2 - 10 || score &gt; 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42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core &lt; (min/2) - 10 || score &gt; 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42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score &lt; ((min/2) - 10) || score &gt; 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42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(score &lt; ((min/2) - 10)) || score &gt; 9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3427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(score &lt; ((min/2) - 10)) || (score &gt; 9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hort-circuit Evalu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times only part of a boolean expression needs to be evaluated to determine the value of the entire expre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e first operand associated with an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||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expression i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e first operand associated with an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the expression i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hort-circui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az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valu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hort-circuit Evalu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-circuit evaluation is not only efficient, sometimes it is essential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un-time error can result, for example, from an attempt to divide by z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if ((number != 0) &amp;&amp; (sum/number &gt; 5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lete evalu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n be achieved by substituting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&amp;&amp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||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760" y="626760"/>
            <a:ext cx="8742240" cy="11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Input and Output of Boolean Value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46200" y="2281320"/>
            <a:ext cx="822960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boolean booleanVar = fals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ystem.out.println(booleanVar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ystem.out.println("Enter a boolean value: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canner keyboard = new Scanner(System.i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booleanVar = keyboard.nextBoolean(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ystem.out.println("You entered " + booleanVar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8240" y="737280"/>
            <a:ext cx="8645400" cy="118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Input and Output of Boolean Value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44680" y="2426760"/>
            <a:ext cx="8229600" cy="25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nter a boolean value: 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rue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You entered tr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Input Valid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ou should check your input to ensure that it is within a valid or reasonable range. For example, consider a program that converts feet to inches. You might write the follow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at if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user types a negative number for fee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user enters an unreasonable value like 100?  Or a number larger than can be stored in an int? (2,147,483,647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847800" y="3057480"/>
            <a:ext cx="616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int feet = keyboard.nextI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int inches = feet * 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Input Valid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 these problems by ensuring that the entered values are reasonabl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814320" y="3016080"/>
            <a:ext cx="60436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9bd5"/>
                </a:solidFill>
                <a:latin typeface="Courier New"/>
                <a:ea typeface="Calibri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feet = keyboard.nextIn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9bd5"/>
                </a:solidFill>
                <a:latin typeface="Courier New"/>
                <a:ea typeface="Calibri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((feet &gt;= 0) &amp;&amp; (feet &lt; 10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5b9bd5"/>
                </a:solidFill>
                <a:latin typeface="Courier New"/>
                <a:ea typeface="Calibri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inches = feet * 1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alibri"/>
              </a:rPr>
              <a:t> 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35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ranching statement that chooses between two possible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if (Boolean_Express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Statement_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ed7d31"/>
                </a:solidFill>
                <a:latin typeface="Courier New"/>
              </a:rPr>
              <a:t>Statement_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37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is a mutltiway branch that makes a decision based on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tegr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integer or character) expre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 7 allows String expr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 begins with the keywor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ed by an integral expression in parentheses and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ntrolling expre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752120"/>
            <a:ext cx="7772400" cy="38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list of cases follows, enclosed in bra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ase consists of the keywor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llowed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onstant called 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ase 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o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list of statem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list is searched for a case label matching the controlling expre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828800"/>
            <a:ext cx="777240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action associated with a matching case label is execute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f no match is found, the case labele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efaul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execute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defaul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ase is optional, but recommended, even if it simply prints a mess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peated case labels are not allowe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832040"/>
            <a:ext cx="77724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witch (Controlling_Express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case Case_Lab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Statement(s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case Case_Lab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defaul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en-US" sz="24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2949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3.5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MultipleBir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7" name="Group 19"/>
          <p:cNvGrpSpPr/>
          <p:nvPr/>
        </p:nvGrpSpPr>
        <p:grpSpPr>
          <a:xfrm>
            <a:off x="1477800" y="2228760"/>
            <a:ext cx="5427720" cy="1216080"/>
            <a:chOff x="1477800" y="2228760"/>
            <a:chExt cx="5427720" cy="1216080"/>
          </a:xfrm>
        </p:grpSpPr>
        <p:sp>
          <p:nvSpPr>
            <p:cNvPr id="238" name="Rectangle 17"/>
            <p:cNvSpPr/>
            <p:nvPr/>
          </p:nvSpPr>
          <p:spPr>
            <a:xfrm>
              <a:off x="1514160" y="2228760"/>
              <a:ext cx="5272200" cy="12146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89095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Group 8"/>
            <p:cNvGrpSpPr/>
            <p:nvPr/>
          </p:nvGrpSpPr>
          <p:grpSpPr>
            <a:xfrm>
              <a:off x="1477800" y="2237400"/>
              <a:ext cx="5427720" cy="1207440"/>
              <a:chOff x="1477800" y="2237400"/>
              <a:chExt cx="5427720" cy="1207440"/>
            </a:xfrm>
          </p:grpSpPr>
          <p:pic>
            <p:nvPicPr>
              <p:cNvPr id="240" name="Picture 5" descr=""/>
              <p:cNvPicPr/>
              <p:nvPr/>
            </p:nvPicPr>
            <p:blipFill>
              <a:blip r:embed="rId2"/>
              <a:srcRect l="0" t="0" r="47642" b="0"/>
              <a:stretch/>
            </p:blipFill>
            <p:spPr>
              <a:xfrm>
                <a:off x="1477800" y="2237400"/>
                <a:ext cx="4596840" cy="12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5" descr=""/>
              <p:cNvPicPr/>
              <p:nvPr/>
            </p:nvPicPr>
            <p:blipFill>
              <a:blip r:embed="rId3"/>
              <a:srcRect l="87234" t="0" r="-1268" b="0"/>
              <a:stretch/>
            </p:blipFill>
            <p:spPr>
              <a:xfrm>
                <a:off x="5672880" y="2237400"/>
                <a:ext cx="1232640" cy="1207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2" name="Group 20"/>
          <p:cNvGrpSpPr/>
          <p:nvPr/>
        </p:nvGrpSpPr>
        <p:grpSpPr>
          <a:xfrm>
            <a:off x="2220840" y="3143160"/>
            <a:ext cx="5486400" cy="1208160"/>
            <a:chOff x="2220840" y="3143160"/>
            <a:chExt cx="5486400" cy="1208160"/>
          </a:xfrm>
        </p:grpSpPr>
        <p:sp>
          <p:nvSpPr>
            <p:cNvPr id="243" name="Rectangle 16"/>
            <p:cNvSpPr/>
            <p:nvPr/>
          </p:nvSpPr>
          <p:spPr>
            <a:xfrm>
              <a:off x="2228760" y="3143160"/>
              <a:ext cx="5457960" cy="11862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89095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11"/>
            <p:cNvGrpSpPr/>
            <p:nvPr/>
          </p:nvGrpSpPr>
          <p:grpSpPr>
            <a:xfrm>
              <a:off x="2220840" y="3159720"/>
              <a:ext cx="5486400" cy="1191600"/>
              <a:chOff x="2220840" y="3159720"/>
              <a:chExt cx="5486400" cy="1191600"/>
            </a:xfrm>
          </p:grpSpPr>
          <p:pic>
            <p:nvPicPr>
              <p:cNvPr id="245" name="Picture 7" descr=""/>
              <p:cNvPicPr/>
              <p:nvPr/>
            </p:nvPicPr>
            <p:blipFill>
              <a:blip r:embed="rId4"/>
              <a:srcRect l="0" t="0" r="46786" b="0"/>
              <a:stretch/>
            </p:blipFill>
            <p:spPr>
              <a:xfrm>
                <a:off x="2220840" y="3159720"/>
                <a:ext cx="4780080" cy="119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7" descr=""/>
              <p:cNvPicPr/>
              <p:nvPr/>
            </p:nvPicPr>
            <p:blipFill>
              <a:blip r:embed="rId5"/>
              <a:srcRect l="91519" t="0" r="0" b="0"/>
              <a:stretch/>
            </p:blipFill>
            <p:spPr>
              <a:xfrm>
                <a:off x="6945480" y="3159720"/>
                <a:ext cx="761760" cy="119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 22"/>
          <p:cNvGrpSpPr/>
          <p:nvPr/>
        </p:nvGrpSpPr>
        <p:grpSpPr>
          <a:xfrm>
            <a:off x="1628640" y="4057560"/>
            <a:ext cx="5129280" cy="1344600"/>
            <a:chOff x="1628640" y="4057560"/>
            <a:chExt cx="5129280" cy="1344600"/>
          </a:xfrm>
        </p:grpSpPr>
        <p:sp>
          <p:nvSpPr>
            <p:cNvPr id="248" name="Rectangle 21"/>
            <p:cNvSpPr/>
            <p:nvPr/>
          </p:nvSpPr>
          <p:spPr>
            <a:xfrm>
              <a:off x="1628640" y="4093920"/>
              <a:ext cx="5116680" cy="12891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  <a:effectLst>
              <a:outerShdw dist="89095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634760" y="4057560"/>
              <a:ext cx="5123160" cy="1344600"/>
              <a:chOff x="1634760" y="4057560"/>
              <a:chExt cx="5123160" cy="1344600"/>
            </a:xfrm>
          </p:grpSpPr>
          <p:pic>
            <p:nvPicPr>
              <p:cNvPr id="250" name="Picture 6" descr=""/>
              <p:cNvPicPr/>
              <p:nvPr/>
            </p:nvPicPr>
            <p:blipFill>
              <a:blip r:embed="rId6"/>
              <a:srcRect l="0" t="0" r="47652" b="0"/>
              <a:stretch/>
            </p:blipFill>
            <p:spPr>
              <a:xfrm>
                <a:off x="1634760" y="4057560"/>
                <a:ext cx="4383720" cy="134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6" descr=""/>
              <p:cNvPicPr/>
              <p:nvPr/>
            </p:nvPicPr>
            <p:blipFill>
              <a:blip r:embed="rId7"/>
              <a:srcRect l="88957" t="0" r="0" b="0"/>
              <a:stretch/>
            </p:blipFill>
            <p:spPr>
              <a:xfrm>
                <a:off x="5833080" y="4057560"/>
                <a:ext cx="924840" cy="1344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2" name="Rectangle 23"/>
          <p:cNvSpPr/>
          <p:nvPr/>
        </p:nvSpPr>
        <p:spPr>
          <a:xfrm>
            <a:off x="2614680" y="5114880"/>
            <a:ext cx="5189400" cy="12430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25"/>
          <p:cNvGrpSpPr/>
          <p:nvPr/>
        </p:nvGrpSpPr>
        <p:grpSpPr>
          <a:xfrm>
            <a:off x="2603520" y="5114880"/>
            <a:ext cx="5351400" cy="1243080"/>
            <a:chOff x="2603520" y="5114880"/>
            <a:chExt cx="5351400" cy="1243080"/>
          </a:xfrm>
        </p:grpSpPr>
        <p:pic>
          <p:nvPicPr>
            <p:cNvPr id="254" name="Picture 7" descr=""/>
            <p:cNvPicPr/>
            <p:nvPr/>
          </p:nvPicPr>
          <p:blipFill>
            <a:blip r:embed="rId8"/>
            <a:srcRect l="0" t="0" r="52118" b="0"/>
            <a:stretch/>
          </p:blipFill>
          <p:spPr>
            <a:xfrm>
              <a:off x="2603520" y="5119200"/>
              <a:ext cx="4340520" cy="123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7" descr=""/>
            <p:cNvPicPr/>
            <p:nvPr/>
          </p:nvPicPr>
          <p:blipFill>
            <a:blip r:embed="rId9"/>
            <a:srcRect l="88346" t="0" r="-1377" b="0"/>
            <a:stretch/>
          </p:blipFill>
          <p:spPr>
            <a:xfrm>
              <a:off x="6772680" y="5114880"/>
              <a:ext cx="1182240" cy="12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6" name="Text Box 7"/>
          <p:cNvSpPr/>
          <p:nvPr/>
        </p:nvSpPr>
        <p:spPr>
          <a:xfrm>
            <a:off x="7024680" y="45925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59984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ction for each case typically ends with the wor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ptiona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ment prevents the consideration of other ca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ntrolling expression can be anything that evaluates to an integral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um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a need to restrict contents of a variable to certain valu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enumeration lists the values a variable can hav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2100"/>
            </a:br>
            <a:r>
              <a:rPr b="1" lang="pt-BR" sz="2800" spc="-1" strike="noStrike">
                <a:solidFill>
                  <a:srgbClr val="ed7d31"/>
                </a:solidFill>
                <a:latin typeface="Courier New"/>
              </a:rPr>
              <a:t>enum MovieRating {E, A, B}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MovieRating rating;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rating = MovieRating.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um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w possible to use in a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witc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1444680" y="2678040"/>
            <a:ext cx="6638760" cy="3095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4" name="Rectangle 4"/>
          <p:cNvSpPr/>
          <p:nvPr/>
        </p:nvSpPr>
        <p:spPr>
          <a:xfrm>
            <a:off x="1839960" y="5433840"/>
            <a:ext cx="1519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umera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even better choice of descriptive identifiers for the constants</a:t>
            </a:r>
            <a:br>
              <a:rPr sz="2100"/>
            </a:b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enum MovieRating 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      {EXCELLENT, AVERAGE, BAD}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rating = MovieRating.AVERAGE;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ase EXCELLENT: 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6253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(Optional) 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34640" y="3120840"/>
            <a:ext cx="7209000" cy="117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pecifying a Drawing Col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Yes/No Wind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124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870200"/>
            <a:ext cx="82296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1023840" y="3106800"/>
            <a:ext cx="7540560" cy="1392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fying a Drawing Col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drawing a shape inside an applet’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, think of the drawing being done with a pen that can change col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etCol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anges the color of the "pen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canvas.setColor(Color.YELLOW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ings done later appear on top of drawings done earl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fying a Drawing Col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3.6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Yellow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2"/>
          <a:stretch/>
        </p:blipFill>
        <p:spPr>
          <a:xfrm>
            <a:off x="2502000" y="2685960"/>
            <a:ext cx="4370400" cy="354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74" name="Text Box 7"/>
          <p:cNvSpPr/>
          <p:nvPr/>
        </p:nvSpPr>
        <p:spPr>
          <a:xfrm>
            <a:off x="6181560" y="409896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fying a Drawing Col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3.10 Predefined Colors for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etColor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6" descr=""/>
          <p:cNvPicPr/>
          <p:nvPr/>
        </p:nvPicPr>
        <p:blipFill>
          <a:blip r:embed="rId1"/>
          <a:stretch/>
        </p:blipFill>
        <p:spPr>
          <a:xfrm>
            <a:off x="1604880" y="3006720"/>
            <a:ext cx="6299280" cy="2878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60240" y="1118880"/>
            <a:ext cx="848376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A Dialog Box for a Yes-or-No Questio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25077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present the user with a yes/no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indow conta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question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buttons label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93520" y="641880"/>
            <a:ext cx="8250120" cy="107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A Dialog Box for a Yes-or-No Questio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209340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int answer =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JOptionPane.showConfirmDialog(null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"End program?"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"Click Yes or No:",    </a:t>
            </a:r>
            <a:br>
              <a:rPr sz="2000"/>
            </a:b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JOptionPane.YES_NO_OPTION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if (answer == JOptionPane.YES_OP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ystem.exit(0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else if (answer == JOptionPane.NO_OP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d7d31"/>
                </a:solidFill>
                <a:latin typeface="Courier New"/>
              </a:rPr>
              <a:t>System.out.println("One more time"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60240" y="394200"/>
            <a:ext cx="8229600" cy="107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A Dialog Box for a Yes-or-No Questio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74636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3.11 A Yes-or No-Dialog Bo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573200" y="2946240"/>
            <a:ext cx="5883120" cy="2654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4647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Java branching state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learned about the typ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ptional) You have learned to use color and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JOptionPa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s/no wind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9760" y="1271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3.1 The Action of the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3.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387440" y="2403360"/>
            <a:ext cx="6551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if-else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State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612720" y="2421000"/>
            <a:ext cx="7637400" cy="176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1254240" y="4473720"/>
            <a:ext cx="7638840" cy="1731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07" name="Text Box 7"/>
          <p:cNvSpPr/>
          <p:nvPr/>
        </p:nvSpPr>
        <p:spPr>
          <a:xfrm>
            <a:off x="7088040" y="20350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23:56:18Z</dcterms:created>
  <dc:creator>Robert P. Burton</dc:creator>
  <dc:description/>
  <dc:language>en-US</dc:language>
  <cp:lastModifiedBy>Kenrick Mock</cp:lastModifiedBy>
  <dcterms:modified xsi:type="dcterms:W3CDTF">2014-04-06T10:13:35Z</dcterms:modified>
  <cp:revision>89</cp:revision>
  <dc:subject/>
  <dc:title>Chapter 3 Flow of Control</dc:title>
</cp:coreProperties>
</file>