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wmf" ContentType="image/x-wmf"/>
  <Override PartName="/ppt/media/image4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14C-ADEE-4576-B1F2-6412E368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97B-B840-47FF-BD52-AC901076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A7A-809D-4876-BC62-F16B4ABE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5F6-C833-4A5C-9279-8D9513C1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959C-239F-440C-80FF-3F44A743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952F-53B1-4BBA-9A9F-A7E1FB8B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4C97-D684-4419-ABDF-019866BE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0466-53EA-482D-9C75-A0A3710A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6564-786A-4FAE-A17F-AE3C4E35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9F25-933F-4564-838F-634B77A6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3ACD-E71D-456A-9435-78803F31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F88-AEB8-417E-8878-239A7857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5404-3E61-42BA-89D4-A99D2897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D0C7-F78D-48B5-A235-A66E8B85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5A4D-2842-43B0-9C12-3E9B5258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03C6-1590-450A-A7B1-33850F4A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E8D7-BF95-4A7F-AB42-2A732C21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0C6-F05F-4109-8159-E687362F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5D9-CB0F-48E4-A0BD-7132DC61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EFE-83D9-496F-AA83-73641AE0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0C6-0C22-458F-9A9E-84D3747E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657-DE54-4BD0-8062-E6E3F8DC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761-7FEE-4615-97A8-369A1366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DA2-C941-409C-88FF-C5388192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EBD1-7644-4D48-8FCF-9BF33787261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F76B-196A-4068-AD18-CD11A49EF1E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Flow of Control: Loop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950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64412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, except that the loop body is executed at least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Body_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while (Boolean_Express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forget the semicolo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3920" y="1539360"/>
            <a:ext cx="855972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2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WhileDem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219480" y="3191040"/>
            <a:ext cx="3533760" cy="1390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961920" y="2590920"/>
            <a:ext cx="3953160" cy="1438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903240" y="2535120"/>
            <a:ext cx="3965760" cy="1443240"/>
            <a:chOff x="903240" y="2535120"/>
            <a:chExt cx="3965760" cy="1443240"/>
          </a:xfrm>
        </p:grpSpPr>
        <p:pic>
          <p:nvPicPr>
            <p:cNvPr id="124" name="Picture 5" descr=""/>
            <p:cNvPicPr/>
            <p:nvPr/>
          </p:nvPicPr>
          <p:blipFill>
            <a:blip r:embed="rId1"/>
            <a:srcRect l="0" t="0" r="51721" b="0"/>
            <a:stretch/>
          </p:blipFill>
          <p:spPr>
            <a:xfrm>
              <a:off x="903240" y="2535120"/>
              <a:ext cx="3078360" cy="1443240"/>
            </a:xfrm>
            <a:prstGeom prst="rect">
              <a:avLst/>
            </a:prstGeom>
            <a:ln w="0">
              <a:noFill/>
            </a:ln>
            <a:effectLst>
              <a:outerShdw dist="89095" dir="2700000" blurRad="0" rotWithShape="0">
                <a:srgbClr val="7f7f7f">
                  <a:alpha val="40000"/>
                </a:srgbClr>
              </a:outerShdw>
            </a:effectLst>
          </p:spPr>
        </p:pic>
        <p:pic>
          <p:nvPicPr>
            <p:cNvPr id="125" name="Picture 5" descr=""/>
            <p:cNvPicPr/>
            <p:nvPr/>
          </p:nvPicPr>
          <p:blipFill>
            <a:blip r:embed="rId2"/>
            <a:srcRect l="82955" t="0" r="0" b="0"/>
            <a:stretch/>
          </p:blipFill>
          <p:spPr>
            <a:xfrm>
              <a:off x="3781440" y="2535120"/>
              <a:ext cx="1087560" cy="1443240"/>
            </a:xfrm>
            <a:prstGeom prst="rect">
              <a:avLst/>
            </a:prstGeom>
            <a:ln w="0">
              <a:noFill/>
            </a:ln>
            <a:effectLst>
              <a:outerShdw dist="89095" dir="2700000" blurRad="0" rotWithShape="0">
                <a:srgbClr val="7f7f7f">
                  <a:alpha val="40000"/>
                </a:srgbClr>
              </a:outerShdw>
            </a:effectLst>
          </p:spPr>
        </p:pic>
      </p:grpSp>
      <p:grpSp>
        <p:nvGrpSpPr>
          <p:cNvPr id="126" name="Group 11"/>
          <p:cNvGrpSpPr/>
          <p:nvPr/>
        </p:nvGrpSpPr>
        <p:grpSpPr>
          <a:xfrm>
            <a:off x="3149640" y="3127320"/>
            <a:ext cx="3549600" cy="1414440"/>
            <a:chOff x="3149640" y="3127320"/>
            <a:chExt cx="3549600" cy="1414440"/>
          </a:xfrm>
        </p:grpSpPr>
        <p:pic>
          <p:nvPicPr>
            <p:cNvPr id="127" name="Picture 6" descr=""/>
            <p:cNvPicPr/>
            <p:nvPr/>
          </p:nvPicPr>
          <p:blipFill>
            <a:blip r:embed="rId3"/>
            <a:srcRect l="0" t="0" r="57566" b="0"/>
            <a:stretch/>
          </p:blipFill>
          <p:spPr>
            <a:xfrm>
              <a:off x="3149640" y="3127320"/>
              <a:ext cx="2698920" cy="1414440"/>
            </a:xfrm>
            <a:prstGeom prst="rect">
              <a:avLst/>
            </a:prstGeom>
            <a:ln w="0">
              <a:noFill/>
            </a:ln>
            <a:effectLst>
              <a:outerShdw dist="89095" dir="2700000" blurRad="0" rotWithShape="0">
                <a:srgbClr val="7f7f7f">
                  <a:alpha val="40000"/>
                </a:srgbClr>
              </a:outerShdw>
            </a:effectLst>
          </p:spPr>
        </p:pic>
        <p:pic>
          <p:nvPicPr>
            <p:cNvPr id="128" name="Picture 6" descr=""/>
            <p:cNvPicPr/>
            <p:nvPr/>
          </p:nvPicPr>
          <p:blipFill>
            <a:blip r:embed="rId4"/>
            <a:srcRect l="86318" t="0" r="0" b="0"/>
            <a:stretch/>
          </p:blipFill>
          <p:spPr>
            <a:xfrm>
              <a:off x="5829480" y="3127320"/>
              <a:ext cx="869760" cy="1414440"/>
            </a:xfrm>
            <a:prstGeom prst="rect">
              <a:avLst/>
            </a:prstGeom>
            <a:ln w="0">
              <a:noFill/>
            </a:ln>
            <a:effectLst>
              <a:outerShdw dist="89095" dir="2700000" blurRad="0" rotWithShape="0">
                <a:srgbClr val="7f7f7f">
                  <a:alpha val="40000"/>
                </a:srgbClr>
              </a:outerShdw>
            </a:effectLst>
          </p:spPr>
        </p:pic>
      </p:grpSp>
      <p:pic>
        <p:nvPicPr>
          <p:cNvPr id="129" name="Picture 5" descr=""/>
          <p:cNvPicPr/>
          <p:nvPr/>
        </p:nvPicPr>
        <p:blipFill>
          <a:blip r:embed="rId5"/>
          <a:stretch/>
        </p:blipFill>
        <p:spPr>
          <a:xfrm>
            <a:off x="1449360" y="4835520"/>
            <a:ext cx="6180120" cy="12445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</p:pic>
      <p:sp>
        <p:nvSpPr>
          <p:cNvPr id="130" name="Text Box 7"/>
          <p:cNvSpPr/>
          <p:nvPr/>
        </p:nvSpPr>
        <p:spPr>
          <a:xfrm>
            <a:off x="6316560" y="4206960"/>
            <a:ext cx="152424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5920" y="1358640"/>
            <a:ext cx="294156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4.3 The Action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 in Listing 4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3481560" y="1270080"/>
            <a:ext cx="54306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04960"/>
            <a:ext cx="82296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, the loop body is execu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the boolean expression is chec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long as it is true, the loop is executed ag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it is false, the loop is exi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valent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Statement(s)_S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while (Boolean_Condi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Statement(s)_S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64800" y="1409400"/>
            <a:ext cx="77216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4.4 The Semantics of the 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327400" y="2443320"/>
            <a:ext cx="41781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555480"/>
            <a:ext cx="914400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ogramming Examp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Bug Infestat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96488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ume a roach: 0.002 cubic fe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ing roach pop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e of increase: 95%/we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ume of a 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of weeks to exceed the capacity of the 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and volume of roac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555480"/>
            <a:ext cx="914400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ogramming Examp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Bug Infestat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219024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 for roach population progra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rough draf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Get volume of ho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Get initial number of roaches in ho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pute number of weeks until the house is full of roa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Display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55480"/>
            <a:ext cx="914400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ogramming Examp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Bug Infestat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66400" y="2130480"/>
            <a:ext cx="7977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GROWTH_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weekly growth rate of the roach population (a constant 0.9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ONE_BUG_VOLU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volume of an average roach (a constant 0.00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ouseVolu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 volume of the ho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artPopu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initial number of ro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td.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55480"/>
            <a:ext cx="914400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ogramming Examp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Bug Infestat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66400" y="2130480"/>
            <a:ext cx="79772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untWeek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week cou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opul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current number of ro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otalBugVolu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total volume of all the ro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ewBug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number of roaches hatched this we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ewBugVolu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volume of new ro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1846080"/>
            <a:ext cx="822960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more detailed algorit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3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BugTrou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395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546a"/>
                </a:solidFill>
                <a:latin typeface="Calibri Light"/>
              </a:rPr>
              <a:t>Programming Example: </a:t>
            </a:r>
            <a:br>
              <a:rPr sz="4000"/>
            </a:br>
            <a:r>
              <a:rPr b="0" lang="en-US" sz="4000" spc="-1" strike="noStrike">
                <a:solidFill>
                  <a:srgbClr val="44546a"/>
                </a:solidFill>
                <a:latin typeface="Calibri Light"/>
              </a:rPr>
              <a:t>Bug Infes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1663560" y="3402000"/>
            <a:ext cx="6194520" cy="290520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</p:pic>
      <p:sp>
        <p:nvSpPr>
          <p:cNvPr id="150" name="Text Box 7"/>
          <p:cNvSpPr/>
          <p:nvPr/>
        </p:nvSpPr>
        <p:spPr>
          <a:xfrm>
            <a:off x="6840360" y="3157560"/>
            <a:ext cx="152424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ign a loo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a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or-eac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with enumer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ssertion che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repetition in a graphics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rawStrin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display text in a graphics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inite Loop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oop which repeats without ever ending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finite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controlling boolean expression never becomes false,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or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-whi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 will repeat without en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egative growth rate in the preceding problem cause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otalBugVolu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ways to be less th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ouseVolu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at the loop never 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sted Loop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63044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dy of a loop can contain any kind of statements, including another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previous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verage score was computed using a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p was placed inside a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p so the process could be repeated for other sets of exam sco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sted Loop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4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ExamAver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579680" y="2637000"/>
            <a:ext cx="6350040" cy="350964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1584360" y="2747880"/>
            <a:ext cx="6405480" cy="363384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</p:pic>
      <p:sp>
        <p:nvSpPr>
          <p:cNvPr id="159" name="Text Box 7"/>
          <p:cNvSpPr/>
          <p:nvPr/>
        </p:nvSpPr>
        <p:spPr>
          <a:xfrm>
            <a:off x="6840360" y="3157560"/>
            <a:ext cx="152424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615680"/>
            <a:ext cx="8229600" cy="25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executes the body of a loop a fixed number of t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for (count = 1; count &lt; 3; count+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coun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for (Initialization, Condition, Upd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Body_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Body_Statement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be either a simple statement or a compound statement in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{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ing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while (Condi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Body_Statement_Including_Up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712800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4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class ForD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2494080" y="2641680"/>
            <a:ext cx="4522680" cy="33685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</p:pic>
      <p:sp>
        <p:nvSpPr>
          <p:cNvPr id="167" name="Text Box 7"/>
          <p:cNvSpPr/>
          <p:nvPr/>
        </p:nvSpPr>
        <p:spPr>
          <a:xfrm>
            <a:off x="6572160" y="3201840"/>
            <a:ext cx="152424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6960" y="439560"/>
            <a:ext cx="278136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0760" y="2247840"/>
            <a:ext cx="236196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4.5 The action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in listing 4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903240" y="5029200"/>
            <a:ext cx="5332320" cy="1282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073400" y="147600"/>
            <a:ext cx="456588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960" y="439560"/>
            <a:ext cx="278136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0760" y="2247840"/>
            <a:ext cx="26622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4.6 The semantics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3602160" y="600120"/>
            <a:ext cx="53370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e to declare variables within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int sum = 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for (int n = 1 ; n &lt;= 10 ; n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sum = sum + n * 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Note that variable </a:t>
            </a:r>
            <a:r>
              <a:rPr b="1" lang="pt-BR" sz="21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 is local to the loo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61568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a separates multiple initial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for (n = 1, product = 1; n &lt;= 10; n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product = product * 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one boolean expression is allowed, but it can consist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,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update actions are allowed, to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for (n = 1, product = 1; n &lt;= 10; </a:t>
            </a:r>
            <a:br>
              <a:rPr sz="2400"/>
            </a:b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       product = product * n, n++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8400" y="800280"/>
            <a:ext cx="8175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Loop Statement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2835360"/>
            <a:ext cx="592920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-ea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64800" y="1600200"/>
            <a:ext cx="817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e to step through values of an enumeration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num Suit {CLUBS, DIAMONDS, HEARTS, SPADES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for (Suit nextSuit : Suit.values(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(nextSuit + " 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587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with Loop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62320" y="2530440"/>
            <a:ext cx="67816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op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izing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ing Loop It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 B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ing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rtion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Loop Bo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1798560"/>
            <a:ext cx="77724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sign the loop body, write out the actions the code must accompli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look for a repeated patter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attern need not start with the first a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peated pattern will form the body of the loo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actions may need to be done after the pattern stops repeat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1920960"/>
            <a:ext cx="77724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variables need to have a value before the loop beg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imes this is determined by what is supposed to happen after one loop iter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variables have an initial value of zero or one, but not alwa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variables get values only while the loop is ite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9280" y="464400"/>
            <a:ext cx="8694720" cy="11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ontrolling Number of Loop Iteration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number of iterations is known before the loop starts, the loop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unt-controlled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ing the user before each iteration if it is time to end the loop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k-before-iterating techni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priate for a small number of it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p or a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371600" y="150804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large input lists,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ntinel val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signal the end of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entinel value must be different from all the other possible inpu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negative number following a long list of nonnegative exam scores could be suita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49280" y="402480"/>
            <a:ext cx="869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546a"/>
                </a:solidFill>
                <a:latin typeface="Calibri Light"/>
              </a:rPr>
              <a:t>Controlling Number of Loop It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14400" y="172224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- reading a list of scores followed by a sentine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next = keyboard.nextInt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while (next  &gt;= 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rocess_The_S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next = keyboard.nextInt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49280" y="402480"/>
            <a:ext cx="869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546a"/>
                </a:solidFill>
                <a:latin typeface="Calibri Light"/>
              </a:rPr>
              <a:t>Controlling Number of Loop It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173160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a boolean variable to end the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6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class BooleanD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49280" y="402480"/>
            <a:ext cx="869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546a"/>
                </a:solidFill>
                <a:latin typeface="Calibri Light"/>
              </a:rPr>
              <a:t>Controlling Number of Loop It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873000" y="3905280"/>
            <a:ext cx="7126560" cy="1895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96" name="Text Box 7"/>
          <p:cNvSpPr/>
          <p:nvPr/>
        </p:nvSpPr>
        <p:spPr>
          <a:xfrm>
            <a:off x="6856560" y="366696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nding Sp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have $100 to spend in a st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imum 3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ter tracks spending and item 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item chosen, computer tells you whether or not you can buy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wants adaptabl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le to change amount and maximum number of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algorit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7</a:t>
            </a:r>
            <a:br>
              <a:rPr sz="28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class SpendingSp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081080" y="2712960"/>
            <a:ext cx="7729560" cy="3521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2" name="Text Box 7"/>
          <p:cNvSpPr/>
          <p:nvPr/>
        </p:nvSpPr>
        <p:spPr>
          <a:xfrm>
            <a:off x="6856560" y="366696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Loop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43200" y="1600200"/>
            <a:ext cx="7300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rtion of a program that repeats a statement or a group of statements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atement or group of statements to be repeated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oop could be used to compute grades for each student in a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must be a means of exiting the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632880"/>
            <a:ext cx="862632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 in Loop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201132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can be used to end a loop immedi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ends only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m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or switch statement that contains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 make loops more difficult to underst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 sparingly (if ev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-360" y="1606320"/>
            <a:ext cx="288612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 program fragment, ending a loop with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4.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28600" y="635400"/>
            <a:ext cx="862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 Statement in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3127320" y="2162160"/>
            <a:ext cx="5770440" cy="4146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1720" y="5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continu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Statement in Loop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64800" y="2019240"/>
            <a:ext cx="772164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ntinu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s current loop ite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s the next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ext recommends avoiding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roduce unneeded complic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rac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6603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racing variabl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s watching the variables change while the program is run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insert temporary output statements in your program to print of the values of variables of inte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, learn to use the debugging facility that may be provided by your 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ertion Che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sertion : something that says something about the state of the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true or fa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 be true when no mistakes in running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ertion Che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74440" y="1481040"/>
            <a:ext cx="772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found in 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//n == 1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while (n &lt; limit)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n = 2 * n;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//n &gt;= li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//n is the smallest power of 2 &gt;= li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 for assertion check</a:t>
            </a:r>
            <a:br>
              <a:rPr sz="2800"/>
            </a:b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Assert Boolean_Express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ertion Che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quivalent example using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asse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assert n == 1;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while (n &lt; limit)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n = 2 * n;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assert n &gt;= limit;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//n is the smallest power of 2 &gt;= lim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op Bug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57608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loop b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ntended infinite lo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-by-one err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ing equality of floating-point nu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tle infinite lo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loop may terminate for some input values, but not for oth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xample, you can’t get out of debt when the monthly penalty exceeds the monthly pay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ultiface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s loop to draw several smiley fa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s if statement to alter appea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4.9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MultipleFac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1660680" y="1393920"/>
            <a:ext cx="6454800" cy="4941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24" name="Text Box 7"/>
          <p:cNvSpPr/>
          <p:nvPr/>
        </p:nvSpPr>
        <p:spPr>
          <a:xfrm>
            <a:off x="6856560" y="246852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152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repeats while a controlling boolean expression remains 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op body typically contains an action that ultimately causes the controlling boolean expression to become fal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drawString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64800" y="1600200"/>
            <a:ext cx="817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milar to methods for drawing ova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splays te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anvas.drawString("Hello",10, 20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s word Hello at point (10, 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d to place "Kiss, Kiss" and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"Tee Hee" on screen in listing 4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loop is a programming construct that repeats an a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has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repeat the loop while a condition is tr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logic of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 is identical to the whi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48960" y="1360080"/>
            <a:ext cx="77216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s may be ended using a sentinel value or a boolean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 loop bugs include infinite loops or loops which are off by 1 it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may be traced by including temporary output statements or a debugging uti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sse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can be used to check conditions at ru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raw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display text in an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5"/>
          <p:cNvSpPr/>
          <p:nvPr/>
        </p:nvSpPr>
        <p:spPr>
          <a:xfrm>
            <a:off x="1181160" y="4905360"/>
            <a:ext cx="6286320" cy="14097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219480" y="3191040"/>
            <a:ext cx="3533760" cy="1390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961920" y="2590920"/>
            <a:ext cx="3953160" cy="1438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4922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1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WhileDem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1117440" y="4840200"/>
            <a:ext cx="6285240" cy="1427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  <p:grpSp>
        <p:nvGrpSpPr>
          <p:cNvPr id="102" name="Group 10"/>
          <p:cNvGrpSpPr/>
          <p:nvPr/>
        </p:nvGrpSpPr>
        <p:grpSpPr>
          <a:xfrm>
            <a:off x="903240" y="2535120"/>
            <a:ext cx="3965760" cy="1443240"/>
            <a:chOff x="903240" y="2535120"/>
            <a:chExt cx="3965760" cy="1443240"/>
          </a:xfrm>
        </p:grpSpPr>
        <p:pic>
          <p:nvPicPr>
            <p:cNvPr id="103" name="Picture 5" descr=""/>
            <p:cNvPicPr/>
            <p:nvPr/>
          </p:nvPicPr>
          <p:blipFill>
            <a:blip r:embed="rId2"/>
            <a:srcRect l="0" t="0" r="51721" b="0"/>
            <a:stretch/>
          </p:blipFill>
          <p:spPr>
            <a:xfrm>
              <a:off x="903240" y="2535120"/>
              <a:ext cx="3078360" cy="1443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04" name="Picture 5" descr=""/>
            <p:cNvPicPr/>
            <p:nvPr/>
          </p:nvPicPr>
          <p:blipFill>
            <a:blip r:embed="rId3"/>
            <a:srcRect l="82955" t="0" r="0" b="0"/>
            <a:stretch/>
          </p:blipFill>
          <p:spPr>
            <a:xfrm>
              <a:off x="3781440" y="2535120"/>
              <a:ext cx="1087560" cy="1443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105" name="Group 12"/>
          <p:cNvGrpSpPr/>
          <p:nvPr/>
        </p:nvGrpSpPr>
        <p:grpSpPr>
          <a:xfrm>
            <a:off x="3149640" y="3127320"/>
            <a:ext cx="3549600" cy="1414440"/>
            <a:chOff x="3149640" y="3127320"/>
            <a:chExt cx="3549600" cy="1414440"/>
          </a:xfrm>
        </p:grpSpPr>
        <p:pic>
          <p:nvPicPr>
            <p:cNvPr id="106" name="Picture 6" descr=""/>
            <p:cNvPicPr/>
            <p:nvPr/>
          </p:nvPicPr>
          <p:blipFill>
            <a:blip r:embed="rId4"/>
            <a:srcRect l="0" t="0" r="57566" b="0"/>
            <a:stretch/>
          </p:blipFill>
          <p:spPr>
            <a:xfrm>
              <a:off x="3149640" y="3127320"/>
              <a:ext cx="2698920" cy="1414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07" name="Picture 6" descr=""/>
            <p:cNvPicPr/>
            <p:nvPr/>
          </p:nvPicPr>
          <p:blipFill>
            <a:blip r:embed="rId5"/>
            <a:srcRect l="86318" t="0" r="0" b="0"/>
            <a:stretch/>
          </p:blipFill>
          <p:spPr>
            <a:xfrm>
              <a:off x="5829480" y="3127320"/>
              <a:ext cx="869760" cy="1414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08" name="Text Box 7"/>
          <p:cNvSpPr/>
          <p:nvPr/>
        </p:nvSpPr>
        <p:spPr>
          <a:xfrm>
            <a:off x="6316560" y="4206960"/>
            <a:ext cx="152424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5400" y="1344600"/>
            <a:ext cx="315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4.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tion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in Listing 4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3465360" y="1293840"/>
            <a:ext cx="52959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06720" y="1600200"/>
            <a:ext cx="703728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while (Boolean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Body_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while (Boolean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First_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econd_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64800" y="1333080"/>
            <a:ext cx="726444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4.2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mantics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077920" y="2516040"/>
            <a:ext cx="47419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2:53:13Z</dcterms:created>
  <dc:creator>Steve Armstrong</dc:creator>
  <dc:description/>
  <dc:language>en-US</dc:language>
  <cp:lastModifiedBy>Kenrick Mock</cp:lastModifiedBy>
  <dcterms:modified xsi:type="dcterms:W3CDTF">2014-04-06T10:22:15Z</dcterms:modified>
  <cp:revision>49</cp:revision>
  <dc:subject/>
  <dc:title>Slide 1</dc:title>
</cp:coreProperties>
</file>