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5A9-2983-469D-B59C-7A451030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611E-5607-4267-A593-39D3529D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24B-A237-4143-9361-1211403F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468-9CBD-49AE-A101-126E7403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6E77-04EB-4586-8D0E-5EFEA24E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B3AC-494E-4565-9D4D-03D84118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AD72-005E-43DF-87F6-9806270D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CB35-2180-4981-A2D9-29B301CF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629-22AE-42FD-A6B5-C9EC64B5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4FF-2CB9-4623-9BDE-3231C8C4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A0F-2A2B-4D64-B39E-E10F07D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C8C-CCF7-4AEA-AA39-A74DEEE0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32C0-A43A-49F9-87F3-0A235E96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8EF-B8FD-438F-8227-CE39A454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813-A365-4F63-B6C6-83E790F3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57BB-9384-41C4-99BD-1BDDAC2B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4787-852F-47BF-933C-1D6AFDC9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1BEB-39EC-4141-A408-509F6621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9D2-9DDB-4103-B68C-2571CA73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B7DD-4314-4470-BF98-4076A41D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0717-0E8C-41AA-AC0A-6FD58C00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299E-4DCB-45C7-89F7-EEBBA05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34E-67D7-4DBD-AAB3-A3A29AC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FB9-1EAA-4772-A55C-670121A2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60C7-0438-4A50-ABAD-37B4921E02CD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415-9560-47E0-8931-1582D77C253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Flow of Control: Loop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4950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64412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 except that the loop body is executed at least o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while (Boolean_Express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n’t forget the semicolo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3920" y="1539360"/>
            <a:ext cx="855972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2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WhileDem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19480" y="3191040"/>
            <a:ext cx="3533760" cy="1390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961920" y="2590920"/>
            <a:ext cx="3953160" cy="1438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8"/>
          <p:cNvGrpSpPr/>
          <p:nvPr/>
        </p:nvGrpSpPr>
        <p:grpSpPr>
          <a:xfrm>
            <a:off x="903240" y="2535120"/>
            <a:ext cx="3965760" cy="1443240"/>
            <a:chOff x="903240" y="2535120"/>
            <a:chExt cx="3965760" cy="1443240"/>
          </a:xfrm>
        </p:grpSpPr>
        <p:pic>
          <p:nvPicPr>
            <p:cNvPr id="124" name="Picture 5" descr=""/>
            <p:cNvPicPr/>
            <p:nvPr/>
          </p:nvPicPr>
          <p:blipFill>
            <a:blip r:embed="rId1"/>
            <a:srcRect l="0" t="0" r="51721" b="0"/>
            <a:stretch/>
          </p:blipFill>
          <p:spPr>
            <a:xfrm>
              <a:off x="903240" y="2535120"/>
              <a:ext cx="3078360" cy="14432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  <p:pic>
          <p:nvPicPr>
            <p:cNvPr id="125" name="Picture 5" descr=""/>
            <p:cNvPicPr/>
            <p:nvPr/>
          </p:nvPicPr>
          <p:blipFill>
            <a:blip r:embed="rId2"/>
            <a:srcRect l="82955" t="0" r="0" b="0"/>
            <a:stretch/>
          </p:blipFill>
          <p:spPr>
            <a:xfrm>
              <a:off x="3781440" y="2535120"/>
              <a:ext cx="1087560" cy="14432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</p:grpSp>
      <p:grpSp>
        <p:nvGrpSpPr>
          <p:cNvPr id="126" name="Group 11"/>
          <p:cNvGrpSpPr/>
          <p:nvPr/>
        </p:nvGrpSpPr>
        <p:grpSpPr>
          <a:xfrm>
            <a:off x="3149640" y="3127320"/>
            <a:ext cx="3549600" cy="1414440"/>
            <a:chOff x="3149640" y="3127320"/>
            <a:chExt cx="3549600" cy="1414440"/>
          </a:xfrm>
        </p:grpSpPr>
        <p:pic>
          <p:nvPicPr>
            <p:cNvPr id="127" name="Picture 6" descr=""/>
            <p:cNvPicPr/>
            <p:nvPr/>
          </p:nvPicPr>
          <p:blipFill>
            <a:blip r:embed="rId3"/>
            <a:srcRect l="0" t="0" r="57566" b="0"/>
            <a:stretch/>
          </p:blipFill>
          <p:spPr>
            <a:xfrm>
              <a:off x="3149640" y="3127320"/>
              <a:ext cx="2698920" cy="14144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  <p:pic>
          <p:nvPicPr>
            <p:cNvPr id="128" name="Picture 6" descr=""/>
            <p:cNvPicPr/>
            <p:nvPr/>
          </p:nvPicPr>
          <p:blipFill>
            <a:blip r:embed="rId4"/>
            <a:srcRect l="86318" t="0" r="0" b="0"/>
            <a:stretch/>
          </p:blipFill>
          <p:spPr>
            <a:xfrm>
              <a:off x="5829480" y="3127320"/>
              <a:ext cx="869760" cy="1414440"/>
            </a:xfrm>
            <a:prstGeom prst="rect">
              <a:avLst/>
            </a:prstGeom>
            <a:ln w="0">
              <a:noFill/>
            </a:ln>
            <a:effectLst>
              <a:outerShdw dist="89095" dir="2700000" blurRad="0" rotWithShape="0">
                <a:srgbClr val="7f7f7f">
                  <a:alpha val="40000"/>
                </a:srgbClr>
              </a:outerShdw>
            </a:effectLst>
          </p:spPr>
        </p:pic>
      </p:grpSp>
      <p:pic>
        <p:nvPicPr>
          <p:cNvPr id="129" name="Picture 5" descr=""/>
          <p:cNvPicPr/>
          <p:nvPr/>
        </p:nvPicPr>
        <p:blipFill>
          <a:blip r:embed="rId5"/>
          <a:stretch/>
        </p:blipFill>
        <p:spPr>
          <a:xfrm>
            <a:off x="1449360" y="4835520"/>
            <a:ext cx="6180120" cy="12445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30" name="Text Box 7"/>
          <p:cNvSpPr/>
          <p:nvPr/>
        </p:nvSpPr>
        <p:spPr>
          <a:xfrm>
            <a:off x="6316560" y="42069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5920" y="1358640"/>
            <a:ext cx="294156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3 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in Listing 4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3481560" y="1270080"/>
            <a:ext cx="54306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704960"/>
            <a:ext cx="822960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, the loop body is execu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the boolean expression is check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 long as it is true, the loop is executed agai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is false, the loop is exi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(s)_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while (Boolean_Cond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(s)_S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64800" y="1409400"/>
            <a:ext cx="77216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4.4 The Semantics of the 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2327400" y="2443320"/>
            <a:ext cx="41781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96488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a roach: 0.002 cubic fe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rting roach pop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e of increase: 95%/wee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lume of a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weeks to exceed the capacity of the 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and volume of roac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21902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 for roach population progra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rough dra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Get volume of ho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Get initial number of roaches in hou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ute number of weeks until the house is full of roa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66400" y="2130480"/>
            <a:ext cx="7977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ROWTH_R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weekly growth rate of the roach population (a constant 0.9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ONE_BUG_VOLU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volume of an average roach (a constant 0.0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seVolu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 volume of the ho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tartPopu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—initial number of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d.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555480"/>
            <a:ext cx="9144000" cy="132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66400" y="2130480"/>
            <a:ext cx="79772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untWeek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week cou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opul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current number of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talBugVolu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total volume of all the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Bug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number of roaches hatched this we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ewBugVolum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—volume of new roa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1846080"/>
            <a:ext cx="82296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more detailed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3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BugTrou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3952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Programming Example: </a:t>
            </a:r>
            <a:br>
              <a:rPr sz="4000"/>
            </a:b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Bug Infes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1663560" y="3402000"/>
            <a:ext cx="6194520" cy="290520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50" name="Text Box 7"/>
          <p:cNvSpPr/>
          <p:nvPr/>
        </p:nvSpPr>
        <p:spPr>
          <a:xfrm>
            <a:off x="6840360" y="31575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ign a loo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-eac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th enumera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ssertion che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repetition in a graphics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rawString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display text in a graphics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inite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op which repeats without ever ending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finite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controlling boolean expression never becomes false,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or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will repeat without en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gative growth rate in the preceding problem cause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talBugVolu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ways to be less th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houseVolu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that the loop never e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63044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ody of a loop can contain any kind of statements, including another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previou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verage score was computed using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 was placed inside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 so the process could be repeated for other sets of exam sc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4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ExamAvera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579680" y="2637000"/>
            <a:ext cx="6350040" cy="35096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pic>
        <p:nvPicPr>
          <p:cNvPr id="158" name="Picture 4" descr=""/>
          <p:cNvPicPr/>
          <p:nvPr/>
        </p:nvPicPr>
        <p:blipFill>
          <a:blip r:embed="rId2"/>
          <a:stretch/>
        </p:blipFill>
        <p:spPr>
          <a:xfrm>
            <a:off x="1584360" y="2747880"/>
            <a:ext cx="6405480" cy="36338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59" name="Text Box 7"/>
          <p:cNvSpPr/>
          <p:nvPr/>
        </p:nvSpPr>
        <p:spPr>
          <a:xfrm>
            <a:off x="6840360" y="31575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615680"/>
            <a:ext cx="82296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executes the body of a loop a fixed number of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 (count = 1; count &lt; 3; count+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count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for (Initialization, Condition, Upda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be either a simple statement or a compound statement in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respond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while (Condi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Body_Statement_Including_Up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128000" cy="14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4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class For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2494080" y="2641680"/>
            <a:ext cx="4522680" cy="33685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6572160" y="320184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6960" y="439560"/>
            <a:ext cx="278136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0760" y="2247840"/>
            <a:ext cx="236196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5 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n listing 4.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903240" y="5029200"/>
            <a:ext cx="5332320" cy="1282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7f7f7f">
                <a:alpha val="40000"/>
              </a:srgbClr>
            </a:outerShdw>
          </a:effectLst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073400" y="147600"/>
            <a:ext cx="456588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960" y="439560"/>
            <a:ext cx="2781360" cy="144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0760" y="2247840"/>
            <a:ext cx="2662200" cy="38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6 The semantics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3602160" y="600120"/>
            <a:ext cx="53370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declare variables with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int sum = 0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for (int n = 1 ; n &lt;= 10 ; n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sum = sum + n * 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Note that variable </a:t>
            </a:r>
            <a:r>
              <a:rPr b="1" lang="pt-BR" sz="21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0" lang="pt-BR" sz="2100" spc="-1" strike="noStrike">
                <a:solidFill>
                  <a:srgbClr val="000000"/>
                </a:solidFill>
                <a:latin typeface="Calibri"/>
              </a:rPr>
              <a:t> is local to the loo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615680"/>
            <a:ext cx="82296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a separates multiple initial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for (n = 1, product = 1; n &lt;= 10; n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product = product * n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one boolean expression is allowed, but it can consist of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update actions are allowed, to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for (n = 1, product = 1; n &lt;= 10; </a:t>
            </a:r>
            <a:br>
              <a:rPr sz="2400"/>
            </a:br>
            <a:r>
              <a:rPr b="1" lang="pt-BR" sz="2400" spc="-1" strike="noStrike">
                <a:solidFill>
                  <a:srgbClr val="ed7d31"/>
                </a:solidFill>
                <a:latin typeface="Courier New"/>
              </a:rPr>
              <a:t>       product = product * n, n++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8400" y="800280"/>
            <a:ext cx="8175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Loop Statement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2835360"/>
            <a:ext cx="59292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for-ea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64800" y="1600200"/>
            <a:ext cx="817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step through values of an enumeratio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for (Suit nextSuit : Suit.values(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(nextSuit + " "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ystem.out.println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5871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with Loop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62320" y="2530440"/>
            <a:ext cx="67816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p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izing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ing Loop It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ntin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cing 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rtion chec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Loop Bod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179856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design the loop body, write out the actions the code must accomplis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look for a repeated patte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pattern need not start with the first a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peated pattern will form the body of the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actions may need to be done after the pattern stops repeat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itializing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1920960"/>
            <a:ext cx="777240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variables need to have a value before the loop begi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imes this is determined by what is supposed to happen after one loop ite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variables have an initial value of zero or one, but not alway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variables get values only while the loop is itera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9280" y="464400"/>
            <a:ext cx="8694720" cy="11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number of iterations is known before the loop starts, the loop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unt-controlled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king the user before each iteration if it is time to end the loop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k-before-iterating techniq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ropriate for a small number of it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 or a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oop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371600" y="1508040"/>
            <a:ext cx="7772400" cy="47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large input lists,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ntinel val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used to signal the end of the li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ntinel value must be different from all the other possible inpu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gative number following a long list of nonnegative exam scores could be suitab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449280" y="40248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14400" y="172224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- reading a list of scores followed by a sentine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nt next = keyboard.nextIn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while (next  &gt;= 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Process_The_S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next = keyboard.nextInt(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49280" y="40248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73160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a boolean variable to end the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6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class Boolean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49280" y="402480"/>
            <a:ext cx="869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546a"/>
                </a:solidFill>
                <a:latin typeface="Calibri Light"/>
              </a:rPr>
              <a:t>Controlling Number of Loop It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873000" y="3905280"/>
            <a:ext cx="7126560" cy="1895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6" name="Text Box 7"/>
          <p:cNvSpPr/>
          <p:nvPr/>
        </p:nvSpPr>
        <p:spPr>
          <a:xfrm>
            <a:off x="6856560" y="366696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nding Sp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have $100 to spend in a st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imum 3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ter tracks spending and item 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item chosen, computer tells you whether or not you can buy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ent wants adaptable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le to change amount and maximum number of i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7</a:t>
            </a:r>
            <a:br>
              <a:rPr sz="28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lass SpendingSpre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081080" y="2712960"/>
            <a:ext cx="7729560" cy="3521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2" name="Text Box 7"/>
          <p:cNvSpPr/>
          <p:nvPr/>
        </p:nvSpPr>
        <p:spPr>
          <a:xfrm>
            <a:off x="6856560" y="366696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Loop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43200" y="1600200"/>
            <a:ext cx="7300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rtion of a program that repeats a statement or a group of statements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atement or group of statements to be repeated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d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oop could be used to compute grades for each student in a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ust be a means of exiting the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632880"/>
            <a:ext cx="862632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 in Loop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201132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be used to end a loop immed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ends only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mo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or switch statement that contains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make loops more difficult to underst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 sparingly (if ev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-360" y="1606320"/>
            <a:ext cx="2886120" cy="26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 program fragment, ending a loop with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4.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28600" y="635400"/>
            <a:ext cx="862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4400" spc="-1" strike="noStrike">
                <a:solidFill>
                  <a:srgbClr val="44546a"/>
                </a:solidFill>
                <a:latin typeface="Calibri Light"/>
              </a:rPr>
              <a:t> Statement in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1"/>
          <a:stretch/>
        </p:blipFill>
        <p:spPr>
          <a:xfrm>
            <a:off x="3127320" y="2162160"/>
            <a:ext cx="5770440" cy="4146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1720" y="5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continu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 in Loop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64800" y="2019240"/>
            <a:ext cx="772164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ntinu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current loop ite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ins the next 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xt recommends avoiding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duce unneeded complic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racing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6032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racing variabl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s watching the variables change while the program is run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y insert temporary output statements in your program to print of the values of variables of inter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, learn to use the debugging facility that may be provided by your 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ertion Che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sertion : something that says something about the state of the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true or fa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uld be true when no mistakes in running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ertion Che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74440" y="1481040"/>
            <a:ext cx="772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found in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== 1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while (n &lt; limit)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 = 2 * n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&gt;=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is the smallest power of 2 &gt;= li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 for assertion check</a:t>
            </a:r>
            <a:br>
              <a:rPr sz="2800"/>
            </a:b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Assert Boolean_Express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ssertion Che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quivalent example using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asse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assert n == 1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while (n &lt; limit)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n = 2 * n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assert n &gt;= limit;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//n is the smallest power of 2 &gt;= lim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op Bug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57608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loop b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ntended infinite lo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-by-one err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ing equality of floating-point nu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le infinite lo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op may terminate for some input values, but not for oth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example, you can’t get out of debt when the monthly penalty exceeds the monthly pay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ultiface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s loop to draw several smiley fa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s if statement to alter appear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4.9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1660680" y="1393920"/>
            <a:ext cx="6454800" cy="494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24" name="Text Box 7"/>
          <p:cNvSpPr/>
          <p:nvPr/>
        </p:nvSpPr>
        <p:spPr>
          <a:xfrm>
            <a:off x="6856560" y="246852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3152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repeats while a controlling boolean expression remains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oop body typically contains an action that ultimately causes the controlling boolean expression to become fal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drawString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64800" y="1600200"/>
            <a:ext cx="817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milar to methods for drawing oval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splays tex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anvas.drawString("Hello",10, 2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s word Hello at point (10, 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to place "Kiss, Kiss" and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"Tee Hee" on screen in listing 4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loop is a programming construct that repeats an 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has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-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repeat the loop while a condition is tr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logic of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is identical to the whi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48960" y="1360080"/>
            <a:ext cx="77216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ps may be ended using a sentinel value or a boolean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 loop bugs include infinite loops or loops which are off by 1 it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 may be traced by including temporary output statements or a debugging util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be used to check conditions at run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rawStr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display text in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5"/>
          <p:cNvSpPr/>
          <p:nvPr/>
        </p:nvSpPr>
        <p:spPr>
          <a:xfrm>
            <a:off x="1181160" y="4905360"/>
            <a:ext cx="6286320" cy="14097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219480" y="3191040"/>
            <a:ext cx="3533760" cy="13903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961920" y="2590920"/>
            <a:ext cx="3953160" cy="14382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14922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sample program, Listing 4.1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WhileDem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1117440" y="4840200"/>
            <a:ext cx="6285240" cy="1427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  <p:grpSp>
        <p:nvGrpSpPr>
          <p:cNvPr id="102" name="Group 10"/>
          <p:cNvGrpSpPr/>
          <p:nvPr/>
        </p:nvGrpSpPr>
        <p:grpSpPr>
          <a:xfrm>
            <a:off x="903240" y="2535120"/>
            <a:ext cx="3965760" cy="1443240"/>
            <a:chOff x="903240" y="2535120"/>
            <a:chExt cx="3965760" cy="1443240"/>
          </a:xfrm>
        </p:grpSpPr>
        <p:pic>
          <p:nvPicPr>
            <p:cNvPr id="103" name="Picture 5" descr=""/>
            <p:cNvPicPr/>
            <p:nvPr/>
          </p:nvPicPr>
          <p:blipFill>
            <a:blip r:embed="rId2"/>
            <a:srcRect l="0" t="0" r="51721" b="0"/>
            <a:stretch/>
          </p:blipFill>
          <p:spPr>
            <a:xfrm>
              <a:off x="903240" y="2535120"/>
              <a:ext cx="3078360" cy="1443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4" name="Picture 5" descr=""/>
            <p:cNvPicPr/>
            <p:nvPr/>
          </p:nvPicPr>
          <p:blipFill>
            <a:blip r:embed="rId3"/>
            <a:srcRect l="82955" t="0" r="0" b="0"/>
            <a:stretch/>
          </p:blipFill>
          <p:spPr>
            <a:xfrm>
              <a:off x="3781440" y="2535120"/>
              <a:ext cx="1087560" cy="14432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grpSp>
        <p:nvGrpSpPr>
          <p:cNvPr id="105" name="Group 12"/>
          <p:cNvGrpSpPr/>
          <p:nvPr/>
        </p:nvGrpSpPr>
        <p:grpSpPr>
          <a:xfrm>
            <a:off x="3149640" y="3127320"/>
            <a:ext cx="3549600" cy="1414440"/>
            <a:chOff x="3149640" y="3127320"/>
            <a:chExt cx="3549600" cy="1414440"/>
          </a:xfrm>
        </p:grpSpPr>
        <p:pic>
          <p:nvPicPr>
            <p:cNvPr id="106" name="Picture 6" descr=""/>
            <p:cNvPicPr/>
            <p:nvPr/>
          </p:nvPicPr>
          <p:blipFill>
            <a:blip r:embed="rId4"/>
            <a:srcRect l="0" t="0" r="57566" b="0"/>
            <a:stretch/>
          </p:blipFill>
          <p:spPr>
            <a:xfrm>
              <a:off x="3149640" y="3127320"/>
              <a:ext cx="2698920" cy="1414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  <p:pic>
          <p:nvPicPr>
            <p:cNvPr id="107" name="Picture 6" descr=""/>
            <p:cNvPicPr/>
            <p:nvPr/>
          </p:nvPicPr>
          <p:blipFill>
            <a:blip r:embed="rId5"/>
            <a:srcRect l="86318" t="0" r="0" b="0"/>
            <a:stretch/>
          </p:blipFill>
          <p:spPr>
            <a:xfrm>
              <a:off x="5829480" y="3127320"/>
              <a:ext cx="869760" cy="14144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108" name="Text Box 7"/>
          <p:cNvSpPr/>
          <p:nvPr/>
        </p:nvSpPr>
        <p:spPr>
          <a:xfrm>
            <a:off x="6316560" y="4206960"/>
            <a:ext cx="152424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5400" y="1344600"/>
            <a:ext cx="3157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4.1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loop in Listing 4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tretch/>
        </p:blipFill>
        <p:spPr>
          <a:xfrm>
            <a:off x="3465360" y="1293840"/>
            <a:ext cx="52959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06720" y="1600200"/>
            <a:ext cx="70372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Body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while (Boolean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First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econd_Stat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64800" y="1333080"/>
            <a:ext cx="72644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4.2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mantics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whil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2077920" y="2516040"/>
            <a:ext cx="47419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22:53:13Z</dcterms:created>
  <dc:creator>Steve Armstrong</dc:creator>
  <dc:description/>
  <dc:language>en-US</dc:language>
  <cp:lastModifiedBy>Kenrick Mock</cp:lastModifiedBy>
  <dcterms:modified xsi:type="dcterms:W3CDTF">2014-04-06T10:22:15Z</dcterms:modified>
  <cp:revision>49</cp:revision>
  <dc:subject/>
  <dc:title>Slide 1</dc:title>
</cp:coreProperties>
</file>