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889-BFC2-45FC-B052-CC65E7FA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9CD-B8C7-40C0-8FF4-A2C2FC4E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BEB-B5E3-41D5-BD1E-BC7C2D43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AD4-3173-4117-A291-BD7700DA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6D1A-67D5-427A-B31B-2A407275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89A5-8C7D-435F-AEB8-980EE4CD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DFBC-3487-4D7C-B2C0-13D57597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FB80-3DAA-4CC1-82EA-F02E0F3C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95F9-1FBE-4A9C-8FCB-CF564177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CBFF-0243-4207-B776-783619D2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832D-9B5F-4B17-A53D-99D901D0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4AA-DE00-4DC1-B5F0-024F0355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5A54-A2CB-437A-B0B1-2244DDBD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8E5F-E57F-46DF-B2A5-9556B5A2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2219-E12D-42B7-88AB-E47A7E11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1906-B1BB-4A16-A1C9-C575DD5C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2E5F-091D-49C4-9F76-A8A8AE9A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F2B-A734-46F4-B296-A2EB9250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178-1B0C-4568-B2EF-F2F89619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11E-2D38-4321-B939-A789B9D3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FDC-4724-418F-953B-AF44BE60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9FD-7623-4701-9E50-E76C997D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666-22CC-4D6F-AC7A-C6A764D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4E5-5493-432E-9A20-395C492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F068-31DF-418C-91E5-929C720B5757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40AF-C25D-494A-A189-47468FB7F89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1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3" TargetMode="External"/><Relationship Id="rId2" Type="http://schemas.openxmlformats.org/officeDocument/2006/relationships/hyperlink" Target="file:///CodeSamples2.htm#Listing 5.4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922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Defining Class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719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Dog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Instanc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56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class h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pieces of data (instance variab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ehavi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nstance of this type has its own copies of the data ite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strictions on how variabl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 will replace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a Class and It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g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403280" y="3143160"/>
            <a:ext cx="59166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6431040" y="36831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use a method you "invoke" or "call"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wo kinds of Java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 single 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 some other action –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ked by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by the application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method that returns a quant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nywhere a value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void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e invocation followed by a semi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ing statement performs the action defined by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writeOutpu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finitions appear inside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only with objects of that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03400" y="2457360"/>
            <a:ext cx="5181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method definitions we will see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oes not return a val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as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includes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dy enclosed in braces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{  }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nk of method as defining an action to be tak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That Return a Valu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8708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etAgeInHumanYear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declares type of value to b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t statement executed i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2289240" y="1905120"/>
            <a:ext cx="3895560" cy="282888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 flipV="1">
            <a:off x="1906560" y="2170080"/>
            <a:ext cx="82728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3620880" y="4506480"/>
            <a:ext cx="8175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cond Example – Species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esigned to hold records of endangered spe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he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instance variables, thre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expand this class in the rest of the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ferring to instance variables outside the class – must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an object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ed by a d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instance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ame of variable al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bject (unnamed) is understood to be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 the unnamed object can be referred to with the nam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his.name = keyboard.next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nds for the receiv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seem some situations later that require 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concepts of class, class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class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 Java class, it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use of parameters in a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odifier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ccessor, mutato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information hiding, 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thod pre- and post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93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inside a method are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only inside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variables declared in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ocal to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having the same name and declared in different methods are different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A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Bank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B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LocalVariablesDemo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wo different variable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wAm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values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28880" y="5126040"/>
            <a:ext cx="6424560" cy="101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1" name="Text Box 7"/>
          <p:cNvSpPr/>
          <p:nvPr/>
        </p:nvSpPr>
        <p:spPr>
          <a:xfrm>
            <a:off x="7149960" y="477360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lo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compound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losed in braces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declare a variable within a compound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ound statement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pe of the variable is from its declaration to the end of th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declared outside the block usable both outside and inside the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metho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lara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t only works for 1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make it more versatile by giving the method a parameter to specify how many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sample program, listing 5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peciesSecond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76760" y="1397160"/>
            <a:ext cx="4938480" cy="119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25240"/>
            <a:ext cx="86868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declaration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public int predictPopulation(int ye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the metho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t futurePopulation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speciesOfTheMonth.predictPopulation(1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the intege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7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SecondClassDem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 names are local to the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method invok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arameter initialized to value in corresponding actual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itive actual parameter cannot be altered by invocation of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type conversion performe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byte -&gt; short -&gt; int -&gt; </a:t>
            </a:r>
            <a:br>
              <a:rPr sz="26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      long -&gt; float -&gt; do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formation Hid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capsulation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1520" y="1600200"/>
            <a:ext cx="76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- and Postcondition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ublic and private Modifi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ll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Documentation with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er using a class method ne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know details of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needs to know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method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ing a method so it can be used without knowing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sign should separat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364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 conditions that must be true before method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09600" y="3876840"/>
            <a:ext cx="7188120" cy="175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t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what will be true after method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31840" y="3562200"/>
            <a:ext cx="7427880" cy="169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493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purpose of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aw simple UML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references, variables, 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boolean-valued methods such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applets us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abels,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nit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rivat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odifier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ype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ther class can directly access that object by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generally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usuall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specif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Third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monstration of need for private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ement such a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box.width = 6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lleg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nce width is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 priv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remaining elements of the class consistent in this example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other implementation of a Rectangl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0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Rectangle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setDimension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way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altered outside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stance variables are private must provide methods to access values stored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n access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st also provide methods to change the values of the private instanc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 mutat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n example class with accessor and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1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FourthT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mutator metho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ccess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Popu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Growth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a mutato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2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SpeciesFourthTry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50729"/>
          <a:stretch/>
        </p:blipFill>
        <p:spPr>
          <a:xfrm>
            <a:off x="885960" y="3354480"/>
            <a:ext cx="768348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74" name="Picture 5" descr=""/>
          <p:cNvPicPr/>
          <p:nvPr/>
        </p:nvPicPr>
        <p:blipFill>
          <a:blip r:embed="rId2"/>
          <a:srcRect l="0" t="50085" r="0" b="0"/>
          <a:stretch/>
        </p:blipFill>
        <p:spPr>
          <a:xfrm>
            <a:off x="835200" y="3290760"/>
            <a:ext cx="7683480" cy="29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75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urchas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use of 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also how mutator methods check for invalid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4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1343160"/>
            <a:ext cx="7245360" cy="514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 body may call any othe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invoked method is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not use prefix of receiving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5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6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0" t="47188" r="0" b="0"/>
          <a:stretch/>
        </p:blipFill>
        <p:spPr>
          <a:xfrm>
            <a:off x="731880" y="1623960"/>
            <a:ext cx="7638840" cy="43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85" name="Picture 6" descr=""/>
          <p:cNvPicPr/>
          <p:nvPr/>
        </p:nvPicPr>
        <p:blipFill>
          <a:blip r:embed="rId2"/>
          <a:srcRect l="0" t="0" r="0" b="52486"/>
          <a:stretch/>
        </p:blipFill>
        <p:spPr>
          <a:xfrm>
            <a:off x="738360" y="1871640"/>
            <a:ext cx="7638840" cy="39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6" name="Text Box 7"/>
          <p:cNvSpPr/>
          <p:nvPr/>
        </p:nvSpPr>
        <p:spPr>
          <a:xfrm>
            <a:off x="7240680" y="36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840" y="317160"/>
            <a:ext cx="88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ass and Method Definit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1600" y="1600200"/>
            <a:ext cx="78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Files and Separate Compil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th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of driving a c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ee and use break pedal, accelerator pedal, steering wheel –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 mechanical details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 their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 divides class definition i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class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s headings for public methods and comments about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privat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definitions of public and privat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250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3  A well encapsulated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41920" y="4068720"/>
            <a:ext cx="1636920" cy="520200"/>
          </a:xfrm>
          <a:prstGeom prst="rect">
            <a:avLst/>
          </a:prstGeom>
          <a:solidFill>
            <a:srgbClr val="ffe4c9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grammer who uses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743440" y="4352760"/>
            <a:ext cx="73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058760" y="2265480"/>
            <a:ext cx="4515120" cy="39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ace class definition with comment on how to use 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e all instance variables in the class a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public accessor methods to retrieve data Provide public methods manipulat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methods could include public mutato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 a comment before each public method heading that fully specifies how to use meth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ny helping method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comments within class definition to describe implementation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337680"/>
            <a:ext cx="873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Automatic Documentation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enerates documentation for 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ents in source code must be enclosed in 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/**  *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ty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ll inclu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ings of public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put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HTML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521160" y="1347840"/>
            <a:ext cx="5346720" cy="41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4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urchase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990720" y="3276720"/>
            <a:ext cx="2971800" cy="1965240"/>
            <a:chOff x="990720" y="3276720"/>
            <a:chExt cx="2971800" cy="1965240"/>
          </a:xfrm>
        </p:grpSpPr>
        <p:sp>
          <p:nvSpPr>
            <p:cNvPr id="207" name="Rounded Rectangle 5"/>
            <p:cNvSpPr/>
            <p:nvPr/>
          </p:nvSpPr>
          <p:spPr>
            <a:xfrm>
              <a:off x="3581640" y="3276720"/>
              <a:ext cx="380880" cy="1965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965240"/>
                <a:gd name="textAreaBottom" fmla="*/ 1946880 h 1965240"/>
              </a:gdLst>
              <a:ahLst/>
              <a:rect l="textAreaLeft" t="textAreaTop" r="textAreaRight" b="textAreaBottom"/>
              <a:pathLst>
                <a:path w="21600" h="111365">
                  <a:moveTo>
                    <a:pt x="3600" y="0"/>
                  </a:moveTo>
                  <a:arcTo wR="3600" hR="3600" stAng="16200000" swAng="-5400000"/>
                  <a:lnTo>
                    <a:pt x="0" y="107765"/>
                  </a:lnTo>
                  <a:arcTo wR="3600" hR="3600" stAng="10800000" swAng="-5400000"/>
                  <a:lnTo>
                    <a:pt x="18000" y="11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990720" y="458640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s signs imply public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0"/>
            <p:cNvCxnSpPr/>
            <p:nvPr/>
          </p:nvCxnSpPr>
          <p:spPr>
            <a:xfrm flipV="1">
              <a:off x="2544840" y="3869640"/>
              <a:ext cx="991440" cy="6721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0" name="Group 16"/>
          <p:cNvGrpSpPr/>
          <p:nvPr/>
        </p:nvGrpSpPr>
        <p:grpSpPr>
          <a:xfrm>
            <a:off x="3611520" y="2103480"/>
            <a:ext cx="4998960" cy="1206000"/>
            <a:chOff x="3611520" y="2103480"/>
            <a:chExt cx="4998960" cy="1206000"/>
          </a:xfrm>
        </p:grpSpPr>
        <p:sp>
          <p:nvSpPr>
            <p:cNvPr id="211" name="Rounded Rectangle 12"/>
            <p:cNvSpPr/>
            <p:nvPr/>
          </p:nvSpPr>
          <p:spPr>
            <a:xfrm>
              <a:off x="3611520" y="2103480"/>
              <a:ext cx="350640" cy="822240"/>
            </a:xfrm>
            <a:custGeom>
              <a:avLst/>
              <a:gdLst>
                <a:gd name="textAreaLeft" fmla="*/ 16920 w 350640"/>
                <a:gd name="textAreaRight" fmla="*/ 333720 w 350640"/>
                <a:gd name="textAreaTop" fmla="*/ 16920 h 822240"/>
                <a:gd name="textAreaBottom" fmla="*/ 805320 h 822240"/>
              </a:gdLst>
              <a:ahLst/>
              <a:rect l="textAreaLeft" t="textAreaTop" r="textAreaRight" b="textAreaBottom"/>
              <a:pathLst>
                <a:path w="21600" h="50622">
                  <a:moveTo>
                    <a:pt x="3600" y="0"/>
                  </a:moveTo>
                  <a:arcTo wR="3600" hR="3600" stAng="16200000" swAng="-5400000"/>
                  <a:lnTo>
                    <a:pt x="0" y="47022"/>
                  </a:lnTo>
                  <a:arcTo wR="3600" hR="3600" stAng="10800000" swAng="-5400000"/>
                  <a:lnTo>
                    <a:pt x="18000" y="50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6583320" y="266688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us signs imply private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5"/>
            <p:cNvCxnSpPr>
              <a:endCxn id="211" idx="3"/>
            </p:cNvCxnSpPr>
            <p:nvPr/>
          </p:nvCxnSpPr>
          <p:spPr>
            <a:xfrm flipH="1" flipV="1">
              <a:off x="3961440" y="2514240"/>
              <a:ext cx="2607480" cy="3355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ore than interface, less than full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writte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is def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by the programmer defining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the interface used by programmer who uses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77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bjects and Reference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3360" y="2160360"/>
            <a:ext cx="80834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an equals Method for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olean-Valu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variables are implemented as a memory lo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imitive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red in the memory location assigned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emory address of object named by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gram consists of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of class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that interact with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objects can repres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in real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 itself not stored in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d elsewhere 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contains address of where it is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 typ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holds references (memory addresse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akes memory management of class type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2962440" y="1419120"/>
            <a:ext cx="532116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187800" y="1744560"/>
            <a:ext cx="5479920" cy="417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2703600" y="1870200"/>
            <a:ext cx="6008760" cy="373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801880" y="1855800"/>
            <a:ext cx="591984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097080" y="1855800"/>
            <a:ext cx="5742000" cy="346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3244680" y="1241280"/>
            <a:ext cx="5516640" cy="4938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an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demonstrated by previous fig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not use == to compare two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ust write a method for a given class which will make the comparison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7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this class method used same wa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Demonstrating an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Equal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ce in the two comparison method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ersus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.equals(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547640" y="4203720"/>
            <a:ext cx="5835960" cy="155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45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lete 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7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class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3760920" y="2529000"/>
            <a:ext cx="511488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 A class as a bluepr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343240" y="2577960"/>
            <a:ext cx="45813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-Value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n return a value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lue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method from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646280" y="3922560"/>
            <a:ext cx="6234120" cy="202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nit Te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2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ology to test correctness of individual units of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methods,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llection of unit tests is th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est sui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cess of running tests repeatedly after changes are make sure everything still works i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50880" y="532296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ample code, listing 5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cie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ssignment operator used with objects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emory address is cop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use of parameter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address of actual parameter passed to 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parameter may access public element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parameter thus can be  changed by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1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Demo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parameter types and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of a class type versus parameters of a primitive type</a:t>
            </a:r>
            <a:br>
              <a:rPr sz="18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arameter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rcRect l="0" t="1433" r="1446" b="2676"/>
          <a:stretch/>
        </p:blipFill>
        <p:spPr>
          <a:xfrm>
            <a:off x="1500120" y="1405080"/>
            <a:ext cx="6429600" cy="47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1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84240" y="2292120"/>
            <a:ext cx="68025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Labels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represents an area of the scre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pecify area of screen repres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ru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itabl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created automatic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bject used as an argument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a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135080" y="2984400"/>
            <a:ext cx="71038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b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077840" y="2725560"/>
            <a:ext cx="736596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ple faces – using a Helping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678040" y="3203640"/>
            <a:ext cx="3797280" cy="29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5" name="Text Box 7"/>
          <p:cNvSpPr/>
          <p:nvPr/>
        </p:nvSpPr>
        <p:spPr>
          <a:xfrm>
            <a:off x="5718240" y="39164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6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ct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29280" y="4897440"/>
            <a:ext cx="332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that are instantiations of 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60360" y="4362480"/>
            <a:ext cx="3600360" cy="145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2978280" y="3179880"/>
            <a:ext cx="3247920" cy="15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4983120" y="1760400"/>
            <a:ext cx="3699000" cy="16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Graphics2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includes a Graphics2D class with more functionality than 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s A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for more geometric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nt and shap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eatures that would be useful for rich media applications or video ga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4, for reading an image file and drawing it with transpar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ay be defined for any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alled automatically when applet is ru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milar to 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n application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vides a way to add text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component (such as a label) added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5.25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Label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38280" y="3384720"/>
            <a:ext cx="5568840" cy="237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5" name="Text Box 7"/>
          <p:cNvSpPr/>
          <p:nvPr/>
        </p:nvSpPr>
        <p:spPr>
          <a:xfrm>
            <a:off x="6195960" y="44132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hav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 to stor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definitions to perform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hould be 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needs accessor,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may b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returning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methods that do not return a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eyword this used within method definition represents invok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defined within method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arguments must match actual parameters with respect to number, order, and data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parameters act like 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primitive type initialized with value of actual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not altered by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class type initialized with address of actual paramet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may be altered by 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definition can include call to another method in same or diffe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dition comment states conditions that must be true before method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condition comment describes resulting effects of method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program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designers use UML notation to describ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 differently with objects of class types (vs. primitive typ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of class should include a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drawn by applet normally done from withi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pplet instructions placed in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color of applet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dded to content pane within the ini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520" y="3027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ass Files and Separate Compila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ava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definition usually in a file by it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begins with name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with .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can be compiled separ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ful to keep all class files used by a program in the sam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0:21:45Z</dcterms:created>
  <dc:creator>Steve Armstrong</dc:creator>
  <dc:description/>
  <dc:language>en-US</dc:language>
  <cp:lastModifiedBy>Kenrick Mock</cp:lastModifiedBy>
  <cp:lastPrinted>2009-02-22T23:27:07Z</cp:lastPrinted>
  <dcterms:modified xsi:type="dcterms:W3CDTF">2014-04-06T10:52:56Z</dcterms:modified>
  <cp:revision>88</cp:revision>
  <dc:subject/>
  <dc:title>Defining Classes and Methods</dc:title>
</cp:coreProperties>
</file>