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25F-6CCE-4C4A-BB66-2B84230C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487-4DC1-483B-B7AC-62963F2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90D-1A7E-4E71-874F-771568F7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BE1-1B52-45CC-9042-152BAE3D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BA82-BBF6-4188-909E-8EA531E83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CB45-DF27-4FB2-B14F-3FCDF970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D1BF-F486-46A4-964C-303B3D61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09B9-6F2D-4D4E-8037-9A23A45F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A9D7-C6F7-4D46-BA65-99565718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74D-BBC7-4B6C-A022-32DF1DB6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3A3A-226D-40C9-A002-4BC18D6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3B6-145C-42FF-8628-A1DA5CC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B489-9126-415C-9845-7EEC2888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7AA-FC68-4B1A-96AA-A4F1AA45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252-E983-496A-9614-6E7B7756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494-CB9D-49AA-9A88-AEEF3B5F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32BB-E577-475D-97A8-EB438232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BA7-B7E4-4C10-BE66-DFC81792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76D-2031-4DC6-A0DB-6FD43B56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768-6502-4A67-91DB-1F038FB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80DF-416C-4D78-BEA5-E5AE4F76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9F5-D3E2-4736-95B8-CBFB92CB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669F-5BB0-4F36-A8D4-C7192CC7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E3F-4A60-43F4-8FCB-95CF9C26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009E-A488-4F15-BC59-0E23BB41F5B3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B5CE-D2F8-4CBB-9937-8DA63C0CC1D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3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4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5" TargetMode="External"/><Relationship Id="rId2" Type="http://schemas.openxmlformats.org/officeDocument/2006/relationships/hyperlink" Target="file:///CodeSamples3.htm#Listing 6.6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7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odeSamples3.htm#Listing 6.1" TargetMode="External"/><Relationship Id="rId2" Type="http://schemas.openxmlformats.org/officeDocument/2006/relationships/hyperlink" Target="file:///CodeSamples3.htm#Listing 6.2" TargetMode="Externa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01564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More About Objects 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9568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2965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2 A constructor returning a referen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3451320" y="1878120"/>
            <a:ext cx="5437080" cy="427824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48240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alling Methods from Other Constructor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can call othe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2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from repeating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1841400" y="2473200"/>
            <a:ext cx="5564160" cy="126072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cxnSp>
        <p:nvCxnSpPr>
          <p:cNvPr id="112" name="Straight Arrow Connector 5"/>
          <p:cNvCxnSpPr>
            <a:endCxn id="113" idx="7"/>
          </p:cNvCxnSpPr>
          <p:nvPr/>
        </p:nvCxnSpPr>
        <p:spPr>
          <a:xfrm flipH="1">
            <a:off x="3090600" y="2133720"/>
            <a:ext cx="2472480" cy="993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3" name="Oval 6"/>
          <p:cNvSpPr/>
          <p:nvPr/>
        </p:nvSpPr>
        <p:spPr>
          <a:xfrm>
            <a:off x="2270160" y="3063960"/>
            <a:ext cx="960480" cy="441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502920"/>
            <a:ext cx="864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Calling Constructor from Other Constructor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rom listing 6.3 we have the initial constructor and method s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the other constructors use the this reference to call initial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revised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s to initial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5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Static Variables &amp; Method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65280" y="1600200"/>
            <a:ext cx="802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ing the Task of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to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328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re shared by all objects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static final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considered constants – value cannot be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without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fin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can be chang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one instance of the variable exi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can be accessed by all instances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variables also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not confuse class variables with 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h static variables and instance variables are sometimes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field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ata me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ome methods may have no relation to any type of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ute max of two integ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vert character from upper- to lower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ic method declar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invoke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ithou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ing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use the class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tatic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nstration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imensionConverter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3"/>
          <a:stretch/>
        </p:blipFill>
        <p:spPr>
          <a:xfrm>
            <a:off x="1446120" y="4313160"/>
            <a:ext cx="6534360" cy="163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27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901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Mixing Static and Nonstatic Method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8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avingsAccoun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1444680" y="3895560"/>
            <a:ext cx="6505560" cy="2257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31" name="Text Box 7"/>
          <p:cNvSpPr/>
          <p:nvPr/>
        </p:nvSpPr>
        <p:spPr>
          <a:xfrm>
            <a:off x="7005600" y="45687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asks of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in Subtas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5200" y="1457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may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etitive c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static methods to accomplish subtask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code, listing 6.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with repetitive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lternative code, listing 6.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s helping method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95120" y="1600200"/>
            <a:ext cx="75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static variable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ethods from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predefined wrapper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stubs, drivers to test classes and pro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Metho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to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main used so far in its own class within a separate 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useful to include method main within class 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reate objects in other cla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be run as 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 example code, listing 6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redefine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used as ordinary class,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gno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s many standard mathema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tomatically provided, no import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 methods, figure 6.3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1297080" y="3063960"/>
            <a:ext cx="6966000" cy="30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Math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methods, figure 6.3b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Group 9"/>
          <p:cNvGrpSpPr/>
          <p:nvPr/>
        </p:nvGrpSpPr>
        <p:grpSpPr>
          <a:xfrm>
            <a:off x="1347840" y="2424240"/>
            <a:ext cx="6421320" cy="3733560"/>
            <a:chOff x="1347840" y="2424240"/>
            <a:chExt cx="6421320" cy="3733560"/>
          </a:xfrm>
        </p:grpSpPr>
        <p:pic>
          <p:nvPicPr>
            <p:cNvPr id="142" name="Picture 8" descr=""/>
            <p:cNvPicPr/>
            <p:nvPr/>
          </p:nvPicPr>
          <p:blipFill>
            <a:blip r:embed="rId1"/>
            <a:srcRect l="0" t="0" r="0" b="90429"/>
            <a:stretch/>
          </p:blipFill>
          <p:spPr>
            <a:xfrm>
              <a:off x="1349280" y="2424240"/>
              <a:ext cx="6419880" cy="5778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43" name="Picture 8" descr=""/>
            <p:cNvPicPr/>
            <p:nvPr/>
          </p:nvPicPr>
          <p:blipFill>
            <a:blip r:embed="rId2"/>
            <a:srcRect l="0" t="47421" r="0" b="0"/>
            <a:stretch/>
          </p:blipFill>
          <p:spPr>
            <a:xfrm>
              <a:off x="1347840" y="2987640"/>
              <a:ext cx="6419880" cy="3170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Random Numbe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Math.random(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turns a random double that is greater than or equal to zero and less than 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also has a </a:t>
            </a:r>
            <a:r>
              <a:rPr b="1" lang="en-US" sz="2100" spc="-1" strike="noStrike">
                <a:solidFill>
                  <a:srgbClr val="ff0000"/>
                </a:solidFill>
                <a:latin typeface="Courier New"/>
                <a:ea typeface="Courier New"/>
              </a:rPr>
              <a:t>Random</a:t>
            </a: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to generate random numb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scale using addition and multiplication; the following simulates rolling a six sided d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e = (int) (6.0 * Math.random()) + 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that arguments of primitive type treated differently from those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need to treat primitive value as an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vide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rapper classe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provided to act on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programmer to have an object that corresponds to value of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 useful predefined constants an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mer must specify an initializing value when creating new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apper classes have no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a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2444760"/>
            <a:ext cx="7847280" cy="2565360"/>
          </a:xfrm>
          <a:prstGeom prst="rect">
            <a:avLst/>
          </a:prstGeom>
          <a:ln w="12600">
            <a:solidFill>
              <a:srgbClr val="e7e6e6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apper Class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5680" y="1600200"/>
            <a:ext cx="87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ure 6.4b Static methods in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" name="Group 8"/>
          <p:cNvGrpSpPr/>
          <p:nvPr/>
        </p:nvGrpSpPr>
        <p:grpSpPr>
          <a:xfrm>
            <a:off x="704880" y="2397240"/>
            <a:ext cx="8096400" cy="3827520"/>
            <a:chOff x="704880" y="2397240"/>
            <a:chExt cx="8096400" cy="3827520"/>
          </a:xfrm>
        </p:grpSpPr>
        <p:pic>
          <p:nvPicPr>
            <p:cNvPr id="156" name="Picture 7" descr=""/>
            <p:cNvPicPr/>
            <p:nvPr/>
          </p:nvPicPr>
          <p:blipFill>
            <a:blip r:embed="rId1"/>
            <a:srcRect l="0" t="0" r="0" b="86204"/>
            <a:stretch/>
          </p:blipFill>
          <p:spPr>
            <a:xfrm>
              <a:off x="704880" y="2397240"/>
              <a:ext cx="8096400" cy="79668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57" name="Picture 8" descr=""/>
            <p:cNvPicPr/>
            <p:nvPr/>
          </p:nvPicPr>
          <p:blipFill>
            <a:blip r:embed="rId2"/>
            <a:srcRect l="0" t="46825" r="0" b="0"/>
            <a:stretch/>
          </p:blipFill>
          <p:spPr>
            <a:xfrm>
              <a:off x="704880" y="3154320"/>
              <a:ext cx="8096400" cy="3070440"/>
            </a:xfrm>
            <a:prstGeom prst="rect">
              <a:avLst/>
            </a:prstGeom>
            <a:ln w="12600">
              <a:solidFill>
                <a:srgbClr val="e7e6e6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Writing Method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76320" y="1932120"/>
            <a:ext cx="77104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se Study: Formatting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ing Compiler Concer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gorithm to display a double amount as dollars and c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whole dollars in amou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= the number of cents in amount. Round if there are more than two digits after the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splay a dollar sign,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dolla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a decimal p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Display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a two-digit int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ction Button: Return 3">
            <a:hlinkClick r:id="" action="ppaction://hlinkshowjump?jump=previousslide"/>
          </p:cNvPr>
          <p:cNvSpPr/>
          <p:nvPr/>
        </p:nvSpPr>
        <p:spPr>
          <a:xfrm>
            <a:off x="8050320" y="5432400"/>
            <a:ext cx="645840" cy="501840"/>
          </a:xfrm>
          <a:custGeom>
            <a:avLst/>
            <a:gdLst>
              <a:gd name="textAreaLeft" fmla="*/ 32400 w 645840"/>
              <a:gd name="textAreaRight" fmla="*/ 613440 w 645840"/>
              <a:gd name="textAreaTop" fmla="*/ 32400 h 501840"/>
              <a:gd name="textAreaBottom" fmla="*/ 469440 h 501840"/>
            </a:gdLst>
            <a:ahLst/>
            <a:rect l="textAreaLeft" t="textAreaTop" r="textAreaRight" b="textAreaBottom"/>
            <a:pathLst>
              <a:path w="27794" h="21600">
                <a:moveTo>
                  <a:pt x="0" y="0"/>
                </a:moveTo>
                <a:lnTo>
                  <a:pt x="27794" y="0"/>
                </a:lnTo>
                <a:lnTo>
                  <a:pt x="27794" y="21600"/>
                </a:lnTo>
                <a:lnTo>
                  <a:pt x="0" y="21600"/>
                </a:lnTo>
                <a:close/>
              </a:path>
              <a:path fill="lightenLess" w="27794" h="21600">
                <a:moveTo>
                  <a:pt x="0" y="0"/>
                </a:moveTo>
                <a:lnTo>
                  <a:pt x="27794" y="0"/>
                </a:lnTo>
                <a:lnTo>
                  <a:pt x="26394" y="1400"/>
                </a:lnTo>
                <a:lnTo>
                  <a:pt x="1400" y="1400"/>
                </a:lnTo>
                <a:close/>
              </a:path>
              <a:path fill="darken" w="27794" h="21600">
                <a:moveTo>
                  <a:pt x="27794" y="0"/>
                </a:moveTo>
                <a:lnTo>
                  <a:pt x="27794" y="21600"/>
                </a:lnTo>
                <a:lnTo>
                  <a:pt x="26394" y="20200"/>
                </a:lnTo>
                <a:lnTo>
                  <a:pt x="26394" y="1400"/>
                </a:lnTo>
                <a:close/>
              </a:path>
              <a:path fill="darkenLess" w="27794" h="21600">
                <a:moveTo>
                  <a:pt x="27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4" y="20200"/>
                </a:lnTo>
                <a:close/>
              </a:path>
              <a:path fill="lighten" w="27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4" h="21600">
                <a:moveTo>
                  <a:pt x="6890" y="7493"/>
                </a:moveTo>
                <a:lnTo>
                  <a:pt x="10398" y="7493"/>
                </a:lnTo>
                <a:lnTo>
                  <a:pt x="10398" y="12828"/>
                </a:lnTo>
                <a:cubicBezTo>
                  <a:pt x="10398" y="13751"/>
                  <a:pt x="11199" y="14482"/>
                  <a:pt x="12234" y="14482"/>
                </a:cubicBezTo>
                <a:lnTo>
                  <a:pt x="13897" y="14482"/>
                </a:lnTo>
                <a:cubicBezTo>
                  <a:pt x="14933" y="14482"/>
                  <a:pt x="15733" y="13751"/>
                  <a:pt x="15733" y="12828"/>
                </a:cubicBezTo>
                <a:lnTo>
                  <a:pt x="15733" y="7493"/>
                </a:lnTo>
                <a:lnTo>
                  <a:pt x="13897" y="7493"/>
                </a:lnTo>
                <a:lnTo>
                  <a:pt x="17404" y="3985"/>
                </a:lnTo>
                <a:lnTo>
                  <a:pt x="21077" y="7493"/>
                </a:lnTo>
                <a:lnTo>
                  <a:pt x="19241" y="7493"/>
                </a:lnTo>
                <a:lnTo>
                  <a:pt x="19241" y="12828"/>
                </a:lnTo>
                <a:cubicBezTo>
                  <a:pt x="19241" y="15596"/>
                  <a:pt x="16665" y="18155"/>
                  <a:pt x="13897" y="18155"/>
                </a:cubicBezTo>
                <a:lnTo>
                  <a:pt x="12234" y="18155"/>
                </a:lnTo>
                <a:cubicBezTo>
                  <a:pt x="9467" y="18155"/>
                  <a:pt x="6890" y="15596"/>
                  <a:pt x="6890" y="12828"/>
                </a:cubicBezTo>
                <a:close/>
              </a:path>
            </a:pathLst>
          </a:custGeom>
          <a:gradFill rotWithShape="0">
            <a:gsLst>
              <a:gs pos="0">
                <a:srgbClr val="b5d5a7"/>
              </a:gs>
              <a:gs pos="100000">
                <a:srgbClr val="9cca86"/>
              </a:gs>
            </a:gsLst>
            <a:lin ang="5400000"/>
          </a:gradFill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98480" y="1600200"/>
            <a:ext cx="788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and us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enumeration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nd use packages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 buttons and icons to appl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event-driven programming i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6.12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separate dollars and c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f-else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6.13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FirstTryDr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all to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239840" y="1682640"/>
            <a:ext cx="6634080" cy="4492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67" name="Text Box 7"/>
          <p:cNvSpPr/>
          <p:nvPr/>
        </p:nvSpPr>
        <p:spPr>
          <a:xfrm>
            <a:off x="7005600" y="4175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matting Outpu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9200" y="1816200"/>
            <a:ext cx="770724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corrected code, listing 6.14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Dollar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code to handle negative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in listing 6.13 will now print values correct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composi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pseudocode from previous sli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this pseudocode w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decompo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he task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solve each sub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 code of sub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ce in a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ressing Compiler Concer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ensures necessary tasks are don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ule of thumb: believe the compil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the code as requested by compi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most likely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est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test a method use a driver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 – code in listing 6.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very method in a class should be tes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ttom-up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code at end of sequence of method calls fi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stub – simplified version of a method for testing purpo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Basic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Automatic Type Conver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verloading and the Return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ing Example: 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two or more methods have same name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distinguishes the methods by number and types of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it cannot match a call with a definition, it attempts to do type co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's name and number and type of parameters i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signa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Basic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xample program, listing 6.15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Overloa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overloaded metho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getAver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5"/>
          <p:cNvGrpSpPr/>
          <p:nvPr/>
        </p:nvGrpSpPr>
        <p:grpSpPr>
          <a:xfrm>
            <a:off x="2122560" y="3782880"/>
            <a:ext cx="4540320" cy="1616040"/>
            <a:chOff x="2122560" y="3782880"/>
            <a:chExt cx="4540320" cy="1616040"/>
          </a:xfrm>
        </p:grpSpPr>
        <p:pic>
          <p:nvPicPr>
            <p:cNvPr id="183" name="Picture 2" descr=""/>
            <p:cNvPicPr/>
            <p:nvPr/>
          </p:nvPicPr>
          <p:blipFill>
            <a:blip r:embed="rId1"/>
            <a:srcRect l="0" t="0" r="60855" b="0"/>
            <a:stretch/>
          </p:blipFill>
          <p:spPr>
            <a:xfrm>
              <a:off x="2122560" y="3782880"/>
              <a:ext cx="35067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184" name="Picture 2" descr=""/>
            <p:cNvPicPr/>
            <p:nvPr/>
          </p:nvPicPr>
          <p:blipFill>
            <a:blip r:embed="rId2"/>
            <a:srcRect l="88478" t="0" r="0" b="0"/>
            <a:stretch/>
          </p:blipFill>
          <p:spPr>
            <a:xfrm>
              <a:off x="5629320" y="3792240"/>
              <a:ext cx="1033560" cy="160668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185" name="Text Box 7"/>
          <p:cNvSpPr/>
          <p:nvPr/>
        </p:nvSpPr>
        <p:spPr>
          <a:xfrm>
            <a:off x="5983200" y="462276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verloading and Type Convers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loading and automatic type conversion can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all definition of Pet class of listing 6.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we pass an integer to the constructor we get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even if we intended the constructor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the compiler attempts to overload before it does type conver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descriptive method names, avoid overloa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nstructor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46320" y="1870200"/>
            <a:ext cx="74404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Methods from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Constructor from Other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verloading and Return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ou must not overload a method where the only difference is the type of valu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187720" y="3389400"/>
            <a:ext cx="4124160" cy="2085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1" name="&quot;No&quot; Symbol 4"/>
          <p:cNvSpPr/>
          <p:nvPr/>
        </p:nvSpPr>
        <p:spPr>
          <a:xfrm>
            <a:off x="3335400" y="3441600"/>
            <a:ext cx="2008080" cy="2008440"/>
          </a:xfrm>
          <a:custGeom>
            <a:avLst/>
            <a:gdLst/>
            <a:ahLst/>
            <a:rect l="l" t="t" r="r" b="b"/>
            <a:pathLst>
              <a:path w="2008187" h="2008188">
                <a:moveTo>
                  <a:pt x="0" y="1004094"/>
                </a:moveTo>
                <a:cubicBezTo>
                  <a:pt x="0" y="449548"/>
                  <a:pt x="449548" y="0"/>
                  <a:pt x="1004094" y="0"/>
                </a:cubicBezTo>
                <a:cubicBezTo>
                  <a:pt x="1558640" y="0"/>
                  <a:pt x="2008188" y="449548"/>
                  <a:pt x="2008188" y="1004094"/>
                </a:cubicBezTo>
                <a:cubicBezTo>
                  <a:pt x="2008188" y="1558640"/>
                  <a:pt x="1558640" y="2008188"/>
                  <a:pt x="1004094" y="2008188"/>
                </a:cubicBezTo>
                <a:cubicBezTo>
                  <a:pt x="449548" y="2008188"/>
                  <a:pt x="0" y="1558640"/>
                  <a:pt x="0" y="1004094"/>
                </a:cubicBezTo>
                <a:close/>
                <a:moveTo>
                  <a:pt x="1556641" y="1301620"/>
                </a:moveTo>
                <a:cubicBezTo>
                  <a:pt x="1688030" y="1057611"/>
                  <a:pt x="1643809" y="756308"/>
                  <a:pt x="1447845" y="560344"/>
                </a:cubicBezTo>
                <a:cubicBezTo>
                  <a:pt x="1251881" y="364379"/>
                  <a:pt x="950578" y="320157"/>
                  <a:pt x="706569" y="451547"/>
                </a:cubicBezTo>
                <a:lnTo>
                  <a:pt x="1556641" y="1301620"/>
                </a:lnTo>
                <a:close/>
                <a:moveTo>
                  <a:pt x="451546" y="706568"/>
                </a:moveTo>
                <a:cubicBezTo>
                  <a:pt x="320157" y="950577"/>
                  <a:pt x="364378" y="1251880"/>
                  <a:pt x="560342" y="1447844"/>
                </a:cubicBezTo>
                <a:cubicBezTo>
                  <a:pt x="756306" y="1643809"/>
                  <a:pt x="1057609" y="1688031"/>
                  <a:pt x="1301618" y="1556641"/>
                </a:cubicBezTo>
                <a:lnTo>
                  <a:pt x="451546" y="706568"/>
                </a:lnTo>
                <a:close/>
              </a:path>
            </a:pathLst>
          </a:custGeom>
          <a:solidFill>
            <a:srgbClr val="ff000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lass for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lass, listing 6.1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use o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set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for doing arithmetic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6.17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Mone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146240" y="3030480"/>
            <a:ext cx="6867360" cy="25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97" name="Text Box 7"/>
          <p:cNvSpPr/>
          <p:nvPr/>
        </p:nvSpPr>
        <p:spPr>
          <a:xfrm>
            <a:off x="6969240" y="48211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vacy Lea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ance variable of a class type contain address where that object is sto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gnment of class variables results in two variables pointing to same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method to chang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ith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variable, changes the actual object itse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w insecure class, listing 6.18</a:t>
            </a:r>
            <a:br>
              <a:rPr sz="28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petP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 Revisite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0840" y="1511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,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6.19</a:t>
            </a:r>
            <a:br>
              <a:rPr sz="2100"/>
            </a:b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class H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4211640" y="1327320"/>
            <a:ext cx="3133800" cy="4879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6807240" y="3873600"/>
            <a:ext cx="2057400" cy="761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Text Box 7"/>
          <p:cNvSpPr/>
          <p:nvPr/>
        </p:nvSpPr>
        <p:spPr>
          <a:xfrm>
            <a:off x="6916680" y="19162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defining an enumeration for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its of cards</a:t>
            </a:r>
            <a:br>
              <a:rPr sz="2100"/>
            </a:b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num Suit {CLUBS, DIAMONDS, HEARTS, SPADES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iler creates a class with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compa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ordi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toSt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ed7d31"/>
                </a:solidFill>
                <a:latin typeface="Courier New"/>
              </a:rPr>
              <a:t>value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umeration as a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877680" y="2079720"/>
            <a:ext cx="8049960" cy="40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enhanced enumeration, listing 6.20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enum Su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599840" y="1787400"/>
            <a:ext cx="7086600" cy="43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and Impor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s and Director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s and Impor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ckage is a collection of classes grouped together into a fol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 of folder is name of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d in a separate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is line at the beginning of the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ckag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Package_Nam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es use packages by 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po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 name tells compiler path name for directory containing classes of packag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arch for package begins in class path bas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ckage name uses dots in place of / or \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ame of package uses relative path name starting from any directory in class path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8240" y="1474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special method called when instance of an object created with ne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ize values of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have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specify initial values if desi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ay have multiple defin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with different numbers or types of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ckage Names and Directori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5 A package nam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048040" y="2378160"/>
            <a:ext cx="5241600" cy="3774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Name Clash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ckages help in dealing with name clash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two classes have sam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fferent programmers may give same name to two class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biguity resolved by using the packag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-Driven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 A Complete Applet with But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ng Ic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gramming Example: An Example of Changing Vi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object of type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add to content p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sible to associate an action with a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example, listing 6.21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eliminaryButton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6"/>
          <p:cNvGrpSpPr/>
          <p:nvPr/>
        </p:nvGrpSpPr>
        <p:grpSpPr>
          <a:xfrm>
            <a:off x="1862280" y="2770200"/>
            <a:ext cx="5964120" cy="2419200"/>
            <a:chOff x="1862280" y="2770200"/>
            <a:chExt cx="5964120" cy="2419200"/>
          </a:xfrm>
        </p:grpSpPr>
        <p:pic>
          <p:nvPicPr>
            <p:cNvPr id="227" name="Picture 2" descr=""/>
            <p:cNvPicPr/>
            <p:nvPr/>
          </p:nvPicPr>
          <p:blipFill>
            <a:blip r:embed="rId1"/>
            <a:srcRect l="0" t="0" r="0" b="51098"/>
            <a:stretch/>
          </p:blipFill>
          <p:spPr>
            <a:xfrm>
              <a:off x="1862280" y="2770200"/>
              <a:ext cx="5962680" cy="18129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  <p:pic>
          <p:nvPicPr>
            <p:cNvPr id="228" name="Picture 2" descr=""/>
            <p:cNvPicPr/>
            <p:nvPr/>
          </p:nvPicPr>
          <p:blipFill>
            <a:blip r:embed="rId2"/>
            <a:srcRect l="0" t="83599" r="0" b="0"/>
            <a:stretch/>
          </p:blipFill>
          <p:spPr>
            <a:xfrm>
              <a:off x="1863720" y="4581360"/>
              <a:ext cx="5962680" cy="60804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</p:pic>
      </p:grpSp>
      <p:sp>
        <p:nvSpPr>
          <p:cNvPr id="229" name="Text Box 7"/>
          <p:cNvSpPr/>
          <p:nvPr/>
        </p:nvSpPr>
        <p:spPr>
          <a:xfrm>
            <a:off x="3354480" y="4626000"/>
            <a:ext cx="339552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user clicks either of these buttons, nothing happ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s use events and event handl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bject that represents some user action which elicits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clicking on button with m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istener object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re specified to receive the ev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er objects hav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vent handl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"/>
          <p:cNvSpPr/>
          <p:nvPr/>
        </p:nvSpPr>
        <p:spPr>
          <a:xfrm>
            <a:off x="1365120" y="2846520"/>
            <a:ext cx="6670800" cy="1352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vent-Driven Programm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6  Event firing and an event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266840" y="4826160"/>
            <a:ext cx="339552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vent object is the result of a button click. The event object goes from the button to the liste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5148360" y="4859280"/>
            <a:ext cx="3682800" cy="131364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listener object performs some action, such as making text visible in the applet, when it receives the event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7"/>
          <p:cNvCxnSpPr/>
          <p:nvPr/>
        </p:nvCxnSpPr>
        <p:spPr>
          <a:xfrm flipV="1">
            <a:off x="3756600" y="4053960"/>
            <a:ext cx="516600" cy="796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8" name="Straight Arrow Connector 9"/>
          <p:cNvCxnSpPr/>
          <p:nvPr/>
        </p:nvCxnSpPr>
        <p:spPr>
          <a:xfrm flipH="1" flipV="1">
            <a:off x="7016040" y="4035240"/>
            <a:ext cx="656280" cy="8150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1681200" y="3103560"/>
            <a:ext cx="606888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an event is "sent" to the listener object 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of the listener object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event object is given to the listener object method as the argu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each butt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the listener object (register the listen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s to be invoked must b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7  Buttons and an action listen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861840" y="2405160"/>
            <a:ext cx="7780680" cy="33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tons fire events as objects of 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t objects handled by action liste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make a class an action listen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phras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implements ActionListen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heading of class defin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 the action listener by invoking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 definition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 class to represent pe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1  Class Diagram for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822320" y="2870280"/>
            <a:ext cx="553104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Butt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o be an action listener, a class must hav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method name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method has a parameter of typ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method required by the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ynta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2679840" y="4870440"/>
            <a:ext cx="5203800" cy="105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Complete Applet with Butt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applet code, listing 6.22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 Butt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feat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cation implements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cation of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ddActionListe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1800" spc="-1" strike="noStrike">
                <a:solidFill>
                  <a:srgbClr val="ed7d31"/>
                </a:solidFill>
                <a:latin typeface="Courier New"/>
              </a:rPr>
              <a:t>actionPerfor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itial applet outpu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190600" y="2462040"/>
            <a:ext cx="476280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Sun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2151000" y="2505240"/>
            <a:ext cx="4911840" cy="318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pplet output after clicking Cloud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2170080" y="2422440"/>
            <a:ext cx="4762440" cy="3086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con is a pictu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ually small (but not necessaril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a .GIF or .JPEG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file stored in same folder as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con can be added to a label, button, or other compon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ImageIc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used to convert digital image to ic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3</a:t>
            </a:r>
            <a:br>
              <a:rPr sz="2100"/>
            </a:b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conDe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of ic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ttach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 to 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4421160" y="2927520"/>
            <a:ext cx="4000680" cy="2752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6" name="Text Box 7"/>
          <p:cNvSpPr/>
          <p:nvPr/>
        </p:nvSpPr>
        <p:spPr>
          <a:xfrm>
            <a:off x="7234200" y="50767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Ic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6.8  A button containing an ic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2652840" y="2475000"/>
            <a:ext cx="4952880" cy="31813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hanging Visibilit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ponents have a method named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etVisi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s component from visible to invisible (or the other wa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invisible component is considered not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s an invisible button would be inoper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xample of Changing Visibil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6.2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Visibliit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558720" y="3575160"/>
            <a:ext cx="3834000" cy="248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tretch/>
        </p:blipFill>
        <p:spPr>
          <a:xfrm>
            <a:off x="4932360" y="3570120"/>
            <a:ext cx="38736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340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cod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t constructo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3 parame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String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uble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6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Pet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method creates, initializes object of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ault constructor has no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in a constructor use this as name for another constructor in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tat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shared by all objects of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imitive type has wrapper class to allow treatment as an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erforms automatic type cast between primitive type and object of wrapper class as need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ivide method tasks into subtas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est all methods individual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with same name, different signatures are overload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enumeration is a class – can have instance variables, constructors,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ackage of class definitions grouped together in same folder, contain a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ackag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 at beginning of each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81120" y="1706400"/>
            <a:ext cx="6265800" cy="4054680"/>
          </a:xfrm>
          <a:prstGeom prst="rect">
            <a:avLst/>
          </a:prstGeom>
          <a:ln w="0">
            <a:noFill/>
          </a:ln>
          <a:effectLst>
            <a:outerShdw dist="89095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 Box 7"/>
          <p:cNvSpPr/>
          <p:nvPr/>
        </p:nvSpPr>
        <p:spPr>
          <a:xfrm>
            <a:off x="6689880" y="362268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Constructor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tructor without parameters is the default constructo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ava will define this automatically if the class designer does not define any construc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you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efine a constructor, Java wil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utomatically define a default constru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default constructors not included in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16:21:33Z</dcterms:created>
  <dc:creator>SteveArmstrong</dc:creator>
  <dc:description/>
  <dc:language>en-US</dc:language>
  <cp:lastModifiedBy>Kenrick Mock</cp:lastModifiedBy>
  <dcterms:modified xsi:type="dcterms:W3CDTF">2014-04-06T10:54:46Z</dcterms:modified>
  <cp:revision>104</cp:revision>
  <dc:subject/>
  <dc:title>More About Objects and Methods</dc:title>
</cp:coreProperties>
</file>