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289-A321-42F9-A900-110BB424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A75-F9C8-429E-849E-43B9A528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AE4-85C1-4F79-A025-64CB52F4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57A-FAAC-448A-B9D0-3D2A51EA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4CAE-697F-48CB-9FA3-45D7BC5F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803E-AFB3-4C74-B109-F7397D7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4753-F529-4BE9-9169-3BE4DA2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960-2FF7-4F4B-A8E7-4EF908B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479D-93D8-47C0-934B-2866BFBC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1790-5B5E-40BF-B040-36442A37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F95-271D-4F6E-91A4-F44611A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557-E038-4E19-9028-B4443AF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9E2-4B24-49FA-8EB4-93EF341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75E5-14CE-4754-AE82-7CDA307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A08-0A67-4110-8785-405D7328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120A-6824-496C-B36E-AE45BAB9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A58A-526D-4BCF-858D-C14BB5EB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D9A-ABA1-4853-A298-948E185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446-0331-452D-9E55-6F39FB6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750-2BDE-46BC-9C5B-EAAD950A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84B-33F1-472A-B9CC-FD62BC1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73C-084A-467F-87EA-4CA4F36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945-90AB-41CA-93FB-AFA7136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C80-EFFD-4917-BC41-9CB16AB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1D8-7301-4C6F-B04F-80609F988D3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995F-8EE2-4152-81FE-1BF706DA0B9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3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4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5" TargetMode="External"/><Relationship Id="rId2" Type="http://schemas.openxmlformats.org/officeDocument/2006/relationships/hyperlink" Target="file:///CodeSamples3.htm#Listing 6.6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7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1" TargetMode="External"/><Relationship Id="rId2" Type="http://schemas.openxmlformats.org/officeDocument/2006/relationships/hyperlink" Target="file:///CodeSamples3.htm#Listing 6.2" TargetMode="Externa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015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More About Objects 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296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2 A constructor returning a refer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451320" y="1878120"/>
            <a:ext cx="5437080" cy="42782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824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lling Methods from Other Constructo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can call othe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2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from repeati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841400" y="2473200"/>
            <a:ext cx="5564160" cy="12607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112" name="Straight Arrow Connector 5"/>
          <p:cNvCxnSpPr>
            <a:endCxn id="113" idx="7"/>
          </p:cNvCxnSpPr>
          <p:nvPr/>
        </p:nvCxnSpPr>
        <p:spPr>
          <a:xfrm flipH="1">
            <a:off x="3090600" y="2133720"/>
            <a:ext cx="2472480" cy="993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Oval 6"/>
          <p:cNvSpPr/>
          <p:nvPr/>
        </p:nvSpPr>
        <p:spPr>
          <a:xfrm>
            <a:off x="2270160" y="3063960"/>
            <a:ext cx="960480" cy="441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50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alling Constructor from Other Constructor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rom listing 6.3 we have the initial constructor and method 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the other constructors use the this reference to call initial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revised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s to initial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tatic Variables &amp; Method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1600200"/>
            <a:ext cx="80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ing the Task of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to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32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re shared by all objects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atic fin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considered constants – value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in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can be chang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one instance of the variable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accessed by all instances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lso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confuse class variables with 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h static variables and instance variables are sometimes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ta me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methods may have no relation to any type of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max of two integ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character from upper- to low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 decla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invok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ing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use the 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nstration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446120" y="4313160"/>
            <a:ext cx="6534360" cy="163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27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01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Mixing Static and Nonstatic Metho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8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444680" y="3895560"/>
            <a:ext cx="6505560" cy="2257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31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asks of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in Subt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520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may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titiv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static methods to accomplish subtask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code, listing 6.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with repetitive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lternative code, listing 6.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helping metho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95120" y="1600200"/>
            <a:ext cx="75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static variable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ethods from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predefined 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stubs, drivers to test classes and pro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to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main used so far in its own class within a separat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seful to include method main within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reate objects in othe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un as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example code, listing 6.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defin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 as ordinary class,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y standard mathema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provided, no import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methods, figure 6.3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97080" y="3063960"/>
            <a:ext cx="6966000" cy="30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methods, figure 6.3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1347840" y="2424240"/>
            <a:ext cx="6421320" cy="3733560"/>
            <a:chOff x="1347840" y="2424240"/>
            <a:chExt cx="6421320" cy="373356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rcRect l="0" t="0" r="0" b="90429"/>
            <a:stretch/>
          </p:blipFill>
          <p:spPr>
            <a:xfrm>
              <a:off x="1349280" y="2424240"/>
              <a:ext cx="6419880" cy="577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43" name="Picture 8" descr=""/>
            <p:cNvPicPr/>
            <p:nvPr/>
          </p:nvPicPr>
          <p:blipFill>
            <a:blip r:embed="rId2"/>
            <a:srcRect l="0" t="47421" r="0" b="0"/>
            <a:stretch/>
          </p:blipFill>
          <p:spPr>
            <a:xfrm>
              <a:off x="1347840" y="2987640"/>
              <a:ext cx="6419880" cy="3170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andom Numb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Math.random(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urns a random double that is greater than or equal to zero and less than 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also has a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Random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to generate random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scale using addition and multiplication; the following simulates rolling a six sided d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e = (int) (6.0 * Math.random()) +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that arguments of primitive type treated differently from those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treat primitive value as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rapper class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provided to act on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programmer to have an object that corresponds to value of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 useful predefined constant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 must specify an initializing value when creating new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a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2444760"/>
            <a:ext cx="7847280" cy="2565360"/>
          </a:xfrm>
          <a:prstGeom prst="rect">
            <a:avLst/>
          </a:prstGeom>
          <a:ln w="12600">
            <a:solidFill>
              <a:srgbClr val="e7e6e6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b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704880" y="2397240"/>
            <a:ext cx="8096400" cy="3827520"/>
            <a:chOff x="704880" y="2397240"/>
            <a:chExt cx="8096400" cy="3827520"/>
          </a:xfrm>
        </p:grpSpPr>
        <p:pic>
          <p:nvPicPr>
            <p:cNvPr id="156" name="Picture 7" descr=""/>
            <p:cNvPicPr/>
            <p:nvPr/>
          </p:nvPicPr>
          <p:blipFill>
            <a:blip r:embed="rId1"/>
            <a:srcRect l="0" t="0" r="0" b="86204"/>
            <a:stretch/>
          </p:blipFill>
          <p:spPr>
            <a:xfrm>
              <a:off x="704880" y="2397240"/>
              <a:ext cx="8096400" cy="79668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57" name="Picture 8" descr=""/>
            <p:cNvPicPr/>
            <p:nvPr/>
          </p:nvPicPr>
          <p:blipFill>
            <a:blip r:embed="rId2"/>
            <a:srcRect l="0" t="46825" r="0" b="0"/>
            <a:stretch/>
          </p:blipFill>
          <p:spPr>
            <a:xfrm>
              <a:off x="704880" y="3154320"/>
              <a:ext cx="8096400" cy="307044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iting Method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6320" y="1932120"/>
            <a:ext cx="7710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se Study: Formatting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ing Compiler Concer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to display a double amount as dollars and c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whole dollars in am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cents in amount. Round if there are more than two digits after the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splay a dollar sign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two-digit int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ction Button: Return 3">
            <a:hlinkClick r:id="" action="ppaction://hlinkshowjump?jump=previousslide"/>
          </p:cNvPr>
          <p:cNvSpPr/>
          <p:nvPr/>
        </p:nvSpPr>
        <p:spPr>
          <a:xfrm>
            <a:off x="8050320" y="5432400"/>
            <a:ext cx="645840" cy="501840"/>
          </a:xfrm>
          <a:custGeom>
            <a:avLst/>
            <a:gdLst>
              <a:gd name="textAreaLeft" fmla="*/ 32400 w 645840"/>
              <a:gd name="textAreaRight" fmla="*/ 613440 w 6458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27794" h="21600">
                <a:moveTo>
                  <a:pt x="0" y="0"/>
                </a:moveTo>
                <a:lnTo>
                  <a:pt x="27794" y="0"/>
                </a:lnTo>
                <a:lnTo>
                  <a:pt x="27794" y="21600"/>
                </a:lnTo>
                <a:lnTo>
                  <a:pt x="0" y="21600"/>
                </a:lnTo>
                <a:close/>
              </a:path>
              <a:path fill="lightenLess" w="27794" h="21600">
                <a:moveTo>
                  <a:pt x="0" y="0"/>
                </a:moveTo>
                <a:lnTo>
                  <a:pt x="27794" y="0"/>
                </a:lnTo>
                <a:lnTo>
                  <a:pt x="26394" y="1400"/>
                </a:lnTo>
                <a:lnTo>
                  <a:pt x="1400" y="1400"/>
                </a:lnTo>
                <a:close/>
              </a:path>
              <a:path fill="darken" w="27794" h="21600">
                <a:moveTo>
                  <a:pt x="27794" y="0"/>
                </a:moveTo>
                <a:lnTo>
                  <a:pt x="27794" y="21600"/>
                </a:lnTo>
                <a:lnTo>
                  <a:pt x="26394" y="20200"/>
                </a:lnTo>
                <a:lnTo>
                  <a:pt x="26394" y="1400"/>
                </a:lnTo>
                <a:close/>
              </a:path>
              <a:path fill="darkenLess" w="27794" h="21600">
                <a:moveTo>
                  <a:pt x="2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4" y="20200"/>
                </a:lnTo>
                <a:close/>
              </a:path>
              <a:path fill="lighten" w="2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4" h="21600">
                <a:moveTo>
                  <a:pt x="6890" y="7493"/>
                </a:moveTo>
                <a:lnTo>
                  <a:pt x="10398" y="7493"/>
                </a:lnTo>
                <a:lnTo>
                  <a:pt x="10398" y="12828"/>
                </a:lnTo>
                <a:cubicBezTo>
                  <a:pt x="10398" y="13751"/>
                  <a:pt x="11199" y="14482"/>
                  <a:pt x="12234" y="14482"/>
                </a:cubicBezTo>
                <a:lnTo>
                  <a:pt x="13897" y="14482"/>
                </a:lnTo>
                <a:cubicBezTo>
                  <a:pt x="14933" y="14482"/>
                  <a:pt x="15733" y="13751"/>
                  <a:pt x="15733" y="12828"/>
                </a:cubicBezTo>
                <a:lnTo>
                  <a:pt x="15733" y="7493"/>
                </a:lnTo>
                <a:lnTo>
                  <a:pt x="13897" y="7493"/>
                </a:lnTo>
                <a:lnTo>
                  <a:pt x="17404" y="3985"/>
                </a:lnTo>
                <a:lnTo>
                  <a:pt x="21077" y="7493"/>
                </a:lnTo>
                <a:lnTo>
                  <a:pt x="19241" y="7493"/>
                </a:lnTo>
                <a:lnTo>
                  <a:pt x="19241" y="12828"/>
                </a:lnTo>
                <a:cubicBezTo>
                  <a:pt x="19241" y="15596"/>
                  <a:pt x="16665" y="18155"/>
                  <a:pt x="13897" y="18155"/>
                </a:cubicBezTo>
                <a:lnTo>
                  <a:pt x="12234" y="18155"/>
                </a:lnTo>
                <a:cubicBezTo>
                  <a:pt x="9467" y="18155"/>
                  <a:pt x="6890" y="15596"/>
                  <a:pt x="6890" y="12828"/>
                </a:cubicBezTo>
                <a:close/>
              </a:path>
            </a:pathLst>
          </a:cu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8480" y="160020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enumeration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packages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 buttons and icons to appl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event-driven programming i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6.12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separate dollars and c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f-else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6.13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D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 to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39840" y="1682640"/>
            <a:ext cx="6634080" cy="4492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7005600" y="4175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9200" y="1816200"/>
            <a:ext cx="7707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corrected code, listing 6.14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handle negative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in listing 6.13 will now print values correct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ompos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pseudocode from previous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this pseudocode w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ecompo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he task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solve each sub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e code of sub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in a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ressing Compiler Concer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ensures necessary tasks are do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ule of thumb: believe the compil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the code as requested by comp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most likely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test a method use a driver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– code in listing 6.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method in a class should be tes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code at end of sequence of method call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stub – simplified version of a method for testing purpo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Bas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the Retur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ing Example: 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two or more methods have same name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distinguishes the methods by number and types of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cannot match a call with a definition, it attempts to do type co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's name and number and type of parameters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igna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xample program, listing 6.1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Overlo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overloaded metho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getAver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2122560" y="3782880"/>
            <a:ext cx="4540320" cy="1616040"/>
            <a:chOff x="2122560" y="3782880"/>
            <a:chExt cx="4540320" cy="161604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rcRect l="0" t="0" r="60855" b="0"/>
            <a:stretch/>
          </p:blipFill>
          <p:spPr>
            <a:xfrm>
              <a:off x="2122560" y="3782880"/>
              <a:ext cx="35067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84" name="Picture 2" descr=""/>
            <p:cNvPicPr/>
            <p:nvPr/>
          </p:nvPicPr>
          <p:blipFill>
            <a:blip r:embed="rId2"/>
            <a:srcRect l="88478" t="0" r="0" b="0"/>
            <a:stretch/>
          </p:blipFill>
          <p:spPr>
            <a:xfrm>
              <a:off x="5629320" y="3792240"/>
              <a:ext cx="10335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185" name="Text Box 7"/>
          <p:cNvSpPr/>
          <p:nvPr/>
        </p:nvSpPr>
        <p:spPr>
          <a:xfrm>
            <a:off x="5983200" y="46227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verloading and Type Convers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oading and automatic type conversion can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definition of Pet class of listing 6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pass an integer to the constructor we get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ven if we intended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 compiler attempts to overload before it does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scriptive method names, avoid overlo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ructor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46320" y="1870200"/>
            <a:ext cx="74404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Methods from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Constructor from Other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and Return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must not overload a method where the only difference is the type of valu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187720" y="3389400"/>
            <a:ext cx="4124160" cy="208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1" name="&quot;No&quot; Symbol 4"/>
          <p:cNvSpPr/>
          <p:nvPr/>
        </p:nvSpPr>
        <p:spPr>
          <a:xfrm>
            <a:off x="3335400" y="3441600"/>
            <a:ext cx="2008080" cy="2008440"/>
          </a:xfrm>
          <a:custGeom>
            <a:avLst/>
            <a:gdLst/>
            <a:ahLst/>
            <a:rect l="l" t="t" r="r" b="b"/>
            <a:pathLst>
              <a:path w="2008187" h="2008188">
                <a:moveTo>
                  <a:pt x="0" y="1004094"/>
                </a:moveTo>
                <a:cubicBezTo>
                  <a:pt x="0" y="449548"/>
                  <a:pt x="449548" y="0"/>
                  <a:pt x="1004094" y="0"/>
                </a:cubicBezTo>
                <a:cubicBezTo>
                  <a:pt x="1558640" y="0"/>
                  <a:pt x="2008188" y="449548"/>
                  <a:pt x="2008188" y="1004094"/>
                </a:cubicBezTo>
                <a:cubicBezTo>
                  <a:pt x="2008188" y="1558640"/>
                  <a:pt x="1558640" y="2008188"/>
                  <a:pt x="1004094" y="2008188"/>
                </a:cubicBezTo>
                <a:cubicBezTo>
                  <a:pt x="449548" y="2008188"/>
                  <a:pt x="0" y="1558640"/>
                  <a:pt x="0" y="1004094"/>
                </a:cubicBezTo>
                <a:close/>
                <a:moveTo>
                  <a:pt x="1556641" y="1301620"/>
                </a:moveTo>
                <a:cubicBezTo>
                  <a:pt x="1688030" y="1057611"/>
                  <a:pt x="1643809" y="756308"/>
                  <a:pt x="1447845" y="560344"/>
                </a:cubicBezTo>
                <a:cubicBezTo>
                  <a:pt x="1251881" y="364379"/>
                  <a:pt x="950578" y="320157"/>
                  <a:pt x="706569" y="451547"/>
                </a:cubicBezTo>
                <a:lnTo>
                  <a:pt x="1556641" y="1301620"/>
                </a:lnTo>
                <a:close/>
                <a:moveTo>
                  <a:pt x="451546" y="706568"/>
                </a:moveTo>
                <a:cubicBezTo>
                  <a:pt x="320157" y="950577"/>
                  <a:pt x="364378" y="1251880"/>
                  <a:pt x="560342" y="1447844"/>
                </a:cubicBezTo>
                <a:cubicBezTo>
                  <a:pt x="756306" y="1643809"/>
                  <a:pt x="1057609" y="1688031"/>
                  <a:pt x="1301618" y="1556641"/>
                </a:cubicBezTo>
                <a:lnTo>
                  <a:pt x="451546" y="706568"/>
                </a:lnTo>
                <a:close/>
              </a:path>
            </a:pathLst>
          </a:cu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lass, listing 6.1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use o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se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for doing arithmetic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1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146240" y="3030480"/>
            <a:ext cx="6867360" cy="253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7" name="Text Box 7"/>
          <p:cNvSpPr/>
          <p:nvPr/>
        </p:nvSpPr>
        <p:spPr>
          <a:xfrm>
            <a:off x="6969240" y="482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L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of a class type contain address where that object is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f class variables results in two variables pointing to sam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ethod to chan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, changes the actual object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insecure class, listing 6.18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pet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084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6.19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H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211640" y="1327320"/>
            <a:ext cx="3133800" cy="487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807240" y="3873600"/>
            <a:ext cx="2057400" cy="76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Text Box 7"/>
          <p:cNvSpPr/>
          <p:nvPr/>
        </p:nvSpPr>
        <p:spPr>
          <a:xfrm>
            <a:off x="6916680" y="1916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defining an enumeration fo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its of cards</a:t>
            </a:r>
            <a:br>
              <a:rPr sz="21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creates a class with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value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77680" y="2079720"/>
            <a:ext cx="80499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nhanced enumeration, listing 6.20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enum Su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99840" y="1787400"/>
            <a:ext cx="70866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and Impor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s and Directo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 and Impor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age is a collection of classes grouped together into a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folder is name of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d in a separat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is line at the beginning of the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ackage_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use packages by 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 tells compiler path name for directory containing classes of pack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arch for package begins in class path bas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name uses dots in place of / or 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of package uses relative path name starting from any directory in class p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8240" y="147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special method called when instance of an object created with ne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lues of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have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pecify initial values if des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ay have multiple defin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with different numbers or types of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5 A package n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048040" y="2378160"/>
            <a:ext cx="5241600" cy="377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 Clash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help in dealing with 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wo classes have sam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fferent programmers may give same name to two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biguity resolved by using the packag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 A Complete Applet with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I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An Example of 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object of typ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dd to content 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associate an action with a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example, listing 6.21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eliminaryButton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1862280" y="2770200"/>
            <a:ext cx="5964120" cy="2419200"/>
            <a:chOff x="1862280" y="2770200"/>
            <a:chExt cx="5964120" cy="2419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rcRect l="0" t="0" r="0" b="51098"/>
            <a:stretch/>
          </p:blipFill>
          <p:spPr>
            <a:xfrm>
              <a:off x="1862280" y="2770200"/>
              <a:ext cx="5962680" cy="1812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28" name="Picture 2" descr=""/>
            <p:cNvPicPr/>
            <p:nvPr/>
          </p:nvPicPr>
          <p:blipFill>
            <a:blip r:embed="rId2"/>
            <a:srcRect l="0" t="83599" r="0" b="0"/>
            <a:stretch/>
          </p:blipFill>
          <p:spPr>
            <a:xfrm>
              <a:off x="1863720" y="4581360"/>
              <a:ext cx="5962680" cy="608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29" name="Text Box 7"/>
          <p:cNvSpPr/>
          <p:nvPr/>
        </p:nvSpPr>
        <p:spPr>
          <a:xfrm>
            <a:off x="3354480" y="4626000"/>
            <a:ext cx="339552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clicks either of these buttons, no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s use events and event handl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bject that represents some user action which elicits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clicking on button with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istener object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re specified to receive the ev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er objects hav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nt handl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1365120" y="2846520"/>
            <a:ext cx="66708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6  Event firing and an event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66840" y="4826160"/>
            <a:ext cx="339552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vent object is the result of a button click. The event object goes from the button to the lis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148360" y="4859280"/>
            <a:ext cx="368280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ener object performs some action, such as making text visible in the applet, when it receives the eve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7"/>
          <p:cNvCxnSpPr/>
          <p:nvPr/>
        </p:nvCxnSpPr>
        <p:spPr>
          <a:xfrm flipV="1">
            <a:off x="3756600" y="4053960"/>
            <a:ext cx="516600" cy="796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/>
          <p:nvPr/>
        </p:nvCxnSpPr>
        <p:spPr>
          <a:xfrm flipH="1" flipV="1">
            <a:off x="7016040" y="4035240"/>
            <a:ext cx="656280" cy="815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1681200" y="3103560"/>
            <a:ext cx="60688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an event is "sent" to the listener object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of the listener object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vent object is given to the listener object method as the arg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the listener object (register the listen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be invoked must b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7  Buttons and an action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861840" y="2405160"/>
            <a:ext cx="7780680" cy="33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s fire events as objects of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 objects handled by action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ke a class an action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hras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lements ActionListe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ading of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 the action listener by invoking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efinition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class to represent p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1  Class Diagram for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822320" y="2870280"/>
            <a:ext cx="553104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be an action listener, a class must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has a parameter of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method required by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679840" y="4870440"/>
            <a:ext cx="520380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omplete Applet with Butt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code, listing 6.22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 Butt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feat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tion implement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cation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itial 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90600" y="2462040"/>
            <a:ext cx="476280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Sun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51000" y="2505240"/>
            <a:ext cx="4911840" cy="318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Cloud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170080" y="2422440"/>
            <a:ext cx="476244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ually small (but not necessari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a .GIF or .JPEG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file stored in same folder a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con can be added to a label, button, or other compon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ageIc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used to convert digital image to ic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3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c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of 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ach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 to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421160" y="2927520"/>
            <a:ext cx="4000680" cy="27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6" name="Text Box 7"/>
          <p:cNvSpPr/>
          <p:nvPr/>
        </p:nvSpPr>
        <p:spPr>
          <a:xfrm>
            <a:off x="7234200" y="50767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8  A button containing an ic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652840" y="2475000"/>
            <a:ext cx="4952880" cy="318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hanging Visi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nents have a method nam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Vi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 component from visible to invisible (or the other w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nvisible component is considered not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s an invisible button would be inoper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xample of Changing Visibil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Visibliit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558720" y="3575160"/>
            <a:ext cx="3834000" cy="248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4932360" y="3570120"/>
            <a:ext cx="3873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634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t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3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String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uble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method creates, initializes object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ault constructor has no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in a constructor use this as name for another constructor in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shared by all objects of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imitive type has wrapper class to allow treatment as an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erforms automatic type cast between primitive type and object of wrapper class as nee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e method tasks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 all methods individual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with same name, different signatures ar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is a class – can have instance variables, constructors,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ackage of class definitions grouped together in same folder, conta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ack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at beginning of each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81120" y="1706400"/>
            <a:ext cx="6265800" cy="4054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689880" y="36226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without parameters is the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will define this automatically if the class designer does not define any constru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e a constructor, Java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tomatically define a default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default constructors not included in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21:33Z</dcterms:created>
  <dc:creator>SteveArmstrong</dc:creator>
  <dc:description/>
  <dc:language>en-US</dc:language>
  <cp:lastModifiedBy>Kenrick Mock</cp:lastModifiedBy>
  <dcterms:modified xsi:type="dcterms:W3CDTF">2014-04-06T10:54:46Z</dcterms:modified>
  <cp:revision>104</cp:revision>
  <dc:subject/>
  <dc:title>More About Objects and Methods</dc:title>
</cp:coreProperties>
</file>