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16DF-EC64-48FC-AD6A-83D570937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14D9-E1F7-4FAB-80B7-1B0F1C5AA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8FB0-BF50-4E75-A8E2-183BFB25D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B519-BCF3-421B-9EFB-A281E15F7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6E23-F113-4550-A558-3588003F6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286D-927D-4658-96F3-26B31D1A4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D2BE-FAFB-46F2-A8EF-15CA9C08F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31D8-0B39-4C26-BAEA-8BF465D6B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6509-ED62-462E-B625-547CAF191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7578-9DD6-4C78-99DA-36326BA6F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4164-3280-4471-BC9C-0685DB567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5.  Of course, you got 79, which excludes the 1926 return.  To include 1926, add one.  This is because the 1926 return uses year-end 1925 prices.  So, 2005 – 1925 = 8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DFFF-9E1A-4990-8F2E-2BA8B17EE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CAAD-32BA-4F7D-ACBB-76EDB4E9D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AF78-EFA8-496A-9B4F-2CFF9AF29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5EC1-CAE2-480E-B4D6-132632499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8172-3E33-40DC-AAAE-D82EB55A1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D782-0857-4637-BCAD-38B9B88C6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04F4-78AB-4B60-B2B2-AC9EFECED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C662-21A4-4A9B-B9BE-C543EB0AF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6DCE-5EE8-4309-B3AC-1251865B6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5BEF-0C47-4EBE-BB62-7DA53CB9C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E4E5-5090-486D-937F-CDD9DF209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750A-0AC9-43C1-B59D-CAFA59302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BB55-50B8-45EB-A312-F6AB400EC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BA33-A9A9-48CA-93DB-70FB51D6F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A4EA-B92D-4A31-BA51-E6EC7F455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83D4-3347-4491-81B1-4822DE340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3040-1F41-42E8-B365-7BA7C277E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7BE4-446B-47DC-94C5-1DD8E2A35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1A22-8426-43B6-8B0C-784D546C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3225-C336-42A1-AC35-DD8B2852E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8091-76D5-462D-9353-9DE6BA56D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814F-2C0A-4E50-A59C-1A46F67DC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BB51-0D1E-46AD-9E7C-D4251E00F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0B3A-17C6-4B43-8F6F-F399BDF8F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7923-2200-4EBB-8184-37DDC6EF1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5B76-01D5-4589-AEF6-B58BE5BF1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B61B-F1B9-4D84-A885-5847D0AC6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BB22-248B-473E-A2AB-FA1E4D16C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3012-1A5E-4184-9006-1D5AD29D2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A81B-5334-4055-8F5A-33D558B2D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C6B4-ECAF-48E5-BBC0-FF7C651FA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73DC-9D8E-4DF1-8A8D-51DC027A7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26FA-6B73-4140-A267-4AD81301A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E8540-99DB-49CE-A2F6-984B026EE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6F90-3B3D-4FE8-B242-6FE367C36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9947-2529-40F9-8F7F-83E537B67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81ED-1D67-49CC-8545-FB62627F7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C426-053B-43CF-A8B8-2FFB0A2B8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2012-65DD-4340-A6D3-EA01AAB90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B221-330C-492B-9598-61302EF2D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4D40-12A2-4D1A-B4AA-CEEA8A9E3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F40B0E2B-21C3-468C-8418-1262F8714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840"/>
            <a:ext cx="2362320" cy="852120"/>
            <a:chOff x="-306360" y="6270840"/>
            <a:chExt cx="2362320" cy="85212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6960"/>
              <a:ext cx="2362320" cy="8460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840"/>
              <a:ext cx="2346480" cy="52740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hyperlink" Target="http://www.globalfindata.com/" TargetMode="External"/><Relationship Id="rId4" Type="http://schemas.openxmlformats.org/officeDocument/2006/relationships/hyperlink" Target="http://www.robertniles.com/stat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Brief History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m = 4 (there are 4 3-month holding periods in a year). 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.062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27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EAR = .2744 or 27.4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65C3928-B7D9-47FC-A7CF-92E4DB1533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C830E9D-89FC-43AA-9AA3-A0932FC80C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$1 Investment in Different Typ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 Portfolios, 1926—2006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2" name="Picture 6" descr="jor82353_0101"/>
          <p:cNvPicPr/>
          <p:nvPr/>
        </p:nvPicPr>
        <p:blipFill>
          <a:blip r:embed="rId1"/>
          <a:stretch/>
        </p:blipFill>
        <p:spPr>
          <a:xfrm>
            <a:off x="915840" y="1066680"/>
            <a:ext cx="7085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7A86BAB-B0E6-425D-AAC6-9690530196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inancial Market Hist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Picture 6" descr="jor82353_0102"/>
          <p:cNvPicPr/>
          <p:nvPr/>
        </p:nvPicPr>
        <p:blipFill>
          <a:blip r:embed="rId1"/>
          <a:stretch/>
        </p:blipFill>
        <p:spPr>
          <a:xfrm>
            <a:off x="990720" y="1219320"/>
            <a:ext cx="7029360" cy="53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920EE43-714F-417B-91F8-60D8F08107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Large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Picture 6" descr="jor82353_0103"/>
          <p:cNvPicPr/>
          <p:nvPr/>
        </p:nvPicPr>
        <p:blipFill>
          <a:blip r:embed="rId1"/>
          <a:stretch/>
        </p:blipFill>
        <p:spPr>
          <a:xfrm>
            <a:off x="533520" y="1673280"/>
            <a:ext cx="830556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240623F-0EE8-4DF2-9A39-86D90380AB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Small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Picture 6" descr="jor82353_0104"/>
          <p:cNvPicPr/>
          <p:nvPr/>
        </p:nvPicPr>
        <p:blipFill>
          <a:blip r:embed="rId1"/>
          <a:stretch/>
        </p:blipFill>
        <p:spPr>
          <a:xfrm>
            <a:off x="571680" y="1706400"/>
            <a:ext cx="8191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B3872A5-0A1F-4832-A186-98C6B095DD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Total Returns on U.S. Bond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4" name="Picture 6" descr="jor82353_0105a"/>
          <p:cNvPicPr/>
          <p:nvPr/>
        </p:nvPicPr>
        <p:blipFill>
          <a:blip r:embed="rId1"/>
          <a:stretch/>
        </p:blipFill>
        <p:spPr>
          <a:xfrm>
            <a:off x="685800" y="1676520"/>
            <a:ext cx="80010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71C9526-071B-4FCB-AD68-220690D650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T-bill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7" name="Picture 6" descr="jor82353_0105b"/>
          <p:cNvPicPr/>
          <p:nvPr/>
        </p:nvPicPr>
        <p:blipFill>
          <a:blip r:embed="rId1"/>
          <a:stretch/>
        </p:blipFill>
        <p:spPr>
          <a:xfrm>
            <a:off x="685800" y="1655640"/>
            <a:ext cx="807732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733F93B-C3C8-41C7-B07E-2F57D11299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fl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0" name="Picture 6" descr="jor82353_0106"/>
          <p:cNvPicPr/>
          <p:nvPr/>
        </p:nvPicPr>
        <p:blipFill>
          <a:blip r:embed="rId1"/>
          <a:stretch/>
        </p:blipFill>
        <p:spPr>
          <a:xfrm>
            <a:off x="533520" y="1616040"/>
            <a:ext cx="824364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0A8E377-66F9-4A8F-9573-85466B843A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Average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ful number to help us summarize historical financial data is the simple, or arithmetic ave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ata in Table 1.1, if you add up the returns for large-company stocks from 1926 through 2006, you get about 996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re are 81 returns, the average return is about 12.3%.  How do you use this num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making a guess about the size of the return for a year selected at random, your best guess is 12.3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905120" y="4800600"/>
                <a:ext cx="51116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storical Average Return 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arly return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3D3A283-44B0-45F3-A956-D15BC045F4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Annual Returns for Five Portfolio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7" name="Picture 3" descr="cor29192_cut1b"/>
          <p:cNvPicPr/>
          <p:nvPr/>
        </p:nvPicPr>
        <p:blipFill>
          <a:blip r:embed="rId1"/>
          <a:stretch/>
        </p:blipFill>
        <p:spPr>
          <a:xfrm>
            <a:off x="990720" y="1143000"/>
            <a:ext cx="73864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become a wise investor (maybe even one with too much money), you need to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isks of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ECADDDD-623E-42CE-8052-CA24FD32BC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12CDAF7-9CC9-4F66-9616-B479976821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Returns: The First Less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return on a riskless, i.e., certain inve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ra return on a risky asset over the risk-free rate; i.e.,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reward, on average, for bearing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oking at Table 1.3, we can see the risk premium earned by large-company stocks was 8.5%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081C12F-3AB2-4F33-B6B1-46D11CBBB8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verage Annual Risk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emiums for Five Portfolio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3" name="Picture 6" descr="jor82353_tb0103"/>
          <p:cNvPicPr/>
          <p:nvPr/>
        </p:nvPicPr>
        <p:blipFill>
          <a:blip r:embed="rId1"/>
          <a:stretch/>
        </p:blipFill>
        <p:spPr>
          <a:xfrm>
            <a:off x="609480" y="2781360"/>
            <a:ext cx="815364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39F4A37-83EE-4F66-BD0E-577DE3A3B0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y Does a Risk Premium Exist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investment theory centers on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we will examine this question many times in the chapter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we can examine part of this question by looking at the dispersion, or spread, of historical retur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se two statistical concepts to study this dispersion, or variability: variance and standard devi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8803200-696D-4FDE-8B74-C7458FF819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: The Statistical Tool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24080" y="2209680"/>
                <a:ext cx="3232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3352680" y="4648320"/>
                <a:ext cx="2795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σ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C709ECF-45E3-411F-B4E2-8E3A7030C3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 Review and Concept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quare root is called volatilit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Deviation is handy because it is in the same "units" as the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a normal distribution describe asset retu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20E6D5B-C919-4A3F-9B83-9328C98831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Frequency Distribution of Returns on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on Stocks, 1926—2006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6" descr="jor82353_0107"/>
          <p:cNvPicPr/>
          <p:nvPr/>
        </p:nvPicPr>
        <p:blipFill>
          <a:blip r:embed="rId1"/>
          <a:stretch/>
        </p:blipFill>
        <p:spPr>
          <a:xfrm>
            <a:off x="1371600" y="1066680"/>
            <a:ext cx="678168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AD5E734-E4F0-4EB7-B9EE-BE85B2D9BC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Historical Variance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Standard Devi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data from Table 1.1 for Large-Company St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981080" y="312408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335DF14-92B1-41AF-8148-FD87CCDC45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eturns, Standard Deviations, and Frequency Distributions: 1926—2006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5" name="Picture 6" descr="jor82353_0108"/>
          <p:cNvPicPr/>
          <p:nvPr/>
        </p:nvPicPr>
        <p:blipFill>
          <a:blip r:embed="rId1"/>
          <a:stretch/>
        </p:blipFill>
        <p:spPr>
          <a:xfrm>
            <a:off x="2362320" y="1295280"/>
            <a:ext cx="4771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30ACB39-8C8C-452B-BB86-6F1DFAEB57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Normal Distribution and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arge Company Stock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8" name="Picture 6" descr="jor82353_0109"/>
          <p:cNvPicPr/>
          <p:nvPr/>
        </p:nvPicPr>
        <p:blipFill>
          <a:blip r:embed="rId1"/>
          <a:stretch/>
        </p:blipFill>
        <p:spPr>
          <a:xfrm>
            <a:off x="539640" y="2057400"/>
            <a:ext cx="82994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BAAC8FC-5274-4482-8A47-0CA699DF3C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s on Some “Non-Normal” Day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1" name="Picture 6" descr="jor82353_cut1c"/>
          <p:cNvPicPr/>
          <p:nvPr/>
        </p:nvPicPr>
        <p:blipFill>
          <a:blip r:embed="rId1"/>
          <a:stretch/>
        </p:blipFill>
        <p:spPr>
          <a:xfrm>
            <a:off x="1685880" y="1066680"/>
            <a:ext cx="577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F15EDE6-75D9-40A6-A8EB-E29CEF84D4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retire with One Million Dollars (or mor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? Sup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invest $300 per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investments earn 9%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take you about 36.25 years. Hmm. Too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663435A-8E43-437F-B23B-3317683839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225080"/>
            <a:ext cx="83055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return answers the question:  “What was your return in an average year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return answers the question:  “What was your aver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und return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you use the arithmetic average and when should you use the geometric aver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we need to learn how to calculate a geometric ave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58CD7A9-6EBB-4439-800C-8AC79D454E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a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the large-company stock data from Table 1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geometric averag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2514600" y="3048120"/>
          <a:ext cx="432432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8120"/>
                    <a:ext cx="432432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8B6C91F-0EDB-4653-A4F7-5304868366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2544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tells you what you earned in a typical ye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tells you what you actually earned per year on average, compounded an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When we talk about average returns, we generally are talking about arithmetic average returns.</a:t>
            </a:r>
            <a:br>
              <a:rPr sz="2000"/>
            </a:b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forecasting future retu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ithmetic average is probably "too high" for long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ometric average is probably "too low" for short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6725A1A-FE82-4140-9646-4A3C5FA70E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versus Arithmet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75" name="Picture 6" descr="jor82353_tb0104"/>
          <p:cNvPicPr/>
          <p:nvPr/>
        </p:nvPicPr>
        <p:blipFill>
          <a:blip r:embed="rId1"/>
          <a:stretch/>
        </p:blipFill>
        <p:spPr>
          <a:xfrm>
            <a:off x="685800" y="2590920"/>
            <a:ext cx="78152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18CE42B-64C5-4198-B73A-7FF8CACC75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-free rate represents compensation for just waiting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his is often calle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time value of 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we are willing to bear risk, then we can expect to earn a risk premium, at least on avera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econd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urther, the more risk we are willing to bear, the greater the expected risk prem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44FB090-EEFE-4DEF-A379-E883ADB487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isk and Return Trade-Off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1" name="Picture 6" descr="jor82353_0110"/>
          <p:cNvPicPr/>
          <p:nvPr/>
        </p:nvPicPr>
        <p:blipFill>
          <a:blip r:embed="rId1"/>
          <a:stretch/>
        </p:blipFill>
        <p:spPr>
          <a:xfrm>
            <a:off x="762120" y="1981080"/>
            <a:ext cx="77198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B4CC9AD-BD9B-4280-829A-550475F006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Look Ahea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focuses exclusively on financial assets: stocks, bonds, options, and futur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learn how to value different assets and make informed, intelligent decisions about the associated ris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so learn about different trading mechanisms, and the way that different markets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C83F6AE-E472-4A84-B699-4783974F8F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llionaire lin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a terrific financial web sit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lobalfindata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historical financial market data—not fre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bertniles.com/sta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easy to read statistics re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13BB757-1C8E-42AD-93AE-B62658CC69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la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Retur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nger Rang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eturns: The Firs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ng Average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turns: 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F1FB0AA-F4F3-4145-911E-28BCF5C309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Variability: The Second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s an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Variance and Standard D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Less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Returns versus Geometric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sk-Return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055F836-EE8C-415B-B47B-450378D9A6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sup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invest $500 per mon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vestments earn 12% per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ill take you 25.5 yea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 is about the size of a new car payment, and perhaps your employer will kick in $250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the last 81 years, the S&amp;P 500 Index return was about 12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y this calculator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B9912A1-7070-4CFD-B768-66CA5B9C6E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Brief History of 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9133A00-E5C3-4BB3-B21F-7940763FC6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ollar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00200" y="3352680"/>
                <a:ext cx="64627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Dollar Return on a Stoc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ividend Inco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apital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Lo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F66CB7B-CE2D-436C-B0B9-DAB7819BF5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ercent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, you buy a share of sto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295280" y="3962520"/>
                <a:ext cx="7315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cent Return on a Stoc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idend Income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apital Gain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r Los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ercent Return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Dollar Return on a Stoc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Beginning Investm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79E02C0-6502-44B4-8E38-45269108A3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Total Dollar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Total Percent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95880" y="5410080"/>
            <a:ext cx="1981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200 shares of Lowe’s Companies, Inc. at $48 per share. Three months later, you sell these shares for $51 per share. You received no dividends. What is your return? What is your annualized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: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$51 - $48) / $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625 = 6.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turn on an investment expressed on an “annualized”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Question: What is the number of holding periods in a year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D562732-47CA-420E-BE53-90C44E338D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6248520" y="2895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1:39Z</dcterms:modified>
  <cp:revision>52</cp:revision>
  <dc:subject/>
  <dc:title>Slide 1</dc:title>
</cp:coreProperties>
</file>