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D5E7-B5E3-40B4-AB06-AFE5C5EF8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FD05-6BCC-492E-80E3-61773830E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A082-56E0-4512-9900-7A28FD1C6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710A-0111-461D-ADCB-E69B540E1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76B0-0CE1-4C45-B437-C1292BB7D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78B0-AD05-41B6-A80C-222C541B2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E4E3-13C9-48E2-ACF2-24BA09A04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46B9-26AB-4F46-BC54-81FD14370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3283-8A7C-4846-9BC9-CBE1DEFF5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D686-A8A1-4A75-8044-A7716BCE5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99A7-6B10-4062-A88D-909B3A48E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5.  Of course, you got 79, which excludes the 1926 return.  To include 1926, add one.  This is because the 1926 return uses year-end 1925 prices.  So, 2005 – 1925 = 8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19B4-94B8-47E9-A9C6-1D9FC9AD3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3DA8-CBE2-48A6-9324-747331373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4FA7-9C19-4D53-9849-623CA6ABD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31D2-DFB2-4E92-8426-EAC16401A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147C-C7CE-4AE2-BF54-3F62D0F0E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BC07-91D7-4866-8C41-F63403595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CCD2-23B5-4176-B7CA-9E614EABB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B42A-ABCE-49F2-83C5-0BFD55421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1B78-D1B2-47AC-B3E7-1AE79C29B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0BDC-93FB-411F-B90F-35C57C3E7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42C1-30E5-4776-9339-118F615DB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C22E-5D1A-4DBF-BF59-E4BE90551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DE02-8C46-4015-925E-905CF52BE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2FF1-2867-44D1-B203-0855B6A62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2BF9-E128-44CB-8B46-3B9BFE9C0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4365-733F-406F-9DFB-8C883C848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75EA-A972-4A37-9E72-AADAE0902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932C-6D02-4F96-8990-EFA32FF25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F25E-7489-4FDB-A84D-8AE6886F1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FACD-C998-4439-8314-4B9CA1E7C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A5CD-C298-408D-94E8-A03622BB8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E9BC-BB80-4B2C-90B4-ED9EB5599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6E5D-A930-4089-AC56-17C5AD377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1211-85B0-4D14-A1A8-89C21917C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7818-F27F-482A-A393-53E990B64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39CD-87CA-4307-BF71-3507D48F0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C35C-B7F4-45D1-9E07-80CE0731A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730C-F19D-403C-B19E-70BDC45A1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BA4A-EFDC-4CD3-99A1-F97101EF7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0C3F-3A82-497D-8A16-36E30F19A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B5F2-5836-4D68-A0D0-13E200DD6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AD0B-3A62-45F8-B91B-5857AF7AF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A556-4F83-4FD5-B951-72F49F9AF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6F72-6C06-4F75-8239-B0BF67A23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BF70-AB99-4257-B683-50B25B164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1CE7-2FE1-46C8-8CC2-D0E992D4A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88D8-1210-4C39-8E6A-9CD4DDE75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A6C0-9B07-4117-9697-A19650BDD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17D7-A4E8-48B4-B953-6142E4F60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6F3E-BA88-49D2-A7DE-C330018BD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CC41-FD10-4209-B9E8-4CD1AC389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6D2CFA70-1D0F-4A43-AC5B-A05E5A741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840"/>
            <a:ext cx="2362320" cy="852120"/>
            <a:chOff x="-306360" y="6270840"/>
            <a:chExt cx="2362320" cy="85212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6960"/>
              <a:ext cx="2362320" cy="8460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840"/>
              <a:ext cx="2346480" cy="52740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hyperlink" Target="http://www.globalfindata.com/" TargetMode="External"/><Relationship Id="rId4" Type="http://schemas.openxmlformats.org/officeDocument/2006/relationships/hyperlink" Target="http://www.robertniles.com/stats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Brief History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example, m = 4 (there are 4 3-month holding periods in a year). Theref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EAR = (1 + .062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27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EAR = .2744 or 27.4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701BCF7-26B9-45BF-B6D7-6E7926AEFA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0305CAB-5FFB-4459-8C99-DC106EDB32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$1 Investment in Different Typ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 Portfolios, 1926—2006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2" name="Picture 6" descr="jor82353_0101"/>
          <p:cNvPicPr/>
          <p:nvPr/>
        </p:nvPicPr>
        <p:blipFill>
          <a:blip r:embed="rId1"/>
          <a:stretch/>
        </p:blipFill>
        <p:spPr>
          <a:xfrm>
            <a:off x="915840" y="1066680"/>
            <a:ext cx="7085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E9B23C2-A109-4673-BBBD-438712E616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inancial Market Hist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Picture 6" descr="jor82353_0102"/>
          <p:cNvPicPr/>
          <p:nvPr/>
        </p:nvPicPr>
        <p:blipFill>
          <a:blip r:embed="rId1"/>
          <a:stretch/>
        </p:blipFill>
        <p:spPr>
          <a:xfrm>
            <a:off x="990720" y="1219320"/>
            <a:ext cx="7029360" cy="53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0F8F2CA-73CA-44D7-9532-F03EF3B1E1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Large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8" name="Picture 6" descr="jor82353_0103"/>
          <p:cNvPicPr/>
          <p:nvPr/>
        </p:nvPicPr>
        <p:blipFill>
          <a:blip r:embed="rId1"/>
          <a:stretch/>
        </p:blipFill>
        <p:spPr>
          <a:xfrm>
            <a:off x="533520" y="1673280"/>
            <a:ext cx="830556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6512872-2EF5-4351-BD7A-4BB9C01692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Small-Company Stock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1" name="Picture 6" descr="jor82353_0104"/>
          <p:cNvPicPr/>
          <p:nvPr/>
        </p:nvPicPr>
        <p:blipFill>
          <a:blip r:embed="rId1"/>
          <a:stretch/>
        </p:blipFill>
        <p:spPr>
          <a:xfrm>
            <a:off x="571680" y="1706400"/>
            <a:ext cx="8191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AF98ADF-B81E-45DD-A8FC-D54270EBB2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Total Returns on U.S. Bond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4" name="Picture 6" descr="jor82353_0105a"/>
          <p:cNvPicPr/>
          <p:nvPr/>
        </p:nvPicPr>
        <p:blipFill>
          <a:blip r:embed="rId1"/>
          <a:stretch/>
        </p:blipFill>
        <p:spPr>
          <a:xfrm>
            <a:off x="685800" y="1676520"/>
            <a:ext cx="800100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5A6AFC7-6B3A-4529-ABDC-DCD0BFA648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otal Returns on T-bill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7" name="Picture 6" descr="jor82353_0105b"/>
          <p:cNvPicPr/>
          <p:nvPr/>
        </p:nvPicPr>
        <p:blipFill>
          <a:blip r:embed="rId1"/>
          <a:stretch/>
        </p:blipFill>
        <p:spPr>
          <a:xfrm>
            <a:off x="685800" y="1655640"/>
            <a:ext cx="807732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7B4EAAEC-4519-4D57-871D-18F8D5B7B8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Historical Record: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fl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0" name="Picture 6" descr="jor82353_0106"/>
          <p:cNvPicPr/>
          <p:nvPr/>
        </p:nvPicPr>
        <p:blipFill>
          <a:blip r:embed="rId1"/>
          <a:stretch/>
        </p:blipFill>
        <p:spPr>
          <a:xfrm>
            <a:off x="533520" y="1616040"/>
            <a:ext cx="824364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608FA5E-6408-481D-892B-529AF0D8FB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Average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seful number to help us summarize historical financial data is the simple, or arithmetic a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ata in Table 1.1, if you add up the returns for large-company stocks from 1926 through 2006, you get about 996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re are 81 returns, the average return is about 12.3%.  How do you use this num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making a guess about the size of the return for a year selected at random, your best guess is 12.3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905120" y="4800600"/>
                <a:ext cx="51116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ical Average Return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arly return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4F7B249-D146-4FAD-96BC-4C544D7530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Annual Returns for Five Portfolio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7" name="Picture 3" descr="cor29192_cut1b"/>
          <p:cNvPicPr/>
          <p:nvPr/>
        </p:nvPicPr>
        <p:blipFill>
          <a:blip r:embed="rId1"/>
          <a:stretch/>
        </p:blipFill>
        <p:spPr>
          <a:xfrm>
            <a:off x="990720" y="1143000"/>
            <a:ext cx="738648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become a wise investor (maybe even one with too much money), you need to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rical risks of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A73F891-1C35-4378-A5EA-4D898E1A4B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6DDE8B5-988C-4956-8ADB-013B475AD2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verage Returns: The First Less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return on a riskless, i.e., certain inve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ra return on a risky asset over the risk-free rate; i.e.,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reward, on average, for bearing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looking at Table 1.3, we can see the risk premium earned by large-company stocks was 8.5%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C22D651B-F540-4A09-87F8-4589564479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verage Annual Risk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emiums for Five Portfolio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33" name="Picture 6" descr="jor82353_tb0103"/>
          <p:cNvPicPr/>
          <p:nvPr/>
        </p:nvPicPr>
        <p:blipFill>
          <a:blip r:embed="rId1"/>
          <a:stretch/>
        </p:blipFill>
        <p:spPr>
          <a:xfrm>
            <a:off x="609480" y="2781360"/>
            <a:ext cx="815364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9F18A29-55B9-4BED-BC47-C3F5D3EA19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y Does a Risk Premium Exist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investment theory centers on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we will examine this question many times in the chapters a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we can examine part of this question by looking at the dispersion, or spread, of historical retur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two statistical concepts to study this dispersion, or variability: variance and standard devi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59A5445-76BE-4DD9-8916-E28DE91845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: The Statistical Tool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24080" y="2209680"/>
                <a:ext cx="3232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3352680" y="4648320"/>
                <a:ext cx="2795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σ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BEC8649F-42DF-455A-A22F-6CFAA1236A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 Variability Review and Concep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quare root is called volatilit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Deviation is handy because it is in the same "units" as the ave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a normal distribution describe asset retu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75D0349-B4C7-4F70-84FD-2F5CCC608E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Frequency Distribution of Returns on 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on Stocks, 1926—2006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6" descr="jor82353_0107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EFE5C00D-B081-45A8-B5CD-698C6C188E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Historical Variance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Standard Devi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data from Table 1.1 for Large-Company St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981080" y="312408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167C1A41-CBC6-44F5-917B-8C19F09599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eturns, Standard Deviations, and Frequency Distributions: 1926—2006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5" name="Picture 6" descr="jor82353_0108"/>
          <p:cNvPicPr/>
          <p:nvPr/>
        </p:nvPicPr>
        <p:blipFill>
          <a:blip r:embed="rId1"/>
          <a:stretch/>
        </p:blipFill>
        <p:spPr>
          <a:xfrm>
            <a:off x="2362320" y="1295280"/>
            <a:ext cx="4771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8F4D9E2-F4DE-4954-B276-183D6DA8B8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Normal Distribution and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arge Company Stock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8" name="Picture 6" descr="jor82353_0109"/>
          <p:cNvPicPr/>
          <p:nvPr/>
        </p:nvPicPr>
        <p:blipFill>
          <a:blip r:embed="rId1"/>
          <a:stretch/>
        </p:blipFill>
        <p:spPr>
          <a:xfrm>
            <a:off x="539640" y="2057400"/>
            <a:ext cx="82994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BB2E492-02B7-4C5D-ACCB-BDA98012C9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turns on Some “Non-Normal” Day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61" name="Picture 6" descr="jor82353_cut1c"/>
          <p:cNvPicPr/>
          <p:nvPr/>
        </p:nvPicPr>
        <p:blipFill>
          <a:blip r:embed="rId1"/>
          <a:stretch/>
        </p:blipFill>
        <p:spPr>
          <a:xfrm>
            <a:off x="1685880" y="1066680"/>
            <a:ext cx="577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0584713-E381-41C7-8F5D-44A43546D9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retire with One Million Dollars (or more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? Sup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invest $300 per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investments earn 9%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take you about 36.25 years. Hmm. Too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AD5E06F3-D341-44A8-B8A9-0C03F5C9B5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225080"/>
            <a:ext cx="83055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return answers the question:  “What was your return in an average year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return answers the question:  “What was your aver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und return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a particular period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you use the arithmetic average and when should you use the geometric aver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e need to learn how to calculate a geometric ave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5DD16EC5-6375-424C-806F-ABD6724F97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a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use the large-company stock data from Table 1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eadsheet below shows us how to calculate the geometric averag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514600" y="3048120"/>
          <a:ext cx="432432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8120"/>
                    <a:ext cx="432432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465F0C2-A96A-4BE2-B6F6-8296490AB5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rithmetic Averages versu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2544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ithmetic average tells you what you earned in a typical yea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metric average tells you what you actually earned per year on average, compounded an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When we talk about average returns, we generally are talking about arithmetic average returns.</a:t>
            </a:r>
            <a:br>
              <a:rPr sz="2000"/>
            </a:b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forecasting future retu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ithmetic average is probably "too high" for long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ometric average is probably "too low" for short foreca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87BB169F-7108-45E8-8AAC-22FA902B33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Geometric versus Arithmetic Averag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75" name="Picture 6" descr="jor82353_tb0104"/>
          <p:cNvPicPr/>
          <p:nvPr/>
        </p:nvPicPr>
        <p:blipFill>
          <a:blip r:embed="rId1"/>
          <a:stretch/>
        </p:blipFill>
        <p:spPr>
          <a:xfrm>
            <a:off x="685800" y="2590920"/>
            <a:ext cx="78152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D3B68EB-EF23-44D0-BB81-CD13B0721A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-free rate represents compensation for just waiting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this is often calle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time value of 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First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we are willing to bear risk, then we can expect to earn a risk premium, at least on avera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econd Le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urther, the more risk we are willing to bear, the greater the expected risk prem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1707D2B-2120-4857-969B-A15710E8C2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istorical Risk and Return Trade-Off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81" name="Picture 6" descr="jor82353_0110"/>
          <p:cNvPicPr/>
          <p:nvPr/>
        </p:nvPicPr>
        <p:blipFill>
          <a:blip r:embed="rId1"/>
          <a:stretch/>
        </p:blipFill>
        <p:spPr>
          <a:xfrm>
            <a:off x="762120" y="1981080"/>
            <a:ext cx="771984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3A34197-2E0B-4E46-8332-569F5D79DE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Look Ahea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focuses exclusively on financial assets: stocks, bonds, options, and futur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learn how to value different assets and make informed, intelligent decisions about the associated ris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also learn about different trading mechanisms, and the way that different markets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75A9557-AA31-4E40-B80D-424F76AF68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aire lin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a terrific financial web sit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lobalfindat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historical financial market data—not free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bertniles.com/sta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ference for easy to read statistics re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F2C10C7-E3F5-4D7C-8E09-2EE59BB93B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la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Retur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nger Range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oser 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eturns: The Firs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Averag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turns: 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4F519628-157A-4E08-846C-FBD11C8D39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Variability: The Second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Distributions and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Variance and Standard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Less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Returns versus Geometric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sk-Return Trade-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3DFCDFC5-0CC9-4293-B75C-0A51F09F35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 II: Who Wants To Be A Millionaire?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sup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invest $500 per mon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vestments earn 12% per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decide to take advantage of deferring taxes on your invest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ill take you 25.5 yea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50 is about the size of a new car payment, and perhaps your employer will kick in $25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the last 81 years, the S&amp;P 500 Index return was about 12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ry this calculator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0AB3E1F-376C-42F3-AF8D-2FFBE2BC7C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Brief History of Risk and Retur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119E2F9-0746-4B80-9437-3C773980FB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ollar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00200" y="3352680"/>
                <a:ext cx="64627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Dollar Return on a Stoc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vidend Inco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apital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Lo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0E98E3C6-EE72-4259-943B-A9B273517B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ercent Retur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, you buy a share of sto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295280" y="3962520"/>
                <a:ext cx="7315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cent Return on a Stoc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 Income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apital Gain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r Los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cent Return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Dollar Return on a Stoc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Beginning Investm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6258C04F-B289-4D83-985F-58FE006C68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Calculating Total Dollar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d Total Percent Retur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095880" y="5410080"/>
            <a:ext cx="1981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200 shares of Lowe’s Companies, Inc. at $48 per share. Three months later, you sell these shares for $51 per share. You received no dividends. What is your return? What is your annualized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: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$51 - $48) / $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625 = 6.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turn on an investment expressed on an “annualized”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Question: What is the number of holding periods in a year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-</a:t>
            </a:r>
            <a:fld id="{D08D6FF6-D3CD-4464-B76C-36550F88C4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6248520" y="2895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1:39Z</dcterms:modified>
  <cp:revision>52</cp:revision>
  <dc:subject/>
  <dc:title>Slide 1</dc:title>
</cp:coreProperties>
</file>