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0634-1B79-4965-BD10-A7287ACFE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0983-99CA-4C6F-A55D-ABEAFCFB2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E75C-A6D5-4434-B156-C51C2CED8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11F2-9EBF-4921-8160-5A40F4F53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3884-A611-46E0-B1F7-EFF066F63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9702-7425-4E5D-B5EC-660F22C07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7C34-033D-4B1C-9F5C-1F348DD3C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3EB1-BE14-40CA-94D4-94A2CAF25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4585-8F0D-4E56-B39A-3B38EA611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DB71-6F7A-4D5B-8041-75F90B245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CF97-4D23-4EFC-914D-4CDF60C54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ight have subtracted 1926 from 2005.  Of course, you got 79, which excludes the 1926 return.  To include 1926, add one.  This is because the 1926 return uses year-end 1925 prices.  So, 2005 – 1925 = 8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063B-E5FD-45A7-AFBE-32F39EBF4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0ED7-6608-470D-9E04-188AA7DBA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421E-E2B6-4AE1-B892-A054AC1F5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DED6-8A18-4EEE-9DCC-A96FC4B7F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3A12-013A-43B6-A584-73CD4A3DD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E75F-FC7B-45A6-A326-4AA5ED028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4064-308B-43DE-9BA3-CCC32E312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8816-FE9B-4AD0-A584-E3894527F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3E28-BABE-4281-BEFF-8F527C7B5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Of course, one could use also the Excel functions, =Average( ), =VAR( ), and =STDEV(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EA10-52A5-47A4-BBC0-934EDDA17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FFA3-6F77-47F3-B21F-01028C7BB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9505-5D64-4C9A-9F95-7CA6E8278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15FD-952F-4F00-A6DF-B63199007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805B-A474-4BFD-B8BA-10A9370FE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1C6D-91E6-4C01-8695-F8C6C12CA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24DE-9883-4BDE-99D3-9783CD19D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CCF2-196D-4F03-803F-6C4A31DF4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7B16-B5DF-46E7-A820-5B5F00EF9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D060-EC94-459F-9E56-7135DBB58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B93F-4691-439F-8E01-D8938C894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D5B4-B457-4D30-901E-2CFEDC300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0FAA-006E-4C21-9DCD-6AEDD99D7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702F-5A4A-4C9E-B60F-B928270DB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B463-9126-43A5-8618-0D5D18816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CB01-9116-40B9-AC7E-816AF37D1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B8F4-ADA0-414E-8F38-5F33B1663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92C5-5716-4A7D-BA99-7DDDE60D3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D1BB-AF6F-4682-A66B-F109C9FFB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3E9C-52FE-41D0-90AD-70CD6FF9A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95099-2541-4A2B-B69C-8191476815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BDDA0-FBFE-4461-ADD4-50DCD352DC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C268F-335B-4DE3-9BCB-1F2A1F096D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0142A-86FE-4291-8D13-705ECDC1EE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9AA8E-E2D2-441E-8498-ED4CCDB9CE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F488F-458D-4F84-8604-516E672CB3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AFB8D-188D-437A-BC03-64E4201F92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F4E74-2D6B-4348-ABE6-9FD753A1ED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FC1F6-D507-4B8E-A865-100B815D93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2D179-1FDD-4430-9FF2-D94154A869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79F7F-C7BA-43C9-9614-13A86CB665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4B545-B14A-49A7-9FD7-1052F711DB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9"/>
          <p:cNvSpPr/>
          <p:nvPr/>
        </p:nvSpPr>
        <p:spPr>
          <a:xfrm rot="16200000">
            <a:off x="501480" y="-7632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-31680" y="-701640"/>
            <a:ext cx="865080" cy="2060640"/>
          </a:xfrm>
          <a:custGeom>
            <a:avLst/>
            <a:gdLst>
              <a:gd name="textAreaLeft" fmla="*/ 0 w 865080"/>
              <a:gd name="textAreaRight" fmla="*/ 865440 w 865080"/>
              <a:gd name="textAreaTop" fmla="*/ 0 h 2060640"/>
              <a:gd name="textAreaBottom" fmla="*/ 2061000 h 2060640"/>
            </a:gdLst>
            <a:ahLst/>
            <a:rect l="textAreaLeft" t="textAreaTop" r="textAreaRight" b="textAreaBottom"/>
            <a:pathLst>
              <a:path w="545" h="1298">
                <a:moveTo>
                  <a:pt x="12" y="1298"/>
                </a:moveTo>
                <a:cubicBezTo>
                  <a:pt x="92" y="1298"/>
                  <a:pt x="116" y="1298"/>
                  <a:pt x="196" y="1298"/>
                </a:cubicBezTo>
                <a:cubicBezTo>
                  <a:pt x="237" y="1174"/>
                  <a:pt x="188" y="1122"/>
                  <a:pt x="248" y="753"/>
                </a:cubicBezTo>
                <a:cubicBezTo>
                  <a:pt x="308" y="384"/>
                  <a:pt x="545" y="28"/>
                  <a:pt x="528" y="8"/>
                </a:cubicBezTo>
                <a:cubicBezTo>
                  <a:pt x="507" y="0"/>
                  <a:pt x="208" y="491"/>
                  <a:pt x="122" y="706"/>
                </a:cubicBezTo>
                <a:cubicBezTo>
                  <a:pt x="42" y="899"/>
                  <a:pt x="0" y="1193"/>
                  <a:pt x="12" y="1298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22"/>
          <p:cNvSpPr/>
          <p:nvPr/>
        </p:nvSpPr>
        <p:spPr>
          <a:xfrm>
            <a:off x="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Freeform 25"/>
          <p:cNvSpPr/>
          <p:nvPr/>
        </p:nvSpPr>
        <p:spPr>
          <a:xfrm>
            <a:off x="-12600" y="-690480"/>
            <a:ext cx="819000" cy="2049480"/>
          </a:xfrm>
          <a:custGeom>
            <a:avLst/>
            <a:gdLst>
              <a:gd name="textAreaLeft" fmla="*/ 0 w 819000"/>
              <a:gd name="textAreaRight" fmla="*/ 819360 w 81900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516" h="1291">
                <a:moveTo>
                  <a:pt x="0" y="1291"/>
                </a:moveTo>
                <a:cubicBezTo>
                  <a:pt x="19" y="1192"/>
                  <a:pt x="30" y="920"/>
                  <a:pt x="116" y="705"/>
                </a:cubicBezTo>
                <a:cubicBezTo>
                  <a:pt x="248" y="314"/>
                  <a:pt x="432" y="147"/>
                  <a:pt x="516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Freeform 26"/>
          <p:cNvSpPr/>
          <p:nvPr/>
        </p:nvSpPr>
        <p:spPr>
          <a:xfrm>
            <a:off x="291960" y="-674640"/>
            <a:ext cx="519120" cy="2033640"/>
          </a:xfrm>
          <a:custGeom>
            <a:avLst/>
            <a:gdLst>
              <a:gd name="textAreaLeft" fmla="*/ 0 w 519120"/>
              <a:gd name="textAreaRight" fmla="*/ 519480 w 51912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327" h="1281">
                <a:moveTo>
                  <a:pt x="0" y="1281"/>
                </a:moveTo>
                <a:cubicBezTo>
                  <a:pt x="9" y="1188"/>
                  <a:pt x="3" y="941"/>
                  <a:pt x="57" y="728"/>
                </a:cubicBezTo>
                <a:cubicBezTo>
                  <a:pt x="116" y="476"/>
                  <a:pt x="271" y="152"/>
                  <a:pt x="327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Freeform 33"/>
          <p:cNvSpPr/>
          <p:nvPr/>
        </p:nvSpPr>
        <p:spPr>
          <a:xfrm>
            <a:off x="-25560" y="6629400"/>
            <a:ext cx="8993520" cy="1440"/>
          </a:xfrm>
          <a:custGeom>
            <a:avLst/>
            <a:gdLst>
              <a:gd name="textAreaLeft" fmla="*/ 0 w 8993520"/>
              <a:gd name="textAreaRight" fmla="*/ 8993880 w 89935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Line 37"/>
          <p:cNvSpPr/>
          <p:nvPr/>
        </p:nvSpPr>
        <p:spPr>
          <a:xfrm>
            <a:off x="82224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sldNum" idx="1"/>
          </p:nvPr>
        </p:nvSpPr>
        <p:spPr>
          <a:xfrm>
            <a:off x="70862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-</a:t>
            </a:r>
            <a:fld id="{922B61AB-1645-4325-8A55-E4DACFD362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Freeform 41"/>
          <p:cNvSpPr/>
          <p:nvPr/>
        </p:nvSpPr>
        <p:spPr>
          <a:xfrm>
            <a:off x="291960" y="990720"/>
            <a:ext cx="9156960" cy="936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5768" h="6">
                <a:moveTo>
                  <a:pt x="0" y="0"/>
                </a:moveTo>
                <a:lnTo>
                  <a:pt x="5768" y="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5"/>
          <p:cNvSpPr/>
          <p:nvPr/>
        </p:nvSpPr>
        <p:spPr>
          <a:xfrm>
            <a:off x="8077320" y="1295280"/>
            <a:ext cx="228600" cy="381240"/>
          </a:xfrm>
          <a:custGeom>
            <a:avLst/>
            <a:gdLst>
              <a:gd name="textAreaLeft" fmla="*/ 0 w 228600"/>
              <a:gd name="textAreaRight" fmla="*/ 228960 w 228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4"/>
          <p:cNvSpPr/>
          <p:nvPr/>
        </p:nvSpPr>
        <p:spPr>
          <a:xfrm>
            <a:off x="6629400" y="838080"/>
            <a:ext cx="2374920" cy="86544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2666880" y="1143000"/>
            <a:ext cx="609840" cy="5335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9"/>
          <p:cNvSpPr/>
          <p:nvPr/>
        </p:nvSpPr>
        <p:spPr>
          <a:xfrm>
            <a:off x="3276720" y="1143000"/>
            <a:ext cx="60948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3886200" y="1143000"/>
            <a:ext cx="1905120" cy="533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5791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66294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>
            <a:off x="0" y="167652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>
            <a:off x="-360" y="114300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38862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32767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8077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83059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5"/>
          <p:cNvGrpSpPr/>
          <p:nvPr/>
        </p:nvGrpSpPr>
        <p:grpSpPr>
          <a:xfrm>
            <a:off x="6629400" y="828720"/>
            <a:ext cx="2362320" cy="852480"/>
            <a:chOff x="6629400" y="828720"/>
            <a:chExt cx="2362320" cy="852480"/>
          </a:xfrm>
        </p:grpSpPr>
        <p:sp>
          <p:nvSpPr>
            <p:cNvPr id="89" name="Freeform 23"/>
            <p:cNvSpPr/>
            <p:nvPr/>
          </p:nvSpPr>
          <p:spPr>
            <a:xfrm>
              <a:off x="6629400" y="82872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6629400" y="115236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d07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0" y="5335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-1143000" y="1828800"/>
            <a:ext cx="10058400" cy="4800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1"/>
          <p:cNvSpPr/>
          <p:nvPr/>
        </p:nvSpPr>
        <p:spPr>
          <a:xfrm rot="10800000">
            <a:off x="379080" y="627696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2"/>
          <p:cNvSpPr/>
          <p:nvPr/>
        </p:nvSpPr>
        <p:spPr>
          <a:xfrm rot="10800000">
            <a:off x="-319320" y="6248160"/>
            <a:ext cx="2374920" cy="86508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4"/>
          <p:cNvSpPr/>
          <p:nvPr/>
        </p:nvSpPr>
        <p:spPr>
          <a:xfrm rot="10800000">
            <a:off x="5408640" y="6810480"/>
            <a:ext cx="2820960" cy="5731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5"/>
          <p:cNvSpPr/>
          <p:nvPr/>
        </p:nvSpPr>
        <p:spPr>
          <a:xfrm rot="10800000">
            <a:off x="5408280" y="662904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6"/>
          <p:cNvSpPr/>
          <p:nvPr/>
        </p:nvSpPr>
        <p:spPr>
          <a:xfrm rot="10800000">
            <a:off x="2057040" y="6652800"/>
            <a:ext cx="609480" cy="1825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7"/>
          <p:cNvSpPr/>
          <p:nvPr/>
        </p:nvSpPr>
        <p:spPr>
          <a:xfrm rot="10800000">
            <a:off x="3124080" y="6276960"/>
            <a:ext cx="60984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8"/>
          <p:cNvSpPr/>
          <p:nvPr/>
        </p:nvSpPr>
        <p:spPr>
          <a:xfrm rot="10800000">
            <a:off x="8229600" y="6629040"/>
            <a:ext cx="990720" cy="3049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9"/>
          <p:cNvSpPr/>
          <p:nvPr/>
        </p:nvSpPr>
        <p:spPr>
          <a:xfrm flipH="1" flipV="1">
            <a:off x="2894040" y="6276600"/>
            <a:ext cx="1440" cy="352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0"/>
          <p:cNvSpPr/>
          <p:nvPr/>
        </p:nvSpPr>
        <p:spPr>
          <a:xfrm flipV="1">
            <a:off x="2057400" y="6629400"/>
            <a:ext cx="0" cy="533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1"/>
          <p:cNvSpPr/>
          <p:nvPr/>
        </p:nvSpPr>
        <p:spPr>
          <a:xfrm>
            <a:off x="-458640" y="6276960"/>
            <a:ext cx="9601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2"/>
          <p:cNvSpPr/>
          <p:nvPr/>
        </p:nvSpPr>
        <p:spPr>
          <a:xfrm flipV="1">
            <a:off x="2055240" y="6784560"/>
            <a:ext cx="6173640" cy="255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5"/>
          <p:cNvSpPr/>
          <p:nvPr/>
        </p:nvSpPr>
        <p:spPr>
          <a:xfrm flipH="1" flipV="1">
            <a:off x="3731760" y="6276960"/>
            <a:ext cx="180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6"/>
          <p:cNvSpPr/>
          <p:nvPr/>
        </p:nvSpPr>
        <p:spPr>
          <a:xfrm flipV="1">
            <a:off x="5410080" y="6629040"/>
            <a:ext cx="0" cy="3049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7"/>
          <p:cNvSpPr/>
          <p:nvPr/>
        </p:nvSpPr>
        <p:spPr>
          <a:xfrm flipH="1" flipV="1">
            <a:off x="608040" y="6276960"/>
            <a:ext cx="1440" cy="5810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8"/>
          <p:cNvSpPr/>
          <p:nvPr/>
        </p:nvSpPr>
        <p:spPr>
          <a:xfrm flipH="1" flipV="1">
            <a:off x="379440" y="6276960"/>
            <a:ext cx="144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59"/>
          <p:cNvGrpSpPr/>
          <p:nvPr/>
        </p:nvGrpSpPr>
        <p:grpSpPr>
          <a:xfrm>
            <a:off x="-306360" y="6270840"/>
            <a:ext cx="2362320" cy="852120"/>
            <a:chOff x="-306360" y="6270840"/>
            <a:chExt cx="2362320" cy="852120"/>
          </a:xfrm>
        </p:grpSpPr>
        <p:sp>
          <p:nvSpPr>
            <p:cNvPr id="112" name="Freeform 60"/>
            <p:cNvSpPr/>
            <p:nvPr/>
          </p:nvSpPr>
          <p:spPr>
            <a:xfrm rot="10800000">
              <a:off x="-306360" y="6276960"/>
              <a:ext cx="2362320" cy="8460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6000"/>
                <a:gd name="textAreaBottom" fmla="*/ 846360 h 8460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1"/>
            <p:cNvSpPr/>
            <p:nvPr/>
          </p:nvSpPr>
          <p:spPr>
            <a:xfrm rot="10800000">
              <a:off x="-290520" y="6270840"/>
              <a:ext cx="2346480" cy="52740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7400"/>
                <a:gd name="textAreaBottom" fmla="*/ 527760 h 52740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64"/>
          <p:cNvSpPr/>
          <p:nvPr/>
        </p:nvSpPr>
        <p:spPr>
          <a:xfrm>
            <a:off x="4191120" y="6629400"/>
            <a:ext cx="49528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5"/>
          <p:cNvSpPr/>
          <p:nvPr/>
        </p:nvSpPr>
        <p:spPr>
          <a:xfrm flipV="1">
            <a:off x="6019920" y="6629400"/>
            <a:ext cx="0" cy="4572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6"/>
          <p:cNvSpPr/>
          <p:nvPr/>
        </p:nvSpPr>
        <p:spPr>
          <a:xfrm flipV="1">
            <a:off x="3124080" y="6248160"/>
            <a:ext cx="0" cy="6094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7"/>
          <p:cNvSpPr/>
          <p:nvPr/>
        </p:nvSpPr>
        <p:spPr>
          <a:xfrm flipV="1">
            <a:off x="8229600" y="6629040"/>
            <a:ext cx="0" cy="2286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4"/>
          <p:cNvSpPr/>
          <p:nvPr/>
        </p:nvSpPr>
        <p:spPr>
          <a:xfrm>
            <a:off x="608760" y="6629400"/>
            <a:ext cx="358164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9"/>
          <p:cNvSpPr/>
          <p:nvPr/>
        </p:nvSpPr>
        <p:spPr>
          <a:xfrm>
            <a:off x="609480" y="632448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0"/>
          <p:cNvSpPr/>
          <p:nvPr/>
        </p:nvSpPr>
        <p:spPr>
          <a:xfrm>
            <a:off x="365760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cgi.money.cnn.com/tools/millionaire/millionaire.html" TargetMode="External"/><Relationship Id="rId2" Type="http://schemas.openxmlformats.org/officeDocument/2006/relationships/hyperlink" Target="http://finance.yahoo.com/" TargetMode="External"/><Relationship Id="rId3" Type="http://schemas.openxmlformats.org/officeDocument/2006/relationships/hyperlink" Target="http://www.globalfindata.com/" TargetMode="External"/><Relationship Id="rId4" Type="http://schemas.openxmlformats.org/officeDocument/2006/relationships/hyperlink" Target="http://www.robertniles.com/stats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gi.money.cnn.com/tools/millionaire/millionaire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12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276720" y="1828440"/>
            <a:ext cx="5410080" cy="441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 Brief History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isk and Ret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, II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+ EAR = (1 + holding period percentage return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= the number of holding periods in a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example, m = 4 (there are 4 3-month holding periods in a year). Therefo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+ EAR = (1 + .062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274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EAR = .2744 or 27.44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80BBD295-ECF1-4E6C-B82B-6160F86E2A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3A9D3BA3-10D4-4D2A-BB24-5C9279B458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$1 Investment in Different Type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f Portfolios, 1926—2006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2" name="Picture 6" descr="jor82353_0101"/>
          <p:cNvPicPr/>
          <p:nvPr/>
        </p:nvPicPr>
        <p:blipFill>
          <a:blip r:embed="rId1"/>
          <a:stretch/>
        </p:blipFill>
        <p:spPr>
          <a:xfrm>
            <a:off x="915840" y="1066680"/>
            <a:ext cx="7085160" cy="54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2632BBEB-57B4-4D38-94D9-8082F77D5E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Financial Market History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5" name="Picture 6" descr="jor82353_0102"/>
          <p:cNvPicPr/>
          <p:nvPr/>
        </p:nvPicPr>
        <p:blipFill>
          <a:blip r:embed="rId1"/>
          <a:stretch/>
        </p:blipFill>
        <p:spPr>
          <a:xfrm>
            <a:off x="990720" y="1219320"/>
            <a:ext cx="7029360" cy="53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E391E362-58B1-4912-8AA9-85447E34DF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otal Returns on Large-Company Stock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8" name="Picture 6" descr="jor82353_0103"/>
          <p:cNvPicPr/>
          <p:nvPr/>
        </p:nvPicPr>
        <p:blipFill>
          <a:blip r:embed="rId1"/>
          <a:stretch/>
        </p:blipFill>
        <p:spPr>
          <a:xfrm>
            <a:off x="533520" y="1673280"/>
            <a:ext cx="8305560" cy="44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E7338F9B-3428-4189-BA74-F4E4C75E83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otal Returns on Small-Company Stock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1" name="Picture 6" descr="jor82353_0104"/>
          <p:cNvPicPr/>
          <p:nvPr/>
        </p:nvPicPr>
        <p:blipFill>
          <a:blip r:embed="rId1"/>
          <a:stretch/>
        </p:blipFill>
        <p:spPr>
          <a:xfrm>
            <a:off x="571680" y="1706400"/>
            <a:ext cx="8191440" cy="43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B922CCB3-189E-4AEE-9496-6814DAC255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Total Returns on U.S. Bond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4" name="Picture 6" descr="jor82353_0105a"/>
          <p:cNvPicPr/>
          <p:nvPr/>
        </p:nvPicPr>
        <p:blipFill>
          <a:blip r:embed="rId1"/>
          <a:stretch/>
        </p:blipFill>
        <p:spPr>
          <a:xfrm>
            <a:off x="685800" y="1676520"/>
            <a:ext cx="8001000" cy="42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7DCEDCB0-12A7-4121-887C-62F90C2795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otal Returns on T-bill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7" name="Picture 6" descr="jor82353_0105b"/>
          <p:cNvPicPr/>
          <p:nvPr/>
        </p:nvPicPr>
        <p:blipFill>
          <a:blip r:embed="rId1"/>
          <a:stretch/>
        </p:blipFill>
        <p:spPr>
          <a:xfrm>
            <a:off x="685800" y="1655640"/>
            <a:ext cx="8077320" cy="42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DEB79F19-6766-4075-ACEF-665A2274B4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flation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20" name="Picture 6" descr="jor82353_0106"/>
          <p:cNvPicPr/>
          <p:nvPr/>
        </p:nvPicPr>
        <p:blipFill>
          <a:blip r:embed="rId1"/>
          <a:stretch/>
        </p:blipFill>
        <p:spPr>
          <a:xfrm>
            <a:off x="533520" y="1616040"/>
            <a:ext cx="824364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A155DE06-2A0A-48D8-B445-BB65BC1D8E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istorical Average Retur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997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seful number to help us summarize historical financial data is the simple, or arithmetic avera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data in Table 1.1, if you add up the returns for large-company stocks from 1926 through 2006, you get about 996 per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there are 81 returns, the average return is about 12.3%.  How do you use this numb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making a guess about the size of the return for a year selected at random, your best guess is 12.3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mula for the historical average return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1905120" y="4800600"/>
                <a:ext cx="511164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istorical Average Return 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early return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9AEC4BB9-748F-4F13-A9EB-AE27FA6822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verage Annual Returns for Five Portfolio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27" name="Picture 3" descr="cor29192_cut1b"/>
          <p:cNvPicPr/>
          <p:nvPr/>
        </p:nvPicPr>
        <p:blipFill>
          <a:blip r:embed="rId1"/>
          <a:stretch/>
        </p:blipFill>
        <p:spPr>
          <a:xfrm>
            <a:off x="990720" y="1143000"/>
            <a:ext cx="738648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earning Objectiv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o become a wise investor (maybe even one with too much money), you need to kn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calculate the return on an investment using different method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istorical returns on various important types of investment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istorical risks of various important types of investment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lationship between risk and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D8249927-C194-4A04-A9E3-59F64DA5B2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45D3478F-F9D8-4B08-B8E6-1D9674AA85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verage Returns: The First Lesso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Risk-free r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ate of return on a riskless, i.e., certain invest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Risk prem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tra return on a risky asset over the risk-free rate; i.e., the reward for bearing risk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he First Les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 reward, on average, for bearing r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looking at Table 1.3, we can see the risk premium earned by large-company stocks was 8.5%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1BC69C11-B14C-4260-AE18-3E53EB8213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verage Annual Risk </a:t>
            </a: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Premiums for Five Portfolio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33" name="Picture 6" descr="jor82353_tb0103"/>
          <p:cNvPicPr/>
          <p:nvPr/>
        </p:nvPicPr>
        <p:blipFill>
          <a:blip r:embed="rId1"/>
          <a:stretch/>
        </p:blipFill>
        <p:spPr>
          <a:xfrm>
            <a:off x="609480" y="2781360"/>
            <a:ext cx="815364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EDD73C16-3766-4797-AEED-5DB365DC3C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hy Does a Risk Premium Exist?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rn investment theory centers on this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we will examine this question many times in the chapters ah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we can examine part of this question by looking at the dispersion, or spread, of historical return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use two statistical concepts to study this dispersion, or variability: variance and standard deviatio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The Second Les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reater the potential reward, the greater the r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D5AC6DEF-7A1F-4458-8E1F-E71E618EFA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turn Variability: The Statistical Tool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rmula for return variance is ("n" is the number of return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, it is useful to use the standard deviation, which is related to variance like th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3124080" y="2209680"/>
                <a:ext cx="323244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3352680" y="4648320"/>
                <a:ext cx="27957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σ 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D463E8BA-6D25-4876-BC07-0438434810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turn Variability Review and Concept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Varianc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common measure of return dispersion.  Sometimes, return dispersion is also call vari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Standard deviatio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square root of the vari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times the square root is called volatility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 Deviation is handy because it is in the same "units" as the aver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Normal distrib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mmetric, bell-shaped frequency distribution that can be described with only an average and a standard dev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a normal distribution describe asset retur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61E3E66E-D213-4E3C-BF1B-4B28A5C2E0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Frequency Distribution of Returns on </a:t>
            </a: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mmon Stocks, 1926—2006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47" name="Picture 6" descr="jor82353_0107"/>
          <p:cNvPicPr/>
          <p:nvPr/>
        </p:nvPicPr>
        <p:blipFill>
          <a:blip r:embed="rId1"/>
          <a:stretch/>
        </p:blipFill>
        <p:spPr>
          <a:xfrm>
            <a:off x="1371600" y="1066680"/>
            <a:ext cx="6781680" cy="544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A071528D-5833-458F-A438-0035D0F298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Calculating Historical Variance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d Standard Deviatio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use data from Table 1.1 for Large-Company Stoc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readsheet below shows us how to calculate the average, the variance, and the standard deviation (the long way…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1981080" y="3124080"/>
          <a:ext cx="5613480" cy="299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124080"/>
                    <a:ext cx="561348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BF533F16-3A5F-4185-B978-3A24B1385C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istorical Returns, Standard Deviations, and Frequency Distributions: 1926—2006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55" name="Picture 6" descr="jor82353_0108"/>
          <p:cNvPicPr/>
          <p:nvPr/>
        </p:nvPicPr>
        <p:blipFill>
          <a:blip r:embed="rId1"/>
          <a:stretch/>
        </p:blipFill>
        <p:spPr>
          <a:xfrm>
            <a:off x="2362320" y="1295280"/>
            <a:ext cx="4771800" cy="51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DBC8BF40-941D-4CED-8C14-6135B0CD9A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Normal Distribution and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arge Company Stock Retur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58" name="Picture 6" descr="jor82353_0109"/>
          <p:cNvPicPr/>
          <p:nvPr/>
        </p:nvPicPr>
        <p:blipFill>
          <a:blip r:embed="rId1"/>
          <a:stretch/>
        </p:blipFill>
        <p:spPr>
          <a:xfrm>
            <a:off x="539640" y="2057400"/>
            <a:ext cx="8299440" cy="34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0AACCB6F-AA92-4A7A-BE1E-8A856517D9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turns on Some “Non-Normal” Day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61" name="Picture 6" descr="jor82353_cut1c"/>
          <p:cNvPicPr/>
          <p:nvPr/>
        </p:nvPicPr>
        <p:blipFill>
          <a:blip r:embed="rId1"/>
          <a:stretch/>
        </p:blipFill>
        <p:spPr>
          <a:xfrm>
            <a:off x="1685880" y="1066680"/>
            <a:ext cx="577224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FA701020-49E4-4C1E-8CFF-67B9ED961F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 I: Who Wants To Be A Millionaire?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retire with One Million Dollars (or more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? Suppo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invest $300 per mon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investments earn 9% per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ecide to take advantage of deferring taxes on your investments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take you about 36.25 years. Hmm. Too lo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4046EBDF-1454-4EB1-8A97-3AF6DE9F27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rithmetic Averages versu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Averag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160" y="1225080"/>
            <a:ext cx="830556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ithmetic average return answers the question:  “What was your return in an average year over a particular period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ometric average return answers the question:  “What was your averag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und return per y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ver a particular period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should you use the arithmetic average and when should you use the geometric aver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, we need to learn how to calculate a geometric aver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FFC2E933-CE6D-4630-B19B-A48659CDE9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Calculating a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Average Retur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use the large-company stock data from Table 1.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readsheet below shows us how to calculate the geometric average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Object 4"/>
          <p:cNvGraphicFramePr/>
          <p:nvPr/>
        </p:nvGraphicFramePr>
        <p:xfrm>
          <a:off x="2514600" y="3048120"/>
          <a:ext cx="4324320" cy="284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048120"/>
                    <a:ext cx="4324320" cy="28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B530BA7E-7392-4790-BD08-BCCE60D017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rithmetic Averages versu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Averag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160" y="122544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ithmetic average tells you what you earned in a typical yea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ometric average tells you what you actually earned per year on average, compounded annu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When we talk about average returns, we generally are talking about arithmetic average returns.</a:t>
            </a:r>
            <a:br>
              <a:rPr sz="2000"/>
            </a:b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purpose of forecasting future retur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rithmetic average is probably "too high" for long foreca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eometric average is probably "too low" for short foreca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DFB3C910-7F20-4A48-B705-41B2E93AB2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versus Arithmetic Averag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75" name="Picture 6" descr="jor82353_tb0104"/>
          <p:cNvPicPr/>
          <p:nvPr/>
        </p:nvPicPr>
        <p:blipFill>
          <a:blip r:embed="rId1"/>
          <a:stretch/>
        </p:blipFill>
        <p:spPr>
          <a:xfrm>
            <a:off x="685800" y="2590920"/>
            <a:ext cx="78152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C86E49E2-54F7-449B-83D8-5D67E3ACA1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isk and Retur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sk-free rate represents compensation for just waiting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this is often called the 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time value of mon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First Les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f we are willing to bear risk, then we can expect to earn a risk premium, at least on averag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Second Les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Further, the more risk we are willing to bear, the greater the expected risk prem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C0CE7189-7A60-4C55-87E0-3E2027CABE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istorical Risk and Return Trade-Off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81" name="Picture 6" descr="jor82353_0110"/>
          <p:cNvPicPr/>
          <p:nvPr/>
        </p:nvPicPr>
        <p:blipFill>
          <a:blip r:embed="rId1"/>
          <a:stretch/>
        </p:blipFill>
        <p:spPr>
          <a:xfrm>
            <a:off x="762120" y="1981080"/>
            <a:ext cx="7719840" cy="346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F955A630-E408-4571-AD5F-20B6C5BA2E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 Look Ahead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xt focuses exclusively on financial assets: stocks, bonds, options, and futur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learn how to value different assets and make informed, intelligent decisions about the associated risk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also learn about different trading mechanisms, and the way that different markets fu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F3C65965-77AF-460D-B6C0-A1A18BD3CB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Useful Internet Sit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gi.money.cnn.com/tools/millionaire/millionaire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illionaire link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inance.yaho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ference for a terrific financial web site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globalfindata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ference for historical financial market data—not free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robertniles.com/sta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ference for easy to read statistics revi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5D68F13B-710C-43A6-B6A9-983E5C17CA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llar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age Retur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istorical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rst 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onger Range 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loser 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Returns: The First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ng Average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Returns: The Historical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Premi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CA63F6AC-F313-4B94-A46C-2D4B8AB47F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Variability: The Second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Distributions and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istorical Variance and Standard Dev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istorical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cond Less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 Returns versus Geometric Retur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sk-Return Trade-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F21A64F0-4F70-4794-9AAF-714ED32E1F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 II: Who Wants To Be A Millionaire?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, suppo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invest $500 per mon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investments earn 12% per ye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decide to take advantage of deferring taxes on your invest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ill take you 25.5 year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isti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250 is about the size of a new car payment, and perhaps your employer will kick in $250 per 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 the last 81 years, the S&amp;P 500 Index return was about 12%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ry this calculator: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gi.money.cnn.com/tools/millionaire/millionaire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BCA577A9-04CE-434E-9F23-650A99CC26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Brief History of Risk and Retur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goal in this chapter is to see what financial market history can tell us about risk and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wo key observ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, there is a substantial reward, on average, for bearing ris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, greater risks accompany greater retur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BC86AB86-E513-4E90-BF18-B03DC4D7C4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ollar Return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otal dollar retur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return on an investment measured in dollars, accounting for all interim cash flows and capital gains or lo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1600200" y="3352680"/>
                <a:ext cx="646272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tal Dollar Return on a Stock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Dividend Incom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Capital Gain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Los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E67AEEA2-F38A-46A5-8ECA-002E82F15C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Percent Return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Total percent retur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return on an investment measured as a percentage of the original investmen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tal percent return is the return for </a:t>
            </a:r>
            <a:r>
              <a:rPr b="1" i="1" lang="en-US" sz="1800" spc="-1" strike="noStrike">
                <a:solidFill>
                  <a:srgbClr val="009999"/>
                </a:solidFill>
                <a:latin typeface="Arial"/>
              </a:rPr>
              <a:t>each doll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veste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, you buy a share of sto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1295280" y="3962520"/>
                <a:ext cx="7315200" cy="24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ercent Return on a Stock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vidend Income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Capital Gain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r Los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eginning Stock Price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Percent Return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otal Dollar Return on a Stoc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eginning Stock Price 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Beginning Investmen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ED8B6B6F-48BF-4EE7-A060-C185A404FC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Calculating Total Dollar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d Total Percent Retur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you invested $1,400 in a stock with a share price of $3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one year, the stock price per share is $4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, for each share, you received a $1.40 dividen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as your total dollar retu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1,400 / $35 = 40 sh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 gain: 40 shares times $14 = $5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dends: 40 shares times $1.40 = $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Dollar Return is $560 + $56 = $61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as your total percent retu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dend yield = $1.40 / $35 = 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 gain yield = ($49 </a:t>
            </a:r>
            <a:r>
              <a:rPr b="0" lang="en-US" sz="2000" spc="-1" strike="noStrike" baseline="8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$35) / $35 = 4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percentage return = 4% + 40% = 4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6781680" y="41911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095880" y="5410080"/>
            <a:ext cx="198144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Note that $616 divided by $1400 is 44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3352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uy 200 shares of Lowe’s Companies, Inc. at $48 per share. Three months later, you sell these shares for $51 per share. You received no dividends. What is your return? What is your annualized retur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: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+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/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$51 - $48) / $4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.0625 = 6.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Effective Annual Return (EAR)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turn on an investment expressed on an “annualized” ba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Question: What is the number of holding periods in a year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B839EEAD-1CE4-4F8C-9059-30300562A0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6248520" y="28954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This return is </a:t>
            </a:r>
            <a:br>
              <a:rPr sz="1800"/>
            </a:b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known as the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holding period percentage retu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user</cp:lastModifiedBy>
  <dcterms:modified xsi:type="dcterms:W3CDTF">2012-03-25T18:31:39Z</dcterms:modified>
  <cp:revision>52</cp:revision>
  <dc:subject/>
  <dc:title>Slide 1</dc:title>
</cp:coreProperties>
</file>