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5485-00DC-430D-858B-DBCA885CE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BCA5-CA9A-43B4-9F74-7603DEDAD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4233-E4FC-4F8A-8C0C-3D8219AF5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F7E2-B963-45E1-95FF-E415503E9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792C-D9BE-4F37-9FD2-A284C41B1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1F89-B4A0-4A09-BF81-E3D29F370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3516-0393-4FD2-9338-7996C2024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EA32-3121-44AD-B892-BF9471807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A939-5FF0-4A9D-A49C-4C0879109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DF4A-07D2-460F-85F4-B1DEBE4C2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CD38-47D9-47E8-87B8-5D78C7DD7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ight have subtracted 1926 from 2005.  Of course, you got 79, which excludes the 1926 return.  To include 1926, add one.  This is because the 1926 return uses year-end 1925 prices.  So, 2005 – 1925 = 8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FCDA-5D2F-459B-840A-46E17403B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AA40-C39D-4AA7-8EA3-B430E916F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8AED-6FED-4624-8CBF-9DBEB0AA1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FC55-9B2D-4B4C-B492-8F9CD7B32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FF28-55DA-4C22-8587-B9026458C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5FB9-64DC-4E66-93CB-3B9AEBE7F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9A9C-6721-4FAE-8E49-4BBE22780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462E-6947-41A2-ADD2-7C25E861E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2964-8902-4960-A0C8-E05E6B6D3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Of course, one could use also the Excel functions, =Average( ), =VAR( ), and =STDEV(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DB5B-E6F1-457C-84E2-0F74CF17E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B770-861D-4C37-87D1-D624AFCA0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20EA-216C-44F0-8CD5-D4442A982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5418-3EF4-4138-80EC-59B7F0BEC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5AC2-EDDE-4880-96A5-9A96D7F07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BA69-F06D-4906-B1CD-52B4AD4A4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692C-9641-4387-AA4E-924D07CBC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CADA-7D8B-4535-9734-7104A89BB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7256-A6EC-48C5-B86E-AD3B11479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3455-8A96-4D3E-AD7B-DEF89E396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2570-8781-4AF9-8B92-25921B755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FBDE-14D3-4630-A566-46BFEA98C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B559-10C0-432A-A512-CAB7ADEB0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9970-3308-4406-B158-878621685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C0A4-F391-4A32-A61C-65AB4504A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D52B-2852-414C-B7BA-5F7D7F81A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E463-9C97-46BF-BB9C-51452E0FB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AD20-C2FC-4443-A04E-511449AF2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1CFB-7D0D-4D2E-9741-9239EEF2D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9905-1AC1-4148-9B97-CBE3FB977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EB4FE-96AB-447B-9BCA-E185403BAE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A2999-C40A-4452-8B35-99A255658A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F665A-18DE-470C-8B00-73D5347C65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DF69B-F70D-4EAD-B171-B3B5758462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BAD09-250E-4825-9FC4-FDFF86999E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C4760-EECD-4714-AD6B-E25DDE9BC5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97EAB-CBA9-48EE-B934-5FE45C2BE9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6CC90-3833-4D1E-951D-45FB2B5EA1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35ECC-BD6E-4E14-BC87-6A8A9BE2E7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AC4F3-0EE9-4A78-A48C-51A07F4A8E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BCD6C-F3D1-44EE-8B93-7F2B4A3F3F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07A1B-5F3D-4B61-8C06-1952EBE4E9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9"/>
          <p:cNvSpPr/>
          <p:nvPr/>
        </p:nvSpPr>
        <p:spPr>
          <a:xfrm rot="16200000">
            <a:off x="501480" y="-7632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10"/>
          <p:cNvSpPr/>
          <p:nvPr/>
        </p:nvSpPr>
        <p:spPr>
          <a:xfrm>
            <a:off x="-31680" y="-701640"/>
            <a:ext cx="865080" cy="2060640"/>
          </a:xfrm>
          <a:custGeom>
            <a:avLst/>
            <a:gdLst>
              <a:gd name="textAreaLeft" fmla="*/ 0 w 865080"/>
              <a:gd name="textAreaRight" fmla="*/ 865440 w 865080"/>
              <a:gd name="textAreaTop" fmla="*/ 0 h 2060640"/>
              <a:gd name="textAreaBottom" fmla="*/ 2061000 h 2060640"/>
            </a:gdLst>
            <a:ahLst/>
            <a:rect l="textAreaLeft" t="textAreaTop" r="textAreaRight" b="textAreaBottom"/>
            <a:pathLst>
              <a:path w="545" h="1298">
                <a:moveTo>
                  <a:pt x="12" y="1298"/>
                </a:moveTo>
                <a:cubicBezTo>
                  <a:pt x="92" y="1298"/>
                  <a:pt x="116" y="1298"/>
                  <a:pt x="196" y="1298"/>
                </a:cubicBezTo>
                <a:cubicBezTo>
                  <a:pt x="237" y="1174"/>
                  <a:pt x="188" y="1122"/>
                  <a:pt x="248" y="753"/>
                </a:cubicBezTo>
                <a:cubicBezTo>
                  <a:pt x="308" y="384"/>
                  <a:pt x="545" y="28"/>
                  <a:pt x="528" y="8"/>
                </a:cubicBezTo>
                <a:cubicBezTo>
                  <a:pt x="507" y="0"/>
                  <a:pt x="208" y="491"/>
                  <a:pt x="122" y="706"/>
                </a:cubicBezTo>
                <a:cubicBezTo>
                  <a:pt x="42" y="899"/>
                  <a:pt x="0" y="1193"/>
                  <a:pt x="12" y="1298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Line 22"/>
          <p:cNvSpPr/>
          <p:nvPr/>
        </p:nvSpPr>
        <p:spPr>
          <a:xfrm>
            <a:off x="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Freeform 25"/>
          <p:cNvSpPr/>
          <p:nvPr/>
        </p:nvSpPr>
        <p:spPr>
          <a:xfrm>
            <a:off x="-12600" y="-690480"/>
            <a:ext cx="819000" cy="2049480"/>
          </a:xfrm>
          <a:custGeom>
            <a:avLst/>
            <a:gdLst>
              <a:gd name="textAreaLeft" fmla="*/ 0 w 819000"/>
              <a:gd name="textAreaRight" fmla="*/ 819360 w 81900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516" h="1291">
                <a:moveTo>
                  <a:pt x="0" y="1291"/>
                </a:moveTo>
                <a:cubicBezTo>
                  <a:pt x="19" y="1192"/>
                  <a:pt x="30" y="920"/>
                  <a:pt x="116" y="705"/>
                </a:cubicBezTo>
                <a:cubicBezTo>
                  <a:pt x="248" y="314"/>
                  <a:pt x="432" y="147"/>
                  <a:pt x="516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Freeform 26"/>
          <p:cNvSpPr/>
          <p:nvPr/>
        </p:nvSpPr>
        <p:spPr>
          <a:xfrm>
            <a:off x="291960" y="-674640"/>
            <a:ext cx="519120" cy="2033640"/>
          </a:xfrm>
          <a:custGeom>
            <a:avLst/>
            <a:gdLst>
              <a:gd name="textAreaLeft" fmla="*/ 0 w 519120"/>
              <a:gd name="textAreaRight" fmla="*/ 519480 w 51912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327" h="1281">
                <a:moveTo>
                  <a:pt x="0" y="1281"/>
                </a:moveTo>
                <a:cubicBezTo>
                  <a:pt x="9" y="1188"/>
                  <a:pt x="3" y="941"/>
                  <a:pt x="57" y="728"/>
                </a:cubicBezTo>
                <a:cubicBezTo>
                  <a:pt x="116" y="476"/>
                  <a:pt x="271" y="152"/>
                  <a:pt x="327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Freeform 33"/>
          <p:cNvSpPr/>
          <p:nvPr/>
        </p:nvSpPr>
        <p:spPr>
          <a:xfrm>
            <a:off x="-25560" y="6629400"/>
            <a:ext cx="8993520" cy="1440"/>
          </a:xfrm>
          <a:custGeom>
            <a:avLst/>
            <a:gdLst>
              <a:gd name="textAreaLeft" fmla="*/ 0 w 8993520"/>
              <a:gd name="textAreaRight" fmla="*/ 8993880 w 89935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Line 37"/>
          <p:cNvSpPr/>
          <p:nvPr/>
        </p:nvSpPr>
        <p:spPr>
          <a:xfrm>
            <a:off x="82224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sldNum" idx="1"/>
          </p:nvPr>
        </p:nvSpPr>
        <p:spPr>
          <a:xfrm>
            <a:off x="70862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-</a:t>
            </a:r>
            <a:fld id="{19C407E5-7594-4219-A695-34E766A0F9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Freeform 41"/>
          <p:cNvSpPr/>
          <p:nvPr/>
        </p:nvSpPr>
        <p:spPr>
          <a:xfrm>
            <a:off x="291960" y="990720"/>
            <a:ext cx="9156960" cy="936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5768" h="6">
                <a:moveTo>
                  <a:pt x="0" y="0"/>
                </a:moveTo>
                <a:lnTo>
                  <a:pt x="5768" y="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5"/>
          <p:cNvSpPr/>
          <p:nvPr/>
        </p:nvSpPr>
        <p:spPr>
          <a:xfrm>
            <a:off x="8077320" y="1295280"/>
            <a:ext cx="228600" cy="381240"/>
          </a:xfrm>
          <a:custGeom>
            <a:avLst/>
            <a:gdLst>
              <a:gd name="textAreaLeft" fmla="*/ 0 w 228600"/>
              <a:gd name="textAreaRight" fmla="*/ 228960 w 228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4"/>
          <p:cNvSpPr/>
          <p:nvPr/>
        </p:nvSpPr>
        <p:spPr>
          <a:xfrm>
            <a:off x="6629400" y="838080"/>
            <a:ext cx="2374920" cy="86544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2666880" y="1143000"/>
            <a:ext cx="609840" cy="5335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9"/>
          <p:cNvSpPr/>
          <p:nvPr/>
        </p:nvSpPr>
        <p:spPr>
          <a:xfrm>
            <a:off x="3276720" y="1143000"/>
            <a:ext cx="60948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3886200" y="1143000"/>
            <a:ext cx="1905120" cy="533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5791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66294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>
            <a:off x="0" y="167652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>
            <a:off x="-360" y="114300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38862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32767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8077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83059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5"/>
          <p:cNvGrpSpPr/>
          <p:nvPr/>
        </p:nvGrpSpPr>
        <p:grpSpPr>
          <a:xfrm>
            <a:off x="6629400" y="828720"/>
            <a:ext cx="2362320" cy="852480"/>
            <a:chOff x="6629400" y="828720"/>
            <a:chExt cx="2362320" cy="852480"/>
          </a:xfrm>
        </p:grpSpPr>
        <p:sp>
          <p:nvSpPr>
            <p:cNvPr id="89" name="Freeform 23"/>
            <p:cNvSpPr/>
            <p:nvPr/>
          </p:nvSpPr>
          <p:spPr>
            <a:xfrm>
              <a:off x="6629400" y="82872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6629400" y="115236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ad07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0" y="5335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h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-1143000" y="1828800"/>
            <a:ext cx="10058400" cy="4800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1"/>
          <p:cNvSpPr/>
          <p:nvPr/>
        </p:nvSpPr>
        <p:spPr>
          <a:xfrm rot="10800000">
            <a:off x="379080" y="627696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2"/>
          <p:cNvSpPr/>
          <p:nvPr/>
        </p:nvSpPr>
        <p:spPr>
          <a:xfrm rot="10800000">
            <a:off x="-319320" y="6248160"/>
            <a:ext cx="2374920" cy="86508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4"/>
          <p:cNvSpPr/>
          <p:nvPr/>
        </p:nvSpPr>
        <p:spPr>
          <a:xfrm rot="10800000">
            <a:off x="5408640" y="6810480"/>
            <a:ext cx="2820960" cy="5731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5"/>
          <p:cNvSpPr/>
          <p:nvPr/>
        </p:nvSpPr>
        <p:spPr>
          <a:xfrm rot="10800000">
            <a:off x="5408280" y="662904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6"/>
          <p:cNvSpPr/>
          <p:nvPr/>
        </p:nvSpPr>
        <p:spPr>
          <a:xfrm rot="10800000">
            <a:off x="2057040" y="6652800"/>
            <a:ext cx="609480" cy="1825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7"/>
          <p:cNvSpPr/>
          <p:nvPr/>
        </p:nvSpPr>
        <p:spPr>
          <a:xfrm rot="10800000">
            <a:off x="3124080" y="6276960"/>
            <a:ext cx="60984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8"/>
          <p:cNvSpPr/>
          <p:nvPr/>
        </p:nvSpPr>
        <p:spPr>
          <a:xfrm rot="10800000">
            <a:off x="8229600" y="6629040"/>
            <a:ext cx="990720" cy="3049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9"/>
          <p:cNvSpPr/>
          <p:nvPr/>
        </p:nvSpPr>
        <p:spPr>
          <a:xfrm flipH="1" flipV="1">
            <a:off x="2894040" y="6276600"/>
            <a:ext cx="1440" cy="352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0"/>
          <p:cNvSpPr/>
          <p:nvPr/>
        </p:nvSpPr>
        <p:spPr>
          <a:xfrm flipV="1">
            <a:off x="2057400" y="6629400"/>
            <a:ext cx="0" cy="533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1"/>
          <p:cNvSpPr/>
          <p:nvPr/>
        </p:nvSpPr>
        <p:spPr>
          <a:xfrm>
            <a:off x="-458640" y="6276960"/>
            <a:ext cx="9601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2"/>
          <p:cNvSpPr/>
          <p:nvPr/>
        </p:nvSpPr>
        <p:spPr>
          <a:xfrm flipV="1">
            <a:off x="2055240" y="6784560"/>
            <a:ext cx="6173640" cy="255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5"/>
          <p:cNvSpPr/>
          <p:nvPr/>
        </p:nvSpPr>
        <p:spPr>
          <a:xfrm flipH="1" flipV="1">
            <a:off x="3731760" y="6276960"/>
            <a:ext cx="180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6"/>
          <p:cNvSpPr/>
          <p:nvPr/>
        </p:nvSpPr>
        <p:spPr>
          <a:xfrm flipV="1">
            <a:off x="5410080" y="6629040"/>
            <a:ext cx="0" cy="3049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7"/>
          <p:cNvSpPr/>
          <p:nvPr/>
        </p:nvSpPr>
        <p:spPr>
          <a:xfrm flipH="1" flipV="1">
            <a:off x="608040" y="6276960"/>
            <a:ext cx="1440" cy="5810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8"/>
          <p:cNvSpPr/>
          <p:nvPr/>
        </p:nvSpPr>
        <p:spPr>
          <a:xfrm flipH="1" flipV="1">
            <a:off x="379440" y="6276960"/>
            <a:ext cx="144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59"/>
          <p:cNvGrpSpPr/>
          <p:nvPr/>
        </p:nvGrpSpPr>
        <p:grpSpPr>
          <a:xfrm>
            <a:off x="-306360" y="6270840"/>
            <a:ext cx="2362320" cy="852120"/>
            <a:chOff x="-306360" y="6270840"/>
            <a:chExt cx="2362320" cy="852120"/>
          </a:xfrm>
        </p:grpSpPr>
        <p:sp>
          <p:nvSpPr>
            <p:cNvPr id="112" name="Freeform 60"/>
            <p:cNvSpPr/>
            <p:nvPr/>
          </p:nvSpPr>
          <p:spPr>
            <a:xfrm rot="10800000">
              <a:off x="-306360" y="6276960"/>
              <a:ext cx="2362320" cy="8460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6000"/>
                <a:gd name="textAreaBottom" fmla="*/ 846360 h 8460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1"/>
            <p:cNvSpPr/>
            <p:nvPr/>
          </p:nvSpPr>
          <p:spPr>
            <a:xfrm rot="10800000">
              <a:off x="-290520" y="6270840"/>
              <a:ext cx="2346480" cy="52740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7400"/>
                <a:gd name="textAreaBottom" fmla="*/ 527760 h 52740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64"/>
          <p:cNvSpPr/>
          <p:nvPr/>
        </p:nvSpPr>
        <p:spPr>
          <a:xfrm>
            <a:off x="4191120" y="6629400"/>
            <a:ext cx="49528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5"/>
          <p:cNvSpPr/>
          <p:nvPr/>
        </p:nvSpPr>
        <p:spPr>
          <a:xfrm flipV="1">
            <a:off x="6019920" y="6629400"/>
            <a:ext cx="0" cy="4572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6"/>
          <p:cNvSpPr/>
          <p:nvPr/>
        </p:nvSpPr>
        <p:spPr>
          <a:xfrm flipV="1">
            <a:off x="3124080" y="6248160"/>
            <a:ext cx="0" cy="6094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7"/>
          <p:cNvSpPr/>
          <p:nvPr/>
        </p:nvSpPr>
        <p:spPr>
          <a:xfrm flipV="1">
            <a:off x="8229600" y="6629040"/>
            <a:ext cx="0" cy="2286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4"/>
          <p:cNvSpPr/>
          <p:nvPr/>
        </p:nvSpPr>
        <p:spPr>
          <a:xfrm>
            <a:off x="608760" y="6629400"/>
            <a:ext cx="358164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9"/>
          <p:cNvSpPr/>
          <p:nvPr/>
        </p:nvSpPr>
        <p:spPr>
          <a:xfrm>
            <a:off x="609480" y="632448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0"/>
          <p:cNvSpPr/>
          <p:nvPr/>
        </p:nvSpPr>
        <p:spPr>
          <a:xfrm>
            <a:off x="365760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cgi.money.cnn.com/tools/millionaire/millionaire.html" TargetMode="External"/><Relationship Id="rId2" Type="http://schemas.openxmlformats.org/officeDocument/2006/relationships/hyperlink" Target="http://finance.yahoo.com/" TargetMode="External"/><Relationship Id="rId3" Type="http://schemas.openxmlformats.org/officeDocument/2006/relationships/hyperlink" Target="http://www.globalfindata.com/" TargetMode="External"/><Relationship Id="rId4" Type="http://schemas.openxmlformats.org/officeDocument/2006/relationships/hyperlink" Target="http://www.robertniles.com/stats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gi.money.cnn.com/tools/millionaire/millionaire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12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276720" y="1828440"/>
            <a:ext cx="5410080" cy="4419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 Brief History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isk and Ret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, II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+ EAR = (1 + holding period percentage return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= the number of holding periods in a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example, m = 4 (there are 4 3-month holding periods in a year). Therefo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+ EAR = (1 + .062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274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EAR = .2744 or 27.44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80DDD3EA-9924-48D0-A64E-C49CBE4028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3B9EFB45-49A0-4EB7-8E37-DD0FECFFC3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$1 Investment in Different Type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f Portfolios, 1926—2006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2" name="Picture 6" descr="jor82353_0101"/>
          <p:cNvPicPr/>
          <p:nvPr/>
        </p:nvPicPr>
        <p:blipFill>
          <a:blip r:embed="rId1"/>
          <a:stretch/>
        </p:blipFill>
        <p:spPr>
          <a:xfrm>
            <a:off x="915840" y="1066680"/>
            <a:ext cx="7085160" cy="54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83DE6666-2DF6-4351-AA36-EC024B5783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Financial Market History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5" name="Picture 6" descr="jor82353_0102"/>
          <p:cNvPicPr/>
          <p:nvPr/>
        </p:nvPicPr>
        <p:blipFill>
          <a:blip r:embed="rId1"/>
          <a:stretch/>
        </p:blipFill>
        <p:spPr>
          <a:xfrm>
            <a:off x="990720" y="1219320"/>
            <a:ext cx="7029360" cy="53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DE27650D-6F8A-4F6F-98CD-8ACCD07EDE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otal Returns on Large-Company Stock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8" name="Picture 6" descr="jor82353_0103"/>
          <p:cNvPicPr/>
          <p:nvPr/>
        </p:nvPicPr>
        <p:blipFill>
          <a:blip r:embed="rId1"/>
          <a:stretch/>
        </p:blipFill>
        <p:spPr>
          <a:xfrm>
            <a:off x="533520" y="1673280"/>
            <a:ext cx="8305560" cy="44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428923CB-C95A-456C-980B-509752A703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otal Returns on Small-Company Stock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1" name="Picture 6" descr="jor82353_0104"/>
          <p:cNvPicPr/>
          <p:nvPr/>
        </p:nvPicPr>
        <p:blipFill>
          <a:blip r:embed="rId1"/>
          <a:stretch/>
        </p:blipFill>
        <p:spPr>
          <a:xfrm>
            <a:off x="571680" y="1706400"/>
            <a:ext cx="8191440" cy="43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3AB08296-DC28-41B9-BCC3-AB47A4C6A8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Total Returns on U.S. Bond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4" name="Picture 6" descr="jor82353_0105a"/>
          <p:cNvPicPr/>
          <p:nvPr/>
        </p:nvPicPr>
        <p:blipFill>
          <a:blip r:embed="rId1"/>
          <a:stretch/>
        </p:blipFill>
        <p:spPr>
          <a:xfrm>
            <a:off x="685800" y="1676520"/>
            <a:ext cx="8001000" cy="42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C85ED32F-DA80-4E9A-8824-C20130028E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otal Returns on T-bill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7" name="Picture 6" descr="jor82353_0105b"/>
          <p:cNvPicPr/>
          <p:nvPr/>
        </p:nvPicPr>
        <p:blipFill>
          <a:blip r:embed="rId1"/>
          <a:stretch/>
        </p:blipFill>
        <p:spPr>
          <a:xfrm>
            <a:off x="685800" y="1655640"/>
            <a:ext cx="8077320" cy="42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F9D32CAC-23B3-4D9A-BA0E-7650319818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flation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20" name="Picture 6" descr="jor82353_0106"/>
          <p:cNvPicPr/>
          <p:nvPr/>
        </p:nvPicPr>
        <p:blipFill>
          <a:blip r:embed="rId1"/>
          <a:stretch/>
        </p:blipFill>
        <p:spPr>
          <a:xfrm>
            <a:off x="533520" y="1616040"/>
            <a:ext cx="824364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593FCDE1-D8C2-4F3C-B877-7A50B34AB0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istorical Average Retur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997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seful number to help us summarize historical financial data is the simple, or arithmetic avera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data in Table 1.1, if you add up the returns for large-company stocks from 1926 through 2006, you get about 996 per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there are 81 returns, the average return is about 12.3%.  How do you use this numb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re making a guess about the size of the return for a year selected at random, your best guess is 12.3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mula for the historical average return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1905120" y="4800600"/>
                <a:ext cx="511164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istorical Average Return 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early return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B0E267A0-C930-41EF-8B0E-9185A31FB8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verage Annual Returns for Five Portfolio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27" name="Picture 3" descr="cor29192_cut1b"/>
          <p:cNvPicPr/>
          <p:nvPr/>
        </p:nvPicPr>
        <p:blipFill>
          <a:blip r:embed="rId1"/>
          <a:stretch/>
        </p:blipFill>
        <p:spPr>
          <a:xfrm>
            <a:off x="990720" y="1143000"/>
            <a:ext cx="738648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earning Objectiv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o become a wise investor (maybe even one with too much money), you need to kn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calculate the return on an investment using different method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istorical returns on various important types of investment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istorical risks of various important types of investment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lationship between risk and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09224B03-016C-488F-BCBE-6EF9376761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E23E9410-9CD6-4078-BADB-B92EAD774F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verage Returns: The First Lesso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Risk-free r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ate of return on a riskless, i.e., certain invest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Risk premi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tra return on a risky asset over the risk-free rate; i.e., the reward for bearing risk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he First Les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 reward, on average, for bearing r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looking at Table 1.3, we can see the risk premium earned by large-company stocks was 8.5%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C5EFEB94-9853-487C-83AC-2982FEC94D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verage Annual Risk </a:t>
            </a: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Premiums for Five Portfolio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33" name="Picture 6" descr="jor82353_tb0103"/>
          <p:cNvPicPr/>
          <p:nvPr/>
        </p:nvPicPr>
        <p:blipFill>
          <a:blip r:embed="rId1"/>
          <a:stretch/>
        </p:blipFill>
        <p:spPr>
          <a:xfrm>
            <a:off x="609480" y="2781360"/>
            <a:ext cx="815364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D0DBF03C-DCC2-4328-BC3F-42A8936268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hy Does a Risk Premium Exist?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rn investment theory centers on this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we will examine this question many times in the chapters ah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we can examine part of this question by looking at the dispersion, or spread, of historical return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use two statistical concepts to study this dispersion, or variability: variance and standard deviatio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The Second Les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reater the potential reward, the greater the r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CFACD33B-7FB3-4FEE-AA32-1D88C5AC58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turn Variability: The Statistical Tool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rmula for return variance is ("n" is the number of return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, it is useful to use the standard deviation, which is related to variance like th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3124080" y="2209680"/>
                <a:ext cx="323244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3352680" y="4648320"/>
                <a:ext cx="279576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σ 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73EA73D4-10C8-4828-9EE2-36B0481107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turn Variability Review and Concept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Varianc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common measure of return dispersion.  Sometimes, return dispersion is also call vari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Standard deviatio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square root of the vari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times the square root is called volatility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 Deviation is handy because it is in the same "units" as the aver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Normal distrib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mmetric, bell-shaped frequency distribution that can be described with only an average and a standard dev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a normal distribution describe asset retur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96F3E97E-AA99-4BB1-9527-92C876817D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Frequency Distribution of Returns on </a:t>
            </a: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mmon Stocks, 1926—2006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47" name="Picture 6" descr="jor82353_0107"/>
          <p:cNvPicPr/>
          <p:nvPr/>
        </p:nvPicPr>
        <p:blipFill>
          <a:blip r:embed="rId1"/>
          <a:stretch/>
        </p:blipFill>
        <p:spPr>
          <a:xfrm>
            <a:off x="1371600" y="1066680"/>
            <a:ext cx="6781680" cy="544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71EB0297-5A1A-4D09-951E-251152DFF0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Calculating Historical Variance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d Standard Deviatio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use data from Table 1.1 for Large-Company Stoc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readsheet below shows us how to calculate the average, the variance, and the standard deviation (the long way…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4"/>
          <p:cNvGraphicFramePr/>
          <p:nvPr/>
        </p:nvGraphicFramePr>
        <p:xfrm>
          <a:off x="1981080" y="3124080"/>
          <a:ext cx="5613480" cy="299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124080"/>
                    <a:ext cx="561348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A5978BBC-46A0-4AF4-87D1-3EC77D3788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istorical Returns, Standard Deviations, and Frequency Distributions: 1926—2006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55" name="Picture 6" descr="jor82353_0108"/>
          <p:cNvPicPr/>
          <p:nvPr/>
        </p:nvPicPr>
        <p:blipFill>
          <a:blip r:embed="rId1"/>
          <a:stretch/>
        </p:blipFill>
        <p:spPr>
          <a:xfrm>
            <a:off x="2362320" y="1295280"/>
            <a:ext cx="4771800" cy="51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4043B16A-212C-4D3B-BAD9-8EABF9DF97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Normal Distribution and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arge Company Stock Retur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58" name="Picture 6" descr="jor82353_0109"/>
          <p:cNvPicPr/>
          <p:nvPr/>
        </p:nvPicPr>
        <p:blipFill>
          <a:blip r:embed="rId1"/>
          <a:stretch/>
        </p:blipFill>
        <p:spPr>
          <a:xfrm>
            <a:off x="539640" y="2057400"/>
            <a:ext cx="8299440" cy="34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F39C5ED0-B870-4D15-A26D-EFCFE386AD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turns on Some “Non-Normal” Day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61" name="Picture 6" descr="jor82353_cut1c"/>
          <p:cNvPicPr/>
          <p:nvPr/>
        </p:nvPicPr>
        <p:blipFill>
          <a:blip r:embed="rId1"/>
          <a:stretch/>
        </p:blipFill>
        <p:spPr>
          <a:xfrm>
            <a:off x="1685880" y="1066680"/>
            <a:ext cx="577224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2054C7DC-A468-4A88-A9FD-93A8DAB28D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 I: Who Wants To Be A Millionaire?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retire with One Million Dollars (or more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? Suppo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invest $300 per mon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investments earn 9% per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ecide to take advantage of deferring taxes on your investments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take you about 36.25 years. Hmm. Too lo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F5648B29-C638-4B55-A910-5D20CA1C16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rithmetic Averages versu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Averag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160" y="1225080"/>
            <a:ext cx="830556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ithmetic average return answers the question:  “What was your return in an average year over a particular period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ometric average return answers the question:  “What was your averag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und return per y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ver a particular period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should you use the arithmetic average and when should you use the geometric avera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, we need to learn how to calculate a geometric aver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650BFFFA-1248-401C-B20E-7688819E0A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Calculating a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Average Retur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use the large-company stock data from Table 1.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readsheet below shows us how to calculate the geometric average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Object 4"/>
          <p:cNvGraphicFramePr/>
          <p:nvPr/>
        </p:nvGraphicFramePr>
        <p:xfrm>
          <a:off x="2514600" y="3048120"/>
          <a:ext cx="4324320" cy="284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048120"/>
                    <a:ext cx="4324320" cy="28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781A69E0-C47D-4643-AF31-3A83F41E47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rithmetic Averages versu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Averag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160" y="122544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ithmetic average tells you what you earned in a typical yea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ometric average tells you what you actually earned per year on average, compounded annu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When we talk about average returns, we generally are talking about arithmetic average returns.</a:t>
            </a:r>
            <a:br>
              <a:rPr sz="2000"/>
            </a:b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purpose of forecasting future retur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rithmetic average is probably "too high" for long foreca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geometric average is probably "too low" for short foreca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8CC0B5AC-2ACC-4F43-821E-A94E622C94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versus Arithmetic Averag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75" name="Picture 6" descr="jor82353_tb0104"/>
          <p:cNvPicPr/>
          <p:nvPr/>
        </p:nvPicPr>
        <p:blipFill>
          <a:blip r:embed="rId1"/>
          <a:stretch/>
        </p:blipFill>
        <p:spPr>
          <a:xfrm>
            <a:off x="685800" y="2590920"/>
            <a:ext cx="78152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80508E56-9BC5-4455-B2F7-109F1CC565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isk and Retur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sk-free rate represents compensation for just waiting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this is often called the 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time value of mon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First Les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f we are willing to bear risk, then we can expect to earn a risk premium, at least on averag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Second Les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Further, the more risk we are willing to bear, the greater the expected risk prem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ECBF1D2B-93E6-41BF-A05F-260FA6E3EC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istorical Risk and Return Trade-Off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81" name="Picture 6" descr="jor82353_0110"/>
          <p:cNvPicPr/>
          <p:nvPr/>
        </p:nvPicPr>
        <p:blipFill>
          <a:blip r:embed="rId1"/>
          <a:stretch/>
        </p:blipFill>
        <p:spPr>
          <a:xfrm>
            <a:off x="762120" y="1981080"/>
            <a:ext cx="7719840" cy="346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662EDF5D-16E7-41B0-BAA3-2B852239E4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 Look Ahead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xt focuses exclusively on financial assets: stocks, bonds, options, and futur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learn how to value different assets and make informed, intelligent decisions about the associated risk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also learn about different trading mechanisms, and the way that different markets fu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AEE92F3A-F208-4A99-B4C9-AAC36611D4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Useful Internet Sit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gi.money.cnn.com/tools/millionaire/millionaire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illionaire link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inance.yaho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ference for a terrific financial web site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globalfindata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ference for historical financial market data—not free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robertniles.com/sta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ference for easy to read statistics revie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969F5098-8781-4821-A712-AAF4AC5B97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llar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ntage Retur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istorical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rst 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onger Range 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loser 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Returns: The First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ng Average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Returns: The Historical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Premi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FBCD99CF-B0F6-4F14-892C-79CD93E7B2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Variability: The Second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Distributions and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istorical Variance and Standard Dev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istorical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cond Less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 Returns versus Geometric Retur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isk-Return Trade-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BCD56059-1F97-4F51-827A-94615F2E9B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 II: Who Wants To Be A Millionaire?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, suppo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invest $500 per mon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investments earn 12% per ye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decide to take advantage of deferring taxes on your invest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ill take you 25.5 year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isti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250 is about the size of a new car payment, and perhaps your employer will kick in $250 per 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 the last 81 years, the S&amp;P 500 Index return was about 12%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ry this calculator: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gi.money.cnn.com/tools/millionaire/millionaire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8F3A2BC8-7366-429C-9D5B-966854D3C2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Brief History of Risk and Retur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goal in this chapter is to see what financial market history can tell us about risk and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wo key observ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, there is a substantial reward, on average, for bearing ris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, greater risks accompany greater retur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BBF3839B-188F-4C77-B33F-9BC38D5EDD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ollar Return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otal dollar retur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return on an investment measured in dollars, accounting for all interim cash flows and capital gains or lo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1600200" y="3352680"/>
                <a:ext cx="646272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tal Dollar Return on a Stock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Dividend Incom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Capital Gain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 Los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54D15C2B-C260-4ADE-A810-EB2E6B940B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Percent Return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Total percent retur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return on an investment measured as a percentage of the original investmen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tal percent return is the return for </a:t>
            </a:r>
            <a:r>
              <a:rPr b="1" i="1" lang="en-US" sz="1800" spc="-1" strike="noStrike">
                <a:solidFill>
                  <a:srgbClr val="009999"/>
                </a:solidFill>
                <a:latin typeface="Arial"/>
              </a:rPr>
              <a:t>each doll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veste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, you buy a share of sto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1295280" y="3962520"/>
                <a:ext cx="7315200" cy="24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ercent Return on a Stock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vidend Income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Capital Gain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r Los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eginning Stock Price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Percent Return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otal Dollar Return on a Stoc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eginning Stock Price 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Beginning Investmen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90F3E860-3CCC-4F94-AF5E-AC02EB2BAB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Calculating Total Dollar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d Total Percent Retur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you invested $1,400 in a stock with a share price of $3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one year, the stock price per share is $4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, for each share, you received a $1.40 dividen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as your total dollar retu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1,400 / $35 = 40 sh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 gain: 40 shares times $14 = $5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dends: 40 shares times $1.40 = $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Dollar Return is $560 + $56 = $61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as your total percent retu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dend yield = $1.40 / $35 = 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 gain yield = ($49 </a:t>
            </a:r>
            <a:r>
              <a:rPr b="0" lang="en-US" sz="2000" spc="-1" strike="noStrike" baseline="8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$35) / $35 = 4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percentage return = 4% + 40% = 4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6781680" y="41911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6095880" y="5410080"/>
            <a:ext cx="198144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Note that $616 divided by $1400 is 44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3352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uy 200 shares of Lowe’s Companies, Inc. at $48 per share. Three months later, you sell these shares for $51 per share. You received no dividends. What is your return? What is your annualized retur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: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+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/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$51 - $48) / $4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.0625 = 6.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Effective Annual Return (EAR)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turn on an investment expressed on an “annualized” ba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Question: What is the number of holding periods in a year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23A00249-EEED-45CA-95C3-FAF4B136DF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6248520" y="28954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This return is </a:t>
            </a:r>
            <a:br>
              <a:rPr sz="1800"/>
            </a:b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known as the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holding period percentage retu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user</cp:lastModifiedBy>
  <dcterms:modified xsi:type="dcterms:W3CDTF">2012-03-25T18:31:39Z</dcterms:modified>
  <cp:revision>52</cp:revision>
  <dc:subject/>
  <dc:title>Slide 1</dc:title>
</cp:coreProperties>
</file>