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17.jpeg" ContentType="image/jpeg"/>
  <Override PartName="/ppt/media/image9.jpeg" ContentType="image/jpeg"/>
  <Override PartName="/ppt/media/image13.jpeg" ContentType="image/jpeg"/>
  <Override PartName="/ppt/media/image16.jpeg" ContentType="image/jpeg"/>
  <Override PartName="/ppt/media/image14.jpeg" ContentType="image/jpeg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84B4E-C5F0-4F50-99BF-79F8FB90BC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F7EF6-4C9C-48FB-AE09-FA982A5F90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C97EC-12C3-41B2-9314-12F1677923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0DD1A-BA16-41D7-BD21-2A3CE4611A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140A5-66E1-4271-A2E3-B58EA25B24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97599-9B4A-47F2-9C59-DCE0E5D482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C5250-122B-4ADF-B0F8-E7F39744C7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311E4-C5CB-467A-BF85-BEC6399E19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38447-9191-4879-9E58-4D01177355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8D6C8-5849-4F4E-B545-C10BFFFFC9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2A3B0-6054-45FC-A9AF-2120B0FF4A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might have subtracted 1926 from 2005.  Of course, you got 79, which excludes the 1926 return.  To include 1926, add one.  This is because the 1926 return uses year-end 1925 prices.  So, 2005 – 1925 = 80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20116-1DF1-471C-90CF-B4E865E24A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C51F1-D911-48DB-A2F3-AA3261F929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5B86C-3EA1-490D-BC65-A0B67E1EC3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CED49-7C48-468A-AC19-D1590BFE1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2B93C-FC89-47B2-9648-F9C1CB2183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652A2-43E3-4687-8221-D61734CACF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9DE33-D3FB-4EDD-ABE1-454D91BA9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F86AD-F9B4-491B-A9FA-3A01B20D45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FF277-480B-4160-99D5-4AA6509F1D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 Of course, one could use also the Excel functions, =Average( ), =VAR( ), and =STDEV( 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72E57-56B3-4346-B571-E0D7096AE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1C6D8-115F-4AA1-945E-B33EA3BDD4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9F9F5-6549-40C5-A59F-2E6D8104A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86C8B-88E0-4A78-8F8B-C36E75A10D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C4F34-3AAA-4A6D-9527-7645239008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204D0-881D-49FA-AC63-F91F7B39B8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474AF-26B6-4B68-A272-1D0C04CC45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BB02C-BDB3-4451-9A9F-49DD9F469A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479A7-1C47-4B52-A7AF-42E73B1FDE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15D24-C66F-48F7-8E8F-8AE815D353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94000-3F75-4E0C-93A8-88CD506CE1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62A8A-CBAB-4862-AF02-10FBB3F585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627FE-69BF-4762-A2E8-517C2CCB7F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0A270-3384-4108-A65A-E302795138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80E4B-00FC-415B-B74A-01F4BF2558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4087D-8A05-402D-91AA-074E6B465F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63AF3-2E4C-4520-8A2C-D792F49DDB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CAECE-745F-4E37-9D41-7048A48368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4BB17-9E7E-4844-9533-67E3995633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13503-BC2D-433B-8120-2821BCC3B0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54C2E-65B0-4E1B-976C-2E519E8C54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3160" y="385236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64FDF-C9A4-4C66-8EE0-44131DB959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78908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4B115-5D8A-49FE-99CC-C4ADF34445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4116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14952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53316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4116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614952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067C9-49E1-495B-AB1E-7C586B66EF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6840" y="763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17555-9D61-41E7-8000-A47FC5DD6D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78908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33160" y="385236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78908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34116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14952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3316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34116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14952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2F5BB-E5BB-487E-A176-FEC5A22267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EA837-5F29-4570-9AB4-09015A4618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D9864-319B-467A-966C-90B332853A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56840" y="763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5518A-8A02-4AA3-8681-852F83A29A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F8351-D30B-4D66-8F78-DE629B2AE4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78908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46DF1-FFB4-4879-B386-72A9461A14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2C8E6-967A-498B-8E4E-351BF7AB03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 rot="16200000">
            <a:off x="8724960" y="266400"/>
            <a:ext cx="609480" cy="228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38"/>
          <p:cNvSpPr/>
          <p:nvPr/>
        </p:nvSpPr>
        <p:spPr>
          <a:xfrm>
            <a:off x="785880" y="76320"/>
            <a:ext cx="8345520" cy="7920"/>
          </a:xfrm>
          <a:custGeom>
            <a:avLst/>
            <a:gdLst>
              <a:gd name="textAreaLeft" fmla="*/ 0 w 8345520"/>
              <a:gd name="textAreaRight" fmla="*/ 8345880 w 83455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257" h="5">
                <a:moveTo>
                  <a:pt x="0" y="5"/>
                </a:moveTo>
                <a:lnTo>
                  <a:pt x="5257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32"/>
          <p:cNvSpPr/>
          <p:nvPr/>
        </p:nvSpPr>
        <p:spPr>
          <a:xfrm>
            <a:off x="457200" y="990720"/>
            <a:ext cx="8458200" cy="563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9"/>
          <p:cNvSpPr/>
          <p:nvPr/>
        </p:nvSpPr>
        <p:spPr>
          <a:xfrm rot="16200000">
            <a:off x="501480" y="-76320"/>
            <a:ext cx="228600" cy="380880"/>
          </a:xfrm>
          <a:custGeom>
            <a:avLst/>
            <a:gdLst>
              <a:gd name="textAreaLeft" fmla="*/ 0 w 228600"/>
              <a:gd name="textAreaRight" fmla="*/ 228960 w 2286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d8b8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reeform 10"/>
          <p:cNvSpPr/>
          <p:nvPr/>
        </p:nvSpPr>
        <p:spPr>
          <a:xfrm>
            <a:off x="-31680" y="-701640"/>
            <a:ext cx="865080" cy="2060640"/>
          </a:xfrm>
          <a:custGeom>
            <a:avLst/>
            <a:gdLst>
              <a:gd name="textAreaLeft" fmla="*/ 0 w 865080"/>
              <a:gd name="textAreaRight" fmla="*/ 865440 w 865080"/>
              <a:gd name="textAreaTop" fmla="*/ 0 h 2060640"/>
              <a:gd name="textAreaBottom" fmla="*/ 2061000 h 2060640"/>
            </a:gdLst>
            <a:ahLst/>
            <a:rect l="textAreaLeft" t="textAreaTop" r="textAreaRight" b="textAreaBottom"/>
            <a:pathLst>
              <a:path w="545" h="1298">
                <a:moveTo>
                  <a:pt x="12" y="1298"/>
                </a:moveTo>
                <a:cubicBezTo>
                  <a:pt x="92" y="1298"/>
                  <a:pt x="116" y="1298"/>
                  <a:pt x="196" y="1298"/>
                </a:cubicBezTo>
                <a:cubicBezTo>
                  <a:pt x="237" y="1174"/>
                  <a:pt x="188" y="1122"/>
                  <a:pt x="248" y="753"/>
                </a:cubicBezTo>
                <a:cubicBezTo>
                  <a:pt x="308" y="384"/>
                  <a:pt x="545" y="28"/>
                  <a:pt x="528" y="8"/>
                </a:cubicBezTo>
                <a:cubicBezTo>
                  <a:pt x="507" y="0"/>
                  <a:pt x="208" y="491"/>
                  <a:pt x="122" y="706"/>
                </a:cubicBezTo>
                <a:cubicBezTo>
                  <a:pt x="42" y="899"/>
                  <a:pt x="0" y="1193"/>
                  <a:pt x="12" y="1298"/>
                </a:cubicBezTo>
                <a:close/>
              </a:path>
            </a:pathLst>
          </a:custGeom>
          <a:solidFill>
            <a:srgbClr val="367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1"/>
          <p:cNvSpPr/>
          <p:nvPr/>
        </p:nvSpPr>
        <p:spPr>
          <a:xfrm rot="16200000">
            <a:off x="-756000" y="5804640"/>
            <a:ext cx="1830240" cy="276480"/>
          </a:xfrm>
          <a:prstGeom prst="rect">
            <a:avLst/>
          </a:prstGeom>
          <a:solidFill>
            <a:srgbClr val="c8b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2"/>
          <p:cNvSpPr/>
          <p:nvPr/>
        </p:nvSpPr>
        <p:spPr>
          <a:xfrm rot="16200000">
            <a:off x="61920" y="5241600"/>
            <a:ext cx="609480" cy="1810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3"/>
          <p:cNvSpPr/>
          <p:nvPr/>
        </p:nvSpPr>
        <p:spPr>
          <a:xfrm rot="16200000">
            <a:off x="-190080" y="1866600"/>
            <a:ext cx="1143000" cy="1522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4"/>
          <p:cNvSpPr/>
          <p:nvPr/>
        </p:nvSpPr>
        <p:spPr>
          <a:xfrm rot="16200000">
            <a:off x="-166680" y="3976560"/>
            <a:ext cx="609840" cy="276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Line 16"/>
          <p:cNvSpPr/>
          <p:nvPr/>
        </p:nvSpPr>
        <p:spPr>
          <a:xfrm>
            <a:off x="0" y="251460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Freeform 17"/>
          <p:cNvSpPr/>
          <p:nvPr/>
        </p:nvSpPr>
        <p:spPr>
          <a:xfrm>
            <a:off x="0" y="1371600"/>
            <a:ext cx="457200" cy="3240"/>
          </a:xfrm>
          <a:custGeom>
            <a:avLst/>
            <a:gdLst>
              <a:gd name="textAreaLeft" fmla="*/ 0 w 457200"/>
              <a:gd name="textAreaRight" fmla="*/ 457560 w 4572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88" h="2">
                <a:moveTo>
                  <a:pt x="0" y="2"/>
                </a:moveTo>
                <a:lnTo>
                  <a:pt x="288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8"/>
          <p:cNvSpPr/>
          <p:nvPr/>
        </p:nvSpPr>
        <p:spPr>
          <a:xfrm>
            <a:off x="0" y="0"/>
            <a:ext cx="0" cy="6858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Freeform 19"/>
          <p:cNvSpPr/>
          <p:nvPr/>
        </p:nvSpPr>
        <p:spPr>
          <a:xfrm>
            <a:off x="279360" y="1371600"/>
            <a:ext cx="9720" cy="5486400"/>
          </a:xfrm>
          <a:custGeom>
            <a:avLst/>
            <a:gdLst>
              <a:gd name="textAreaLeft" fmla="*/ 0 w 9720"/>
              <a:gd name="textAreaRight" fmla="*/ 10080 w 9720"/>
              <a:gd name="textAreaTop" fmla="*/ 0 h 5486400"/>
              <a:gd name="textAreaBottom" fmla="*/ 5486760 h 5486400"/>
            </a:gdLst>
            <a:ahLst/>
            <a:rect l="textAreaLeft" t="textAreaTop" r="textAreaRight" b="textAreaBottom"/>
            <a:pathLst>
              <a:path w="6" h="3456">
                <a:moveTo>
                  <a:pt x="0" y="0"/>
                </a:moveTo>
                <a:lnTo>
                  <a:pt x="6" y="3456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Line 20"/>
          <p:cNvSpPr/>
          <p:nvPr/>
        </p:nvSpPr>
        <p:spPr>
          <a:xfrm flipV="1">
            <a:off x="0" y="4417560"/>
            <a:ext cx="457200" cy="18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Line 21"/>
          <p:cNvSpPr/>
          <p:nvPr/>
        </p:nvSpPr>
        <p:spPr>
          <a:xfrm>
            <a:off x="0" y="502920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Line 22"/>
          <p:cNvSpPr/>
          <p:nvPr/>
        </p:nvSpPr>
        <p:spPr>
          <a:xfrm>
            <a:off x="0" y="228600"/>
            <a:ext cx="806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Line 23"/>
          <p:cNvSpPr/>
          <p:nvPr/>
        </p:nvSpPr>
        <p:spPr>
          <a:xfrm>
            <a:off x="0" y="0"/>
            <a:ext cx="806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Freeform 25"/>
          <p:cNvSpPr/>
          <p:nvPr/>
        </p:nvSpPr>
        <p:spPr>
          <a:xfrm>
            <a:off x="-12600" y="-690480"/>
            <a:ext cx="819000" cy="2049480"/>
          </a:xfrm>
          <a:custGeom>
            <a:avLst/>
            <a:gdLst>
              <a:gd name="textAreaLeft" fmla="*/ 0 w 819000"/>
              <a:gd name="textAreaRight" fmla="*/ 819360 w 819000"/>
              <a:gd name="textAreaTop" fmla="*/ 0 h 2049480"/>
              <a:gd name="textAreaBottom" fmla="*/ 2049840 h 2049480"/>
            </a:gdLst>
            <a:ahLst/>
            <a:rect l="textAreaLeft" t="textAreaTop" r="textAreaRight" b="textAreaBottom"/>
            <a:pathLst>
              <a:path w="516" h="1291">
                <a:moveTo>
                  <a:pt x="0" y="1291"/>
                </a:moveTo>
                <a:cubicBezTo>
                  <a:pt x="19" y="1192"/>
                  <a:pt x="30" y="920"/>
                  <a:pt x="116" y="705"/>
                </a:cubicBezTo>
                <a:cubicBezTo>
                  <a:pt x="248" y="314"/>
                  <a:pt x="432" y="147"/>
                  <a:pt x="516" y="0"/>
                </a:cubicBez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Freeform 26"/>
          <p:cNvSpPr/>
          <p:nvPr/>
        </p:nvSpPr>
        <p:spPr>
          <a:xfrm>
            <a:off x="291960" y="-674640"/>
            <a:ext cx="519120" cy="2033640"/>
          </a:xfrm>
          <a:custGeom>
            <a:avLst/>
            <a:gdLst>
              <a:gd name="textAreaLeft" fmla="*/ 0 w 519120"/>
              <a:gd name="textAreaRight" fmla="*/ 519480 w 519120"/>
              <a:gd name="textAreaTop" fmla="*/ 0 h 2033640"/>
              <a:gd name="textAreaBottom" fmla="*/ 2034000 h 2033640"/>
            </a:gdLst>
            <a:ahLst/>
            <a:rect l="textAreaLeft" t="textAreaTop" r="textAreaRight" b="textAreaBottom"/>
            <a:pathLst>
              <a:path w="327" h="1281">
                <a:moveTo>
                  <a:pt x="0" y="1281"/>
                </a:moveTo>
                <a:cubicBezTo>
                  <a:pt x="9" y="1188"/>
                  <a:pt x="3" y="941"/>
                  <a:pt x="57" y="728"/>
                </a:cubicBezTo>
                <a:cubicBezTo>
                  <a:pt x="116" y="476"/>
                  <a:pt x="271" y="152"/>
                  <a:pt x="327" y="0"/>
                </a:cubicBez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Line 28"/>
          <p:cNvSpPr/>
          <p:nvPr/>
        </p:nvSpPr>
        <p:spPr>
          <a:xfrm>
            <a:off x="304920" y="5638680"/>
            <a:ext cx="15228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Line 29"/>
          <p:cNvSpPr/>
          <p:nvPr/>
        </p:nvSpPr>
        <p:spPr>
          <a:xfrm>
            <a:off x="0" y="3809880"/>
            <a:ext cx="30492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Line 31"/>
          <p:cNvSpPr/>
          <p:nvPr/>
        </p:nvSpPr>
        <p:spPr>
          <a:xfrm>
            <a:off x="453240" y="230040"/>
            <a:ext cx="3240" cy="66279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Freeform 33"/>
          <p:cNvSpPr/>
          <p:nvPr/>
        </p:nvSpPr>
        <p:spPr>
          <a:xfrm>
            <a:off x="-25560" y="6629400"/>
            <a:ext cx="8993520" cy="1440"/>
          </a:xfrm>
          <a:custGeom>
            <a:avLst/>
            <a:gdLst>
              <a:gd name="textAreaLeft" fmla="*/ 0 w 8993520"/>
              <a:gd name="textAreaRight" fmla="*/ 8993880 w 89935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5665" h="1">
                <a:moveTo>
                  <a:pt x="0" y="0"/>
                </a:moveTo>
                <a:lnTo>
                  <a:pt x="5665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Rectangle 15"/>
          <p:cNvSpPr/>
          <p:nvPr/>
        </p:nvSpPr>
        <p:spPr>
          <a:xfrm rot="16200000">
            <a:off x="8724960" y="6438960"/>
            <a:ext cx="380880" cy="45720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Line 30"/>
          <p:cNvSpPr/>
          <p:nvPr/>
        </p:nvSpPr>
        <p:spPr>
          <a:xfrm>
            <a:off x="8686800" y="647712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Line 34"/>
          <p:cNvSpPr/>
          <p:nvPr/>
        </p:nvSpPr>
        <p:spPr>
          <a:xfrm>
            <a:off x="8686800" y="6477120"/>
            <a:ext cx="0" cy="3808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Line 36"/>
          <p:cNvSpPr/>
          <p:nvPr/>
        </p:nvSpPr>
        <p:spPr>
          <a:xfrm>
            <a:off x="8914680" y="0"/>
            <a:ext cx="3240" cy="64753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Line 37"/>
          <p:cNvSpPr/>
          <p:nvPr/>
        </p:nvSpPr>
        <p:spPr>
          <a:xfrm>
            <a:off x="822240" y="0"/>
            <a:ext cx="0" cy="2491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sldNum" idx="1"/>
          </p:nvPr>
        </p:nvSpPr>
        <p:spPr>
          <a:xfrm>
            <a:off x="7086240" y="655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-</a:t>
            </a:r>
            <a:fld id="{B209EEE7-3733-4507-9ADE-49B3907B28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Line 40"/>
          <p:cNvSpPr/>
          <p:nvPr/>
        </p:nvSpPr>
        <p:spPr>
          <a:xfrm>
            <a:off x="8915400" y="685800"/>
            <a:ext cx="2286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Freeform 41"/>
          <p:cNvSpPr/>
          <p:nvPr/>
        </p:nvSpPr>
        <p:spPr>
          <a:xfrm>
            <a:off x="291960" y="990720"/>
            <a:ext cx="9156960" cy="936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5768" h="6">
                <a:moveTo>
                  <a:pt x="0" y="0"/>
                </a:moveTo>
                <a:lnTo>
                  <a:pt x="5768" y="6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7"/>
          <p:cNvSpPr/>
          <p:nvPr/>
        </p:nvSpPr>
        <p:spPr>
          <a:xfrm>
            <a:off x="5410080" y="304920"/>
            <a:ext cx="381240" cy="53316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35"/>
          <p:cNvSpPr/>
          <p:nvPr/>
        </p:nvSpPr>
        <p:spPr>
          <a:xfrm>
            <a:off x="8077320" y="1295280"/>
            <a:ext cx="228600" cy="381240"/>
          </a:xfrm>
          <a:custGeom>
            <a:avLst/>
            <a:gdLst>
              <a:gd name="textAreaLeft" fmla="*/ 0 w 228600"/>
              <a:gd name="textAreaRight" fmla="*/ 228960 w 2286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d8b8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34"/>
          <p:cNvSpPr/>
          <p:nvPr/>
        </p:nvSpPr>
        <p:spPr>
          <a:xfrm>
            <a:off x="6629400" y="838080"/>
            <a:ext cx="2374920" cy="865440"/>
          </a:xfrm>
          <a:custGeom>
            <a:avLst/>
            <a:gdLst>
              <a:gd name="textAreaLeft" fmla="*/ 0 w 2374920"/>
              <a:gd name="textAreaRight" fmla="*/ 2375280 w 2374920"/>
              <a:gd name="textAreaTop" fmla="*/ 0 h 865440"/>
              <a:gd name="textAreaBottom" fmla="*/ 865800 h 865440"/>
            </a:gdLst>
            <a:ahLst/>
            <a:rect l="textAreaLeft" t="textAreaTop" r="textAreaRight" b="textAreaBottom"/>
            <a:pathLst>
              <a:path w="1496" h="545">
                <a:moveTo>
                  <a:pt x="0" y="0"/>
                </a:moveTo>
                <a:cubicBezTo>
                  <a:pt x="0" y="0"/>
                  <a:pt x="0" y="96"/>
                  <a:pt x="0" y="192"/>
                </a:cubicBezTo>
                <a:cubicBezTo>
                  <a:pt x="124" y="233"/>
                  <a:pt x="406" y="161"/>
                  <a:pt x="743" y="247"/>
                </a:cubicBezTo>
                <a:cubicBezTo>
                  <a:pt x="1080" y="333"/>
                  <a:pt x="1468" y="545"/>
                  <a:pt x="1488" y="528"/>
                </a:cubicBezTo>
                <a:cubicBezTo>
                  <a:pt x="1496" y="507"/>
                  <a:pt x="982" y="201"/>
                  <a:pt x="790" y="121"/>
                </a:cubicBezTo>
                <a:cubicBezTo>
                  <a:pt x="598" y="41"/>
                  <a:pt x="165" y="25"/>
                  <a:pt x="0" y="0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3"/>
          <p:cNvSpPr/>
          <p:nvPr/>
        </p:nvSpPr>
        <p:spPr>
          <a:xfrm>
            <a:off x="6629400" y="0"/>
            <a:ext cx="1447920" cy="533520"/>
          </a:xfrm>
          <a:prstGeom prst="rect">
            <a:avLst/>
          </a:prstGeom>
          <a:solidFill>
            <a:srgbClr val="367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2"/>
          <p:cNvSpPr/>
          <p:nvPr/>
        </p:nvSpPr>
        <p:spPr>
          <a:xfrm>
            <a:off x="2666880" y="838080"/>
            <a:ext cx="609840" cy="304920"/>
          </a:xfrm>
          <a:prstGeom prst="rect">
            <a:avLst/>
          </a:prstGeom>
          <a:solidFill>
            <a:srgbClr val="c8b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1"/>
          <p:cNvSpPr/>
          <p:nvPr/>
        </p:nvSpPr>
        <p:spPr>
          <a:xfrm>
            <a:off x="2666880" y="1143000"/>
            <a:ext cx="609840" cy="53352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0"/>
          <p:cNvSpPr/>
          <p:nvPr/>
        </p:nvSpPr>
        <p:spPr>
          <a:xfrm>
            <a:off x="3276720" y="304920"/>
            <a:ext cx="609480" cy="5331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9"/>
          <p:cNvSpPr/>
          <p:nvPr/>
        </p:nvSpPr>
        <p:spPr>
          <a:xfrm>
            <a:off x="3276720" y="1143000"/>
            <a:ext cx="609480" cy="533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7"/>
          <p:cNvSpPr/>
          <p:nvPr/>
        </p:nvSpPr>
        <p:spPr>
          <a:xfrm>
            <a:off x="3886200" y="1143000"/>
            <a:ext cx="1905120" cy="5335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6"/>
          <p:cNvSpPr/>
          <p:nvPr/>
        </p:nvSpPr>
        <p:spPr>
          <a:xfrm>
            <a:off x="57913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0"/>
          <p:cNvSpPr/>
          <p:nvPr/>
        </p:nvSpPr>
        <p:spPr>
          <a:xfrm>
            <a:off x="662940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1"/>
          <p:cNvSpPr/>
          <p:nvPr/>
        </p:nvSpPr>
        <p:spPr>
          <a:xfrm flipH="1">
            <a:off x="0" y="1676520"/>
            <a:ext cx="91440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2"/>
          <p:cNvSpPr/>
          <p:nvPr/>
        </p:nvSpPr>
        <p:spPr>
          <a:xfrm flipH="1">
            <a:off x="-360" y="1143000"/>
            <a:ext cx="6629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3"/>
          <p:cNvSpPr/>
          <p:nvPr/>
        </p:nvSpPr>
        <p:spPr>
          <a:xfrm flipH="1">
            <a:off x="-360" y="838080"/>
            <a:ext cx="6629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4"/>
          <p:cNvSpPr/>
          <p:nvPr/>
        </p:nvSpPr>
        <p:spPr>
          <a:xfrm flipH="1">
            <a:off x="-360" y="304920"/>
            <a:ext cx="579132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5"/>
          <p:cNvSpPr/>
          <p:nvPr/>
        </p:nvSpPr>
        <p:spPr>
          <a:xfrm>
            <a:off x="388620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7"/>
          <p:cNvSpPr/>
          <p:nvPr/>
        </p:nvSpPr>
        <p:spPr>
          <a:xfrm>
            <a:off x="32767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8"/>
          <p:cNvSpPr/>
          <p:nvPr/>
        </p:nvSpPr>
        <p:spPr>
          <a:xfrm>
            <a:off x="80773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9"/>
          <p:cNvSpPr/>
          <p:nvPr/>
        </p:nvSpPr>
        <p:spPr>
          <a:xfrm>
            <a:off x="83059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25"/>
          <p:cNvGrpSpPr/>
          <p:nvPr/>
        </p:nvGrpSpPr>
        <p:grpSpPr>
          <a:xfrm>
            <a:off x="6629400" y="828720"/>
            <a:ext cx="2362320" cy="852480"/>
            <a:chOff x="6629400" y="828720"/>
            <a:chExt cx="2362320" cy="852480"/>
          </a:xfrm>
        </p:grpSpPr>
        <p:sp>
          <p:nvSpPr>
            <p:cNvPr id="89" name="Freeform 23"/>
            <p:cNvSpPr/>
            <p:nvPr/>
          </p:nvSpPr>
          <p:spPr>
            <a:xfrm>
              <a:off x="6629400" y="828720"/>
              <a:ext cx="2362320" cy="847800"/>
            </a:xfrm>
            <a:custGeom>
              <a:avLst/>
              <a:gdLst>
                <a:gd name="textAreaLeft" fmla="*/ 0 w 2362320"/>
                <a:gd name="textAreaRight" fmla="*/ 2362320 w 2362320"/>
                <a:gd name="textAreaTop" fmla="*/ 0 h 847800"/>
                <a:gd name="textAreaBottom" fmla="*/ 848160 h 847800"/>
              </a:gdLst>
              <a:ahLst/>
              <a:rect l="textAreaLeft" t="textAreaTop" r="textAreaRight" b="textAreaBottom"/>
              <a:pathLst>
                <a:path w="1488" h="534">
                  <a:moveTo>
                    <a:pt x="0" y="6"/>
                  </a:moveTo>
                  <a:cubicBezTo>
                    <a:pt x="130" y="27"/>
                    <a:pt x="392" y="0"/>
                    <a:pt x="783" y="133"/>
                  </a:cubicBezTo>
                  <a:cubicBezTo>
                    <a:pt x="1174" y="266"/>
                    <a:pt x="1341" y="450"/>
                    <a:pt x="1488" y="534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6629400" y="1152360"/>
              <a:ext cx="2346480" cy="528840"/>
            </a:xfrm>
            <a:custGeom>
              <a:avLst/>
              <a:gdLst>
                <a:gd name="textAreaLeft" fmla="*/ 0 w 2346480"/>
                <a:gd name="textAreaRight" fmla="*/ 2346840 w 2346480"/>
                <a:gd name="textAreaTop" fmla="*/ 0 h 528840"/>
                <a:gd name="textAreaBottom" fmla="*/ 529200 h 528840"/>
              </a:gdLst>
              <a:ahLst/>
              <a:rect l="textAreaLeft" t="textAreaTop" r="textAreaRight" b="textAreaBottom"/>
              <a:pathLst>
                <a:path w="1478" h="333">
                  <a:moveTo>
                    <a:pt x="0" y="0"/>
                  </a:moveTo>
                  <a:cubicBezTo>
                    <a:pt x="125" y="10"/>
                    <a:pt x="498" y="2"/>
                    <a:pt x="750" y="62"/>
                  </a:cubicBezTo>
                  <a:cubicBezTo>
                    <a:pt x="1002" y="122"/>
                    <a:pt x="1326" y="277"/>
                    <a:pt x="1478" y="333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Line 26"/>
          <p:cNvSpPr/>
          <p:nvPr/>
        </p:nvSpPr>
        <p:spPr>
          <a:xfrm flipH="1">
            <a:off x="6629040" y="533520"/>
            <a:ext cx="25146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36"/>
          <p:cNvSpPr/>
          <p:nvPr/>
        </p:nvSpPr>
        <p:spPr>
          <a:xfrm>
            <a:off x="5410080" y="0"/>
            <a:ext cx="0" cy="8380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7"/>
          <p:cNvSpPr/>
          <p:nvPr/>
        </p:nvSpPr>
        <p:spPr>
          <a:xfrm>
            <a:off x="0" y="-457200"/>
            <a:ext cx="3048120" cy="5334120"/>
          </a:xfrm>
          <a:custGeom>
            <a:avLst/>
            <a:gdLst>
              <a:gd name="textAreaLeft" fmla="*/ 148680 w 3048120"/>
              <a:gd name="textAreaRight" fmla="*/ 2899440 w 3048120"/>
              <a:gd name="textAreaTop" fmla="*/ 148680 h 5334120"/>
              <a:gd name="textAreaBottom" fmla="*/ 5185440 h 5334120"/>
            </a:gdLst>
            <a:ahLst/>
            <a:rect l="textAreaLeft" t="textAreaTop" r="textAreaRight" b="textAreaBottom"/>
            <a:pathLst>
              <a:path w="21600" h="37797">
                <a:moveTo>
                  <a:pt x="3600" y="0"/>
                </a:moveTo>
                <a:arcTo wR="3600" hR="3600" stAng="16200000" swAng="-5400000"/>
                <a:lnTo>
                  <a:pt x="0" y="34197"/>
                </a:lnTo>
                <a:arcTo wR="3600" hR="3600" stAng="10800000" swAng="-5400000"/>
                <a:lnTo>
                  <a:pt x="18000" y="377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ad07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0" y="5335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Chap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8"/>
          <p:cNvSpPr/>
          <p:nvPr/>
        </p:nvSpPr>
        <p:spPr>
          <a:xfrm>
            <a:off x="-1143000" y="1828800"/>
            <a:ext cx="10058400" cy="4800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41"/>
          <p:cNvSpPr/>
          <p:nvPr/>
        </p:nvSpPr>
        <p:spPr>
          <a:xfrm rot="10800000">
            <a:off x="379080" y="6276960"/>
            <a:ext cx="228600" cy="380880"/>
          </a:xfrm>
          <a:custGeom>
            <a:avLst/>
            <a:gdLst>
              <a:gd name="textAreaLeft" fmla="*/ 0 w 228600"/>
              <a:gd name="textAreaRight" fmla="*/ 228960 w 2286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d8b8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42"/>
          <p:cNvSpPr/>
          <p:nvPr/>
        </p:nvSpPr>
        <p:spPr>
          <a:xfrm rot="10800000">
            <a:off x="-319320" y="6248160"/>
            <a:ext cx="2374920" cy="865080"/>
          </a:xfrm>
          <a:custGeom>
            <a:avLst/>
            <a:gdLst>
              <a:gd name="textAreaLeft" fmla="*/ 0 w 2374920"/>
              <a:gd name="textAreaRight" fmla="*/ 2375280 w 2374920"/>
              <a:gd name="textAreaTop" fmla="*/ 0 h 865080"/>
              <a:gd name="textAreaBottom" fmla="*/ 865440 h 865080"/>
            </a:gdLst>
            <a:ahLst/>
            <a:rect l="textAreaLeft" t="textAreaTop" r="textAreaRight" b="textAreaBottom"/>
            <a:pathLst>
              <a:path w="1496" h="545">
                <a:moveTo>
                  <a:pt x="0" y="0"/>
                </a:moveTo>
                <a:cubicBezTo>
                  <a:pt x="0" y="0"/>
                  <a:pt x="0" y="96"/>
                  <a:pt x="0" y="192"/>
                </a:cubicBezTo>
                <a:cubicBezTo>
                  <a:pt x="124" y="233"/>
                  <a:pt x="406" y="161"/>
                  <a:pt x="743" y="247"/>
                </a:cubicBezTo>
                <a:cubicBezTo>
                  <a:pt x="1080" y="333"/>
                  <a:pt x="1468" y="545"/>
                  <a:pt x="1488" y="528"/>
                </a:cubicBezTo>
                <a:cubicBezTo>
                  <a:pt x="1496" y="507"/>
                  <a:pt x="982" y="201"/>
                  <a:pt x="790" y="121"/>
                </a:cubicBezTo>
                <a:cubicBezTo>
                  <a:pt x="598" y="41"/>
                  <a:pt x="165" y="25"/>
                  <a:pt x="0" y="0"/>
                </a:cubicBezTo>
                <a:close/>
              </a:path>
            </a:pathLst>
          </a:custGeom>
          <a:solidFill>
            <a:srgbClr val="367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4"/>
          <p:cNvSpPr/>
          <p:nvPr/>
        </p:nvSpPr>
        <p:spPr>
          <a:xfrm rot="10800000">
            <a:off x="5408640" y="6810480"/>
            <a:ext cx="2820960" cy="573120"/>
          </a:xfrm>
          <a:prstGeom prst="rect">
            <a:avLst/>
          </a:prstGeom>
          <a:solidFill>
            <a:srgbClr val="c8b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5"/>
          <p:cNvSpPr/>
          <p:nvPr/>
        </p:nvSpPr>
        <p:spPr>
          <a:xfrm rot="10800000">
            <a:off x="5408280" y="6629040"/>
            <a:ext cx="609480" cy="1810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6"/>
          <p:cNvSpPr/>
          <p:nvPr/>
        </p:nvSpPr>
        <p:spPr>
          <a:xfrm rot="10800000">
            <a:off x="2057040" y="6652800"/>
            <a:ext cx="609480" cy="1825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7"/>
          <p:cNvSpPr/>
          <p:nvPr/>
        </p:nvSpPr>
        <p:spPr>
          <a:xfrm rot="10800000">
            <a:off x="3124080" y="6276960"/>
            <a:ext cx="609840" cy="533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8"/>
          <p:cNvSpPr/>
          <p:nvPr/>
        </p:nvSpPr>
        <p:spPr>
          <a:xfrm rot="10800000">
            <a:off x="8229600" y="6629040"/>
            <a:ext cx="990720" cy="3049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49"/>
          <p:cNvSpPr/>
          <p:nvPr/>
        </p:nvSpPr>
        <p:spPr>
          <a:xfrm flipH="1" flipV="1">
            <a:off x="2894040" y="6276600"/>
            <a:ext cx="1440" cy="35244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50"/>
          <p:cNvSpPr/>
          <p:nvPr/>
        </p:nvSpPr>
        <p:spPr>
          <a:xfrm flipV="1">
            <a:off x="2057400" y="6629400"/>
            <a:ext cx="0" cy="533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51"/>
          <p:cNvSpPr/>
          <p:nvPr/>
        </p:nvSpPr>
        <p:spPr>
          <a:xfrm>
            <a:off x="-458640" y="6276960"/>
            <a:ext cx="9601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52"/>
          <p:cNvSpPr/>
          <p:nvPr/>
        </p:nvSpPr>
        <p:spPr>
          <a:xfrm flipV="1">
            <a:off x="2055240" y="6784560"/>
            <a:ext cx="6173640" cy="255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55"/>
          <p:cNvSpPr/>
          <p:nvPr/>
        </p:nvSpPr>
        <p:spPr>
          <a:xfrm flipH="1" flipV="1">
            <a:off x="3731760" y="6276960"/>
            <a:ext cx="1800" cy="6573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56"/>
          <p:cNvSpPr/>
          <p:nvPr/>
        </p:nvSpPr>
        <p:spPr>
          <a:xfrm flipV="1">
            <a:off x="5410080" y="6629040"/>
            <a:ext cx="0" cy="3049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57"/>
          <p:cNvSpPr/>
          <p:nvPr/>
        </p:nvSpPr>
        <p:spPr>
          <a:xfrm flipH="1" flipV="1">
            <a:off x="608040" y="6276960"/>
            <a:ext cx="1440" cy="58104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58"/>
          <p:cNvSpPr/>
          <p:nvPr/>
        </p:nvSpPr>
        <p:spPr>
          <a:xfrm flipH="1" flipV="1">
            <a:off x="379440" y="6276960"/>
            <a:ext cx="1440" cy="6573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59"/>
          <p:cNvGrpSpPr/>
          <p:nvPr/>
        </p:nvGrpSpPr>
        <p:grpSpPr>
          <a:xfrm>
            <a:off x="-306360" y="6270840"/>
            <a:ext cx="2362320" cy="852120"/>
            <a:chOff x="-306360" y="6270840"/>
            <a:chExt cx="2362320" cy="852120"/>
          </a:xfrm>
        </p:grpSpPr>
        <p:sp>
          <p:nvSpPr>
            <p:cNvPr id="112" name="Freeform 60"/>
            <p:cNvSpPr/>
            <p:nvPr/>
          </p:nvSpPr>
          <p:spPr>
            <a:xfrm rot="10800000">
              <a:off x="-306360" y="6276960"/>
              <a:ext cx="2362320" cy="846000"/>
            </a:xfrm>
            <a:custGeom>
              <a:avLst/>
              <a:gdLst>
                <a:gd name="textAreaLeft" fmla="*/ 0 w 2362320"/>
                <a:gd name="textAreaRight" fmla="*/ 2362320 w 2362320"/>
                <a:gd name="textAreaTop" fmla="*/ 0 h 846000"/>
                <a:gd name="textAreaBottom" fmla="*/ 846360 h 846000"/>
              </a:gdLst>
              <a:ahLst/>
              <a:rect l="textAreaLeft" t="textAreaTop" r="textAreaRight" b="textAreaBottom"/>
              <a:pathLst>
                <a:path w="1488" h="534">
                  <a:moveTo>
                    <a:pt x="0" y="6"/>
                  </a:moveTo>
                  <a:cubicBezTo>
                    <a:pt x="130" y="27"/>
                    <a:pt x="392" y="0"/>
                    <a:pt x="783" y="133"/>
                  </a:cubicBezTo>
                  <a:cubicBezTo>
                    <a:pt x="1174" y="266"/>
                    <a:pt x="1341" y="450"/>
                    <a:pt x="1488" y="534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61"/>
            <p:cNvSpPr/>
            <p:nvPr/>
          </p:nvSpPr>
          <p:spPr>
            <a:xfrm rot="10800000">
              <a:off x="-290520" y="6270840"/>
              <a:ext cx="2346480" cy="527400"/>
            </a:xfrm>
            <a:custGeom>
              <a:avLst/>
              <a:gdLst>
                <a:gd name="textAreaLeft" fmla="*/ 0 w 2346480"/>
                <a:gd name="textAreaRight" fmla="*/ 2346840 w 2346480"/>
                <a:gd name="textAreaTop" fmla="*/ 0 h 527400"/>
                <a:gd name="textAreaBottom" fmla="*/ 527760 h 527400"/>
              </a:gdLst>
              <a:ahLst/>
              <a:rect l="textAreaLeft" t="textAreaTop" r="textAreaRight" b="textAreaBottom"/>
              <a:pathLst>
                <a:path w="1478" h="333">
                  <a:moveTo>
                    <a:pt x="0" y="0"/>
                  </a:moveTo>
                  <a:cubicBezTo>
                    <a:pt x="125" y="10"/>
                    <a:pt x="498" y="2"/>
                    <a:pt x="750" y="62"/>
                  </a:cubicBezTo>
                  <a:cubicBezTo>
                    <a:pt x="1002" y="122"/>
                    <a:pt x="1326" y="277"/>
                    <a:pt x="1478" y="333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Line 64"/>
          <p:cNvSpPr/>
          <p:nvPr/>
        </p:nvSpPr>
        <p:spPr>
          <a:xfrm>
            <a:off x="4191120" y="6629400"/>
            <a:ext cx="495288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65"/>
          <p:cNvSpPr/>
          <p:nvPr/>
        </p:nvSpPr>
        <p:spPr>
          <a:xfrm flipV="1">
            <a:off x="6019920" y="6629400"/>
            <a:ext cx="0" cy="4572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66"/>
          <p:cNvSpPr/>
          <p:nvPr/>
        </p:nvSpPr>
        <p:spPr>
          <a:xfrm flipV="1">
            <a:off x="3124080" y="6248160"/>
            <a:ext cx="0" cy="6094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67"/>
          <p:cNvSpPr/>
          <p:nvPr/>
        </p:nvSpPr>
        <p:spPr>
          <a:xfrm flipV="1">
            <a:off x="8229600" y="6629040"/>
            <a:ext cx="0" cy="2286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54"/>
          <p:cNvSpPr/>
          <p:nvPr/>
        </p:nvSpPr>
        <p:spPr>
          <a:xfrm>
            <a:off x="608760" y="6629400"/>
            <a:ext cx="358164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9"/>
          <p:cNvSpPr/>
          <p:nvPr/>
        </p:nvSpPr>
        <p:spPr>
          <a:xfrm>
            <a:off x="609480" y="6324480"/>
            <a:ext cx="2667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0"/>
          <p:cNvSpPr/>
          <p:nvPr/>
        </p:nvSpPr>
        <p:spPr>
          <a:xfrm>
            <a:off x="365760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Copyright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© 2009 by The McGraw-Hill Companies, Inc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cgi.money.cnn.com/tools/millionaire/millionaire.html" TargetMode="External"/><Relationship Id="rId2" Type="http://schemas.openxmlformats.org/officeDocument/2006/relationships/hyperlink" Target="http://finance.yahoo.com/" TargetMode="External"/><Relationship Id="rId3" Type="http://schemas.openxmlformats.org/officeDocument/2006/relationships/hyperlink" Target="http://www.globalfindata.com/" TargetMode="External"/><Relationship Id="rId4" Type="http://schemas.openxmlformats.org/officeDocument/2006/relationships/hyperlink" Target="http://www.robertniles.com/stats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cgi.money.cnn.com/tools/millionaire/millionaire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360" y="1828440"/>
            <a:ext cx="304812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700" spc="-1" strike="noStrike">
                <a:solidFill>
                  <a:srgbClr val="660066"/>
                </a:solidFill>
                <a:latin typeface="Arial"/>
              </a:rPr>
              <a:t>1</a:t>
            </a:r>
            <a:endParaRPr b="0" lang="en-US" sz="127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276720" y="1828440"/>
            <a:ext cx="5410080" cy="4419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 Brief History of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Risk and Retu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nnualizing Returns, II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+ EAR = (1 + holding period percentage return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= the number of holding periods in a y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is example, m = 4 (there are 4 3-month holding periods in a year). Therefo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+ EAR = (1 + .0625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.274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, EAR = .2744 or 27.44%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37BAD47D-2C36-423C-B3E9-28F51F0E7F1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4C85C485-F6FB-4C86-A837-BB1784E0886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 $1 Investment in Different Types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of Portfolios, 1926—2006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02" name="Picture 6" descr="jor82353_0101"/>
          <p:cNvPicPr/>
          <p:nvPr/>
        </p:nvPicPr>
        <p:blipFill>
          <a:blip r:embed="rId1"/>
          <a:stretch/>
        </p:blipFill>
        <p:spPr>
          <a:xfrm>
            <a:off x="915840" y="1066680"/>
            <a:ext cx="7085160" cy="544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96D35935-A422-4896-8A92-BAE49CE8847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Financial Market History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05" name="Picture 6" descr="jor82353_0102"/>
          <p:cNvPicPr/>
          <p:nvPr/>
        </p:nvPicPr>
        <p:blipFill>
          <a:blip r:embed="rId1"/>
          <a:stretch/>
        </p:blipFill>
        <p:spPr>
          <a:xfrm>
            <a:off x="990720" y="1219320"/>
            <a:ext cx="7029360" cy="532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D03B8901-D201-4F50-B435-A0C931D9EA6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he Historical Record: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otal Returns on Large-Company Stocks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08" name="Picture 6" descr="jor82353_0103"/>
          <p:cNvPicPr/>
          <p:nvPr/>
        </p:nvPicPr>
        <p:blipFill>
          <a:blip r:embed="rId1"/>
          <a:stretch/>
        </p:blipFill>
        <p:spPr>
          <a:xfrm>
            <a:off x="533520" y="1673280"/>
            <a:ext cx="8305560" cy="449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93690DC0-B551-4CF8-93CE-84663A48B08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he Historical Record: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otal Returns on Small-Company Stocks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11" name="Picture 6" descr="jor82353_0104"/>
          <p:cNvPicPr/>
          <p:nvPr/>
        </p:nvPicPr>
        <p:blipFill>
          <a:blip r:embed="rId1"/>
          <a:stretch/>
        </p:blipFill>
        <p:spPr>
          <a:xfrm>
            <a:off x="571680" y="1706400"/>
            <a:ext cx="8191440" cy="438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37333FE8-7D6F-4390-8F07-6999DF3B795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he Historical Record: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 Total Returns on U.S. Bonds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14" name="Picture 6" descr="jor82353_0105a"/>
          <p:cNvPicPr/>
          <p:nvPr/>
        </p:nvPicPr>
        <p:blipFill>
          <a:blip r:embed="rId1"/>
          <a:stretch/>
        </p:blipFill>
        <p:spPr>
          <a:xfrm>
            <a:off x="685800" y="1676520"/>
            <a:ext cx="8001000" cy="420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40864B02-013C-491D-B3A7-B56F6B374AC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he Historical Record: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otal Returns on T-bills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17" name="Picture 6" descr="jor82353_0105b"/>
          <p:cNvPicPr/>
          <p:nvPr/>
        </p:nvPicPr>
        <p:blipFill>
          <a:blip r:embed="rId1"/>
          <a:stretch/>
        </p:blipFill>
        <p:spPr>
          <a:xfrm>
            <a:off x="685800" y="1655640"/>
            <a:ext cx="8077320" cy="428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4823D256-C07B-4864-BEBE-5F4F40256EA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he Historical Record: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Inflation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20" name="Picture 6" descr="jor82353_0106"/>
          <p:cNvPicPr/>
          <p:nvPr/>
        </p:nvPicPr>
        <p:blipFill>
          <a:blip r:embed="rId1"/>
          <a:stretch/>
        </p:blipFill>
        <p:spPr>
          <a:xfrm>
            <a:off x="533520" y="1616040"/>
            <a:ext cx="8243640" cy="432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lide Number Placeholder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62BBC162-F3ED-49F4-9F97-08FC94CCD8B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Historical Average Return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997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useful number to help us summarize historical financial data is the simple, or arithmetic averag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the data in Table 1.1, if you add up the returns for large-company stocks from 1926 through 2006, you get about 996 perc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ause there are 81 returns, the average return is about 12.3%.  How do you use this numb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are making a guess about the size of the return for a year selected at random, your best guess is 12.3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rmula for the historical average return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Object 4"/>
              <p:cNvSpPr txBox="1"/>
              <p:nvPr/>
            </p:nvSpPr>
            <p:spPr>
              <a:xfrm>
                <a:off x="1905120" y="4800600"/>
                <a:ext cx="511164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istorical Average Return 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early return</m:t>
                            </m:r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93F18E7B-16EF-4341-A0DA-A1391E79D85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verage Annual Returns for Five Portfolio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27" name="Picture 3" descr="cor29192_cut1b"/>
          <p:cNvPicPr/>
          <p:nvPr/>
        </p:nvPicPr>
        <p:blipFill>
          <a:blip r:embed="rId1"/>
          <a:stretch/>
        </p:blipFill>
        <p:spPr>
          <a:xfrm>
            <a:off x="990720" y="1143000"/>
            <a:ext cx="7386480" cy="51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Learning Objective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To become a wise investor (maybe even one with too much money), you need to kno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calculate the return on an investment using different method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historical returns on various important types of investment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historical risks of various important types of investment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lationship between risk and retur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60D6F6D5-DACC-491B-AB9B-042C47B83D1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BB2DC306-AAC4-41CF-B3F1-179D642BC04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verage Returns: The First Lesson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Risk-free r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ate of return on a riskless, i.e., certain invest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Risk premiu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xtra return on a risky asset over the risk-free rate; i.e., the reward for bearing risk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The First Les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is a reward, on average, for bearing r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looking at Table 1.3, we can see the risk premium earned by large-company stocks was 8.5%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B38D7723-FDB5-4F8B-B702-BADB281109D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Average Annual Risk </a:t>
            </a:r>
            <a:br>
              <a:rPr sz="2400"/>
            </a:b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Premiums for Five Portfolios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33" name="Picture 6" descr="jor82353_tb0103"/>
          <p:cNvPicPr/>
          <p:nvPr/>
        </p:nvPicPr>
        <p:blipFill>
          <a:blip r:embed="rId1"/>
          <a:stretch/>
        </p:blipFill>
        <p:spPr>
          <a:xfrm>
            <a:off x="609480" y="2781360"/>
            <a:ext cx="8153640" cy="174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2F8F6301-9795-411F-8299-0342FD29074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Why Does a Risk Premium Exist?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rn investment theory centers on this ques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fore, we will examine this question many times in the chapters ahe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ever, we can examine part of this question by looking at the dispersion, or spread, of historical return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use two statistical concepts to study this dispersion, or variability: variance and standard deviation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The Second Less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reater the potential reward, the greater the r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5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2248E827-6AAD-4F34-B959-E3E586B17A2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Return Variability: The Statistical Tool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ormula for return variance is ("n" is the number of returns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times, it is useful to use the standard deviation, which is related to variance like th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Object 4"/>
              <p:cNvSpPr txBox="1"/>
              <p:nvPr/>
            </p:nvSpPr>
            <p:spPr>
              <a:xfrm>
                <a:off x="3124080" y="2209680"/>
                <a:ext cx="323244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5"/>
              <p:cNvSpPr txBox="1"/>
              <p:nvPr/>
            </p:nvSpPr>
            <p:spPr>
              <a:xfrm>
                <a:off x="3352680" y="4648320"/>
                <a:ext cx="279576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σ 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12EC4CC2-E13A-42FD-93FA-A8AFE0A0AFF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Return Variability Review and Concept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1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Variance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 common measure of return dispersion.  Sometimes, return dispersion is also call varia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Standard deviation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square root of the vari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metimes the square root is called volatility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dard Deviation is handy because it is in the same "units" as the averag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Normal distrib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ymmetric, bell-shaped frequency distribution that can be described with only an average and a standard devi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a normal distribution describe asset retur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4AB44E1F-EA66-4FB0-9B70-2F6E27D8FD9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Frequency Distribution of Returns on </a:t>
            </a:r>
            <a:br>
              <a:rPr sz="2400"/>
            </a:b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Common Stocks, 1926—2006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47" name="Picture 6" descr="jor82353_0107"/>
          <p:cNvPicPr/>
          <p:nvPr/>
        </p:nvPicPr>
        <p:blipFill>
          <a:blip r:embed="rId1"/>
          <a:stretch/>
        </p:blipFill>
        <p:spPr>
          <a:xfrm>
            <a:off x="1371600" y="1066680"/>
            <a:ext cx="6781680" cy="544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91F05D46-D120-4DA6-87E1-6F6F61AAC27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xample: Calculating Historical Variance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nd Standard Deviation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’s use data from Table 1.1 for Large-Company Stoc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preadsheet below shows us how to calculate the average, the variance, and the standard deviation (the long way…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Object 4"/>
          <p:cNvGraphicFramePr/>
          <p:nvPr/>
        </p:nvGraphicFramePr>
        <p:xfrm>
          <a:off x="1981080" y="3124080"/>
          <a:ext cx="5613480" cy="2998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124080"/>
                    <a:ext cx="5613480" cy="29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069C3513-0B62-4602-B766-496D14A8ED4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Historical Returns, Standard Deviations, and Frequency Distributions: 1926—2006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55" name="Picture 6" descr="jor82353_0108"/>
          <p:cNvPicPr/>
          <p:nvPr/>
        </p:nvPicPr>
        <p:blipFill>
          <a:blip r:embed="rId1"/>
          <a:stretch/>
        </p:blipFill>
        <p:spPr>
          <a:xfrm>
            <a:off x="2362320" y="1295280"/>
            <a:ext cx="4771800" cy="511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6984C8DA-7520-4979-8977-76BE156678D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he Normal Distribution and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Large Company Stock Return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58" name="Picture 6" descr="jor82353_0109"/>
          <p:cNvPicPr/>
          <p:nvPr/>
        </p:nvPicPr>
        <p:blipFill>
          <a:blip r:embed="rId1"/>
          <a:stretch/>
        </p:blipFill>
        <p:spPr>
          <a:xfrm>
            <a:off x="539640" y="2057400"/>
            <a:ext cx="8299440" cy="346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4FB43608-F4E3-4B10-9604-8CB395240B8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Returns on Some “Non-Normal” Day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61" name="Picture 6" descr="jor82353_cut1c"/>
          <p:cNvPicPr/>
          <p:nvPr/>
        </p:nvPicPr>
        <p:blipFill>
          <a:blip r:embed="rId1"/>
          <a:stretch/>
        </p:blipFill>
        <p:spPr>
          <a:xfrm>
            <a:off x="1685880" y="1066680"/>
            <a:ext cx="577224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9BA5437C-245B-405C-8C8A-6E13D2CB018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xample I: Who Wants To Be A Millionaire?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49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retire with One Million Dollars (or more)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? Suppo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invest $300 per mon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investments earn 9% per ye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decide to take advantage of deferring taxes on your investments.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ill take you about 36.25 years. Hmm. Too lo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318F23D2-4596-4726-8ED8-C1FE14C5280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rithmetic Averages versus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Geometric Average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160" y="1225080"/>
            <a:ext cx="830556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rithmetic average return answers the question:  “What was your return in an average year over a particular period?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eometric average return answers the question:  “What was your averag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pound return per ye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ver a particular period?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should you use the arithmetic average and when should you use the geometric averag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, we need to learn how to calculate a geometric averag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Slide Number Placeholder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FE852193-5580-465C-9C18-0544BEBBE29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xample: Calculating a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Geometric Average Return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153280" cy="47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’s use the large-company stock data from Table 1.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preadsheet below shows us how to calculate the geometric average retur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8" name="Object 4"/>
          <p:cNvGraphicFramePr/>
          <p:nvPr/>
        </p:nvGraphicFramePr>
        <p:xfrm>
          <a:off x="2514600" y="3048120"/>
          <a:ext cx="4324320" cy="2841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3048120"/>
                    <a:ext cx="4324320" cy="28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65DE9978-135E-4092-BE30-039922C09F1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rithmetic Averages versus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Geometric Average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160" y="1225440"/>
            <a:ext cx="8305560" cy="51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rithmetic average tells you what you earned in a typical year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eometric average tells you what you actually earned per year on average, compounded annu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9999"/>
                </a:solidFill>
                <a:latin typeface="Arial"/>
              </a:rPr>
              <a:t>When we talk about average returns, we generally are talking about arithmetic average returns.</a:t>
            </a:r>
            <a:br>
              <a:rPr sz="2000"/>
            </a:br>
            <a:r>
              <a:rPr b="0" i="1" lang="en-US" sz="20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purpose of forecasting future retur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arithmetic average is probably "too high" for long forecas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geometric average is probably "too low" for short forecas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981341F2-F7FA-4082-B7DC-BFA9B0ED7BA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Geometric versus Arithmetic Average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75" name="Picture 6" descr="jor82353_tb0104"/>
          <p:cNvPicPr/>
          <p:nvPr/>
        </p:nvPicPr>
        <p:blipFill>
          <a:blip r:embed="rId1"/>
          <a:stretch/>
        </p:blipFill>
        <p:spPr>
          <a:xfrm>
            <a:off x="685800" y="2590920"/>
            <a:ext cx="7815240" cy="229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72587F9D-B827-4194-8DDB-554D76DBFEA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Risk and Return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sk-free rate represents compensation for just waiting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fore, this is often called the </a:t>
            </a:r>
            <a:r>
              <a:rPr b="1" i="1" lang="en-US" sz="2000" spc="-1" strike="noStrike">
                <a:solidFill>
                  <a:srgbClr val="990000"/>
                </a:solidFill>
                <a:latin typeface="Arial"/>
              </a:rPr>
              <a:t>time value of mone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First Les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If we are willing to bear risk, then we can expect to earn a risk premium, at least on averag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Second Les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Further, the more risk we are willing to bear, the greater the expected risk premi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7FFDC4EC-67B6-4A06-8D50-EB53BD35193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Historical Risk and Return Trade-Off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81" name="Picture 6" descr="jor82353_0110"/>
          <p:cNvPicPr/>
          <p:nvPr/>
        </p:nvPicPr>
        <p:blipFill>
          <a:blip r:embed="rId1"/>
          <a:stretch/>
        </p:blipFill>
        <p:spPr>
          <a:xfrm>
            <a:off x="762120" y="1981080"/>
            <a:ext cx="7719840" cy="346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DC1D1A3E-327D-4FE3-8568-89F0A11CF3A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A Look Ahead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text focuses exclusively on financial assets: stocks, bonds, options, and future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will learn how to value different assets and make informed, intelligent decisions about the associated risk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will also learn about different trading mechanisms, and the way that different markets fun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790C99B7-B8A5-4EF6-AC4B-71EF3A28117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Useful Internet Site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153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gi.money.cnn.com/tools/millionaire/millionaire.htm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millionaire link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inance.yahoo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reference for a terrific financial web site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globalfindata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reference for historical financial market data—not free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robertniles.com/sta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reference for easy to read statistics revie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BC8A2DEB-4512-464C-986C-591CCD3F773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hapter Review, I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llar Retu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centage Return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istorical Rec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irst L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onger Range L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loser Loo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Returns: The First Les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ng Average Retu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Returns: The Historical Re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k Premi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93EE1CD6-234B-4DD8-BC66-B924FD10587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hapter Review, II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09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Variability: The Second Les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quency Distributions and Vari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Historical Variance and Standard Dev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Historical Re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l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econd Less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 Returns versus Geometric Retur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isk-Return Trade-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8B035EFC-865E-467D-AC03-746DA09C6A1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xample II: Who Wants To Be A Millionaire?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1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ead, suppo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 invest $500 per mont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r investments earn 12% per yea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 decide to take advantage of deferring taxes on your investm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will take you 25.5 years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istic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$250 is about the size of a new car payment, and perhaps your employer will kick in $250 per 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ver the last 81 years, the S&amp;P 500 Index return was about 12%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Try this calculator: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gi.money.cnn.com/tools/millionaire/millionaire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4D994582-B223-4863-9A38-BA3E640F1CD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 Brief History of Risk and Return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r goal in this chapter is to see what financial market history can tell us about risk and retur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two key observ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, there is a substantial reward, on average, for bearing ris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, greater risks accompany greater retur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5D7A3123-67B8-4D54-8A82-145276CF474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Dollar Return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Total dollar return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return on an investment measured in dollars, accounting for all interim cash flows and capital gains or los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4"/>
              <p:cNvSpPr txBox="1"/>
              <p:nvPr/>
            </p:nvSpPr>
            <p:spPr>
              <a:xfrm>
                <a:off x="1600200" y="3352680"/>
                <a:ext cx="646272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otal Dollar Return on a Stock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Dividend Income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        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Capital Gain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r Loss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DCD78B3F-28E3-47AB-BDB0-00378A7272D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Percent Return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Total percent retur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e return on an investment measured as a percentage of the original investment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otal percent return is the return for </a:t>
            </a:r>
            <a:r>
              <a:rPr b="1" i="1" lang="en-US" sz="1800" spc="-1" strike="noStrike">
                <a:solidFill>
                  <a:srgbClr val="009999"/>
                </a:solidFill>
                <a:latin typeface="Arial"/>
              </a:rPr>
              <a:t>each doll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vested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, you buy a share of sto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4"/>
              <p:cNvSpPr txBox="1"/>
              <p:nvPr/>
            </p:nvSpPr>
            <p:spPr>
              <a:xfrm>
                <a:off x="1295280" y="3962520"/>
                <a:ext cx="7315200" cy="24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ercent Return on a Stock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vidend Income 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Capital Gain 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r Loss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Beginning Stock Price</m:t>
                            </m:r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Percent Return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Total Dollar Return on a Stock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Beginning Stock Price 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 Beginning Investment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90DE3E21-988C-41B2-8FC5-C2FD44AAAB8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xample: Calculating Total Dollar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nd Total Percent Return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se you invested $1,400 in a stock with a share price of $35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one year, the stock price per share is $49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so, for each share, you received a $1.40 dividend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was your total dollar retur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1,400 / $35 = 40 sh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pital gain: 40 shares times $14 = $5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vidends: 40 shares times $1.40 = $5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tal Dollar Return is $560 + $56 = $616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was your total percent retur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vidend yield = $1.40 / $35 = 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pital gain yield = ($49 </a:t>
            </a:r>
            <a:r>
              <a:rPr b="0" lang="en-US" sz="2000" spc="-1" strike="noStrike" baseline="8000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$35) / $35 = 4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tal percentage return = 4% + 40% = 4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6781680" y="4191120"/>
            <a:ext cx="2133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6095880" y="5410080"/>
            <a:ext cx="1981440" cy="916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Note that $616 divided by $1400 is 44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nnualizing Returns, I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533520" y="10666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buy 200 shares of Lowe’s Companies, Inc. at $48 per share. Three months later, you sell these shares for $51 per share. You received no dividends. What is your return? What is your annualized retur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: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+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/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($51 - $48) / $4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.0625 = 6.2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Effective Annual Return (EAR)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turn on an investment expressed on an “annualized” ba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 Question: What is the number of holding periods in a year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A477D842-B679-4C39-B63D-001EC065C2C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5"/>
          <p:cNvSpPr/>
          <p:nvPr/>
        </p:nvSpPr>
        <p:spPr>
          <a:xfrm>
            <a:off x="6248520" y="289548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This return is </a:t>
            </a:r>
            <a:br>
              <a:rPr sz="1800"/>
            </a:b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known as the </a:t>
            </a: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holding period percentage retur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22:58:03Z</dcterms:created>
  <dc:creator>MHE</dc:creator>
  <dc:description/>
  <dc:language>en-US</dc:language>
  <cp:lastModifiedBy>user</cp:lastModifiedBy>
  <dcterms:modified xsi:type="dcterms:W3CDTF">2012-03-25T18:31:39Z</dcterms:modified>
  <cp:revision>52</cp:revision>
  <dc:subject/>
  <dc:title>Slide 1</dc:title>
</cp:coreProperties>
</file>