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12AC-2584-4B5F-8334-1F559F13D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1C3F-ABB7-40DC-95FF-F2B3FEDAD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5C69-FF39-435D-B685-31D38E04C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B978-BDC8-4099-B71E-487B5F5CA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D2E7-CE8F-4AD9-96F5-89685627B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2455-93BD-4C5E-A134-EB4DE15F4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79E0-1B0E-41A3-97BA-6A004620D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33C1-23B1-4D3D-B528-D38E03553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48BF-4FED-4AFE-843E-E72EE2831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AC99-40E0-419C-8930-CD06F8C4B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59D4-F3BA-4F90-B6D8-4EDDF7166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3C5D-1810-481E-95EF-3F481C663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0924-9C07-426D-8E04-EC5664B3C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C895-270C-49A4-9AB4-82EEDAB2B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4CCF-E78C-428E-B4E1-A1B11D92F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0E1A-D9F0-4BB4-AB5C-A9F9125D7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A606-2D7E-48D1-8A56-11C229D32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D9DC-0E63-4805-839C-274CEEAA4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30F3-81D2-4295-B3B6-631C779BF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DBCB-A20C-4158-B17D-BAFA8EB07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6834-B87D-4370-8D2F-CA9293926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ho sells what isn’t his’n, must buy it back, or go to prison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C05B-08D0-43C0-BF0A-0992D760E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FE00-43B4-41AD-90EE-54D8B41A0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AF34-4C24-4FFB-9495-33456D2E3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8CEB-51B1-4C39-BF0A-4AC582C63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76E2-B4B5-4675-B600-BE258E484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258C-91AE-465A-9FED-535F00623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7E75-0C26-4095-A387-5255FA816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9E60-6A7B-40AE-BAC9-F2904C0A0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118D-60F3-42F8-AEB0-74E6507A0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D525-A469-4091-A6EC-A7E6E0A25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4CEC-D0FD-484C-B1A9-86417B740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F07A-8842-470E-AF32-AE36FC82E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23A3-F56F-4FC8-9017-E621101C6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2021-3A81-4B37-A530-8AC4563EE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517C-7DF3-4298-BB27-4B9835B0D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E88B-823D-49DC-B29D-D4820177D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9A8E-80E3-478E-84BE-90A9C62AA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B973-84B2-43DA-9DFA-DC95F7F36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9812-FFD0-420E-A51D-E2F58B3C8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264F-B881-46D4-A32A-7369CDA45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30FE-B38D-41F1-8994-3171087B4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6F95-BBFA-46C0-91E5-9B203B6C4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2486-8103-440A-8587-416589C1D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06C1-2C46-44F2-9339-EB2A943DB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3D24-649F-4489-A82B-19107BC2D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9CAB-0606-4DE4-B6A2-1E5718DF0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8007-D5C9-4D4F-9CFE-F0578DD5A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2179-66ED-4028-A5B1-EF78427DC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E040-6E71-42BB-8F8A-A53C0866B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A4CB-4D12-4A7A-B04D-1AA04F3F2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7E68-3ECE-4ABA-99B1-7199FAF76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6BC4-FD60-4ECE-9E34-0269011D7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E7AD-7BA1-47AE-87CE-8E7328C8A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-</a:t>
            </a:r>
            <a:fld id="{BBBB5FC5-3871-4405-A259-7A87A4A2C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asd.com/" TargetMode="External"/><Relationship Id="rId2" Type="http://schemas.openxmlformats.org/officeDocument/2006/relationships/hyperlink" Target="http://www.bearmarketcentral.com/" TargetMode="External"/><Relationship Id="rId3" Type="http://schemas.openxmlformats.org/officeDocument/2006/relationships/hyperlink" Target="http://www.nasdaq.com/" TargetMode="External"/><Relationship Id="rId4" Type="http://schemas.openxmlformats.org/officeDocument/2006/relationships/hyperlink" Target="http://www.moneycentral.msn.com/" TargetMode="External"/><Relationship Id="rId5" Type="http://schemas.openxmlformats.org/officeDocument/2006/relationships/hyperlink" Target="http://www.sharebuilder.com/" TargetMode="External"/><Relationship Id="rId6" Type="http://schemas.openxmlformats.org/officeDocument/2006/relationships/hyperlink" Target="http://www.buyandhold.com/" TargetMode="External"/><Relationship Id="rId7" Type="http://schemas.openxmlformats.org/officeDocument/2006/relationships/hyperlink" Target="http://www.individual.ml.com/" TargetMode="External"/><Relationship Id="rId8" Type="http://schemas.openxmlformats.org/officeDocument/2006/relationships/hyperlink" Target="http://www.money-rates.com/" TargetMode="External"/><Relationship Id="rId9" Type="http://schemas.openxmlformats.org/officeDocument/2006/relationships/hyperlink" Target="http://finance.yahoo.com/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ying and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lling Secu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6AF62AA-7148-4389-9258-3FB0E92B78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age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h accou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 securities are paid for in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Margin accou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, subject to limits, securities can be bought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ld 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cre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105520" y="4952880"/>
            <a:ext cx="3504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more on selling short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748CC53-FF65-4828-928E-67D2BCA601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 purc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ortion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value of an investment that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not borro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urse, the portion that is borrowed incurs an interest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terest is based on the broker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ll money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ll money rate is the rate brokers pay to borrow money to lend to customers in their margin acc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5F01295-E11F-4AE6-97A7-3622551DBD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Margin Accounts,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Balance Shee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4038480"/>
          <a:ext cx="8229600" cy="2370240"/>
        </p:xfrm>
        <a:graphic>
          <a:graphicData uri="http://schemas.openxmlformats.org/drawingml/2006/table">
            <a:tbl>
              <a:tblPr/>
              <a:tblGrid>
                <a:gridCol w="2639880"/>
                <a:gridCol w="1241280"/>
                <a:gridCol w="2976840"/>
                <a:gridCol w="137160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 Shares, P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762120" y="1219320"/>
            <a:ext cx="79246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buy 1,000 Pfizer shares at $24 per shar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put up $18,000 and borrow the res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ount borrowed = $24,000 – $18,000 = $6,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gin = $18,000 / $24,000 =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B5603E4-6EF8-469F-96A3-A2B085AABD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argin purchase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inimum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ust be supplied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alled the initial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argin amount tha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ust be present at all 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margin accou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drops below the 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broker can demand more funds. This is known as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FEA08DE-B474-4692-BBAF-691AD426A0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4038480"/>
          <a:ext cx="8001000" cy="2398680"/>
        </p:xfrm>
        <a:graphic>
          <a:graphicData uri="http://schemas.openxmlformats.org/drawingml/2006/table">
            <a:tbl>
              <a:tblPr/>
              <a:tblGrid>
                <a:gridCol w="2567160"/>
                <a:gridCol w="1206360"/>
                <a:gridCol w="2855880"/>
                <a:gridCol w="137160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50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533520" y="1143000"/>
            <a:ext cx="83055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margin account requir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itial margin of 50%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aintenance margin of 30%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hare in Miller Moore Equine Enterprises (WHOA) is selling for $5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$20,000, and you want to buy as much WHOA as you ca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buy up to $20,000 / 0.5 = $40,000 worth of WH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AFD8244-AC6C-455B-BBE4-481A7E2D80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3733920"/>
          <a:ext cx="7772400" cy="2398680"/>
        </p:xfrm>
        <a:graphic>
          <a:graphicData uri="http://schemas.openxmlformats.org/drawingml/2006/table">
            <a:tbl>
              <a:tblPr/>
              <a:tblGrid>
                <a:gridCol w="2493720"/>
                <a:gridCol w="1171800"/>
                <a:gridCol w="2609640"/>
                <a:gridCol w="149724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35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228600" y="129528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8"/>
          <p:cNvSpPr/>
          <p:nvPr/>
        </p:nvSpPr>
        <p:spPr>
          <a:xfrm>
            <a:off x="762120" y="1447920"/>
            <a:ext cx="769608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your purchase, shares of WHOA fall to $35. (Woe!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margin = $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8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$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8,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28.6%  &lt;  30%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, you are subject to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argin c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F3E1DBC-826C-4923-BF75-82725EA7C6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$30,000 in a margin account, 60% initial margin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buy $50,000 of stock with this account (why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orrowing rate from your broker is 6.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you buy 1,000 shares of Coca-Cola (KO), for $50/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no dividends, and that your borrowing rate is still 6.00%, what is your return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is selling for $60 per shar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stock is selling for $60 per share, but you did not borrow money from your brok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FA011C4-5728-4B74-85A6-7F4E79D868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 is selling for $6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worth $60,0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owe 6% on the $20,000 you borrowe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1,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pay off the loan with interest, your account balance is: $60,000 – $21,200 = $38,8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8,800 / $30,000 = 29.33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stock was selling for $40 per share instead of $60 per share?  What is your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CB4345D-D06F-4628-AF25-C3FF6C0AA8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a-Cola stock is selling for $60 per share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ut you did not borrow from your brok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, which means you were able to buy $30,000 / $50 = 600 sh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now worth $36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6,000 / $30,000 = 20.0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is selling for $40 per share instead of $60 per share.  What is your return in this c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602B363-531B-46C6-B965-CC768CF9DF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se you want to buy 300 shares of Pepsico, Inc. (PEP) at $55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ost: $16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only $9,900—so you must borrow $6,600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itial margin is $9,900/$16,500 = 60%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ppose your maintenance margin is 40%. At what price will you receive a margin c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4AB95C4-DD35-4D03-B4E0-1E4EB77D98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685800" y="1447920"/>
            <a:ext cx="7924680" cy="2110680"/>
            <a:chOff x="685800" y="1447920"/>
            <a:chExt cx="7924680" cy="2110680"/>
          </a:xfrm>
        </p:grpSpPr>
        <p:sp>
          <p:nvSpPr>
            <p:cNvPr id="171" name="Text Box 3"/>
            <p:cNvSpPr/>
            <p:nvPr/>
          </p:nvSpPr>
          <p:spPr>
            <a:xfrm>
              <a:off x="685800" y="1447920"/>
              <a:ext cx="792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’t Gamble! Take all your savings and buy some good stock and hold it till it goes up.  If it don’t go up, don’t buy it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5338080" y="3098880"/>
              <a:ext cx="19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ll Ro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6A8C629-DDDC-4281-B285-D16CA918B8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 Answer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301400"/>
            <a:ext cx="80010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happen when the price of Pepsico, Inc. drops to $36.67.  How so? W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1295280" y="2362320"/>
                <a:ext cx="6782040" cy="39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intenance Margin Level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ber of Shares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den>
                        </m:f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lving  for  the  critical  stock  price,  P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,  results  in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Maintenance Margin Level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 here,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6,6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83F58D3-97D2-45FA-94B9-F89D94535E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Annualizing Retur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n a Margin Purchase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1,000 shares of Costco (COST) at $60 per sha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initial margin is 50%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orrow at the 9 percent call money rate plus 2 perce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Costco (COST) 3 months later for $63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ere no dividends paid (and suppose the prices above are net of commissions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your holding period percentage return and your 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0C20260-FD4F-4D42-ADDC-0A278E4584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First, you have to repay the 3-month loan, so: t = (3/12 = .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Amount Borrow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interest rate per yea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.1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1.026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Sale Proceeds = Cash from Sale – Amount Repai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= $63,000 – 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$32,207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Profit = Your Sale Proceeds – Your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2,207.10 - $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2,207.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8"/>
          <p:cNvGraphicFramePr/>
          <p:nvPr/>
        </p:nvGraphicFramePr>
        <p:xfrm>
          <a:off x="533520" y="106668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C6BB5BA-F79F-423F-AD11-3C357BC663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58" name="Group 8"/>
          <p:cNvGrpSpPr/>
          <p:nvPr/>
        </p:nvGrpSpPr>
        <p:grpSpPr>
          <a:xfrm>
            <a:off x="838080" y="1676520"/>
            <a:ext cx="7696440" cy="4557600"/>
            <a:chOff x="838080" y="1676520"/>
            <a:chExt cx="7696440" cy="4557600"/>
          </a:xfrm>
        </p:grpSpPr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838080" y="1676520"/>
                  <a:ext cx="7696440" cy="32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Holding Period Percentage Return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3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 - $30,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EAR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Holding Period Percentage Return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85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So your EAR is about 3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5%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Text Box 7"/>
            <p:cNvSpPr/>
            <p:nvPr/>
          </p:nvSpPr>
          <p:spPr>
            <a:xfrm>
              <a:off x="5105520" y="5410080"/>
              <a:ext cx="335268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ote that there are 12/3 = 4 three-month holding periods in a year. Therefore, m = 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1522479-DE9D-4AF0-BA44-2E8DB4F0D4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ypothecation and Street Name Registr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ypothe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ct of pledging securities as a collateral against a lo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edge is needed so that the securities can be sold by the broker if the customer is unwilling or unable to meet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reet name registr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arrangement under which a broker is the registered owner of a security. (You, as the account holder are the “beneficial owner.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84D6E5D-2394-4A21-9548-CA72FC822F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accounts can also be differentiated by the ways they are manag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dviso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one else to make buy and sell decisions on your behalf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Wrap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ll the expenses associated with your account are “wrapped” into a single f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Discretiona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roker to trade for you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management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rovide for complete money management, including check-writing privileges, credit cards, and margin lo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D71A75A-E41C-4F9E-837D-5F0CED59CD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vest in financial securities, you do not need an account with a brok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lternative is to buy securities directly from the issu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alternative is to invest in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utual f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38ADA6E-EC64-4962-B737-9F0F79151C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5333760"/>
            <a:ext cx="7391520" cy="725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that an investor who buys and owns shares of stock is said to be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the stock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to have a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posi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838080" y="12193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rt S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ale in which the seller does not actually own the security that is s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914400" y="2590920"/>
            <a:ext cx="7543800" cy="2197080"/>
            <a:chOff x="914400" y="2590920"/>
            <a:chExt cx="7543800" cy="2197080"/>
          </a:xfrm>
        </p:grpSpPr>
        <p:grpSp>
          <p:nvGrpSpPr>
            <p:cNvPr id="275" name="Group 15"/>
            <p:cNvGrpSpPr/>
            <p:nvPr/>
          </p:nvGrpSpPr>
          <p:grpSpPr>
            <a:xfrm>
              <a:off x="914400" y="2590920"/>
              <a:ext cx="7543800" cy="1714320"/>
              <a:chOff x="914400" y="2590920"/>
              <a:chExt cx="7543800" cy="1714320"/>
            </a:xfrm>
          </p:grpSpPr>
          <p:sp>
            <p:nvSpPr>
              <p:cNvPr id="276" name="Rectangle 5"/>
              <p:cNvSpPr/>
              <p:nvPr/>
            </p:nvSpPr>
            <p:spPr>
              <a:xfrm>
                <a:off x="9144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rr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e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6"/>
              <p:cNvSpPr/>
              <p:nvPr/>
            </p:nvSpPr>
            <p:spPr>
              <a:xfrm>
                <a:off x="29862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ll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 th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"/>
              <p:cNvSpPr/>
              <p:nvPr/>
            </p:nvSpPr>
            <p:spPr>
              <a:xfrm>
                <a:off x="2427120" y="3448080"/>
                <a:ext cx="55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9"/>
              <p:cNvSpPr/>
              <p:nvPr/>
            </p:nvSpPr>
            <p:spPr>
              <a:xfrm>
                <a:off x="510552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0"/>
              <p:cNvSpPr/>
              <p:nvPr/>
            </p:nvSpPr>
            <p:spPr>
              <a:xfrm>
                <a:off x="708660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tur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1"/>
              <p:cNvSpPr/>
              <p:nvPr/>
            </p:nvSpPr>
            <p:spPr>
              <a:xfrm>
                <a:off x="6477120" y="3448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13"/>
            <p:cNvSpPr/>
            <p:nvPr/>
          </p:nvSpPr>
          <p:spPr>
            <a:xfrm>
              <a:off x="1523880" y="44197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4"/>
            <p:cNvSpPr/>
            <p:nvPr/>
          </p:nvSpPr>
          <p:spPr>
            <a:xfrm>
              <a:off x="5410080" y="441972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Fu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001C18E-105A-4EF5-942E-D28031A898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9977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long position benefits from price in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today at $34, and sell later at $57, you prof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y low, sell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short position benefits from price de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today at $83, and buy later at $27, you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l high, buy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261A946-87AF-4EE4-BEB2-8D5D7C8A55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hort 100 shares of Texas Instruments (TXN) at $30 per shar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broker has a 50% initial margin and a 40% maintenance margin on short sale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of stock borrowed that will be sold short is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0 × $100 = $3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2120" y="3657600"/>
          <a:ext cx="7696080" cy="2316240"/>
        </p:xfrm>
        <a:graphic>
          <a:graphicData uri="http://schemas.openxmlformats.org/drawingml/2006/table">
            <a:tbl>
              <a:tblPr/>
              <a:tblGrid>
                <a:gridCol w="2612880"/>
                <a:gridCol w="1270080"/>
                <a:gridCol w="2469960"/>
                <a:gridCol w="1343160"/>
              </a:tblGrid>
              <a:tr h="91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4DA84A4-1AE7-45EB-A0DD-E17D8EFFA6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sell yourself short. Instead, learn about these key investment subjec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various types of securities brokers and brokerage accoun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How to calculate initial and maintenance margi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workings of short sal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The importance of investor objectives, constraints, and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E659ED6-6B95-4D07-9B53-FD5D83434B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 stock price falls to $2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d at $30, value today is $20, so you are "ahead" by $10 per share, or $1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new margin: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3733920"/>
          <a:ext cx="8001000" cy="2361960"/>
        </p:xfrm>
        <a:graphic>
          <a:graphicData uri="http://schemas.openxmlformats.org/drawingml/2006/table">
            <a:tbl>
              <a:tblPr/>
              <a:tblGrid>
                <a:gridCol w="2716200"/>
                <a:gridCol w="1247760"/>
                <a:gridCol w="2716200"/>
                <a:gridCol w="1320840"/>
              </a:tblGrid>
              <a:tr h="798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E263759-5335-4B34-8D63-6782351161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 stock price rises to $4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old short at $30, stock price is now $40, you are "behind" by $10 per share, or $1,000.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(He who sells what isn’t his’n, must buy it back—or go to priso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: new margin =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.5%  &lt;  40% Therefore, you are subject to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62120" y="3657600"/>
          <a:ext cx="7848360" cy="2314440"/>
        </p:xfrm>
        <a:graphic>
          <a:graphicData uri="http://schemas.openxmlformats.org/drawingml/2006/table">
            <a:tbl>
              <a:tblPr/>
              <a:tblGrid>
                <a:gridCol w="2663640"/>
                <a:gridCol w="1224000"/>
                <a:gridCol w="2521080"/>
                <a:gridCol w="143964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D2AE29D-62D2-4471-9878-7DE21B9574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re on Short Sal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ort inter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mount of common stock held in short positio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actice, short selling is quite common and a substantial volume of stock sales are initiated by short seller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with a short position, you may lose more than your total investment, as there is no theoretical limit to how high the stock price may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7E0F931-4D3E-4693-BA44-4B0A2616C3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iggest Short Positio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(from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Wall Street Journal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4" name="Picture 8" descr="scl1"/>
          <p:cNvPicPr/>
          <p:nvPr/>
        </p:nvPicPr>
        <p:blipFill>
          <a:blip r:embed="rId1"/>
          <a:stretch/>
        </p:blipFill>
        <p:spPr>
          <a:xfrm>
            <a:off x="905040" y="1192320"/>
            <a:ext cx="76294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C53A66A-E7F0-4F6D-B85C-9EB03F018C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Question: Why invest at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invest today to have more tomo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is simply deferred consum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hoose to wait because we want more to spend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ormulating investment objectives, the individual must balance return objectives with risk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risk and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how much risk they can han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1B792FE-542E-4FF4-89DC-1C45735193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Strategies and Polic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30120"/>
            <a:ext cx="8305560" cy="53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nvestment managem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you manage your investments yourself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rket timin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hould you try to buy and sell in anticipation of the future direction of the marke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alloca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ow should you distribute your investment funds across the different classes of assets?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curity selec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ithin each class, which specific securities should you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8F7E393-A121-4C76-B917-82176E0346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or Constrai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Resourc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is the minimum sum needed? What are the associated cost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oriz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do you need the mone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iquid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w high is the possibility that you need to sell the asset quickl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ax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tax bracket are you i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pecial circumstanc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your company provide any incentive? What are your regulatory and legal restri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D57E452-565C-4922-982A-E53DF4288A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Risk Tolerance Quiz in the textboo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core did you g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jor82353_tb0201"/>
          <p:cNvPicPr/>
          <p:nvPr/>
        </p:nvPicPr>
        <p:blipFill>
          <a:blip r:embed="rId1"/>
          <a:stretch/>
        </p:blipFill>
        <p:spPr>
          <a:xfrm>
            <a:off x="685800" y="3200400"/>
            <a:ext cx="79246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A287384-85D4-4505-8B01-E5A69B3AE9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your score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jor82353_tb0202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0D2F7D5-641C-4880-935C-B107114615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2304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inra.org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dispute re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earmarketcentra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sel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asdaq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oneycentral.msn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building a portfolio—search the site for “Build your first stock portfoli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harebuilder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opening a brokerage accou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uyandhold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other reference for opening a brokerage acc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individual.m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isk tolerance questionnaire from Merrill Lyn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money-rates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current broker call money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a reference for short sales on particular stock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3FB371B-9114-40C3-87FD-5A71BAB389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covers the basics of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gin by describing how you go about buying and selling securities, such as stocks and b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we outline some important considerations and constraints to keep in mind as you get more involved in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B5EA77D-05EE-492C-9108-3B80A637C8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ing a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Investors Protection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-Customer Rel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rage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te on Annualizing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cation and Street Name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ccou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2BA2E6A-59DC-4360-9D89-3F85C820F1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s of a Short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etai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 Objectives, Constraints,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nd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or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62ABCC9-FEE7-4609-A243-4C0A24D033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47920" y="1752480"/>
            <a:ext cx="6095880" cy="3886200"/>
            <a:chOff x="1447920" y="1752480"/>
            <a:chExt cx="6095880" cy="3886200"/>
          </a:xfrm>
        </p:grpSpPr>
        <p:sp>
          <p:nvSpPr>
            <p:cNvPr id="182" name="Line 4"/>
            <p:cNvSpPr/>
            <p:nvPr/>
          </p:nvSpPr>
          <p:spPr>
            <a:xfrm>
              <a:off x="4038480" y="46483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5029200" y="2971800"/>
              <a:ext cx="2438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Buy 100 Sha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Disn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$33 per sh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5029200" y="4572000"/>
              <a:ext cx="25146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 $6,650 C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,300 Stoc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1523880" y="4267080"/>
              <a:ext cx="25146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) Pay Commissio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 $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1447920" y="3048120"/>
              <a:ext cx="25905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Deposit $1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o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6248520" y="2438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2819520" y="19810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4876920" y="175248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Open a brok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trading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2819520" y="19810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6248520" y="3886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4572000" y="220968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4572000" y="22096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B84BA10-BFF3-466F-923E-FC1F5DEC65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s are now divided into three group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-service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-discount brok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hree groups can be distinguished by the level of service provided, as well as the level of commissions char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E0FD586-4623-4E32-9A9D-67B0916696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30824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brokerage industry becomes more competitive, the differences among broker types continues to blu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important change is the rapid growth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so known a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e-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yber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investing has really changed the brokerage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shing brokerage com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investm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place buy and sell orders over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E969425-AE05-4A74-856D-5C6DFE0C45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ies Investor Protection Corporation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curities Investor Protection Corporation (SIP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fund covering investors’ brokerage accounts when member firms go bankrupt or experience financial difficulti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brokerage firms belong to the SIPC, which insures each account for up to $500,000 in cash and securities, with a $100,000 cash maximu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ortant: The SIPC does not guarantee the value of any security (unlike FDIC covera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ther, SIPC protects whatever amount of cash and securities that were in your account, in the event of fraud or other fail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C5CE502-E024-4C26-80AC-7ADF94166E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-Customer Relatio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everal important things to remember  when you deal with a brok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advice you receive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uarante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broker works as your agent and has a legal duty to act in your best inter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brokerage firms make profits from brokerage commission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ccount agreement will probably specify that any disputes will be settled by arbitration and that the arbitration is final and bi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2:05Z</dcterms:modified>
  <cp:revision>41</cp:revision>
  <dc:subject/>
  <dc:title>Slide 1</dc:title>
</cp:coreProperties>
</file>