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74F7-8D71-401B-8168-2727BE21E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B51B-D53D-41C6-BD85-CC1EC030D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23B2-BD66-439D-987C-B90FCCF6C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528F-3567-4747-85F2-DAE157F67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3C04-3027-43DF-B510-01B04FAE1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E397-564B-446A-AB7D-3B7686645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AFBA-D85D-42E2-A232-F0259890B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5096-4D57-499C-8A5D-99D04196F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0C4D-1144-44CE-8ECF-D6E9E2266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2229-1D47-4DD8-9A5C-FD6C58ABA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6C54-D986-4206-83B7-DE3F16F24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C4BB-FEE8-4F19-90FB-1B719543B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8D75-891D-4EEE-93D2-0180921DA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CDFC-2FDF-4BCC-BC00-4978E2226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7A31-22CC-405B-AE60-85E8F1080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9160-D2C1-47E6-A074-60A1719D0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EED9-4D98-4E89-B4F1-50D1A49AF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71A7-79BA-4BEC-8629-8F91E0F6E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1F1A-923F-47AC-B014-D768FAF35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CE76-2355-4136-8EE1-A7C59FF1B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CA0B-1AD8-44FB-BF05-926EC95CF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ho sells what isn’t his’n, must buy it back, or go to prison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B398-D422-4272-B37E-FF0484F7A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9160-D1D5-4EE5-9B5B-5EB823FBD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0BB4-626E-4BBA-B230-F3A111968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0E4E-D8A9-4978-9E67-81C1094EE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401B-C6BC-40F2-9D9F-14639E8C0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9924-F08A-436D-99E5-EB8D65556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1932-72F7-47C3-BD56-4F4630F79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F12A-A7DA-4C09-89E9-F21210E14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CAC9-1BFF-479C-A0C1-416750DDE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DC12-F30B-4C5F-9615-2D599FF48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2BD7-9EA4-43A6-8F1C-805630E20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90CA-F0E5-46C5-8402-8C83C8A57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82F1-C6FB-43F5-A03C-5DBB2DE0A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9D4B-E9C5-450D-9C00-0393D9E4E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0BFB-9E7C-4492-8C52-6D7400B25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F4FA-9D6C-4799-A4D7-B755C397A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F9FE-6A69-4D4E-A96E-5D99B0923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45F4-7E93-4C33-8AE6-5D25859AC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EA05-2B8D-4865-9464-5AA6324D1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604C-C0AC-467E-A120-D424D3A32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0502-9A48-4574-A511-5291C474E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9334-A04B-42A9-8E0D-75B11A008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F79C6-2C2F-4F5D-A140-28D5D3585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47B6-A991-4702-AEF3-DD5E88E76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AABD-504C-43DF-A0B2-F05E40323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B4C4-6377-48FB-8FDB-37FF95641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9233-B44E-4AA5-AC69-B48F8C052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A784-0858-4D93-9251-01B493611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AC95-91D3-4ED6-8830-317C0B4DE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2BC7-F494-45F4-AE0E-9584A6EAE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AB12-489C-4D30-9CB3-6D4357F9D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4A36-C1CA-45C2-8BCA-4776AA1AF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14B0-FC91-4DDE-8BC1-7888BBB39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-</a:t>
            </a:r>
            <a:fld id="{33F2BFF8-B6FC-4207-B0CC-4C302C4FFB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asd.com/" TargetMode="External"/><Relationship Id="rId2" Type="http://schemas.openxmlformats.org/officeDocument/2006/relationships/hyperlink" Target="http://www.bearmarketcentral.com/" TargetMode="External"/><Relationship Id="rId3" Type="http://schemas.openxmlformats.org/officeDocument/2006/relationships/hyperlink" Target="http://www.nasdaq.com/" TargetMode="External"/><Relationship Id="rId4" Type="http://schemas.openxmlformats.org/officeDocument/2006/relationships/hyperlink" Target="http://www.moneycentral.msn.com/" TargetMode="External"/><Relationship Id="rId5" Type="http://schemas.openxmlformats.org/officeDocument/2006/relationships/hyperlink" Target="http://www.sharebuilder.com/" TargetMode="External"/><Relationship Id="rId6" Type="http://schemas.openxmlformats.org/officeDocument/2006/relationships/hyperlink" Target="http://www.buyandhold.com/" TargetMode="External"/><Relationship Id="rId7" Type="http://schemas.openxmlformats.org/officeDocument/2006/relationships/hyperlink" Target="http://www.individual.ml.com/" TargetMode="External"/><Relationship Id="rId8" Type="http://schemas.openxmlformats.org/officeDocument/2006/relationships/hyperlink" Target="http://www.money-rates.com/" TargetMode="External"/><Relationship Id="rId9" Type="http://schemas.openxmlformats.org/officeDocument/2006/relationships/hyperlink" Target="http://finance.yahoo.com/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ying and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lling Secu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2A2F679-1F22-448E-BF9E-8463BE0E82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age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sh accou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 securities are paid for in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Margin accou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, subject to limits, securities can be bought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ld 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cre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105520" y="4952880"/>
            <a:ext cx="3504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more on selling short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25EB61F-48A6-4DD7-9B4A-80DC30A476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 purc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portion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value of an investment that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not borrow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urse, the portion that is borrowed incurs an interest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terest is based on the broker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ll money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ll money rate is the rate brokers pay to borrow money to lend to customers in their margin acc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D27FD5A-6A4B-4A6F-AD9A-6D9B7670E9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Margin Accounts,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Balance Shee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520" y="4038480"/>
          <a:ext cx="8229600" cy="2370240"/>
        </p:xfrm>
        <a:graphic>
          <a:graphicData uri="http://schemas.openxmlformats.org/drawingml/2006/table">
            <a:tbl>
              <a:tblPr/>
              <a:tblGrid>
                <a:gridCol w="2639880"/>
                <a:gridCol w="1241280"/>
                <a:gridCol w="2976840"/>
                <a:gridCol w="137160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 Shares, P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762120" y="1219320"/>
            <a:ext cx="79246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buy 1,000 Pfizer shares at $24 per shar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put up $18,000 and borrow the res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ount borrowed = $24,000 – $18,000 = $6,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gin = $18,000 / $24,000 =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D71BD16-66E6-43B2-A74F-3B743C1728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argin purchase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inimum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must be supplied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alled the initial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margin amount that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ust be present at all ti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margin accou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drops below the 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broker can demand more funds. This is known as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F010A9A-C064-4C5D-8D35-0179C7B15A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4038480"/>
          <a:ext cx="8001000" cy="2398680"/>
        </p:xfrm>
        <a:graphic>
          <a:graphicData uri="http://schemas.openxmlformats.org/drawingml/2006/table">
            <a:tbl>
              <a:tblPr/>
              <a:tblGrid>
                <a:gridCol w="2567160"/>
                <a:gridCol w="1206360"/>
                <a:gridCol w="2855880"/>
                <a:gridCol w="137160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50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533520" y="1143000"/>
            <a:ext cx="83055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margin account requir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initial margin of 50%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aintenance margin of 30%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hare in Miller Moore Equine Enterprises (WHOA) is selling for $5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$20,000, and you want to buy as much WHOA as you ca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buy up to $20,000 / 0.5 = $40,000 worth of WHO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704669A-5E65-4B6A-92A0-74302799B3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3733920"/>
          <a:ext cx="7772400" cy="2398680"/>
        </p:xfrm>
        <a:graphic>
          <a:graphicData uri="http://schemas.openxmlformats.org/drawingml/2006/table">
            <a:tbl>
              <a:tblPr/>
              <a:tblGrid>
                <a:gridCol w="2493720"/>
                <a:gridCol w="1171800"/>
                <a:gridCol w="2609640"/>
                <a:gridCol w="149724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35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228600" y="129528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8"/>
          <p:cNvSpPr/>
          <p:nvPr/>
        </p:nvSpPr>
        <p:spPr>
          <a:xfrm>
            <a:off x="762120" y="1447920"/>
            <a:ext cx="769608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your purchase, shares of WHOA fall to $35. (Woe!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margin = $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8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 $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28,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28.6%  &lt;  30%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, you are subject to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argin c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4CD46AF-D0B3-4247-B56E-FE6E0EBC77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$30,000 in a margin account, 60% initial margin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buy $50,000 of stock with this account (why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orrowing rate from your broker is 6.0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you buy 1,000 shares of Coca-Cola (KO), for $50/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no dividends, and that your borrowing rate is still 6.00%, what is your return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is selling for $60 per shar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stock is selling for $60 per share, but you did not borrow money from your brok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01006EA-DC16-4295-8938-1D901B7B25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 is selling for $6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worth $60,0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owe 6% on the $20,000 you borrowe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1,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pay off the loan with interest, your account balance is: $60,000 – $21,200 = $38,8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8,800 / $30,000 = 29.33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stock was selling for $40 per share instead of $60 per share?  What is your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9C1CBE6-1501-41E6-B53C-1B1B3494CE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ca-Cola stock is selling for $60 per share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ut you did not borrow from your brok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, which means you were able to buy $30,000 / $50 = 600 sh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now worth $36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6,000 / $30,000 = 20.0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is selling for $40 per share instead of $60 per share.  What is your return in this c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E26B81B-5FCD-41BF-A5E3-4139E05493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se you want to buy 300 shares of Pepsico, Inc. (PEP) at $55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cost: $16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only $9,900—so you must borrow $6,600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itial margin is $9,900/$16,500 = 60%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ppose your maintenance margin is 40%. At what price will you receive a margin c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2BD53B4-4661-44D0-A4C1-88685B6602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685800" y="1447920"/>
            <a:ext cx="7924680" cy="2110680"/>
            <a:chOff x="685800" y="1447920"/>
            <a:chExt cx="7924680" cy="2110680"/>
          </a:xfrm>
        </p:grpSpPr>
        <p:sp>
          <p:nvSpPr>
            <p:cNvPr id="171" name="Text Box 3"/>
            <p:cNvSpPr/>
            <p:nvPr/>
          </p:nvSpPr>
          <p:spPr>
            <a:xfrm>
              <a:off x="685800" y="1447920"/>
              <a:ext cx="792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n’t Gamble! Take all your savings and buy some good stock and hold it till it goes up.  If it don’t go up, don’t buy it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"/>
            <p:cNvSpPr/>
            <p:nvPr/>
          </p:nvSpPr>
          <p:spPr>
            <a:xfrm>
              <a:off x="5338080" y="3098880"/>
              <a:ext cx="19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ll Ro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1EF3FB7-10FA-4D3C-98D9-8CD2074614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 Answer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301400"/>
            <a:ext cx="80010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happen when the price of Pepsico, Inc. drops to $36.67.  How so? W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1295280" y="2362320"/>
                <a:ext cx="6782040" cy="39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intenance Margin Level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mber of Shares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</m:den>
                        </m:f>
                      </m:e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lving  for  the  critical  stock  price,  P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,  results  in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Maintenance Margin Level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o here,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6,6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9312C72-F3DE-48DE-AC18-66895FB069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Annualizing Retur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n a Margin Purchase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1,000 shares of Costco (COST) at $60 per sha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initial margin is 50%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orrow at the 9 percent call money rate plus 2 perce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Costco (COST) 3 months later for $63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ere no dividends paid (and suppose the prices above are net of commissions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your holding period percentage return and your 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4C62E1E-C6FD-414A-8E8E-F98EBFF6F8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First, you have to repay the 3-month loan, so: t = (3/12 = .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Amount Borrow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interest rate per yea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.1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1.026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Sale Proceeds = Cash from Sale – Amount Repai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= $63,000 – 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$32,207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Profit = Your Sale Proceeds – Your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2,207.10 - $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2,207.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8"/>
          <p:cNvGraphicFramePr/>
          <p:nvPr/>
        </p:nvGraphicFramePr>
        <p:xfrm>
          <a:off x="533520" y="106668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27B688A-C44F-4CF9-8292-1A2A6B3F57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58" name="Group 8"/>
          <p:cNvGrpSpPr/>
          <p:nvPr/>
        </p:nvGrpSpPr>
        <p:grpSpPr>
          <a:xfrm>
            <a:off x="838080" y="1676520"/>
            <a:ext cx="7696440" cy="4557600"/>
            <a:chOff x="838080" y="1676520"/>
            <a:chExt cx="7696440" cy="4557600"/>
          </a:xfrm>
        </p:grpSpPr>
        <mc:AlternateContent>
          <mc:Choice xmlns:a14="http://schemas.microsoft.com/office/drawing/2010/main" Requires="a14">
            <p:sp>
              <p:nvSpPr>
                <p:cNvPr id="259" name="Object 4"/>
                <p:cNvSpPr txBox="1"/>
                <p:nvPr/>
              </p:nvSpPr>
              <p:spPr>
                <a:xfrm>
                  <a:off x="838080" y="1676520"/>
                  <a:ext cx="7696440" cy="32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Holding Period Percentage Return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3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 - $30,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EAR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Holding Period Percentage Return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85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So your EAR is about 3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5%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Text Box 7"/>
            <p:cNvSpPr/>
            <p:nvPr/>
          </p:nvSpPr>
          <p:spPr>
            <a:xfrm>
              <a:off x="5105520" y="5410080"/>
              <a:ext cx="335268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ote that there are 12/3 = 4 three-month holding periods in a year. Therefore, m = 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BD465AE-33BE-4BB4-B8A2-366536BFAE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ypothecation and Street Name Registr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ypothe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ct of pledging securities as a collateral against a lo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ledge is needed so that the securities can be sold by the broker if the customer is unwilling or unable to meet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reet name registra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arrangement under which a broker is the registered owner of a security. (You, as the account holder are the “beneficial owner.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37C86B0-C623-4C72-9625-7CE3614559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ng accounts can also be differentiated by the ways they are manag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dviso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one else to make buy and sell decisions on your behalf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Wrap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ll the expenses associated with your account are “wrapped” into a single f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Discretiona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roker to trade for you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management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rovide for complete money management, including check-writing privileges, credit cards, and margin lo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FDC84D9-CB72-41EC-8B9A-B297BB40C4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vest in financial securities, you do not need an account with a brok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lternative is to buy securities directly from the issu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alternative is to invest in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utual f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65694DA-B990-4291-8844-1444AA707E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5333760"/>
            <a:ext cx="7391520" cy="725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that an investor who buys and owns shares of stock is said to be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the stock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to have a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posi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838080" y="12193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rt S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ale in which the seller does not actually own the security that is s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914400" y="2590920"/>
            <a:ext cx="7543800" cy="2197080"/>
            <a:chOff x="914400" y="2590920"/>
            <a:chExt cx="7543800" cy="2197080"/>
          </a:xfrm>
        </p:grpSpPr>
        <p:grpSp>
          <p:nvGrpSpPr>
            <p:cNvPr id="275" name="Group 15"/>
            <p:cNvGrpSpPr/>
            <p:nvPr/>
          </p:nvGrpSpPr>
          <p:grpSpPr>
            <a:xfrm>
              <a:off x="914400" y="2590920"/>
              <a:ext cx="7543800" cy="1714320"/>
              <a:chOff x="914400" y="2590920"/>
              <a:chExt cx="7543800" cy="1714320"/>
            </a:xfrm>
          </p:grpSpPr>
          <p:sp>
            <p:nvSpPr>
              <p:cNvPr id="276" name="Rectangle 5"/>
              <p:cNvSpPr/>
              <p:nvPr/>
            </p:nvSpPr>
            <p:spPr>
              <a:xfrm>
                <a:off x="9144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rr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e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6"/>
              <p:cNvSpPr/>
              <p:nvPr/>
            </p:nvSpPr>
            <p:spPr>
              <a:xfrm>
                <a:off x="29862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ll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 th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"/>
              <p:cNvSpPr/>
              <p:nvPr/>
            </p:nvSpPr>
            <p:spPr>
              <a:xfrm>
                <a:off x="2427120" y="3448080"/>
                <a:ext cx="55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9"/>
              <p:cNvSpPr/>
              <p:nvPr/>
            </p:nvSpPr>
            <p:spPr>
              <a:xfrm>
                <a:off x="510552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0"/>
              <p:cNvSpPr/>
              <p:nvPr/>
            </p:nvSpPr>
            <p:spPr>
              <a:xfrm>
                <a:off x="708660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tur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1"/>
              <p:cNvSpPr/>
              <p:nvPr/>
            </p:nvSpPr>
            <p:spPr>
              <a:xfrm>
                <a:off x="6477120" y="34480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13"/>
            <p:cNvSpPr/>
            <p:nvPr/>
          </p:nvSpPr>
          <p:spPr>
            <a:xfrm>
              <a:off x="1523880" y="441972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4"/>
            <p:cNvSpPr/>
            <p:nvPr/>
          </p:nvSpPr>
          <p:spPr>
            <a:xfrm>
              <a:off x="5410080" y="441972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Fu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1746744-2203-4AF2-9A26-3101539C1F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9977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long position benefits from price in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today at $34, and sell later at $57, you prof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uy low, sell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short position benefits from price de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today at $83, and buy later at $27, you pro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l high, buy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20A6216-717E-41DF-BF4B-E246D7F675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hort 100 shares of Texas Instruments (TXN) at $30 per shar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broker has a 50% initial margin and a 40% maintenance margin on short sale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of stock borrowed that will be sold short is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0 × $100 = $3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2120" y="3657600"/>
          <a:ext cx="7696080" cy="2316240"/>
        </p:xfrm>
        <a:graphic>
          <a:graphicData uri="http://schemas.openxmlformats.org/drawingml/2006/table">
            <a:tbl>
              <a:tblPr/>
              <a:tblGrid>
                <a:gridCol w="2612880"/>
                <a:gridCol w="1270080"/>
                <a:gridCol w="2469960"/>
                <a:gridCol w="1343160"/>
              </a:tblGrid>
              <a:tr h="91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16FF533-CF2C-4373-99A1-2D756271BD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sell yourself short. Instead, learn about these key investment subjec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various types of securities brokers and brokerage accoun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How to calculate initial and maintenance margi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workings of short sal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The importance of investor objectives, constraints, and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7EA838F-CE43-4D85-AC83-E1B6025E9E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 stock price falls to $2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d at $30, value today is $20, so you are "ahead" by $10 per share, or $1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, new margin: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3733920"/>
          <a:ext cx="8001000" cy="2361960"/>
        </p:xfrm>
        <a:graphic>
          <a:graphicData uri="http://schemas.openxmlformats.org/drawingml/2006/table">
            <a:tbl>
              <a:tblPr/>
              <a:tblGrid>
                <a:gridCol w="2716200"/>
                <a:gridCol w="1247760"/>
                <a:gridCol w="2716200"/>
                <a:gridCol w="1320840"/>
              </a:tblGrid>
              <a:tr h="798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409C061-113D-4744-974C-0B031FAB66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 stock price rises to $4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old short at $30, stock price is now $40, you are "behind" by $10 per share, or $1,000.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(He who sells what isn’t his’n, must buy it back—or go to priso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: new margin =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.5%  &lt;  40% Therefore, you are subject to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62120" y="3657600"/>
          <a:ext cx="7848360" cy="2314440"/>
        </p:xfrm>
        <a:graphic>
          <a:graphicData uri="http://schemas.openxmlformats.org/drawingml/2006/table">
            <a:tbl>
              <a:tblPr/>
              <a:tblGrid>
                <a:gridCol w="2663640"/>
                <a:gridCol w="1224000"/>
                <a:gridCol w="2521080"/>
                <a:gridCol w="143964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39B8A01-797E-4438-ADE4-6B275CF470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re on Short Sal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ort inter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mount of common stock held in short positio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actice, short selling is quite common and a substantial volume of stock sales are initiated by short seller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with a short position, you may lose more than your total investment, as there is no theoretical limit to how high the stock price may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C2D811E-3A5B-4FE7-BA5C-440B140B68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iggest Short Positio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(from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Wall Street Journal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4" name="Picture 8" descr="scl1"/>
          <p:cNvPicPr/>
          <p:nvPr/>
        </p:nvPicPr>
        <p:blipFill>
          <a:blip r:embed="rId1"/>
          <a:stretch/>
        </p:blipFill>
        <p:spPr>
          <a:xfrm>
            <a:off x="905040" y="1192320"/>
            <a:ext cx="76294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17CA79E-A1AA-4AA3-8376-30615A9723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Question: Why invest at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invest today to have more tomo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is simply deferred consum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hoose to wait because we want more to spend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ormulating investment objectives, the individual must balance return objectives with risk tole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risk and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how much risk they can han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58F80CC-0F7B-486F-B895-CD5EBDD0F8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Strategies and Polic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30120"/>
            <a:ext cx="8305560" cy="53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nvestment manageme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you manage your investments yourself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rket timin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hould you try to buy and sell in anticipation of the future direction of the marke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alloca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ow should you distribute your investment funds across the different classes of assets?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ecurity selec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ithin each class, which specific securities should you bu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05E91E7-DB77-4713-9479-FA7502ECBC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or Constrai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Resourc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is the minimum sum needed? What are the associated cost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Horiz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do you need the mone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iquid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w high is the possibility that you need to sell the asset quickl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ax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tax bracket are you i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pecial circumstanc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your company provide any incentive? What are your regulatory and legal restric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F3FEC67-DCFC-4E89-B8DD-17F1F5843A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Risk Tolerance Quiz in the textboo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core did you g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jor82353_tb0201"/>
          <p:cNvPicPr/>
          <p:nvPr/>
        </p:nvPicPr>
        <p:blipFill>
          <a:blip r:embed="rId1"/>
          <a:stretch/>
        </p:blipFill>
        <p:spPr>
          <a:xfrm>
            <a:off x="685800" y="3200400"/>
            <a:ext cx="79246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8FFD556-CEC6-4A3C-88D5-432D6E7F08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your score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jor82353_tb0202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52B974C-C932-43F7-942A-42C42D5F35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2304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inra.org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dispute re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earmarketcentra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sel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asdaq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inter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oneycentral.msn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building a portfolio—search the site for “Build your first stock portfoli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harebuilder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opening a brokerage accou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buyandhold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other reference for opening a brokerage accou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individual.m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isk tolerance questionnaire from Merrill Lyn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money-rates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current broker call money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a reference for short sales on particular stock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8939369-E114-43CF-B204-A9B9213192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covers the basics of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gin by describing how you go about buying and selling securities, such as stocks and b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we outline some important considerations and constraints to keep in mind as you get more involved in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A7C227E-DFEF-47B6-B6E6-07F7205EE9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ing a 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Investors Protection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-Customer Rel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rage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in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te on Annualizing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cation and Street Name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ccoun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2E717F9-1032-4209-9968-6E7515D358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s of a Short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etai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 Objectives, Constraints,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nd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or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es and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E662ADB-E60A-4FF0-A27A-80DC9AC075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47920" y="1752480"/>
            <a:ext cx="6095880" cy="3886200"/>
            <a:chOff x="1447920" y="1752480"/>
            <a:chExt cx="6095880" cy="3886200"/>
          </a:xfrm>
        </p:grpSpPr>
        <p:sp>
          <p:nvSpPr>
            <p:cNvPr id="182" name="Line 4"/>
            <p:cNvSpPr/>
            <p:nvPr/>
          </p:nvSpPr>
          <p:spPr>
            <a:xfrm>
              <a:off x="4038480" y="46483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5029200" y="2971800"/>
              <a:ext cx="2438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Buy 100 Sha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Disn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$33 per sh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5029200" y="4572000"/>
              <a:ext cx="25146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e) $6,650 Ca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,300 Stoc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1523880" y="4267080"/>
              <a:ext cx="25146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) Pay Commissio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y $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1447920" y="3048120"/>
              <a:ext cx="25905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Deposit $1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o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6248520" y="24382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2819520" y="19810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4876920" y="1752480"/>
              <a:ext cx="2666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Open a broke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trading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2819520" y="198108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6248520" y="38862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4572000" y="220968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4572000" y="22096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4ACCB31-28C5-4265-92B2-28DE3050C2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s are now divided into three group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-service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-discount brok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hree groups can be distinguished by the level of service provided, as well as the level of commissions char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42C6D56-D3AF-47D1-ADF1-F46E4F92CB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30824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brokerage industry becomes more competitive, the differences among broker types continues to blu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important change is the rapid growth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so known a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e-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yber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investing has really changed the brokerage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shing brokerage com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investm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place buy and sell orders over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14F0DAC-20E8-4045-B0F4-FF160089ED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ies Investor Protection Corporation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curities Investor Protection Corporation (SIP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 fund covering investors’ brokerage accounts when member firms go bankrupt or experience financial difficulti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brokerage firms belong to the SIPC, which insures each account for up to $500,000 in cash and securities, with a $100,000 cash maximum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ortant: The SIPC does not guarantee the value of any security (unlike FDIC covera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ther, SIPC protects whatever amount of cash and securities that were in your account, in the event of fraud or other fail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01BC5B6-0FF6-4435-BE2A-E95EE7F30E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-Customer Relatio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everal important things to remember  when you deal with a brok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advice you receive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uarante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broker works as your agent and has a legal duty to act in your best inter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brokerage firms make profits from brokerage commission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ccount agreement will probably specify that any disputes will be settled by arbitration and that the arbitration is final and bi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2:05Z</dcterms:modified>
  <cp:revision>41</cp:revision>
  <dc:subject/>
  <dc:title>Slide 1</dc:title>
</cp:coreProperties>
</file>