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00DA2-8064-4E2E-845E-EAE060F2C7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36927-D01A-41D9-BF6A-606C0A402D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EBA43-B25D-416E-B75D-DDE509DC25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96B94-E162-4C1E-BFD7-EE5BF7BDDA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74420-7706-4B53-A70F-CED8C1D8D8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E327C-DA7D-466C-8C69-62E991672A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CAEE2-2582-4FDB-A1D0-73AC3F1015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3BB69-89E2-4433-86AA-CB4C48D101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1842D-0A07-4E5A-AE48-B01261A5EE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68929-C44C-4755-ACC3-E5E8C10F5D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C87AB-B9D3-42D3-AEB2-DC880220AB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15EA6-4315-4E3F-94CE-5835D9C770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C9ED2-0498-48F2-8977-A83B937D3C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6AA86-53BB-460C-8AE2-E3F5D65024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580F1-A095-47DA-8BA3-DFC1BFB312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1791A-0612-436F-A904-6C841B7F92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2E6AF-37C5-4909-B0A5-4498E554EB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A126D-342F-4728-8AE7-2F07749C6F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1A329-93A9-4C9A-9544-AD26D37382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3D0A8-D2FE-4067-8EF8-9B2A25A1E3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5B202-DDC9-4AD0-A9B3-B5A175E648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ho sells what isn’t his’n, must buy it back, or go to prison.”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BF04A-04CB-45C5-80B1-4C15A62ED6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96B23-DA7E-41A2-A8D0-15CF8164CF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4E19E-3EE9-47D8-AA3D-DD9353C431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EA231-51B8-4372-A631-3E14150196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145FF-62EA-4746-BB89-575B965563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36462-12F1-48E7-AC17-58708DBBA9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EEE50-44FB-4878-8E75-833FCA0D49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46526-3E49-4689-B089-5647BEBBD9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01330-1BE2-4371-8AFB-92E3E91916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52122-F3B9-40DC-A6D4-7088D0561A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C9FF4-9406-48E6-9BF3-7963BE3716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2A5F0-29A3-401B-9E9A-4974A37C64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59A8C-A800-4D80-B959-80BE38E289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C9B61-4100-4893-B79B-BCC3F493C5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2827F-E0D3-4797-8DF1-CF11F79053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84A4B-774A-481D-8DF6-AB4A278622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E9DCB-3887-4E74-B6E7-0DDD92DA75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782D6-1ED9-4347-AF78-B373E686B7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7557C-2562-4A66-BC2A-1D016BF0EF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9B902-D62B-4E53-A827-F9CB771BC5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7A2F7-9BC4-43C4-8DAD-700E95C9DD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CBB6B-D07A-420D-9523-777C9B5507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33160" y="3932640"/>
            <a:ext cx="83055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FAB48-B72E-48D0-B7D1-E31502F316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4052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89080" y="1066680"/>
            <a:ext cx="4052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33160" y="3932640"/>
            <a:ext cx="4052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789080" y="3932640"/>
            <a:ext cx="4052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B094C-C4C9-41B4-8616-508FEFFAF4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267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41160" y="1066680"/>
            <a:ext cx="267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149520" y="1066680"/>
            <a:ext cx="267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533160" y="3932640"/>
            <a:ext cx="267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41160" y="3932640"/>
            <a:ext cx="267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6149520" y="3932640"/>
            <a:ext cx="267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D5077-A36B-412B-B68F-EF8C78C270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533160" y="106668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4052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89080" y="1066680"/>
            <a:ext cx="4052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6840" y="76320"/>
            <a:ext cx="8381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4052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89080" y="1066680"/>
            <a:ext cx="4052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33160" y="3932640"/>
            <a:ext cx="4052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533160" y="106668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6B11F-FAF6-46F3-A947-CFBBBE67F3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4052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789080" y="1066680"/>
            <a:ext cx="4052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789080" y="3932640"/>
            <a:ext cx="4052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4052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789080" y="1066680"/>
            <a:ext cx="4052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33160" y="3932640"/>
            <a:ext cx="83055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33160" y="3932640"/>
            <a:ext cx="83055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4052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789080" y="1066680"/>
            <a:ext cx="4052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33160" y="3932640"/>
            <a:ext cx="4052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789080" y="3932640"/>
            <a:ext cx="4052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267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341160" y="1066680"/>
            <a:ext cx="267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149520" y="1066680"/>
            <a:ext cx="267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33160" y="3932640"/>
            <a:ext cx="267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341160" y="3932640"/>
            <a:ext cx="267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149520" y="3932640"/>
            <a:ext cx="267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8CE09-1498-4918-9C2F-A1149C3146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4052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89080" y="1066680"/>
            <a:ext cx="4052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27231-AEC8-41AB-95CD-A505C8EB64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62854-69E4-4134-A362-83D494BEBB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56840" y="76320"/>
            <a:ext cx="8381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EC7A0-EDDB-449E-BDBD-10F56A9DC9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4052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789080" y="1066680"/>
            <a:ext cx="4052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33160" y="3932640"/>
            <a:ext cx="4052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906F5-6240-45C8-A220-9B57F2F79B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4052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789080" y="1066680"/>
            <a:ext cx="4052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789080" y="3932640"/>
            <a:ext cx="4052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D3155-F163-40D6-A3A6-35EE0C65FB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4052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89080" y="1066680"/>
            <a:ext cx="4052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33160" y="3932640"/>
            <a:ext cx="83055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05EFD-EBAB-4039-A7C3-90F2F308E6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a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9"/>
          <p:cNvSpPr/>
          <p:nvPr/>
        </p:nvSpPr>
        <p:spPr>
          <a:xfrm rot="16200000">
            <a:off x="8724960" y="266400"/>
            <a:ext cx="609480" cy="2286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38"/>
          <p:cNvSpPr/>
          <p:nvPr/>
        </p:nvSpPr>
        <p:spPr>
          <a:xfrm>
            <a:off x="785880" y="76320"/>
            <a:ext cx="8345520" cy="7920"/>
          </a:xfrm>
          <a:custGeom>
            <a:avLst/>
            <a:gdLst>
              <a:gd name="textAreaLeft" fmla="*/ 0 w 8345520"/>
              <a:gd name="textAreaRight" fmla="*/ 8345880 w 834552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5257" h="5">
                <a:moveTo>
                  <a:pt x="0" y="5"/>
                </a:moveTo>
                <a:lnTo>
                  <a:pt x="5257" y="0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32"/>
          <p:cNvSpPr/>
          <p:nvPr/>
        </p:nvSpPr>
        <p:spPr>
          <a:xfrm>
            <a:off x="457200" y="990720"/>
            <a:ext cx="8458200" cy="563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533160" y="106668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9"/>
          <p:cNvSpPr/>
          <p:nvPr/>
        </p:nvSpPr>
        <p:spPr>
          <a:xfrm rot="16200000">
            <a:off x="501480" y="-76320"/>
            <a:ext cx="228600" cy="380880"/>
          </a:xfrm>
          <a:custGeom>
            <a:avLst/>
            <a:gdLst>
              <a:gd name="textAreaLeft" fmla="*/ 0 w 228600"/>
              <a:gd name="textAreaRight" fmla="*/ 228960 w 22860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144" h="240">
                <a:moveTo>
                  <a:pt x="0" y="0"/>
                </a:moveTo>
                <a:lnTo>
                  <a:pt x="144" y="48"/>
                </a:lnTo>
                <a:lnTo>
                  <a:pt x="144" y="240"/>
                </a:lnTo>
                <a:lnTo>
                  <a:pt x="0" y="240"/>
                </a:lnTo>
                <a:lnTo>
                  <a:pt x="0" y="0"/>
                </a:lnTo>
                <a:close/>
              </a:path>
            </a:pathLst>
          </a:custGeom>
          <a:solidFill>
            <a:srgbClr val="d8b8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Freeform 10"/>
          <p:cNvSpPr/>
          <p:nvPr/>
        </p:nvSpPr>
        <p:spPr>
          <a:xfrm>
            <a:off x="-31680" y="-701640"/>
            <a:ext cx="865080" cy="2060640"/>
          </a:xfrm>
          <a:custGeom>
            <a:avLst/>
            <a:gdLst>
              <a:gd name="textAreaLeft" fmla="*/ 0 w 865080"/>
              <a:gd name="textAreaRight" fmla="*/ 865440 w 865080"/>
              <a:gd name="textAreaTop" fmla="*/ 0 h 2060640"/>
              <a:gd name="textAreaBottom" fmla="*/ 2061000 h 2060640"/>
            </a:gdLst>
            <a:ahLst/>
            <a:rect l="textAreaLeft" t="textAreaTop" r="textAreaRight" b="textAreaBottom"/>
            <a:pathLst>
              <a:path w="545" h="1298">
                <a:moveTo>
                  <a:pt x="12" y="1298"/>
                </a:moveTo>
                <a:cubicBezTo>
                  <a:pt x="92" y="1298"/>
                  <a:pt x="116" y="1298"/>
                  <a:pt x="196" y="1298"/>
                </a:cubicBezTo>
                <a:cubicBezTo>
                  <a:pt x="237" y="1174"/>
                  <a:pt x="188" y="1122"/>
                  <a:pt x="248" y="753"/>
                </a:cubicBezTo>
                <a:cubicBezTo>
                  <a:pt x="308" y="384"/>
                  <a:pt x="545" y="28"/>
                  <a:pt x="528" y="8"/>
                </a:cubicBezTo>
                <a:cubicBezTo>
                  <a:pt x="507" y="0"/>
                  <a:pt x="208" y="491"/>
                  <a:pt x="122" y="706"/>
                </a:cubicBezTo>
                <a:cubicBezTo>
                  <a:pt x="42" y="899"/>
                  <a:pt x="0" y="1193"/>
                  <a:pt x="12" y="1298"/>
                </a:cubicBezTo>
                <a:close/>
              </a:path>
            </a:pathLst>
          </a:custGeom>
          <a:solidFill>
            <a:srgbClr val="367d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1"/>
          <p:cNvSpPr/>
          <p:nvPr/>
        </p:nvSpPr>
        <p:spPr>
          <a:xfrm rot="16200000">
            <a:off x="-756000" y="5804640"/>
            <a:ext cx="1830240" cy="276480"/>
          </a:xfrm>
          <a:prstGeom prst="rect">
            <a:avLst/>
          </a:prstGeom>
          <a:solidFill>
            <a:srgbClr val="c8b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2"/>
          <p:cNvSpPr/>
          <p:nvPr/>
        </p:nvSpPr>
        <p:spPr>
          <a:xfrm rot="16200000">
            <a:off x="61920" y="5241600"/>
            <a:ext cx="609480" cy="1810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13"/>
          <p:cNvSpPr/>
          <p:nvPr/>
        </p:nvSpPr>
        <p:spPr>
          <a:xfrm rot="16200000">
            <a:off x="-190080" y="1866600"/>
            <a:ext cx="1143000" cy="15228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14"/>
          <p:cNvSpPr/>
          <p:nvPr/>
        </p:nvSpPr>
        <p:spPr>
          <a:xfrm rot="16200000">
            <a:off x="-166680" y="3976560"/>
            <a:ext cx="609840" cy="2761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Line 16"/>
          <p:cNvSpPr/>
          <p:nvPr/>
        </p:nvSpPr>
        <p:spPr>
          <a:xfrm>
            <a:off x="0" y="2514600"/>
            <a:ext cx="4572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Freeform 17"/>
          <p:cNvSpPr/>
          <p:nvPr/>
        </p:nvSpPr>
        <p:spPr>
          <a:xfrm>
            <a:off x="0" y="1371600"/>
            <a:ext cx="457200" cy="3240"/>
          </a:xfrm>
          <a:custGeom>
            <a:avLst/>
            <a:gdLst>
              <a:gd name="textAreaLeft" fmla="*/ 0 w 457200"/>
              <a:gd name="textAreaRight" fmla="*/ 457560 w 45720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288" h="2">
                <a:moveTo>
                  <a:pt x="0" y="2"/>
                </a:moveTo>
                <a:lnTo>
                  <a:pt x="288" y="0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8"/>
          <p:cNvSpPr/>
          <p:nvPr/>
        </p:nvSpPr>
        <p:spPr>
          <a:xfrm>
            <a:off x="0" y="0"/>
            <a:ext cx="0" cy="68580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Freeform 19"/>
          <p:cNvSpPr/>
          <p:nvPr/>
        </p:nvSpPr>
        <p:spPr>
          <a:xfrm>
            <a:off x="279360" y="1371600"/>
            <a:ext cx="9720" cy="5486400"/>
          </a:xfrm>
          <a:custGeom>
            <a:avLst/>
            <a:gdLst>
              <a:gd name="textAreaLeft" fmla="*/ 0 w 9720"/>
              <a:gd name="textAreaRight" fmla="*/ 10080 w 9720"/>
              <a:gd name="textAreaTop" fmla="*/ 0 h 5486400"/>
              <a:gd name="textAreaBottom" fmla="*/ 5486760 h 5486400"/>
            </a:gdLst>
            <a:ahLst/>
            <a:rect l="textAreaLeft" t="textAreaTop" r="textAreaRight" b="textAreaBottom"/>
            <a:pathLst>
              <a:path w="6" h="3456">
                <a:moveTo>
                  <a:pt x="0" y="0"/>
                </a:moveTo>
                <a:lnTo>
                  <a:pt x="6" y="3456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Line 20"/>
          <p:cNvSpPr/>
          <p:nvPr/>
        </p:nvSpPr>
        <p:spPr>
          <a:xfrm flipV="1">
            <a:off x="0" y="4417560"/>
            <a:ext cx="457200" cy="18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Line 21"/>
          <p:cNvSpPr/>
          <p:nvPr/>
        </p:nvSpPr>
        <p:spPr>
          <a:xfrm>
            <a:off x="0" y="5029200"/>
            <a:ext cx="4572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Line 22"/>
          <p:cNvSpPr/>
          <p:nvPr/>
        </p:nvSpPr>
        <p:spPr>
          <a:xfrm>
            <a:off x="0" y="228600"/>
            <a:ext cx="8064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Line 23"/>
          <p:cNvSpPr/>
          <p:nvPr/>
        </p:nvSpPr>
        <p:spPr>
          <a:xfrm>
            <a:off x="0" y="0"/>
            <a:ext cx="8064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Freeform 25"/>
          <p:cNvSpPr/>
          <p:nvPr/>
        </p:nvSpPr>
        <p:spPr>
          <a:xfrm>
            <a:off x="-12600" y="-690480"/>
            <a:ext cx="819000" cy="2049480"/>
          </a:xfrm>
          <a:custGeom>
            <a:avLst/>
            <a:gdLst>
              <a:gd name="textAreaLeft" fmla="*/ 0 w 819000"/>
              <a:gd name="textAreaRight" fmla="*/ 819360 w 819000"/>
              <a:gd name="textAreaTop" fmla="*/ 0 h 2049480"/>
              <a:gd name="textAreaBottom" fmla="*/ 2049840 h 2049480"/>
            </a:gdLst>
            <a:ahLst/>
            <a:rect l="textAreaLeft" t="textAreaTop" r="textAreaRight" b="textAreaBottom"/>
            <a:pathLst>
              <a:path w="516" h="1291">
                <a:moveTo>
                  <a:pt x="0" y="1291"/>
                </a:moveTo>
                <a:cubicBezTo>
                  <a:pt x="19" y="1192"/>
                  <a:pt x="30" y="920"/>
                  <a:pt x="116" y="705"/>
                </a:cubicBezTo>
                <a:cubicBezTo>
                  <a:pt x="248" y="314"/>
                  <a:pt x="432" y="147"/>
                  <a:pt x="516" y="0"/>
                </a:cubicBez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Freeform 26"/>
          <p:cNvSpPr/>
          <p:nvPr/>
        </p:nvSpPr>
        <p:spPr>
          <a:xfrm>
            <a:off x="291960" y="-674640"/>
            <a:ext cx="519120" cy="2033640"/>
          </a:xfrm>
          <a:custGeom>
            <a:avLst/>
            <a:gdLst>
              <a:gd name="textAreaLeft" fmla="*/ 0 w 519120"/>
              <a:gd name="textAreaRight" fmla="*/ 519480 w 519120"/>
              <a:gd name="textAreaTop" fmla="*/ 0 h 2033640"/>
              <a:gd name="textAreaBottom" fmla="*/ 2034000 h 2033640"/>
            </a:gdLst>
            <a:ahLst/>
            <a:rect l="textAreaLeft" t="textAreaTop" r="textAreaRight" b="textAreaBottom"/>
            <a:pathLst>
              <a:path w="327" h="1281">
                <a:moveTo>
                  <a:pt x="0" y="1281"/>
                </a:moveTo>
                <a:cubicBezTo>
                  <a:pt x="9" y="1188"/>
                  <a:pt x="3" y="941"/>
                  <a:pt x="57" y="728"/>
                </a:cubicBezTo>
                <a:cubicBezTo>
                  <a:pt x="116" y="476"/>
                  <a:pt x="271" y="152"/>
                  <a:pt x="327" y="0"/>
                </a:cubicBez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Line 28"/>
          <p:cNvSpPr/>
          <p:nvPr/>
        </p:nvSpPr>
        <p:spPr>
          <a:xfrm>
            <a:off x="304920" y="5638680"/>
            <a:ext cx="15228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Line 29"/>
          <p:cNvSpPr/>
          <p:nvPr/>
        </p:nvSpPr>
        <p:spPr>
          <a:xfrm>
            <a:off x="0" y="3809880"/>
            <a:ext cx="30492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Line 31"/>
          <p:cNvSpPr/>
          <p:nvPr/>
        </p:nvSpPr>
        <p:spPr>
          <a:xfrm>
            <a:off x="453240" y="230040"/>
            <a:ext cx="3240" cy="662796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Freeform 33"/>
          <p:cNvSpPr/>
          <p:nvPr/>
        </p:nvSpPr>
        <p:spPr>
          <a:xfrm>
            <a:off x="-25560" y="6629400"/>
            <a:ext cx="8993520" cy="1440"/>
          </a:xfrm>
          <a:custGeom>
            <a:avLst/>
            <a:gdLst>
              <a:gd name="textAreaLeft" fmla="*/ 0 w 8993520"/>
              <a:gd name="textAreaRight" fmla="*/ 8993880 w 899352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5665" h="1">
                <a:moveTo>
                  <a:pt x="0" y="0"/>
                </a:moveTo>
                <a:lnTo>
                  <a:pt x="5665" y="0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Rectangle 15"/>
          <p:cNvSpPr/>
          <p:nvPr/>
        </p:nvSpPr>
        <p:spPr>
          <a:xfrm rot="16200000">
            <a:off x="8724960" y="6438960"/>
            <a:ext cx="380880" cy="45720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Line 30"/>
          <p:cNvSpPr/>
          <p:nvPr/>
        </p:nvSpPr>
        <p:spPr>
          <a:xfrm>
            <a:off x="8686800" y="6477120"/>
            <a:ext cx="4572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Line 34"/>
          <p:cNvSpPr/>
          <p:nvPr/>
        </p:nvSpPr>
        <p:spPr>
          <a:xfrm>
            <a:off x="8686800" y="6477120"/>
            <a:ext cx="0" cy="38088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Line 36"/>
          <p:cNvSpPr/>
          <p:nvPr/>
        </p:nvSpPr>
        <p:spPr>
          <a:xfrm>
            <a:off x="8914680" y="0"/>
            <a:ext cx="3240" cy="64753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Line 37"/>
          <p:cNvSpPr/>
          <p:nvPr/>
        </p:nvSpPr>
        <p:spPr>
          <a:xfrm>
            <a:off x="822240" y="0"/>
            <a:ext cx="0" cy="2491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sldNum" idx="1"/>
          </p:nvPr>
        </p:nvSpPr>
        <p:spPr>
          <a:xfrm>
            <a:off x="7086240" y="655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-</a:t>
            </a:r>
            <a:fld id="{60AFB997-08A6-4C6E-862C-3D7E5C835A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Line 40"/>
          <p:cNvSpPr/>
          <p:nvPr/>
        </p:nvSpPr>
        <p:spPr>
          <a:xfrm>
            <a:off x="8915400" y="685800"/>
            <a:ext cx="2286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Freeform 41"/>
          <p:cNvSpPr/>
          <p:nvPr/>
        </p:nvSpPr>
        <p:spPr>
          <a:xfrm>
            <a:off x="291960" y="990720"/>
            <a:ext cx="9156960" cy="936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9360"/>
              <a:gd name="textAreaBottom" fmla="*/ 9720 h 9360"/>
            </a:gdLst>
            <a:ahLst/>
            <a:rect l="textAreaLeft" t="textAreaTop" r="textAreaRight" b="textAreaBottom"/>
            <a:pathLst>
              <a:path w="5768" h="6">
                <a:moveTo>
                  <a:pt x="0" y="0"/>
                </a:moveTo>
                <a:lnTo>
                  <a:pt x="5768" y="6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a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7"/>
          <p:cNvSpPr/>
          <p:nvPr/>
        </p:nvSpPr>
        <p:spPr>
          <a:xfrm>
            <a:off x="5410080" y="304920"/>
            <a:ext cx="381240" cy="53316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reeform 35"/>
          <p:cNvSpPr/>
          <p:nvPr/>
        </p:nvSpPr>
        <p:spPr>
          <a:xfrm>
            <a:off x="8077320" y="1295280"/>
            <a:ext cx="228600" cy="381240"/>
          </a:xfrm>
          <a:custGeom>
            <a:avLst/>
            <a:gdLst>
              <a:gd name="textAreaLeft" fmla="*/ 0 w 228600"/>
              <a:gd name="textAreaRight" fmla="*/ 228960 w 2286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144" h="240">
                <a:moveTo>
                  <a:pt x="0" y="0"/>
                </a:moveTo>
                <a:lnTo>
                  <a:pt x="144" y="48"/>
                </a:lnTo>
                <a:lnTo>
                  <a:pt x="144" y="240"/>
                </a:lnTo>
                <a:lnTo>
                  <a:pt x="0" y="240"/>
                </a:lnTo>
                <a:lnTo>
                  <a:pt x="0" y="0"/>
                </a:lnTo>
                <a:close/>
              </a:path>
            </a:pathLst>
          </a:custGeom>
          <a:solidFill>
            <a:srgbClr val="d8b8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Freeform 34"/>
          <p:cNvSpPr/>
          <p:nvPr/>
        </p:nvSpPr>
        <p:spPr>
          <a:xfrm>
            <a:off x="6629400" y="838080"/>
            <a:ext cx="2374920" cy="865440"/>
          </a:xfrm>
          <a:custGeom>
            <a:avLst/>
            <a:gdLst>
              <a:gd name="textAreaLeft" fmla="*/ 0 w 2374920"/>
              <a:gd name="textAreaRight" fmla="*/ 2375280 w 2374920"/>
              <a:gd name="textAreaTop" fmla="*/ 0 h 865440"/>
              <a:gd name="textAreaBottom" fmla="*/ 865800 h 865440"/>
            </a:gdLst>
            <a:ahLst/>
            <a:rect l="textAreaLeft" t="textAreaTop" r="textAreaRight" b="textAreaBottom"/>
            <a:pathLst>
              <a:path w="1496" h="545">
                <a:moveTo>
                  <a:pt x="0" y="0"/>
                </a:moveTo>
                <a:cubicBezTo>
                  <a:pt x="0" y="0"/>
                  <a:pt x="0" y="96"/>
                  <a:pt x="0" y="192"/>
                </a:cubicBezTo>
                <a:cubicBezTo>
                  <a:pt x="124" y="233"/>
                  <a:pt x="406" y="161"/>
                  <a:pt x="743" y="247"/>
                </a:cubicBezTo>
                <a:cubicBezTo>
                  <a:pt x="1080" y="333"/>
                  <a:pt x="1468" y="545"/>
                  <a:pt x="1488" y="528"/>
                </a:cubicBezTo>
                <a:cubicBezTo>
                  <a:pt x="1496" y="507"/>
                  <a:pt x="982" y="201"/>
                  <a:pt x="790" y="121"/>
                </a:cubicBezTo>
                <a:cubicBezTo>
                  <a:pt x="598" y="41"/>
                  <a:pt x="165" y="25"/>
                  <a:pt x="0" y="0"/>
                </a:cubicBez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3"/>
          <p:cNvSpPr/>
          <p:nvPr/>
        </p:nvSpPr>
        <p:spPr>
          <a:xfrm>
            <a:off x="6629400" y="0"/>
            <a:ext cx="1447920" cy="533520"/>
          </a:xfrm>
          <a:prstGeom prst="rect">
            <a:avLst/>
          </a:prstGeom>
          <a:solidFill>
            <a:srgbClr val="367d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2"/>
          <p:cNvSpPr/>
          <p:nvPr/>
        </p:nvSpPr>
        <p:spPr>
          <a:xfrm>
            <a:off x="2666880" y="838080"/>
            <a:ext cx="609840" cy="304920"/>
          </a:xfrm>
          <a:prstGeom prst="rect">
            <a:avLst/>
          </a:prstGeom>
          <a:solidFill>
            <a:srgbClr val="c8b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1"/>
          <p:cNvSpPr/>
          <p:nvPr/>
        </p:nvSpPr>
        <p:spPr>
          <a:xfrm>
            <a:off x="2666880" y="1143000"/>
            <a:ext cx="609840" cy="53352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0"/>
          <p:cNvSpPr/>
          <p:nvPr/>
        </p:nvSpPr>
        <p:spPr>
          <a:xfrm>
            <a:off x="3276720" y="304920"/>
            <a:ext cx="609480" cy="5331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9"/>
          <p:cNvSpPr/>
          <p:nvPr/>
        </p:nvSpPr>
        <p:spPr>
          <a:xfrm>
            <a:off x="3276720" y="1143000"/>
            <a:ext cx="609480" cy="5335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7"/>
          <p:cNvSpPr/>
          <p:nvPr/>
        </p:nvSpPr>
        <p:spPr>
          <a:xfrm>
            <a:off x="3886200" y="1143000"/>
            <a:ext cx="1905120" cy="53352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6"/>
          <p:cNvSpPr/>
          <p:nvPr/>
        </p:nvSpPr>
        <p:spPr>
          <a:xfrm>
            <a:off x="5791320" y="0"/>
            <a:ext cx="0" cy="1676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20"/>
          <p:cNvSpPr/>
          <p:nvPr/>
        </p:nvSpPr>
        <p:spPr>
          <a:xfrm>
            <a:off x="6629400" y="0"/>
            <a:ext cx="0" cy="1676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1"/>
          <p:cNvSpPr/>
          <p:nvPr/>
        </p:nvSpPr>
        <p:spPr>
          <a:xfrm flipH="1">
            <a:off x="0" y="1676520"/>
            <a:ext cx="91440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2"/>
          <p:cNvSpPr/>
          <p:nvPr/>
        </p:nvSpPr>
        <p:spPr>
          <a:xfrm flipH="1">
            <a:off x="-360" y="1143000"/>
            <a:ext cx="66294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3"/>
          <p:cNvSpPr/>
          <p:nvPr/>
        </p:nvSpPr>
        <p:spPr>
          <a:xfrm flipH="1">
            <a:off x="-360" y="838080"/>
            <a:ext cx="66294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4"/>
          <p:cNvSpPr/>
          <p:nvPr/>
        </p:nvSpPr>
        <p:spPr>
          <a:xfrm flipH="1">
            <a:off x="-360" y="304920"/>
            <a:ext cx="579132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5"/>
          <p:cNvSpPr/>
          <p:nvPr/>
        </p:nvSpPr>
        <p:spPr>
          <a:xfrm>
            <a:off x="3886200" y="0"/>
            <a:ext cx="0" cy="1676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7"/>
          <p:cNvSpPr/>
          <p:nvPr/>
        </p:nvSpPr>
        <p:spPr>
          <a:xfrm>
            <a:off x="3276720" y="0"/>
            <a:ext cx="0" cy="1676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8"/>
          <p:cNvSpPr/>
          <p:nvPr/>
        </p:nvSpPr>
        <p:spPr>
          <a:xfrm>
            <a:off x="8077320" y="0"/>
            <a:ext cx="0" cy="1676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9"/>
          <p:cNvSpPr/>
          <p:nvPr/>
        </p:nvSpPr>
        <p:spPr>
          <a:xfrm>
            <a:off x="8305920" y="0"/>
            <a:ext cx="0" cy="1676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25"/>
          <p:cNvGrpSpPr/>
          <p:nvPr/>
        </p:nvGrpSpPr>
        <p:grpSpPr>
          <a:xfrm>
            <a:off x="6629400" y="828720"/>
            <a:ext cx="2362320" cy="852480"/>
            <a:chOff x="6629400" y="828720"/>
            <a:chExt cx="2362320" cy="852480"/>
          </a:xfrm>
        </p:grpSpPr>
        <p:sp>
          <p:nvSpPr>
            <p:cNvPr id="89" name="Freeform 23"/>
            <p:cNvSpPr/>
            <p:nvPr/>
          </p:nvSpPr>
          <p:spPr>
            <a:xfrm>
              <a:off x="6629400" y="828720"/>
              <a:ext cx="2362320" cy="847800"/>
            </a:xfrm>
            <a:custGeom>
              <a:avLst/>
              <a:gdLst>
                <a:gd name="textAreaLeft" fmla="*/ 0 w 2362320"/>
                <a:gd name="textAreaRight" fmla="*/ 2362320 w 2362320"/>
                <a:gd name="textAreaTop" fmla="*/ 0 h 847800"/>
                <a:gd name="textAreaBottom" fmla="*/ 848160 h 847800"/>
              </a:gdLst>
              <a:ahLst/>
              <a:rect l="textAreaLeft" t="textAreaTop" r="textAreaRight" b="textAreaBottom"/>
              <a:pathLst>
                <a:path w="1488" h="534">
                  <a:moveTo>
                    <a:pt x="0" y="6"/>
                  </a:moveTo>
                  <a:cubicBezTo>
                    <a:pt x="130" y="27"/>
                    <a:pt x="392" y="0"/>
                    <a:pt x="783" y="133"/>
                  </a:cubicBezTo>
                  <a:cubicBezTo>
                    <a:pt x="1174" y="266"/>
                    <a:pt x="1341" y="450"/>
                    <a:pt x="1488" y="534"/>
                  </a:cubicBezTo>
                </a:path>
              </a:pathLst>
            </a:custGeom>
            <a:noFill/>
            <a:ln w="38160">
              <a:solidFill>
                <a:srgbClr val="dad0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24"/>
            <p:cNvSpPr/>
            <p:nvPr/>
          </p:nvSpPr>
          <p:spPr>
            <a:xfrm>
              <a:off x="6629400" y="1152360"/>
              <a:ext cx="2346480" cy="528840"/>
            </a:xfrm>
            <a:custGeom>
              <a:avLst/>
              <a:gdLst>
                <a:gd name="textAreaLeft" fmla="*/ 0 w 2346480"/>
                <a:gd name="textAreaRight" fmla="*/ 2346840 w 2346480"/>
                <a:gd name="textAreaTop" fmla="*/ 0 h 528840"/>
                <a:gd name="textAreaBottom" fmla="*/ 529200 h 528840"/>
              </a:gdLst>
              <a:ahLst/>
              <a:rect l="textAreaLeft" t="textAreaTop" r="textAreaRight" b="textAreaBottom"/>
              <a:pathLst>
                <a:path w="1478" h="333">
                  <a:moveTo>
                    <a:pt x="0" y="0"/>
                  </a:moveTo>
                  <a:cubicBezTo>
                    <a:pt x="125" y="10"/>
                    <a:pt x="498" y="2"/>
                    <a:pt x="750" y="62"/>
                  </a:cubicBezTo>
                  <a:cubicBezTo>
                    <a:pt x="1002" y="122"/>
                    <a:pt x="1326" y="277"/>
                    <a:pt x="1478" y="333"/>
                  </a:cubicBezTo>
                </a:path>
              </a:pathLst>
            </a:custGeom>
            <a:noFill/>
            <a:ln w="38160">
              <a:solidFill>
                <a:srgbClr val="dad0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Line 26"/>
          <p:cNvSpPr/>
          <p:nvPr/>
        </p:nvSpPr>
        <p:spPr>
          <a:xfrm flipH="1">
            <a:off x="6629040" y="533520"/>
            <a:ext cx="25146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36"/>
          <p:cNvSpPr/>
          <p:nvPr/>
        </p:nvSpPr>
        <p:spPr>
          <a:xfrm>
            <a:off x="5410080" y="0"/>
            <a:ext cx="0" cy="83808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7"/>
          <p:cNvSpPr/>
          <p:nvPr/>
        </p:nvSpPr>
        <p:spPr>
          <a:xfrm>
            <a:off x="0" y="-457200"/>
            <a:ext cx="3048120" cy="5334120"/>
          </a:xfrm>
          <a:custGeom>
            <a:avLst/>
            <a:gdLst>
              <a:gd name="textAreaLeft" fmla="*/ 148680 w 3048120"/>
              <a:gd name="textAreaRight" fmla="*/ 2899440 w 3048120"/>
              <a:gd name="textAreaTop" fmla="*/ 148680 h 5334120"/>
              <a:gd name="textAreaBottom" fmla="*/ 5185440 h 5334120"/>
            </a:gdLst>
            <a:ahLst/>
            <a:rect l="textAreaLeft" t="textAreaTop" r="textAreaRight" b="textAreaBottom"/>
            <a:pathLst>
              <a:path w="21600" h="37797">
                <a:moveTo>
                  <a:pt x="3600" y="0"/>
                </a:moveTo>
                <a:arcTo wR="3600" hR="3600" stAng="16200000" swAng="-5400000"/>
                <a:lnTo>
                  <a:pt x="0" y="34197"/>
                </a:lnTo>
                <a:arcTo wR="3600" hR="3600" stAng="10800000" swAng="-5400000"/>
                <a:lnTo>
                  <a:pt x="18000" y="377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ad07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0" y="5335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Chap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8"/>
          <p:cNvSpPr/>
          <p:nvPr/>
        </p:nvSpPr>
        <p:spPr>
          <a:xfrm>
            <a:off x="-1143000" y="1828800"/>
            <a:ext cx="10058400" cy="48006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41"/>
          <p:cNvSpPr/>
          <p:nvPr/>
        </p:nvSpPr>
        <p:spPr>
          <a:xfrm rot="10800000">
            <a:off x="379080" y="6276960"/>
            <a:ext cx="228600" cy="380880"/>
          </a:xfrm>
          <a:custGeom>
            <a:avLst/>
            <a:gdLst>
              <a:gd name="textAreaLeft" fmla="*/ 0 w 228600"/>
              <a:gd name="textAreaRight" fmla="*/ 228960 w 22860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144" h="240">
                <a:moveTo>
                  <a:pt x="0" y="0"/>
                </a:moveTo>
                <a:lnTo>
                  <a:pt x="144" y="48"/>
                </a:lnTo>
                <a:lnTo>
                  <a:pt x="144" y="240"/>
                </a:lnTo>
                <a:lnTo>
                  <a:pt x="0" y="240"/>
                </a:lnTo>
                <a:lnTo>
                  <a:pt x="0" y="0"/>
                </a:lnTo>
                <a:close/>
              </a:path>
            </a:pathLst>
          </a:custGeom>
          <a:solidFill>
            <a:srgbClr val="d8b8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42"/>
          <p:cNvSpPr/>
          <p:nvPr/>
        </p:nvSpPr>
        <p:spPr>
          <a:xfrm rot="10800000">
            <a:off x="-319320" y="6248160"/>
            <a:ext cx="2374920" cy="865080"/>
          </a:xfrm>
          <a:custGeom>
            <a:avLst/>
            <a:gdLst>
              <a:gd name="textAreaLeft" fmla="*/ 0 w 2374920"/>
              <a:gd name="textAreaRight" fmla="*/ 2375280 w 2374920"/>
              <a:gd name="textAreaTop" fmla="*/ 0 h 865080"/>
              <a:gd name="textAreaBottom" fmla="*/ 865440 h 865080"/>
            </a:gdLst>
            <a:ahLst/>
            <a:rect l="textAreaLeft" t="textAreaTop" r="textAreaRight" b="textAreaBottom"/>
            <a:pathLst>
              <a:path w="1496" h="545">
                <a:moveTo>
                  <a:pt x="0" y="0"/>
                </a:moveTo>
                <a:cubicBezTo>
                  <a:pt x="0" y="0"/>
                  <a:pt x="0" y="96"/>
                  <a:pt x="0" y="192"/>
                </a:cubicBezTo>
                <a:cubicBezTo>
                  <a:pt x="124" y="233"/>
                  <a:pt x="406" y="161"/>
                  <a:pt x="743" y="247"/>
                </a:cubicBezTo>
                <a:cubicBezTo>
                  <a:pt x="1080" y="333"/>
                  <a:pt x="1468" y="545"/>
                  <a:pt x="1488" y="528"/>
                </a:cubicBezTo>
                <a:cubicBezTo>
                  <a:pt x="1496" y="507"/>
                  <a:pt x="982" y="201"/>
                  <a:pt x="790" y="121"/>
                </a:cubicBezTo>
                <a:cubicBezTo>
                  <a:pt x="598" y="41"/>
                  <a:pt x="165" y="25"/>
                  <a:pt x="0" y="0"/>
                </a:cubicBezTo>
                <a:close/>
              </a:path>
            </a:pathLst>
          </a:custGeom>
          <a:solidFill>
            <a:srgbClr val="367d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4"/>
          <p:cNvSpPr/>
          <p:nvPr/>
        </p:nvSpPr>
        <p:spPr>
          <a:xfrm rot="10800000">
            <a:off x="5408640" y="6810480"/>
            <a:ext cx="2820960" cy="573120"/>
          </a:xfrm>
          <a:prstGeom prst="rect">
            <a:avLst/>
          </a:prstGeom>
          <a:solidFill>
            <a:srgbClr val="c8b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45"/>
          <p:cNvSpPr/>
          <p:nvPr/>
        </p:nvSpPr>
        <p:spPr>
          <a:xfrm rot="10800000">
            <a:off x="5408280" y="6629040"/>
            <a:ext cx="609480" cy="1810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46"/>
          <p:cNvSpPr/>
          <p:nvPr/>
        </p:nvSpPr>
        <p:spPr>
          <a:xfrm rot="10800000">
            <a:off x="2057040" y="6652800"/>
            <a:ext cx="609480" cy="18252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7"/>
          <p:cNvSpPr/>
          <p:nvPr/>
        </p:nvSpPr>
        <p:spPr>
          <a:xfrm rot="10800000">
            <a:off x="3124080" y="6276960"/>
            <a:ext cx="609840" cy="5335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8"/>
          <p:cNvSpPr/>
          <p:nvPr/>
        </p:nvSpPr>
        <p:spPr>
          <a:xfrm rot="10800000">
            <a:off x="8229600" y="6629040"/>
            <a:ext cx="990720" cy="30492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49"/>
          <p:cNvSpPr/>
          <p:nvPr/>
        </p:nvSpPr>
        <p:spPr>
          <a:xfrm flipH="1" flipV="1">
            <a:off x="2894040" y="6276600"/>
            <a:ext cx="1440" cy="35244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50"/>
          <p:cNvSpPr/>
          <p:nvPr/>
        </p:nvSpPr>
        <p:spPr>
          <a:xfrm flipV="1">
            <a:off x="2057400" y="6629400"/>
            <a:ext cx="0" cy="533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51"/>
          <p:cNvSpPr/>
          <p:nvPr/>
        </p:nvSpPr>
        <p:spPr>
          <a:xfrm>
            <a:off x="-458640" y="6276960"/>
            <a:ext cx="96012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52"/>
          <p:cNvSpPr/>
          <p:nvPr/>
        </p:nvSpPr>
        <p:spPr>
          <a:xfrm flipV="1">
            <a:off x="2055240" y="6784560"/>
            <a:ext cx="6173640" cy="2556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55"/>
          <p:cNvSpPr/>
          <p:nvPr/>
        </p:nvSpPr>
        <p:spPr>
          <a:xfrm flipH="1" flipV="1">
            <a:off x="3731760" y="6276960"/>
            <a:ext cx="1800" cy="65736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56"/>
          <p:cNvSpPr/>
          <p:nvPr/>
        </p:nvSpPr>
        <p:spPr>
          <a:xfrm flipV="1">
            <a:off x="5410080" y="6629040"/>
            <a:ext cx="0" cy="3049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57"/>
          <p:cNvSpPr/>
          <p:nvPr/>
        </p:nvSpPr>
        <p:spPr>
          <a:xfrm flipH="1" flipV="1">
            <a:off x="608040" y="6276960"/>
            <a:ext cx="1440" cy="58104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58"/>
          <p:cNvSpPr/>
          <p:nvPr/>
        </p:nvSpPr>
        <p:spPr>
          <a:xfrm flipH="1" flipV="1">
            <a:off x="379440" y="6276960"/>
            <a:ext cx="1440" cy="65736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Group 59"/>
          <p:cNvGrpSpPr/>
          <p:nvPr/>
        </p:nvGrpSpPr>
        <p:grpSpPr>
          <a:xfrm>
            <a:off x="-306360" y="6270480"/>
            <a:ext cx="2362320" cy="852480"/>
            <a:chOff x="-306360" y="6270480"/>
            <a:chExt cx="2362320" cy="852480"/>
          </a:xfrm>
        </p:grpSpPr>
        <p:sp>
          <p:nvSpPr>
            <p:cNvPr id="112" name="Freeform 60"/>
            <p:cNvSpPr/>
            <p:nvPr/>
          </p:nvSpPr>
          <p:spPr>
            <a:xfrm rot="10800000">
              <a:off x="-306360" y="6275160"/>
              <a:ext cx="2362320" cy="847800"/>
            </a:xfrm>
            <a:custGeom>
              <a:avLst/>
              <a:gdLst>
                <a:gd name="textAreaLeft" fmla="*/ 0 w 2362320"/>
                <a:gd name="textAreaRight" fmla="*/ 2362320 w 2362320"/>
                <a:gd name="textAreaTop" fmla="*/ 0 h 847800"/>
                <a:gd name="textAreaBottom" fmla="*/ 848160 h 847800"/>
              </a:gdLst>
              <a:ahLst/>
              <a:rect l="textAreaLeft" t="textAreaTop" r="textAreaRight" b="textAreaBottom"/>
              <a:pathLst>
                <a:path w="1488" h="534">
                  <a:moveTo>
                    <a:pt x="0" y="6"/>
                  </a:moveTo>
                  <a:cubicBezTo>
                    <a:pt x="130" y="27"/>
                    <a:pt x="392" y="0"/>
                    <a:pt x="783" y="133"/>
                  </a:cubicBezTo>
                  <a:cubicBezTo>
                    <a:pt x="1174" y="266"/>
                    <a:pt x="1341" y="450"/>
                    <a:pt x="1488" y="534"/>
                  </a:cubicBezTo>
                </a:path>
              </a:pathLst>
            </a:custGeom>
            <a:noFill/>
            <a:ln w="38160">
              <a:solidFill>
                <a:srgbClr val="dad0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61"/>
            <p:cNvSpPr/>
            <p:nvPr/>
          </p:nvSpPr>
          <p:spPr>
            <a:xfrm rot="10800000">
              <a:off x="-290520" y="6270480"/>
              <a:ext cx="2346480" cy="528840"/>
            </a:xfrm>
            <a:custGeom>
              <a:avLst/>
              <a:gdLst>
                <a:gd name="textAreaLeft" fmla="*/ 0 w 2346480"/>
                <a:gd name="textAreaRight" fmla="*/ 2346840 w 2346480"/>
                <a:gd name="textAreaTop" fmla="*/ 0 h 528840"/>
                <a:gd name="textAreaBottom" fmla="*/ 529200 h 528840"/>
              </a:gdLst>
              <a:ahLst/>
              <a:rect l="textAreaLeft" t="textAreaTop" r="textAreaRight" b="textAreaBottom"/>
              <a:pathLst>
                <a:path w="1478" h="333">
                  <a:moveTo>
                    <a:pt x="0" y="0"/>
                  </a:moveTo>
                  <a:cubicBezTo>
                    <a:pt x="125" y="10"/>
                    <a:pt x="498" y="2"/>
                    <a:pt x="750" y="62"/>
                  </a:cubicBezTo>
                  <a:cubicBezTo>
                    <a:pt x="1002" y="122"/>
                    <a:pt x="1326" y="277"/>
                    <a:pt x="1478" y="333"/>
                  </a:cubicBezTo>
                </a:path>
              </a:pathLst>
            </a:custGeom>
            <a:noFill/>
            <a:ln w="38160">
              <a:solidFill>
                <a:srgbClr val="dad0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Line 64"/>
          <p:cNvSpPr/>
          <p:nvPr/>
        </p:nvSpPr>
        <p:spPr>
          <a:xfrm>
            <a:off x="4191120" y="6629400"/>
            <a:ext cx="495288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65"/>
          <p:cNvSpPr/>
          <p:nvPr/>
        </p:nvSpPr>
        <p:spPr>
          <a:xfrm flipV="1">
            <a:off x="6019920" y="6629400"/>
            <a:ext cx="0" cy="4572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66"/>
          <p:cNvSpPr/>
          <p:nvPr/>
        </p:nvSpPr>
        <p:spPr>
          <a:xfrm flipV="1">
            <a:off x="3124080" y="6248160"/>
            <a:ext cx="0" cy="60948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67"/>
          <p:cNvSpPr/>
          <p:nvPr/>
        </p:nvSpPr>
        <p:spPr>
          <a:xfrm flipV="1">
            <a:off x="8229600" y="6629040"/>
            <a:ext cx="0" cy="2286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54"/>
          <p:cNvSpPr/>
          <p:nvPr/>
        </p:nvSpPr>
        <p:spPr>
          <a:xfrm>
            <a:off x="608760" y="6629400"/>
            <a:ext cx="358164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69"/>
          <p:cNvSpPr/>
          <p:nvPr/>
        </p:nvSpPr>
        <p:spPr>
          <a:xfrm>
            <a:off x="609480" y="6324480"/>
            <a:ext cx="2667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70"/>
          <p:cNvSpPr/>
          <p:nvPr/>
        </p:nvSpPr>
        <p:spPr>
          <a:xfrm>
            <a:off x="3657600" y="63244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Copyright</a:t>
            </a: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© 2009 by The McGraw-Hill Companies, Inc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533160" y="106668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http://www.nasd.com/" TargetMode="External"/><Relationship Id="rId2" Type="http://schemas.openxmlformats.org/officeDocument/2006/relationships/hyperlink" Target="http://www.bearmarketcentral.com/" TargetMode="External"/><Relationship Id="rId3" Type="http://schemas.openxmlformats.org/officeDocument/2006/relationships/hyperlink" Target="http://www.nasdaq.com/" TargetMode="External"/><Relationship Id="rId4" Type="http://schemas.openxmlformats.org/officeDocument/2006/relationships/hyperlink" Target="http://www.moneycentral.msn.com/" TargetMode="External"/><Relationship Id="rId5" Type="http://schemas.openxmlformats.org/officeDocument/2006/relationships/hyperlink" Target="http://www.sharebuilder.com/" TargetMode="External"/><Relationship Id="rId6" Type="http://schemas.openxmlformats.org/officeDocument/2006/relationships/hyperlink" Target="http://www.buyandhold.com/" TargetMode="External"/><Relationship Id="rId7" Type="http://schemas.openxmlformats.org/officeDocument/2006/relationships/hyperlink" Target="http://www.individual.ml.com/" TargetMode="External"/><Relationship Id="rId8" Type="http://schemas.openxmlformats.org/officeDocument/2006/relationships/hyperlink" Target="http://www.money-rates.com/" TargetMode="External"/><Relationship Id="rId9" Type="http://schemas.openxmlformats.org/officeDocument/2006/relationships/hyperlink" Target="http://finance.yahoo.com/" TargetMode="External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-360" y="1828440"/>
            <a:ext cx="3048120" cy="304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700" spc="-1" strike="noStrike">
                <a:solidFill>
                  <a:srgbClr val="660066"/>
                </a:solidFill>
                <a:latin typeface="Arial"/>
              </a:rPr>
              <a:t>2</a:t>
            </a:r>
            <a:endParaRPr b="0" lang="en-US" sz="127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276720" y="1828440"/>
            <a:ext cx="5410080" cy="4419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Buying and </a:t>
            </a:r>
            <a:br>
              <a:rPr sz="3600"/>
            </a:b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Selling Secur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0FFA3768-5681-4847-A065-106BED1F111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Brokerage Account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A 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Cash account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a brokerage account in which securities are paid for in fu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A Margin account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a brokerage account in which, subject to limits, securities can be bought and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sold shor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n cred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5105520" y="4952880"/>
            <a:ext cx="350496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(more on selling short la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54D53E3E-5F1F-4754-885E-BFEE4FB09F1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Margin Account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a </a:t>
            </a:r>
            <a:r>
              <a:rPr b="1" i="1" lang="en-US" sz="2000" spc="-1" strike="noStrike">
                <a:solidFill>
                  <a:srgbClr val="009999"/>
                </a:solidFill>
                <a:latin typeface="Arial"/>
              </a:rPr>
              <a:t>margin purcha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the </a:t>
            </a:r>
            <a:r>
              <a:rPr b="1" i="1" lang="en-US" sz="2000" spc="-1" strike="noStrike">
                <a:solidFill>
                  <a:srgbClr val="009999"/>
                </a:solidFill>
                <a:latin typeface="Arial"/>
              </a:rPr>
              <a:t>portion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the value of an investment that is </a:t>
            </a:r>
            <a:r>
              <a:rPr b="1" i="1" lang="en-US" sz="2000" spc="-1" strike="noStrike">
                <a:solidFill>
                  <a:srgbClr val="009999"/>
                </a:solidFill>
                <a:latin typeface="Arial"/>
              </a:rPr>
              <a:t>not borrow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called the </a:t>
            </a:r>
            <a:r>
              <a:rPr b="1" i="1" lang="en-US" sz="2000" spc="-1" strike="noStrike">
                <a:solidFill>
                  <a:srgbClr val="009999"/>
                </a:solidFill>
                <a:latin typeface="Arial"/>
              </a:rPr>
              <a:t>marg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course, the portion that is borrowed incurs an interest char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nterest is based on the broker’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all money ra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all money rate is the rate brokers pay to borrow money to lend to customers in their margin accou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3AAAA422-0D32-4CAA-B851-315A71CC27D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Example: Margin Accounts,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The Balance Sheet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533520" y="4038480"/>
          <a:ext cx="8229600" cy="2370240"/>
        </p:xfrm>
        <a:graphic>
          <a:graphicData uri="http://schemas.openxmlformats.org/drawingml/2006/table">
            <a:tbl>
              <a:tblPr/>
              <a:tblGrid>
                <a:gridCol w="2639880"/>
                <a:gridCol w="1241280"/>
                <a:gridCol w="2976840"/>
                <a:gridCol w="1371600"/>
              </a:tblGrid>
              <a:tr h="7671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abilities and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ount Equ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00 Shares, PF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24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gin Lo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  6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8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ount Equ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18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24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24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6" name="Text Box 36"/>
          <p:cNvSpPr/>
          <p:nvPr/>
        </p:nvSpPr>
        <p:spPr>
          <a:xfrm>
            <a:off x="685800" y="1523880"/>
            <a:ext cx="8001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37"/>
          <p:cNvSpPr/>
          <p:nvPr/>
        </p:nvSpPr>
        <p:spPr>
          <a:xfrm>
            <a:off x="762120" y="1219320"/>
            <a:ext cx="7924680" cy="26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You buy 1,000 Pfizer shares at $24 per share.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You put up $18,000 and borrow the rest.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mount borrowed = $24,000 – $18,000 = $6,000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gin = $18,000 / $24,000 = 7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0ED4B165-EE03-4B7F-8111-E5B78F424F2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Margin Account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a margin purchase, the </a:t>
            </a:r>
            <a:r>
              <a:rPr b="1" i="1" lang="en-US" sz="2000" spc="-1" strike="noStrike">
                <a:solidFill>
                  <a:srgbClr val="009999"/>
                </a:solidFill>
                <a:latin typeface="Arial"/>
              </a:rPr>
              <a:t>minimum marg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at must be supplied is </a:t>
            </a:r>
            <a:r>
              <a:rPr b="1" i="1" lang="en-US" sz="2000" spc="-1" strike="noStrike">
                <a:solidFill>
                  <a:srgbClr val="009999"/>
                </a:solidFill>
                <a:latin typeface="Arial"/>
              </a:rPr>
              <a:t>called the initial marg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maintenance marg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the margin amount that 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must be present at all tim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a margin account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the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margin drops below the maintenance marg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the broker can demand more funds. This is known as a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margin c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D6A88054-DC6C-4025-B039-79FC60C75FB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Example: The Workings of 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a Margin Account, I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685800" y="4038480"/>
          <a:ext cx="8001000" cy="2398680"/>
        </p:xfrm>
        <a:graphic>
          <a:graphicData uri="http://schemas.openxmlformats.org/drawingml/2006/table">
            <a:tbl>
              <a:tblPr/>
              <a:tblGrid>
                <a:gridCol w="2567160"/>
                <a:gridCol w="1206360"/>
                <a:gridCol w="2855880"/>
                <a:gridCol w="1371600"/>
              </a:tblGrid>
              <a:tr h="6998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abilities and 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ount Equ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 Shares of WHOA @ $50/sha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4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gin Lo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2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ount Equ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2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4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4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4" name="Text Box 36"/>
          <p:cNvSpPr/>
          <p:nvPr/>
        </p:nvSpPr>
        <p:spPr>
          <a:xfrm>
            <a:off x="685800" y="1523880"/>
            <a:ext cx="8001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37"/>
          <p:cNvSpPr/>
          <p:nvPr/>
        </p:nvSpPr>
        <p:spPr>
          <a:xfrm>
            <a:off x="533520" y="1143000"/>
            <a:ext cx="8305560" cy="27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Your margin account requires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 initial margin of 50%,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maintenance margin of 30%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 Share in Miller Moore Equine Enterprises (WHOA) is selling for $50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You have $20,000, and you want to buy as much WHOA as you can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You may buy up to $20,000 / 0.5 = $40,000 worth of WHO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1BAA3B80-7387-45DB-89F5-7EB139DC560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Example: The Workings of 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a Margin Account, II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762120" y="3733920"/>
          <a:ext cx="7772400" cy="2398680"/>
        </p:xfrm>
        <a:graphic>
          <a:graphicData uri="http://schemas.openxmlformats.org/drawingml/2006/table">
            <a:tbl>
              <a:tblPr/>
              <a:tblGrid>
                <a:gridCol w="2493720"/>
                <a:gridCol w="1171800"/>
                <a:gridCol w="2609640"/>
                <a:gridCol w="1497240"/>
              </a:tblGrid>
              <a:tr h="6998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abilities and 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ount Equ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 Shares of WHOA @ $35/sha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28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gin Lo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2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ount Equ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  </a:t>
                      </a:r>
                      <a:r>
                        <a:rPr b="1" lang="en-US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8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28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</a:t>
                      </a: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8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9" name="Text Box 36"/>
          <p:cNvSpPr/>
          <p:nvPr/>
        </p:nvSpPr>
        <p:spPr>
          <a:xfrm>
            <a:off x="685800" y="1523880"/>
            <a:ext cx="8001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37"/>
          <p:cNvSpPr/>
          <p:nvPr/>
        </p:nvSpPr>
        <p:spPr>
          <a:xfrm>
            <a:off x="228600" y="1295280"/>
            <a:ext cx="8915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38"/>
          <p:cNvSpPr/>
          <p:nvPr/>
        </p:nvSpPr>
        <p:spPr>
          <a:xfrm>
            <a:off x="762120" y="1447920"/>
            <a:ext cx="7696080" cy="20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fter your purchase, shares of WHOA fall to $35. (Woe!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w margin = $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  <a:ea typeface="Arial"/>
              </a:rPr>
              <a:t>8,00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/ $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28,000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= 28.6%  &lt;  30%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refore, you are subject to 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margin cal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6B274B73-7C8E-4034-996A-BC6DF07D88E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Example: The Effects of Margin, 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16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have $30,000 in a margin account, 60% initial margin requi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buy $50,000 of stock with this account (why?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r borrowing rate from your broker is 6.00%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se you buy 1,000 shares of Coca-Cola (KO), for $50/sha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me no dividends, and that your borrowing rate is still 6.00%, what is your return if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one year, KO is selling for $60 per share?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one year, KO stock is selling for $60 per share, but you did not borrow money from your brok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BFB3BDAB-19D0-49A2-8BE4-C609DF2D6F9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Example: The Effects of Margin, I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24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 is selling for $60 per sha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our investment is worth $60,000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ou owe 6% on the $20,000 you borrowed: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$1,20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you pay off the loan with interest, your account balance is: $60,000 – $21,200 = $38,800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ou started with $30,00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refore, your return is $8,800 / $30,000 = 29.33%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Suppose Coca-Cola stock was selling for $40 per share instead of $60 per share?  What is your retur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2314600D-6A5A-4CB3-A0F0-451DDECEBCD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Example: The Effects of Margin, II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0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ca-Cola stock is selling for $60 per share, 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but you did not borrow from your brok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ou started with $30,000, which means you were able to buy $30,000 / $50 = 600 shar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our investment is now worth $36,00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refore, your return is $6,000 / $30,000 = 20.00%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Suppose Coca-Cola is selling for $40 per share instead of $60 per share.  What is your return in this cas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4F5A0C91-A2FE-48BD-9FDB-1EDA2CB9BAE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Example: How Low Can it Go?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08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ppose you want to buy 300 shares of Pepsico, Inc. (PEP) at $55 per sha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tal cost: $16,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ou have only $9,900—so you must borrow $6,600.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our initial margin is $9,900/$16,500 = 60%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Suppose your maintenance margin is 40%. At what price will you receive a margin cal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6B22B46F-484B-490C-8728-2C990716227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Buying and Selling Securitie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grpSp>
        <p:nvGrpSpPr>
          <p:cNvPr id="170" name="Group 5"/>
          <p:cNvGrpSpPr/>
          <p:nvPr/>
        </p:nvGrpSpPr>
        <p:grpSpPr>
          <a:xfrm>
            <a:off x="685800" y="1447920"/>
            <a:ext cx="7924680" cy="2110680"/>
            <a:chOff x="685800" y="1447920"/>
            <a:chExt cx="7924680" cy="2110680"/>
          </a:xfrm>
        </p:grpSpPr>
        <p:sp>
          <p:nvSpPr>
            <p:cNvPr id="171" name="Text Box 3"/>
            <p:cNvSpPr/>
            <p:nvPr/>
          </p:nvSpPr>
          <p:spPr>
            <a:xfrm>
              <a:off x="685800" y="1447920"/>
              <a:ext cx="7924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“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on’t Gamble! Take all your savings and buy some good stock and hold it till it goes up.  If it don’t go up, don’t buy it.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 Box 4"/>
            <p:cNvSpPr/>
            <p:nvPr/>
          </p:nvSpPr>
          <p:spPr>
            <a:xfrm>
              <a:off x="5338080" y="3098880"/>
              <a:ext cx="196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–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Will Rog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عنصر نائب لرقم الشريحة 4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8B9EE45B-AFF9-46F3-9CBC-074DB0C79D1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Example: How Low Can it Go? Answer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761760" y="1301400"/>
            <a:ext cx="8001000" cy="517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happen when the price of Pepsico, Inc. drops to $36.67.  How so? Well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Object 4"/>
              <p:cNvSpPr txBox="1"/>
              <p:nvPr/>
            </p:nvSpPr>
            <p:spPr>
              <a:xfrm>
                <a:off x="1295280" y="2362320"/>
                <a:ext cx="6782040" cy="393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aintenance Margin Level </m:t>
                        </m:r>
                        <m:r>
                          <m:t xml:space="preserve">=</m:t>
                        </m:r>
                        <m:f>
                          <m:num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Number of Shares</m:t>
                                </m:r>
                                <m:r>
                                  <m:t xml:space="preserve">×</m:t>
                                </m:r>
                                <m:sSup>
                                  <m:e>
                                    <m:r>
                                      <m:t xml:space="preserve">P</m:t>
                                    </m:r>
                                  </m:e>
                                  <m:sup/>
                                </m:sSup>
                              </m:e>
                            </m:d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mount Borrowe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Number of Shares </m:t>
                            </m:r>
                            <m:r>
                              <m:t xml:space="preserve">×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/>
                            </m:sSup>
                          </m:den>
                        </m:f>
                      </m:e>
                      <m:e/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olving  for  the  critical  stock  price,  P</m:t>
                            </m:r>
                          </m:e>
                          <m:sup/>
                        </m:sSup>
                        <m:r>
                          <m:rPr>
                            <m:lit/>
                            <m:nor/>
                          </m:rPr>
                          <m:t xml:space="preserve">,  results  in</m:t>
                        </m:r>
                      </m:e>
                      <m:e/>
                      <m:e>
                        <m:sSup>
                          <m:e>
                            <m:r>
                              <m:t xml:space="preserve">P</m:t>
                            </m:r>
                          </m:e>
                          <m:sup/>
                        </m:sSup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Amount Borrowed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Number of Shares 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 - Maintenance Margin Level </m:t>
                            </m:r>
                          </m:den>
                        </m:f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So here,</m:t>
                        </m:r>
                      </m:e>
                      <m:e/>
                      <m:e>
                        <m:sSup>
                          <m:e>
                            <m:r>
                              <m:t xml:space="preserve">P</m:t>
                            </m:r>
                          </m:e>
                          <m:sup/>
                        </m:sSup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$6,60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00 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 - 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$3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9DE6F2DD-8515-44FC-B859-1B5654D143E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Example: Annualizing Returns 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on a Margin Purchase, I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buy 1,000 shares of Costco (COST) at $60 per share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r initial margin is 50%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borrow at the 9 percent call money rate plus 2 percent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sell Costco (COST) 3 months later for $63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were no dividends paid (and suppose the prices above are net of commissions)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is your holding period percentage return and your EA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عنصر نائب لرقم الشريحة 4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C4DEC204-C405-4850-AE23-F837E826EC3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Annualizing Returns on a Margin Purchase, II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swer: First, you have to repay the 3-month loan, so: t = (3/12 = .2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ount Repaid = Amount Borrowe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 (1 + interest rate per year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ount Repaid = $30,00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 (1 + .11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.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$30,00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 1.026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$30,792.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Your Sale Proceeds = Cash from Sale – Amount Repai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= $63,000 – 30,792.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 $32,207.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Profit = Your Sale Proceeds – Your Inves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$32,207.10 - $3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$2,207.1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4" name="Object 8"/>
          <p:cNvGraphicFramePr/>
          <p:nvPr/>
        </p:nvGraphicFramePr>
        <p:xfrm>
          <a:off x="533520" y="1066680"/>
          <a:ext cx="4267080" cy="548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5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066680"/>
                    <a:ext cx="426708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8DC22A39-CA88-4C72-97E4-D2D9109461B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Annualizing Returns on a Margin Purchase, III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grpSp>
        <p:nvGrpSpPr>
          <p:cNvPr id="258" name="Group 8"/>
          <p:cNvGrpSpPr/>
          <p:nvPr/>
        </p:nvGrpSpPr>
        <p:grpSpPr>
          <a:xfrm>
            <a:off x="838080" y="1676520"/>
            <a:ext cx="7696440" cy="4557600"/>
            <a:chOff x="838080" y="1676520"/>
            <a:chExt cx="7696440" cy="4557600"/>
          </a:xfrm>
        </p:grpSpPr>
        <mc:AlternateContent>
          <mc:Choice xmlns:a14="http://schemas.microsoft.com/office/drawing/2010/main" Requires="a14">
            <p:sp>
              <p:nvSpPr>
                <p:cNvPr id="259" name="Object 4"/>
                <p:cNvSpPr txBox="1"/>
                <p:nvPr/>
              </p:nvSpPr>
              <p:spPr>
                <a:xfrm>
                  <a:off x="838080" y="1676520"/>
                  <a:ext cx="7696440" cy="326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Holding Period Percentage Return </m:t>
                          </m:r>
                          <m:r>
                            <m:t xml:space="preserve">=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$32,207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0 - $30,000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$30,000</m:t>
                              </m:r>
                            </m:den>
                          </m:f>
                          <m:r>
                            <m:t xml:space="preserve">=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$2,207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$30,000</m:t>
                              </m:r>
                            </m:den>
                          </m:f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0736</m:t>
                          </m:r>
                        </m:e>
                        <m:e/>
                        <m:e>
                          <m:r>
                            <m:rPr>
                              <m:lit/>
                              <m:nor/>
                            </m:rPr>
                            <m:t xml:space="preserve">1 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 EAR </m:t>
                          </m:r>
                          <m:r>
                            <m:t xml:space="preserve">=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1 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 Holding Period Percentage Return</m:t>
                          </m: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m</m:t>
                              </m:r>
                            </m:sup>
                          </m:sSup>
                        </m:e>
                        <m:e/>
                        <m:e>
                          <m:r>
                            <m:rPr>
                              <m:lit/>
                              <m:nor/>
                            </m:rPr>
                            <m:t xml:space="preserve">            </m:t>
                          </m:r>
                          <m:r>
                            <m:t xml:space="preserve">=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1 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 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0736</m:t>
                          </m: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4</m:t>
                              </m:r>
                            </m:sup>
                          </m:sSup>
                        </m:e>
                        <m:e/>
                        <m:e>
                          <m:r>
                            <m:rPr>
                              <m:lit/>
                              <m:nor/>
                            </m:rPr>
                            <m:t xml:space="preserve">            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 1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3285</m:t>
                          </m:r>
                        </m:e>
                        <m:e/>
                        <m:e>
                          <m:r>
                            <m:rPr>
                              <m:lit/>
                              <m:nor/>
                            </m:rPr>
                            <m:t xml:space="preserve">So your EAR is about 32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85%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260" name="Text Box 7"/>
            <p:cNvSpPr/>
            <p:nvPr/>
          </p:nvSpPr>
          <p:spPr>
            <a:xfrm>
              <a:off x="5105520" y="5410080"/>
              <a:ext cx="3352680" cy="8240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Note that there are 12/3 = 4 three-month holding periods in a year. Therefore, m = 4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78B3CBC8-86C0-4DAD-BC74-D5B6443E358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Hypothecation and Street Name Registration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Hypothec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the act of pledging securities as a collateral against a lo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pledge is needed so that the securities can be sold by the broker if the customer is unwilling or unable to meet a margin ca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Street name registration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an arrangement under which a broker is the registered owner of a security. (You, as the account holder are the “beneficial owner.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69551B06-3136-4137-AAC3-3E1D573EA0C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Other Account Issues, 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ing accounts can also be differentiated by the ways they are managed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560d1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Advisory accou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You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omeone else to make buy and sell decisions on your behalf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560d1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Wrap accou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All the expenses associated with your account are “wrapped” into a single fee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560d1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Discretionary accou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You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thoriz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r broker to trade for you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560d1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Asset management accou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Provide for complete money management, including check-writing privileges, credit cards, and margin loa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3740FA9C-79F9-4E70-9F91-CB2F1837170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Other Account Issues, I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invest in financial securities, you do not need an account with a brok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alternative is to buy securities directly from the issu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other alternative is to invest in </a:t>
            </a:r>
            <a:r>
              <a:rPr b="1" i="1" lang="en-US" sz="2400" spc="-1" strike="noStrike">
                <a:solidFill>
                  <a:srgbClr val="009999"/>
                </a:solidFill>
                <a:latin typeface="Arial"/>
              </a:rPr>
              <a:t>mutual fun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AE1A993A-DE77-47A5-8597-412555F1708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Short Sales, 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143000" y="5333760"/>
            <a:ext cx="7391520" cy="72540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te that an investor who buys and owns shares of stock is said to be “</a:t>
            </a:r>
            <a:r>
              <a:rPr b="1" i="1" lang="en-US" sz="1600" spc="-1" strike="noStrike">
                <a:solidFill>
                  <a:srgbClr val="0033cc"/>
                </a:solidFill>
                <a:latin typeface="Arial"/>
              </a:rPr>
              <a:t>long the stock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or to have a “</a:t>
            </a:r>
            <a:r>
              <a:rPr b="1" i="1" lang="en-US" sz="1600" spc="-1" strike="noStrike">
                <a:solidFill>
                  <a:srgbClr val="0033cc"/>
                </a:solidFill>
                <a:latin typeface="Arial"/>
              </a:rPr>
              <a:t>long posi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12"/>
          <p:cNvSpPr/>
          <p:nvPr/>
        </p:nvSpPr>
        <p:spPr>
          <a:xfrm>
            <a:off x="838080" y="1219320"/>
            <a:ext cx="8077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spcBef>
                <a:spcPts val="300"/>
              </a:spcBef>
              <a:buClr>
                <a:srgbClr val="0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hort Sa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sale in which the seller does not actually own the security that is so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Group 16"/>
          <p:cNvGrpSpPr/>
          <p:nvPr/>
        </p:nvGrpSpPr>
        <p:grpSpPr>
          <a:xfrm>
            <a:off x="914400" y="2590920"/>
            <a:ext cx="7543800" cy="2197080"/>
            <a:chOff x="914400" y="2590920"/>
            <a:chExt cx="7543800" cy="2197080"/>
          </a:xfrm>
        </p:grpSpPr>
        <p:grpSp>
          <p:nvGrpSpPr>
            <p:cNvPr id="275" name="Group 15"/>
            <p:cNvGrpSpPr/>
            <p:nvPr/>
          </p:nvGrpSpPr>
          <p:grpSpPr>
            <a:xfrm>
              <a:off x="914400" y="2590920"/>
              <a:ext cx="7543800" cy="1714320"/>
              <a:chOff x="914400" y="2590920"/>
              <a:chExt cx="7543800" cy="1714320"/>
            </a:xfrm>
          </p:grpSpPr>
          <p:sp>
            <p:nvSpPr>
              <p:cNvPr id="276" name="Rectangle 5"/>
              <p:cNvSpPr/>
              <p:nvPr/>
            </p:nvSpPr>
            <p:spPr>
              <a:xfrm>
                <a:off x="914400" y="2590920"/>
                <a:ext cx="1433520" cy="1714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336600"/>
                </a:solidFill>
                <a:miter/>
              </a:ln>
              <a:effectLst>
                <a:outerShdw dist="107932" dir="189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Borrow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hare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rom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omeon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Rectangle 6"/>
              <p:cNvSpPr/>
              <p:nvPr/>
            </p:nvSpPr>
            <p:spPr>
              <a:xfrm>
                <a:off x="2986200" y="2590920"/>
                <a:ext cx="1433520" cy="1714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336600"/>
                </a:solidFill>
                <a:miter/>
              </a:ln>
              <a:effectLst>
                <a:outerShdw dist="107932" dir="189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ll th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hares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in the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rke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Line 7"/>
              <p:cNvSpPr/>
              <p:nvPr/>
            </p:nvSpPr>
            <p:spPr>
              <a:xfrm>
                <a:off x="2427120" y="3448080"/>
                <a:ext cx="559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Rectangle 9"/>
              <p:cNvSpPr/>
              <p:nvPr/>
            </p:nvSpPr>
            <p:spPr>
              <a:xfrm>
                <a:off x="5105520" y="2590920"/>
                <a:ext cx="1371600" cy="1714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336600"/>
                </a:solidFill>
                <a:miter/>
              </a:ln>
              <a:effectLst>
                <a:outerShdw dist="107932" dir="189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Buy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hare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rom th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rke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Rectangle 10"/>
              <p:cNvSpPr/>
              <p:nvPr/>
            </p:nvSpPr>
            <p:spPr>
              <a:xfrm>
                <a:off x="7086600" y="2590920"/>
                <a:ext cx="1371600" cy="1714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336600"/>
                </a:solidFill>
                <a:miter/>
              </a:ln>
              <a:effectLst>
                <a:outerShdw dist="107932" dir="189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turn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h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hare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Line 11"/>
              <p:cNvSpPr/>
              <p:nvPr/>
            </p:nvSpPr>
            <p:spPr>
              <a:xfrm>
                <a:off x="6477120" y="3448080"/>
                <a:ext cx="609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2" name="Text Box 13"/>
            <p:cNvSpPr/>
            <p:nvPr/>
          </p:nvSpPr>
          <p:spPr>
            <a:xfrm>
              <a:off x="1523880" y="4419720"/>
              <a:ext cx="243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oda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 Box 14"/>
            <p:cNvSpPr/>
            <p:nvPr/>
          </p:nvSpPr>
          <p:spPr>
            <a:xfrm>
              <a:off x="5410080" y="4419720"/>
              <a:ext cx="2895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 the Futu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3EA4C794-69AD-4C3F-8A7F-5CD51D02265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Short Sales, I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79977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investor with a long position benefits from price increas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y to underst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buy today at $34, and sell later at $57, you profi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Buy low, sell hi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investor with a short position benefits from price decreas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easy to underst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sell today at $83, and buy later at $27, you prof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ll high, buy 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عنصر نائب لرقم الشريحة 4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83B58F71-42C5-4D4F-BA0E-CAABA8EBF7C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Example: Short Sales, 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818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ou short 100 shares of Texas Instruments (TXN) at $30 per share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our broker has a 50% initial margin and a 40% maintenance margin on short sales.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value of stock borrowed that will be sold short is: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30 × $100 = $3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762120" y="3657600"/>
          <a:ext cx="7696080" cy="2316240"/>
        </p:xfrm>
        <a:graphic>
          <a:graphicData uri="http://schemas.openxmlformats.org/drawingml/2006/table">
            <a:tbl>
              <a:tblPr/>
              <a:tblGrid>
                <a:gridCol w="2612880"/>
                <a:gridCol w="1270080"/>
                <a:gridCol w="2469960"/>
                <a:gridCol w="1343160"/>
              </a:tblGrid>
              <a:tr h="916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abilities and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ount Equ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le Proceed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3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rt Posi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3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3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itial Margin Depos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1,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ount Equ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1,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4,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4,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ED8A9B28-92E5-418A-AEFF-22C3473A21B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Learning Objective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’t sell yourself short. Instead, learn about these key investment subjects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The various types of securities brokers and brokerage accounts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How to calculate initial and maintenance margi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The workings of short sales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The importance of investor objectives, constraints, and strateg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عنصر نائب لرقم الشريحة 4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CBFF736C-0D04-444D-A75A-9A8ADFAACCD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Example: Short Sales, I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8153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as Instrument stock price falls to $20 per sha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ld at $30, value today is $20, so you are "ahead" by $10 per share, or $1,00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so, new margin: $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2,50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/ $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,00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12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685800" y="3733920"/>
          <a:ext cx="8001000" cy="2361960"/>
        </p:xfrm>
        <a:graphic>
          <a:graphicData uri="http://schemas.openxmlformats.org/drawingml/2006/table">
            <a:tbl>
              <a:tblPr/>
              <a:tblGrid>
                <a:gridCol w="2716200"/>
                <a:gridCol w="1247760"/>
                <a:gridCol w="2716200"/>
                <a:gridCol w="1320840"/>
              </a:tblGrid>
              <a:tr h="798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abilities an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ount Equ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le Proceed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3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rt Posi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itial Margin Deposit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1,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ount Equ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</a:t>
                      </a:r>
                      <a:r>
                        <a:rPr b="1" lang="en-US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2,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4,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4,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عنصر نائب لرقم الشريحة 4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A0A067F9-8FC4-429F-9AD7-7B36DCD8CFB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Example: Short Sales, II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as Instruments stock price rises to $40 per sha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ou sold short at $30, stock price is now $40, you are "behind" by $10 per share, or $1,000.  </a:t>
            </a: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(He who sells what isn’t his’n, must buy it back—or go to prison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so: new margin = $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50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/ $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4,00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12.5%  &lt;  40% Therefore, you are subject to a margin ca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762120" y="3657600"/>
          <a:ext cx="7848360" cy="2314440"/>
        </p:xfrm>
        <a:graphic>
          <a:graphicData uri="http://schemas.openxmlformats.org/drawingml/2006/table">
            <a:tbl>
              <a:tblPr/>
              <a:tblGrid>
                <a:gridCol w="2663640"/>
                <a:gridCol w="1224000"/>
                <a:gridCol w="2521080"/>
                <a:gridCol w="1439640"/>
              </a:tblGrid>
              <a:tr h="7671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abilities an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ount Equ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le Proceed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3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rt Posi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0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itial Margin Depos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1,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ount Equ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   </a:t>
                      </a:r>
                      <a:r>
                        <a:rPr b="1" lang="en-US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4,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4,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0F14DE18-511A-4E73-96A0-578EE8CA27E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More on Short Sale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Short interes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the amount of common stock held in short positions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practice, short selling is quite common and a substantial volume of stock sales are initiated by short sellers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 that with a short position, you may lose more than your total investment, as there is no theoretical limit to how high the stock price may ri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92C27D32-D685-4ADD-8C43-EECC970DEFF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Biggest Short Positions 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(from </a:t>
            </a:r>
            <a:r>
              <a:rPr b="0" i="1" lang="en-US" sz="2800" spc="-1" strike="noStrike">
                <a:solidFill>
                  <a:srgbClr val="660066"/>
                </a:solidFill>
                <a:latin typeface="Arial"/>
              </a:rPr>
              <a:t>The</a:t>
            </a: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660066"/>
                </a:solidFill>
                <a:latin typeface="Arial"/>
              </a:rPr>
              <a:t>Wall Street Journal)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304" name="Picture 8" descr="scl1"/>
          <p:cNvPicPr/>
          <p:nvPr/>
        </p:nvPicPr>
        <p:blipFill>
          <a:blip r:embed="rId1"/>
          <a:stretch/>
        </p:blipFill>
        <p:spPr>
          <a:xfrm>
            <a:off x="905040" y="1192320"/>
            <a:ext cx="7629480" cy="49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211B37F9-D497-45A2-BBB2-B7F4A9A8249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Investment Objective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damental Question: Why invest at al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invest today to have more tomorro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estment is simply deferred consump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choose to wait because we want more to spend la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formulating investment objectives, the individual must balance return objectives with risk tole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estors must think about risk and retur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estors must think about how much risk they can hand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F1D4FB36-709E-4863-9D2F-54D18C7B19F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Investment Strategies and Policie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33160" y="1230120"/>
            <a:ext cx="8305560" cy="53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Investment management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hould you manage your investments yourself?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Market timing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Should you try to buy and sell in anticipation of the future direction of the market?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Asset allocation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How should you distribute your investment funds across the different classes of assets?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Security selection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Within each class, which specific securities should you bu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6F7445D4-7BCD-4FDA-8D92-527E048B433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Investor Constraint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Resources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hat is the minimum sum needed? What are the associated costs?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Horizon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hen do you need the money?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Liquidity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ow high is the possibility that you need to sell the asset quickly?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Taxes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hich tax bracket are you in?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Special circumstances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oes your company provide any incentive? What are your regulatory and legal restrictio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1E59D38F-A141-47B8-8545-68A6E92AA24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Forming an Investment Portfolio, 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e the Risk Tolerance Quiz in the textbook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score did you ge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Picture 7" descr="jor82353_tb0201"/>
          <p:cNvPicPr/>
          <p:nvPr/>
        </p:nvPicPr>
        <p:blipFill>
          <a:blip r:embed="rId1"/>
          <a:stretch/>
        </p:blipFill>
        <p:spPr>
          <a:xfrm>
            <a:off x="685800" y="3200400"/>
            <a:ext cx="7924680" cy="28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585FA4C2-B09F-4F7D-93B5-8762148584D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Forming an Investment Portfolio, I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es your score mea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5" descr="jor82353_tb0202"/>
          <p:cNvPicPr/>
          <p:nvPr/>
        </p:nvPicPr>
        <p:blipFill>
          <a:blip r:embed="rId1"/>
          <a:stretch/>
        </p:blipFill>
        <p:spPr>
          <a:xfrm>
            <a:off x="609480" y="2743200"/>
            <a:ext cx="8153640" cy="28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7220D0BB-AF25-4905-ADA3-B069B78034D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Useful Internet Site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33160" y="1230480"/>
            <a:ext cx="83055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finra.org</a:t>
            </a:r>
            <a:r>
              <a:rPr b="0" lang="en-US" sz="1800" spc="-1" strike="noStrike">
                <a:solidFill>
                  <a:srgbClr val="367d82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a reference for dispute resolu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bearmarketcentral.com</a:t>
            </a:r>
            <a:r>
              <a:rPr b="0" lang="en-US" sz="1800" spc="-1" strike="noStrike">
                <a:solidFill>
                  <a:srgbClr val="367d82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a reference for short sell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nasdaq.com</a:t>
            </a:r>
            <a:r>
              <a:rPr b="0" lang="en-US" sz="1800" spc="-1" strike="noStrike">
                <a:solidFill>
                  <a:srgbClr val="367d82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a reference for short intere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moneycentral.msn.com</a:t>
            </a:r>
            <a:r>
              <a:rPr b="0" lang="en-US" sz="1800" spc="-1" strike="noStrike">
                <a:solidFill>
                  <a:srgbClr val="367d82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 reference for building a portfolio—search the site for “Build your first stock portfoli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sharebuilder.com</a:t>
            </a:r>
            <a:r>
              <a:rPr b="0" lang="en-US" sz="1800" spc="-1" strike="noStrike">
                <a:solidFill>
                  <a:srgbClr val="367d82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 reference for opening a brokerage account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ww.buyandhold.com</a:t>
            </a:r>
            <a:r>
              <a:rPr b="0" lang="en-US" sz="1800" spc="-1" strike="noStrike">
                <a:solidFill>
                  <a:srgbClr val="367d82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nother reference for opening a brokerage accou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www.individual.ml.com</a:t>
            </a:r>
            <a:r>
              <a:rPr b="0" lang="en-US" sz="1800" spc="-1" strike="noStrike">
                <a:solidFill>
                  <a:srgbClr val="367d82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a risk tolerance questionnaire from Merrill Lyn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www.money-rates.com</a:t>
            </a:r>
            <a:r>
              <a:rPr b="0" lang="en-US" sz="1800" spc="-1" strike="noStrike">
                <a:solidFill>
                  <a:srgbClr val="367d82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a reference for current broker call money ra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finance.yahoo.c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(a reference for short sales on particular stocks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A95D633E-F19C-40D3-8BAC-7B0A890A353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Buying and Selling Securitie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78" name="Rectangle 3"/>
          <p:cNvSpPr/>
          <p:nvPr/>
        </p:nvSpPr>
        <p:spPr>
          <a:xfrm>
            <a:off x="533520" y="1066680"/>
            <a:ext cx="82296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chapter covers the basics of the investing proc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begin by describing how you go about buying and selling securities, such as stocks and bonds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n, we outline some important considerations and constraints to keep in mind as you get more involved in the investing proc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3BB06284-482E-4E95-B30A-7A9F02A1CF1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Chapter Review, 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24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oosing a Brok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ine Brok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urity Investors Protection Corpo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ker-Customer Relation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okerage Accou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sh Ac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gin Ac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Note on Annualizing Retu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ypothecation and Street Name Regist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Account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588ADD6D-1665-4752-B625-FEAE134BC18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Chapter Review, I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24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S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ics of a Short S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Detail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stor Objectives, Constraints, and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sk and Retu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estor Constra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ategies and Poli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6BEABF30-504A-487B-92B9-AA861E0EBE7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Getting Started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grpSp>
        <p:nvGrpSpPr>
          <p:cNvPr id="181" name="Group 3"/>
          <p:cNvGrpSpPr/>
          <p:nvPr/>
        </p:nvGrpSpPr>
        <p:grpSpPr>
          <a:xfrm>
            <a:off x="1447920" y="1752480"/>
            <a:ext cx="6095880" cy="3886200"/>
            <a:chOff x="1447920" y="1752480"/>
            <a:chExt cx="6095880" cy="3886200"/>
          </a:xfrm>
        </p:grpSpPr>
        <p:sp>
          <p:nvSpPr>
            <p:cNvPr id="182" name="Line 4"/>
            <p:cNvSpPr/>
            <p:nvPr/>
          </p:nvSpPr>
          <p:spPr>
            <a:xfrm>
              <a:off x="4038480" y="464832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5"/>
            <p:cNvSpPr/>
            <p:nvPr/>
          </p:nvSpPr>
          <p:spPr>
            <a:xfrm>
              <a:off x="5029200" y="2971800"/>
              <a:ext cx="243828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66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(c) Buy 100 Shares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of Disney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at $33 per sha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6"/>
            <p:cNvSpPr/>
            <p:nvPr/>
          </p:nvSpPr>
          <p:spPr>
            <a:xfrm>
              <a:off x="5029200" y="4572000"/>
              <a:ext cx="2514600" cy="1066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66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(e) $6,650 Cas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 Accou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$3,300 Stock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 Accou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7"/>
            <p:cNvSpPr/>
            <p:nvPr/>
          </p:nvSpPr>
          <p:spPr>
            <a:xfrm>
              <a:off x="1523880" y="4267080"/>
              <a:ext cx="251460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66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(d) Pay Commission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y $5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8"/>
            <p:cNvSpPr/>
            <p:nvPr/>
          </p:nvSpPr>
          <p:spPr>
            <a:xfrm>
              <a:off x="1447920" y="3048120"/>
              <a:ext cx="2590560" cy="76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66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(b) Deposit $10,0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to accou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9"/>
            <p:cNvSpPr/>
            <p:nvPr/>
          </p:nvSpPr>
          <p:spPr>
            <a:xfrm>
              <a:off x="6248520" y="2438280"/>
              <a:ext cx="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10"/>
            <p:cNvSpPr/>
            <p:nvPr/>
          </p:nvSpPr>
          <p:spPr>
            <a:xfrm flipV="1">
              <a:off x="2819520" y="1981080"/>
              <a:ext cx="0" cy="99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Rectangle 11"/>
            <p:cNvSpPr/>
            <p:nvPr/>
          </p:nvSpPr>
          <p:spPr>
            <a:xfrm>
              <a:off x="4876920" y="1752480"/>
              <a:ext cx="266688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66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(a) Open a brokera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 trading accou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12"/>
            <p:cNvSpPr/>
            <p:nvPr/>
          </p:nvSpPr>
          <p:spPr>
            <a:xfrm>
              <a:off x="2819520" y="1981080"/>
              <a:ext cx="2057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13"/>
            <p:cNvSpPr/>
            <p:nvPr/>
          </p:nvSpPr>
          <p:spPr>
            <a:xfrm>
              <a:off x="6248520" y="388620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14"/>
            <p:cNvSpPr/>
            <p:nvPr/>
          </p:nvSpPr>
          <p:spPr>
            <a:xfrm>
              <a:off x="4572000" y="2209680"/>
              <a:ext cx="0" cy="2438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15"/>
            <p:cNvSpPr/>
            <p:nvPr/>
          </p:nvSpPr>
          <p:spPr>
            <a:xfrm>
              <a:off x="4572000" y="220968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6A220C61-F567-41F2-8C28-F52EDE79FBC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Choosing a Broker, 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kers are now divided into three groups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ll-service brok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ount brok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ep-discount broker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se three groups can be distinguished by the level of service provided, as well as the level of commissions charg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BA41DD92-3051-47B8-9F74-557D8CC4F47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Choosing a Broker, I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3160" y="1308240"/>
            <a:ext cx="83055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the brokerage industry becomes more competitive, the differences among broker types continues to blur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other important change is the rapid growth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nline brok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also known as </a:t>
            </a:r>
            <a:r>
              <a:rPr b="1" i="1" lang="en-US" sz="2000" spc="-1" strike="noStrike">
                <a:solidFill>
                  <a:srgbClr val="009999"/>
                </a:solidFill>
                <a:latin typeface="Arial"/>
              </a:rPr>
              <a:t>e-brok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i="1" lang="en-US" sz="2000" spc="-1" strike="noStrike">
                <a:solidFill>
                  <a:srgbClr val="009999"/>
                </a:solidFill>
                <a:latin typeface="Arial"/>
              </a:rPr>
              <a:t>cyberbrok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ine investing has really changed the brokerage indus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ashing brokerage commis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ing investment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s place buy and sell orders over the Inter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33108CEA-7056-4F8C-9D51-117DB389141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Securities Investor Protection Corporation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Securities Investor Protection Corporation (SIPC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urance fund covering investors’ brokerage accounts when member firms go bankrupt or experience financial difficulties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brokerage firms belong to the SIPC, which insures each account for up to $500,000 in cash and securities, with a $100,000 cash maximum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mportant: The SIPC does not guarantee the value of any security (unlike FDIC coverag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Rather, SIPC protects whatever amount of cash and securities that were in your account, in the event of fraud or other fail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FD7A6171-5458-45CB-A516-2578DA3BF13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Broker-Customer Relation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08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several important things to remember  when you deal with a broker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 advice you receive is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no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uaranteed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broker works as your agent and has a legal duty to act in your best interest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ever, brokerage firms make profits from brokerage commissions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r account agreement will probably specify that any disputes will be settled by arbitration and that the arbitration is final and bind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4T22:58:03Z</dcterms:created>
  <dc:creator>MHE</dc:creator>
  <dc:description/>
  <dc:language>en-US</dc:language>
  <cp:lastModifiedBy>user</cp:lastModifiedBy>
  <dcterms:modified xsi:type="dcterms:W3CDTF">2012-03-25T18:32:05Z</dcterms:modified>
  <cp:revision>41</cp:revision>
  <dc:subject/>
  <dc:title>Slide 1</dc:title>
</cp:coreProperties>
</file>