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EAF9-FBCF-474F-8C1B-5601723C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6DA5-A730-4F97-ABEA-C639895F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CF9-7527-4ADA-B73A-B47EB44C9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39D-F086-4AFF-BE6A-275CC61B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204-A830-49B9-91B4-37FBE67E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CEA-9004-4D68-92BF-E326232E7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213-DE21-4BB9-97DE-67963711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DF3-9FA4-474B-AE20-54D2C621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00C6-705B-482E-8685-9CC1E2F3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4A2-EE68-46F7-84A3-F61F6EA5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D53-0B29-49E0-AF7B-4A29F1F42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264A-E60B-42B7-B49B-716AFC60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54A2-DCBE-482D-8AAD-C9C2F52A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1E74-5658-4358-8144-42F089A3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F5F-7B76-466A-B480-9350B47F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82D3-752B-4D8A-8CA4-FC298DC9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FE1-0B9D-4F23-81E3-196BD372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505-C37F-4A33-93C9-06F84B65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BBAB-68CD-4D62-A67E-40234F2D9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663-7943-4440-8219-5275157A8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E3C-0159-4EA0-A841-AC1774C3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5178-FA6B-4D83-BC82-9478C6D2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4465-9C39-47FF-A0D2-D942C8E4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564-7DB1-4393-B68B-78047CEB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CDE9-2BB0-404A-8736-31188C85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07E-77F5-4771-A34E-521B0FEC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C73-D709-4A64-ABDF-15B8CF34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4089-5CCA-48A9-A9EC-E92CB3F2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2D0A-8CEC-4BDB-B7EF-312248DE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9856-D247-419A-B966-4866504D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57A1-7494-46EF-9FC1-872B9D9C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9D3-6AD5-4F4A-8B95-99229469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763D-34F0-4D69-897E-690DCED3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E78-FC43-4061-8A87-C8FDB426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9DC-E4CB-4FD6-93E0-0B158BB5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C05-04CB-46F8-B28F-724F871D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51E-3B08-480A-96CF-E073DCC8A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D6E2-8D6B-4E20-A1F2-AC87D421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9F39-4E99-4A0D-B84F-14EC1D6D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DCC5-C40E-4C37-82B8-7E30CB4F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BB7-C32E-4771-9A32-651A410A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B91-738C-4603-B5E2-F18CFBE7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DCC1-52F7-43BF-8025-0A31D4523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C02C-283C-41B0-8DA4-8B3EBB319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2924-C29C-4461-825C-56CB1501C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4565-539A-4CE6-8E51-38CCA54F9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D1A0-5691-41AF-BFB2-491C3ABC8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68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932640"/>
            <a:ext cx="267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9A55-F8CA-4091-BA95-3CE1B89CF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CF3C-F956-425B-8B12-F65D06C20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BF36-A5B9-4263-B216-1D9C5A399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9284-00E0-48D8-A07F-0568B6578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D563-BCB3-4F50-B0B0-0404A6AC4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93264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51C0-5BC4-4798-8712-B9F495DE1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680"/>
            <a:ext cx="4052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932640"/>
            <a:ext cx="83055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44F1-2198-4EB3-8E29-CC25AF72F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668C4456-B2B7-40B4-AA1A-7AD450C63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asd.com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ying and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lling Sec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7705340-EBFA-401D-8748-5577FDADD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age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E754DE2-D763-4D38-BFDA-96807D0BD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value of an investment that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urse, the portion that is borrowed incurs an interest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est is based on the brok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ll money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83C1BF6-DE8E-41CE-A081-06CAE2289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Margin Accounts,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Balance Shee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4038480"/>
          <a:ext cx="8229600" cy="2370240"/>
        </p:xfrm>
        <a:graphic>
          <a:graphicData uri="http://schemas.openxmlformats.org/drawingml/2006/table">
            <a:tbl>
              <a:tblPr/>
              <a:tblGrid>
                <a:gridCol w="2639880"/>
                <a:gridCol w="1241280"/>
                <a:gridCol w="2976840"/>
                <a:gridCol w="137160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3DCF4FA-F8C7-426F-9083-16F0FBE8A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argin Accou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DE351B7-4E87-4BEF-8380-EF0B6BA31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4038480"/>
          <a:ext cx="8001000" cy="2398680"/>
        </p:xfrm>
        <a:graphic>
          <a:graphicData uri="http://schemas.openxmlformats.org/drawingml/2006/table">
            <a:tbl>
              <a:tblPr/>
              <a:tblGrid>
                <a:gridCol w="2567160"/>
                <a:gridCol w="1206360"/>
                <a:gridCol w="2855880"/>
                <a:gridCol w="13716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F03CFB7-303D-47A5-860A-727CAEB360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The Workings of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Margin Account, II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3733920"/>
          <a:ext cx="7772400" cy="239868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412FC8A-A758-40A8-8E24-DFC9078919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is selling for $60 per sha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CE3DFD8-4912-4A9E-850A-3A412BA34E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29F9B90-18CC-40A6-AB85-AD8139FDA4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The Effects of Margin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1A1AF39-C71A-44B9-82CB-33BD2F356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you want to buy 300 shares of Pepsico, Inc. (PEP) at $55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st: $16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only $9,900—so you must borrow $6,600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initial margin is $9,900/$16,500 = 60%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B2B76E1-325E-44E5-BB1F-6F8ACA0DA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71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D515BAB-779A-4746-B432-CF83A618D5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How Low Can it Go? Answer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301400"/>
            <a:ext cx="8001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1295280" y="2362320"/>
                <a:ext cx="6782040" cy="39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05A5F08-FFCE-456E-A67E-8A343C6582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ample: Annualizing Retur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 a Margin Purchase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Costco (COST) 3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3D5D852-D8C7-4336-B407-A6EE5DA59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First, you have to repay the 3-month loan, so: t = (3/12 = .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Amount Borro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Repaid 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(1 + .1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1.02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$32,207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rofit = Your Sale Proceeds – Your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32,207.10 -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533520" y="106668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70F65AB-769D-4A3A-94AE-01A23081E6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nnualizing Returns on a Margin Purchase, I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5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DAD3F7D5-6FD3-4EBF-B746-7E4EE0E9AE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ypothecation and Street Name Registration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ct of pledging securities as a collateral against a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36F0107-4855-40DE-88F0-D17796D7FE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one else to make buy and sell decisions on your behalf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ll the expenses associated with your account are “wrapped” into a single fe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Y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roker to trade for yo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6E75EB0-CBBC-4983-9924-5B52C3BE5C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ther Account Issu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BAB3C10-F998-434E-B9D7-59FFC3BE5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5333760"/>
            <a:ext cx="7391520" cy="725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to have a “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75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76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4503BEA-2707-4A4A-9E9B-198D855EF1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9977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buy today at $34, and sell later at $57, you prof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ell today at $83, and buy later at $27, you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6052C0D-8737-47AC-A694-71DAACDE33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rt 100 shares of Texas Instruments (TXN) at $30 per shar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2120" y="3657600"/>
          <a:ext cx="7696080" cy="231624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91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AB4C0114-33B5-46AB-94F0-AFC2229FC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workings of short sal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he importance of investor objectives, constraints, and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CBFD8BE-085A-4670-B26B-A14AAE0CD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 stock price falls to $2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3733920"/>
          <a:ext cx="8001000" cy="236196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6FDF7D57-E251-424F-AA46-6FAD37348B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xample: Short Sale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 stock price rises to $40 per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He who sells what isn’t his’n, must buy it back—or go to priso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62120" y="3657600"/>
          <a:ext cx="7848360" cy="231444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98DA2D6D-4478-4D41-B094-F3F9BD687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re on Short Sal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44A3E47E-6C55-4A6B-B0E4-D2446E0A0A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iggest Short Positions 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from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Wall Street Journal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04" name="Picture 8" descr="scl1"/>
          <p:cNvPicPr/>
          <p:nvPr/>
        </p:nvPicPr>
        <p:blipFill>
          <a:blip r:embed="rId1"/>
          <a:stretch/>
        </p:blipFill>
        <p:spPr>
          <a:xfrm>
            <a:off x="905040" y="1192320"/>
            <a:ext cx="7629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F34CFCB1-E60D-42ED-B5FB-1714DBB7EE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invest today to have more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is simply deferred consu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hoose to wait because we want more to spen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risk and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think about how much risk they can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CD638F5-EB46-4D5E-8388-7B222E1E5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ment Strategies and Polic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30120"/>
            <a:ext cx="8305560" cy="53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CBC0ADDA-179C-4BA6-9E2D-165A81079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vestor Constrai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BFAA2431-11E4-4CB0-B318-D090384213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jor82353_tb0201"/>
          <p:cNvPicPr/>
          <p:nvPr/>
        </p:nvPicPr>
        <p:blipFill>
          <a:blip r:embed="rId1"/>
          <a:stretch/>
        </p:blipFill>
        <p:spPr>
          <a:xfrm>
            <a:off x="685800" y="3200400"/>
            <a:ext cx="792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B221576-5429-4781-A767-9B847E7376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rming an Investment Portfolio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jor82353_tb0202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F5D6B5B-6D5B-468D-8EAD-904E1572D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23048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dispute re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se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short 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reference for opening a brokerage accou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other reference for opening a brokerage ac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isk tolerance questionnaire from Merrill Ly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reference for current broker call money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a reference for short sales on particular stoc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8E32ADDD-7805-4786-9B81-4CA0FA9AC4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uying and Sell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covers the basics of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by describing how you go about buying and selling securities, such as stocks and bond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we outline some important considerations and constraints to keep in mind as you get more involved in the inves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86BB3D4-182C-4D30-8EEC-FE14A8E61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Br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nvestors Protection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-Customer Rel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in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e on Annualizing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cation and Street Name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ccoun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3FEBDF27-B454-4437-8225-628CC11721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s of a Shor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tai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 Objectives, Constraints,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nd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E4F34DA1-644F-4D65-8DF4-46565C094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47920" y="1752480"/>
            <a:ext cx="6095880" cy="3886200"/>
            <a:chOff x="1447920" y="1752480"/>
            <a:chExt cx="6095880" cy="3886200"/>
          </a:xfrm>
        </p:grpSpPr>
        <p:sp>
          <p:nvSpPr>
            <p:cNvPr id="182" name="Line 4"/>
            <p:cNvSpPr/>
            <p:nvPr/>
          </p:nvSpPr>
          <p:spPr>
            <a:xfrm>
              <a:off x="4038480" y="4648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5029200" y="297180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029200" y="4572000"/>
              <a:ext cx="2514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23880" y="4267080"/>
              <a:ext cx="25146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1447920" y="3048120"/>
              <a:ext cx="2590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6248520" y="2438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28195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4876920" y="175248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2819520" y="19810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6248520" y="38862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4572000" y="22096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572000" y="22096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278BBFD9-559A-46E0-882E-F9DE737E3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s are now divided into three group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-service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bro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-discount brok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5017FD11-4D7C-4761-85B4-025FAB2AD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oosing a Broker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3055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mportant change is the rapid grow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ine 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so known a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vesting has really changed the brokerage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hing brokerage com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invest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lace buy and sell orders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0555DE52-F9EE-490E-8901-E90FD28D9F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ies Investor Protection Corpora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</a:t>
            </a:r>
            <a:fld id="{70202518-194F-477A-BE82-F807FE502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Broker-Customer Rela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everal important things to remember  when you deal with a brok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advice you receiv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arante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broker works as your agent and has a legal duty to act in your best interes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brokerage firms make profits from brokerage commission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32:05Z</dcterms:modified>
  <cp:revision>41</cp:revision>
  <dc:subject/>
  <dc:title>Slide 1</dc:title>
</cp:coreProperties>
</file>