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354B-6419-4119-A1A1-1D5BC3075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65D0-D7A3-474B-A746-5B7601DF2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7299-1985-4466-9AED-37BDB4B85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054D-91A2-4226-AC0E-EB6D61433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0E1D-61F8-4DCE-9CEA-3DEA6C2B3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E1B3-79EC-47F6-84F0-E8DD84305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3293-214A-4FD8-878F-5C56171E6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EB7E-5BA6-4E01-8F99-7DB0E14FD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65A2-0CF2-48F0-B182-735EAC0B2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E1A4-4118-444E-A967-F1BFB7784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0B65-8FAA-4904-A884-6CE8163AC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87C0-7657-4A99-86AD-29F4256FD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8FE9-6FF7-4619-8555-BDDE30FC4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3324-5195-435A-A1C3-21FC1F216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DA97-D365-4CE9-8434-B1C4FE6A6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F741-8671-4E32-A40B-D05AA7753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37CD-714D-404C-96F9-2A51DF36C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6EEB-20CD-43C2-B655-35803F689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4DFC-6991-440B-B2C0-146EF9FE4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2B2F-E98B-417A-9E3A-98CC79F3B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A00E-01FB-4952-8092-DB013343F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ho sells what isn’t his’n, must buy it back, or go to prison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B040-FE1D-42A3-A77A-8AAC0ED67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0C10-1C7D-4F64-A9E1-AD4289713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654D-6508-4B11-A526-A08505868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98E2-ECC0-4420-A27E-4BC4527CC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6C5E-F15C-4A66-BFCB-4A6B03B73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E2E6-0570-40D4-A9E8-E563F4369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6F45-7075-426E-A61A-EA5AFC430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48E2-601C-4793-8AC0-DEE1C0FDB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9594-0EBC-48A6-A2F7-D9FED7B27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5496-5B0F-4161-9BD1-E458FC99F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804A-DD85-4B93-B93F-11D2C6C38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98F3-3181-46FB-B31B-7832648FC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190F-D4FB-4D2A-93C0-9E10C133B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3E66-F193-4BB3-B008-D6AF5D07C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7AD4-4CB0-4153-8B0F-386D66CFD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C301-B7EE-4201-8C33-EF8316539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9D66-4007-41B2-87B7-4C3B53411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B022-9981-41B4-BAA0-D85F680B8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E1BF-02E9-4DFE-BE73-1E8722888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5C29-32CE-45A4-AB60-625268839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EB15-4179-4CA9-A042-194123823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969D3-8FA1-4132-B3E2-5F6EF4E34C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160" y="393264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4E6BD-CBC6-44E1-99CF-3FA56908B0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78908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15E2B-2C08-4757-A420-D53D6A3430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4116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4952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3316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4116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14952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C12A9-C85F-43EE-AF74-7F2A0ED849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E5158-663C-487C-9493-BD8253A911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78908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3160" y="393264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78908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116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4952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316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116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14952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E5AF0-8D66-4331-ABD0-D5C92A3919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CEF0D-BB28-458D-BC92-7F04B582DF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FC32C-5B81-441F-97A3-18E4CF6141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F5B1A-4A52-4DC3-A7F9-E3DFB4EEFD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67B9E-E606-40AD-9152-88776C325C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78908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EE0F7-EBFC-40E7-B8D2-0D8D21A4E5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FAD16-815E-433A-9A05-FE44265B72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>
              <a:gd name="textAreaLeft" fmla="*/ 0 w 8345520"/>
              <a:gd name="textAreaRight" fmla="*/ 8345880 w 8345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9"/>
          <p:cNvSpPr/>
          <p:nvPr/>
        </p:nvSpPr>
        <p:spPr>
          <a:xfrm rot="16200000">
            <a:off x="501480" y="-7632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10"/>
          <p:cNvSpPr/>
          <p:nvPr/>
        </p:nvSpPr>
        <p:spPr>
          <a:xfrm>
            <a:off x="-31680" y="-701640"/>
            <a:ext cx="865080" cy="2060640"/>
          </a:xfrm>
          <a:custGeom>
            <a:avLst/>
            <a:gdLst>
              <a:gd name="textAreaLeft" fmla="*/ 0 w 865080"/>
              <a:gd name="textAreaRight" fmla="*/ 865440 w 865080"/>
              <a:gd name="textAreaTop" fmla="*/ 0 h 2060640"/>
              <a:gd name="textAreaBottom" fmla="*/ 2061000 h 2060640"/>
            </a:gdLst>
            <a:ahLst/>
            <a:rect l="textAreaLeft" t="textAreaTop" r="textAreaRight" b="textAreaBottom"/>
            <a:pathLst>
              <a:path w="545" h="1298">
                <a:moveTo>
                  <a:pt x="12" y="1298"/>
                </a:moveTo>
                <a:cubicBezTo>
                  <a:pt x="92" y="1298"/>
                  <a:pt x="116" y="1298"/>
                  <a:pt x="196" y="1298"/>
                </a:cubicBezTo>
                <a:cubicBezTo>
                  <a:pt x="237" y="1174"/>
                  <a:pt x="188" y="1122"/>
                  <a:pt x="248" y="753"/>
                </a:cubicBezTo>
                <a:cubicBezTo>
                  <a:pt x="308" y="384"/>
                  <a:pt x="545" y="28"/>
                  <a:pt x="528" y="8"/>
                </a:cubicBezTo>
                <a:cubicBezTo>
                  <a:pt x="507" y="0"/>
                  <a:pt x="208" y="491"/>
                  <a:pt x="122" y="706"/>
                </a:cubicBezTo>
                <a:cubicBezTo>
                  <a:pt x="42" y="899"/>
                  <a:pt x="0" y="1193"/>
                  <a:pt x="12" y="1298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>
              <a:gd name="textAreaLeft" fmla="*/ 0 w 457200"/>
              <a:gd name="textAreaRight" fmla="*/ 457560 w 457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>
              <a:gd name="textAreaLeft" fmla="*/ 0 w 9720"/>
              <a:gd name="textAreaRight" fmla="*/ 10080 w 972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Line 22"/>
          <p:cNvSpPr/>
          <p:nvPr/>
        </p:nvSpPr>
        <p:spPr>
          <a:xfrm>
            <a:off x="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Freeform 25"/>
          <p:cNvSpPr/>
          <p:nvPr/>
        </p:nvSpPr>
        <p:spPr>
          <a:xfrm>
            <a:off x="-12600" y="-690480"/>
            <a:ext cx="819000" cy="2049480"/>
          </a:xfrm>
          <a:custGeom>
            <a:avLst/>
            <a:gdLst>
              <a:gd name="textAreaLeft" fmla="*/ 0 w 819000"/>
              <a:gd name="textAreaRight" fmla="*/ 819360 w 81900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516" h="1291">
                <a:moveTo>
                  <a:pt x="0" y="1291"/>
                </a:moveTo>
                <a:cubicBezTo>
                  <a:pt x="19" y="1192"/>
                  <a:pt x="30" y="920"/>
                  <a:pt x="116" y="705"/>
                </a:cubicBezTo>
                <a:cubicBezTo>
                  <a:pt x="248" y="314"/>
                  <a:pt x="432" y="147"/>
                  <a:pt x="516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Freeform 26"/>
          <p:cNvSpPr/>
          <p:nvPr/>
        </p:nvSpPr>
        <p:spPr>
          <a:xfrm>
            <a:off x="291960" y="-674640"/>
            <a:ext cx="519120" cy="2033640"/>
          </a:xfrm>
          <a:custGeom>
            <a:avLst/>
            <a:gdLst>
              <a:gd name="textAreaLeft" fmla="*/ 0 w 519120"/>
              <a:gd name="textAreaRight" fmla="*/ 519480 w 519120"/>
              <a:gd name="textAreaTop" fmla="*/ 0 h 2033640"/>
              <a:gd name="textAreaBottom" fmla="*/ 2034000 h 2033640"/>
            </a:gdLst>
            <a:ahLst/>
            <a:rect l="textAreaLeft" t="textAreaTop" r="textAreaRight" b="textAreaBottom"/>
            <a:pathLst>
              <a:path w="327" h="1281">
                <a:moveTo>
                  <a:pt x="0" y="1281"/>
                </a:moveTo>
                <a:cubicBezTo>
                  <a:pt x="9" y="1188"/>
                  <a:pt x="3" y="941"/>
                  <a:pt x="57" y="728"/>
                </a:cubicBezTo>
                <a:cubicBezTo>
                  <a:pt x="116" y="476"/>
                  <a:pt x="271" y="152"/>
                  <a:pt x="327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Freeform 33"/>
          <p:cNvSpPr/>
          <p:nvPr/>
        </p:nvSpPr>
        <p:spPr>
          <a:xfrm>
            <a:off x="-25560" y="6629400"/>
            <a:ext cx="8993520" cy="1440"/>
          </a:xfrm>
          <a:custGeom>
            <a:avLst/>
            <a:gdLst>
              <a:gd name="textAreaLeft" fmla="*/ 0 w 8993520"/>
              <a:gd name="textAreaRight" fmla="*/ 8993880 w 89935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Line 37"/>
          <p:cNvSpPr/>
          <p:nvPr/>
        </p:nvSpPr>
        <p:spPr>
          <a:xfrm>
            <a:off x="82224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sldNum" idx="1"/>
          </p:nvPr>
        </p:nvSpPr>
        <p:spPr>
          <a:xfrm>
            <a:off x="70862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-</a:t>
            </a:r>
            <a:fld id="{B6E2E250-B058-45EB-9B4D-204BDC74C6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Freeform 41"/>
          <p:cNvSpPr/>
          <p:nvPr/>
        </p:nvSpPr>
        <p:spPr>
          <a:xfrm>
            <a:off x="291960" y="990720"/>
            <a:ext cx="9156960" cy="936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5768" h="6">
                <a:moveTo>
                  <a:pt x="0" y="0"/>
                </a:moveTo>
                <a:lnTo>
                  <a:pt x="5768" y="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5"/>
          <p:cNvSpPr/>
          <p:nvPr/>
        </p:nvSpPr>
        <p:spPr>
          <a:xfrm>
            <a:off x="8077320" y="1295280"/>
            <a:ext cx="228600" cy="381240"/>
          </a:xfrm>
          <a:custGeom>
            <a:avLst/>
            <a:gdLst>
              <a:gd name="textAreaLeft" fmla="*/ 0 w 228600"/>
              <a:gd name="textAreaRight" fmla="*/ 228960 w 228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4"/>
          <p:cNvSpPr/>
          <p:nvPr/>
        </p:nvSpPr>
        <p:spPr>
          <a:xfrm>
            <a:off x="6629400" y="838080"/>
            <a:ext cx="2374920" cy="86544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2666880" y="1143000"/>
            <a:ext cx="609840" cy="5335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9"/>
          <p:cNvSpPr/>
          <p:nvPr/>
        </p:nvSpPr>
        <p:spPr>
          <a:xfrm>
            <a:off x="3276720" y="1143000"/>
            <a:ext cx="60948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3886200" y="1143000"/>
            <a:ext cx="1905120" cy="533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5791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66294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>
            <a:off x="0" y="167652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H="1">
            <a:off x="-360" y="114300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38862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32767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8077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83059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5"/>
          <p:cNvGrpSpPr/>
          <p:nvPr/>
        </p:nvGrpSpPr>
        <p:grpSpPr>
          <a:xfrm>
            <a:off x="6629400" y="828720"/>
            <a:ext cx="2362320" cy="852480"/>
            <a:chOff x="6629400" y="828720"/>
            <a:chExt cx="2362320" cy="852480"/>
          </a:xfrm>
        </p:grpSpPr>
        <p:sp>
          <p:nvSpPr>
            <p:cNvPr id="89" name="Freeform 23"/>
            <p:cNvSpPr/>
            <p:nvPr/>
          </p:nvSpPr>
          <p:spPr>
            <a:xfrm>
              <a:off x="6629400" y="82872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6629400" y="115236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ad07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0" y="5335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h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-1143000" y="1828800"/>
            <a:ext cx="10058400" cy="4800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1"/>
          <p:cNvSpPr/>
          <p:nvPr/>
        </p:nvSpPr>
        <p:spPr>
          <a:xfrm rot="10800000">
            <a:off x="379080" y="627696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42"/>
          <p:cNvSpPr/>
          <p:nvPr/>
        </p:nvSpPr>
        <p:spPr>
          <a:xfrm rot="10800000">
            <a:off x="-319320" y="6248160"/>
            <a:ext cx="2374920" cy="86508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4"/>
          <p:cNvSpPr/>
          <p:nvPr/>
        </p:nvSpPr>
        <p:spPr>
          <a:xfrm rot="10800000">
            <a:off x="5408640" y="6810480"/>
            <a:ext cx="2820960" cy="5731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5"/>
          <p:cNvSpPr/>
          <p:nvPr/>
        </p:nvSpPr>
        <p:spPr>
          <a:xfrm rot="10800000">
            <a:off x="5408280" y="662904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6"/>
          <p:cNvSpPr/>
          <p:nvPr/>
        </p:nvSpPr>
        <p:spPr>
          <a:xfrm rot="10800000">
            <a:off x="2057040" y="6652800"/>
            <a:ext cx="609480" cy="1825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7"/>
          <p:cNvSpPr/>
          <p:nvPr/>
        </p:nvSpPr>
        <p:spPr>
          <a:xfrm rot="10800000">
            <a:off x="3124080" y="6276960"/>
            <a:ext cx="60984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8"/>
          <p:cNvSpPr/>
          <p:nvPr/>
        </p:nvSpPr>
        <p:spPr>
          <a:xfrm rot="10800000">
            <a:off x="8229600" y="6629040"/>
            <a:ext cx="990720" cy="3049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9"/>
          <p:cNvSpPr/>
          <p:nvPr/>
        </p:nvSpPr>
        <p:spPr>
          <a:xfrm flipH="1" flipV="1">
            <a:off x="2894040" y="6276600"/>
            <a:ext cx="1440" cy="352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0"/>
          <p:cNvSpPr/>
          <p:nvPr/>
        </p:nvSpPr>
        <p:spPr>
          <a:xfrm flipV="1">
            <a:off x="2057400" y="6629400"/>
            <a:ext cx="0" cy="533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1"/>
          <p:cNvSpPr/>
          <p:nvPr/>
        </p:nvSpPr>
        <p:spPr>
          <a:xfrm>
            <a:off x="-458640" y="6276960"/>
            <a:ext cx="9601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2"/>
          <p:cNvSpPr/>
          <p:nvPr/>
        </p:nvSpPr>
        <p:spPr>
          <a:xfrm flipV="1">
            <a:off x="2055240" y="6784560"/>
            <a:ext cx="6173640" cy="255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5"/>
          <p:cNvSpPr/>
          <p:nvPr/>
        </p:nvSpPr>
        <p:spPr>
          <a:xfrm flipH="1" flipV="1">
            <a:off x="3731760" y="6276960"/>
            <a:ext cx="180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6"/>
          <p:cNvSpPr/>
          <p:nvPr/>
        </p:nvSpPr>
        <p:spPr>
          <a:xfrm flipV="1">
            <a:off x="5410080" y="6629040"/>
            <a:ext cx="0" cy="3049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7"/>
          <p:cNvSpPr/>
          <p:nvPr/>
        </p:nvSpPr>
        <p:spPr>
          <a:xfrm flipH="1" flipV="1">
            <a:off x="608040" y="6276960"/>
            <a:ext cx="1440" cy="5810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8"/>
          <p:cNvSpPr/>
          <p:nvPr/>
        </p:nvSpPr>
        <p:spPr>
          <a:xfrm flipH="1" flipV="1">
            <a:off x="379440" y="6276960"/>
            <a:ext cx="144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59"/>
          <p:cNvGrpSpPr/>
          <p:nvPr/>
        </p:nvGrpSpPr>
        <p:grpSpPr>
          <a:xfrm>
            <a:off x="-306360" y="6270480"/>
            <a:ext cx="2362320" cy="852480"/>
            <a:chOff x="-306360" y="6270480"/>
            <a:chExt cx="2362320" cy="852480"/>
          </a:xfrm>
        </p:grpSpPr>
        <p:sp>
          <p:nvSpPr>
            <p:cNvPr id="112" name="Freeform 60"/>
            <p:cNvSpPr/>
            <p:nvPr/>
          </p:nvSpPr>
          <p:spPr>
            <a:xfrm rot="10800000">
              <a:off x="-306360" y="627516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1"/>
            <p:cNvSpPr/>
            <p:nvPr/>
          </p:nvSpPr>
          <p:spPr>
            <a:xfrm rot="10800000">
              <a:off x="-290520" y="627048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Line 64"/>
          <p:cNvSpPr/>
          <p:nvPr/>
        </p:nvSpPr>
        <p:spPr>
          <a:xfrm>
            <a:off x="4191120" y="6629400"/>
            <a:ext cx="49528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5"/>
          <p:cNvSpPr/>
          <p:nvPr/>
        </p:nvSpPr>
        <p:spPr>
          <a:xfrm flipV="1">
            <a:off x="6019920" y="6629400"/>
            <a:ext cx="0" cy="4572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6"/>
          <p:cNvSpPr/>
          <p:nvPr/>
        </p:nvSpPr>
        <p:spPr>
          <a:xfrm flipV="1">
            <a:off x="3124080" y="6248160"/>
            <a:ext cx="0" cy="6094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7"/>
          <p:cNvSpPr/>
          <p:nvPr/>
        </p:nvSpPr>
        <p:spPr>
          <a:xfrm flipV="1">
            <a:off x="8229600" y="6629040"/>
            <a:ext cx="0" cy="2286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4"/>
          <p:cNvSpPr/>
          <p:nvPr/>
        </p:nvSpPr>
        <p:spPr>
          <a:xfrm>
            <a:off x="608760" y="6629400"/>
            <a:ext cx="358164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9"/>
          <p:cNvSpPr/>
          <p:nvPr/>
        </p:nvSpPr>
        <p:spPr>
          <a:xfrm>
            <a:off x="609480" y="632448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0"/>
          <p:cNvSpPr/>
          <p:nvPr/>
        </p:nvSpPr>
        <p:spPr>
          <a:xfrm>
            <a:off x="365760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nasd.com/" TargetMode="External"/><Relationship Id="rId2" Type="http://schemas.openxmlformats.org/officeDocument/2006/relationships/hyperlink" Target="http://www.bearmarketcentral.com/" TargetMode="External"/><Relationship Id="rId3" Type="http://schemas.openxmlformats.org/officeDocument/2006/relationships/hyperlink" Target="http://www.nasdaq.com/" TargetMode="External"/><Relationship Id="rId4" Type="http://schemas.openxmlformats.org/officeDocument/2006/relationships/hyperlink" Target="http://www.moneycentral.msn.com/" TargetMode="External"/><Relationship Id="rId5" Type="http://schemas.openxmlformats.org/officeDocument/2006/relationships/hyperlink" Target="http://www.sharebuilder.com/" TargetMode="External"/><Relationship Id="rId6" Type="http://schemas.openxmlformats.org/officeDocument/2006/relationships/hyperlink" Target="http://www.buyandhold.com/" TargetMode="External"/><Relationship Id="rId7" Type="http://schemas.openxmlformats.org/officeDocument/2006/relationships/hyperlink" Target="http://www.individual.ml.com/" TargetMode="External"/><Relationship Id="rId8" Type="http://schemas.openxmlformats.org/officeDocument/2006/relationships/hyperlink" Target="http://www.money-rates.com/" TargetMode="External"/><Relationship Id="rId9" Type="http://schemas.openxmlformats.org/officeDocument/2006/relationships/hyperlink" Target="http://finance.yahoo.com/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12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276720" y="1828440"/>
            <a:ext cx="5410080" cy="4419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uying and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elling Secur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28071779-B084-47C1-9154-648E76C38E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rokerage Accou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Cash accoun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brokerage account in which securities are paid for in fu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Margin account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brokerage account in which, subject to limits, securities can be bought and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old sh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cred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5105520" y="4952880"/>
            <a:ext cx="3504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(more on selling short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49357993-4EBE-4C7D-B197-0BF4798A3C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argin Accou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margin purch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portion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value of an investment that is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not borrow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alled th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course, the portion that is borrowed incurs an interest char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nterest is based on the broker’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ll money r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ll money rate is the rate brokers pay to borrow money to lend to customers in their margin accou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03D250AB-700C-4989-A383-13D110B949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Margin Accounts,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Balance Shee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33520" y="4038480"/>
          <a:ext cx="8229600" cy="2370240"/>
        </p:xfrm>
        <a:graphic>
          <a:graphicData uri="http://schemas.openxmlformats.org/drawingml/2006/table">
            <a:tbl>
              <a:tblPr/>
              <a:tblGrid>
                <a:gridCol w="2639880"/>
                <a:gridCol w="1241280"/>
                <a:gridCol w="2976840"/>
                <a:gridCol w="1371600"/>
              </a:tblGrid>
              <a:tr h="76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 Shares, P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in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6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Text Box 36"/>
          <p:cNvSpPr/>
          <p:nvPr/>
        </p:nvSpPr>
        <p:spPr>
          <a:xfrm>
            <a:off x="68580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7"/>
          <p:cNvSpPr/>
          <p:nvPr/>
        </p:nvSpPr>
        <p:spPr>
          <a:xfrm>
            <a:off x="762120" y="1219320"/>
            <a:ext cx="792468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buy 1,000 Pfizer shares at $24 per share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put up $18,000 and borrow the rest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ount borrowed = $24,000 – $18,000 = $6,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gin = $18,000 / $24,000 = 7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ED5C9266-9BF9-4870-B0D3-8EA5C88133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argin Accou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margin purchase, th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minimum 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must be supplied is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called the initial 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maintenance 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margin amount that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must be present at all ti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a margin accoun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argin drops below the maintenance 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broker can demand more funds. This is known as a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argin c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0F128336-2081-438B-9ABD-02BBF03CD5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The Workings of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Margin Account, I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85800" y="4038480"/>
          <a:ext cx="8001000" cy="2398680"/>
        </p:xfrm>
        <a:graphic>
          <a:graphicData uri="http://schemas.openxmlformats.org/drawingml/2006/table">
            <a:tbl>
              <a:tblPr/>
              <a:tblGrid>
                <a:gridCol w="2567160"/>
                <a:gridCol w="1206360"/>
                <a:gridCol w="2855880"/>
                <a:gridCol w="1371600"/>
              </a:tblGrid>
              <a:tr h="699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Shares of WHOA @ $50/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in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Text Box 36"/>
          <p:cNvSpPr/>
          <p:nvPr/>
        </p:nvSpPr>
        <p:spPr>
          <a:xfrm>
            <a:off x="68580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7"/>
          <p:cNvSpPr/>
          <p:nvPr/>
        </p:nvSpPr>
        <p:spPr>
          <a:xfrm>
            <a:off x="533520" y="1143000"/>
            <a:ext cx="830556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r margin account requir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 initial margin of 50%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maintenance margin of 30%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hare in Miller Moore Equine Enterprises (WHOA) is selling for $50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have $20,000, and you want to buy as much WHOA as you ca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may buy up to $20,000 / 0.5 = $40,000 worth of WHO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6E03A379-FBE5-46AB-8F7C-0C61CDA853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The Workings of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Margin Account, II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762120" y="3733920"/>
          <a:ext cx="7772400" cy="2398680"/>
        </p:xfrm>
        <a:graphic>
          <a:graphicData uri="http://schemas.openxmlformats.org/drawingml/2006/table">
            <a:tbl>
              <a:tblPr/>
              <a:tblGrid>
                <a:gridCol w="2493720"/>
                <a:gridCol w="1171800"/>
                <a:gridCol w="2609640"/>
                <a:gridCol w="1497240"/>
              </a:tblGrid>
              <a:tr h="699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Shares of WHOA @ $35/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in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</a:t>
                      </a: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Text Box 36"/>
          <p:cNvSpPr/>
          <p:nvPr/>
        </p:nvSpPr>
        <p:spPr>
          <a:xfrm>
            <a:off x="68580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7"/>
          <p:cNvSpPr/>
          <p:nvPr/>
        </p:nvSpPr>
        <p:spPr>
          <a:xfrm>
            <a:off x="228600" y="1295280"/>
            <a:ext cx="891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8"/>
          <p:cNvSpPr/>
          <p:nvPr/>
        </p:nvSpPr>
        <p:spPr>
          <a:xfrm>
            <a:off x="762120" y="1447920"/>
            <a:ext cx="7696080" cy="20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fter your purchase, shares of WHOA fall to $35. (Woe!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margin = $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8,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/ $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28,00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28.6%  &lt;  30%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fore, you are subject to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margin c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254470A2-6170-4EF9-AABA-3E05ADAE1D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The Effects of Margin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have $30,000 in a margin account, 60% initial margin requ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buy $50,000 of stock with this account (why?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borrowing rate from your broker is 6.0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you buy 1,000 shares of Coca-Cola (KO), for $50/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no dividends, and that your borrowing rate is still 6.00%, what is your return i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one year, KO is selling for $60 per share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one year, KO stock is selling for $60 per share, but you did not borrow money from your brok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E051D0D7-E857-49F6-B45F-F7796B72C5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The Effects of Margin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 is selling for $60 per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investment is worth $60,000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owe 6% on the $20,000 you borrowe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$1,2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ou pay off the loan with interest, your account balance is: $60,000 – $21,200 = $38,800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started with $30,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fore, your return is $8,800 / $30,000 = 29.33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uppose Coca-Cola stock was selling for $40 per share instead of $60 per share?  What is your retur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D375F80B-DA80-467D-A3A2-F0E891DCB4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The Effects of Margin, I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ca-Cola stock is selling for $60 per share,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but you did not borrow from your brok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started with $30,000, which means you were able to buy $30,000 / $50 = 600 sha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investment is now worth $36,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fore, your return is $6,000 / $30,000 = 20.00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uppose Coca-Cola is selling for $40 per share instead of $60 per share.  What is your return in this ca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39BFB1D8-7422-4DF7-A7CB-791BA3BC65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How Low Can it Go?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se you want to buy 300 shares of Pepsico, Inc. (PEP) at $55 per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cost: $16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have only $9,900—so you must borrow $6,600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initial margin is $9,900/$16,500 = 60%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uppose your maintenance margin is 40%. At what price will you receive a margin ca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E0F2BFA2-DC79-49DF-BB08-1F9C9F4E81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uying and Selling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70" name="Group 5"/>
          <p:cNvGrpSpPr/>
          <p:nvPr/>
        </p:nvGrpSpPr>
        <p:grpSpPr>
          <a:xfrm>
            <a:off x="685800" y="1447920"/>
            <a:ext cx="7924680" cy="2110680"/>
            <a:chOff x="685800" y="1447920"/>
            <a:chExt cx="7924680" cy="2110680"/>
          </a:xfrm>
        </p:grpSpPr>
        <p:sp>
          <p:nvSpPr>
            <p:cNvPr id="171" name="Text Box 3"/>
            <p:cNvSpPr/>
            <p:nvPr/>
          </p:nvSpPr>
          <p:spPr>
            <a:xfrm>
              <a:off x="685800" y="1447920"/>
              <a:ext cx="7924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“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n’t Gamble! Take all your savings and buy some good stock and hold it till it goes up.  If it don’t go up, don’t buy it.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4"/>
            <p:cNvSpPr/>
            <p:nvPr/>
          </p:nvSpPr>
          <p:spPr>
            <a:xfrm>
              <a:off x="5338080" y="3098880"/>
              <a:ext cx="196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ll Rog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9F3644DA-A681-49AF-BDEA-47C25D2393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How Low Can it Go? Answer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61760" y="1301400"/>
            <a:ext cx="80010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happen when the price of Pepsico, Inc. drops to $36.67.  How so? Wel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4"/>
              <p:cNvSpPr txBox="1"/>
              <p:nvPr/>
            </p:nvSpPr>
            <p:spPr>
              <a:xfrm>
                <a:off x="1295280" y="2362320"/>
                <a:ext cx="6782040" cy="39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intenance Margin Level 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umber of Shares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p/>
                                </m:sSup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mount Borrowe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umber of Shares 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/>
                            </m:sSup>
                          </m:den>
                        </m:f>
                      </m:e>
                      <m:e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olving  for  the  critical  stock  price,  P</m:t>
                            </m:r>
                          </m:e>
                          <m:sup/>
                        </m:sSup>
                        <m:r>
                          <m:rPr>
                            <m:lit/>
                            <m:nor/>
                          </m:rPr>
                          <m:t xml:space="preserve">,  results  in</m:t>
                        </m:r>
                      </m:e>
                      <m:e/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mount Borrowed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umber of Shares 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- Maintenance Margin Level 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o here,</m:t>
                        </m:r>
                      </m:e>
                      <m:e/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$6,6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 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-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$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E9F8ADD5-EBFC-42D2-9ADB-E00F6CA72C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Annualizing Returns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n a Margin Purchase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buy 1,000 shares of Costco (COST) at $60 per shar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initial margin is 50%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borrow at the 9 percent call money rate plus 2 percen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sell Costco (COST) 3 months later for $63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were no dividends paid (and suppose the prices above are net of commissions)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your holding period percentage return and your E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F3CF97CC-B49E-47B6-A486-F0B4F53F1D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nualizing Returns on a Margin Purchase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First, you have to repay the 3-month loan, so: t = (3/12 = .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Repaid = Amount Borrow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(1 + interest rate per year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Repaid = $30,0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(1 + .11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30,0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1.026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30,792.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our Sale Proceeds = Cash from Sale – Amount Repai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= $63,000 – 30,792.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$32,207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Profit = Your Sale Proceeds – Your 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32,207.10 - $3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2,207.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Object 8"/>
          <p:cNvGraphicFramePr/>
          <p:nvPr/>
        </p:nvGraphicFramePr>
        <p:xfrm>
          <a:off x="533520" y="1066680"/>
          <a:ext cx="426708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66680"/>
                    <a:ext cx="42670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F1799FB6-E4C7-4D93-A937-88310466FE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nualizing Returns on a Margin Purchase, I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258" name="Group 8"/>
          <p:cNvGrpSpPr/>
          <p:nvPr/>
        </p:nvGrpSpPr>
        <p:grpSpPr>
          <a:xfrm>
            <a:off x="838080" y="1676520"/>
            <a:ext cx="7696440" cy="4557600"/>
            <a:chOff x="838080" y="1676520"/>
            <a:chExt cx="7696440" cy="4557600"/>
          </a:xfrm>
        </p:grpSpPr>
        <mc:AlternateContent>
          <mc:Choice xmlns:a14="http://schemas.microsoft.com/office/drawing/2010/main" Requires="a14">
            <p:sp>
              <p:nvSpPr>
                <p:cNvPr id="259" name="Object 4"/>
                <p:cNvSpPr txBox="1"/>
                <p:nvPr/>
              </p:nvSpPr>
              <p:spPr>
                <a:xfrm>
                  <a:off x="838080" y="1676520"/>
                  <a:ext cx="7696440" cy="32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Holding Period Percentage Return 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$32,207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 - $30,00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$30,000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$2,207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$30,000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736</m:t>
                          </m:r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1 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EAR 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 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Holding Period Percentage Return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m</m:t>
                              </m:r>
                            </m:sup>
                          </m:sSup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 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736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3285</m:t>
                          </m:r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So your EAR is about 3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85%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60" name="Text Box 7"/>
            <p:cNvSpPr/>
            <p:nvPr/>
          </p:nvSpPr>
          <p:spPr>
            <a:xfrm>
              <a:off x="5105520" y="5410080"/>
              <a:ext cx="3352680" cy="824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Note that there are 12/3 = 4 three-month holding periods in a year. Therefore, m = 4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1323EE6B-174D-406B-9EBF-1CFD1B695A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ypothecation and Street Name Registratio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ypothe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act of pledging securities as a collateral against a lo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ledge is needed so that the securities can be sold by the broker if the customer is unwilling or unable to meet a margin c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treet name registratio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n arrangement under which a broker is the registered owner of a security. (You, as the account holder are the “beneficial owner.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085F4FA0-90BB-4102-A151-25DA1B80F3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ther Account Issu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ng accounts can also be differentiated by the ways they are manage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dvisory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Yo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meone else to make buy and sell decisions on your behalf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Wrap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All the expenses associated with your account are “wrapped” into a single fe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Discretionary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Yo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oriz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broker to trade for you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sset management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Provide for complete money management, including check-writing privileges, credit cards, and margin lo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C4C49E0A-6918-49F8-BC7E-847791B7DA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ther Account Issu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nvest in financial securities, you do not need an account with a brok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alternative is to buy securities directly from the issu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alternative is to invest in 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mutual fu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2CE9F703-5E49-4E5A-8100-617C989981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hort Sal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43000" y="5333760"/>
            <a:ext cx="7391520" cy="725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 that an investor who buys and owns shares of stock is said to be “</a:t>
            </a: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long the stock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to have a “</a:t>
            </a: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long posi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2"/>
          <p:cNvSpPr/>
          <p:nvPr/>
        </p:nvSpPr>
        <p:spPr>
          <a:xfrm>
            <a:off x="838080" y="121932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hort S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ale in which the seller does not actually own the security that is s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6"/>
          <p:cNvGrpSpPr/>
          <p:nvPr/>
        </p:nvGrpSpPr>
        <p:grpSpPr>
          <a:xfrm>
            <a:off x="914400" y="2590920"/>
            <a:ext cx="7543800" cy="2197080"/>
            <a:chOff x="914400" y="2590920"/>
            <a:chExt cx="7543800" cy="2197080"/>
          </a:xfrm>
        </p:grpSpPr>
        <p:grpSp>
          <p:nvGrpSpPr>
            <p:cNvPr id="275" name="Group 15"/>
            <p:cNvGrpSpPr/>
            <p:nvPr/>
          </p:nvGrpSpPr>
          <p:grpSpPr>
            <a:xfrm>
              <a:off x="914400" y="2590920"/>
              <a:ext cx="7543800" cy="1714320"/>
              <a:chOff x="914400" y="2590920"/>
              <a:chExt cx="7543800" cy="1714320"/>
            </a:xfrm>
          </p:grpSpPr>
          <p:sp>
            <p:nvSpPr>
              <p:cNvPr id="276" name="Rectangle 5"/>
              <p:cNvSpPr/>
              <p:nvPr/>
            </p:nvSpPr>
            <p:spPr>
              <a:xfrm>
                <a:off x="914400" y="2590920"/>
                <a:ext cx="143352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orro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ro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meo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6"/>
              <p:cNvSpPr/>
              <p:nvPr/>
            </p:nvSpPr>
            <p:spPr>
              <a:xfrm>
                <a:off x="2986200" y="2590920"/>
                <a:ext cx="143352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ll 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 the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ke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7"/>
              <p:cNvSpPr/>
              <p:nvPr/>
            </p:nvSpPr>
            <p:spPr>
              <a:xfrm>
                <a:off x="2427120" y="3448080"/>
                <a:ext cx="559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9"/>
              <p:cNvSpPr/>
              <p:nvPr/>
            </p:nvSpPr>
            <p:spPr>
              <a:xfrm>
                <a:off x="5105520" y="2590920"/>
                <a:ext cx="137160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u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rom 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ke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10"/>
              <p:cNvSpPr/>
              <p:nvPr/>
            </p:nvSpPr>
            <p:spPr>
              <a:xfrm>
                <a:off x="7086600" y="2590920"/>
                <a:ext cx="137160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tur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11"/>
              <p:cNvSpPr/>
              <p:nvPr/>
            </p:nvSpPr>
            <p:spPr>
              <a:xfrm>
                <a:off x="6477120" y="34480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Text Box 13"/>
            <p:cNvSpPr/>
            <p:nvPr/>
          </p:nvSpPr>
          <p:spPr>
            <a:xfrm>
              <a:off x="1523880" y="441972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d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4"/>
            <p:cNvSpPr/>
            <p:nvPr/>
          </p:nvSpPr>
          <p:spPr>
            <a:xfrm>
              <a:off x="5410080" y="4419720"/>
              <a:ext cx="28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the Fu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D3AB7ED6-5E4E-48CE-84C8-4E3DE794F5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hort Sal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9977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vestor with a long position benefits from price incre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buy today at $34, and sell later at $57, you prof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uy low, sell 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vestor with a short position benefits from price decre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easy 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sell today at $83, and buy later at $27, you prof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ll high, buy 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A23DE4FA-8E4F-4F21-9C4D-14D7838091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Short Sal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short 100 shares of Texas Instruments (TXN) at $30 per share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broker has a 50% initial margin and a 40% maintenance margin on short sales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value of stock borrowed that will be sold short is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30 × $100 = $3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762120" y="3657600"/>
          <a:ext cx="7696080" cy="2316240"/>
        </p:xfrm>
        <a:graphic>
          <a:graphicData uri="http://schemas.openxmlformats.org/drawingml/2006/table">
            <a:tbl>
              <a:tblPr/>
              <a:tblGrid>
                <a:gridCol w="2612880"/>
                <a:gridCol w="1270080"/>
                <a:gridCol w="2469960"/>
                <a:gridCol w="1343160"/>
              </a:tblGrid>
              <a:tr h="916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 Procee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Margin Depos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31395334-1787-4182-9178-6000D1C9B4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Learning Objectiv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sell yourself short. Instead, learn about these key investment subject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The various types of securities brokers and brokerage accoun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How to calculate initial and maintenance margi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The workings of short sal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The importance of investor objectives, constraints, and strate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4A22C96E-6C4E-4ED8-ADFA-ECC890E491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Short Sal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Instrument stock price falls to $20 per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d at $30, value today is $20, so you are "ahead" by $10 per share, or $1,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, new margin: $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,5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/ $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,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685800" y="3733920"/>
          <a:ext cx="8001000" cy="2361960"/>
        </p:xfrm>
        <a:graphic>
          <a:graphicData uri="http://schemas.openxmlformats.org/drawingml/2006/table">
            <a:tbl>
              <a:tblPr/>
              <a:tblGrid>
                <a:gridCol w="2716200"/>
                <a:gridCol w="1247760"/>
                <a:gridCol w="2716200"/>
                <a:gridCol w="1320840"/>
              </a:tblGrid>
              <a:tr h="798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 Procee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Margin Deposit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84CB2894-7BCE-42BA-A19C-3E4053C284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Short Sales, I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Instruments stock price rises to $40 per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sold short at $30, stock price is now $40, you are "behind" by $10 per share, or $1,000. 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(He who sells what isn’t his’n, must buy it back—or go to prison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: new margin = $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5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/ $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,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2.5%  &lt;  40% Therefore, you are subject to a margin c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762120" y="3657600"/>
          <a:ext cx="7848360" cy="2314440"/>
        </p:xfrm>
        <a:graphic>
          <a:graphicData uri="http://schemas.openxmlformats.org/drawingml/2006/table">
            <a:tbl>
              <a:tblPr/>
              <a:tblGrid>
                <a:gridCol w="2663640"/>
                <a:gridCol w="1224000"/>
                <a:gridCol w="2521080"/>
                <a:gridCol w="1439640"/>
              </a:tblGrid>
              <a:tr h="76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 Procee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Margin Depos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77EA9112-9FF7-46DE-AC6D-17D3DBF9C3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ore on Short Sal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hort intere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amount of common stock held in short position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ractice, short selling is quite common and a substantial volume of stock sales are initiated by short seller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at with a short position, you may lose more than your total investment, as there is no theoretical limit to how high the stock price may 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35DC6C4D-68B6-4433-9581-AA4B2F9FFE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Biggest Short Positions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(from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Wall Street Journal)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04" name="Picture 8" descr="scl1"/>
          <p:cNvPicPr/>
          <p:nvPr/>
        </p:nvPicPr>
        <p:blipFill>
          <a:blip r:embed="rId1"/>
          <a:stretch/>
        </p:blipFill>
        <p:spPr>
          <a:xfrm>
            <a:off x="905040" y="1192320"/>
            <a:ext cx="762948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44C3CDD1-AC87-42A2-8DD6-F82E81D4AF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vestment Objectiv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damental Question: Why invest at 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invest today to have more tomorr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ment is simply deferred consum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choose to wait because we want more to spend l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formulating investment objectives, the individual must balance return objectives with risk tole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ors must think about risk and retu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ors must think about how much risk they can hand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808F5D24-1DA1-41A5-B2EC-5ACFD43FE3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vestment Strategies and Polic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160" y="1230120"/>
            <a:ext cx="8305560" cy="53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Investment managemen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ould you manage your investments yourself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Market timing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Should you try to buy and sell in anticipation of the future direction of the market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sset allocatio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How should you distribute your investment funds across the different classes of assets?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ecurity selectio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Within each class, which specific securities should you bu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A00E2391-DAA6-48C1-A213-37CA7AC159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vestor Constrai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Resource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at is the minimum sum needed? What are the associated costs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Horizo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en do you need the money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Liquid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ow high is the possibility that you need to sell the asset quickly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Taxe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ich tax bracket are you in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pecial circumstance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es your company provide any incentive? What are your regulatory and legal restric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3C39E19F-5D34-4929-9D9A-4590F8048F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rming an Investment Portfolio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the Risk Tolerance Quiz in the textbook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core did you g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7" descr="jor82353_tb0201"/>
          <p:cNvPicPr/>
          <p:nvPr/>
        </p:nvPicPr>
        <p:blipFill>
          <a:blip r:embed="rId1"/>
          <a:stretch/>
        </p:blipFill>
        <p:spPr>
          <a:xfrm>
            <a:off x="685800" y="3200400"/>
            <a:ext cx="792468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9025801E-A192-4152-91BF-8A8FDD806D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rming an Investment Portfolio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your score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5" descr="jor82353_tb0202"/>
          <p:cNvPicPr/>
          <p:nvPr/>
        </p:nvPicPr>
        <p:blipFill>
          <a:blip r:embed="rId1"/>
          <a:stretch/>
        </p:blipFill>
        <p:spPr>
          <a:xfrm>
            <a:off x="609480" y="2743200"/>
            <a:ext cx="815364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30932A9F-7C89-4A07-B2DC-C4A857699F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Useful Internet Si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2304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inra.org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eference for dispute resolu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bearmarketcentral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eference for short sell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nasdaq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eference for short inter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moneycentral.msn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 reference for building a portfolio—search the site for “Build your first stock portfoli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sharebuilder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 reference for opening a brokerage accoun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buyandhold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nother reference for opening a brokerage accou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individual.ml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isk tolerance questionnaire from Merrill Lyn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money-rates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eference for current broker call money r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finance.yaho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(a reference for short sales on particular stock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F8F4783E-4968-4C3D-ADFF-23B1B9A5ED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uying and Selling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3352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hapter covers the basics of the investing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begin by describing how you go about buying and selling securities, such as stocks and bond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, we outline some important considerations and constraints to keep in mind as you get more involved in the investing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E0D5AB2F-E921-47B7-BB25-42580D799D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apter Review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ing a Bro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Bro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Investors Protection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ker-Customer Rela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kerage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h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in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te on Annualizing Re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othecation and Street Name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Account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6C87550A-5779-4663-82F4-618F29181B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apter Review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s of a Short S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Detail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or Objectives, Constraints, and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and 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or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es and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C6371231-0950-4E27-A359-7E11B550C0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Getting Started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47920" y="1752480"/>
            <a:ext cx="6095880" cy="3886200"/>
            <a:chOff x="1447920" y="1752480"/>
            <a:chExt cx="6095880" cy="3886200"/>
          </a:xfrm>
        </p:grpSpPr>
        <p:sp>
          <p:nvSpPr>
            <p:cNvPr id="182" name="Line 4"/>
            <p:cNvSpPr/>
            <p:nvPr/>
          </p:nvSpPr>
          <p:spPr>
            <a:xfrm>
              <a:off x="4038480" y="46483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5"/>
            <p:cNvSpPr/>
            <p:nvPr/>
          </p:nvSpPr>
          <p:spPr>
            <a:xfrm>
              <a:off x="5029200" y="2971800"/>
              <a:ext cx="24382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) Buy 100 Shar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Disne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 $33 per sh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6"/>
            <p:cNvSpPr/>
            <p:nvPr/>
          </p:nvSpPr>
          <p:spPr>
            <a:xfrm>
              <a:off x="5029200" y="4572000"/>
              <a:ext cx="251460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e) $6,650 Cas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$3,300 Stock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7"/>
            <p:cNvSpPr/>
            <p:nvPr/>
          </p:nvSpPr>
          <p:spPr>
            <a:xfrm>
              <a:off x="1523880" y="4267080"/>
              <a:ext cx="25146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d) Pay Commission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y $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8"/>
            <p:cNvSpPr/>
            <p:nvPr/>
          </p:nvSpPr>
          <p:spPr>
            <a:xfrm>
              <a:off x="1447920" y="3048120"/>
              <a:ext cx="259056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b) Deposit $10,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o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9"/>
            <p:cNvSpPr/>
            <p:nvPr/>
          </p:nvSpPr>
          <p:spPr>
            <a:xfrm>
              <a:off x="6248520" y="24382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 flipV="1">
              <a:off x="2819520" y="198108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1"/>
            <p:cNvSpPr/>
            <p:nvPr/>
          </p:nvSpPr>
          <p:spPr>
            <a:xfrm>
              <a:off x="4876920" y="1752480"/>
              <a:ext cx="26668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a) Open a broker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 trading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2"/>
            <p:cNvSpPr/>
            <p:nvPr/>
          </p:nvSpPr>
          <p:spPr>
            <a:xfrm>
              <a:off x="2819520" y="198108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3"/>
            <p:cNvSpPr/>
            <p:nvPr/>
          </p:nvSpPr>
          <p:spPr>
            <a:xfrm>
              <a:off x="6248520" y="38862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4"/>
            <p:cNvSpPr/>
            <p:nvPr/>
          </p:nvSpPr>
          <p:spPr>
            <a:xfrm>
              <a:off x="4572000" y="2209680"/>
              <a:ext cx="0" cy="243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5"/>
            <p:cNvSpPr/>
            <p:nvPr/>
          </p:nvSpPr>
          <p:spPr>
            <a:xfrm>
              <a:off x="4572000" y="22096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BC92EB73-F763-411A-984B-96780C192E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oosing a Broker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kers are now divided into three group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-service bro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unt bro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p-discount broke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three groups can be distinguished by the level of service provided, as well as the level of commissions charg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148FB74B-621D-4B5C-87B2-5E1326B795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oosing a Broker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30824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brokerage industry becomes more competitive, the differences among broker types continues to blu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ther important change is the rapid growth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line brok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lso known as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e-brok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cyberbrok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investing has really changed the brokerage indu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shing brokerage com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ing investm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 place buy and sell orders over th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4838D079-5E42-462C-97C6-D7CAF4884C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urities Investor Protection Corporation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ecurities Investor Protection Corporation (SIPC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urance fund covering investors’ brokerage accounts when member firms go bankrupt or experience financial difficultie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brokerage firms belong to the SIPC, which insures each account for up to $500,000 in cash and securities, with a $100,000 cash maximum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mportant: The SIPC does not guarantee the value of any security (unlike FDIC coverag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ather, SIPC protects whatever amount of cash and securities that were in your account, in the event of fraud or other fail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D9094A0A-8242-439B-8119-106305A273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roker-Customer Relation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several important things to remember  when you deal with a broker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advice you receive is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uarantee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broker works as your agent and has a legal duty to act in your best interes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brokerage firms make profits from brokerage commissions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account agreement will probably specify that any disputes will be settled by arbitration and that the arbitration is final and bi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user</cp:lastModifiedBy>
  <dcterms:modified xsi:type="dcterms:W3CDTF">2012-03-25T18:32:05Z</dcterms:modified>
  <cp:revision>41</cp:revision>
  <dc:subject/>
  <dc:title>Slide 1</dc:title>
</cp:coreProperties>
</file>