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D2CD-79B0-406C-BDEA-A7C4DD534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D1B3-5E8F-45C7-9A13-C72ECD2A0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D983-A3AA-4891-8BE8-FA4C39524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6EE0-3B7A-4233-8DC2-8AADA989D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F5B7-ADE5-4E5A-BA5D-191D8BB14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550C-7306-4AD8-8408-30475507A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26DF-957D-4C4E-856C-5F4398875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CF37-5357-4AA8-BE44-1ECC477F7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B42E-1410-4CD4-BDB5-929509591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4AD0-7EF5-4D8B-9475-67AE83784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7325-8735-4F23-8495-E3402F350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2467-C8E7-4B57-B25C-4E5C15EF3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F08A-E6AE-4AED-992C-504E69678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D882-440B-4848-832F-8D5052663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B4A5-37E1-45E7-B056-A293DB901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3A16-D546-4A82-A061-D257AEEB2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19B0-F079-4A68-AFE3-F3E3667E2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EFCA-5966-44EB-93CD-26B3636C1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CD47-1270-4803-B526-53ADE4E72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16AB-5E21-4183-BBC4-0EF75C61A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AC49-7D0D-4E0E-9837-F5D6D78E5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’t his’n, must buy it back, or go to prison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EEAF-3BCF-4883-AB68-C0143A844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F9AB-4283-451B-A686-9D66C1064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149B-CF61-44A7-BDB2-58882912A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B00D-394B-494C-8F90-ABDE2B42D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3A8C-5F9C-481C-861D-B8916E80C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7EAB-3791-42A5-A8CB-A4F13A09F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3C8C-0009-4045-8F04-21740BE7A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75E6-AC27-402B-9B29-EFB2CA374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6DFB-EFB0-430B-927E-E704740E9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FAD4-3CC7-43BF-8ABC-9AC7037B4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352B-DBFA-4B09-B26A-B13FB9B12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928E-724F-4817-8D94-0F0226FEF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15DE-45ED-4ADB-A18D-D38324A01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ED23-F349-47F5-B71C-5F4AD66DF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A186-B9B3-48CF-BC55-237BD1637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D413-62FD-46C1-9F87-B140D1C7D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E360-7A09-4BFB-8085-FC878775B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EABB-7BAB-4107-AA26-112D55607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F46E-3E33-43B3-A79D-2E868BAB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8CAA-DB64-4308-B2A4-078FFF4D2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D78E-771D-43B3-AA0A-739FC12A4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3D51-5310-4731-BA43-A241B701C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CB53-9994-4395-B598-845D26719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FC90-24A4-407B-B0CD-E1DDF533E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45E1-8189-4FC0-98A3-ADE04F1AB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B22A-3176-4A64-948E-D3B2C1DF9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DFD9-F9A9-4FB2-8DAE-9E0339CCB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9787-28AD-4420-B903-8B75232BF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402E-0E25-4881-A5B7-FE601512E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B8C4-DCF7-42EB-92CF-08077B383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0A84-79A4-4A87-84DE-57CD0F807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64EF-D21D-40E5-865E-124B9C52E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07AB-4FFD-4311-AC45-024664284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99E3E667-9D59-4559-A928-C69FEF3780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asd.com/" TargetMode="External"/><Relationship Id="rId2" Type="http://schemas.openxmlformats.org/officeDocument/2006/relationships/hyperlink" Target="http://www.bearmarketcentral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www.moneycentral.msn.com/" TargetMode="External"/><Relationship Id="rId5" Type="http://schemas.openxmlformats.org/officeDocument/2006/relationships/hyperlink" Target="http://www.sharebuilder.com/" TargetMode="External"/><Relationship Id="rId6" Type="http://schemas.openxmlformats.org/officeDocument/2006/relationships/hyperlink" Target="http://www.buyandhold.com/" TargetMode="External"/><Relationship Id="rId7" Type="http://schemas.openxmlformats.org/officeDocument/2006/relationships/hyperlink" Target="http://www.individual.ml.com/" TargetMode="External"/><Relationship Id="rId8" Type="http://schemas.openxmlformats.org/officeDocument/2006/relationships/hyperlink" Target="http://www.money-rates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ying and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lling Secu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1879988-FFC6-44E7-956F-ABD86402C1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age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AD21101-5E1B-47CD-A753-62A1A37295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value of an investment that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, the portion that is borrowed incurs an interest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terest is based on the brok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l money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EECB458-B99C-436F-96AD-A4DDFAABB7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Margin Accounts,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Balance Shee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4038480"/>
          <a:ext cx="8229600" cy="2370240"/>
        </p:xfrm>
        <a:graphic>
          <a:graphicData uri="http://schemas.openxmlformats.org/drawingml/2006/table">
            <a:tbl>
              <a:tblPr/>
              <a:tblGrid>
                <a:gridCol w="2639880"/>
                <a:gridCol w="1241280"/>
                <a:gridCol w="2976840"/>
                <a:gridCol w="137160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6BE3A40-C2D2-4154-BE9A-7F9A5FDC71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518E9FE-77D2-4FB5-80B9-AB9993F197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4038480"/>
          <a:ext cx="8001000" cy="2398680"/>
        </p:xfrm>
        <a:graphic>
          <a:graphicData uri="http://schemas.openxmlformats.org/drawingml/2006/table">
            <a:tbl>
              <a:tblPr/>
              <a:tblGrid>
                <a:gridCol w="2567160"/>
                <a:gridCol w="1206360"/>
                <a:gridCol w="2855880"/>
                <a:gridCol w="137160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5496FFE-F604-4006-B2AA-8F1671BE05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3733920"/>
          <a:ext cx="7772400" cy="2398680"/>
        </p:xfrm>
        <a:graphic>
          <a:graphicData uri="http://schemas.openxmlformats.org/drawingml/2006/table">
            <a:tbl>
              <a:tblPr/>
              <a:tblGrid>
                <a:gridCol w="2493720"/>
                <a:gridCol w="1171800"/>
                <a:gridCol w="2609640"/>
                <a:gridCol w="149724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69BEC22-9878-4E6E-9CA0-893912A1EA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orrowing rate from your broker is 6.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is selling for $60 per shar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AA3123E-43B4-498F-A0C5-A322BF418C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C53A6AF-0752-4D85-8040-FC2EFD2DE1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282C380-13A8-48A1-94F2-F6A6144DDB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 you want to buy 300 shares of Pepsico, Inc. (PEP) at $55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ost: $16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only $9,900—so you must borrow $6,600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itial margin is $9,900/$16,500 = 60%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CACFC28-70EA-47F7-B919-F39698FD24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71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Gamble! Take all your savings and buy some good stock and hold it till it goes up.  If it don’t go up, don’t buy it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D215A08-2092-4D40-ADDF-E7AF1EF0D4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 Answer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301400"/>
            <a:ext cx="8001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1295280" y="2362320"/>
                <a:ext cx="6782040" cy="39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intenance Margin Leve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ber of Shares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den>
                        </m:f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lving  for  the  critical  stock  price,  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,  results  in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Maintenance Margin Level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 here,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,6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0489974-F78F-49C2-AF7C-CCC7903864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Annualizing Retur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 a Margin Purchase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Costco (COST) 3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2BD9E72-1CD5-451A-BCBE-6AC1B79C4C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First, you have to repay the 3-month loan, so: t = (3/12 = .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Amount Borrow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.1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1.026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$32,207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rofit = Your Sale Proceeds – Your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2,207.10 - $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533520" y="106668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E9631F0-6EEE-4329-B317-DDBFB0EAEC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58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838080" y="1676520"/>
                  <a:ext cx="7696440" cy="32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olding Period Percentage Return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3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 - $30,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EAR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Holding Period Percentage Return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85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So your EAR is about 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157A36D-7CA2-4BE1-BCA1-7BB818CE4B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ypothecation and Street Name Registr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ct of pledging securities as a collateral against a lo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rrangement under which a broker is the registered owner of a security. (You, as the account holder are the “beneficial owner.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21FED86-41E6-42AD-8287-9A8A8CB234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accounts can also be differentiated by the ways they are manag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dviso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one else to make buy and sell decisions on your behalf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Wrap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ll the expenses associated with your account are “wrapped” into a single f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scretiona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roker to trade for you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management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ovide for complete money management, including check-writing privileges, credit cards, and margin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72CFE3F-14EE-42F5-BE16-A13862E3C0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B5CB4B8-8761-40D2-881E-DC1E330C11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5333760"/>
            <a:ext cx="7391520" cy="725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that an investor who buys and owns shares of stock is said to be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to have a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75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76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CEB5D59-69F9-4769-A690-C7FDC76D19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9977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today at $34, and sell later at $57, you prof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today at $83, and buy later at $27, you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C8046F9-48E1-4743-ABB0-C0FE61A367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rt 100 shares of Texas Instruments (TXN) at $30 per shar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2120" y="3657600"/>
          <a:ext cx="7696080" cy="231624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2469960"/>
                <a:gridCol w="1343160"/>
              </a:tblGrid>
              <a:tr h="91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A65DA85-2A78-46F2-BB19-B46919C0ED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workings of short sa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he importance of investor objectives, constraints, and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975395B-D6C8-4571-8E5D-E41582DF78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 stock price falls to $2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3733920"/>
          <a:ext cx="8001000" cy="2361960"/>
        </p:xfrm>
        <a:graphic>
          <a:graphicData uri="http://schemas.openxmlformats.org/drawingml/2006/table">
            <a:tbl>
              <a:tblPr/>
              <a:tblGrid>
                <a:gridCol w="2716200"/>
                <a:gridCol w="1247760"/>
                <a:gridCol w="2716200"/>
                <a:gridCol w="1320840"/>
              </a:tblGrid>
              <a:tr h="79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D6D0420-8F5F-41E0-BCE9-7EB85039C7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 stock price rises to $4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He who sells what isn’t his’n, must buy it back—or go to priso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62120" y="3657600"/>
          <a:ext cx="7848360" cy="2314440"/>
        </p:xfrm>
        <a:graphic>
          <a:graphicData uri="http://schemas.openxmlformats.org/drawingml/2006/table">
            <a:tbl>
              <a:tblPr/>
              <a:tblGrid>
                <a:gridCol w="2663640"/>
                <a:gridCol w="1224000"/>
                <a:gridCol w="2521080"/>
                <a:gridCol w="1439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9365C2D-FDEE-4C60-B39F-CA0482A70B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re on Short Sal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short selling is quite common and a substantial volume of stock sales are initiated by short sell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419EE19-EB81-46B3-A7A5-0BCE7FBD50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iggest Short Positio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from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Wall Street Journal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4" name="Picture 8" descr="scl1"/>
          <p:cNvPicPr/>
          <p:nvPr/>
        </p:nvPicPr>
        <p:blipFill>
          <a:blip r:embed="rId1"/>
          <a:stretch/>
        </p:blipFill>
        <p:spPr>
          <a:xfrm>
            <a:off x="905040" y="1192320"/>
            <a:ext cx="7629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DE768C1-805E-43A1-8035-5017BDDF4C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invest today to have more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is simply deferred consum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hoose to wait because we want more to spen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risk and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how much risk they can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57F466B-7A82-4E6D-97E7-0D1BB5DD8C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Strategies and Polic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30120"/>
            <a:ext cx="8305560" cy="53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you manage your investments yourself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should you distribute your investment funds across the different classes of assets?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EAF2BBD-A380-4F8E-81D7-7D3B4DC2CD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or Constrai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is the minimum sum needed? 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high is the possibility that you need to sell the asset quickl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tax bracket are you i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pecial circumstanc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your company provide any incentive? What are your regulatory and legal restri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ECA53F0-F4E0-45C1-8879-E1F8C9B0CF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Risk Tolerance Quiz in the textboo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ore did you 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jor82353_tb0201"/>
          <p:cNvPicPr/>
          <p:nvPr/>
        </p:nvPicPr>
        <p:blipFill>
          <a:blip r:embed="rId1"/>
          <a:stretch/>
        </p:blipFill>
        <p:spPr>
          <a:xfrm>
            <a:off x="685800" y="3200400"/>
            <a:ext cx="7924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BA88E52-FB1A-4E48-B89E-4B3549FBE2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your score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jor82353_tb0202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743A87D-9215-4EAA-955D-99F6D1FCFB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304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ra.org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dispute re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earmarketcentra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se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neycentral.msn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building a portfolio—search the site for “Build your first stock portfoli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rebuilder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opening a brokerage accou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uyandhold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other reference for opening a brokerage ac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dividual.m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isk tolerance questionnaire from Merrill Ly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oney-rates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current broker call money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a reference for short sales on particular stock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6CB1FE4-E2DE-49CB-994D-2366B215B6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covers the basics of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gin by describing how you go about buying and selling securities, such as stocks and b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we outline some important considerations and constraints to keep in mind as you get more involved in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4068ACC-D41E-4C89-B59C-4D805DCDA4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a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nvestors Protection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-Customer Rel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ag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te on Annualizing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cation and Street Nam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cou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842C3B2-8580-4187-9940-8BEA4BDAE6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s of a Short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etai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 Objectives, Constraints,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16DDD19-EA75-4FF8-A40D-3ECE9164AD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47920" y="1752480"/>
            <a:ext cx="6095880" cy="3886200"/>
            <a:chOff x="1447920" y="1752480"/>
            <a:chExt cx="6095880" cy="3886200"/>
          </a:xfrm>
        </p:grpSpPr>
        <p:sp>
          <p:nvSpPr>
            <p:cNvPr id="182" name="Line 4"/>
            <p:cNvSpPr/>
            <p:nvPr/>
          </p:nvSpPr>
          <p:spPr>
            <a:xfrm>
              <a:off x="4038480" y="4648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5029200" y="297180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5029200" y="4572000"/>
              <a:ext cx="2514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523880" y="4267080"/>
              <a:ext cx="25146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1447920" y="3048120"/>
              <a:ext cx="2590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6248520" y="2438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2819520" y="1981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4876920" y="17524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2819520" y="19810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6248520" y="3886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4572000" y="220968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4572000" y="2209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1F565F5-1358-430C-989C-174D720E94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s are now divided into three group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-service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-discount brok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4DFECC1-6146-472B-A1E3-0514C2AB88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30824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important change is the rapid growt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known a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investing has really changed the brokerag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hing brokerage 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investm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lace buy and sell orders over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3844C41-FB4C-4B1F-975A-2C706ADF74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ies Investor Protection Corporation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fund covering investors’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A1FE2AA-C085-4EB6-95AE-6A567A11BC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-Customer Relatio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important things to remember  when you deal with a brok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advice you receiv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uarante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broker works as your agent and has a legal duty to act in your best inter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brokerage firms make profits from brokerage commission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2:05Z</dcterms:modified>
  <cp:revision>41</cp:revision>
  <dc:subject/>
  <dc:title>Slide 1</dc:title>
</cp:coreProperties>
</file>