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0058-C943-4949-9C15-DAC3E584E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9964-293B-4FF9-BA17-2A1D3B2CB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C511-5CC3-4618-9E9C-56364C6B1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0027-F42E-43FA-BF32-07CBA1824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4F79-60E3-4E68-A7FA-6A9B89CB3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116B-AA33-446B-8438-C4C1E4082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71F7-7B29-4EB2-A562-E337EEFB6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C069-EE2F-4A67-B1D2-414F76903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AAF8-AC88-4407-9069-860D92976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2FE7-E9D0-4AEE-B85F-A014458ED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6547-2454-4C14-AC04-16788FBC9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8AC2-A4F2-48A4-B9D0-6892C00DD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AE0A-D3EB-4B8F-A3E9-F12E62004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C926-A918-4828-A592-E6C48D668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4615-4BA1-4D5F-8B11-22E0B6FD8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C497-B109-4ED8-93C7-16F5F7357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B522-6053-44A7-8253-C1C8729F6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0402-0790-4420-B84A-D0E9007ED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F0BF-3629-46D5-AE5E-F3B589FC2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E911-A2DE-416C-8B5B-5310BE920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0CCE-505F-4706-943F-6EAFB83C2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8A0A-E220-47A2-AB25-E4BFB4D0C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5B3E-BE3F-494C-9353-727762A37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FC2E-107A-489B-B36D-A34AA6671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F5D9-BE3D-438C-A58B-F90CA5EBA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B027-4193-4311-B0B0-08AECCF92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EF8D-3ABA-49D8-A1E8-05B5BFE77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5497-3DE7-4085-B846-6C0D3B9B8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4FB1-3854-4670-A42B-A9AFF3DB2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306E-0A1F-4177-AB46-098B8A8A3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17B5C-2325-43A9-9DFC-73B7E5617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1C7C-DA76-42E0-930E-B21884266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8E6C4-9EAB-45C6-ACF7-4BEEA3C8B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E537-67E5-4F46-987D-57C3EF97B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B38C-E0D1-4C58-8D6A-02885A6EF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FA7A-42AD-40B8-92BA-F60C0EF0F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C14F-1474-48D3-8715-44362D0F9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D5133-B23F-4D53-B507-7679E88E2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0DBFC-5C69-4B08-B011-9164B7734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036A5-0F91-4B76-9ED4-48BC0B73E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A243-A33A-4954-AF38-5D381E438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-</a:t>
            </a:r>
            <a:fld id="{BBE16295-0138-4ACB-A889-97810CA56E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 of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D29D175-43B5-4AA5-B84D-92D096FCAD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380600"/>
            <a:ext cx="830556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BM shares, Microsoft shares, Intel shares, Dell shares, etc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Many companies pay cash dividends to their shareholders. However, neither the timing nor the amount of any dividend is guarant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66C14D7-53D2-4E2A-881D-E495544E05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9" name="Picture 8" descr="jor82353_f0302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4FDFD695-CAEA-4876-B0E9-A3B54D407D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mmon Stock Price Quotes Online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t http://finance.yahoo.co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9"/>
          <p:cNvGrpSpPr/>
          <p:nvPr/>
        </p:nvGrpSpPr>
        <p:grpSpPr>
          <a:xfrm>
            <a:off x="1143000" y="1371600"/>
            <a:ext cx="6942240" cy="1978560"/>
            <a:chOff x="1143000" y="1371600"/>
            <a:chExt cx="6942240" cy="1978560"/>
          </a:xfrm>
        </p:grpSpPr>
        <p:sp>
          <p:nvSpPr>
            <p:cNvPr id="224" name="Line 7"/>
            <p:cNvSpPr/>
            <p:nvPr/>
          </p:nvSpPr>
          <p:spPr>
            <a:xfrm flipH="1" flipV="1">
              <a:off x="1712520" y="2326680"/>
              <a:ext cx="30492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8"/>
            <p:cNvSpPr/>
            <p:nvPr/>
          </p:nvSpPr>
          <p:spPr>
            <a:xfrm>
              <a:off x="2017800" y="3012840"/>
              <a:ext cx="236196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First, enter symbo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22" descr="scl1"/>
            <p:cNvPicPr/>
            <p:nvPr/>
          </p:nvPicPr>
          <p:blipFill>
            <a:blip r:embed="rId1"/>
            <a:stretch/>
          </p:blipFill>
          <p:spPr>
            <a:xfrm>
              <a:off x="1143000" y="1371600"/>
              <a:ext cx="6942240" cy="9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Group 28"/>
          <p:cNvGrpSpPr/>
          <p:nvPr/>
        </p:nvGrpSpPr>
        <p:grpSpPr>
          <a:xfrm>
            <a:off x="914400" y="4038480"/>
            <a:ext cx="7543800" cy="2104920"/>
            <a:chOff x="914400" y="4038480"/>
            <a:chExt cx="7543800" cy="2104920"/>
          </a:xfrm>
        </p:grpSpPr>
        <p:grpSp>
          <p:nvGrpSpPr>
            <p:cNvPr id="228" name="Group 27"/>
            <p:cNvGrpSpPr/>
            <p:nvPr/>
          </p:nvGrpSpPr>
          <p:grpSpPr>
            <a:xfrm>
              <a:off x="6476760" y="4724280"/>
              <a:ext cx="1981440" cy="580680"/>
              <a:chOff x="6476760" y="4724280"/>
              <a:chExt cx="1981440" cy="580680"/>
            </a:xfrm>
          </p:grpSpPr>
          <p:sp>
            <p:nvSpPr>
              <p:cNvPr id="229" name="Text Box 10"/>
              <p:cNvSpPr/>
              <p:nvPr/>
            </p:nvSpPr>
            <p:spPr>
              <a:xfrm>
                <a:off x="7010280" y="4724280"/>
                <a:ext cx="1447920" cy="5806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Resulting Scre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1"/>
              <p:cNvSpPr/>
              <p:nvPr/>
            </p:nvSpPr>
            <p:spPr>
              <a:xfrm flipH="1">
                <a:off x="6476760" y="502884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Picture 26" descr="scl3"/>
            <p:cNvPicPr/>
            <p:nvPr/>
          </p:nvPicPr>
          <p:blipFill>
            <a:blip r:embed="rId2"/>
            <a:stretch/>
          </p:blipFill>
          <p:spPr>
            <a:xfrm>
              <a:off x="914400" y="4038480"/>
              <a:ext cx="541656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5914791-955C-4AB0-8C3D-8335491187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referred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itigroup preferred stock (Do a Google search for it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Dividends are “promised.” However, there is no legal requirement that the dividends be paid, as long as no common dividends are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E86F0A8-EA45-465F-9339-E8BADCFECC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mary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originally sold by a business or government to raise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ivative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nancial asset tha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i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an existing traded asset, rather than issued by a business or government to raise capital. More generally, any financial asset that is not a primary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F73BF56-AFD7-46F5-81EC-B9BB486858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utures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made today regarding the terms of a trade that will take place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ption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that gives the owner the right, but not the obligation, to buy or sell a specific asset at a specified price for a set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6C790A12-5B5A-4746-B056-B9A361DFFF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ancial futures (i.e., S&amp;P 500, T-bonds, foreign currencies, and others); Commodity futures (i.e., wheat, crude oil, cattle, and others)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t maturity, you gain if your contracted price is better than the market price of the underlying asset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you sell your contract before its maturity, you may gain or lose depending on the market price for the con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te that enormous gains and losses a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6814F2D-B38C-411E-BCD9-D8CD1AEA31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: Online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06668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Markets Data Center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wsj.co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1" descr="jor82353_f0304"/>
          <p:cNvPicPr/>
          <p:nvPr/>
        </p:nvPicPr>
        <p:blipFill>
          <a:blip r:embed="rId1"/>
          <a:stretch/>
        </p:blipFill>
        <p:spPr>
          <a:xfrm>
            <a:off x="638280" y="1467000"/>
            <a:ext cx="7867440" cy="39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E44407B8-2EF4-422D-9005-75DBBB9A37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Price Quotes Online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0" name="Picture 7" descr="jor82353_cut03f"/>
          <p:cNvPicPr/>
          <p:nvPr/>
        </p:nvPicPr>
        <p:blipFill>
          <a:blip r:embed="rId1"/>
          <a:stretch/>
        </p:blipFill>
        <p:spPr>
          <a:xfrm>
            <a:off x="1066680" y="3048120"/>
            <a:ext cx="7143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FA9A1C62-4AD5-451C-9717-A5D94E5C77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all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bu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thing, while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ut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“something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an asset, a commodity, or an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ce you pay today to buy an option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ption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cified price at which the underlying asset can be bought or sold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ke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ercise pr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CDA3968-D5ED-451B-8A24-EF9B3BC4F2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quotes for all types of investments are easy to find, but what do they mean? Learn the answer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Various types of interest-bearing asse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quity securiti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Futures contrac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Option contr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F33159A-5B7A-44DF-8903-302A2892AE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meric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y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 to and including the expiration date, whil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rope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only on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iration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differ from futures in two mai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call options have no obligation to buy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put options have no obligation to sell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 avoid this obligation, buyers of calls and puts must pay a price today.  Holders of futures contracts do not pay for the contract toda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FF2272D-B72D-47BA-9F71-FEBCD72BB4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call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oretically unlimited pro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call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call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oretically unlimited lo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losses are limited, but gains are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2583CEE3-8221-4943-9705-196B460C90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V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put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market price (for the underlying) is ze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put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put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market price (for the underlying) is z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 and sell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gains and losses are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AE83F94-6F56-42F9-8769-D5D6F3E505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tion Contracts: Online Price Quot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or Hewlett-Packard (HPQ) optio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685800" y="6095880"/>
            <a:ext cx="533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609480" y="34290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www.finance.yahoo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9" descr="jor82353_f0305"/>
          <p:cNvPicPr/>
          <p:nvPr/>
        </p:nvPicPr>
        <p:blipFill>
          <a:blip r:embed="rId1"/>
          <a:stretch/>
        </p:blipFill>
        <p:spPr>
          <a:xfrm>
            <a:off x="5105520" y="1143000"/>
            <a:ext cx="3355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BEF25C4-CA9E-4F3E-BD34-C0FF9CE7DA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o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uppose you have $10,000 for investments. Macron Technology is selling at $50 per share. 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umber of shares bought = $10,000 / $50 = 200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($5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1,0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4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430D33FD-D0D0-416E-9D6F-0A9816ED00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option with a $50 strike price and 3 months to maturity is also available at a premium of $4.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contract costs $4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$400, so number of contracts bought = $10,000 / $400 = 25 (for 2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2500 shares)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{($55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50)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}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2,5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0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)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FC914190-073A-41AB-82DF-F09D1FB91A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nasdbondinfo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urrent corporate bond pr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investinginbonds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ond ba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inra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earn more about TR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ool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re you a “Foolish investor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stocktickercompany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reproduction stock tick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megroup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ME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boe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hicago Board Options Ex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.yaho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ices for option cha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wsj.com (Online version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92120FD-D1A3-4AE7-9807-503D599DCB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932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ying Secur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-Bearing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ey Market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-Income Securit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red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and Preferred Stock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56EEE59-8455-4B28-A12F-C5B04E06EE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40960" y="1066680"/>
            <a:ext cx="7613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Futures Contrac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s versus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Option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ing in Stocks versus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494CAAD-9875-433A-924C-6984334EF2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introduce the different types of securities that investors routinely buy and sell in financial markets around the wor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ecurity type, we will exam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distinguishing characteristic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otential gains and loss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ts prices are quoted in the financial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8EF1885-CD14-4703-AC54-ADD6362A55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assify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143000" y="1905120"/>
            <a:ext cx="7543800" cy="3352320"/>
            <a:chOff x="1143000" y="1905120"/>
            <a:chExt cx="7543800" cy="3352320"/>
          </a:xfrm>
        </p:grpSpPr>
        <p:sp>
          <p:nvSpPr>
            <p:cNvPr id="177" name="Rectangle 4"/>
            <p:cNvSpPr/>
            <p:nvPr/>
          </p:nvSpPr>
          <p:spPr>
            <a:xfrm>
              <a:off x="1143000" y="1905120"/>
              <a:ext cx="301752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ic 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>
              <a:off x="4160520" y="1905120"/>
              <a:ext cx="452628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jor Sub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1143000" y="244116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-bea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4160520" y="244116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ey market instru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xed-income secur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1143000" y="3380040"/>
              <a:ext cx="301752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4160520" y="3380040"/>
              <a:ext cx="452628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ferred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1143000" y="431892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riva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4160520" y="431892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2DE5260F-0F95-443D-908E-C80FD41E77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terest-Bearing Asse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ney market instru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hort-term debt obligations of large corporations and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one future pay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than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xed-income securiti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longer-term debt obligations of corporations or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fixed payments according to a pre-set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exceed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E5F0C90F-66B4-4525-B0C1-C34DD3D560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ney Market Instrume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Treasury bills (T-bills), bank certificates of deposit (CDs), corporate and municipal money market instrument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known future payment/except when the borrower defaults (i.e., does not pay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ce quo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ually, the instruments are sold on a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iscount 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only the interest rates are quot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investors must be able to do calculate prices from the quoted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57496D7-A3F8-4678-ADC8-20387A4D9D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.S. Treasury notes, corporate bonds, car loans, student loan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coupon payments and final payment at maturity, except when the borrower defaul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gain (loss) from fall (rise) in interest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the debt issue, illiquidity can be a problem.  (Illiquidity means it is possible that you cannot sell these securities quickl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129C259-CDDC-4B98-A578-DC87B2F810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Quote Example: 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quotations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wsj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the online version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ome columns are self-explanatory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75" descr="scl1"/>
          <p:cNvPicPr/>
          <p:nvPr/>
        </p:nvPicPr>
        <p:blipFill>
          <a:blip r:embed="rId1"/>
          <a:stretch/>
        </p:blipFill>
        <p:spPr>
          <a:xfrm>
            <a:off x="1219320" y="2590920"/>
            <a:ext cx="6791040" cy="11048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76"/>
          <p:cNvSpPr/>
          <p:nvPr/>
        </p:nvSpPr>
        <p:spPr>
          <a:xfrm>
            <a:off x="1295280" y="3200400"/>
            <a:ext cx="6553440" cy="108000"/>
          </a:xfrm>
          <a:prstGeom prst="rect">
            <a:avLst/>
          </a:prstGeom>
          <a:solidFill>
            <a:srgbClr val="b2b2b2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90"/>
          <p:cNvGrpSpPr/>
          <p:nvPr/>
        </p:nvGrpSpPr>
        <p:grpSpPr>
          <a:xfrm>
            <a:off x="609480" y="3276360"/>
            <a:ext cx="3581640" cy="1524240"/>
            <a:chOff x="609480" y="3276360"/>
            <a:chExt cx="3581640" cy="1524240"/>
          </a:xfrm>
        </p:grpSpPr>
        <p:sp>
          <p:nvSpPr>
            <p:cNvPr id="200" name="Line 182"/>
            <p:cNvSpPr/>
            <p:nvPr/>
          </p:nvSpPr>
          <p:spPr>
            <a:xfrm flipH="1">
              <a:off x="3123720" y="3352680"/>
              <a:ext cx="304920" cy="914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83"/>
            <p:cNvSpPr/>
            <p:nvPr/>
          </p:nvSpPr>
          <p:spPr>
            <a:xfrm flipV="1">
              <a:off x="3429000" y="3276360"/>
              <a:ext cx="76320" cy="759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84"/>
            <p:cNvSpPr/>
            <p:nvPr/>
          </p:nvSpPr>
          <p:spPr>
            <a:xfrm>
              <a:off x="609480" y="4267080"/>
              <a:ext cx="3581640" cy="53352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ou will receive 6.875% of the bond’s fa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alue each year in 2 semi-annual paymen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91"/>
          <p:cNvSpPr/>
          <p:nvPr/>
        </p:nvSpPr>
        <p:spPr>
          <a:xfrm>
            <a:off x="4800600" y="4114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94"/>
          <p:cNvGrpSpPr/>
          <p:nvPr/>
        </p:nvGrpSpPr>
        <p:grpSpPr>
          <a:xfrm>
            <a:off x="4648320" y="3276360"/>
            <a:ext cx="2438280" cy="1373760"/>
            <a:chOff x="4648320" y="3276360"/>
            <a:chExt cx="2438280" cy="1373760"/>
          </a:xfrm>
        </p:grpSpPr>
        <p:sp>
          <p:nvSpPr>
            <p:cNvPr id="205" name="Line 188"/>
            <p:cNvSpPr/>
            <p:nvPr/>
          </p:nvSpPr>
          <p:spPr>
            <a:xfrm flipV="1">
              <a:off x="6238800" y="3276360"/>
              <a:ext cx="238320" cy="904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3"/>
            <p:cNvSpPr/>
            <p:nvPr/>
          </p:nvSpPr>
          <p:spPr>
            <a:xfrm>
              <a:off x="4648320" y="4191120"/>
              <a:ext cx="2438280" cy="45900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price (per $100 face) of the bond when it last trad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99"/>
          <p:cNvGrpSpPr/>
          <p:nvPr/>
        </p:nvGrpSpPr>
        <p:grpSpPr>
          <a:xfrm>
            <a:off x="5334120" y="3276720"/>
            <a:ext cx="3276360" cy="2181240"/>
            <a:chOff x="5334120" y="3276720"/>
            <a:chExt cx="3276360" cy="2181240"/>
          </a:xfrm>
        </p:grpSpPr>
        <p:sp>
          <p:nvSpPr>
            <p:cNvPr id="208" name="Line 196"/>
            <p:cNvSpPr/>
            <p:nvPr/>
          </p:nvSpPr>
          <p:spPr>
            <a:xfrm flipH="1">
              <a:off x="7924320" y="3276720"/>
              <a:ext cx="304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7"/>
            <p:cNvSpPr/>
            <p:nvPr/>
          </p:nvSpPr>
          <p:spPr>
            <a:xfrm>
              <a:off x="8229600" y="3276720"/>
              <a:ext cx="0" cy="19047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98"/>
            <p:cNvSpPr/>
            <p:nvPr/>
          </p:nvSpPr>
          <p:spPr>
            <a:xfrm>
              <a:off x="5334120" y="5181480"/>
              <a:ext cx="3276360" cy="2764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Yield to Maturity (YTM) of the bo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91AC582-60FA-40ED-A6D9-D131CCF70D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qu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mon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ownership in a corporation. A part owner receives a pro rated share of whatever is left over after all obligations have been met in the event of a liquid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eferred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vidend is usually fixed and must be paid before any dividends for the common shareholders. In the event of a liquidation, preferred shares have a particular fac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46:14Z</dcterms:modified>
  <cp:revision>40</cp:revision>
  <dc:subject/>
  <dc:title>Slide 1</dc:title>
</cp:coreProperties>
</file>