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2DE50-F51A-4085-9F96-2A5BCA81F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3FF84-853F-4ECB-975C-738834492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D2B37-2BD7-4022-9801-0A4914BF1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CE7B4-CBCC-4C0D-9B2F-606713A7D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5DD7B-F02F-43CD-B622-DCC3D1744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8D79B-01BF-49A0-9912-8E58D9AA5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500F1-E04A-413E-B8CE-F691197DA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AF362-E0A5-43C2-ADB7-3AFA160AB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09802-B244-47D4-ACD4-F6DD65BFF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72387-6804-4943-BBF2-67E7B5683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93CE-121D-4FD7-8E4C-0D89C2AE1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86C7E-137D-4CBC-B41A-BC37A33CC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53837-2197-4B43-99B4-A1E69F73C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A51FE-E313-4FC4-99D2-868884258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AD6DC-7BB3-4E9B-8692-DCBDCFA0D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D5BC6-4F7B-4AF9-A530-B96CFEDC6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9749B-E019-4480-9D2D-E5EA7DC27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E50DD-0F3B-406B-9964-BF2706A14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FF0C0-D66D-4946-BE41-D47EE2BC9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5A7D8-B58A-4C77-8018-BE6AA78FE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01857-A9CA-4805-97D0-1CC54305E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7F989-A787-4D64-8DBB-80D7A2B1B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FA61C-FA0B-4BE9-A3DD-440EFC159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6790E-2093-44FD-BBF6-EB052D620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96F5E-444B-4367-924E-644697CF1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00B15-C901-4CA6-B376-820079FA1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F8571-EB8F-472B-BBCB-C53B68C76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232EB-9480-42B9-B523-6B431C6AD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DD7F3-9CD6-43CB-AC13-D36499C6F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6AB22-EF28-4278-B4C9-85EA264121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82590-9928-4CA7-A4E1-C117C3D9F4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75B91-B434-4DBC-A901-D867C67D3E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41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14952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33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41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14952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4AD2A-F369-424E-8EB5-BFFFADA4E8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6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78E7B-7894-4D19-9005-76F0FDF70B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341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14952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33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341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14952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3EC62-99EE-417B-B767-4D3E60DD03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EB4DA-D7A7-4EC3-BEEB-AB9A1ECADD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B1059-5331-463E-BFC0-D70EE6159F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6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B166A-25D5-4C43-BD07-C6CEC3B531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EBC5A-5A11-4947-90BD-955BB9FDFC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84F86-8211-48C9-B675-7CBC040049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2C40C-2575-4917-ABB2-E009FA6204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 rot="16200000">
            <a:off x="8724960" y="266400"/>
            <a:ext cx="609480" cy="22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38"/>
          <p:cNvSpPr/>
          <p:nvPr/>
        </p:nvSpPr>
        <p:spPr>
          <a:xfrm>
            <a:off x="785880" y="76320"/>
            <a:ext cx="8345520" cy="7920"/>
          </a:xfrm>
          <a:custGeom>
            <a:avLst/>
            <a:gdLst>
              <a:gd name="textAreaLeft" fmla="*/ 0 w 8345520"/>
              <a:gd name="textAreaRight" fmla="*/ 8345880 w 8345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257" h="5">
                <a:moveTo>
                  <a:pt x="0" y="5"/>
                </a:moveTo>
                <a:lnTo>
                  <a:pt x="5257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2"/>
          <p:cNvSpPr/>
          <p:nvPr/>
        </p:nvSpPr>
        <p:spPr>
          <a:xfrm>
            <a:off x="457200" y="990720"/>
            <a:ext cx="84582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9"/>
          <p:cNvSpPr/>
          <p:nvPr/>
        </p:nvSpPr>
        <p:spPr>
          <a:xfrm rot="16200000">
            <a:off x="501480" y="-76320"/>
            <a:ext cx="228600" cy="380880"/>
          </a:xfrm>
          <a:custGeom>
            <a:avLst/>
            <a:gdLst>
              <a:gd name="textAreaLeft" fmla="*/ 0 w 228600"/>
              <a:gd name="textAreaRight" fmla="*/ 228960 w 228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10"/>
          <p:cNvSpPr/>
          <p:nvPr/>
        </p:nvSpPr>
        <p:spPr>
          <a:xfrm>
            <a:off x="-31680" y="-701640"/>
            <a:ext cx="865080" cy="2060640"/>
          </a:xfrm>
          <a:custGeom>
            <a:avLst/>
            <a:gdLst>
              <a:gd name="textAreaLeft" fmla="*/ 0 w 865080"/>
              <a:gd name="textAreaRight" fmla="*/ 865440 w 865080"/>
              <a:gd name="textAreaTop" fmla="*/ 0 h 2060640"/>
              <a:gd name="textAreaBottom" fmla="*/ 2061000 h 2060640"/>
            </a:gdLst>
            <a:ahLst/>
            <a:rect l="textAreaLeft" t="textAreaTop" r="textAreaRight" b="textAreaBottom"/>
            <a:pathLst>
              <a:path w="545" h="1298">
                <a:moveTo>
                  <a:pt x="12" y="1298"/>
                </a:moveTo>
                <a:cubicBezTo>
                  <a:pt x="92" y="1298"/>
                  <a:pt x="116" y="1298"/>
                  <a:pt x="196" y="1298"/>
                </a:cubicBezTo>
                <a:cubicBezTo>
                  <a:pt x="237" y="1174"/>
                  <a:pt x="188" y="1122"/>
                  <a:pt x="248" y="753"/>
                </a:cubicBezTo>
                <a:cubicBezTo>
                  <a:pt x="308" y="384"/>
                  <a:pt x="545" y="28"/>
                  <a:pt x="528" y="8"/>
                </a:cubicBezTo>
                <a:cubicBezTo>
                  <a:pt x="507" y="0"/>
                  <a:pt x="208" y="491"/>
                  <a:pt x="122" y="706"/>
                </a:cubicBezTo>
                <a:cubicBezTo>
                  <a:pt x="42" y="899"/>
                  <a:pt x="0" y="1193"/>
                  <a:pt x="12" y="1298"/>
                </a:cubicBezTo>
                <a:close/>
              </a:path>
            </a:pathLst>
          </a:cu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1"/>
          <p:cNvSpPr/>
          <p:nvPr/>
        </p:nvSpPr>
        <p:spPr>
          <a:xfrm rot="16200000">
            <a:off x="-756000" y="5804640"/>
            <a:ext cx="1830240" cy="27648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2"/>
          <p:cNvSpPr/>
          <p:nvPr/>
        </p:nvSpPr>
        <p:spPr>
          <a:xfrm rot="16200000">
            <a:off x="61920" y="5241600"/>
            <a:ext cx="609480" cy="181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3"/>
          <p:cNvSpPr/>
          <p:nvPr/>
        </p:nvSpPr>
        <p:spPr>
          <a:xfrm rot="16200000">
            <a:off x="-190080" y="1866600"/>
            <a:ext cx="1143000" cy="1522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4"/>
          <p:cNvSpPr/>
          <p:nvPr/>
        </p:nvSpPr>
        <p:spPr>
          <a:xfrm rot="16200000">
            <a:off x="-166680" y="3976560"/>
            <a:ext cx="609840" cy="276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Line 16"/>
          <p:cNvSpPr/>
          <p:nvPr/>
        </p:nvSpPr>
        <p:spPr>
          <a:xfrm>
            <a:off x="0" y="25146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reeform 17"/>
          <p:cNvSpPr/>
          <p:nvPr/>
        </p:nvSpPr>
        <p:spPr>
          <a:xfrm>
            <a:off x="0" y="1371600"/>
            <a:ext cx="457200" cy="3240"/>
          </a:xfrm>
          <a:custGeom>
            <a:avLst/>
            <a:gdLst>
              <a:gd name="textAreaLeft" fmla="*/ 0 w 457200"/>
              <a:gd name="textAreaRight" fmla="*/ 457560 w 4572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88" h="2">
                <a:moveTo>
                  <a:pt x="0" y="2"/>
                </a:moveTo>
                <a:lnTo>
                  <a:pt x="288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8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reeform 19"/>
          <p:cNvSpPr/>
          <p:nvPr/>
        </p:nvSpPr>
        <p:spPr>
          <a:xfrm>
            <a:off x="279360" y="1371600"/>
            <a:ext cx="9720" cy="5486400"/>
          </a:xfrm>
          <a:custGeom>
            <a:avLst/>
            <a:gdLst>
              <a:gd name="textAreaLeft" fmla="*/ 0 w 9720"/>
              <a:gd name="textAreaRight" fmla="*/ 10080 w 9720"/>
              <a:gd name="textAreaTop" fmla="*/ 0 h 5486400"/>
              <a:gd name="textAreaBottom" fmla="*/ 5486760 h 5486400"/>
            </a:gdLst>
            <a:ahLst/>
            <a:rect l="textAreaLeft" t="textAreaTop" r="textAreaRight" b="textAreaBottom"/>
            <a:pathLst>
              <a:path w="6" h="3456">
                <a:moveTo>
                  <a:pt x="0" y="0"/>
                </a:moveTo>
                <a:lnTo>
                  <a:pt x="6" y="345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Line 20"/>
          <p:cNvSpPr/>
          <p:nvPr/>
        </p:nvSpPr>
        <p:spPr>
          <a:xfrm flipV="1">
            <a:off x="0" y="4417560"/>
            <a:ext cx="457200" cy="18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Line 21"/>
          <p:cNvSpPr/>
          <p:nvPr/>
        </p:nvSpPr>
        <p:spPr>
          <a:xfrm>
            <a:off x="0" y="50292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Line 22"/>
          <p:cNvSpPr/>
          <p:nvPr/>
        </p:nvSpPr>
        <p:spPr>
          <a:xfrm>
            <a:off x="0" y="22860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Line 23"/>
          <p:cNvSpPr/>
          <p:nvPr/>
        </p:nvSpPr>
        <p:spPr>
          <a:xfrm>
            <a:off x="0" y="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Freeform 25"/>
          <p:cNvSpPr/>
          <p:nvPr/>
        </p:nvSpPr>
        <p:spPr>
          <a:xfrm>
            <a:off x="-12600" y="-690480"/>
            <a:ext cx="819000" cy="2049480"/>
          </a:xfrm>
          <a:custGeom>
            <a:avLst/>
            <a:gdLst>
              <a:gd name="textAreaLeft" fmla="*/ 0 w 819000"/>
              <a:gd name="textAreaRight" fmla="*/ 819360 w 819000"/>
              <a:gd name="textAreaTop" fmla="*/ 0 h 2049480"/>
              <a:gd name="textAreaBottom" fmla="*/ 2049840 h 2049480"/>
            </a:gdLst>
            <a:ahLst/>
            <a:rect l="textAreaLeft" t="textAreaTop" r="textAreaRight" b="textAreaBottom"/>
            <a:pathLst>
              <a:path w="516" h="1291">
                <a:moveTo>
                  <a:pt x="0" y="1291"/>
                </a:moveTo>
                <a:cubicBezTo>
                  <a:pt x="19" y="1192"/>
                  <a:pt x="30" y="920"/>
                  <a:pt x="116" y="705"/>
                </a:cubicBezTo>
                <a:cubicBezTo>
                  <a:pt x="248" y="314"/>
                  <a:pt x="432" y="147"/>
                  <a:pt x="516" y="0"/>
                </a:cubicBez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Freeform 26"/>
          <p:cNvSpPr/>
          <p:nvPr/>
        </p:nvSpPr>
        <p:spPr>
          <a:xfrm>
            <a:off x="291960" y="-674640"/>
            <a:ext cx="519120" cy="2033640"/>
          </a:xfrm>
          <a:custGeom>
            <a:avLst/>
            <a:gdLst>
              <a:gd name="textAreaLeft" fmla="*/ 0 w 519120"/>
              <a:gd name="textAreaRight" fmla="*/ 519480 w 519120"/>
              <a:gd name="textAreaTop" fmla="*/ 0 h 2033640"/>
              <a:gd name="textAreaBottom" fmla="*/ 2034000 h 2033640"/>
            </a:gdLst>
            <a:ahLst/>
            <a:rect l="textAreaLeft" t="textAreaTop" r="textAreaRight" b="textAreaBottom"/>
            <a:pathLst>
              <a:path w="327" h="1281">
                <a:moveTo>
                  <a:pt x="0" y="1281"/>
                </a:moveTo>
                <a:cubicBezTo>
                  <a:pt x="9" y="1188"/>
                  <a:pt x="3" y="941"/>
                  <a:pt x="57" y="728"/>
                </a:cubicBezTo>
                <a:cubicBezTo>
                  <a:pt x="116" y="476"/>
                  <a:pt x="271" y="152"/>
                  <a:pt x="327" y="0"/>
                </a:cubicBez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Line 28"/>
          <p:cNvSpPr/>
          <p:nvPr/>
        </p:nvSpPr>
        <p:spPr>
          <a:xfrm>
            <a:off x="304920" y="5638680"/>
            <a:ext cx="1522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Line 29"/>
          <p:cNvSpPr/>
          <p:nvPr/>
        </p:nvSpPr>
        <p:spPr>
          <a:xfrm>
            <a:off x="0" y="3809880"/>
            <a:ext cx="3049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Line 31"/>
          <p:cNvSpPr/>
          <p:nvPr/>
        </p:nvSpPr>
        <p:spPr>
          <a:xfrm>
            <a:off x="453240" y="230040"/>
            <a:ext cx="3240" cy="66279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Freeform 33"/>
          <p:cNvSpPr/>
          <p:nvPr/>
        </p:nvSpPr>
        <p:spPr>
          <a:xfrm>
            <a:off x="-25560" y="6629400"/>
            <a:ext cx="8993520" cy="1440"/>
          </a:xfrm>
          <a:custGeom>
            <a:avLst/>
            <a:gdLst>
              <a:gd name="textAreaLeft" fmla="*/ 0 w 8993520"/>
              <a:gd name="textAreaRight" fmla="*/ 8993880 w 89935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5665" h="1">
                <a:moveTo>
                  <a:pt x="0" y="0"/>
                </a:moveTo>
                <a:lnTo>
                  <a:pt x="5665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Rectangle 15"/>
          <p:cNvSpPr/>
          <p:nvPr/>
        </p:nvSpPr>
        <p:spPr>
          <a:xfrm rot="16200000">
            <a:off x="8724960" y="6438960"/>
            <a:ext cx="380880" cy="4572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Line 30"/>
          <p:cNvSpPr/>
          <p:nvPr/>
        </p:nvSpPr>
        <p:spPr>
          <a:xfrm>
            <a:off x="8686800" y="647712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Line 34"/>
          <p:cNvSpPr/>
          <p:nvPr/>
        </p:nvSpPr>
        <p:spPr>
          <a:xfrm>
            <a:off x="8686800" y="6477120"/>
            <a:ext cx="0" cy="3808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Line 36"/>
          <p:cNvSpPr/>
          <p:nvPr/>
        </p:nvSpPr>
        <p:spPr>
          <a:xfrm>
            <a:off x="8914680" y="0"/>
            <a:ext cx="3240" cy="64753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Line 37"/>
          <p:cNvSpPr/>
          <p:nvPr/>
        </p:nvSpPr>
        <p:spPr>
          <a:xfrm>
            <a:off x="822240" y="0"/>
            <a:ext cx="0" cy="2491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sldNum" idx="1"/>
          </p:nvPr>
        </p:nvSpPr>
        <p:spPr>
          <a:xfrm>
            <a:off x="708624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3-</a:t>
            </a:r>
            <a:fld id="{57FFAF77-5DAE-4DB7-B3D5-542D51BE5F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Line 40"/>
          <p:cNvSpPr/>
          <p:nvPr/>
        </p:nvSpPr>
        <p:spPr>
          <a:xfrm>
            <a:off x="8915400" y="685800"/>
            <a:ext cx="228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Freeform 41"/>
          <p:cNvSpPr/>
          <p:nvPr/>
        </p:nvSpPr>
        <p:spPr>
          <a:xfrm>
            <a:off x="291960" y="990720"/>
            <a:ext cx="9156960" cy="936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5768" h="6">
                <a:moveTo>
                  <a:pt x="0" y="0"/>
                </a:moveTo>
                <a:lnTo>
                  <a:pt x="5768" y="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7"/>
          <p:cNvSpPr/>
          <p:nvPr/>
        </p:nvSpPr>
        <p:spPr>
          <a:xfrm>
            <a:off x="5410080" y="304920"/>
            <a:ext cx="381240" cy="53316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35"/>
          <p:cNvSpPr/>
          <p:nvPr/>
        </p:nvSpPr>
        <p:spPr>
          <a:xfrm>
            <a:off x="8077320" y="1295280"/>
            <a:ext cx="228600" cy="381240"/>
          </a:xfrm>
          <a:custGeom>
            <a:avLst/>
            <a:gdLst>
              <a:gd name="textAreaLeft" fmla="*/ 0 w 228600"/>
              <a:gd name="textAreaRight" fmla="*/ 228960 w 2286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34"/>
          <p:cNvSpPr/>
          <p:nvPr/>
        </p:nvSpPr>
        <p:spPr>
          <a:xfrm>
            <a:off x="6629400" y="838080"/>
            <a:ext cx="2374920" cy="865440"/>
          </a:xfrm>
          <a:custGeom>
            <a:avLst/>
            <a:gdLst>
              <a:gd name="textAreaLeft" fmla="*/ 0 w 2374920"/>
              <a:gd name="textAreaRight" fmla="*/ 2375280 w 237492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1496" h="545">
                <a:moveTo>
                  <a:pt x="0" y="0"/>
                </a:moveTo>
                <a:cubicBezTo>
                  <a:pt x="0" y="0"/>
                  <a:pt x="0" y="96"/>
                  <a:pt x="0" y="192"/>
                </a:cubicBezTo>
                <a:cubicBezTo>
                  <a:pt x="124" y="233"/>
                  <a:pt x="406" y="161"/>
                  <a:pt x="743" y="247"/>
                </a:cubicBezTo>
                <a:cubicBezTo>
                  <a:pt x="1080" y="333"/>
                  <a:pt x="1468" y="545"/>
                  <a:pt x="1488" y="528"/>
                </a:cubicBezTo>
                <a:cubicBezTo>
                  <a:pt x="1496" y="507"/>
                  <a:pt x="982" y="201"/>
                  <a:pt x="790" y="121"/>
                </a:cubicBezTo>
                <a:cubicBezTo>
                  <a:pt x="598" y="41"/>
                  <a:pt x="165" y="25"/>
                  <a:pt x="0" y="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3"/>
          <p:cNvSpPr/>
          <p:nvPr/>
        </p:nvSpPr>
        <p:spPr>
          <a:xfrm>
            <a:off x="6629400" y="0"/>
            <a:ext cx="1447920" cy="533520"/>
          </a:xfrm>
          <a:prstGeom prst="rect">
            <a:avLst/>
          </a:pr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2"/>
          <p:cNvSpPr/>
          <p:nvPr/>
        </p:nvSpPr>
        <p:spPr>
          <a:xfrm>
            <a:off x="2666880" y="838080"/>
            <a:ext cx="609840" cy="30492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1"/>
          <p:cNvSpPr/>
          <p:nvPr/>
        </p:nvSpPr>
        <p:spPr>
          <a:xfrm>
            <a:off x="2666880" y="1143000"/>
            <a:ext cx="609840" cy="53352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0"/>
          <p:cNvSpPr/>
          <p:nvPr/>
        </p:nvSpPr>
        <p:spPr>
          <a:xfrm>
            <a:off x="3276720" y="304920"/>
            <a:ext cx="609480" cy="5331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9"/>
          <p:cNvSpPr/>
          <p:nvPr/>
        </p:nvSpPr>
        <p:spPr>
          <a:xfrm>
            <a:off x="3276720" y="1143000"/>
            <a:ext cx="60948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7"/>
          <p:cNvSpPr/>
          <p:nvPr/>
        </p:nvSpPr>
        <p:spPr>
          <a:xfrm>
            <a:off x="3886200" y="1143000"/>
            <a:ext cx="1905120" cy="5335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6"/>
          <p:cNvSpPr/>
          <p:nvPr/>
        </p:nvSpPr>
        <p:spPr>
          <a:xfrm>
            <a:off x="57913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0"/>
          <p:cNvSpPr/>
          <p:nvPr/>
        </p:nvSpPr>
        <p:spPr>
          <a:xfrm>
            <a:off x="662940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1"/>
          <p:cNvSpPr/>
          <p:nvPr/>
        </p:nvSpPr>
        <p:spPr>
          <a:xfrm flipH="1">
            <a:off x="0" y="1676520"/>
            <a:ext cx="91440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2"/>
          <p:cNvSpPr/>
          <p:nvPr/>
        </p:nvSpPr>
        <p:spPr>
          <a:xfrm flipH="1">
            <a:off x="-360" y="114300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3"/>
          <p:cNvSpPr/>
          <p:nvPr/>
        </p:nvSpPr>
        <p:spPr>
          <a:xfrm flipH="1">
            <a:off x="-360" y="83808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4"/>
          <p:cNvSpPr/>
          <p:nvPr/>
        </p:nvSpPr>
        <p:spPr>
          <a:xfrm flipH="1">
            <a:off x="-360" y="304920"/>
            <a:ext cx="57913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5"/>
          <p:cNvSpPr/>
          <p:nvPr/>
        </p:nvSpPr>
        <p:spPr>
          <a:xfrm>
            <a:off x="388620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>
            <a:off x="32767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8"/>
          <p:cNvSpPr/>
          <p:nvPr/>
        </p:nvSpPr>
        <p:spPr>
          <a:xfrm>
            <a:off x="80773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9"/>
          <p:cNvSpPr/>
          <p:nvPr/>
        </p:nvSpPr>
        <p:spPr>
          <a:xfrm>
            <a:off x="83059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25"/>
          <p:cNvGrpSpPr/>
          <p:nvPr/>
        </p:nvGrpSpPr>
        <p:grpSpPr>
          <a:xfrm>
            <a:off x="6629400" y="828720"/>
            <a:ext cx="2362320" cy="852480"/>
            <a:chOff x="6629400" y="828720"/>
            <a:chExt cx="2362320" cy="852480"/>
          </a:xfrm>
        </p:grpSpPr>
        <p:sp>
          <p:nvSpPr>
            <p:cNvPr id="89" name="Freeform 23"/>
            <p:cNvSpPr/>
            <p:nvPr/>
          </p:nvSpPr>
          <p:spPr>
            <a:xfrm>
              <a:off x="6629400" y="828720"/>
              <a:ext cx="2362320" cy="847800"/>
            </a:xfrm>
            <a:custGeom>
              <a:avLst/>
              <a:gdLst>
                <a:gd name="textAreaLeft" fmla="*/ 0 w 2362320"/>
                <a:gd name="textAreaRight" fmla="*/ 2362320 w 2362320"/>
                <a:gd name="textAreaTop" fmla="*/ 0 h 847800"/>
                <a:gd name="textAreaBottom" fmla="*/ 848160 h 847800"/>
              </a:gdLst>
              <a:ahLst/>
              <a:rect l="textAreaLeft" t="textAreaTop" r="textAreaRight" b="textAreaBottom"/>
              <a:pathLst>
                <a:path w="1488" h="534">
                  <a:moveTo>
                    <a:pt x="0" y="6"/>
                  </a:moveTo>
                  <a:cubicBezTo>
                    <a:pt x="130" y="27"/>
                    <a:pt x="392" y="0"/>
                    <a:pt x="783" y="133"/>
                  </a:cubicBezTo>
                  <a:cubicBezTo>
                    <a:pt x="1174" y="266"/>
                    <a:pt x="1341" y="450"/>
                    <a:pt x="1488" y="534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6629400" y="1152360"/>
              <a:ext cx="2346480" cy="528840"/>
            </a:xfrm>
            <a:custGeom>
              <a:avLst/>
              <a:gdLst>
                <a:gd name="textAreaLeft" fmla="*/ 0 w 2346480"/>
                <a:gd name="textAreaRight" fmla="*/ 2346840 w 2346480"/>
                <a:gd name="textAreaTop" fmla="*/ 0 h 528840"/>
                <a:gd name="textAreaBottom" fmla="*/ 529200 h 528840"/>
              </a:gdLst>
              <a:ahLst/>
              <a:rect l="textAreaLeft" t="textAreaTop" r="textAreaRight" b="textAreaBottom"/>
              <a:pathLst>
                <a:path w="1478" h="333">
                  <a:moveTo>
                    <a:pt x="0" y="0"/>
                  </a:moveTo>
                  <a:cubicBezTo>
                    <a:pt x="125" y="10"/>
                    <a:pt x="498" y="2"/>
                    <a:pt x="750" y="62"/>
                  </a:cubicBezTo>
                  <a:cubicBezTo>
                    <a:pt x="1002" y="122"/>
                    <a:pt x="1326" y="277"/>
                    <a:pt x="1478" y="333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Line 26"/>
          <p:cNvSpPr/>
          <p:nvPr/>
        </p:nvSpPr>
        <p:spPr>
          <a:xfrm flipH="1">
            <a:off x="6629040" y="533520"/>
            <a:ext cx="2514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6"/>
          <p:cNvSpPr/>
          <p:nvPr/>
        </p:nvSpPr>
        <p:spPr>
          <a:xfrm>
            <a:off x="5410080" y="0"/>
            <a:ext cx="0" cy="8380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7"/>
          <p:cNvSpPr/>
          <p:nvPr/>
        </p:nvSpPr>
        <p:spPr>
          <a:xfrm>
            <a:off x="0" y="-457200"/>
            <a:ext cx="3048120" cy="5334120"/>
          </a:xfrm>
          <a:custGeom>
            <a:avLst/>
            <a:gdLst>
              <a:gd name="textAreaLeft" fmla="*/ 148680 w 3048120"/>
              <a:gd name="textAreaRight" fmla="*/ 2899440 w 3048120"/>
              <a:gd name="textAreaTop" fmla="*/ 148680 h 5334120"/>
              <a:gd name="textAreaBottom" fmla="*/ 5185440 h 5334120"/>
            </a:gdLst>
            <a:ahLst/>
            <a:rect l="textAreaLeft" t="textAreaTop" r="textAreaRight" b="textAreaBottom"/>
            <a:pathLst>
              <a:path w="21600" h="37797">
                <a:moveTo>
                  <a:pt x="3600" y="0"/>
                </a:moveTo>
                <a:arcTo wR="3600" hR="3600" stAng="16200000" swAng="-5400000"/>
                <a:lnTo>
                  <a:pt x="0" y="34197"/>
                </a:lnTo>
                <a:arcTo wR="3600" hR="3600" stAng="10800000" swAng="-5400000"/>
                <a:lnTo>
                  <a:pt x="18000" y="377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ad07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0" y="5335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hap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-1143000" y="1828800"/>
            <a:ext cx="10058400" cy="4800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41"/>
          <p:cNvSpPr/>
          <p:nvPr/>
        </p:nvSpPr>
        <p:spPr>
          <a:xfrm rot="10800000">
            <a:off x="379080" y="6276960"/>
            <a:ext cx="228600" cy="380880"/>
          </a:xfrm>
          <a:custGeom>
            <a:avLst/>
            <a:gdLst>
              <a:gd name="textAreaLeft" fmla="*/ 0 w 228600"/>
              <a:gd name="textAreaRight" fmla="*/ 228960 w 228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42"/>
          <p:cNvSpPr/>
          <p:nvPr/>
        </p:nvSpPr>
        <p:spPr>
          <a:xfrm rot="10800000">
            <a:off x="-319320" y="6248160"/>
            <a:ext cx="2374920" cy="865080"/>
          </a:xfrm>
          <a:custGeom>
            <a:avLst/>
            <a:gdLst>
              <a:gd name="textAreaLeft" fmla="*/ 0 w 2374920"/>
              <a:gd name="textAreaRight" fmla="*/ 2375280 w 237492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1496" h="545">
                <a:moveTo>
                  <a:pt x="0" y="0"/>
                </a:moveTo>
                <a:cubicBezTo>
                  <a:pt x="0" y="0"/>
                  <a:pt x="0" y="96"/>
                  <a:pt x="0" y="192"/>
                </a:cubicBezTo>
                <a:cubicBezTo>
                  <a:pt x="124" y="233"/>
                  <a:pt x="406" y="161"/>
                  <a:pt x="743" y="247"/>
                </a:cubicBezTo>
                <a:cubicBezTo>
                  <a:pt x="1080" y="333"/>
                  <a:pt x="1468" y="545"/>
                  <a:pt x="1488" y="528"/>
                </a:cubicBezTo>
                <a:cubicBezTo>
                  <a:pt x="1496" y="507"/>
                  <a:pt x="982" y="201"/>
                  <a:pt x="790" y="121"/>
                </a:cubicBezTo>
                <a:cubicBezTo>
                  <a:pt x="598" y="41"/>
                  <a:pt x="165" y="25"/>
                  <a:pt x="0" y="0"/>
                </a:cubicBezTo>
                <a:close/>
              </a:path>
            </a:pathLst>
          </a:cu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4"/>
          <p:cNvSpPr/>
          <p:nvPr/>
        </p:nvSpPr>
        <p:spPr>
          <a:xfrm rot="10800000">
            <a:off x="5408640" y="6810480"/>
            <a:ext cx="2820960" cy="57312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5"/>
          <p:cNvSpPr/>
          <p:nvPr/>
        </p:nvSpPr>
        <p:spPr>
          <a:xfrm rot="10800000">
            <a:off x="5408280" y="6629040"/>
            <a:ext cx="609480" cy="181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6"/>
          <p:cNvSpPr/>
          <p:nvPr/>
        </p:nvSpPr>
        <p:spPr>
          <a:xfrm rot="10800000">
            <a:off x="2057040" y="6652800"/>
            <a:ext cx="609480" cy="1825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7"/>
          <p:cNvSpPr/>
          <p:nvPr/>
        </p:nvSpPr>
        <p:spPr>
          <a:xfrm rot="10800000">
            <a:off x="3124080" y="6276960"/>
            <a:ext cx="60984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8"/>
          <p:cNvSpPr/>
          <p:nvPr/>
        </p:nvSpPr>
        <p:spPr>
          <a:xfrm rot="10800000">
            <a:off x="8229600" y="6629040"/>
            <a:ext cx="990720" cy="3049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49"/>
          <p:cNvSpPr/>
          <p:nvPr/>
        </p:nvSpPr>
        <p:spPr>
          <a:xfrm flipH="1" flipV="1">
            <a:off x="2894040" y="6276600"/>
            <a:ext cx="1440" cy="3524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0"/>
          <p:cNvSpPr/>
          <p:nvPr/>
        </p:nvSpPr>
        <p:spPr>
          <a:xfrm flipV="1">
            <a:off x="2057400" y="6629400"/>
            <a:ext cx="0" cy="533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1"/>
          <p:cNvSpPr/>
          <p:nvPr/>
        </p:nvSpPr>
        <p:spPr>
          <a:xfrm>
            <a:off x="-458640" y="6276960"/>
            <a:ext cx="9601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2"/>
          <p:cNvSpPr/>
          <p:nvPr/>
        </p:nvSpPr>
        <p:spPr>
          <a:xfrm flipV="1">
            <a:off x="2055240" y="6784560"/>
            <a:ext cx="6173640" cy="255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5"/>
          <p:cNvSpPr/>
          <p:nvPr/>
        </p:nvSpPr>
        <p:spPr>
          <a:xfrm flipH="1" flipV="1">
            <a:off x="3731760" y="6276960"/>
            <a:ext cx="1800" cy="6573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6"/>
          <p:cNvSpPr/>
          <p:nvPr/>
        </p:nvSpPr>
        <p:spPr>
          <a:xfrm flipV="1">
            <a:off x="5410080" y="6629040"/>
            <a:ext cx="0" cy="3049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57"/>
          <p:cNvSpPr/>
          <p:nvPr/>
        </p:nvSpPr>
        <p:spPr>
          <a:xfrm flipH="1" flipV="1">
            <a:off x="608040" y="6276960"/>
            <a:ext cx="1440" cy="5810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8"/>
          <p:cNvSpPr/>
          <p:nvPr/>
        </p:nvSpPr>
        <p:spPr>
          <a:xfrm flipH="1" flipV="1">
            <a:off x="379440" y="6276960"/>
            <a:ext cx="1440" cy="6573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59"/>
          <p:cNvGrpSpPr/>
          <p:nvPr/>
        </p:nvGrpSpPr>
        <p:grpSpPr>
          <a:xfrm>
            <a:off x="-306360" y="6270480"/>
            <a:ext cx="2362320" cy="852480"/>
            <a:chOff x="-306360" y="6270480"/>
            <a:chExt cx="2362320" cy="852480"/>
          </a:xfrm>
        </p:grpSpPr>
        <p:sp>
          <p:nvSpPr>
            <p:cNvPr id="112" name="Freeform 60"/>
            <p:cNvSpPr/>
            <p:nvPr/>
          </p:nvSpPr>
          <p:spPr>
            <a:xfrm rot="10800000">
              <a:off x="-306360" y="6275160"/>
              <a:ext cx="2362320" cy="847800"/>
            </a:xfrm>
            <a:custGeom>
              <a:avLst/>
              <a:gdLst>
                <a:gd name="textAreaLeft" fmla="*/ 0 w 2362320"/>
                <a:gd name="textAreaRight" fmla="*/ 2362320 w 2362320"/>
                <a:gd name="textAreaTop" fmla="*/ 0 h 847800"/>
                <a:gd name="textAreaBottom" fmla="*/ 848160 h 847800"/>
              </a:gdLst>
              <a:ahLst/>
              <a:rect l="textAreaLeft" t="textAreaTop" r="textAreaRight" b="textAreaBottom"/>
              <a:pathLst>
                <a:path w="1488" h="534">
                  <a:moveTo>
                    <a:pt x="0" y="6"/>
                  </a:moveTo>
                  <a:cubicBezTo>
                    <a:pt x="130" y="27"/>
                    <a:pt x="392" y="0"/>
                    <a:pt x="783" y="133"/>
                  </a:cubicBezTo>
                  <a:cubicBezTo>
                    <a:pt x="1174" y="266"/>
                    <a:pt x="1341" y="450"/>
                    <a:pt x="1488" y="534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61"/>
            <p:cNvSpPr/>
            <p:nvPr/>
          </p:nvSpPr>
          <p:spPr>
            <a:xfrm rot="10800000">
              <a:off x="-290520" y="6270480"/>
              <a:ext cx="2346480" cy="528840"/>
            </a:xfrm>
            <a:custGeom>
              <a:avLst/>
              <a:gdLst>
                <a:gd name="textAreaLeft" fmla="*/ 0 w 2346480"/>
                <a:gd name="textAreaRight" fmla="*/ 2346840 w 2346480"/>
                <a:gd name="textAreaTop" fmla="*/ 0 h 528840"/>
                <a:gd name="textAreaBottom" fmla="*/ 529200 h 528840"/>
              </a:gdLst>
              <a:ahLst/>
              <a:rect l="textAreaLeft" t="textAreaTop" r="textAreaRight" b="textAreaBottom"/>
              <a:pathLst>
                <a:path w="1478" h="333">
                  <a:moveTo>
                    <a:pt x="0" y="0"/>
                  </a:moveTo>
                  <a:cubicBezTo>
                    <a:pt x="125" y="10"/>
                    <a:pt x="498" y="2"/>
                    <a:pt x="750" y="62"/>
                  </a:cubicBezTo>
                  <a:cubicBezTo>
                    <a:pt x="1002" y="122"/>
                    <a:pt x="1326" y="277"/>
                    <a:pt x="1478" y="333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Line 64"/>
          <p:cNvSpPr/>
          <p:nvPr/>
        </p:nvSpPr>
        <p:spPr>
          <a:xfrm>
            <a:off x="4191120" y="6629400"/>
            <a:ext cx="49528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5"/>
          <p:cNvSpPr/>
          <p:nvPr/>
        </p:nvSpPr>
        <p:spPr>
          <a:xfrm flipV="1">
            <a:off x="6019920" y="6629400"/>
            <a:ext cx="0" cy="4572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6"/>
          <p:cNvSpPr/>
          <p:nvPr/>
        </p:nvSpPr>
        <p:spPr>
          <a:xfrm flipV="1">
            <a:off x="3124080" y="6248160"/>
            <a:ext cx="0" cy="6094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67"/>
          <p:cNvSpPr/>
          <p:nvPr/>
        </p:nvSpPr>
        <p:spPr>
          <a:xfrm flipV="1">
            <a:off x="8229600" y="6629040"/>
            <a:ext cx="0" cy="2286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4"/>
          <p:cNvSpPr/>
          <p:nvPr/>
        </p:nvSpPr>
        <p:spPr>
          <a:xfrm>
            <a:off x="608760" y="6629400"/>
            <a:ext cx="358164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9"/>
          <p:cNvSpPr/>
          <p:nvPr/>
        </p:nvSpPr>
        <p:spPr>
          <a:xfrm>
            <a:off x="609480" y="6324480"/>
            <a:ext cx="2667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0"/>
          <p:cNvSpPr/>
          <p:nvPr/>
        </p:nvSpPr>
        <p:spPr>
          <a:xfrm>
            <a:off x="365760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Copyright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 2009 by The McGraw-Hill Companies,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1828440"/>
            <a:ext cx="304812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700" spc="-1" strike="noStrike">
                <a:solidFill>
                  <a:srgbClr val="660066"/>
                </a:solidFill>
                <a:latin typeface="Arial"/>
              </a:rPr>
              <a:t>3</a:t>
            </a:r>
            <a:endParaRPr b="0" lang="en-US" sz="127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276720" y="1828440"/>
            <a:ext cx="5410080" cy="4419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Overview of 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ecurity Ty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BDAAEBDD-369E-46DA-8068-84DB56ACFD8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ommon Stock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3160" y="1380600"/>
            <a:ext cx="8305560" cy="41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xamp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BM shares, Microsoft shares, Intel shares, Dell shares, etc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otential gains/loss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Many companies pay cash dividends to their shareholders. However, neither the timing nor the amount of any dividend is guarant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The stock value may rise or fall depending on the prospects for the company and market-wide circumsta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1FA4029D-CD17-4001-83CC-158A5C8917D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ommon Stock Price Quot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19" name="Picture 8" descr="jor82353_f0302"/>
          <p:cNvPicPr/>
          <p:nvPr/>
        </p:nvPicPr>
        <p:blipFill>
          <a:blip r:embed="rId1"/>
          <a:stretch/>
        </p:blipFill>
        <p:spPr>
          <a:xfrm>
            <a:off x="1066680" y="1066680"/>
            <a:ext cx="6858000" cy="54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9356C695-D4B1-43C1-8A88-3BF9D0DCEC6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ommon Stock Price Quotes Online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t http://finance.yahoo.com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29"/>
          <p:cNvGrpSpPr/>
          <p:nvPr/>
        </p:nvGrpSpPr>
        <p:grpSpPr>
          <a:xfrm>
            <a:off x="1143000" y="1371600"/>
            <a:ext cx="6942240" cy="1978560"/>
            <a:chOff x="1143000" y="1371600"/>
            <a:chExt cx="6942240" cy="1978560"/>
          </a:xfrm>
        </p:grpSpPr>
        <p:sp>
          <p:nvSpPr>
            <p:cNvPr id="224" name="Line 7"/>
            <p:cNvSpPr/>
            <p:nvPr/>
          </p:nvSpPr>
          <p:spPr>
            <a:xfrm flipH="1" flipV="1">
              <a:off x="1712520" y="2326680"/>
              <a:ext cx="304920" cy="6858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8"/>
            <p:cNvSpPr/>
            <p:nvPr/>
          </p:nvSpPr>
          <p:spPr>
            <a:xfrm>
              <a:off x="2017800" y="3012840"/>
              <a:ext cx="2361960" cy="3373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First, enter symbol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Picture 22" descr="scl1"/>
            <p:cNvPicPr/>
            <p:nvPr/>
          </p:nvPicPr>
          <p:blipFill>
            <a:blip r:embed="rId1"/>
            <a:stretch/>
          </p:blipFill>
          <p:spPr>
            <a:xfrm>
              <a:off x="1143000" y="1371600"/>
              <a:ext cx="6942240" cy="90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7" name="Group 28"/>
          <p:cNvGrpSpPr/>
          <p:nvPr/>
        </p:nvGrpSpPr>
        <p:grpSpPr>
          <a:xfrm>
            <a:off x="914400" y="4038480"/>
            <a:ext cx="7543800" cy="2104920"/>
            <a:chOff x="914400" y="4038480"/>
            <a:chExt cx="7543800" cy="2104920"/>
          </a:xfrm>
        </p:grpSpPr>
        <p:grpSp>
          <p:nvGrpSpPr>
            <p:cNvPr id="228" name="Group 27"/>
            <p:cNvGrpSpPr/>
            <p:nvPr/>
          </p:nvGrpSpPr>
          <p:grpSpPr>
            <a:xfrm>
              <a:off x="6476760" y="4724280"/>
              <a:ext cx="1981440" cy="580680"/>
              <a:chOff x="6476760" y="4724280"/>
              <a:chExt cx="1981440" cy="580680"/>
            </a:xfrm>
          </p:grpSpPr>
          <p:sp>
            <p:nvSpPr>
              <p:cNvPr id="229" name="Text Box 10"/>
              <p:cNvSpPr/>
              <p:nvPr/>
            </p:nvSpPr>
            <p:spPr>
              <a:xfrm>
                <a:off x="7010280" y="4724280"/>
                <a:ext cx="1447920" cy="58068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Arial"/>
                  </a:rPr>
                  <a:t>Resulting Scree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Line 11"/>
              <p:cNvSpPr/>
              <p:nvPr/>
            </p:nvSpPr>
            <p:spPr>
              <a:xfrm flipH="1">
                <a:off x="6476760" y="5028840"/>
                <a:ext cx="5331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1" name="Picture 26" descr="scl3"/>
            <p:cNvPicPr/>
            <p:nvPr/>
          </p:nvPicPr>
          <p:blipFill>
            <a:blip r:embed="rId2"/>
            <a:stretch/>
          </p:blipFill>
          <p:spPr>
            <a:xfrm>
              <a:off x="914400" y="4038480"/>
              <a:ext cx="5416560" cy="210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A3DD876E-D106-4A6E-8AE8-C2224472B50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Preferred Stock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xamp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itigroup preferred stock (Do a Google search for it)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otential gains/loss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Dividends are “promised.” However, there is no legal requirement that the dividends be paid, as long as no common dividends are distrib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The stock value may rise or fall depending on the prospects for the company and market-wide circumsta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BFDB5952-2E5B-4853-87EE-EDD107722D4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Derivatives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rimary asse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 originally sold by a business or government to raise mone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erivative asse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inancial asset that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riv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an existing traded asset, rather than issued by a business or government to raise capital. More generally, any financial asset that is not a primary as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78076A33-F354-469D-9B04-3F595A11281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Derivatives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utures contrac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greement made today regarding the terms of a trade that will take place l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Option contrac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greement that gives the owner the right, but not the obligation, to buy or sell a specific asset at a specified price for a set period of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195D4E1B-FBA6-4B5B-990A-0E14208D76B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utures Contrac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47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xamp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inancial futures (i.e., S&amp;P 500, T-bonds, foreign currencies, and others); Commodity futures (i.e., wheat, crude oil, cattle, and others)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otential gains/loss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At maturity, you gain if your contracted price is better than the market price of the underlying asset, and vice ver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If you sell your contract before its maturity, you may gain or lose depending on the market price for the contra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Note that enormous gains and losses are pos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D370EED2-2B02-4375-8F83-9C717E635A5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utures Contracts: Online Price Quot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1066680" y="57150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: Markets Data Center 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w.wsj.com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1" descr="jor82353_f0304"/>
          <p:cNvPicPr/>
          <p:nvPr/>
        </p:nvPicPr>
        <p:blipFill>
          <a:blip r:embed="rId1"/>
          <a:stretch/>
        </p:blipFill>
        <p:spPr>
          <a:xfrm>
            <a:off x="638280" y="1467000"/>
            <a:ext cx="7867440" cy="39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31FA735B-A325-41DC-BC86-6C49F72DD2D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utures Price Quotes Online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50" name="Picture 7" descr="jor82353_cut03f"/>
          <p:cNvPicPr/>
          <p:nvPr/>
        </p:nvPicPr>
        <p:blipFill>
          <a:blip r:embed="rId1"/>
          <a:stretch/>
        </p:blipFill>
        <p:spPr>
          <a:xfrm>
            <a:off x="1066680" y="3048120"/>
            <a:ext cx="71438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9C8EA558-3A97-4D0F-A9B6-F8B7AE833D2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ption Contracts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call op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ives the owner the right, but not the obligation, to </a:t>
            </a: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bu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mething, while a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put op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ives the owner the right, but not the obligation, to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el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hing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“something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an asset, a commodity, or an inde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ice you pay today to buy an option is called t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ption premi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pecified price at which the underlying asset can be bought or sold is called t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rike pr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xercise pri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57648BEF-E3D5-4EA1-A9A7-9F278C71F58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Learning Objectiv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ce quotes for all types of investments are easy to find, but what do they mean? Learn the answers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Various types of interest-bearing asset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Equity securitie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Futures contract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Option contra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7D1C3753-C184-46C6-B127-DF8E7BF373F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ption Contracts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American op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be exercised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ny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p to and including the expiration date, while 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uropean op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be exercised only on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piration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s differ from futures in two main w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Holders of call options have no obligation to buy the underlying as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Holders of put options have no obligation to sell the underlying as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To avoid this obligation, buyers of calls and puts must pay a price today.  Holders of futures contracts do not pay for the contract toda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81167798-6620-4B01-8C0B-2216AE49B60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ption Contracts, I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otential gains and losses from call options: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Buy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Profit when the market price minus the strike price is greater than the option premiu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Best case, theoretically unlimited profi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Worst case, the call buyer loses the entire premium.</a:t>
            </a:r>
            <a:br>
              <a:rPr sz="1600"/>
            </a:b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Sell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Profit when the market price minus the strike price is less than the option premi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Best case, the call seller collects the entire premi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Worst case, theoretically unlimited lo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Note that, </a:t>
            </a:r>
            <a:r>
              <a:rPr b="1" i="1" lang="en-US" sz="1800" spc="-1" strike="noStrike">
                <a:solidFill>
                  <a:srgbClr val="367d82"/>
                </a:solidFill>
                <a:latin typeface="Arial"/>
              </a:rPr>
              <a:t>for buyers</a:t>
            </a: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, losses are limited, but gains are n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2EE10C78-B08B-406C-920C-D73758D056C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ption Contracts, IV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otential gains and losses from put options: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Buy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Profit when the strike price minus the market price is greater than the option premiu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Best case, market price (for the underlying) is zer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Worst case, the put buyer loses the entire premium.</a:t>
            </a:r>
            <a:br>
              <a:rPr sz="1600"/>
            </a:b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Sell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Profit when the strike price minus the market price is less than the option premi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Best case, the put seller collects the entire premi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Worst case, market price (for the underlying) is zer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Note that, </a:t>
            </a:r>
            <a:r>
              <a:rPr b="1" i="1" lang="en-US" sz="1800" spc="-1" strike="noStrike">
                <a:solidFill>
                  <a:srgbClr val="367d82"/>
                </a:solidFill>
                <a:latin typeface="Arial"/>
              </a:rPr>
              <a:t>for buyers and sellers</a:t>
            </a: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, gains and losses are limi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18142BB9-81B9-4C28-A49D-D286A33683F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Option Contracts: Online Price Quotes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for Hewlett-Packard (HPQ) option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5" name="Text Box 7"/>
          <p:cNvSpPr/>
          <p:nvPr/>
        </p:nvSpPr>
        <p:spPr>
          <a:xfrm>
            <a:off x="685800" y="6095880"/>
            <a:ext cx="53341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8"/>
          <p:cNvSpPr/>
          <p:nvPr/>
        </p:nvSpPr>
        <p:spPr>
          <a:xfrm>
            <a:off x="609480" y="3429000"/>
            <a:ext cx="42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: www.finance.yahoo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9" descr="jor82353_f0305"/>
          <p:cNvPicPr/>
          <p:nvPr/>
        </p:nvPicPr>
        <p:blipFill>
          <a:blip r:embed="rId1"/>
          <a:stretch/>
        </p:blipFill>
        <p:spPr>
          <a:xfrm>
            <a:off x="5105520" y="1143000"/>
            <a:ext cx="335592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D5577441-EA2C-4CDB-A69E-47B75F94ED2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Investing in Stocks versus Options, 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toc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Suppose you have $10,000 for investments. Macron Technology is selling at $50 per share. </a:t>
            </a:r>
            <a:br>
              <a:rPr sz="2000"/>
            </a:b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Number of shares bought = $10,000 / $50 = 200</a:t>
            </a:r>
            <a:br>
              <a:rPr sz="2000"/>
            </a:b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If Macron is selling for $55 per share 3 months later, gain = ($55 </a:t>
            </a:r>
            <a:r>
              <a:rPr b="1" lang="en-US" sz="2000" spc="-1" strike="noStrike">
                <a:solidFill>
                  <a:srgbClr val="367d82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200) - $10,000 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$1,000</a:t>
            </a:r>
            <a:br>
              <a:rPr sz="2000"/>
            </a:b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If Macron is selling for $45 per share 3 months later, gain = ($45 </a:t>
            </a:r>
            <a:r>
              <a:rPr b="1" lang="en-US" sz="2000" spc="-1" strike="noStrike">
                <a:solidFill>
                  <a:srgbClr val="367d82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200) - $10,000 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-$1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4300BD27-6778-4426-AF57-EF31F004211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Investing in Stocks versus Options, I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1536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p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88688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A call option with a $50 strike price and 3 months to maturity is also available at a premium of $4.</a:t>
            </a:r>
            <a:br>
              <a:rPr sz="2000"/>
            </a:b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A call contract costs $4 </a:t>
            </a:r>
            <a:r>
              <a:rPr b="1" lang="en-US" sz="2000" spc="-1" strike="noStrike">
                <a:solidFill>
                  <a:srgbClr val="367d82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100 = $400, so number of contracts bought = $10,000 / $400 = 25 (for 25 </a:t>
            </a:r>
            <a:r>
              <a:rPr b="1" lang="en-US" sz="2000" spc="-1" strike="noStrike">
                <a:solidFill>
                  <a:srgbClr val="367d82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100 = 2500 shares)</a:t>
            </a:r>
            <a:br>
              <a:rPr sz="2000"/>
            </a:b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If Macron is selling for $55 per share 3 months later, gain = {($55 </a:t>
            </a:r>
            <a:r>
              <a:rPr b="1" lang="en-US" sz="2000" spc="-1" strike="noStrike" baseline="8000">
                <a:solidFill>
                  <a:srgbClr val="367d82"/>
                </a:solidFill>
                <a:latin typeface="Arial"/>
              </a:rPr>
              <a:t>–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$50) </a:t>
            </a:r>
            <a:r>
              <a:rPr b="1" lang="en-US" sz="2000" spc="-1" strike="noStrike">
                <a:solidFill>
                  <a:srgbClr val="367d82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2500} - $10,000 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$2,500</a:t>
            </a:r>
            <a:br>
              <a:rPr sz="2000"/>
            </a:b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If Macron is selling for $45 per share 3 months later, gain = ($0 </a:t>
            </a:r>
            <a:r>
              <a:rPr b="1" lang="en-US" sz="2000" spc="-1" strike="noStrike">
                <a:solidFill>
                  <a:srgbClr val="367d82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2500) </a:t>
            </a:r>
            <a:r>
              <a:rPr b="1" lang="en-US" sz="2000" spc="-1" strike="noStrike" baseline="8000">
                <a:solidFill>
                  <a:srgbClr val="367d82"/>
                </a:solidFill>
                <a:latin typeface="Arial"/>
              </a:rPr>
              <a:t>–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$10,000 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-$1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8FF0CC4E-1C3D-47B3-A4FC-F39312BFD19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Useful Internet Sit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82267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www.nasdbondinfo.com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urrent corporate bond pri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www.investinginbonds.com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bond basic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www.finra.com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learn more about TRA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www.fool.com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Are you a “Foolish investor?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www.stocktickercompany.com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reproduction stock tick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www.cmegroup.com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CME Grou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www.cboe.com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hicago Board Options Exchan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nce.yahoo.c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prices for option chai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ww.wsj.com (Online version of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he Wall Street Journ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DB8CC56A-DDC3-4106-9A94-5964A6F4E76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hapter Review, 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69320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ifying Securiti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est-Bearing 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ey Market Instr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xed-Income Securiti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on 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ferred 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on and Preferred Stock Price Qu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13108F02-D723-4A44-ADC4-5C9EFB44969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hapter Review, I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40960" y="1066680"/>
            <a:ext cx="761364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iv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tures Contr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tures Price Qu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ins and Losses on Futures Contract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 Contr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tion Termi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tions versus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tion Price Qu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ins and Losses on Option Contr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ing in Stocks versus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CE77C8F5-5BB8-438C-86E7-A208DC811A8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ecurity Typ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goal in this chapter is to introduce the different types of securities that investors routinely buy and sell in financial markets around the worl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security type, we will exam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s distinguishing characteristic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s potential gains and losses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ts prices are quoted in the financial 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FB1F2858-D993-44AB-A9F8-B1C7F222676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lassifying Securit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176" name="Group 3"/>
          <p:cNvGrpSpPr/>
          <p:nvPr/>
        </p:nvGrpSpPr>
        <p:grpSpPr>
          <a:xfrm>
            <a:off x="1143000" y="1905120"/>
            <a:ext cx="7543800" cy="3352320"/>
            <a:chOff x="1143000" y="1905120"/>
            <a:chExt cx="7543800" cy="3352320"/>
          </a:xfrm>
        </p:grpSpPr>
        <p:sp>
          <p:nvSpPr>
            <p:cNvPr id="177" name="Rectangle 4"/>
            <p:cNvSpPr/>
            <p:nvPr/>
          </p:nvSpPr>
          <p:spPr>
            <a:xfrm>
              <a:off x="1143000" y="1905120"/>
              <a:ext cx="3017520" cy="53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asic Ty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5"/>
            <p:cNvSpPr/>
            <p:nvPr/>
          </p:nvSpPr>
          <p:spPr>
            <a:xfrm>
              <a:off x="4160520" y="1905120"/>
              <a:ext cx="4526280" cy="53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jor Subty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6"/>
            <p:cNvSpPr/>
            <p:nvPr/>
          </p:nvSpPr>
          <p:spPr>
            <a:xfrm>
              <a:off x="1143000" y="2441160"/>
              <a:ext cx="3017520" cy="93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est-bea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7"/>
            <p:cNvSpPr/>
            <p:nvPr/>
          </p:nvSpPr>
          <p:spPr>
            <a:xfrm>
              <a:off x="4160520" y="2441160"/>
              <a:ext cx="4526280" cy="93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ey market instru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xed-income securit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8"/>
            <p:cNvSpPr/>
            <p:nvPr/>
          </p:nvSpPr>
          <p:spPr>
            <a:xfrm>
              <a:off x="1143000" y="3380040"/>
              <a:ext cx="3017520" cy="93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quit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9"/>
            <p:cNvSpPr/>
            <p:nvPr/>
          </p:nvSpPr>
          <p:spPr>
            <a:xfrm>
              <a:off x="4160520" y="3380040"/>
              <a:ext cx="4526280" cy="93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mon stoc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eferred stoc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0"/>
            <p:cNvSpPr/>
            <p:nvPr/>
          </p:nvSpPr>
          <p:spPr>
            <a:xfrm>
              <a:off x="1143000" y="4318920"/>
              <a:ext cx="3017520" cy="93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riva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1"/>
            <p:cNvSpPr/>
            <p:nvPr/>
          </p:nvSpPr>
          <p:spPr>
            <a:xfrm>
              <a:off x="4160520" y="4318920"/>
              <a:ext cx="4526280" cy="93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t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5DD537D2-62E5-4820-8910-43C6C8FE36A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Interest-Bearing Asse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oney market instrumen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short-term debt obligations of large corporations and govern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securities promise to make one future pay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y are issued, thei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 a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ss than one y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ixed-income securiti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longer-term debt obligations of corporations or govern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securities promise to make fixed payments according to a pre-set sched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y are issued, thei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 exceed one y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A5C15B17-8C89-40CC-A5A6-697F1740535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Money Market Instrumen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xamp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.S. Treasury bills (T-bills), bank certificates of deposit (CDs), corporate and municipal money market instruments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otential gains/loss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known future payment/except when the borrower defaults (i.e., does not pay)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rice quota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ually, the instruments are sold on a </a:t>
            </a:r>
            <a:r>
              <a:rPr b="1" lang="en-US" sz="2400" spc="-1" strike="noStrike">
                <a:solidFill>
                  <a:srgbClr val="367d82"/>
                </a:solidFill>
                <a:latin typeface="Arial"/>
              </a:rPr>
              <a:t>discount ba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only the interest rates are quoted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, investors must be able to do calculate prices from the quoted r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8C2DEB60-5D9C-4E36-BB54-8152B2428CC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ixed-Income Securit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xamp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.S. Treasury notes, corporate bonds, car loans, student loans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otential gains/loss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xed coupon payments and final payment at maturity, except when the borrower defaul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ility of gain (loss) from fall (rise) in interest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ending on the debt issue, illiquidity can be a problem.  (Illiquidity means it is possible that you cannot sell these securities quickly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عنصر نائب لرقم الشريحة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9C245FA8-AEED-412B-868C-3A4C0203238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Quote Example: Fixed-Income Securit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07696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ce quotations from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ww.wsj.c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—the online version o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Wall Street Jour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some columns are self-explanatory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75" descr="scl1"/>
          <p:cNvPicPr/>
          <p:nvPr/>
        </p:nvPicPr>
        <p:blipFill>
          <a:blip r:embed="rId1"/>
          <a:stretch/>
        </p:blipFill>
        <p:spPr>
          <a:xfrm>
            <a:off x="1219320" y="2590920"/>
            <a:ext cx="6791040" cy="110484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176"/>
          <p:cNvSpPr/>
          <p:nvPr/>
        </p:nvSpPr>
        <p:spPr>
          <a:xfrm>
            <a:off x="1295280" y="3200400"/>
            <a:ext cx="6553440" cy="108000"/>
          </a:xfrm>
          <a:prstGeom prst="rect">
            <a:avLst/>
          </a:prstGeom>
          <a:solidFill>
            <a:srgbClr val="b2b2b2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90"/>
          <p:cNvGrpSpPr/>
          <p:nvPr/>
        </p:nvGrpSpPr>
        <p:grpSpPr>
          <a:xfrm>
            <a:off x="609480" y="3276360"/>
            <a:ext cx="3581640" cy="1524240"/>
            <a:chOff x="609480" y="3276360"/>
            <a:chExt cx="3581640" cy="1524240"/>
          </a:xfrm>
        </p:grpSpPr>
        <p:sp>
          <p:nvSpPr>
            <p:cNvPr id="200" name="Line 182"/>
            <p:cNvSpPr/>
            <p:nvPr/>
          </p:nvSpPr>
          <p:spPr>
            <a:xfrm flipH="1">
              <a:off x="3123720" y="3352680"/>
              <a:ext cx="304920" cy="91440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183"/>
            <p:cNvSpPr/>
            <p:nvPr/>
          </p:nvSpPr>
          <p:spPr>
            <a:xfrm flipV="1">
              <a:off x="3429000" y="3276360"/>
              <a:ext cx="76320" cy="7596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84"/>
            <p:cNvSpPr/>
            <p:nvPr/>
          </p:nvSpPr>
          <p:spPr>
            <a:xfrm>
              <a:off x="609480" y="4267080"/>
              <a:ext cx="3581640" cy="533520"/>
            </a:xfrm>
            <a:prstGeom prst="rect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You will receive 6.875% of the bond’s fac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value each year in 2 semi-annual payment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 Box 191"/>
          <p:cNvSpPr/>
          <p:nvPr/>
        </p:nvSpPr>
        <p:spPr>
          <a:xfrm>
            <a:off x="4800600" y="411480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194"/>
          <p:cNvGrpSpPr/>
          <p:nvPr/>
        </p:nvGrpSpPr>
        <p:grpSpPr>
          <a:xfrm>
            <a:off x="4648320" y="3276360"/>
            <a:ext cx="2438280" cy="1373760"/>
            <a:chOff x="4648320" y="3276360"/>
            <a:chExt cx="2438280" cy="1373760"/>
          </a:xfrm>
        </p:grpSpPr>
        <p:sp>
          <p:nvSpPr>
            <p:cNvPr id="205" name="Line 188"/>
            <p:cNvSpPr/>
            <p:nvPr/>
          </p:nvSpPr>
          <p:spPr>
            <a:xfrm flipV="1">
              <a:off x="6238800" y="3276360"/>
              <a:ext cx="238320" cy="9046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193"/>
            <p:cNvSpPr/>
            <p:nvPr/>
          </p:nvSpPr>
          <p:spPr>
            <a:xfrm>
              <a:off x="4648320" y="4191120"/>
              <a:ext cx="2438280" cy="45900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The price (per $100 face) of the bond when it last traded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199"/>
          <p:cNvGrpSpPr/>
          <p:nvPr/>
        </p:nvGrpSpPr>
        <p:grpSpPr>
          <a:xfrm>
            <a:off x="5334120" y="3276720"/>
            <a:ext cx="3276360" cy="2181240"/>
            <a:chOff x="5334120" y="3276720"/>
            <a:chExt cx="3276360" cy="2181240"/>
          </a:xfrm>
        </p:grpSpPr>
        <p:sp>
          <p:nvSpPr>
            <p:cNvPr id="208" name="Line 196"/>
            <p:cNvSpPr/>
            <p:nvPr/>
          </p:nvSpPr>
          <p:spPr>
            <a:xfrm flipH="1">
              <a:off x="7924320" y="3276720"/>
              <a:ext cx="304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97"/>
            <p:cNvSpPr/>
            <p:nvPr/>
          </p:nvSpPr>
          <p:spPr>
            <a:xfrm>
              <a:off x="8229600" y="3276720"/>
              <a:ext cx="0" cy="19047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198"/>
            <p:cNvSpPr/>
            <p:nvPr/>
          </p:nvSpPr>
          <p:spPr>
            <a:xfrm>
              <a:off x="5334120" y="5181480"/>
              <a:ext cx="3276360" cy="27648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The Yield to Maturity (YTM) of the bond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CCF8FFD8-8136-4469-A579-4F26D55325F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quit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ommon stoc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ownership in a corporation. A part owner receives a pro rated share of whatever is left over after all obligations have been met in the event of a liquidation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referred stoc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ividend is usually fixed and must be paid before any dividends for the common shareholders. In the event of a liquidation, preferred shares have a particular face val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22:58:03Z</dcterms:created>
  <dc:creator>MHE</dc:creator>
  <dc:description/>
  <dc:language>en-US</dc:language>
  <cp:lastModifiedBy>user</cp:lastModifiedBy>
  <dcterms:modified xsi:type="dcterms:W3CDTF">2012-03-25T18:46:14Z</dcterms:modified>
  <cp:revision>40</cp:revision>
  <dc:subject/>
  <dc:title>Slide 1</dc:title>
</cp:coreProperties>
</file>