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62DF-DEC4-40B4-9C88-B079F1F30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D754-C138-4D76-AC60-E959B5DA7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94E2-2992-460A-A9C4-AE15CF69C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57B0-0868-4AD2-B480-9CD8F33F1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F179-095D-4141-B4C7-8ABA5A30F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FF35-C46C-4BB3-AD9D-B7749D36F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70A7-35AA-4511-A243-A5947952B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FAD2-8AE7-4135-A687-BD6D9D975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67F5-A242-4787-B62F-79AB1F398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C409-03B4-4C7B-B55B-0844E17B7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73D5-F631-4B5C-A35D-EFB9BFAF1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1742-0745-40E4-989C-855C4BE65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6D87-9A68-4EFF-874D-5C9F7CB53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AAF9-C834-4B9F-A6A3-F99197AC8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E6BC-86E3-4CD9-A2D3-5456F5E4D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925D-9029-412D-9C0D-DAEC35492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830B-783A-4D87-851B-69814341F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318D-F00A-4709-AB75-4BF92468B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5660-6C0E-4385-B8EC-AAEC448C8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7CCD-8491-4021-88FB-718DB81F9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8432-9427-4117-9B07-A6B2CC06B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B552-8258-47B7-8341-E92CDF3B4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B48A-AF1A-4BA4-948D-03538FB6E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D8F4-AC23-4858-8E6E-BA6DFB99B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5160-50B0-4200-B0A6-708975017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61F0-F2E9-48E4-8828-12C75276C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8CB1-EA84-4F4E-9B90-D922F942D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D8B3-E4C6-404A-A805-AE61D0F61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3556-F7F9-4762-B63C-8EEA9C40F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3E92B-D405-434F-A5E0-62181CE83E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E9705-9883-4C43-A5BC-96247FD853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E14FD-BBDD-4796-8E30-14CB68F1E9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D876A-E2BF-4F4D-87D7-1E9216FEE9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C8ED4-AB45-457D-9D60-823202E0D0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E62D4-22EA-4722-B107-43F8021B0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985BE-E5B5-412E-9C7F-50834D5D1E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8E26E-6534-4FA5-B8A3-6BFBE5829E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56D1E-BA26-42A5-A39D-D5FE0042E9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297B5-E500-464D-B577-FB07404241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6DD86-6E2F-4585-A07A-142B185EE4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D87A6-2900-49BF-84DF-C217351022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 rot="16200000">
            <a:off x="501480" y="-7632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-31680" y="-701640"/>
            <a:ext cx="865080" cy="2060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545" h="1298">
                <a:moveTo>
                  <a:pt x="12" y="1298"/>
                </a:moveTo>
                <a:cubicBezTo>
                  <a:pt x="92" y="1298"/>
                  <a:pt x="116" y="1298"/>
                  <a:pt x="196" y="1298"/>
                </a:cubicBezTo>
                <a:cubicBezTo>
                  <a:pt x="237" y="1174"/>
                  <a:pt x="188" y="1122"/>
                  <a:pt x="248" y="753"/>
                </a:cubicBezTo>
                <a:cubicBezTo>
                  <a:pt x="308" y="384"/>
                  <a:pt x="545" y="28"/>
                  <a:pt x="528" y="8"/>
                </a:cubicBezTo>
                <a:cubicBezTo>
                  <a:pt x="507" y="0"/>
                  <a:pt x="208" y="491"/>
                  <a:pt x="122" y="706"/>
                </a:cubicBezTo>
                <a:cubicBezTo>
                  <a:pt x="42" y="899"/>
                  <a:pt x="0" y="1193"/>
                  <a:pt x="12" y="1298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22"/>
          <p:cNvSpPr/>
          <p:nvPr/>
        </p:nvSpPr>
        <p:spPr>
          <a:xfrm>
            <a:off x="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5"/>
          <p:cNvSpPr/>
          <p:nvPr/>
        </p:nvSpPr>
        <p:spPr>
          <a:xfrm>
            <a:off x="-12600" y="-690480"/>
            <a:ext cx="819000" cy="2049480"/>
          </a:xfrm>
          <a:custGeom>
            <a:avLst/>
            <a:gdLst>
              <a:gd name="textAreaLeft" fmla="*/ 0 w 819000"/>
              <a:gd name="textAreaRight" fmla="*/ 819360 w 819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516" h="1291">
                <a:moveTo>
                  <a:pt x="0" y="1291"/>
                </a:moveTo>
                <a:cubicBezTo>
                  <a:pt x="19" y="1192"/>
                  <a:pt x="30" y="920"/>
                  <a:pt x="116" y="705"/>
                </a:cubicBezTo>
                <a:cubicBezTo>
                  <a:pt x="248" y="314"/>
                  <a:pt x="432" y="147"/>
                  <a:pt x="516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6"/>
          <p:cNvSpPr/>
          <p:nvPr/>
        </p:nvSpPr>
        <p:spPr>
          <a:xfrm>
            <a:off x="291960" y="-674640"/>
            <a:ext cx="519120" cy="2033640"/>
          </a:xfrm>
          <a:custGeom>
            <a:avLst/>
            <a:gdLst>
              <a:gd name="textAreaLeft" fmla="*/ 0 w 519120"/>
              <a:gd name="textAreaRight" fmla="*/ 519480 w 5191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327" h="1281">
                <a:moveTo>
                  <a:pt x="0" y="1281"/>
                </a:moveTo>
                <a:cubicBezTo>
                  <a:pt x="9" y="1188"/>
                  <a:pt x="3" y="941"/>
                  <a:pt x="57" y="728"/>
                </a:cubicBezTo>
                <a:cubicBezTo>
                  <a:pt x="116" y="476"/>
                  <a:pt x="271" y="152"/>
                  <a:pt x="327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33"/>
          <p:cNvSpPr/>
          <p:nvPr/>
        </p:nvSpPr>
        <p:spPr>
          <a:xfrm>
            <a:off x="-25560" y="6629400"/>
            <a:ext cx="8993520" cy="1440"/>
          </a:xfrm>
          <a:custGeom>
            <a:avLst/>
            <a:gdLst>
              <a:gd name="textAreaLeft" fmla="*/ 0 w 8993520"/>
              <a:gd name="textAreaRight" fmla="*/ 8993880 w 8993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37"/>
          <p:cNvSpPr/>
          <p:nvPr/>
        </p:nvSpPr>
        <p:spPr>
          <a:xfrm>
            <a:off x="82224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1"/>
          </p:nvPr>
        </p:nvSpPr>
        <p:spPr>
          <a:xfrm>
            <a:off x="70862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-</a:t>
            </a:r>
            <a:fld id="{34DE5BB7-CA6F-4397-905F-70200DAE6A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Freeform 41"/>
          <p:cNvSpPr/>
          <p:nvPr/>
        </p:nvSpPr>
        <p:spPr>
          <a:xfrm>
            <a:off x="291960" y="990720"/>
            <a:ext cx="9156960" cy="936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5768" h="6">
                <a:moveTo>
                  <a:pt x="0" y="0"/>
                </a:moveTo>
                <a:lnTo>
                  <a:pt x="5768" y="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8077320" y="1295280"/>
            <a:ext cx="228600" cy="381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4"/>
          <p:cNvSpPr/>
          <p:nvPr/>
        </p:nvSpPr>
        <p:spPr>
          <a:xfrm>
            <a:off x="6629400" y="838080"/>
            <a:ext cx="2374920" cy="86544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666880" y="1143000"/>
            <a:ext cx="609840" cy="533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276720" y="1143000"/>
            <a:ext cx="6094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886200" y="1143000"/>
            <a:ext cx="1905120" cy="533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791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66294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-360" y="114300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8862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2767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8077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83059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6629400" y="828720"/>
            <a:ext cx="2362320" cy="852480"/>
            <a:chOff x="6629400" y="828720"/>
            <a:chExt cx="2362320" cy="852480"/>
          </a:xfrm>
        </p:grpSpPr>
        <p:sp>
          <p:nvSpPr>
            <p:cNvPr id="89" name="Freeform 23"/>
            <p:cNvSpPr/>
            <p:nvPr/>
          </p:nvSpPr>
          <p:spPr>
            <a:xfrm>
              <a:off x="6629400" y="82872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6629400" y="115236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0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-1143000" y="1828800"/>
            <a:ext cx="10058400" cy="4800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1"/>
          <p:cNvSpPr/>
          <p:nvPr/>
        </p:nvSpPr>
        <p:spPr>
          <a:xfrm rot="10800000">
            <a:off x="379080" y="627696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2"/>
          <p:cNvSpPr/>
          <p:nvPr/>
        </p:nvSpPr>
        <p:spPr>
          <a:xfrm rot="10800000">
            <a:off x="-319320" y="6248160"/>
            <a:ext cx="2374920" cy="86508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4"/>
          <p:cNvSpPr/>
          <p:nvPr/>
        </p:nvSpPr>
        <p:spPr>
          <a:xfrm rot="10800000">
            <a:off x="5408640" y="6810480"/>
            <a:ext cx="2820960" cy="5731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 rot="10800000">
            <a:off x="5408280" y="662904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6"/>
          <p:cNvSpPr/>
          <p:nvPr/>
        </p:nvSpPr>
        <p:spPr>
          <a:xfrm rot="10800000">
            <a:off x="2057040" y="6652800"/>
            <a:ext cx="609480" cy="182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7"/>
          <p:cNvSpPr/>
          <p:nvPr/>
        </p:nvSpPr>
        <p:spPr>
          <a:xfrm rot="10800000">
            <a:off x="3124080" y="6276960"/>
            <a:ext cx="6098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8"/>
          <p:cNvSpPr/>
          <p:nvPr/>
        </p:nvSpPr>
        <p:spPr>
          <a:xfrm rot="10800000">
            <a:off x="8229600" y="6629040"/>
            <a:ext cx="9907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9"/>
          <p:cNvSpPr/>
          <p:nvPr/>
        </p:nvSpPr>
        <p:spPr>
          <a:xfrm flipH="1" flipV="1">
            <a:off x="2894040" y="6276600"/>
            <a:ext cx="1440" cy="352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0"/>
          <p:cNvSpPr/>
          <p:nvPr/>
        </p:nvSpPr>
        <p:spPr>
          <a:xfrm flipV="1">
            <a:off x="2057400" y="6629400"/>
            <a:ext cx="0" cy="533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-458640" y="6276960"/>
            <a:ext cx="9601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2"/>
          <p:cNvSpPr/>
          <p:nvPr/>
        </p:nvSpPr>
        <p:spPr>
          <a:xfrm flipV="1">
            <a:off x="2055240" y="6784560"/>
            <a:ext cx="6173640" cy="255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5"/>
          <p:cNvSpPr/>
          <p:nvPr/>
        </p:nvSpPr>
        <p:spPr>
          <a:xfrm flipH="1" flipV="1">
            <a:off x="3731760" y="6276960"/>
            <a:ext cx="180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 flipV="1">
            <a:off x="5410080" y="6629040"/>
            <a:ext cx="0" cy="3049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 flipH="1" flipV="1">
            <a:off x="608040" y="6276960"/>
            <a:ext cx="1440" cy="5810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 flipH="1" flipV="1">
            <a:off x="379440" y="6276960"/>
            <a:ext cx="144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9"/>
          <p:cNvGrpSpPr/>
          <p:nvPr/>
        </p:nvGrpSpPr>
        <p:grpSpPr>
          <a:xfrm>
            <a:off x="-306360" y="6270480"/>
            <a:ext cx="2362320" cy="852480"/>
            <a:chOff x="-306360" y="6270480"/>
            <a:chExt cx="2362320" cy="852480"/>
          </a:xfrm>
        </p:grpSpPr>
        <p:sp>
          <p:nvSpPr>
            <p:cNvPr id="112" name="Freeform 60"/>
            <p:cNvSpPr/>
            <p:nvPr/>
          </p:nvSpPr>
          <p:spPr>
            <a:xfrm rot="10800000">
              <a:off x="-306360" y="627516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1"/>
            <p:cNvSpPr/>
            <p:nvPr/>
          </p:nvSpPr>
          <p:spPr>
            <a:xfrm rot="10800000">
              <a:off x="-290520" y="627048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64"/>
          <p:cNvSpPr/>
          <p:nvPr/>
        </p:nvSpPr>
        <p:spPr>
          <a:xfrm>
            <a:off x="4191120" y="6629400"/>
            <a:ext cx="49528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5"/>
          <p:cNvSpPr/>
          <p:nvPr/>
        </p:nvSpPr>
        <p:spPr>
          <a:xfrm flipV="1">
            <a:off x="6019920" y="6629400"/>
            <a:ext cx="0" cy="4572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6"/>
          <p:cNvSpPr/>
          <p:nvPr/>
        </p:nvSpPr>
        <p:spPr>
          <a:xfrm flipV="1">
            <a:off x="3124080" y="6248160"/>
            <a:ext cx="0" cy="6094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7"/>
          <p:cNvSpPr/>
          <p:nvPr/>
        </p:nvSpPr>
        <p:spPr>
          <a:xfrm flipV="1">
            <a:off x="8229600" y="6629040"/>
            <a:ext cx="0" cy="2286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608760" y="6629400"/>
            <a:ext cx="358164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609480" y="63244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365760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3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2767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verview of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ecurity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0218765D-1876-43CA-8AEE-AB88FB7D8D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ommon Stock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160" y="1380600"/>
            <a:ext cx="830556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BM shares, Microsoft shares, Intel shares, Dell shares, etc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Many companies pay cash dividends to their shareholders. However, neither the timing nor the amount of any dividend is guarant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he stock value may rise or fall depending on the prospects for the company and market-wide circumsta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60467D6A-0297-4A90-A8BD-1B29ED8AEF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ommon Stock Price Quo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9" name="Picture 8" descr="jor82353_f0302"/>
          <p:cNvPicPr/>
          <p:nvPr/>
        </p:nvPicPr>
        <p:blipFill>
          <a:blip r:embed="rId1"/>
          <a:stretch/>
        </p:blipFill>
        <p:spPr>
          <a:xfrm>
            <a:off x="1066680" y="1066680"/>
            <a:ext cx="685800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F8C29096-9E1E-4E36-956E-70E76F38A3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ommon Stock Price Quotes Online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t http://finance.yahoo.com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29"/>
          <p:cNvGrpSpPr/>
          <p:nvPr/>
        </p:nvGrpSpPr>
        <p:grpSpPr>
          <a:xfrm>
            <a:off x="1143000" y="1371600"/>
            <a:ext cx="6942240" cy="1978560"/>
            <a:chOff x="1143000" y="1371600"/>
            <a:chExt cx="6942240" cy="1978560"/>
          </a:xfrm>
        </p:grpSpPr>
        <p:sp>
          <p:nvSpPr>
            <p:cNvPr id="224" name="Line 7"/>
            <p:cNvSpPr/>
            <p:nvPr/>
          </p:nvSpPr>
          <p:spPr>
            <a:xfrm flipH="1" flipV="1">
              <a:off x="1712520" y="2326680"/>
              <a:ext cx="304920" cy="685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8"/>
            <p:cNvSpPr/>
            <p:nvPr/>
          </p:nvSpPr>
          <p:spPr>
            <a:xfrm>
              <a:off x="2017800" y="3012840"/>
              <a:ext cx="2361960" cy="3373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First, enter symbo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Picture 22" descr="scl1"/>
            <p:cNvPicPr/>
            <p:nvPr/>
          </p:nvPicPr>
          <p:blipFill>
            <a:blip r:embed="rId1"/>
            <a:stretch/>
          </p:blipFill>
          <p:spPr>
            <a:xfrm>
              <a:off x="1143000" y="1371600"/>
              <a:ext cx="6942240" cy="90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7" name="Group 28"/>
          <p:cNvGrpSpPr/>
          <p:nvPr/>
        </p:nvGrpSpPr>
        <p:grpSpPr>
          <a:xfrm>
            <a:off x="914400" y="4038480"/>
            <a:ext cx="7543800" cy="2104920"/>
            <a:chOff x="914400" y="4038480"/>
            <a:chExt cx="7543800" cy="2104920"/>
          </a:xfrm>
        </p:grpSpPr>
        <p:grpSp>
          <p:nvGrpSpPr>
            <p:cNvPr id="228" name="Group 27"/>
            <p:cNvGrpSpPr/>
            <p:nvPr/>
          </p:nvGrpSpPr>
          <p:grpSpPr>
            <a:xfrm>
              <a:off x="6476760" y="4724280"/>
              <a:ext cx="1981440" cy="580680"/>
              <a:chOff x="6476760" y="4724280"/>
              <a:chExt cx="1981440" cy="580680"/>
            </a:xfrm>
          </p:grpSpPr>
          <p:sp>
            <p:nvSpPr>
              <p:cNvPr id="229" name="Text Box 10"/>
              <p:cNvSpPr/>
              <p:nvPr/>
            </p:nvSpPr>
            <p:spPr>
              <a:xfrm>
                <a:off x="7010280" y="4724280"/>
                <a:ext cx="1447920" cy="5806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Arial"/>
                  </a:rPr>
                  <a:t>Resulting Scree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11"/>
              <p:cNvSpPr/>
              <p:nvPr/>
            </p:nvSpPr>
            <p:spPr>
              <a:xfrm flipH="1">
                <a:off x="6476760" y="5028840"/>
                <a:ext cx="5331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Picture 26" descr="scl3"/>
            <p:cNvPicPr/>
            <p:nvPr/>
          </p:nvPicPr>
          <p:blipFill>
            <a:blip r:embed="rId2"/>
            <a:stretch/>
          </p:blipFill>
          <p:spPr>
            <a:xfrm>
              <a:off x="914400" y="4038480"/>
              <a:ext cx="5416560" cy="21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536D9A7F-CACB-40EA-91D2-DA5F4A7FBC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Preferred Stock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xamp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itigroup preferred stock (Do a Google search for it)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Dividends are “promised.” However, there is no legal requirement that the dividends be paid, as long as no common dividends are distrib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The stock value may rise or fall depending on the prospects for the company and market-wide circum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55CF36FB-3C8D-45E7-A178-D439DDF3BD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erivativ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imary ass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originally sold by a business or government to raise mon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ivative ass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inancial asset that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iv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an existing traded asset, rather than issued by a business or government to raise capital. More generally, any financial asset that is not a primary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B48CB129-912F-44C9-B2F9-7324B31374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erivativ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utures contra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greement made today regarding the terms of a trade that will take place l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ption contra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greement that gives the owner the right, but not the obligation, to buy or sell a specific asset at a specified price for a set period of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CAD823DC-3BC5-4BB0-BF19-955D1601DF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Contrac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nancial futures (i.e., S&amp;P 500, T-bonds, foreign currencies, and others); Commodity futures (i.e., wheat, crude oil, cattle, and others)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t maturity, you gain if your contracted price is better than the market price of the underlying asset, and vice 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you sell your contract before its maturity, you may gain or lose depending on the market price for the contr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ote that enormous gains and losses are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EDEE87C3-A59A-4B47-9DD6-9B9246CF9A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Contracts: Online Price Quo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066680" y="5715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: Markets Data Center 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wsj.com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1" descr="jor82353_f0304"/>
          <p:cNvPicPr/>
          <p:nvPr/>
        </p:nvPicPr>
        <p:blipFill>
          <a:blip r:embed="rId1"/>
          <a:stretch/>
        </p:blipFill>
        <p:spPr>
          <a:xfrm>
            <a:off x="638280" y="1467000"/>
            <a:ext cx="7867440" cy="39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D558B5DB-6F8C-4816-985A-2A4FFA6340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Price Quotes Online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50" name="Picture 7" descr="jor82353_cut03f"/>
          <p:cNvPicPr/>
          <p:nvPr/>
        </p:nvPicPr>
        <p:blipFill>
          <a:blip r:embed="rId1"/>
          <a:stretch/>
        </p:blipFill>
        <p:spPr>
          <a:xfrm>
            <a:off x="1066680" y="3048120"/>
            <a:ext cx="71438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CDF0604C-1191-4CE4-9259-E8E07DA63D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call 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s the owner the right, but not the obligation, to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bu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mething, while 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ut 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s the owner the right, but not the obligation, to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e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hing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“something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an asset, a commodity, or an ind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ice you pay today to buy an option is called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ption prem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ecified price at which the underlying asset can be bought or sold is called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rike pr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ercise pri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8358EB33-03F9-4C33-9D48-A8F9BA3259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quotes for all types of investments are easy to find, but what do they mean? Learn the answer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Various types of interest-bearing asse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Equity securiti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Futures contrac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Option contra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C33EB93D-E974-4492-A925-EF6202A850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American o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exercised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y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 to and including the expiration date, while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uropean o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exercised only on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piration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differ from futures in two main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Holders of call options have no obligation to buy the underlying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Holders of put options have no obligation to sell the underlying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o avoid this obligation, buyers of calls and puts must pay a price today.  Holders of futures contracts do not pay for the contract toda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C2E0A2F4-D4EF-4D6B-A3E5-9F1F89DEC8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 and losses from call options: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Buy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market price minus the strike price is greater than the option premiu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oretically unlimited prof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 call buyer loses the entire premium.</a:t>
            </a:r>
            <a:br>
              <a:rPr sz="1600"/>
            </a:b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Sell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market price minus the strike price is less than the option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 call seller collects the entire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oretically unlimited lo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Note that, </a:t>
            </a:r>
            <a:r>
              <a:rPr b="1" i="1" lang="en-US" sz="1800" spc="-1" strike="noStrike">
                <a:solidFill>
                  <a:srgbClr val="367d82"/>
                </a:solidFill>
                <a:latin typeface="Arial"/>
              </a:rPr>
              <a:t>for buyers</a:t>
            </a: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, losses are limited, but gains are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1280DEC2-2EA7-4A6E-9E33-E9ECDA38CA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V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 and losses from put options: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Buy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strike price minus the market price is greater than the option premiu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market price (for the underlying) is ze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 put buyer loses the entire premium.</a:t>
            </a:r>
            <a:br>
              <a:rPr sz="1600"/>
            </a:b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Sell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strike price minus the market price is less than the option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 put seller collects the entire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market price (for the underlying) is z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Note that, </a:t>
            </a:r>
            <a:r>
              <a:rPr b="1" i="1" lang="en-US" sz="1800" spc="-1" strike="noStrike">
                <a:solidFill>
                  <a:srgbClr val="367d82"/>
                </a:solidFill>
                <a:latin typeface="Arial"/>
              </a:rPr>
              <a:t>for buyers and sellers</a:t>
            </a: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, gains and losses are limi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F19FE3D3-FBDC-4AD8-995F-89AF7104E9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ption Contracts: Online Price Quote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for Hewlett-Packard (HPQ) optio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685800" y="6095880"/>
            <a:ext cx="5334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609480" y="342900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: www.finance.yahoo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9" descr="jor82353_f0305"/>
          <p:cNvPicPr/>
          <p:nvPr/>
        </p:nvPicPr>
        <p:blipFill>
          <a:blip r:embed="rId1"/>
          <a:stretch/>
        </p:blipFill>
        <p:spPr>
          <a:xfrm>
            <a:off x="5105520" y="1143000"/>
            <a:ext cx="33559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496019A0-7C32-44B9-B34A-D706A2F76A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vesting in Stocks versus Options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oc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uppose you have $10,000 for investments. Macron Technology is selling at $50 per share. 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umber of shares bought = $10,000 / $50 = 200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55 per share 3 months later, gain = ($5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00)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$1,000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45 per share 3 months later, gain = ($4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00)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$1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817CA0E9-B414-4893-97B1-EC4BE60565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vesting in Stocks versus Options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88688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 call option with a $50 strike price and 3 months to maturity is also available at a premium of $4.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 call contract costs $4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100 = $400, so number of contracts bought = $10,000 / $400 = 25 (for 2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100 = 2500 shares)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55 per share 3 months later, gain = {($55 </a:t>
            </a:r>
            <a:r>
              <a:rPr b="1" lang="en-US" sz="2000" spc="-1" strike="noStrike" baseline="8000">
                <a:solidFill>
                  <a:srgbClr val="367d82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$50)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500}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$2,500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45 per share 3 months later, gain = ($0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500) </a:t>
            </a:r>
            <a:r>
              <a:rPr b="1" lang="en-US" sz="2000" spc="-1" strike="noStrike" baseline="8000">
                <a:solidFill>
                  <a:srgbClr val="367d82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$1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84281D6A-9A69-4CF8-A609-4D102CE755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Useful Internet Si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26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nasdbondinfo.co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urrent corporate bond pr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investinginbonds.co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ond bas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finra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earn more about TR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fool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Are you a “Foolish investor?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stocktickercompany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reproduction stock tick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cmegroup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ME Gro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cboe.co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hicago Board Options Ex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.yahoo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rices for option cha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wsj.com (Online version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Wall Street Jou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8B412DE1-65FF-4675-AC17-1AB51A6A24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69320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fying Securit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-Bearing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ey Market Instr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xed-Income Securiti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ferred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and Preferred Stock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5DF8A475-CCE0-4241-9440-6EFDADBF12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40960" y="1066680"/>
            <a:ext cx="76136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s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s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ins and Losses on Futures Contrac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 Termi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s versus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ins and Losses on Option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ing in Stocks versus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FC16EE26-C3EB-4DBE-8662-F7BC623C22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urity Typ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goal in this chapter is to introduce the different types of securities that investors routinely buy and sell in financial markets around the worl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security type, we will exam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distinguishing characteristic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potential gains and losses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ts prices are quoted in the financial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C207BDBA-32D1-45BD-AFB4-0213B17D3E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assifying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1143000" y="1905120"/>
            <a:ext cx="7543800" cy="3352320"/>
            <a:chOff x="1143000" y="1905120"/>
            <a:chExt cx="7543800" cy="3352320"/>
          </a:xfrm>
        </p:grpSpPr>
        <p:sp>
          <p:nvSpPr>
            <p:cNvPr id="177" name="Rectangle 4"/>
            <p:cNvSpPr/>
            <p:nvPr/>
          </p:nvSpPr>
          <p:spPr>
            <a:xfrm>
              <a:off x="1143000" y="1905120"/>
              <a:ext cx="3017520" cy="5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sic 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5"/>
            <p:cNvSpPr/>
            <p:nvPr/>
          </p:nvSpPr>
          <p:spPr>
            <a:xfrm>
              <a:off x="4160520" y="1905120"/>
              <a:ext cx="4526280" cy="5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jor Sub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6"/>
            <p:cNvSpPr/>
            <p:nvPr/>
          </p:nvSpPr>
          <p:spPr>
            <a:xfrm>
              <a:off x="1143000" y="2441160"/>
              <a:ext cx="301752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est-bea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4160520" y="2441160"/>
              <a:ext cx="452628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ey market instru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xed-income secur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8"/>
            <p:cNvSpPr/>
            <p:nvPr/>
          </p:nvSpPr>
          <p:spPr>
            <a:xfrm>
              <a:off x="1143000" y="3380040"/>
              <a:ext cx="3017520" cy="93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qu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9"/>
            <p:cNvSpPr/>
            <p:nvPr/>
          </p:nvSpPr>
          <p:spPr>
            <a:xfrm>
              <a:off x="4160520" y="3380040"/>
              <a:ext cx="4526280" cy="93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on sto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ferred sto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0"/>
            <p:cNvSpPr/>
            <p:nvPr/>
          </p:nvSpPr>
          <p:spPr>
            <a:xfrm>
              <a:off x="1143000" y="4318920"/>
              <a:ext cx="301752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riva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1"/>
            <p:cNvSpPr/>
            <p:nvPr/>
          </p:nvSpPr>
          <p:spPr>
            <a:xfrm>
              <a:off x="4160520" y="4318920"/>
              <a:ext cx="452628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t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556D86DE-CEC6-4FBC-9659-92D93E0482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terest-Bearing Asse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oney market instrumen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hort-term debt obligations of large corporations and gover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ecurities promise to make one future pay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y are issued, thei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 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than one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ixed-income securiti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longer-term debt obligations of corporations or gover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ecurities promise to make fixed payments according to a pre-set sche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y are issued, thei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 exceed one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0465ECB2-835E-4541-B472-E4090A0B2A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oney Market Instrume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.S. Treasury bills (T-bills), bank certificates of deposit (CDs), corporate and municipal money market instruments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known future payment/except when the borrower defaults (i.e., does not pay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ice quot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ually, the instruments are sold on a </a:t>
            </a: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discount ba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only the interest rates are quot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investors must be able to do calculate prices from the quoted 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D1F32530-DCF0-4FBB-A52F-A24F722A2E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xed-Income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.S. Treasury notes, corporate bonds, car loans, student loans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coupon payments and final payment at maturity, except when the borrower defaul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ility of gain (loss) from fall (rise) in interest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ing on the debt issue, illiquidity can be a problem.  (Illiquidity means it is possible that you cannot sell these securities quickly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4B6238F9-7DFD-490A-8184-CFAA619061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Quote Example: Fixed-Income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quotations fro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ww.wsj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the online version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Wall Street Jour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ome columns are self-explanatory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75" descr="scl1"/>
          <p:cNvPicPr/>
          <p:nvPr/>
        </p:nvPicPr>
        <p:blipFill>
          <a:blip r:embed="rId1"/>
          <a:stretch/>
        </p:blipFill>
        <p:spPr>
          <a:xfrm>
            <a:off x="1219320" y="2590920"/>
            <a:ext cx="6791040" cy="11048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76"/>
          <p:cNvSpPr/>
          <p:nvPr/>
        </p:nvSpPr>
        <p:spPr>
          <a:xfrm>
            <a:off x="1295280" y="3200400"/>
            <a:ext cx="6553440" cy="108000"/>
          </a:xfrm>
          <a:prstGeom prst="rect">
            <a:avLst/>
          </a:prstGeom>
          <a:solidFill>
            <a:srgbClr val="b2b2b2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90"/>
          <p:cNvGrpSpPr/>
          <p:nvPr/>
        </p:nvGrpSpPr>
        <p:grpSpPr>
          <a:xfrm>
            <a:off x="609480" y="3276360"/>
            <a:ext cx="3581640" cy="1524240"/>
            <a:chOff x="609480" y="3276360"/>
            <a:chExt cx="3581640" cy="1524240"/>
          </a:xfrm>
        </p:grpSpPr>
        <p:sp>
          <p:nvSpPr>
            <p:cNvPr id="200" name="Line 182"/>
            <p:cNvSpPr/>
            <p:nvPr/>
          </p:nvSpPr>
          <p:spPr>
            <a:xfrm flipH="1">
              <a:off x="3123720" y="3352680"/>
              <a:ext cx="304920" cy="9144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83"/>
            <p:cNvSpPr/>
            <p:nvPr/>
          </p:nvSpPr>
          <p:spPr>
            <a:xfrm flipV="1">
              <a:off x="3429000" y="3276360"/>
              <a:ext cx="76320" cy="759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84"/>
            <p:cNvSpPr/>
            <p:nvPr/>
          </p:nvSpPr>
          <p:spPr>
            <a:xfrm>
              <a:off x="609480" y="4267080"/>
              <a:ext cx="3581640" cy="533520"/>
            </a:xfrm>
            <a:prstGeom prst="rect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ou will receive 6.875% of the bond’s fa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alue each year in 2 semi-annual payment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191"/>
          <p:cNvSpPr/>
          <p:nvPr/>
        </p:nvSpPr>
        <p:spPr>
          <a:xfrm>
            <a:off x="4800600" y="41148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94"/>
          <p:cNvGrpSpPr/>
          <p:nvPr/>
        </p:nvGrpSpPr>
        <p:grpSpPr>
          <a:xfrm>
            <a:off x="4648320" y="3276360"/>
            <a:ext cx="2438280" cy="1373760"/>
            <a:chOff x="4648320" y="3276360"/>
            <a:chExt cx="2438280" cy="1373760"/>
          </a:xfrm>
        </p:grpSpPr>
        <p:sp>
          <p:nvSpPr>
            <p:cNvPr id="205" name="Line 188"/>
            <p:cNvSpPr/>
            <p:nvPr/>
          </p:nvSpPr>
          <p:spPr>
            <a:xfrm flipV="1">
              <a:off x="6238800" y="3276360"/>
              <a:ext cx="238320" cy="9046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93"/>
            <p:cNvSpPr/>
            <p:nvPr/>
          </p:nvSpPr>
          <p:spPr>
            <a:xfrm>
              <a:off x="4648320" y="4191120"/>
              <a:ext cx="2438280" cy="45900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The price (per $100 face) of the bond when it last trade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99"/>
          <p:cNvGrpSpPr/>
          <p:nvPr/>
        </p:nvGrpSpPr>
        <p:grpSpPr>
          <a:xfrm>
            <a:off x="5334120" y="3276720"/>
            <a:ext cx="3276360" cy="2181240"/>
            <a:chOff x="5334120" y="3276720"/>
            <a:chExt cx="3276360" cy="2181240"/>
          </a:xfrm>
        </p:grpSpPr>
        <p:sp>
          <p:nvSpPr>
            <p:cNvPr id="208" name="Line 196"/>
            <p:cNvSpPr/>
            <p:nvPr/>
          </p:nvSpPr>
          <p:spPr>
            <a:xfrm flipH="1">
              <a:off x="7924320" y="3276720"/>
              <a:ext cx="304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97"/>
            <p:cNvSpPr/>
            <p:nvPr/>
          </p:nvSpPr>
          <p:spPr>
            <a:xfrm>
              <a:off x="8229600" y="3276720"/>
              <a:ext cx="0" cy="19047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98"/>
            <p:cNvSpPr/>
            <p:nvPr/>
          </p:nvSpPr>
          <p:spPr>
            <a:xfrm>
              <a:off x="5334120" y="5181480"/>
              <a:ext cx="3276360" cy="2764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The Yield to Maturity (YTM) of the bon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CA9A7421-098A-464C-9061-326E02B2B9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qu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mmon st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ownership in a corporation. A part owner receives a pro rated share of whatever is left over after all obligations have been met in the event of a liquidati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eferred st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vidend is usually fixed and must be paid before any dividends for the common shareholders. In the event of a liquidation, preferred shares have a particular face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user</cp:lastModifiedBy>
  <dcterms:modified xsi:type="dcterms:W3CDTF">2012-03-25T18:46:14Z</dcterms:modified>
  <cp:revision>40</cp:revision>
  <dc:subject/>
  <dc:title>Slide 1</dc:title>
</cp:coreProperties>
</file>