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2D80-146D-4673-8B26-FC4F8DE2B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6D1C-4A72-429F-9336-A9B0AA081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A02A-567F-467D-9409-3749B55BF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C347-ECE7-4C27-A465-1EBCF7D5C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2012-EE69-4F07-B9B5-411E7C9B0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1C8C-E9FD-40B0-8020-4B8D6992E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6B93-57E1-498D-853E-668505F1D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AD40-F21F-4F43-8D0A-64119C835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3467-5171-411E-9543-846BFE004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3C20-AE91-4216-A4EF-98334C7BF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6950-B5ED-4C14-B8B4-6867368FE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4A03-A17B-4173-9830-FD53D1CD3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4C9A-8856-48F7-BF9C-B6BE6C6AA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587C-3D37-47AD-B8E2-1FEA845E5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2F38-F1B9-423B-8D96-12B493749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D745-770A-454B-8FF7-7EAE19011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300A-5D40-4F3A-814C-D041F4008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ED80-95B7-45CE-AB97-A1EFBF7C4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7607-D9A3-471C-B8C7-0C85728B5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FA25-02C1-4B88-A868-B14F3DC40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F1EA-4E29-4926-B732-72ADC1AF0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F10F-748A-4ED1-8A8A-9FDF64436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F6BA-2662-40DF-B740-B45BAFE67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840F-7F8E-437E-8B25-16486A674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3529-462E-4A17-9127-0B1FC0DFE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0EB3-1B16-43E9-95DF-B323B18E8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8D3D-A528-4FC8-9AEB-A15E9079A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6050-6313-4023-9388-C325B555E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551B-5B73-48A6-8313-F15C462C9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943B-0573-4479-9F1C-9D6E4E52D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5894-3F40-4C60-8793-1464613CF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F40E-CD1C-4AEE-B712-A5C2FD7F7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8EFB-55CE-4468-A92F-B4E9D39D0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DF8E-EFB5-43C0-A89C-C31F4A5D8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20BE-3E70-4438-A5A9-72D59BD1F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5E28-E982-4040-82D8-5874142CE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2E19-9514-475F-860A-CEFF3F248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7348-1C18-4B6E-9456-EEC9DEF80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05CD-9E48-48FC-8B11-884BB4246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FC2B-DA1C-453C-A1D2-B491D3770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0F56-C8E8-4F4B-88E2-CDC57C67A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2E5F34E8-137E-402C-B1B6-6E0AF2DE9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061FE2B-657C-492E-A5DC-1C7C95227B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380600"/>
            <a:ext cx="830556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M shares, Microsoft shares, Intel shares, Dell shares, et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Many companies pay cash dividends to their shareholders. However, neither the timing nor the amount of any dividend is guarant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57D4BC8-98E4-402E-B16A-EE45C95D42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Picture 8" descr="jor82353_f0302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F59BCC7-EA9C-47EA-A3D1-3618299DC9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mon Stock Price Quotes Online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 http://finance.yahoo.co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9"/>
          <p:cNvGrpSpPr/>
          <p:nvPr/>
        </p:nvGrpSpPr>
        <p:grpSpPr>
          <a:xfrm>
            <a:off x="1143000" y="1371600"/>
            <a:ext cx="6942240" cy="1978560"/>
            <a:chOff x="1143000" y="1371600"/>
            <a:chExt cx="6942240" cy="1978560"/>
          </a:xfrm>
        </p:grpSpPr>
        <p:sp>
          <p:nvSpPr>
            <p:cNvPr id="224" name="Line 7"/>
            <p:cNvSpPr/>
            <p:nvPr/>
          </p:nvSpPr>
          <p:spPr>
            <a:xfrm flipH="1" flipV="1">
              <a:off x="1712520" y="2326680"/>
              <a:ext cx="30492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2017800" y="3012840"/>
              <a:ext cx="236196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st, enter symbo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22" descr="scl1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6942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28"/>
          <p:cNvGrpSpPr/>
          <p:nvPr/>
        </p:nvGrpSpPr>
        <p:grpSpPr>
          <a:xfrm>
            <a:off x="914400" y="4038480"/>
            <a:ext cx="7543800" cy="2104920"/>
            <a:chOff x="914400" y="4038480"/>
            <a:chExt cx="7543800" cy="2104920"/>
          </a:xfrm>
        </p:grpSpPr>
        <p:grpSp>
          <p:nvGrpSpPr>
            <p:cNvPr id="228" name="Group 27"/>
            <p:cNvGrpSpPr/>
            <p:nvPr/>
          </p:nvGrpSpPr>
          <p:grpSpPr>
            <a:xfrm>
              <a:off x="6476760" y="4724280"/>
              <a:ext cx="1981440" cy="580680"/>
              <a:chOff x="6476760" y="4724280"/>
              <a:chExt cx="1981440" cy="580680"/>
            </a:xfrm>
          </p:grpSpPr>
          <p:sp>
            <p:nvSpPr>
              <p:cNvPr id="229" name="Text Box 10"/>
              <p:cNvSpPr/>
              <p:nvPr/>
            </p:nvSpPr>
            <p:spPr>
              <a:xfrm>
                <a:off x="7010280" y="4724280"/>
                <a:ext cx="1447920" cy="5806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Resulting 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 flipH="1">
                <a:off x="6476760" y="5028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Picture 26" descr="scl3"/>
            <p:cNvPicPr/>
            <p:nvPr/>
          </p:nvPicPr>
          <p:blipFill>
            <a:blip r:embed="rId2"/>
            <a:stretch/>
          </p:blipFill>
          <p:spPr>
            <a:xfrm>
              <a:off x="914400" y="4038480"/>
              <a:ext cx="541656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88ED573-AE46-4181-BCD6-2DDC54A552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ferred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tigroup preferred stock (Do a Google search for it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Dividends are “promised.” However, there is no legal requirement that the dividends be paid, as long as no common dividends are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D87DD3C-401E-4370-A3BE-6E14D47F7F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originally sold by a business or government to rais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ivative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asset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 existing traded asset, rather than issued by a business or government to raise capital. More generally, any financial asset that is not a primary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115BAA0-9C4A-4300-82AC-343D2D40BC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tures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made today regarding the terms of a trade that will take place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that gives the owner the right, but not the obligation, to buy or sell a specific asset at a specified price for a set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52C2184-BC76-45A8-A4E7-80E6564BEF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cial futures (i.e., S&amp;P 500, T-bonds, foreign currencies, and others); Commodity futures (i.e., wheat, crude oil, cattle, and others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t maturity, you gain if your contracted price is better than the market price of the underlying asset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you sell your contract before its maturity, you may gain or lose depending on the market price for the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te that enormous gains and loss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D968111-D1EF-4330-B31D-08FE1ABE83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: Online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wsj.c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jor82353_f0304"/>
          <p:cNvPicPr/>
          <p:nvPr/>
        </p:nvPicPr>
        <p:blipFill>
          <a:blip r:embed="rId1"/>
          <a:stretch/>
        </p:blipFill>
        <p:spPr>
          <a:xfrm>
            <a:off x="638280" y="1467000"/>
            <a:ext cx="7867440" cy="39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BFE3785-7329-419F-AEB9-E47EF1DC31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Price Quotes Onlin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0" name="Picture 7" descr="jor82353_cut03f"/>
          <p:cNvPicPr/>
          <p:nvPr/>
        </p:nvPicPr>
        <p:blipFill>
          <a:blip r:embed="rId1"/>
          <a:stretch/>
        </p:blipFill>
        <p:spPr>
          <a:xfrm>
            <a:off x="1066680" y="3048120"/>
            <a:ext cx="714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0B096A0-E4ED-4B0E-B51D-69977A993E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ll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thing, whil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u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“something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 asset, a commodity, or an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you pay today to buy an option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ified price at which the underlying asset can be bought or sold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C37E855-CD34-4F15-88E4-A72D899702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quotes for all types of investments are easy to find, but what do they mean? Learn the answ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arious types of interest-bearing asse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quity securiti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utures contra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Option contr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557B484-A34F-48BE-BE56-1929943A02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meric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nd including the expiration date, whil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rope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iration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differ from futures in two mai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call options have no obligation to buy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put options have no obligation to sell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 avoid this obligation, buyers of calls and puts must pay a price today.  Holders of futures contracts do not pay for the contract toda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35E9072-A5D4-4F83-BCF1-E9F1FB7B57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call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oretically unlimited pro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call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call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oretically unlimited lo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losses are limited, but gains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9445D93-4D46-4714-851B-56DE3A061C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V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put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market price (for the underlying) i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put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put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market price (for the underlying) is 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 and sell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gains and losses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7BEA48F-A44D-4007-A963-FB084BF103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tion Contracts: Online Price Quot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 Hewlett-Packard (HPQ) op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85800" y="6095880"/>
            <a:ext cx="533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609480" y="34290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www.finance.yahoo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jor82353_f0305"/>
          <p:cNvPicPr/>
          <p:nvPr/>
        </p:nvPicPr>
        <p:blipFill>
          <a:blip r:embed="rId1"/>
          <a:stretch/>
        </p:blipFill>
        <p:spPr>
          <a:xfrm>
            <a:off x="5105520" y="1143000"/>
            <a:ext cx="3355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FD3555F-3B86-4A51-9ACF-79C9CFBFB1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uppose you have $10,000 for investments. Macron Technology is selling at $50 per share. 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umber of shares bought = $10,000 / $50 = 200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($5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1,0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4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E771E90-7E30-4FDF-8FD7-BB791318D9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option with a $50 strike price and 3 months to maturity is also available at a premium of $4.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contract costs $4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$400, so number of contracts bought = $10,000 / $400 = 25 (for 2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2500 shares)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{($55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50)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}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2,5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0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)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98AEE09-AFB9-466D-89C7-72F277F983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nasdbondinfo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urrent corporate bond 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investinginbonds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ond ba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inra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earn more about TR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ool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re you a “Foolish investor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stocktickercompany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production stock tic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megroup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M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boe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ago Board Options Ex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ces for option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wsj.com (Online vers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8CA8784-1142-4552-8E5B-FDA0327617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3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 Secu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-Bear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Market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-Income Securit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and Preferred Stock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1125FBA-F233-4FAB-8844-BB16A0FD53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40960" y="1066680"/>
            <a:ext cx="7613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Futures Contrac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versu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Op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ng in Stocks vers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E1031E1E-722E-4478-B3A3-36AA21E1A5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introduce the different types of securities that investors routinely buy and sell in financial markets around the wor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ecurity type, we will exa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distinguishing character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otential gains and loss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ts prices are quoted in the financial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A072CF7-A940-455F-A174-5F3E9C2F53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assify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143000" y="1905120"/>
            <a:ext cx="7543800" cy="3352320"/>
            <a:chOff x="1143000" y="1905120"/>
            <a:chExt cx="7543800" cy="3352320"/>
          </a:xfrm>
        </p:grpSpPr>
        <p:sp>
          <p:nvSpPr>
            <p:cNvPr id="177" name="Rectangle 4"/>
            <p:cNvSpPr/>
            <p:nvPr/>
          </p:nvSpPr>
          <p:spPr>
            <a:xfrm>
              <a:off x="1143000" y="1905120"/>
              <a:ext cx="301752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ic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4160520" y="1905120"/>
              <a:ext cx="452628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 Sub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143000" y="244116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-be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4160520" y="244116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y market instru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-income secur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1143000" y="3380040"/>
              <a:ext cx="301752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160520" y="3380040"/>
              <a:ext cx="452628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ferred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1143000" y="431892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4160520" y="431892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5FBD661-0969-4FFA-82B3-B7C2C23897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terest-Bearing Asse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y market instr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-term debt obligations of large corporations and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one future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xed-income secur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onger-term debt obligations of corporations or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fixed payments according to a pre-set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exceed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74C431F-6EBD-4F8C-BEF9-65A92C420D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ey Market Instrume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Treasury bills (T-bills), bank certificates of deposit (CDs), corporate and municipal money market instrument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nown future payment/except when the borrower defaults (i.e., does not pay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ce quo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, the instruments are sold on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iscou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ly the interest rates are quo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nvestors must be able to do calculate prices from the quote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5221CD9-BD54-4E55-9F12-35272D397B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.S. Treasury notes, corporate bonds, car loans, student loan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upon payments and final payment at maturity, except when the borrower defa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gain (loss) from fall (rise) in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debt issue, illiquidity can be a problem.  (Illiquidity means it is possible that you cannot sell these securities quick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3EDD8CD-EE66-4E67-9312-84F5F96C0D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Quote Example: 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quotations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online versio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me columns are self-explanatory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75" descr="scl1"/>
          <p:cNvPicPr/>
          <p:nvPr/>
        </p:nvPicPr>
        <p:blipFill>
          <a:blip r:embed="rId1"/>
          <a:stretch/>
        </p:blipFill>
        <p:spPr>
          <a:xfrm>
            <a:off x="1219320" y="2590920"/>
            <a:ext cx="6791040" cy="11048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6"/>
          <p:cNvSpPr/>
          <p:nvPr/>
        </p:nvSpPr>
        <p:spPr>
          <a:xfrm>
            <a:off x="1295280" y="3200400"/>
            <a:ext cx="6553440" cy="108000"/>
          </a:xfrm>
          <a:prstGeom prst="rect">
            <a:avLst/>
          </a:prstGeom>
          <a:solidFill>
            <a:srgbClr val="b2b2b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90"/>
          <p:cNvGrpSpPr/>
          <p:nvPr/>
        </p:nvGrpSpPr>
        <p:grpSpPr>
          <a:xfrm>
            <a:off x="609480" y="3276360"/>
            <a:ext cx="3581640" cy="1524240"/>
            <a:chOff x="609480" y="3276360"/>
            <a:chExt cx="3581640" cy="1524240"/>
          </a:xfrm>
        </p:grpSpPr>
        <p:sp>
          <p:nvSpPr>
            <p:cNvPr id="200" name="Line 182"/>
            <p:cNvSpPr/>
            <p:nvPr/>
          </p:nvSpPr>
          <p:spPr>
            <a:xfrm flipH="1">
              <a:off x="3123720" y="3352680"/>
              <a:ext cx="304920" cy="914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83"/>
            <p:cNvSpPr/>
            <p:nvPr/>
          </p:nvSpPr>
          <p:spPr>
            <a:xfrm flipV="1">
              <a:off x="3429000" y="3276360"/>
              <a:ext cx="76320" cy="759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4"/>
            <p:cNvSpPr/>
            <p:nvPr/>
          </p:nvSpPr>
          <p:spPr>
            <a:xfrm>
              <a:off x="609480" y="4267080"/>
              <a:ext cx="3581640" cy="53352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ou will receive 6.875% of the bond’s f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alue each year in 2 semi-annual pay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91"/>
          <p:cNvSpPr/>
          <p:nvPr/>
        </p:nvSpPr>
        <p:spPr>
          <a:xfrm>
            <a:off x="4800600" y="4114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4"/>
          <p:cNvGrpSpPr/>
          <p:nvPr/>
        </p:nvGrpSpPr>
        <p:grpSpPr>
          <a:xfrm>
            <a:off x="4648320" y="3276360"/>
            <a:ext cx="2438280" cy="1373760"/>
            <a:chOff x="4648320" y="3276360"/>
            <a:chExt cx="2438280" cy="1373760"/>
          </a:xfrm>
        </p:grpSpPr>
        <p:sp>
          <p:nvSpPr>
            <p:cNvPr id="205" name="Line 188"/>
            <p:cNvSpPr/>
            <p:nvPr/>
          </p:nvSpPr>
          <p:spPr>
            <a:xfrm flipV="1">
              <a:off x="6238800" y="3276360"/>
              <a:ext cx="238320" cy="904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3"/>
            <p:cNvSpPr/>
            <p:nvPr/>
          </p:nvSpPr>
          <p:spPr>
            <a:xfrm>
              <a:off x="4648320" y="4191120"/>
              <a:ext cx="2438280" cy="4590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price (per $100 face) of the bond when it last trad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9"/>
          <p:cNvGrpSpPr/>
          <p:nvPr/>
        </p:nvGrpSpPr>
        <p:grpSpPr>
          <a:xfrm>
            <a:off x="5334120" y="3276720"/>
            <a:ext cx="3276360" cy="2181240"/>
            <a:chOff x="5334120" y="3276720"/>
            <a:chExt cx="3276360" cy="2181240"/>
          </a:xfrm>
        </p:grpSpPr>
        <p:sp>
          <p:nvSpPr>
            <p:cNvPr id="208" name="Line 196"/>
            <p:cNvSpPr/>
            <p:nvPr/>
          </p:nvSpPr>
          <p:spPr>
            <a:xfrm flipH="1">
              <a:off x="7924320" y="32767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7"/>
            <p:cNvSpPr/>
            <p:nvPr/>
          </p:nvSpPr>
          <p:spPr>
            <a:xfrm>
              <a:off x="8229600" y="3276720"/>
              <a:ext cx="0" cy="190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98"/>
            <p:cNvSpPr/>
            <p:nvPr/>
          </p:nvSpPr>
          <p:spPr>
            <a:xfrm>
              <a:off x="5334120" y="5181480"/>
              <a:ext cx="3276360" cy="276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Yield to Maturity (YTM) of the bo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5D63FE3-0C48-4D91-8030-A238FCAB14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qu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on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ownership in a corporation. A part owner receives a pro rated share of whatever is left over after all obligations have been met in the event of a liquid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eferred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dend is usually fixed and must be paid before any dividends for the common shareholders. In the event of a liquidation, preferred shares have a particular fa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46:14Z</dcterms:modified>
  <cp:revision>40</cp:revision>
  <dc:subject/>
  <dc:title>Slide 1</dc:title>
</cp:coreProperties>
</file>