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ECBB-FD70-4017-B1D3-679E7A749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F19E-EF1D-4F05-AA44-E0D945322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40D6-9649-4524-94CB-E294B3C35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2DFB-64F5-4304-9F7D-2E7CD0D5F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52EC-BF2F-4F28-B4DC-CA1E7A316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3BB6-D542-4FFC-BF25-06C0DE457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B3D3-F82A-46C6-9952-B49EFA377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D2DE-60AA-4E3D-87F6-5299C86F6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97AD-425D-449B-85FD-5D1654E17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DED4-B107-424F-8DE0-4C79C8CA0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F439-8341-42DC-80AB-43514C77C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A3D5-8C9B-418D-AA14-B1748A57D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7BE7-646D-4E17-8DE2-D13D052E5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B6A7-A819-4C73-A594-C4A0ECCA5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95A4-61AE-48DC-915F-B8D5672EE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0563-A0A1-455B-AB32-CA3196F91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1506-D148-4FA2-8698-CF51C33EE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05FF-872C-4EC3-B9DB-2244E3CF6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B8EC-E36E-45E1-9E36-4689A1850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08B5-C988-4EE5-A323-E0810AB7D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F4FB-4E44-4949-9FA9-8522F16BC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38C6-7A1C-4EC0-912A-24FE0FD23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3EE4-C9F3-4F01-B6F7-2BF31E8F1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5078-55C2-462E-B9AF-94C5F5391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8C31-42AB-4D36-B113-4AE13E940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5F88-64AD-44C7-98C2-BF4B62423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E902-5223-4F1D-8251-D646CAB3A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0B4E-E6FE-4BFF-927B-37A7EE7B3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BDBE-E6D8-458B-B2EF-739926FEF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9127-485D-4F41-BCAF-E3E9E2BF0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8858-16E7-4868-A8B3-FA24C9F51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D4DF-4670-407E-8B5F-9C766CB59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A050-34E5-4A40-8FD9-20F92206A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AC8A-7429-43A8-8A60-3F46FFAB0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24E4-7E6D-4756-863E-C6A63FED9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3EAB-C53C-4DB5-B75F-4853D8F22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2468-6CB9-44EC-B42A-2D2507A9E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3B8E-191F-4FFE-9E08-8F66A1255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CDE8-2DDF-4C3B-8A5C-29E80E5DB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21B2-7FFB-4DC9-96FB-B9E078555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E874-1798-4782-A71E-512A1594C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7E616CA8-7442-417C-8430-EF8C6E8D8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B60BF4F-FE48-47D7-8FA7-294F0A5AB4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380600"/>
            <a:ext cx="830556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M shares, Microsoft shares, Intel shares, Dell shares, et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Many companies pay cash dividends to their shareholders. However, neither the timing nor the amount of any dividend is guarant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3538C9D-D6A1-4E0F-9160-3DB20D87B5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Picture 8" descr="jor82353_f0302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56CFDF8-1EC5-49C3-8429-85AB5B9439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mon Stock Price Quotes Online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 http://finance.yahoo.co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9"/>
          <p:cNvGrpSpPr/>
          <p:nvPr/>
        </p:nvGrpSpPr>
        <p:grpSpPr>
          <a:xfrm>
            <a:off x="1143000" y="1371600"/>
            <a:ext cx="6942240" cy="1978560"/>
            <a:chOff x="1143000" y="1371600"/>
            <a:chExt cx="6942240" cy="1978560"/>
          </a:xfrm>
        </p:grpSpPr>
        <p:sp>
          <p:nvSpPr>
            <p:cNvPr id="224" name="Line 7"/>
            <p:cNvSpPr/>
            <p:nvPr/>
          </p:nvSpPr>
          <p:spPr>
            <a:xfrm flipH="1" flipV="1">
              <a:off x="1712520" y="2326680"/>
              <a:ext cx="30492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2017800" y="3012840"/>
              <a:ext cx="236196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st, enter symbo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22" descr="scl1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6942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28"/>
          <p:cNvGrpSpPr/>
          <p:nvPr/>
        </p:nvGrpSpPr>
        <p:grpSpPr>
          <a:xfrm>
            <a:off x="914400" y="4038480"/>
            <a:ext cx="7543800" cy="2104920"/>
            <a:chOff x="914400" y="4038480"/>
            <a:chExt cx="7543800" cy="2104920"/>
          </a:xfrm>
        </p:grpSpPr>
        <p:grpSp>
          <p:nvGrpSpPr>
            <p:cNvPr id="228" name="Group 27"/>
            <p:cNvGrpSpPr/>
            <p:nvPr/>
          </p:nvGrpSpPr>
          <p:grpSpPr>
            <a:xfrm>
              <a:off x="6476760" y="4724280"/>
              <a:ext cx="1981440" cy="580680"/>
              <a:chOff x="6476760" y="4724280"/>
              <a:chExt cx="1981440" cy="580680"/>
            </a:xfrm>
          </p:grpSpPr>
          <p:sp>
            <p:nvSpPr>
              <p:cNvPr id="229" name="Text Box 10"/>
              <p:cNvSpPr/>
              <p:nvPr/>
            </p:nvSpPr>
            <p:spPr>
              <a:xfrm>
                <a:off x="7010280" y="4724280"/>
                <a:ext cx="1447920" cy="5806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Resulting 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 flipH="1">
                <a:off x="6476760" y="5028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Picture 26" descr="scl3"/>
            <p:cNvPicPr/>
            <p:nvPr/>
          </p:nvPicPr>
          <p:blipFill>
            <a:blip r:embed="rId2"/>
            <a:stretch/>
          </p:blipFill>
          <p:spPr>
            <a:xfrm>
              <a:off x="914400" y="4038480"/>
              <a:ext cx="541656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F7D15B5-77CC-4061-BE03-8F0DF76A9C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ferred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tigroup preferred stock (Do a Google search for it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Dividends are “promised.” However, there is no legal requirement that the dividends be paid, as long as no common dividends are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D5EA4ED-B51C-4512-BB13-DFB151D9F3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originally sold by a business or government to rais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ivative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asset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 existing traded asset, rather than issued by a business or government to raise capital. More generally, any financial asset that is not a primary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5848D89-FD1A-42FE-8D29-36A7A36A05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tures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made today regarding the terms of a trade that will take place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that gives the owner the right, but not the obligation, to buy or sell a specific asset at a specified price for a set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B1798FC-EBC8-40F1-BD0A-2300DBEB98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cial futures (i.e., S&amp;P 500, T-bonds, foreign currencies, and others); Commodity futures (i.e., wheat, crude oil, cattle, and others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t maturity, you gain if your contracted price is better than the market price of the underlying asset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you sell your contract before its maturity, you may gain or lose depending on the market price for the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te that enormous gains and loss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D478E60-0B20-4952-889B-1B0D475BA9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: Online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wsj.c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jor82353_f0304"/>
          <p:cNvPicPr/>
          <p:nvPr/>
        </p:nvPicPr>
        <p:blipFill>
          <a:blip r:embed="rId1"/>
          <a:stretch/>
        </p:blipFill>
        <p:spPr>
          <a:xfrm>
            <a:off x="638280" y="1467000"/>
            <a:ext cx="7867440" cy="39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2C79C8C-9A42-4BBF-BE52-33B208CB5D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Price Quotes Onlin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0" name="Picture 7" descr="jor82353_cut03f"/>
          <p:cNvPicPr/>
          <p:nvPr/>
        </p:nvPicPr>
        <p:blipFill>
          <a:blip r:embed="rId1"/>
          <a:stretch/>
        </p:blipFill>
        <p:spPr>
          <a:xfrm>
            <a:off x="1066680" y="3048120"/>
            <a:ext cx="714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7C733AD-D691-497C-A19B-269DE5CDC5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ll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thing, whil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u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“something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 asset, a commodity, or an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you pay today to buy an option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ified price at which the underlying asset can be bought or sold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A17342B-022E-420E-8481-33A60422B6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quotes for all types of investments are easy to find, but what do they mean? Learn the answ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arious types of interest-bearing asse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quity securiti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utures contra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Option contr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DBB7A29-90A6-437C-971A-886AECF72F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meric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nd including the expiration date, whil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rope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iration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differ from futures in two mai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call options have no obligation to buy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put options have no obligation to sell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 avoid this obligation, buyers of calls and puts must pay a price today.  Holders of futures contracts do not pay for the contract toda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1D59979-752C-4D69-8B29-F695C8272D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call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oretically unlimited pro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call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call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oretically unlimited lo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losses are limited, but gains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DCEF831-5B0B-4A91-9B82-D49B4A5172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V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put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market price (for the underlying) i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put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put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market price (for the underlying) is 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 and sell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gains and losses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1C0C003-7E83-488D-AF00-C98BDACE7D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tion Contracts: Online Price Quot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 Hewlett-Packard (HPQ) op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85800" y="6095880"/>
            <a:ext cx="533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609480" y="34290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www.finance.yahoo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jor82353_f0305"/>
          <p:cNvPicPr/>
          <p:nvPr/>
        </p:nvPicPr>
        <p:blipFill>
          <a:blip r:embed="rId1"/>
          <a:stretch/>
        </p:blipFill>
        <p:spPr>
          <a:xfrm>
            <a:off x="5105520" y="1143000"/>
            <a:ext cx="3355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F3E129D-E694-43E5-AE6B-0BEA152813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uppose you have $10,000 for investments. Macron Technology is selling at $50 per share. 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umber of shares bought = $10,000 / $50 = 200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($5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1,0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4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6D84AC8-844F-4CD5-B1A8-7144924821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option with a $50 strike price and 3 months to maturity is also available at a premium of $4.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contract costs $4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$400, so number of contracts bought = $10,000 / $400 = 25 (for 2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2500 shares)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{($55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50)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}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2,5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0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)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D7025EA-0689-4397-BE66-B8EEA1E517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nasdbondinfo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urrent corporate bond 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investinginbonds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ond ba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inra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earn more about TR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ool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re you a “Foolish investor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stocktickercompany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production stock tic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megroup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M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boe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ago Board Options Ex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ces for option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wsj.com (Online vers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54922EF-F1A0-4265-8C21-EE92397640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3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 Secu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-Bear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Market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-Income Securit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and Preferred Stock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79990CC-DBB4-445A-84A0-819F4057A4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40960" y="1066680"/>
            <a:ext cx="7613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Futures Contrac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versu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Op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ng in Stocks vers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F8C4514-883D-419A-B388-A01535C550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introduce the different types of securities that investors routinely buy and sell in financial markets around the wor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ecurity type, we will exa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distinguishing character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otential gains and loss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ts prices are quoted in the financial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587D0EB-1641-4777-B3D8-2969B7D96D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assify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143000" y="1905120"/>
            <a:ext cx="7543800" cy="3352320"/>
            <a:chOff x="1143000" y="1905120"/>
            <a:chExt cx="7543800" cy="3352320"/>
          </a:xfrm>
        </p:grpSpPr>
        <p:sp>
          <p:nvSpPr>
            <p:cNvPr id="177" name="Rectangle 4"/>
            <p:cNvSpPr/>
            <p:nvPr/>
          </p:nvSpPr>
          <p:spPr>
            <a:xfrm>
              <a:off x="1143000" y="1905120"/>
              <a:ext cx="301752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ic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4160520" y="1905120"/>
              <a:ext cx="452628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 Sub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143000" y="244116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-be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4160520" y="244116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y market instru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-income secur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1143000" y="3380040"/>
              <a:ext cx="301752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160520" y="3380040"/>
              <a:ext cx="452628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ferred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1143000" y="431892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4160520" y="431892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2D8C203-D667-4671-9500-FB2270B740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terest-Bearing Asse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y market instr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-term debt obligations of large corporations and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one future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xed-income secur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onger-term debt obligations of corporations or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fixed payments according to a pre-set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exceed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CE965A2-DA1E-4B41-8112-3C4FEB8D4A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ey Market Instrume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Treasury bills (T-bills), bank certificates of deposit (CDs), corporate and municipal money market instrument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nown future payment/except when the borrower defaults (i.e., does not pay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ce quo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, the instruments are sold on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iscou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ly the interest rates are quo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nvestors must be able to do calculate prices from the quote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1DF3306-9316-4353-AFC5-663078A3B8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.S. Treasury notes, corporate bonds, car loans, student loan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upon payments and final payment at maturity, except when the borrower defa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gain (loss) from fall (rise) in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debt issue, illiquidity can be a problem.  (Illiquidity means it is possible that you cannot sell these securities quick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3BCE6EB-1A67-4AB2-8C51-93B75A7873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Quote Example: 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quotations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online versio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me columns are self-explanatory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75" descr="scl1"/>
          <p:cNvPicPr/>
          <p:nvPr/>
        </p:nvPicPr>
        <p:blipFill>
          <a:blip r:embed="rId1"/>
          <a:stretch/>
        </p:blipFill>
        <p:spPr>
          <a:xfrm>
            <a:off x="1219320" y="2590920"/>
            <a:ext cx="6791040" cy="11048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6"/>
          <p:cNvSpPr/>
          <p:nvPr/>
        </p:nvSpPr>
        <p:spPr>
          <a:xfrm>
            <a:off x="1295280" y="3200400"/>
            <a:ext cx="6553440" cy="108000"/>
          </a:xfrm>
          <a:prstGeom prst="rect">
            <a:avLst/>
          </a:prstGeom>
          <a:solidFill>
            <a:srgbClr val="b2b2b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90"/>
          <p:cNvGrpSpPr/>
          <p:nvPr/>
        </p:nvGrpSpPr>
        <p:grpSpPr>
          <a:xfrm>
            <a:off x="609480" y="3276360"/>
            <a:ext cx="3581640" cy="1524240"/>
            <a:chOff x="609480" y="3276360"/>
            <a:chExt cx="3581640" cy="1524240"/>
          </a:xfrm>
        </p:grpSpPr>
        <p:sp>
          <p:nvSpPr>
            <p:cNvPr id="200" name="Line 182"/>
            <p:cNvSpPr/>
            <p:nvPr/>
          </p:nvSpPr>
          <p:spPr>
            <a:xfrm flipH="1">
              <a:off x="3123720" y="3352680"/>
              <a:ext cx="304920" cy="914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83"/>
            <p:cNvSpPr/>
            <p:nvPr/>
          </p:nvSpPr>
          <p:spPr>
            <a:xfrm flipV="1">
              <a:off x="3429000" y="3276360"/>
              <a:ext cx="76320" cy="759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4"/>
            <p:cNvSpPr/>
            <p:nvPr/>
          </p:nvSpPr>
          <p:spPr>
            <a:xfrm>
              <a:off x="609480" y="4267080"/>
              <a:ext cx="3581640" cy="53352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ou will receive 6.875% of the bond’s f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alue each year in 2 semi-annual pay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91"/>
          <p:cNvSpPr/>
          <p:nvPr/>
        </p:nvSpPr>
        <p:spPr>
          <a:xfrm>
            <a:off x="4800600" y="4114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4"/>
          <p:cNvGrpSpPr/>
          <p:nvPr/>
        </p:nvGrpSpPr>
        <p:grpSpPr>
          <a:xfrm>
            <a:off x="4648320" y="3276360"/>
            <a:ext cx="2438280" cy="1373760"/>
            <a:chOff x="4648320" y="3276360"/>
            <a:chExt cx="2438280" cy="1373760"/>
          </a:xfrm>
        </p:grpSpPr>
        <p:sp>
          <p:nvSpPr>
            <p:cNvPr id="205" name="Line 188"/>
            <p:cNvSpPr/>
            <p:nvPr/>
          </p:nvSpPr>
          <p:spPr>
            <a:xfrm flipV="1">
              <a:off x="6238800" y="3276360"/>
              <a:ext cx="238320" cy="904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3"/>
            <p:cNvSpPr/>
            <p:nvPr/>
          </p:nvSpPr>
          <p:spPr>
            <a:xfrm>
              <a:off x="4648320" y="4191120"/>
              <a:ext cx="2438280" cy="4590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price (per $100 face) of the bond when it last trad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9"/>
          <p:cNvGrpSpPr/>
          <p:nvPr/>
        </p:nvGrpSpPr>
        <p:grpSpPr>
          <a:xfrm>
            <a:off x="5334120" y="3276720"/>
            <a:ext cx="3276360" cy="2181240"/>
            <a:chOff x="5334120" y="3276720"/>
            <a:chExt cx="3276360" cy="2181240"/>
          </a:xfrm>
        </p:grpSpPr>
        <p:sp>
          <p:nvSpPr>
            <p:cNvPr id="208" name="Line 196"/>
            <p:cNvSpPr/>
            <p:nvPr/>
          </p:nvSpPr>
          <p:spPr>
            <a:xfrm flipH="1">
              <a:off x="7924320" y="32767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7"/>
            <p:cNvSpPr/>
            <p:nvPr/>
          </p:nvSpPr>
          <p:spPr>
            <a:xfrm>
              <a:off x="8229600" y="3276720"/>
              <a:ext cx="0" cy="190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98"/>
            <p:cNvSpPr/>
            <p:nvPr/>
          </p:nvSpPr>
          <p:spPr>
            <a:xfrm>
              <a:off x="5334120" y="5181480"/>
              <a:ext cx="3276360" cy="276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Yield to Maturity (YTM) of the bo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A8CF136-BE51-43B7-B20D-A8DFDA9A8B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qu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on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ownership in a corporation. A part owner receives a pro rated share of whatever is left over after all obligations have been met in the event of a liquid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eferred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dend is usually fixed and must be paid before any dividends for the common shareholders. In the event of a liquidation, preferred shares have a particular fa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46:14Z</dcterms:modified>
  <cp:revision>40</cp:revision>
  <dc:subject/>
  <dc:title>Slide 1</dc:title>
</cp:coreProperties>
</file>