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D19E-001E-42A6-8A9C-2800DE5C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8FD4-AEF1-4864-8008-1029509E8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BD02-5621-4E9F-B6D2-749F31F2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A64A-CAD5-4A82-9910-FB9AAEC9F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655-47B3-420D-9780-6439F9D19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733-BEF3-4043-BB9C-C4332085D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ED47-DC07-414E-9A53-F9A40FBA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292-FB0D-44F8-9072-A70E7D7C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E8A-B14E-4FB8-BB9A-697C395D1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992D-1CF7-455B-821B-B1A6620F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42D-F790-4B60-B3D3-EB2A029A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CC0C-95FC-47F1-B28C-D848FFB5A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E6BF-B899-4EDF-B556-994E8406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96A1-9A38-4A37-BBA6-BABFBDDE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4CF-D252-4077-BB5E-465420C6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FE4E-808D-4736-9162-A3E8AADBB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FDE2-FD4F-49AE-8586-0C71F7B0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93F-1865-45BB-BCF4-53A6C31F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377-215C-4A70-82F1-B570094E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F77-E386-4170-B229-850495799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543D-488B-497C-8520-766EA995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599-B4ED-436B-94EF-F117D79F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5326-3FA7-47A7-A3FF-68337AF6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248A-70B2-4A3E-8759-E2D06A2B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4EDF-EF9E-4558-964C-555F3FB32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753F-A0E1-4942-9F75-4124EE7C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96D9-9EBD-4AC7-A0B1-731BDE53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3BB-AE91-425E-9134-6B3DD4D73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6D63-1645-4C38-823E-ACE4CEB6F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9E6F-D904-46F8-83CE-8F3C66C77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BCD3-3AF2-4F67-BBA5-CC0FDAC05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A558-F03F-474F-9A87-6C71A7825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594B-4B53-4C4C-AFFE-9A38220A7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A08B-5FE9-438F-A34D-6B1F01E2F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2DEB-6F70-44DE-9FA9-25BA505C3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594C-629C-47D3-8E28-DDB440D87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7AC3-47CA-45E9-9286-CD9F483C0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36CD-9C41-4709-A808-88035E3DD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5E6B-C159-4D29-B90A-8EEA0F32A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345C-2C4A-4C36-8DA9-BE37365E7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DC1E-2B50-4A4A-9E78-8E3FCC52F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-31680" y="-701640"/>
            <a:ext cx="865080" cy="2060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060640"/>
              <a:gd name="textAreaBottom" fmla="*/ 2061000 h 2060640"/>
            </a:gdLst>
            <a:ahLst/>
            <a:rect l="textAreaLeft" t="textAreaTop" r="textAreaRight" b="textAreaBottom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22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25"/>
          <p:cNvSpPr/>
          <p:nvPr/>
        </p:nvSpPr>
        <p:spPr>
          <a:xfrm>
            <a:off x="-12600" y="-690480"/>
            <a:ext cx="819000" cy="2049480"/>
          </a:xfrm>
          <a:custGeom>
            <a:avLst/>
            <a:gdLst>
              <a:gd name="textAreaLeft" fmla="*/ 0 w 819000"/>
              <a:gd name="textAreaRight" fmla="*/ 819360 w 819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26"/>
          <p:cNvSpPr/>
          <p:nvPr/>
        </p:nvSpPr>
        <p:spPr>
          <a:xfrm>
            <a:off x="291960" y="-674640"/>
            <a:ext cx="519120" cy="2033640"/>
          </a:xfrm>
          <a:custGeom>
            <a:avLst/>
            <a:gdLst>
              <a:gd name="textAreaLeft" fmla="*/ 0 w 519120"/>
              <a:gd name="textAreaRight" fmla="*/ 519480 w 519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33"/>
          <p:cNvSpPr/>
          <p:nvPr/>
        </p:nvSpPr>
        <p:spPr>
          <a:xfrm>
            <a:off x="-25560" y="6629400"/>
            <a:ext cx="8993520" cy="1440"/>
          </a:xfrm>
          <a:custGeom>
            <a:avLst/>
            <a:gdLst>
              <a:gd name="textAreaLeft" fmla="*/ 0 w 8993520"/>
              <a:gd name="textAreaRight" fmla="*/ 8993880 w 8993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Line 37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CE96B867-4071-4D51-A259-B33BC991B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Freeform 41"/>
          <p:cNvSpPr/>
          <p:nvPr/>
        </p:nvSpPr>
        <p:spPr>
          <a:xfrm>
            <a:off x="291960" y="990720"/>
            <a:ext cx="9156960" cy="936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5"/>
          <p:cNvSpPr/>
          <p:nvPr/>
        </p:nvSpPr>
        <p:spPr>
          <a:xfrm>
            <a:off x="8077320" y="1295280"/>
            <a:ext cx="228600" cy="381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6629400" y="838080"/>
            <a:ext cx="2374920" cy="86544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9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Freeform 23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1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>
              <a:gd name="textAreaLeft" fmla="*/ 0 w 228600"/>
              <a:gd name="textAreaRight" fmla="*/ 228960 w 228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4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6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7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8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9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0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2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5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6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7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8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9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2" name="Freeform 60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>
                <a:gd name="textAreaLeft" fmla="*/ 0 w 2362320"/>
                <a:gd name="textAreaRight" fmla="*/ 2362320 w 23623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4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5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6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7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4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9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0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E842630B-4A2A-4305-BB5B-621883FBB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ABCD50C-8AD5-47A5-AA0E-C8EB307989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9" name="Picture 8" descr="jor82353_f0302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C6A31B-572B-4159-A777-EFF90A62E0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24" name="Line 7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22" descr="scl1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28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28" name="Group 27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26" descr="scl3"/>
            <p:cNvPicPr/>
            <p:nvPr/>
          </p:nvPicPr>
          <p:blipFill>
            <a:blip r:embed="rId2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FC337EE-2344-4395-90D5-64C9204A5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59F64A9-46CB-4A8C-A772-799CD28B1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10AED693-04C2-49EE-9506-592621157A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A868A8AB-1A38-4707-87DE-7A4AC9081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873A2A48-4F9A-49EA-A85E-BC93797C5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wsj.c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jor82353_f0304"/>
          <p:cNvPicPr/>
          <p:nvPr/>
        </p:nvPicPr>
        <p:blipFill>
          <a:blip r:embed="rId1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D8CAC254-6241-4161-A4EF-A04EF28D20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50" name="Picture 7" descr="jor82353_cut03f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29BF45F-5C35-45F8-95D8-24E87AA10D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00BAE3DA-9992-4FF3-AA41-1521D3CF3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12DCB3A-A00F-4733-AA5A-B82DFDF148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3C9014D-FFCA-4143-9209-7026A0AD3D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FBCAD1D-C580-4484-9D64-1DD383057F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BBA6AC2A-5B6C-436C-9D92-44727032D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www.finance.yahoo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jor82353_f0305"/>
          <p:cNvPicPr/>
          <p:nvPr/>
        </p:nvPicPr>
        <p:blipFill>
          <a:blip r:embed="rId1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3AB8252-FA55-48B1-A998-3C2C80DD5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156B852-8E84-40F8-B809-5932F52B6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45B4977-4903-472B-8A72-D1BAAA0E9F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nasdbondinfo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investinginbonds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inra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fool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stocktickercompany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megroup.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www.cboe.co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wsj.com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9229CA2F-54DB-47B7-A16C-AFA2B7A5AB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F981E567-B72A-45B0-84C9-28605DFCC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C62E7FE5-6844-4ADE-9AF3-CA8DE9A90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DE754FA-BFA1-4852-A5EB-7CABBF17A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77" name="Rectangle 4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5E97D5CD-ED5D-4379-9D6D-32798C211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740CB191-CB0D-4CC4-AFB5-4FF755117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232DDC22-E38D-40BB-9B6C-EDF24BDF3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عنصر نائب لرقم الشريحة 4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41348D8B-EB75-4D62-BA5F-81D9913B8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75" descr="scl1"/>
          <p:cNvPicPr/>
          <p:nvPr/>
        </p:nvPicPr>
        <p:blipFill>
          <a:blip r:embed="rId1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6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90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200" name="Line 182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83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4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91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4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205" name="Line 188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3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9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208" name="Line 196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7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98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3"/>
          <p:cNvSpPr/>
          <p:nvPr/>
        </p:nvSpPr>
        <p:spPr>
          <a:xfrm>
            <a:off x="708660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-</a:t>
            </a:r>
            <a:fld id="{304428FC-0B0B-42E0-ABDD-7072488523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user</cp:lastModifiedBy>
  <dcterms:modified xsi:type="dcterms:W3CDTF">2012-03-25T18:46:14Z</dcterms:modified>
  <cp:revision>40</cp:revision>
  <dc:subject/>
  <dc:title>Slide 1</dc:title>
</cp:coreProperties>
</file>