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2BD1-60FC-4355-8F39-2FE55805A1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drick Winslow Taylor (1856-19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2F1-9F42-4BBF-9E74-567DA1BCB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0D0E-C038-446B-8146-3D1CB741F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F136-E636-4AE1-AAC1-4DBA0B1E2A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D40-7755-4E5F-B5D9-4B3DCDEB4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6CED-016F-4BE8-8F9E-81A64C75C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9AC4-04AC-447E-B79C-044E72759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48F-CEC5-4F34-89A6-A1D30178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13A-CF16-4DC9-A87E-BD2430C7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DA7-AA96-495C-9EEB-C0A53BC1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903-740F-4729-9EB0-A82BD88C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DD6-550E-45D6-84FA-A09BC05E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572E-3DF4-4FFA-81F9-F0691F52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2E0C-8EE4-4395-8C7C-481B4ADA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2D9E-8879-4D0A-A380-6BE7889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12B3-C25D-43E0-A60D-54D6742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9F18-BDB6-4D20-8F7C-9AE1D9A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A31-8D2D-4989-AE12-F163B87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ECA-7EC3-4390-8FD5-159AC8A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37E-27A2-4A78-A50A-7410875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E996-1AE8-4958-9B43-599E377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1EF9-6B03-4405-BF60-67B0D59D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46E7-964F-4279-8DCA-0F5E1286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5E9-0EBE-4460-9C24-1BB578D8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C95-5782-440F-9610-DA02E829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4D-CC2D-4162-A540-D1AF268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36A-671E-4755-BA07-8F8BAD67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6D8-0DFE-48D1-8A0C-0D45087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482-3DA9-4981-9D66-B39FB48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B56-72D5-4326-9099-ACB01C71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882-B635-4FF2-BCF1-9F137EE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A64F-0EAA-45C1-AD5D-AF02994B3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8FF-C9A3-4FEF-BE39-8BDC92D76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054"/>
          <p:cNvSpPr/>
          <p:nvPr/>
        </p:nvSpPr>
        <p:spPr>
          <a:xfrm>
            <a:off x="755640" y="2349360"/>
            <a:ext cx="7337520" cy="254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pter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agement The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333000"/>
            <a:ext cx="868680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Perspectives Over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150920" y="1773360"/>
            <a:ext cx="7397640" cy="4583160"/>
          </a:xfrm>
          <a:prstGeom prst="rect">
            <a:avLst/>
          </a:prstGeom>
          <a:solidFill>
            <a:srgbClr val="e7e5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224000" y="5229360"/>
            <a:ext cx="6324480" cy="726120"/>
            <a:chOff x="1224000" y="5229360"/>
            <a:chExt cx="6324480" cy="726120"/>
          </a:xfrm>
        </p:grpSpPr>
        <p:sp>
          <p:nvSpPr>
            <p:cNvPr id="106" name="AutoShape 5"/>
            <p:cNvSpPr/>
            <p:nvPr/>
          </p:nvSpPr>
          <p:spPr>
            <a:xfrm>
              <a:off x="3585960" y="5448240"/>
              <a:ext cx="3733920" cy="304560"/>
            </a:xfrm>
            <a:prstGeom prst="rightArrow">
              <a:avLst>
                <a:gd name="adj1" fmla="val 50000"/>
                <a:gd name="adj2" fmla="val 306501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3510000" y="522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1224000" y="542448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umanistic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39000" y="56181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971640" y="5661000"/>
            <a:ext cx="4190400" cy="614880"/>
            <a:chOff x="971640" y="5661000"/>
            <a:chExt cx="4190400" cy="614880"/>
          </a:xfrm>
        </p:grpSpPr>
        <p:sp>
          <p:nvSpPr>
            <p:cNvPr id="111" name="AutoShape 10"/>
            <p:cNvSpPr/>
            <p:nvPr/>
          </p:nvSpPr>
          <p:spPr>
            <a:xfrm>
              <a:off x="2266560" y="5862600"/>
              <a:ext cx="2361960" cy="304560"/>
            </a:xfrm>
            <a:prstGeom prst="rightArrow">
              <a:avLst>
                <a:gd name="adj1" fmla="val 50000"/>
                <a:gd name="adj2" fmla="val 193883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190600" y="5661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971640" y="583056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4552560" y="5938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3311640" y="4292640"/>
            <a:ext cx="4647600" cy="735840"/>
            <a:chOff x="3311640" y="4292640"/>
            <a:chExt cx="4647600" cy="735840"/>
          </a:xfrm>
        </p:grpSpPr>
        <p:sp>
          <p:nvSpPr>
            <p:cNvPr id="116" name="AutoShape 15"/>
            <p:cNvSpPr/>
            <p:nvPr/>
          </p:nvSpPr>
          <p:spPr>
            <a:xfrm>
              <a:off x="4987800" y="4521240"/>
              <a:ext cx="2666520" cy="304560"/>
            </a:xfrm>
            <a:prstGeom prst="rightArrow">
              <a:avLst>
                <a:gd name="adj1" fmla="val 50000"/>
                <a:gd name="adj2" fmla="val 218883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4911480" y="4292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7350120" y="4691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>
              <a:off x="3311640" y="448920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stems The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4032360" y="2457360"/>
            <a:ext cx="4572000" cy="767520"/>
            <a:chOff x="4032360" y="2457360"/>
            <a:chExt cx="4572000" cy="767520"/>
          </a:xfrm>
        </p:grpSpPr>
        <p:sp>
          <p:nvSpPr>
            <p:cNvPr id="121" name="AutoShape 20"/>
            <p:cNvSpPr/>
            <p:nvPr/>
          </p:nvSpPr>
          <p:spPr>
            <a:xfrm>
              <a:off x="7385040" y="2658960"/>
              <a:ext cx="914400" cy="331560"/>
            </a:xfrm>
            <a:prstGeom prst="rightArrow">
              <a:avLst>
                <a:gd name="adj1" fmla="val 50000"/>
                <a:gd name="adj2" fmla="val 68947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7309080" y="2457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2"/>
            <p:cNvSpPr/>
            <p:nvPr/>
          </p:nvSpPr>
          <p:spPr>
            <a:xfrm>
              <a:off x="7994880" y="2887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4032360" y="2627280"/>
              <a:ext cx="33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e Technology-Driven Workp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4"/>
          <p:cNvGrpSpPr/>
          <p:nvPr/>
        </p:nvGrpSpPr>
        <p:grpSpPr>
          <a:xfrm>
            <a:off x="4535640" y="2889360"/>
            <a:ext cx="4114800" cy="767520"/>
            <a:chOff x="4535640" y="2889360"/>
            <a:chExt cx="4114800" cy="767520"/>
          </a:xfrm>
        </p:grpSpPr>
        <p:sp>
          <p:nvSpPr>
            <p:cNvPr id="126" name="AutoShape 25"/>
            <p:cNvSpPr/>
            <p:nvPr/>
          </p:nvSpPr>
          <p:spPr>
            <a:xfrm>
              <a:off x="7126560" y="3090960"/>
              <a:ext cx="1218960" cy="304920"/>
            </a:xfrm>
            <a:prstGeom prst="rightArrow">
              <a:avLst>
                <a:gd name="adj1" fmla="val 50000"/>
                <a:gd name="adj2" fmla="val 99941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6"/>
            <p:cNvSpPr/>
            <p:nvPr/>
          </p:nvSpPr>
          <p:spPr>
            <a:xfrm>
              <a:off x="7050240" y="28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7"/>
            <p:cNvSpPr/>
            <p:nvPr/>
          </p:nvSpPr>
          <p:spPr>
            <a:xfrm>
              <a:off x="8040960" y="3319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8"/>
            <p:cNvSpPr/>
            <p:nvPr/>
          </p:nvSpPr>
          <p:spPr>
            <a:xfrm>
              <a:off x="4535640" y="305928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arning 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29"/>
          <p:cNvGrpSpPr/>
          <p:nvPr/>
        </p:nvGrpSpPr>
        <p:grpSpPr>
          <a:xfrm>
            <a:off x="3959280" y="3789360"/>
            <a:ext cx="4038480" cy="726120"/>
            <a:chOff x="3959280" y="3789360"/>
            <a:chExt cx="4038480" cy="726120"/>
          </a:xfrm>
        </p:grpSpPr>
        <p:sp>
          <p:nvSpPr>
            <p:cNvPr id="131" name="AutoShape 30"/>
            <p:cNvSpPr/>
            <p:nvPr/>
          </p:nvSpPr>
          <p:spPr>
            <a:xfrm>
              <a:off x="5864040" y="3982680"/>
              <a:ext cx="1828800" cy="30456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1"/>
            <p:cNvSpPr/>
            <p:nvPr/>
          </p:nvSpPr>
          <p:spPr>
            <a:xfrm>
              <a:off x="5788080" y="37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32"/>
            <p:cNvSpPr/>
            <p:nvPr/>
          </p:nvSpPr>
          <p:spPr>
            <a:xfrm>
              <a:off x="3959280" y="39510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gency 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7388280" y="41781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3203640" y="3284640"/>
            <a:ext cx="5041080" cy="695880"/>
            <a:chOff x="3203640" y="3284640"/>
            <a:chExt cx="5041080" cy="695880"/>
          </a:xfrm>
        </p:grpSpPr>
        <p:sp>
          <p:nvSpPr>
            <p:cNvPr id="136" name="AutoShape 35"/>
            <p:cNvSpPr/>
            <p:nvPr/>
          </p:nvSpPr>
          <p:spPr>
            <a:xfrm>
              <a:off x="6396840" y="3495600"/>
              <a:ext cx="1343880" cy="304200"/>
            </a:xfrm>
            <a:prstGeom prst="rightArrow">
              <a:avLst>
                <a:gd name="adj1" fmla="val 50000"/>
                <a:gd name="adj2" fmla="val 110444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36"/>
            <p:cNvSpPr/>
            <p:nvPr/>
          </p:nvSpPr>
          <p:spPr>
            <a:xfrm>
              <a:off x="6312600" y="328464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>
              <a:off x="3203640" y="3463920"/>
              <a:ext cx="319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otal Quality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38"/>
            <p:cNvSpPr/>
            <p:nvPr/>
          </p:nvSpPr>
          <p:spPr>
            <a:xfrm>
              <a:off x="7572960" y="364320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39"/>
          <p:cNvGrpSpPr/>
          <p:nvPr/>
        </p:nvGrpSpPr>
        <p:grpSpPr>
          <a:xfrm>
            <a:off x="1476360" y="4689360"/>
            <a:ext cx="6248520" cy="735840"/>
            <a:chOff x="1476360" y="4689360"/>
            <a:chExt cx="6248520" cy="735840"/>
          </a:xfrm>
        </p:grpSpPr>
        <p:sp>
          <p:nvSpPr>
            <p:cNvPr id="141" name="AutoShape 40"/>
            <p:cNvSpPr/>
            <p:nvPr/>
          </p:nvSpPr>
          <p:spPr>
            <a:xfrm>
              <a:off x="4600800" y="4916520"/>
              <a:ext cx="2895480" cy="304920"/>
            </a:xfrm>
            <a:prstGeom prst="rightArrow">
              <a:avLst>
                <a:gd name="adj1" fmla="val 50000"/>
                <a:gd name="adj2" fmla="val 237397"/>
              </a:avLst>
            </a:prstGeom>
            <a:solidFill>
              <a:srgbClr val="4a86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1"/>
            <p:cNvSpPr/>
            <p:nvPr/>
          </p:nvSpPr>
          <p:spPr>
            <a:xfrm>
              <a:off x="4524480" y="4689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42"/>
            <p:cNvSpPr/>
            <p:nvPr/>
          </p:nvSpPr>
          <p:spPr>
            <a:xfrm>
              <a:off x="1476360" y="488304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Science Perspe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43"/>
            <p:cNvSpPr/>
            <p:nvPr/>
          </p:nvSpPr>
          <p:spPr>
            <a:xfrm>
              <a:off x="7115400" y="50878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44"/>
          <p:cNvSpPr/>
          <p:nvPr/>
        </p:nvSpPr>
        <p:spPr>
          <a:xfrm>
            <a:off x="7885080" y="5985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5"/>
          <p:cNvSpPr/>
          <p:nvPr/>
        </p:nvSpPr>
        <p:spPr>
          <a:xfrm>
            <a:off x="1150920" y="60580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7"/>
          <p:cNvSpPr/>
          <p:nvPr/>
        </p:nvSpPr>
        <p:spPr>
          <a:xfrm>
            <a:off x="7596360" y="2060640"/>
            <a:ext cx="111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hibit 2.1, p.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hools of Management Th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3720" y="1571400"/>
            <a:ext cx="8452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ical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cientific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dministrative Princip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al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uman  Relationships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Science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s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3360" y="499680"/>
            <a:ext cx="8440920" cy="105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Scientific Management: Frederick Taylor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856-19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3720" y="1714680"/>
            <a:ext cx="845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derick Tay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an American mechanical engineer who wanted to improve industrial efficiency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is considered as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scientific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d at Midvale Steel (beginning as a common worker, rising to chief engineer, in 6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d “soldiering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ers doing less than they were capable 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lack of training, fear of losing work or rate cu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egan with time study and motivation pl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3360" y="1699920"/>
            <a:ext cx="8396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fic Management as defined by Frederick Taylo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ystematic study of the relationships between people and tasks to redesign the work for higher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Taylor wanted to reduce the time a worker spent on each task by optimizing the way the task was don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Scientific Management: Frederick Taylor </a:t>
            </a:r>
            <a:br>
              <a:rPr sz="29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(1856-191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23888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4 Princip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les to increase efficien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Study the way the job is per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w &amp; determine new ways to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ather detailed, time and motion inform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y different methods to see which is b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Organize the new method into rules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ach to all work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Select workers whose skills match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ules set in Step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Establish a fair level of 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ay for higher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kers should benefit from higher outpu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67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entific Management: Summa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9640" y="1413000"/>
            <a:ext cx="81043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for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 examination of job tas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of training and sel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t……..*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workers were robot without social needs or higher order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d all individuals were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nored worker’s potential to contribute ideas, not just lab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3360" y="476280"/>
            <a:ext cx="8440920" cy="100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 Administrative Principles Theory: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enry Fayol (1841–1925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3720" y="1773360"/>
            <a:ext cx="8452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nri Fay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41- 1925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rench mining engine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He was one of the most influential contributors to modern concepts of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Focu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ganization rather than the individu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cribed the management functions of planning, organizing, coordinating, and controll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693432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520" y="1390680"/>
            <a:ext cx="8512200" cy="51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nri Fayol, developed a set of 14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Division of work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s for job specializ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yol  noted firms can have too much specialization leading to poor quality and worker invol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Authority and Responsibil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yol included both formal and informal authority resulting from special expertis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Unity of Command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ployees should have only one bos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Line of Author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clear chain from top to bottom of the fir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entralization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gree to which authority rests at the very top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95280" y="1483920"/>
            <a:ext cx="813744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Unity of Direction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plan of action to guide the organiza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Equity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all employees fairly in justice and  respect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. 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Order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employee is put where they have  the most value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buClr>
                <a:srgbClr val="790015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Initiative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courage innov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2480" indent="-45396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Discipline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ectful employees needed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655344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5560" y="1557360"/>
            <a:ext cx="845172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69840" indent="-58896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ompensation of Employees 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ayment system contributes to success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Stability of Employees 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-term employment is importa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General interest over individual interest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rganization takes precedence over the individ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9840" indent="-58896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Common spirit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re enthusiasm or loyalty to the organiz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4544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ol’s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Management Histor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understand where ideas came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ee the role of social, legal, political, economic, technological factors in developing management thought and practi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yol’s 14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79080" y="1600200"/>
            <a:ext cx="25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ization of la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or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y of com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y of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ordination of individual inte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u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62520" y="1600200"/>
            <a:ext cx="257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r chain (line of autho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nel te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rit de cor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havioral Management Schoo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9680" y="1557360"/>
            <a:ext cx="811044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ocuses on the way a manager should personally manage to motivate employ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ary Parker Follett: an influential leader in early managerial theory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ggested workers help in analyzing their jobs for improvem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700" spc="-1" strike="noStrike">
                <a:solidFill>
                  <a:srgbClr val="790015"/>
                </a:solidFill>
                <a:latin typeface="Calibri"/>
              </a:rPr>
              <a:t>work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knows the best way to improve the job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workers have the knowledge of the task, then they should control the tas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200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y X and 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67920"/>
            <a:ext cx="8382240" cy="530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uglas McGregor proposed the two different sets of worker assum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790015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Theory 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- Classical Theory 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sumes the average worker is lazy, dislikes work and will do as little as possibl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anagers must closely supervise and control through reward and punish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790015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790015"/>
                </a:solidFill>
                <a:latin typeface="Calibri"/>
              </a:rPr>
              <a:t>Theory Y- Human relationships Theory 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sumes workers are not lazy, want to do a good job and the job itself will determine if the worker likes the wor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rs should allow the workers feel freedom, and exercise initiative and self-dir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480960"/>
            <a:ext cx="8440560" cy="9669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X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ory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5219640" y="2957400"/>
            <a:ext cx="2963880" cy="3202200"/>
          </a:xfrm>
          <a:prstGeom prst="rect">
            <a:avLst/>
          </a:prstGeom>
          <a:solidFill>
            <a:srgbClr val="790015"/>
          </a:solidFill>
          <a:ln w="12600">
            <a:solidFill>
              <a:srgbClr val="000000"/>
            </a:solidFill>
            <a:prstDash val="lgDash"/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219640" y="2008080"/>
            <a:ext cx="2957400" cy="9241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898600" y="2219400"/>
            <a:ext cx="184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y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219640" y="2905200"/>
            <a:ext cx="324000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ee is not laz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st create work setting to build initi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ovide authority to work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55640" y="2905200"/>
            <a:ext cx="2967120" cy="3201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prstDash val="lgDash"/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55640" y="2008080"/>
            <a:ext cx="3006720" cy="9241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461240" y="2200320"/>
            <a:ext cx="174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914400" y="3038400"/>
            <a:ext cx="300996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mployee is laz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nagers mu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osely superv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reate strict rules &amp; defined rew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914400" y="6165720"/>
            <a:ext cx="286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89604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05816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Science The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approach to management that focuses on the use of  accurate quantitative techniques to help managers make maximum use of organizational resources to produce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7708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ntitative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athematical techniques, like linear programming, modeling, simulation and chaos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s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agers a set of techniques they can use to analyze any aspect of an organization’s production system to increase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tal quality manage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analyzing an organization’s input, conversion, and output activities to increase product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information system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managers design systems that provide information that is vital for effective decision mak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Scienc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04280"/>
            <a:ext cx="66657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The System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0920" y="1483920"/>
            <a:ext cx="79930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at’s the system approa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 basic types of the system: closed and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558e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Closed system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re not influenced by and do not interact with their environ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open system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ynamically interacts with its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82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n ope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219320" y="1752480"/>
            <a:ext cx="5638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295280" y="495288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219320" y="5562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n Open System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880" y="148428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n organization is a system that interacts with and depends upon its environ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Organization’s 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: any group that is affected by  organizational decisions and policies. The manager’s job is to coordinate all stakeholders to achieve the organization’s 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Organizational survival often depends on successful interactions with the extern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jon69447_0204"/>
          <p:cNvPicPr/>
          <p:nvPr/>
        </p:nvPicPr>
        <p:blipFill>
          <a:blip r:embed="rId1"/>
          <a:stretch/>
        </p:blipFill>
        <p:spPr>
          <a:xfrm>
            <a:off x="682560" y="642960"/>
            <a:ext cx="7951680" cy="58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ustrial Revolution results a major turning point in human history; almost every aspect of daily life was eventually influenced in some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dustrial Revolution – a change from making things by hand to making them in fact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dustrial Revolution –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entury </a:t>
            </a:r>
            <a:br>
              <a:rPr sz="29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volution that changed the world forev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Open-Systems 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280" y="1628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pu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acquisition of external resources to produce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ver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nsforms the inputs into outputs of finished goods and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release of finished goods  and services to its extern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27416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osed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280" y="1557000"/>
            <a:ext cx="81471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lf-contained system that is not affected by changes in its external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ly to experience entropy and lose its ability to control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riginal steam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6041880" cy="45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m locomo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62940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 cotton fa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45400" cy="43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telegraph1"/>
          <p:cNvPicPr/>
          <p:nvPr/>
        </p:nvPicPr>
        <p:blipFill>
          <a:blip r:embed="rId1"/>
          <a:stretch/>
        </p:blipFill>
        <p:spPr>
          <a:xfrm>
            <a:off x="1219320" y="838080"/>
            <a:ext cx="27651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TelegraphOperattor"/>
          <p:cNvPicPr/>
          <p:nvPr/>
        </p:nvPicPr>
        <p:blipFill>
          <a:blip r:embed="rId2"/>
          <a:stretch/>
        </p:blipFill>
        <p:spPr>
          <a:xfrm>
            <a:off x="4800600" y="1371600"/>
            <a:ext cx="317664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2699484697_7afa89f6b0"/>
          <p:cNvPicPr/>
          <p:nvPr/>
        </p:nvPicPr>
        <p:blipFill>
          <a:blip r:embed="rId3"/>
          <a:stretch/>
        </p:blipFill>
        <p:spPr>
          <a:xfrm>
            <a:off x="1676520" y="3276720"/>
            <a:ext cx="202860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dustrial Revolution – N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3720" y="1557000"/>
            <a:ext cx="8452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ufactu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 engines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 production through standardization and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 powered 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Organizations and New Approaches to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trans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ly – family farms, small worksho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Industrial Revolution – large organizations, requiring management skill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w demands 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professional managers (as opposed to own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plan, structure, and schedule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 to effici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worker training and socialization to factory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15:25:38Z</dcterms:created>
  <dc:creator>Authorized Gateway Customer</dc:creator>
  <dc:description/>
  <dc:language>en-US</dc:language>
  <cp:lastModifiedBy>User</cp:lastModifiedBy>
  <cp:lastPrinted>2009-04-22T19:24:48Z</cp:lastPrinted>
  <dcterms:modified xsi:type="dcterms:W3CDTF">2014-09-13T08:23:10Z</dcterms:modified>
  <cp:revision>52</cp:revision>
  <dc:subject>Irwin project</dc:subject>
  <dc:title>Chapter 2</dc:title>
</cp:coreProperties>
</file>