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5C75-408E-4D25-B68C-75A9798C7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3FFE-DCA8-49BE-8924-6874A1F81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181-7D69-491D-AE7C-9C16C00E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7B4-12FB-4C8E-865E-ECB49592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3EE-BA8C-4DEE-9BC3-3680F3EF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8B8-2C33-40D3-8213-9EA1D1FB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7E4-C120-47FD-AC99-068EDA33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FEA-1302-4195-8989-65E269E0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628-B5EF-4F10-A681-D2BF30A8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8FB-F5DC-46BF-8308-E8A4945E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98C-013E-4522-B83A-1E021547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CEE-353F-45FC-AB2A-A94D0CA2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4CE-632B-4DA4-BF3D-F887B662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726-DB91-4C29-B0B4-87EABD43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7141-78F8-4E8E-8661-E2840607F6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133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ecision Ma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s can be revised(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د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r updated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all possible actionabl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 the cost/benefits of each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k out additional points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Eight:  Put Your Plan Into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cost for each person involved (client, family members, co-workers, agenc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 ethical dilemm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a situation wi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certainty about what is right to do from a moral or ethical persp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For examp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. Give more profits or increase the salar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Example 2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 new technology is being launched which is good for the company as well as the customers. But, if this is brought into use, a lesser man-power is required for the organization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entrepreneur is now in an ethical dilemma whether he wants to better his clients with good services or be loyal to his employees who have helped the company grow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unpleasantness of the situation arises when neither the clients nor the employees deserve to suffer and it is the entrepreneur’s call to tak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amework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cribe the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rmine whether there is an ethical issue or an ethical dile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 and rank the key values and princip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ther your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any applicable Code of Eth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rmine the op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a course of 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?  What is the surroundings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Tw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termine Whether There Is an 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lemma becomes ethical when the good or bad options seem to have a moral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avoidance of harm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do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safe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Three:  Identify and Rank the Key Values and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that a decision to a dilemma which goes against an individual’s personal set of values has very little chance of suc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38:31Z</dcterms:created>
  <dc:creator>OISNDS</dc:creator>
  <dc:description/>
  <dc:language>en-US</dc:language>
  <cp:lastModifiedBy>User</cp:lastModifiedBy>
  <dcterms:modified xsi:type="dcterms:W3CDTF">2014-10-11T21:24:04Z</dcterms:modified>
  <cp:revision>26</cp:revision>
  <dc:subject/>
  <dc:title>A Framework for Ethical Decision Making</dc:title>
</cp:coreProperties>
</file>