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A7705-3A30-46D8-8D20-CA67C1D82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65075-13B5-42A4-8556-7AB1DFC694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AA5D-1A4A-4BFA-B7E0-C059C8B5A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90D2-29BB-4F43-B701-098E01F2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F52C-352D-4789-AA03-8DE4EF247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0194-AFDA-4966-8D7C-6CA694583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622F-CAC1-4919-B01E-53016956B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A925-9D82-4924-B359-1C664046B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EAAD-347F-4F0C-8157-A899D1E11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0C6E-8253-4E40-A927-7D3A24292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7A78-C60C-410B-ABB9-BEBA48302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CED7-918A-40C6-9EFE-51C0F46A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8DA6-FD54-4B86-82A2-432A7027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D8C8-D89C-489B-96F4-75F37A11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D5645-5E9A-46B5-A1F2-956955A7F7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financial-dictionary.thefreedictionary.com/Employees" TargetMode="External"/><Relationship Id="rId2" Type="http://schemas.openxmlformats.org/officeDocument/2006/relationships/hyperlink" Target="http://financial-dictionary.thefreedictionary.com/Investor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21333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hapter 3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thical Decision Mak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Five:  Review Any Applicable Code of Eth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ok for the follow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-  mission stat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-  values base of the organ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-  ethical principles to guide pract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-  ethical stand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des can be revised(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تعدل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or updated as need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Six:  Determine the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st all possible actionable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igh the cost/benefits of each 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ek out additional points of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Seven:  Select a Course of 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move the least desirable op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move any which you can not put into a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move any options which break the values systems of those affect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ognize that your final choice will be impacted by your personal valu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Eight:  Put Your Plan Into 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nk about the outcomes with a sense that you have truly approached this ethical dilemma with the best of intentions and to the best of your abil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Nine:  Evaluate The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aluate the cost for each person involved (client, family members, co-workers, agency, et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ider submitting your most difficult cases to an ethics review board for feedbac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thical Dilem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An ethical dilemma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s a situation wi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ncertainty about what is right to do from a moral or ethical perspectiv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0000"/>
                </a:solidFill>
                <a:uFillTx/>
                <a:latin typeface="Calibri"/>
              </a:rPr>
              <a:t>For exampl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the manager of a company may be put in a position in which he must choose between the interests of his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employee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nd his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investor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. Give more profits or increase the salary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Ethical Dilemm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0000"/>
                </a:solidFill>
                <a:uFillTx/>
                <a:latin typeface="Calibri"/>
              </a:rPr>
              <a:t>Example 2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A new technology is being launched which is good for the company as well as the customers. But, if this is brought into use, a lesser man-power is required for the organization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e entrepreneur is now in an ethical dilemma whether he wants to better his clients with good services or be loyal to his employees who have helped the company grow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e unpleasantness of the situation arises when neither the clients nor the employees deserve to suffer and it is the entrepreneur’s call to take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ing Ethical Decis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king good ethical decisions to solve Ethical Dilemma requires a trained sensitivity to ethical issues and a practiced method for exploring the ethical aspects of a decis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ving a method for ethical decision making is absolutely essential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thical decision should be based on ethical principles and codes rather than on emotions, thoughts, fixed polic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ramework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Step One: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scribe the proble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Step Two: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termine whether there is an ethical issue or an ethical dile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Step Three: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dentify and rank the key values and princip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Step Four: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ather your inform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Step Five: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view any applicable Code of Ethic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Step Six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termine the op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Step Seven: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lect a course of ac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ep Eight: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t your plan into a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ep Nine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aluate the resul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One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 the Probl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must first describe the problem and ensure that it’s actually a moral dilemma that needs to follow an ethical mode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ider the nature of the problem and any signs of the problem and ensure that you’re attempting to solve the issue and not just it’s sig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ircumstances affect the problem definition (for whom does the problem exist?  What is the surroundings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Two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Determine Whether There Is an Ethical Dilem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lemma becomes ethical when the good or bad options seem to have a moral compon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.g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vacy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avoidance of harm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eedom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safety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rms of an ethical dilemma must be ethical in nature, not legal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something is a law, you then have the ethical choice to follow the law or no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Three:  Identify and Rank the Key Values and Princi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reasons can you provide for prioritizing one competing value over anothe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derstand that a decision to a dilemma which goes against an individual’s personal set of values has very little chance of succes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Four: Gather Your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 you hav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all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known fac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 you understand the applicable laws or legaliti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 you have all relevant policies available to review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you clear about the individual’s views and personal valu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*  Don’t hesitate to seek out consult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0T20:38:31Z</dcterms:created>
  <dc:creator>OISNDS</dc:creator>
  <dc:description/>
  <dc:language>en-US</dc:language>
  <cp:lastModifiedBy>User</cp:lastModifiedBy>
  <dcterms:modified xsi:type="dcterms:W3CDTF">2014-10-11T21:24:04Z</dcterms:modified>
  <cp:revision>26</cp:revision>
  <dc:subject/>
  <dc:title>A Framework for Ethical Decision Making</dc:title>
</cp:coreProperties>
</file>