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E185-BBEA-4211-B15C-EEFA3236B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B4C9-8870-4709-9F5F-C122FEB7261F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338-640F-4EA7-A766-F13C840840A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F4E-BD6A-4F3A-B5E8-41A58116F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084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73392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Ethical Theo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33760" y="1981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results for the future situations and ethical dilemm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: (Assignment 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 man-power is required for the organiz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satisfy his customers with good services or be loyal to his employees who have helped the company gro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ustomers nor the employees deserve to suffer and it is the entrepreneur’s call to tak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Question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managers ensure that ethical issues are considered in business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 encourage ethical decision making, firm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re and promote people with a well grounded sense of personal eth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rain from promoting individuals who have acted uneth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employees should find out as much as they can about the ethical climate in an organization prior to taking a 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n organizational culture that places a  high value on ethical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light importance of code of eth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 a system of incentives and rewards that recognize people who engage in ethical behavior and sanction those engage in unethical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 moral cour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s managers to walk away from a decision that is profitable, but unethical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s the  employees the strength to say no to the  manager who orders them to pursue actions that are unethi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a comprehensive framework for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amine the strength of ethical issues as an important element influencing the ethical decision making proc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individual factors that may influence ethical decision making in busines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organizational factors that may influence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Ethics Officer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ncourage ethical behavior in a business, a number of firms now have ethics offi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hics officers ensure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s are trained to be ethically a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considerations enter decision-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code of ethics is follow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ethical theories exist and theories can be applied to different situations to inform our thinking and support decision mak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Consequentialism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اق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tialist ethics holds the view that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moral response is related to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utco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ntral aim is the principle of 'maximizing the greatest good for the greatest number'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'good' referred to a variety of ways and may refer to values or 'utility' such as happiness, or another life enhancing outc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Deontology 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"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زام وواج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is based o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uties and righ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her than the outcomes of any a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focuses on rules, obligations and du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consider that acting from duty is viewed as acting ethical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Virtue Ethics :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فضيل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is based on the moral character, or virtues of th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tues are fixed character traits which are held to be societally valuable such as truth-telling, trustworthines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is about an individual of good character doing the right 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its of Strong Ethical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Strong Personal Charac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a Passion to Do Ri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Proactiv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Consider Stakeholders’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Role Models for the Organization’s Va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Transparent and Actively Involved in Organizational Decision 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6-10-12T13:24:30Z</dcterms:modified>
  <cp:revision>57</cp:revision>
  <dc:subject/>
  <dc:title>Ethics and Business</dc:title>
</cp:coreProperties>
</file>