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6DE-D954-4489-8D0A-C53186D62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F9E-4785-4D45-B8A7-B70CB48598B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830-812D-4897-A108-4BBABC8DB34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943-869D-4598-B70A-965EE8CD37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technology is being launched which is good for the company as well as the customers. But, if this is brought into use, a less employees is required for the organ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ny is now in an ethical dilemma whether wants to satisfy the customers with good services or be loyal to the employees who have helped the company gr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pleasantness of the situation arises when neither the customers nor the employees deserve to suffer and it is the comany’s call to tak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Encourage Ethical Decision M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7-03-06T19:28:28Z</dcterms:modified>
  <cp:revision>60</cp:revision>
  <dc:subject/>
  <dc:title>Ethics and Business</dc:title>
</cp:coreProperties>
</file>