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D27-3847-4A63-AE15-2616152FA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2C3-37B3-45B3-AE09-955A5B778C6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86D-4CEF-4DB8-A7B5-F2A1597C6C3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668-F01E-455F-9CD7-C06E3B4C13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technology is being launched which is good for the company as well as the customers. But, if this is brought into use, a less employees is required for the organ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ny is now in an ethical dilemma whether wants to satisfy the customers with good services or be loyal to the employees who have helped the company gr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pleasantness of the situation arises when neither the customers nor the employees deserve to suffer and it is the comany’s call to tak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Encourage Ethical Decision M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7-03-06T19:28:28Z</dcterms:modified>
  <cp:revision>60</cp:revision>
  <dc:subject/>
  <dc:title>Ethics and Business</dc:title>
</cp:coreProperties>
</file>