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A428-5799-47B7-B35D-0BE42F47E6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681A-094F-4B10-B0A5-EB78482F6DC1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4580-21A9-4C78-9DD3-755E83D89EB6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EB2D-3DF6-4F3F-8CAA-A8166833F9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Picture2"/>
          <p:cNvPicPr/>
          <p:nvPr/>
        </p:nvPicPr>
        <p:blipFill>
          <a:blip r:embed="rId2"/>
          <a:stretch/>
        </p:blipFill>
        <p:spPr>
          <a:xfrm>
            <a:off x="-76320" y="6324480"/>
            <a:ext cx="9296640" cy="609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" name="Group 30"/>
          <p:cNvGrpSpPr/>
          <p:nvPr/>
        </p:nvGrpSpPr>
        <p:grpSpPr>
          <a:xfrm>
            <a:off x="0" y="6364440"/>
            <a:ext cx="1908000" cy="493560"/>
            <a:chOff x="0" y="6364440"/>
            <a:chExt cx="1908000" cy="493560"/>
          </a:xfrm>
        </p:grpSpPr>
        <p:sp>
          <p:nvSpPr>
            <p:cNvPr id="4" name="AutoShape 31"/>
            <p:cNvSpPr/>
            <p:nvPr/>
          </p:nvSpPr>
          <p:spPr>
            <a:xfrm>
              <a:off x="0" y="6364440"/>
              <a:ext cx="190800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32"/>
            <p:cNvSpPr/>
            <p:nvPr/>
          </p:nvSpPr>
          <p:spPr>
            <a:xfrm>
              <a:off x="189000" y="6562800"/>
              <a:ext cx="1530360" cy="93600"/>
            </a:xfrm>
            <a:custGeom>
              <a:avLst/>
              <a:gdLst/>
              <a:ahLst/>
              <a:rect l="l" t="t" r="r" b="b"/>
              <a:pathLst>
                <a:path w="21137" h="1300">
                  <a:moveTo>
                    <a:pt x="545" y="9"/>
                  </a:moveTo>
                  <a:cubicBezTo>
                    <a:pt x="672" y="9"/>
                    <a:pt x="672" y="9"/>
                    <a:pt x="672" y="9"/>
                  </a:cubicBezTo>
                  <a:cubicBezTo>
                    <a:pt x="1241" y="1285"/>
                    <a:pt x="1241" y="1285"/>
                    <a:pt x="1241" y="1285"/>
                  </a:cubicBezTo>
                  <a:cubicBezTo>
                    <a:pt x="1055" y="1285"/>
                    <a:pt x="1055" y="1285"/>
                    <a:pt x="1055" y="1285"/>
                  </a:cubicBezTo>
                  <a:cubicBezTo>
                    <a:pt x="886" y="909"/>
                    <a:pt x="886" y="909"/>
                    <a:pt x="886" y="909"/>
                  </a:cubicBezTo>
                  <a:cubicBezTo>
                    <a:pt x="345" y="909"/>
                    <a:pt x="345" y="909"/>
                    <a:pt x="345" y="909"/>
                  </a:cubicBezTo>
                  <a:cubicBezTo>
                    <a:pt x="186" y="1285"/>
                    <a:pt x="186" y="1285"/>
                    <a:pt x="186" y="1285"/>
                  </a:cubicBezTo>
                  <a:cubicBezTo>
                    <a:pt x="0" y="1285"/>
                    <a:pt x="0" y="1285"/>
                    <a:pt x="0" y="1285"/>
                  </a:cubicBezTo>
                  <a:lnTo>
                    <a:pt x="545" y="9"/>
                  </a:lnTo>
                  <a:close/>
                  <a:moveTo>
                    <a:pt x="812" y="748"/>
                  </a:moveTo>
                  <a:cubicBezTo>
                    <a:pt x="607" y="287"/>
                    <a:pt x="607" y="287"/>
                    <a:pt x="607" y="287"/>
                  </a:cubicBezTo>
                  <a:cubicBezTo>
                    <a:pt x="417" y="748"/>
                    <a:pt x="417" y="748"/>
                    <a:pt x="417" y="748"/>
                  </a:cubicBezTo>
                  <a:lnTo>
                    <a:pt x="812" y="748"/>
                  </a:lnTo>
                  <a:close/>
                  <a:moveTo>
                    <a:pt x="1678" y="16"/>
                  </a:moveTo>
                  <a:cubicBezTo>
                    <a:pt x="1860" y="16"/>
                    <a:pt x="1860" y="16"/>
                    <a:pt x="1860" y="16"/>
                  </a:cubicBezTo>
                  <a:cubicBezTo>
                    <a:pt x="1860" y="1119"/>
                    <a:pt x="1860" y="1119"/>
                    <a:pt x="1860" y="1119"/>
                  </a:cubicBezTo>
                  <a:cubicBezTo>
                    <a:pt x="2431" y="1119"/>
                    <a:pt x="2431" y="1119"/>
                    <a:pt x="2431" y="1119"/>
                  </a:cubicBezTo>
                  <a:cubicBezTo>
                    <a:pt x="2431" y="1285"/>
                    <a:pt x="2431" y="1285"/>
                    <a:pt x="2431" y="1285"/>
                  </a:cubicBezTo>
                  <a:cubicBezTo>
                    <a:pt x="1678" y="1285"/>
                    <a:pt x="1678" y="1285"/>
                    <a:pt x="1678" y="1285"/>
                  </a:cubicBezTo>
                  <a:lnTo>
                    <a:pt x="1678" y="16"/>
                  </a:lnTo>
                  <a:close/>
                  <a:moveTo>
                    <a:pt x="4392" y="16"/>
                  </a:moveTo>
                  <a:cubicBezTo>
                    <a:pt x="4573" y="16"/>
                    <a:pt x="4573" y="16"/>
                    <a:pt x="4573" y="16"/>
                  </a:cubicBezTo>
                  <a:cubicBezTo>
                    <a:pt x="4061" y="1290"/>
                    <a:pt x="4061" y="1290"/>
                    <a:pt x="4061" y="1290"/>
                  </a:cubicBezTo>
                  <a:cubicBezTo>
                    <a:pt x="4021" y="1290"/>
                    <a:pt x="4021" y="1290"/>
                    <a:pt x="4021" y="1290"/>
                  </a:cubicBezTo>
                  <a:cubicBezTo>
                    <a:pt x="3606" y="258"/>
                    <a:pt x="3606" y="258"/>
                    <a:pt x="3606" y="258"/>
                  </a:cubicBezTo>
                  <a:cubicBezTo>
                    <a:pt x="3187" y="1290"/>
                    <a:pt x="3187" y="1290"/>
                    <a:pt x="3187" y="1290"/>
                  </a:cubicBezTo>
                  <a:cubicBezTo>
                    <a:pt x="3147" y="1290"/>
                    <a:pt x="3147" y="1290"/>
                    <a:pt x="3147" y="1290"/>
                  </a:cubicBezTo>
                  <a:cubicBezTo>
                    <a:pt x="2636" y="16"/>
                    <a:pt x="2636" y="16"/>
                    <a:pt x="2636" y="16"/>
                  </a:cubicBezTo>
                  <a:cubicBezTo>
                    <a:pt x="2819" y="16"/>
                    <a:pt x="2819" y="16"/>
                    <a:pt x="2819" y="16"/>
                  </a:cubicBezTo>
                  <a:cubicBezTo>
                    <a:pt x="3168" y="891"/>
                    <a:pt x="3168" y="891"/>
                    <a:pt x="3168" y="891"/>
                  </a:cubicBezTo>
                  <a:cubicBezTo>
                    <a:pt x="3521" y="16"/>
                    <a:pt x="3521" y="16"/>
                    <a:pt x="3521" y="16"/>
                  </a:cubicBezTo>
                  <a:cubicBezTo>
                    <a:pt x="3693" y="16"/>
                    <a:pt x="3693" y="16"/>
                    <a:pt x="3693" y="16"/>
                  </a:cubicBezTo>
                  <a:cubicBezTo>
                    <a:pt x="4047" y="891"/>
                    <a:pt x="4047" y="891"/>
                    <a:pt x="4047" y="891"/>
                  </a:cubicBezTo>
                  <a:lnTo>
                    <a:pt x="4392" y="16"/>
                  </a:lnTo>
                  <a:close/>
                  <a:moveTo>
                    <a:pt x="5343" y="9"/>
                  </a:moveTo>
                  <a:cubicBezTo>
                    <a:pt x="5470" y="9"/>
                    <a:pt x="5470" y="9"/>
                    <a:pt x="5470" y="9"/>
                  </a:cubicBezTo>
                  <a:cubicBezTo>
                    <a:pt x="6039" y="1285"/>
                    <a:pt x="6039" y="1285"/>
                    <a:pt x="6039" y="1285"/>
                  </a:cubicBezTo>
                  <a:cubicBezTo>
                    <a:pt x="5853" y="1285"/>
                    <a:pt x="5853" y="1285"/>
                    <a:pt x="5853" y="1285"/>
                  </a:cubicBezTo>
                  <a:cubicBezTo>
                    <a:pt x="5685" y="909"/>
                    <a:pt x="5685" y="909"/>
                    <a:pt x="5685" y="909"/>
                  </a:cubicBezTo>
                  <a:cubicBezTo>
                    <a:pt x="5143" y="909"/>
                    <a:pt x="5143" y="909"/>
                    <a:pt x="5143" y="909"/>
                  </a:cubicBezTo>
                  <a:cubicBezTo>
                    <a:pt x="4984" y="1285"/>
                    <a:pt x="4984" y="1285"/>
                    <a:pt x="4984" y="1285"/>
                  </a:cubicBezTo>
                  <a:cubicBezTo>
                    <a:pt x="4798" y="1285"/>
                    <a:pt x="4798" y="1285"/>
                    <a:pt x="4798" y="1285"/>
                  </a:cubicBezTo>
                  <a:lnTo>
                    <a:pt x="5343" y="9"/>
                  </a:lnTo>
                  <a:close/>
                  <a:moveTo>
                    <a:pt x="5610" y="748"/>
                  </a:moveTo>
                  <a:cubicBezTo>
                    <a:pt x="5405" y="287"/>
                    <a:pt x="5405" y="287"/>
                    <a:pt x="5405" y="287"/>
                  </a:cubicBezTo>
                  <a:cubicBezTo>
                    <a:pt x="5215" y="748"/>
                    <a:pt x="5215" y="748"/>
                    <a:pt x="5215" y="748"/>
                  </a:cubicBezTo>
                  <a:lnTo>
                    <a:pt x="5610" y="748"/>
                  </a:lnTo>
                  <a:close/>
                  <a:moveTo>
                    <a:pt x="7109" y="16"/>
                  </a:moveTo>
                  <a:cubicBezTo>
                    <a:pt x="7330" y="16"/>
                    <a:pt x="7330" y="16"/>
                    <a:pt x="7330" y="16"/>
                  </a:cubicBezTo>
                  <a:cubicBezTo>
                    <a:pt x="6861" y="614"/>
                    <a:pt x="6861" y="614"/>
                    <a:pt x="6861" y="614"/>
                  </a:cubicBezTo>
                  <a:cubicBezTo>
                    <a:pt x="6861" y="1285"/>
                    <a:pt x="6861" y="1285"/>
                    <a:pt x="6861" y="1285"/>
                  </a:cubicBezTo>
                  <a:cubicBezTo>
                    <a:pt x="6675" y="1285"/>
                    <a:pt x="6675" y="1285"/>
                    <a:pt x="6675" y="1285"/>
                  </a:cubicBezTo>
                  <a:cubicBezTo>
                    <a:pt x="6675" y="614"/>
                    <a:pt x="6675" y="614"/>
                    <a:pt x="6675" y="614"/>
                  </a:cubicBezTo>
                  <a:cubicBezTo>
                    <a:pt x="6206" y="16"/>
                    <a:pt x="6206" y="16"/>
                    <a:pt x="6206" y="16"/>
                  </a:cubicBezTo>
                  <a:cubicBezTo>
                    <a:pt x="6426" y="16"/>
                    <a:pt x="6426" y="16"/>
                    <a:pt x="6426" y="16"/>
                  </a:cubicBezTo>
                  <a:cubicBezTo>
                    <a:pt x="6765" y="453"/>
                    <a:pt x="6765" y="453"/>
                    <a:pt x="6765" y="453"/>
                  </a:cubicBezTo>
                  <a:lnTo>
                    <a:pt x="7109" y="16"/>
                  </a:lnTo>
                  <a:close/>
                  <a:moveTo>
                    <a:pt x="8119" y="754"/>
                  </a:moveTo>
                  <a:cubicBezTo>
                    <a:pt x="7981" y="670"/>
                    <a:pt x="7981" y="670"/>
                    <a:pt x="7981" y="670"/>
                  </a:cubicBezTo>
                  <a:cubicBezTo>
                    <a:pt x="7894" y="617"/>
                    <a:pt x="7833" y="565"/>
                    <a:pt x="7796" y="514"/>
                  </a:cubicBezTo>
                  <a:cubicBezTo>
                    <a:pt x="7759" y="463"/>
                    <a:pt x="7741" y="404"/>
                    <a:pt x="7741" y="337"/>
                  </a:cubicBezTo>
                  <a:cubicBezTo>
                    <a:pt x="7741" y="236"/>
                    <a:pt x="7776" y="157"/>
                    <a:pt x="7845" y="93"/>
                  </a:cubicBezTo>
                  <a:cubicBezTo>
                    <a:pt x="7914" y="31"/>
                    <a:pt x="8005" y="0"/>
                    <a:pt x="8115" y="0"/>
                  </a:cubicBezTo>
                  <a:cubicBezTo>
                    <a:pt x="8221" y="0"/>
                    <a:pt x="8318" y="30"/>
                    <a:pt x="8407" y="89"/>
                  </a:cubicBezTo>
                  <a:cubicBezTo>
                    <a:pt x="8407" y="295"/>
                    <a:pt x="8407" y="295"/>
                    <a:pt x="8407" y="295"/>
                  </a:cubicBezTo>
                  <a:cubicBezTo>
                    <a:pt x="8315" y="208"/>
                    <a:pt x="8217" y="164"/>
                    <a:pt x="8112" y="164"/>
                  </a:cubicBezTo>
                  <a:cubicBezTo>
                    <a:pt x="8052" y="164"/>
                    <a:pt x="8004" y="177"/>
                    <a:pt x="7965" y="204"/>
                  </a:cubicBezTo>
                  <a:cubicBezTo>
                    <a:pt x="7927" y="232"/>
                    <a:pt x="7908" y="267"/>
                    <a:pt x="7908" y="309"/>
                  </a:cubicBezTo>
                  <a:cubicBezTo>
                    <a:pt x="7908" y="348"/>
                    <a:pt x="7922" y="384"/>
                    <a:pt x="7950" y="416"/>
                  </a:cubicBezTo>
                  <a:cubicBezTo>
                    <a:pt x="7979" y="450"/>
                    <a:pt x="8023" y="485"/>
                    <a:pt x="8086" y="521"/>
                  </a:cubicBezTo>
                  <a:cubicBezTo>
                    <a:pt x="8224" y="603"/>
                    <a:pt x="8224" y="603"/>
                    <a:pt x="8224" y="603"/>
                  </a:cubicBezTo>
                  <a:cubicBezTo>
                    <a:pt x="8379" y="696"/>
                    <a:pt x="8457" y="813"/>
                    <a:pt x="8457" y="956"/>
                  </a:cubicBezTo>
                  <a:cubicBezTo>
                    <a:pt x="8457" y="1057"/>
                    <a:pt x="8423" y="1141"/>
                    <a:pt x="8355" y="1204"/>
                  </a:cubicBezTo>
                  <a:cubicBezTo>
                    <a:pt x="8287" y="1268"/>
                    <a:pt x="8198" y="1300"/>
                    <a:pt x="8089" y="1300"/>
                  </a:cubicBezTo>
                  <a:cubicBezTo>
                    <a:pt x="7964" y="1300"/>
                    <a:pt x="7849" y="1261"/>
                    <a:pt x="7746" y="1185"/>
                  </a:cubicBezTo>
                  <a:cubicBezTo>
                    <a:pt x="7746" y="953"/>
                    <a:pt x="7746" y="953"/>
                    <a:pt x="7746" y="953"/>
                  </a:cubicBezTo>
                  <a:cubicBezTo>
                    <a:pt x="7845" y="1077"/>
                    <a:pt x="7958" y="1140"/>
                    <a:pt x="8087" y="1140"/>
                  </a:cubicBezTo>
                  <a:cubicBezTo>
                    <a:pt x="8144" y="1140"/>
                    <a:pt x="8192" y="1124"/>
                    <a:pt x="8229" y="1092"/>
                  </a:cubicBezTo>
                  <a:cubicBezTo>
                    <a:pt x="8267" y="1061"/>
                    <a:pt x="8286" y="1021"/>
                    <a:pt x="8286" y="973"/>
                  </a:cubicBezTo>
                  <a:cubicBezTo>
                    <a:pt x="8286" y="896"/>
                    <a:pt x="8230" y="823"/>
                    <a:pt x="8119" y="754"/>
                  </a:cubicBezTo>
                  <a:moveTo>
                    <a:pt x="9917" y="16"/>
                  </a:moveTo>
                  <a:cubicBezTo>
                    <a:pt x="10099" y="16"/>
                    <a:pt x="10099" y="16"/>
                    <a:pt x="10099" y="16"/>
                  </a:cubicBezTo>
                  <a:cubicBezTo>
                    <a:pt x="10099" y="1119"/>
                    <a:pt x="10099" y="1119"/>
                    <a:pt x="10099" y="1119"/>
                  </a:cubicBezTo>
                  <a:cubicBezTo>
                    <a:pt x="10671" y="1119"/>
                    <a:pt x="10671" y="1119"/>
                    <a:pt x="10671" y="1119"/>
                  </a:cubicBezTo>
                  <a:cubicBezTo>
                    <a:pt x="10671" y="1285"/>
                    <a:pt x="10671" y="1285"/>
                    <a:pt x="10671" y="1285"/>
                  </a:cubicBezTo>
                  <a:cubicBezTo>
                    <a:pt x="9917" y="1285"/>
                    <a:pt x="9917" y="1285"/>
                    <a:pt x="9917" y="1285"/>
                  </a:cubicBezTo>
                  <a:lnTo>
                    <a:pt x="9917" y="16"/>
                  </a:lnTo>
                  <a:close/>
                  <a:moveTo>
                    <a:pt x="11202" y="16"/>
                  </a:moveTo>
                  <a:cubicBezTo>
                    <a:pt x="11921" y="16"/>
                    <a:pt x="11921" y="16"/>
                    <a:pt x="11921" y="16"/>
                  </a:cubicBezTo>
                  <a:cubicBezTo>
                    <a:pt x="11921" y="177"/>
                    <a:pt x="11921" y="177"/>
                    <a:pt x="11921" y="177"/>
                  </a:cubicBezTo>
                  <a:cubicBezTo>
                    <a:pt x="11383" y="177"/>
                    <a:pt x="11383" y="177"/>
                    <a:pt x="11383" y="177"/>
                  </a:cubicBezTo>
                  <a:cubicBezTo>
                    <a:pt x="11383" y="565"/>
                    <a:pt x="11383" y="565"/>
                    <a:pt x="11383" y="565"/>
                  </a:cubicBezTo>
                  <a:cubicBezTo>
                    <a:pt x="11903" y="565"/>
                    <a:pt x="11903" y="565"/>
                    <a:pt x="11903" y="565"/>
                  </a:cubicBezTo>
                  <a:cubicBezTo>
                    <a:pt x="11903" y="727"/>
                    <a:pt x="11903" y="727"/>
                    <a:pt x="11903" y="727"/>
                  </a:cubicBezTo>
                  <a:cubicBezTo>
                    <a:pt x="11383" y="727"/>
                    <a:pt x="11383" y="727"/>
                    <a:pt x="11383" y="727"/>
                  </a:cubicBezTo>
                  <a:cubicBezTo>
                    <a:pt x="11383" y="1122"/>
                    <a:pt x="11383" y="1122"/>
                    <a:pt x="11383" y="1122"/>
                  </a:cubicBezTo>
                  <a:cubicBezTo>
                    <a:pt x="11939" y="1122"/>
                    <a:pt x="11939" y="1122"/>
                    <a:pt x="11939" y="1122"/>
                  </a:cubicBezTo>
                  <a:cubicBezTo>
                    <a:pt x="11939" y="1283"/>
                    <a:pt x="11939" y="1283"/>
                    <a:pt x="11939" y="1283"/>
                  </a:cubicBezTo>
                  <a:cubicBezTo>
                    <a:pt x="11202" y="1283"/>
                    <a:pt x="11202" y="1283"/>
                    <a:pt x="11202" y="1283"/>
                  </a:cubicBezTo>
                  <a:lnTo>
                    <a:pt x="11202" y="16"/>
                  </a:lnTo>
                  <a:close/>
                  <a:moveTo>
                    <a:pt x="12946" y="9"/>
                  </a:moveTo>
                  <a:cubicBezTo>
                    <a:pt x="13075" y="9"/>
                    <a:pt x="13075" y="9"/>
                    <a:pt x="13075" y="9"/>
                  </a:cubicBezTo>
                  <a:cubicBezTo>
                    <a:pt x="13643" y="1285"/>
                    <a:pt x="13643" y="1285"/>
                    <a:pt x="13643" y="1285"/>
                  </a:cubicBezTo>
                  <a:cubicBezTo>
                    <a:pt x="13458" y="1285"/>
                    <a:pt x="13458" y="1285"/>
                    <a:pt x="13458" y="1285"/>
                  </a:cubicBezTo>
                  <a:cubicBezTo>
                    <a:pt x="13288" y="909"/>
                    <a:pt x="13288" y="909"/>
                    <a:pt x="13288" y="909"/>
                  </a:cubicBezTo>
                  <a:cubicBezTo>
                    <a:pt x="12746" y="909"/>
                    <a:pt x="12746" y="909"/>
                    <a:pt x="12746" y="909"/>
                  </a:cubicBezTo>
                  <a:cubicBezTo>
                    <a:pt x="12588" y="1285"/>
                    <a:pt x="12588" y="1285"/>
                    <a:pt x="12588" y="1285"/>
                  </a:cubicBezTo>
                  <a:cubicBezTo>
                    <a:pt x="12402" y="1285"/>
                    <a:pt x="12402" y="1285"/>
                    <a:pt x="12402" y="1285"/>
                  </a:cubicBezTo>
                  <a:lnTo>
                    <a:pt x="12946" y="9"/>
                  </a:lnTo>
                  <a:close/>
                  <a:moveTo>
                    <a:pt x="13214" y="748"/>
                  </a:moveTo>
                  <a:cubicBezTo>
                    <a:pt x="13009" y="287"/>
                    <a:pt x="13009" y="287"/>
                    <a:pt x="13009" y="287"/>
                  </a:cubicBezTo>
                  <a:cubicBezTo>
                    <a:pt x="12819" y="748"/>
                    <a:pt x="12819" y="748"/>
                    <a:pt x="12819" y="748"/>
                  </a:cubicBezTo>
                  <a:lnTo>
                    <a:pt x="13214" y="748"/>
                  </a:lnTo>
                  <a:close/>
                  <a:moveTo>
                    <a:pt x="14160" y="1285"/>
                  </a:moveTo>
                  <a:cubicBezTo>
                    <a:pt x="14160" y="16"/>
                    <a:pt x="14160" y="16"/>
                    <a:pt x="14160" y="16"/>
                  </a:cubicBezTo>
                  <a:cubicBezTo>
                    <a:pt x="14478" y="16"/>
                    <a:pt x="14478" y="16"/>
                    <a:pt x="14478" y="16"/>
                  </a:cubicBezTo>
                  <a:cubicBezTo>
                    <a:pt x="14606" y="16"/>
                    <a:pt x="14708" y="48"/>
                    <a:pt x="14784" y="112"/>
                  </a:cubicBezTo>
                  <a:cubicBezTo>
                    <a:pt x="14859" y="175"/>
                    <a:pt x="14896" y="261"/>
                    <a:pt x="14896" y="369"/>
                  </a:cubicBezTo>
                  <a:cubicBezTo>
                    <a:pt x="14896" y="444"/>
                    <a:pt x="14878" y="507"/>
                    <a:pt x="14841" y="560"/>
                  </a:cubicBezTo>
                  <a:cubicBezTo>
                    <a:pt x="14804" y="616"/>
                    <a:pt x="14751" y="655"/>
                    <a:pt x="14682" y="682"/>
                  </a:cubicBezTo>
                  <a:cubicBezTo>
                    <a:pt x="14723" y="708"/>
                    <a:pt x="14762" y="745"/>
                    <a:pt x="14801" y="791"/>
                  </a:cubicBezTo>
                  <a:cubicBezTo>
                    <a:pt x="14840" y="837"/>
                    <a:pt x="14895" y="917"/>
                    <a:pt x="14964" y="1031"/>
                  </a:cubicBezTo>
                  <a:cubicBezTo>
                    <a:pt x="15008" y="1103"/>
                    <a:pt x="15045" y="1158"/>
                    <a:pt x="15071" y="1195"/>
                  </a:cubicBezTo>
                  <a:cubicBezTo>
                    <a:pt x="15138" y="1285"/>
                    <a:pt x="15138" y="1285"/>
                    <a:pt x="15138" y="1285"/>
                  </a:cubicBezTo>
                  <a:cubicBezTo>
                    <a:pt x="14922" y="1285"/>
                    <a:pt x="14922" y="1285"/>
                    <a:pt x="14922" y="1285"/>
                  </a:cubicBezTo>
                  <a:cubicBezTo>
                    <a:pt x="14867" y="1201"/>
                    <a:pt x="14867" y="1201"/>
                    <a:pt x="14867" y="1201"/>
                  </a:cubicBezTo>
                  <a:cubicBezTo>
                    <a:pt x="14865" y="1199"/>
                    <a:pt x="14861" y="1193"/>
                    <a:pt x="14856" y="1186"/>
                  </a:cubicBezTo>
                  <a:cubicBezTo>
                    <a:pt x="14820" y="1136"/>
                    <a:pt x="14820" y="1136"/>
                    <a:pt x="14820" y="1136"/>
                  </a:cubicBezTo>
                  <a:cubicBezTo>
                    <a:pt x="14764" y="1043"/>
                    <a:pt x="14764" y="1043"/>
                    <a:pt x="14764" y="1043"/>
                  </a:cubicBezTo>
                  <a:cubicBezTo>
                    <a:pt x="14704" y="944"/>
                    <a:pt x="14704" y="944"/>
                    <a:pt x="14704" y="944"/>
                  </a:cubicBezTo>
                  <a:cubicBezTo>
                    <a:pt x="14666" y="893"/>
                    <a:pt x="14631" y="851"/>
                    <a:pt x="14600" y="820"/>
                  </a:cubicBezTo>
                  <a:cubicBezTo>
                    <a:pt x="14569" y="788"/>
                    <a:pt x="14541" y="767"/>
                    <a:pt x="14516" y="754"/>
                  </a:cubicBezTo>
                  <a:cubicBezTo>
                    <a:pt x="14490" y="740"/>
                    <a:pt x="14449" y="733"/>
                    <a:pt x="14389" y="733"/>
                  </a:cubicBezTo>
                  <a:cubicBezTo>
                    <a:pt x="14342" y="733"/>
                    <a:pt x="14342" y="733"/>
                    <a:pt x="14342" y="733"/>
                  </a:cubicBezTo>
                  <a:cubicBezTo>
                    <a:pt x="14342" y="1285"/>
                    <a:pt x="14342" y="1285"/>
                    <a:pt x="14342" y="1285"/>
                  </a:cubicBezTo>
                  <a:lnTo>
                    <a:pt x="14160" y="1285"/>
                  </a:lnTo>
                  <a:close/>
                  <a:moveTo>
                    <a:pt x="14396" y="170"/>
                  </a:moveTo>
                  <a:cubicBezTo>
                    <a:pt x="14342" y="170"/>
                    <a:pt x="14342" y="170"/>
                    <a:pt x="14342" y="170"/>
                  </a:cubicBezTo>
                  <a:cubicBezTo>
                    <a:pt x="14342" y="572"/>
                    <a:pt x="14342" y="572"/>
                    <a:pt x="14342" y="572"/>
                  </a:cubicBezTo>
                  <a:cubicBezTo>
                    <a:pt x="14411" y="572"/>
                    <a:pt x="14411" y="572"/>
                    <a:pt x="14411" y="572"/>
                  </a:cubicBezTo>
                  <a:cubicBezTo>
                    <a:pt x="14503" y="572"/>
                    <a:pt x="14566" y="564"/>
                    <a:pt x="14600" y="548"/>
                  </a:cubicBezTo>
                  <a:cubicBezTo>
                    <a:pt x="14634" y="531"/>
                    <a:pt x="14661" y="508"/>
                    <a:pt x="14680" y="476"/>
                  </a:cubicBezTo>
                  <a:cubicBezTo>
                    <a:pt x="14699" y="445"/>
                    <a:pt x="14709" y="408"/>
                    <a:pt x="14709" y="368"/>
                  </a:cubicBezTo>
                  <a:cubicBezTo>
                    <a:pt x="14709" y="327"/>
                    <a:pt x="14698" y="292"/>
                    <a:pt x="14677" y="260"/>
                  </a:cubicBezTo>
                  <a:cubicBezTo>
                    <a:pt x="14655" y="227"/>
                    <a:pt x="14626" y="204"/>
                    <a:pt x="14587" y="191"/>
                  </a:cubicBezTo>
                  <a:cubicBezTo>
                    <a:pt x="14548" y="177"/>
                    <a:pt x="14485" y="170"/>
                    <a:pt x="14396" y="170"/>
                  </a:cubicBezTo>
                  <a:moveTo>
                    <a:pt x="16658" y="16"/>
                  </a:moveTo>
                  <a:cubicBezTo>
                    <a:pt x="16830" y="16"/>
                    <a:pt x="16830" y="16"/>
                    <a:pt x="16830" y="16"/>
                  </a:cubicBezTo>
                  <a:cubicBezTo>
                    <a:pt x="16830" y="1285"/>
                    <a:pt x="16830" y="1285"/>
                    <a:pt x="16830" y="1285"/>
                  </a:cubicBezTo>
                  <a:cubicBezTo>
                    <a:pt x="16675" y="1285"/>
                    <a:pt x="16675" y="1285"/>
                    <a:pt x="16675" y="1285"/>
                  </a:cubicBezTo>
                  <a:cubicBezTo>
                    <a:pt x="15827" y="308"/>
                    <a:pt x="15827" y="308"/>
                    <a:pt x="15827" y="308"/>
                  </a:cubicBezTo>
                  <a:cubicBezTo>
                    <a:pt x="15827" y="1285"/>
                    <a:pt x="15827" y="1285"/>
                    <a:pt x="15827" y="1285"/>
                  </a:cubicBezTo>
                  <a:cubicBezTo>
                    <a:pt x="15656" y="1285"/>
                    <a:pt x="15656" y="1285"/>
                    <a:pt x="15656" y="1285"/>
                  </a:cubicBezTo>
                  <a:cubicBezTo>
                    <a:pt x="15656" y="16"/>
                    <a:pt x="15656" y="16"/>
                    <a:pt x="15656" y="16"/>
                  </a:cubicBezTo>
                  <a:cubicBezTo>
                    <a:pt x="15803" y="16"/>
                    <a:pt x="15803" y="16"/>
                    <a:pt x="15803" y="16"/>
                  </a:cubicBezTo>
                  <a:cubicBezTo>
                    <a:pt x="16658" y="1002"/>
                    <a:pt x="16658" y="1002"/>
                    <a:pt x="16658" y="1002"/>
                  </a:cubicBezTo>
                  <a:lnTo>
                    <a:pt x="16658" y="16"/>
                  </a:lnTo>
                  <a:close/>
                  <a:moveTo>
                    <a:pt x="17477" y="16"/>
                  </a:moveTo>
                  <a:cubicBezTo>
                    <a:pt x="17658" y="16"/>
                    <a:pt x="17658" y="16"/>
                    <a:pt x="17658" y="16"/>
                  </a:cubicBezTo>
                  <a:cubicBezTo>
                    <a:pt x="17658" y="1285"/>
                    <a:pt x="17658" y="1285"/>
                    <a:pt x="17658" y="1285"/>
                  </a:cubicBezTo>
                  <a:cubicBezTo>
                    <a:pt x="17477" y="1285"/>
                    <a:pt x="17477" y="1285"/>
                    <a:pt x="17477" y="1285"/>
                  </a:cubicBezTo>
                  <a:lnTo>
                    <a:pt x="17477" y="16"/>
                  </a:lnTo>
                  <a:close/>
                  <a:moveTo>
                    <a:pt x="19320" y="16"/>
                  </a:moveTo>
                  <a:cubicBezTo>
                    <a:pt x="19493" y="16"/>
                    <a:pt x="19493" y="16"/>
                    <a:pt x="19493" y="16"/>
                  </a:cubicBezTo>
                  <a:cubicBezTo>
                    <a:pt x="19493" y="1285"/>
                    <a:pt x="19493" y="1285"/>
                    <a:pt x="19493" y="1285"/>
                  </a:cubicBezTo>
                  <a:cubicBezTo>
                    <a:pt x="19337" y="1285"/>
                    <a:pt x="19337" y="1285"/>
                    <a:pt x="19337" y="1285"/>
                  </a:cubicBezTo>
                  <a:cubicBezTo>
                    <a:pt x="18488" y="308"/>
                    <a:pt x="18488" y="308"/>
                    <a:pt x="18488" y="308"/>
                  </a:cubicBezTo>
                  <a:cubicBezTo>
                    <a:pt x="18488" y="1285"/>
                    <a:pt x="18488" y="1285"/>
                    <a:pt x="18488" y="1285"/>
                  </a:cubicBezTo>
                  <a:cubicBezTo>
                    <a:pt x="18317" y="1285"/>
                    <a:pt x="18317" y="1285"/>
                    <a:pt x="18317" y="1285"/>
                  </a:cubicBezTo>
                  <a:cubicBezTo>
                    <a:pt x="18317" y="16"/>
                    <a:pt x="18317" y="16"/>
                    <a:pt x="18317" y="16"/>
                  </a:cubicBezTo>
                  <a:cubicBezTo>
                    <a:pt x="18464" y="16"/>
                    <a:pt x="18464" y="16"/>
                    <a:pt x="18464" y="16"/>
                  </a:cubicBezTo>
                  <a:cubicBezTo>
                    <a:pt x="19320" y="1002"/>
                    <a:pt x="19320" y="1002"/>
                    <a:pt x="19320" y="1002"/>
                  </a:cubicBezTo>
                  <a:lnTo>
                    <a:pt x="19320" y="16"/>
                  </a:lnTo>
                  <a:close/>
                  <a:moveTo>
                    <a:pt x="20712" y="659"/>
                  </a:moveTo>
                  <a:cubicBezTo>
                    <a:pt x="21137" y="659"/>
                    <a:pt x="21137" y="659"/>
                    <a:pt x="21137" y="659"/>
                  </a:cubicBezTo>
                  <a:cubicBezTo>
                    <a:pt x="21137" y="1198"/>
                    <a:pt x="21137" y="1198"/>
                    <a:pt x="21137" y="1198"/>
                  </a:cubicBezTo>
                  <a:cubicBezTo>
                    <a:pt x="20981" y="1266"/>
                    <a:pt x="20826" y="1300"/>
                    <a:pt x="20673" y="1300"/>
                  </a:cubicBezTo>
                  <a:cubicBezTo>
                    <a:pt x="20463" y="1300"/>
                    <a:pt x="20294" y="1239"/>
                    <a:pt x="20169" y="1115"/>
                  </a:cubicBezTo>
                  <a:cubicBezTo>
                    <a:pt x="20043" y="994"/>
                    <a:pt x="19980" y="842"/>
                    <a:pt x="19980" y="662"/>
                  </a:cubicBezTo>
                  <a:cubicBezTo>
                    <a:pt x="19980" y="473"/>
                    <a:pt x="20045" y="314"/>
                    <a:pt x="20176" y="189"/>
                  </a:cubicBezTo>
                  <a:cubicBezTo>
                    <a:pt x="20306" y="63"/>
                    <a:pt x="20469" y="0"/>
                    <a:pt x="20666" y="0"/>
                  </a:cubicBezTo>
                  <a:cubicBezTo>
                    <a:pt x="20736" y="0"/>
                    <a:pt x="20804" y="8"/>
                    <a:pt x="20869" y="22"/>
                  </a:cubicBezTo>
                  <a:cubicBezTo>
                    <a:pt x="20933" y="39"/>
                    <a:pt x="21014" y="66"/>
                    <a:pt x="21112" y="109"/>
                  </a:cubicBezTo>
                  <a:cubicBezTo>
                    <a:pt x="21112" y="293"/>
                    <a:pt x="21112" y="293"/>
                    <a:pt x="21112" y="293"/>
                  </a:cubicBezTo>
                  <a:cubicBezTo>
                    <a:pt x="20961" y="205"/>
                    <a:pt x="20811" y="161"/>
                    <a:pt x="20661" y="161"/>
                  </a:cubicBezTo>
                  <a:cubicBezTo>
                    <a:pt x="20523" y="161"/>
                    <a:pt x="20407" y="209"/>
                    <a:pt x="20311" y="303"/>
                  </a:cubicBezTo>
                  <a:cubicBezTo>
                    <a:pt x="20215" y="397"/>
                    <a:pt x="20169" y="514"/>
                    <a:pt x="20169" y="651"/>
                  </a:cubicBezTo>
                  <a:cubicBezTo>
                    <a:pt x="20169" y="795"/>
                    <a:pt x="20215" y="913"/>
                    <a:pt x="20311" y="1004"/>
                  </a:cubicBezTo>
                  <a:cubicBezTo>
                    <a:pt x="20407" y="1096"/>
                    <a:pt x="20528" y="1142"/>
                    <a:pt x="20678" y="1142"/>
                  </a:cubicBezTo>
                  <a:cubicBezTo>
                    <a:pt x="20750" y="1142"/>
                    <a:pt x="20838" y="1125"/>
                    <a:pt x="20939" y="1092"/>
                  </a:cubicBezTo>
                  <a:cubicBezTo>
                    <a:pt x="20956" y="1087"/>
                    <a:pt x="20956" y="1087"/>
                    <a:pt x="20956" y="1087"/>
                  </a:cubicBezTo>
                  <a:cubicBezTo>
                    <a:pt x="20956" y="821"/>
                    <a:pt x="20956" y="821"/>
                    <a:pt x="20956" y="821"/>
                  </a:cubicBezTo>
                  <a:cubicBezTo>
                    <a:pt x="20712" y="821"/>
                    <a:pt x="20712" y="821"/>
                    <a:pt x="20712" y="821"/>
                  </a:cubicBezTo>
                  <a:lnTo>
                    <a:pt x="20712" y="6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" name="Group 33"/>
          <p:cNvGrpSpPr/>
          <p:nvPr/>
        </p:nvGrpSpPr>
        <p:grpSpPr>
          <a:xfrm>
            <a:off x="7315200" y="6400800"/>
            <a:ext cx="1676160" cy="457200"/>
            <a:chOff x="7315200" y="6400800"/>
            <a:chExt cx="1676160" cy="457200"/>
          </a:xfrm>
        </p:grpSpPr>
        <p:sp>
          <p:nvSpPr>
            <p:cNvPr id="7" name="AutoShape 34"/>
            <p:cNvSpPr/>
            <p:nvPr/>
          </p:nvSpPr>
          <p:spPr>
            <a:xfrm>
              <a:off x="7315200" y="64008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Freeform 35"/>
            <p:cNvSpPr/>
            <p:nvPr/>
          </p:nvSpPr>
          <p:spPr>
            <a:xfrm>
              <a:off x="7514280" y="6537240"/>
              <a:ext cx="1230840" cy="183600"/>
            </a:xfrm>
            <a:custGeom>
              <a:avLst/>
              <a:gdLst/>
              <a:ahLst/>
              <a:rect l="l" t="t" r="r" b="b"/>
              <a:pathLst>
                <a:path w="17396" h="2738">
                  <a:moveTo>
                    <a:pt x="13271" y="0"/>
                  </a:moveTo>
                  <a:cubicBezTo>
                    <a:pt x="12561" y="0"/>
                    <a:pt x="11962" y="608"/>
                    <a:pt x="11962" y="1327"/>
                  </a:cubicBezTo>
                  <a:cubicBezTo>
                    <a:pt x="11962" y="2144"/>
                    <a:pt x="12517" y="2738"/>
                    <a:pt x="13282" y="2738"/>
                  </a:cubicBezTo>
                  <a:cubicBezTo>
                    <a:pt x="14004" y="2738"/>
                    <a:pt x="14591" y="2105"/>
                    <a:pt x="14591" y="1327"/>
                  </a:cubicBezTo>
                  <a:cubicBezTo>
                    <a:pt x="14591" y="595"/>
                    <a:pt x="13999" y="0"/>
                    <a:pt x="13271" y="0"/>
                  </a:cubicBezTo>
                  <a:moveTo>
                    <a:pt x="13282" y="2404"/>
                  </a:moveTo>
                  <a:cubicBezTo>
                    <a:pt x="12672" y="2404"/>
                    <a:pt x="12450" y="1767"/>
                    <a:pt x="12450" y="1340"/>
                  </a:cubicBezTo>
                  <a:cubicBezTo>
                    <a:pt x="12450" y="951"/>
                    <a:pt x="12673" y="335"/>
                    <a:pt x="13271" y="335"/>
                  </a:cubicBezTo>
                  <a:cubicBezTo>
                    <a:pt x="13845" y="335"/>
                    <a:pt x="14103" y="915"/>
                    <a:pt x="14103" y="1327"/>
                  </a:cubicBezTo>
                  <a:cubicBezTo>
                    <a:pt x="14103" y="1862"/>
                    <a:pt x="13822" y="2404"/>
                    <a:pt x="13282" y="2404"/>
                  </a:cubicBezTo>
                  <a:moveTo>
                    <a:pt x="834" y="0"/>
                  </a:moveTo>
                  <a:cubicBezTo>
                    <a:pt x="1298" y="0"/>
                    <a:pt x="1794" y="207"/>
                    <a:pt x="1794" y="784"/>
                  </a:cubicBezTo>
                  <a:cubicBezTo>
                    <a:pt x="1794" y="1342"/>
                    <a:pt x="1249" y="1676"/>
                    <a:pt x="683" y="1677"/>
                  </a:cubicBezTo>
                  <a:cubicBezTo>
                    <a:pt x="681" y="1584"/>
                    <a:pt x="679" y="1489"/>
                    <a:pt x="678" y="1393"/>
                  </a:cubicBezTo>
                  <a:cubicBezTo>
                    <a:pt x="1107" y="1360"/>
                    <a:pt x="1337" y="1152"/>
                    <a:pt x="1337" y="808"/>
                  </a:cubicBezTo>
                  <a:cubicBezTo>
                    <a:pt x="1337" y="513"/>
                    <a:pt x="1097" y="306"/>
                    <a:pt x="754" y="306"/>
                  </a:cubicBezTo>
                  <a:cubicBezTo>
                    <a:pt x="477" y="306"/>
                    <a:pt x="477" y="306"/>
                    <a:pt x="477" y="306"/>
                  </a:cubicBezTo>
                  <a:cubicBezTo>
                    <a:pt x="477" y="1166"/>
                    <a:pt x="494" y="2402"/>
                    <a:pt x="528" y="2709"/>
                  </a:cubicBezTo>
                  <a:cubicBezTo>
                    <a:pt x="344" y="2672"/>
                    <a:pt x="192" y="2671"/>
                    <a:pt x="2" y="2709"/>
                  </a:cubicBezTo>
                  <a:cubicBezTo>
                    <a:pt x="46" y="2335"/>
                    <a:pt x="74" y="353"/>
                    <a:pt x="0" y="0"/>
                  </a:cubicBezTo>
                  <a:cubicBezTo>
                    <a:pt x="0" y="0"/>
                    <a:pt x="348" y="12"/>
                    <a:pt x="425" y="12"/>
                  </a:cubicBezTo>
                  <a:cubicBezTo>
                    <a:pt x="515" y="1"/>
                    <a:pt x="740" y="0"/>
                    <a:pt x="834" y="0"/>
                  </a:cubicBezTo>
                  <a:moveTo>
                    <a:pt x="5276" y="20"/>
                  </a:moveTo>
                  <a:cubicBezTo>
                    <a:pt x="5141" y="546"/>
                    <a:pt x="4580" y="2064"/>
                    <a:pt x="4309" y="2710"/>
                  </a:cubicBezTo>
                  <a:cubicBezTo>
                    <a:pt x="4486" y="2685"/>
                    <a:pt x="4673" y="2691"/>
                    <a:pt x="4760" y="2705"/>
                  </a:cubicBezTo>
                  <a:cubicBezTo>
                    <a:pt x="4850" y="2415"/>
                    <a:pt x="4947" y="2071"/>
                    <a:pt x="4990" y="1942"/>
                  </a:cubicBezTo>
                  <a:cubicBezTo>
                    <a:pt x="5271" y="1922"/>
                    <a:pt x="5602" y="1922"/>
                    <a:pt x="5935" y="1942"/>
                  </a:cubicBezTo>
                  <a:cubicBezTo>
                    <a:pt x="6036" y="2212"/>
                    <a:pt x="6096" y="2404"/>
                    <a:pt x="6187" y="2703"/>
                  </a:cubicBezTo>
                  <a:cubicBezTo>
                    <a:pt x="6360" y="2687"/>
                    <a:pt x="6536" y="2689"/>
                    <a:pt x="6723" y="2706"/>
                  </a:cubicBezTo>
                  <a:cubicBezTo>
                    <a:pt x="6455" y="2061"/>
                    <a:pt x="5832" y="400"/>
                    <a:pt x="5732" y="20"/>
                  </a:cubicBezTo>
                  <a:cubicBezTo>
                    <a:pt x="5596" y="36"/>
                    <a:pt x="5423" y="36"/>
                    <a:pt x="5276" y="20"/>
                  </a:cubicBezTo>
                  <a:moveTo>
                    <a:pt x="5098" y="1580"/>
                  </a:moveTo>
                  <a:cubicBezTo>
                    <a:pt x="5098" y="1580"/>
                    <a:pt x="5355" y="815"/>
                    <a:pt x="5442" y="552"/>
                  </a:cubicBezTo>
                  <a:cubicBezTo>
                    <a:pt x="5442" y="552"/>
                    <a:pt x="5709" y="1308"/>
                    <a:pt x="5803" y="1580"/>
                  </a:cubicBezTo>
                  <a:cubicBezTo>
                    <a:pt x="5517" y="1609"/>
                    <a:pt x="5373" y="1609"/>
                    <a:pt x="5098" y="1580"/>
                  </a:cubicBezTo>
                  <a:moveTo>
                    <a:pt x="2859" y="2368"/>
                  </a:moveTo>
                  <a:cubicBezTo>
                    <a:pt x="3141" y="2380"/>
                    <a:pt x="3816" y="2340"/>
                    <a:pt x="3816" y="2340"/>
                  </a:cubicBezTo>
                  <a:cubicBezTo>
                    <a:pt x="3819" y="2630"/>
                    <a:pt x="3799" y="2717"/>
                    <a:pt x="3799" y="2717"/>
                  </a:cubicBezTo>
                  <a:cubicBezTo>
                    <a:pt x="3548" y="2683"/>
                    <a:pt x="2789" y="2667"/>
                    <a:pt x="2378" y="2717"/>
                  </a:cubicBezTo>
                  <a:cubicBezTo>
                    <a:pt x="2439" y="2062"/>
                    <a:pt x="2419" y="709"/>
                    <a:pt x="2381" y="8"/>
                  </a:cubicBezTo>
                  <a:cubicBezTo>
                    <a:pt x="2760" y="40"/>
                    <a:pt x="3486" y="34"/>
                    <a:pt x="3793" y="8"/>
                  </a:cubicBezTo>
                  <a:cubicBezTo>
                    <a:pt x="3793" y="387"/>
                    <a:pt x="3793" y="387"/>
                    <a:pt x="3793" y="387"/>
                  </a:cubicBezTo>
                  <a:cubicBezTo>
                    <a:pt x="3530" y="362"/>
                    <a:pt x="3111" y="337"/>
                    <a:pt x="2872" y="345"/>
                  </a:cubicBezTo>
                  <a:cubicBezTo>
                    <a:pt x="2872" y="345"/>
                    <a:pt x="2862" y="972"/>
                    <a:pt x="2870" y="1132"/>
                  </a:cubicBezTo>
                  <a:cubicBezTo>
                    <a:pt x="3297" y="1163"/>
                    <a:pt x="3611" y="1112"/>
                    <a:pt x="3746" y="1102"/>
                  </a:cubicBezTo>
                  <a:cubicBezTo>
                    <a:pt x="3746" y="1480"/>
                    <a:pt x="3746" y="1480"/>
                    <a:pt x="3746" y="1480"/>
                  </a:cubicBezTo>
                  <a:cubicBezTo>
                    <a:pt x="3746" y="1480"/>
                    <a:pt x="3250" y="1431"/>
                    <a:pt x="2871" y="1461"/>
                  </a:cubicBezTo>
                  <a:cubicBezTo>
                    <a:pt x="2859" y="1713"/>
                    <a:pt x="2859" y="2087"/>
                    <a:pt x="2859" y="2368"/>
                  </a:cubicBezTo>
                  <a:moveTo>
                    <a:pt x="17385" y="2651"/>
                  </a:moveTo>
                  <a:cubicBezTo>
                    <a:pt x="17387" y="2657"/>
                    <a:pt x="17396" y="2706"/>
                    <a:pt x="17395" y="2706"/>
                  </a:cubicBezTo>
                  <a:cubicBezTo>
                    <a:pt x="17278" y="2688"/>
                    <a:pt x="17100" y="2685"/>
                    <a:pt x="16988" y="2703"/>
                  </a:cubicBezTo>
                  <a:cubicBezTo>
                    <a:pt x="16775" y="2389"/>
                    <a:pt x="15932" y="1236"/>
                    <a:pt x="15599" y="806"/>
                  </a:cubicBezTo>
                  <a:cubicBezTo>
                    <a:pt x="15587" y="1435"/>
                    <a:pt x="15579" y="2387"/>
                    <a:pt x="15618" y="2701"/>
                  </a:cubicBezTo>
                  <a:cubicBezTo>
                    <a:pt x="15568" y="2702"/>
                    <a:pt x="15493" y="2698"/>
                    <a:pt x="15454" y="2698"/>
                  </a:cubicBezTo>
                  <a:cubicBezTo>
                    <a:pt x="15341" y="2698"/>
                    <a:pt x="15290" y="2692"/>
                    <a:pt x="15189" y="2706"/>
                  </a:cubicBezTo>
                  <a:cubicBezTo>
                    <a:pt x="15244" y="2381"/>
                    <a:pt x="15257" y="377"/>
                    <a:pt x="15189" y="24"/>
                  </a:cubicBezTo>
                  <a:cubicBezTo>
                    <a:pt x="15350" y="27"/>
                    <a:pt x="15484" y="29"/>
                    <a:pt x="15527" y="26"/>
                  </a:cubicBezTo>
                  <a:cubicBezTo>
                    <a:pt x="15564" y="24"/>
                    <a:pt x="15590" y="20"/>
                    <a:pt x="15590" y="20"/>
                  </a:cubicBezTo>
                  <a:cubicBezTo>
                    <a:pt x="15590" y="20"/>
                    <a:pt x="16497" y="1236"/>
                    <a:pt x="16970" y="1870"/>
                  </a:cubicBezTo>
                  <a:cubicBezTo>
                    <a:pt x="16975" y="1631"/>
                    <a:pt x="16996" y="423"/>
                    <a:pt x="16951" y="14"/>
                  </a:cubicBezTo>
                  <a:cubicBezTo>
                    <a:pt x="17015" y="23"/>
                    <a:pt x="17093" y="46"/>
                    <a:pt x="17172" y="45"/>
                  </a:cubicBezTo>
                  <a:cubicBezTo>
                    <a:pt x="17244" y="43"/>
                    <a:pt x="17322" y="26"/>
                    <a:pt x="17393" y="14"/>
                  </a:cubicBezTo>
                  <a:cubicBezTo>
                    <a:pt x="17329" y="525"/>
                    <a:pt x="17305" y="2268"/>
                    <a:pt x="17385" y="2651"/>
                  </a:cubicBezTo>
                  <a:moveTo>
                    <a:pt x="8983" y="725"/>
                  </a:moveTo>
                  <a:cubicBezTo>
                    <a:pt x="8983" y="1159"/>
                    <a:pt x="8690" y="1409"/>
                    <a:pt x="8408" y="1465"/>
                  </a:cubicBezTo>
                  <a:cubicBezTo>
                    <a:pt x="8613" y="1728"/>
                    <a:pt x="9354" y="2710"/>
                    <a:pt x="9354" y="2710"/>
                  </a:cubicBezTo>
                  <a:cubicBezTo>
                    <a:pt x="9167" y="2683"/>
                    <a:pt x="8893" y="2687"/>
                    <a:pt x="8755" y="2703"/>
                  </a:cubicBezTo>
                  <a:cubicBezTo>
                    <a:pt x="8519" y="2334"/>
                    <a:pt x="8120" y="1763"/>
                    <a:pt x="7967" y="1578"/>
                  </a:cubicBezTo>
                  <a:cubicBezTo>
                    <a:pt x="7964" y="1472"/>
                    <a:pt x="7963" y="1391"/>
                    <a:pt x="7961" y="1287"/>
                  </a:cubicBezTo>
                  <a:cubicBezTo>
                    <a:pt x="8420" y="1296"/>
                    <a:pt x="8517" y="991"/>
                    <a:pt x="8517" y="774"/>
                  </a:cubicBezTo>
                  <a:cubicBezTo>
                    <a:pt x="8517" y="486"/>
                    <a:pt x="8256" y="335"/>
                    <a:pt x="7997" y="335"/>
                  </a:cubicBezTo>
                  <a:cubicBezTo>
                    <a:pt x="7772" y="335"/>
                    <a:pt x="7772" y="335"/>
                    <a:pt x="7772" y="335"/>
                  </a:cubicBezTo>
                  <a:cubicBezTo>
                    <a:pt x="7752" y="850"/>
                    <a:pt x="7789" y="2116"/>
                    <a:pt x="7812" y="2705"/>
                  </a:cubicBezTo>
                  <a:cubicBezTo>
                    <a:pt x="7633" y="2686"/>
                    <a:pt x="7435" y="2689"/>
                    <a:pt x="7292" y="2705"/>
                  </a:cubicBezTo>
                  <a:cubicBezTo>
                    <a:pt x="7353" y="2273"/>
                    <a:pt x="7342" y="309"/>
                    <a:pt x="7292" y="9"/>
                  </a:cubicBezTo>
                  <a:cubicBezTo>
                    <a:pt x="7292" y="9"/>
                    <a:pt x="7576" y="31"/>
                    <a:pt x="7699" y="24"/>
                  </a:cubicBezTo>
                  <a:cubicBezTo>
                    <a:pt x="7809" y="17"/>
                    <a:pt x="7913" y="12"/>
                    <a:pt x="8044" y="12"/>
                  </a:cubicBezTo>
                  <a:cubicBezTo>
                    <a:pt x="8326" y="12"/>
                    <a:pt x="8983" y="81"/>
                    <a:pt x="8983" y="725"/>
                  </a:cubicBezTo>
                  <a:moveTo>
                    <a:pt x="10891" y="1173"/>
                  </a:moveTo>
                  <a:cubicBezTo>
                    <a:pt x="11187" y="1362"/>
                    <a:pt x="11412" y="1538"/>
                    <a:pt x="11412" y="1939"/>
                  </a:cubicBezTo>
                  <a:cubicBezTo>
                    <a:pt x="11412" y="2518"/>
                    <a:pt x="10959" y="2724"/>
                    <a:pt x="10570" y="2724"/>
                  </a:cubicBezTo>
                  <a:cubicBezTo>
                    <a:pt x="10250" y="2724"/>
                    <a:pt x="9911" y="2555"/>
                    <a:pt x="9754" y="2434"/>
                  </a:cubicBezTo>
                  <a:cubicBezTo>
                    <a:pt x="9813" y="2318"/>
                    <a:pt x="9874" y="2198"/>
                    <a:pt x="9920" y="2033"/>
                  </a:cubicBezTo>
                  <a:cubicBezTo>
                    <a:pt x="10094" y="2228"/>
                    <a:pt x="10362" y="2366"/>
                    <a:pt x="10547" y="2366"/>
                  </a:cubicBezTo>
                  <a:cubicBezTo>
                    <a:pt x="10790" y="2366"/>
                    <a:pt x="10936" y="2233"/>
                    <a:pt x="10936" y="2011"/>
                  </a:cubicBezTo>
                  <a:cubicBezTo>
                    <a:pt x="10945" y="1844"/>
                    <a:pt x="10826" y="1726"/>
                    <a:pt x="10675" y="1600"/>
                  </a:cubicBezTo>
                  <a:cubicBezTo>
                    <a:pt x="10566" y="1509"/>
                    <a:pt x="10289" y="1330"/>
                    <a:pt x="10222" y="1276"/>
                  </a:cubicBezTo>
                  <a:cubicBezTo>
                    <a:pt x="10003" y="1098"/>
                    <a:pt x="9869" y="949"/>
                    <a:pt x="9869" y="664"/>
                  </a:cubicBezTo>
                  <a:cubicBezTo>
                    <a:pt x="9869" y="286"/>
                    <a:pt x="10206" y="0"/>
                    <a:pt x="10652" y="0"/>
                  </a:cubicBezTo>
                  <a:cubicBezTo>
                    <a:pt x="10881" y="0"/>
                    <a:pt x="11095" y="68"/>
                    <a:pt x="11356" y="243"/>
                  </a:cubicBezTo>
                  <a:cubicBezTo>
                    <a:pt x="11292" y="340"/>
                    <a:pt x="11202" y="489"/>
                    <a:pt x="11156" y="627"/>
                  </a:cubicBezTo>
                  <a:cubicBezTo>
                    <a:pt x="11051" y="485"/>
                    <a:pt x="10889" y="335"/>
                    <a:pt x="10666" y="335"/>
                  </a:cubicBezTo>
                  <a:cubicBezTo>
                    <a:pt x="10454" y="335"/>
                    <a:pt x="10323" y="458"/>
                    <a:pt x="10323" y="654"/>
                  </a:cubicBezTo>
                  <a:cubicBezTo>
                    <a:pt x="10323" y="719"/>
                    <a:pt x="10370" y="792"/>
                    <a:pt x="10465" y="878"/>
                  </a:cubicBezTo>
                  <a:cubicBezTo>
                    <a:pt x="10560" y="960"/>
                    <a:pt x="10692" y="1052"/>
                    <a:pt x="10891" y="117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" name="Rectangle 37"/>
          <p:cNvSpPr/>
          <p:nvPr/>
        </p:nvSpPr>
        <p:spPr>
          <a:xfrm>
            <a:off x="2209680" y="64008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© 2012 Pearson Education, Inc. All rights reserved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financial-dictionary.thefreedictionary.com/Employees" TargetMode="External"/><Relationship Id="rId2" Type="http://schemas.openxmlformats.org/officeDocument/2006/relationships/hyperlink" Target="http://financial-dictionary.thefreedictionary.com/Investors" TargetMode="External"/><Relationship Id="rId3" Type="http://schemas.openxmlformats.org/officeDocument/2006/relationships/hyperlink" Target="http://financial-dictionary.thefreedictionary.com/Employees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3200400"/>
            <a:ext cx="807732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thical Decision Mak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2633760" y="198108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Chapter 3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Four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ther Your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hav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l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known fac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understand the applicable laws or legalit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have all relevant policies available to revie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you clear about the individual’s views and personal valu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  Don’t hesitate to seek out consul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Five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Any Applicable Code of Eth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for the follow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-  Mission stat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-  Values base of the orga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-  Ethical principles to guide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-  Ethical 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des can be revised or updated as need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Six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the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 all possible actionable op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the cost/benefits of each op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k out additional points of vie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Seven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 Course of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ove the least desirable op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ove any which you can not put into 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ove any options which break the values systems of those affec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gnize that your final choice will be impacted by your personal valu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ep Eight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t your plan into 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6840" y="18284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k about the outcomes with a sense that you have truly approached this ethical dilemma with the best of intentions and to the best of your abil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Nine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the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valuate the results for the future situations and ethical dilemma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nsider submitting your most difficult cases to an ethics review board for feedback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thical Dilem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00"/>
                </a:solidFill>
                <a:uFillTx/>
                <a:latin typeface="Calibri"/>
              </a:rPr>
              <a:t>Example 2 : (Assignment 1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ew technology is being launched which is good for the company as well as the customers. But, if this is brought into use, a less employees is required for the organiz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pany is now in an ethical dilemma whether wants to satisfy the customers with good services or be loyal to the employees who have helped the company grow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pleasantness of the situation arises when neither the customers nor the employees deserve to suffer and it is the comany’s call to tak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How Can Managers Encourage Ethical Decision Mak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684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Question: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can managers ensure that ethical issues are considered in business decisio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To Encourage Ethical Decision Making, Firms Shoul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ire and promote people with a well grounded sense of personal ethic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frain from promoting individuals who have acted unethical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tential employees should find out as much as they can about the ethical climate in an organization prior to taking a posi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n organizational culture that places a  high value on ethical behavi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light importance of code of ethic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a system of incentives and rewards that recognize people who engage in ethical behavior and sanction those engage in unethical behavio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How Can Managers Mak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Ethical decisio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a moral courag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ables managers to walk away from a decision that is profitable, but unethical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s the  employees the strength to say no to the  manager who orders them to pursue actions that are unethical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How Can Managers Mak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Ethical decisio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hapter 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provide a comprehensive framework for ethical decision making in busines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examine the strength of ethical issues as an important element influencing the ethical decision making proces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ntroduce individual factors that may influence ethical decision making in business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ntroduce organizational factors that may influence ethical decision making in busines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How Can Managers Mak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Ethical decisio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4. Ethics Officers: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thics officers ensure tha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ployees are trained to be ethically awa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thical considerations enter decision-mak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mpany’s code of ethics is followed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ing Ethical Decis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king good ethical decisions to solve Ethical Dilemma requires a trained sensitivity to ethical issues and a practiced method for exploring the ethical aspects of a decis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ving a method for ethical decision making is absolutely essential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thical decision should be based on ethical principles and codes rather than on emotions, thoughts, fixed polici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abits of Strong Ethical Lead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thical Leaders Have Strong Personal Charact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thical Leaders Have a Passion to Do Righ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thical Leaders Are Proactive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thical Leaders Consider Stakeholders’ Interes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thical Leaders Are Role Models for the Organization’s Valu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thical Leaders Are Transparent and Actively Involved in Organizational Decision Mak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thical Dilem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3520" y="14475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thical dilemma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situation with uncertainty about what is right to do from a moral or ethical perspect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For examp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the manager of a company may be put in a position in which he must choose between the interests of his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employe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his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nvestor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Give more profits or increase the salary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thical Decision Maki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33520" y="1294920"/>
            <a:ext cx="80769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he Framework Overview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One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cribe the probl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Two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termine whether there is an ethical dilem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Three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ntify and rank the key values and princip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Four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ther your inform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Five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ew any applicable Code of Ethic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Six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termine the op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Seven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 a course of a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Eight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t your plan into a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Nine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aluate the resul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ep One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the probl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You must first describe the problem and ensure that it’s actually a moral dilemma that needs to follow an ethical mode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sider the nature of the problem and any signs of the problem and ensure that you’re attempting to solve the issue and not just it’s sig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ircumstances affect the problem definition (for whom does the problem exist ?  What is the surroundings?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096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ep Two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rmine whether there is an ethical dilem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8052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ms of an ethical dilemma must be ethical in nature, not legal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something is a law, you then have the ethical choice to follow the law or no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ep Three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and rank the key values and princip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reasons can you provide for prioritizing one competing value over anoth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 that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 decision to a dilemma which goes against an individual’s personal set of values has very little chance of succ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6T14:56:27Z</dcterms:created>
  <dc:creator>Curtis Family Laptop</dc:creator>
  <dc:description/>
  <dc:language>en-US</dc:language>
  <cp:lastModifiedBy>User</cp:lastModifiedBy>
  <dcterms:modified xsi:type="dcterms:W3CDTF">2017-03-06T19:28:28Z</dcterms:modified>
  <cp:revision>60</cp:revision>
  <dc:subject/>
  <dc:title>Ethics and Business</dc:title>
</cp:coreProperties>
</file>