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66B-3E6D-45F6-A533-A5278D2C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BA89-2354-46FD-9938-CED4F45A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3B34-62A6-4E28-AE2C-A105267DF7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 presented by culture have some impacts on H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EB56-8909-4609-B7F4-1D86B6EB0B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338-1F70-436D-A7DE-093598735D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C83F-BDB8-436F-BC9B-28EB477ED4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5D1B-37E9-4801-A79B-82AAE41DCC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41BF-7A4D-454F-BEA4-BD3B954639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B19-B2D2-4939-9E5C-676EF7A7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B6F1-D76B-422A-B284-5F6BF0DD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EBE-1648-48EB-9E9D-9D354240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965C-A5D0-4A70-8C8C-07A304BF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CA13-FD4C-4C19-99DA-D034EE60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9CB-D52D-4F26-8263-2DEC0BE3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5A20-06F9-45A0-A0D3-1A1B825F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B8F-BC40-4EC5-BCB7-E3F4BF5BA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722-88F9-44D8-B2FC-C5015614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4A57-E225-45EE-A4F1-16445841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77AB-0E31-4911-9FB9-4D6126EC65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114-1D25-4DF6-97BE-A7F2AA1B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B2F-07AA-4DD9-BAA1-CE7AD6C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C6B-F366-4694-B3BE-5A56FC94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2F2-F671-45EF-8E88-B3D4559D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DC2-A0CF-4C9C-BA50-D1E8A70E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6F8-F50A-416F-B6C3-A1EA9BE4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E94-891E-4859-8105-951E2147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FE1-A690-441B-AFCA-A39EDF5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7F0-DD33-43F7-85A4-0B398305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63-8B56-4881-8A5E-217DE90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FD0-3437-439F-9510-133C61A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E70-1F0B-42FE-810B-3145D33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© 2005 Prentice Hall Inc. All rights reser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17–</a:t>
            </a:r>
            <a:fld id="{ADF91E42-0D3F-4AE9-9D16-860D810E06E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49360" y="1874880"/>
            <a:ext cx="7781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Global Human Resource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44056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" y="1417680"/>
            <a:ext cx="862308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al characteristics influence the ways members of an organization behave toward one another as well as their attitudes toward various HRM practic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es strongly influence the suitability of HRM practic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MS PGothic"/>
              </a:rPr>
              <a:t>Cultural differences can affect how people communicate and how they coordinate their activ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360" y="41112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contin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84121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Organizations must prepare managers to recognize and handle cultural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224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Recruit managers with knowledge of other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224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vide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For expatriate assignments, organizations may need to conduct an extensive selection process to identify individuals who can adapt to new environ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3744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and Skill Lev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5040" y="1325520"/>
            <a:ext cx="8413920" cy="51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Countries also differ in the degree to which their labor markets include people with education and skills of value to employ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Companies with foreign operations locate in countries where they can find suitable employ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The educations and skill levels of a country’s labor force affect how and the extent to which companies want to operate the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MS PGothic"/>
              </a:rPr>
              <a:t>In countries with a poorly educated population, companies will limit their activities to low-skill, low-wage job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11120"/>
            <a:ext cx="841212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4680" y="1508040"/>
            <a:ext cx="85107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country’s economic system, whether capitalist or socialist, as well as the government’s involvement in the economy through taxes or compensation, price controls, and other activities, influences HRM practices in a number of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economic system provides many of the incentives or disincentives for developing the value of the labor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4680" y="1599840"/>
            <a:ext cx="8504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 with great wealth, labor costs are relatively high. This impacts compensation and staffing prac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tax differences between countries make pay structures more complicated when they cross nat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-Legal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325520"/>
            <a:ext cx="8504280" cy="50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country’s laws  often dictate the requirements for HRM practices: training, compensation, hiring, and fi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n organization that expands internationally must gain expertise in the host country’s legal requirements and ways of dealing with its leg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Organizations will hire one or more host- country nationals to help in the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680" y="410760"/>
            <a:ext cx="846288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5040" y="1417680"/>
            <a:ext cx="8413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organizations operate globally. Employees may come fro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Parent (home)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was born and works in the country in which an organization’s headquarters is loc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Host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is a citizen of the country in which an organization operates a fac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alibri"/>
                <a:ea typeface="MS PGothic"/>
              </a:rPr>
              <a:t>Third-country national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mployee who is a citizen of a country that is neither the parent country nor the host country of the employ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040" y="1507680"/>
            <a:ext cx="841392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m’s </a:t>
            </a: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staffing poli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oncerned with the selection of employees who have the skills required to perform a particular job internation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ffing policy can be a tool for developing an promoting the firm’s </a:t>
            </a:r>
            <a:r>
              <a:rPr b="0" lang="en-US" sz="3200" spc="-1" strike="noStrike">
                <a:solidFill>
                  <a:srgbClr val="cc6600"/>
                </a:solidFill>
                <a:latin typeface="Calibri"/>
              </a:rPr>
              <a:t>corporate 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he organization’s norms and value syste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rong corporate culture can help the firm implement its strate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main approaches to staffing policy within international busin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the ethno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the poly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the geocentric appro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4680" y="1599840"/>
            <a:ext cx="8139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. The ethnocentric approa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staffing policy fills key management positions with parent-country nation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kes sense for firms with an international strategy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irms that pursue an ethnocentric policy believe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lack of qualified individuals in the host country to fill senior management posi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" y="1417680"/>
            <a:ext cx="841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RM is more complex in an international business because of differences between countries in labor markets, culture, legal systems, economic systems, and so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RM must also determine when to use </a:t>
            </a:r>
            <a:r>
              <a:rPr b="1" lang="en-US" sz="3000" spc="-1" strike="noStrike">
                <a:solidFill>
                  <a:srgbClr val="cc6600"/>
                </a:solidFill>
                <a:latin typeface="Calibri"/>
              </a:rPr>
              <a:t>expatriate manager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itizens of one country working abroad)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should be sent on foreign assignments, how they should be compensated, how they should be trained, and how they should be reoriented when they return ho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5040" y="32076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" y="1235160"/>
            <a:ext cx="850428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the best way to maintain a joined corporate cul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ue can be created by transferring core competencies to a foreign operation via parent country nation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ethnocentric staffing policy is no longer popular with most firms becaus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limits advancement opportunities for host country nat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lead to "cultural myopia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68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417320"/>
            <a:ext cx="8413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2. The polycentric staffing polic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uits host country nationals to manage branches in their own country, and parent country nationals for positions at headquar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akes sense for firms pursuing a localization strate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The polycentric approac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minimize cultural myop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 be less expensive to implement than an ethnocentric polic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e are two disadvantages to the polycentric approa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host country nationals have limited opportunities to gain experience outside their own country and thus cannot progress beyond senior positions in their own compa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gap can form between host country managers and parent country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04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4320" y="1417320"/>
            <a:ext cx="8504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3. The geocentric staffing policy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eks the best people, regardless of nationality for key job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approach is consistent with building a strong joining culture and informal management networ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 makes sense for firms pursuing either a global or transnational strateg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mmigration policies of national governments may limit the ability of a firm to pursue this polic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74680" y="320760"/>
            <a:ext cx="8229600" cy="822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geocentric appro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the firm to make the best use of its human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s a team of international executives who feel at home working in a number of different cul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limited by immigration la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costly to imp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taffing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13744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nagement Challenges of Internationa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5040" y="159984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market, product, and production plans on a worldwide ba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organization structures capable of balancing centralized home-office control with adequate local aut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ending its HR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ystems to service its staffing needs abro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20400"/>
            <a:ext cx="8229600" cy="1004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Managemen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4440" y="1311120"/>
            <a:ext cx="8562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Human Resource Management (HRM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uman Resource Management includes all activities used to attract &amp; retain employees and to ensure they perform at a high level in meeting organizational goa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se activities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Staffing (recruitment, selectio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raining and develop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Performance apprais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Compens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36800" indent="-260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labor rel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40E-463D-46EA-AF5F-04438312691A}" type="slidenum">
              <a:rPr b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Resource Manage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111-65D6-4693-AF1C-6D9DD9AABDE3}" type="slidenum">
              <a:rPr b="1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6"/>
          <p:cNvGrpSpPr/>
          <p:nvPr/>
        </p:nvGrpSpPr>
        <p:grpSpPr>
          <a:xfrm>
            <a:off x="428760" y="1035000"/>
            <a:ext cx="8378280" cy="5248080"/>
            <a:chOff x="428760" y="1035000"/>
            <a:chExt cx="8378280" cy="5248080"/>
          </a:xfrm>
        </p:grpSpPr>
        <p:sp>
          <p:nvSpPr>
            <p:cNvPr id="59" name="_s1028"/>
            <p:cNvSpPr/>
            <p:nvPr/>
          </p:nvSpPr>
          <p:spPr>
            <a:xfrm flipH="1" flipV="1">
              <a:off x="2868480" y="2724840"/>
              <a:ext cx="875160" cy="541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3650760" y="4600440"/>
              <a:ext cx="482040" cy="787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4"/>
            <p:cNvSpPr/>
            <p:nvPr/>
          </p:nvSpPr>
          <p:spPr>
            <a:xfrm>
              <a:off x="5102280" y="4600440"/>
              <a:ext cx="487800" cy="785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0"/>
            <p:cNvSpPr/>
            <p:nvPr/>
          </p:nvSpPr>
          <p:spPr>
            <a:xfrm flipV="1">
              <a:off x="4618080" y="1892880"/>
              <a:ext cx="0" cy="108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 flipV="1">
              <a:off x="5493240" y="2723040"/>
              <a:ext cx="873360" cy="543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"/>
            <p:cNvSpPr/>
            <p:nvPr/>
          </p:nvSpPr>
          <p:spPr>
            <a:xfrm>
              <a:off x="3545280" y="1035000"/>
              <a:ext cx="2134440" cy="980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6366960" y="2244240"/>
              <a:ext cx="2134800" cy="979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"/>
            <p:cNvSpPr/>
            <p:nvPr/>
          </p:nvSpPr>
          <p:spPr>
            <a:xfrm>
              <a:off x="6672600" y="3803400"/>
              <a:ext cx="2134440" cy="979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ais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365080" y="5303160"/>
              <a:ext cx="2134440" cy="979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nsatin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8"/>
            <p:cNvSpPr/>
            <p:nvPr/>
          </p:nvSpPr>
          <p:spPr>
            <a:xfrm>
              <a:off x="1734120" y="5303160"/>
              <a:ext cx="2134800" cy="979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Relat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9"/>
            <p:cNvSpPr/>
            <p:nvPr/>
          </p:nvSpPr>
          <p:spPr>
            <a:xfrm>
              <a:off x="428760" y="3808800"/>
              <a:ext cx="2134800" cy="979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and Safet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1"/>
            <p:cNvSpPr/>
            <p:nvPr/>
          </p:nvSpPr>
          <p:spPr>
            <a:xfrm>
              <a:off x="737640" y="2250000"/>
              <a:ext cx="2134800" cy="979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irnes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0"/>
            <p:cNvSpPr/>
            <p:nvPr/>
          </p:nvSpPr>
          <p:spPr>
            <a:xfrm flipH="1">
              <a:off x="2559240" y="4029120"/>
              <a:ext cx="963000" cy="173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0"/>
            <p:cNvSpPr/>
            <p:nvPr/>
          </p:nvSpPr>
          <p:spPr>
            <a:xfrm>
              <a:off x="5709600" y="4026960"/>
              <a:ext cx="963000" cy="173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3502080" y="2980440"/>
              <a:ext cx="2235240" cy="1749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um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 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HRM)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360" y="320760"/>
            <a:ext cx="813744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trategic Role of International H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0768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s need to ensure there is a fit between their human resources practices and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carry out a strategy effectively, employees need the right training, an appropriate compensation package, and a good performance apprais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lobal Staff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7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candidates for overseas ass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oc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orientation and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nsation proces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er planning an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ing of spouse and dependent ma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HRM in Inter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4320" y="1508040"/>
            <a:ext cx="850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ever their level of global participation, organizations that operate in more than one country must recognize that the countries are not equal and differ in terms of four key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Cul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Education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Economic system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Political system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040" y="410760"/>
            <a:ext cx="85550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HRM in International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74680" y="1584360"/>
            <a:ext cx="8643960" cy="48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22:50:15Z</dcterms:created>
  <dc:creator>Charlie Cook, The University of West Alabama</dc:creator>
  <dc:description/>
  <dc:language>en-US</dc:language>
  <cp:lastModifiedBy>User</cp:lastModifiedBy>
  <dcterms:modified xsi:type="dcterms:W3CDTF">2014-10-20T13:18:00Z</dcterms:modified>
  <cp:revision>74</cp:revision>
  <dc:subject>Chapter 17</dc:subject>
  <dc:title>Human Resource Management 10e.- Gary Dessler</dc:title>
</cp:coreProperties>
</file>