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6BD-AA93-4160-8E5E-C91FD04B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2B4-BF88-4B60-BFA6-F9FEE813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98CD-6D38-40C5-B441-F25D8A0756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 presented by culture have some impacts on H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19A1-CF9F-4F91-9A17-F0E61E5A87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63FB-28B2-4936-A443-D7900D0CB1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4830-0302-4512-BD1E-695EDDE5EA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0DE-2705-464E-BDBE-A7DB638C47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97D-394E-4C44-8FC3-EF9C07EDA5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990-0BD4-4602-8BA0-1D7373ECA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1E6A-D8E9-49C7-A64A-3E8EC010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206F-73DF-4DC7-B553-9E728F88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82C-0686-413F-A1AE-EC77CE43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C78-88F8-440D-8A2B-904ACEE0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246-B3D8-4090-9140-AE08A350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FFBF-2BE7-4A76-A5F8-4E4BE051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427-3E80-4207-8047-09B12764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AE2-9456-4B04-9803-28097024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5EDD-2F29-4AF3-B2CD-5E349F74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BA4-8B91-4490-9AAD-095B2F1E91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AEE-E72C-4BFB-8049-3ED6543C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B73-8FA6-45EF-B778-7F184533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992-3ABC-4CD6-BA2D-0E5681B7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D76-C5A3-48D9-9567-239FD6E4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C73-20E4-498D-8DB0-D417291A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4B4-3034-4E1E-AD99-E581BFEC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A6C-70A0-47A9-A597-987A655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AB9-EA95-4F6F-BA3F-0D5CFD91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F08-A9F7-4E3D-9AC6-46868C5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87C-377E-4094-9479-1B5CC88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04F-FC59-42B2-BEDE-620B6263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BAB-A104-404C-85A4-DADBD0E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© 2005 Prentice Hall Inc. All rights reser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17–</a:t>
            </a:r>
            <a:fld id="{DB636C87-A6D0-4B3B-BCE5-A4F4B62AFB1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49360" y="1874880"/>
            <a:ext cx="7781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Global Human Resource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44056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4320" y="1417680"/>
            <a:ext cx="862308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MS PGothic"/>
              </a:rPr>
              <a:t>Cultural characteristics influence the ways members of an organization behave toward one another as well as their attitudes toward various HRM practic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MS PGothic"/>
              </a:rPr>
              <a:t>Cultures strongly influence the suitability of HRM practic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MS PGothic"/>
              </a:rPr>
              <a:t>Cultural differences can affect how people communicate and how they coordinate their activ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360" y="41112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lt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8412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Organizations must prepare managers to recognize and handle cultural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224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Recruit managers with knowledge of other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224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vide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For expatriate assignments, organizations may need to conduct an extensive selection process to identify individuals who can adapt to new environ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3744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and Skill Lev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5040" y="1325520"/>
            <a:ext cx="8413920" cy="51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Countries also differ in the degree to which their labor markets include people with education and skills of value to employ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Companies with foreign operations locate in countries where they can find suitable employ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The educations and skill levels of a country’s labor force affect how and the extent to which companies want to operate the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In countries with a poorly educated population, companies will limit their activities to low-skill, low-wage job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11120"/>
            <a:ext cx="841212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4680" y="1508040"/>
            <a:ext cx="85107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country’s economic system, whether capitalist or socialist, as well as the government’s involvement in the economy through taxes or compensation, price controls, and other activities, influences HRM practices in a number of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economic system provides many of the incentives or disincentives for developing the value of the labor 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64680" y="1599840"/>
            <a:ext cx="8504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 with great wealth, labor costs are relatively high. This impacts compensation and staffing prac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e tax differences between countries make pay structures more complicated when they cross nat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-Legal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325520"/>
            <a:ext cx="8504280" cy="50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country’s laws  often dictate the requirements for HRM practices: training, compensation, hiring, and fi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n organization that expands internationally must gain expertise in the host country’s legal requirements and ways of dealing with its legal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Organizations will hire one or more host- country nationals to help in the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680" y="410760"/>
            <a:ext cx="846288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5040" y="1417680"/>
            <a:ext cx="8413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organizations operate globally. Employees may come fro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Parent (home)-country national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mployee who was born and works in the country in which an organization’s headquarters is loc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Host-country national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mployee who is a citizen of the country in which an organization operates a fac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Third-country national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mployee who is a citizen of a country that is neither the parent country nor the host country of the employ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040" y="1507680"/>
            <a:ext cx="841392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m’s </a:t>
            </a:r>
            <a:r>
              <a:rPr b="0" lang="en-US" sz="3200" spc="-1" strike="noStrike">
                <a:solidFill>
                  <a:srgbClr val="cc6600"/>
                </a:solidFill>
                <a:latin typeface="Calibri"/>
              </a:rPr>
              <a:t>staffing poli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oncerned with the selection of employees who have the skills required to perform a particular job internation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ffing policy can be a tool for developing an promoting the firm’s </a:t>
            </a:r>
            <a:r>
              <a:rPr b="0" lang="en-US" sz="3200" spc="-1" strike="noStrike">
                <a:solidFill>
                  <a:srgbClr val="cc6600"/>
                </a:solidFill>
                <a:latin typeface="Calibri"/>
              </a:rPr>
              <a:t>corporate 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he organization’s norms and value syste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rong corporate culture can help the firm implement its strate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main approaches to staffing policy within international busine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 the ethnocentric 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the polycentric 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the geocentric 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4680" y="1599840"/>
            <a:ext cx="8139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1. The ethnocentric approa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staffing policy fills key management positions with parent-country nation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akes sense for firms with an international strategy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irms that pursue an ethnocentric policy believe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 lack of qualified individuals in the host country to fill senior management posi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" y="1417680"/>
            <a:ext cx="841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RM is more complex in an international business because of differences between countries in labor markets, culture, legal systems, economic systems, and so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RM must also determine when to use </a:t>
            </a:r>
            <a:r>
              <a:rPr b="1" lang="en-US" sz="3000" spc="-1" strike="noStrike">
                <a:solidFill>
                  <a:srgbClr val="cc6600"/>
                </a:solidFill>
                <a:latin typeface="Calibri"/>
              </a:rPr>
              <a:t>expatriate manager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itizens of one country working abroad)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should be sent on foreign assignments, how they should be compensated, how they should be trained, and how they should be reoriented when they return ho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5040" y="32076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4320" y="1235160"/>
            <a:ext cx="850428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the best way to maintain a joined corporate cul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ue can be created by transferring core competencies to a foreign operation via parent country nation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ethnocentric staffing policy is no longer popular with most firms becaus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limits advancement opportunities for host country nat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lead to "cultural myopia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68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417320"/>
            <a:ext cx="8413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2. The polycentric staffing polic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ruits host country nationals to manage branches in their own country, and parent country nationals for positions at headquar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akes sense for firms pursuing a localization strate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The polycentric approac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minimize cultural myop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y be less expensive to implement than an ethnocentric polic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e are two disadvantages to the polycentric approac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host country nationals have limited opportunities to gain experience outside their own country and thus cannot progress beyond senior positions in their own compa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gap can form between host country managers and parent country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04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4320" y="1417320"/>
            <a:ext cx="8504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3. The geocentric staffing policy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eks the best people, regardless of nationality for key job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approach is consistent with building a strong joining culture and informal management networ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 makes sense for firms pursuing either a global or transnational strateg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mmigration policies of national governments may limit the ability of a firm to pursue this polic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74680" y="320760"/>
            <a:ext cx="8229600" cy="822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geocentric appro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the firm to make the best use of its human re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s a team of international executives who feel at home working in a number of different cul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limited by immigration la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costly to imp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13744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nagement Challenges of Internationa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5040" y="159984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market, product, and production plans on a worldwide ba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organization structures capable of balancing centralized home-office control with adequate local aut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ending its HR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ystems to service its staffing needs abro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20400"/>
            <a:ext cx="8229600" cy="1004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Managemen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4440" y="1311120"/>
            <a:ext cx="8562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Human Resource Management (HRM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uman Resource Management includes all activities used to attract &amp; retain employees and to ensure they perform at a high level in meeting organizational goa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se activities inclu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Staffing (recruitment, selectio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raining and develop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Performance apprais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Compens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labor rel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464-F7C1-4EF7-9405-9E44E0868731}" type="slidenum">
              <a:rPr b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Resource Manage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51E-5826-4E7F-B770-5E5CD85B30C3}" type="slidenum">
              <a:rPr b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6"/>
          <p:cNvGrpSpPr/>
          <p:nvPr/>
        </p:nvGrpSpPr>
        <p:grpSpPr>
          <a:xfrm>
            <a:off x="428760" y="1035000"/>
            <a:ext cx="8378280" cy="5248080"/>
            <a:chOff x="428760" y="1035000"/>
            <a:chExt cx="8378280" cy="5248080"/>
          </a:xfrm>
        </p:grpSpPr>
        <p:sp>
          <p:nvSpPr>
            <p:cNvPr id="59" name="_s1028"/>
            <p:cNvSpPr/>
            <p:nvPr/>
          </p:nvSpPr>
          <p:spPr>
            <a:xfrm flipH="1" flipV="1">
              <a:off x="2868480" y="2724840"/>
              <a:ext cx="875160" cy="541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H="1">
              <a:off x="3650760" y="4600440"/>
              <a:ext cx="482040" cy="787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4"/>
            <p:cNvSpPr/>
            <p:nvPr/>
          </p:nvSpPr>
          <p:spPr>
            <a:xfrm>
              <a:off x="5102280" y="4600440"/>
              <a:ext cx="487800" cy="785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0"/>
            <p:cNvSpPr/>
            <p:nvPr/>
          </p:nvSpPr>
          <p:spPr>
            <a:xfrm flipV="1">
              <a:off x="4618080" y="1892880"/>
              <a:ext cx="0" cy="108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 flipV="1">
              <a:off x="5493240" y="2723040"/>
              <a:ext cx="873360" cy="543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"/>
            <p:cNvSpPr/>
            <p:nvPr/>
          </p:nvSpPr>
          <p:spPr>
            <a:xfrm>
              <a:off x="3545280" y="1035000"/>
              <a:ext cx="2134440" cy="980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6366960" y="2244240"/>
              <a:ext cx="2134800" cy="979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4"/>
            <p:cNvSpPr/>
            <p:nvPr/>
          </p:nvSpPr>
          <p:spPr>
            <a:xfrm>
              <a:off x="6672600" y="3803400"/>
              <a:ext cx="2134440" cy="979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aisa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365080" y="5303160"/>
              <a:ext cx="2134440" cy="979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ensat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8"/>
            <p:cNvSpPr/>
            <p:nvPr/>
          </p:nvSpPr>
          <p:spPr>
            <a:xfrm>
              <a:off x="1734120" y="5303160"/>
              <a:ext cx="2134800" cy="979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 Relat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9"/>
            <p:cNvSpPr/>
            <p:nvPr/>
          </p:nvSpPr>
          <p:spPr>
            <a:xfrm>
              <a:off x="428760" y="3808800"/>
              <a:ext cx="2134800" cy="979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and Safet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1"/>
            <p:cNvSpPr/>
            <p:nvPr/>
          </p:nvSpPr>
          <p:spPr>
            <a:xfrm>
              <a:off x="737640" y="2250000"/>
              <a:ext cx="2134800" cy="979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irnes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0"/>
            <p:cNvSpPr/>
            <p:nvPr/>
          </p:nvSpPr>
          <p:spPr>
            <a:xfrm flipH="1">
              <a:off x="2559240" y="4029120"/>
              <a:ext cx="963000" cy="173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0"/>
            <p:cNvSpPr/>
            <p:nvPr/>
          </p:nvSpPr>
          <p:spPr>
            <a:xfrm>
              <a:off x="5709600" y="4026960"/>
              <a:ext cx="963000" cy="173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3502080" y="2980440"/>
              <a:ext cx="2235240" cy="1749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uma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 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HRM)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360" y="320760"/>
            <a:ext cx="813744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trategic Role of International H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s need to ensure there is a fit between their human resources practices and strate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carry out a strategy effectively, employees need the right training, an appropriate compensation package, and a good performance apprais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lobal Staff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7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candidates for overseas assig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ocation proce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tion proce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and language orientation and t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nsation proce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x adminis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er planning an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ling of spouse and dependent ma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HRM in Inter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4320" y="1508040"/>
            <a:ext cx="850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ever their level of global participation, organizations that operate in more than one country must recognize that the countries are not equal and differ in terms of four key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Cul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Education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Economic system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Political system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5040" y="410760"/>
            <a:ext cx="85550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HRM in Inter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274680" y="1584360"/>
            <a:ext cx="8643960" cy="48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22:50:15Z</dcterms:created>
  <dc:creator>Charlie Cook, The University of West Alabama</dc:creator>
  <dc:description/>
  <dc:language>en-US</dc:language>
  <cp:lastModifiedBy>User</cp:lastModifiedBy>
  <dcterms:modified xsi:type="dcterms:W3CDTF">2014-10-20T13:18:00Z</dcterms:modified>
  <cp:revision>74</cp:revision>
  <dc:subject>Chapter 17</dc:subject>
  <dc:title>Human Resource Management 10e.- Gary Dessler</dc:title>
</cp:coreProperties>
</file>