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3.jpeg" ContentType="image/jpeg"/>
  <Override PartName="/ppt/media/image24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CARBRAKE.WAV" ContentType="audio/x-wav"/>
  <Override PartName="/ppt/media/image17.jpeg" ContentType="image/jpeg"/>
  <Override PartName="/ppt/media/image19.png" ContentType="image/png"/>
  <Override PartName="/ppt/media/image21.png" ContentType="image/png"/>
  <Override PartName="/ppt/media/image25.jpeg" ContentType="image/jpeg"/>
  <Override PartName="/ppt/media/image26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4A02-EE03-4992-B726-99F4991D04FF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6C7-83FA-4AAA-902A-94278CB036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91FD-8EE9-40FE-818C-FE9BADC4AE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A2E4-F764-425F-AB72-B60CE9D461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663D-010A-475F-AB2D-D0628D1D7A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BE52-6176-4AC5-A5BC-E174D167FF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EDCF-528A-4AA9-B307-F0214AC007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3228-FE79-4553-B21D-4BF73148B4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5A3A-D577-4217-B941-6C9FC08371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241-58ED-4CF7-A1F8-96FCE893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7E8-D60B-4E11-BD31-2686252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88E-C841-4FCD-9733-B4D68836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B81-2CA0-4814-9FF4-C449F562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1BB7-0043-4E91-80A8-9E2538AA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24C-C727-4CD7-B19E-53FEFDAC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A41C-032A-4A14-BCE3-5D50A319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AE74-646B-47E2-BCF6-422B2A1F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006F-AA2C-44B4-9E0D-3E9B174A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16F5-D143-45D0-BACC-0E913E1B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B9AC-51F1-4D2F-8E03-D51A948A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244-E351-412F-B75E-1C772F72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A42-0EED-4395-B973-9F1A5796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7062-5FDA-46DF-BC9C-F0CD9E90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AE85-155C-451A-8D58-CC8FC55A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58E4-92F7-409D-8E19-AFAB9106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679F-81DD-481A-B466-F2514FEE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250-152B-4812-AA28-0D8B30D3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E84-626A-4404-8906-2D60C395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055-5102-4228-B661-0B89CAA6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B3E-DBCB-48F0-9492-6081D171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48F-231C-4839-8436-2DF80D38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671-8E59-4A4C-8862-9B40372E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3D2-08EE-4F49-B0DA-9B45869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77C3-6FF8-47D5-8A85-E019205B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32B8-AE97-41FA-9AC9-E8A92F6E9E4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4.png"/><Relationship Id="rId6" Type="http://schemas.openxmlformats.org/officeDocument/2006/relationships/image" Target="../media/image16.jpeg"/><Relationship Id="rId7" Type="http://schemas.openxmlformats.org/officeDocument/2006/relationships/image" Target="../media/image14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6FF9-FF5A-4567-8E6C-A357E36EC6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ntroduction to Mark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28760" y="3494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hapter  5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2413-103B-45BE-A484-D4B22747DA01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228600" y="2317680"/>
            <a:ext cx="82296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4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thing that is offered to the market for attention, purchase, or use that satisfies a want or a ne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447920" y="3809880"/>
            <a:ext cx="164880" cy="4255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033640" y="880920"/>
            <a:ext cx="3875040" cy="52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. Product is . . . .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828800" y="809640"/>
            <a:ext cx="29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)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90720" y="2819520"/>
            <a:ext cx="763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nowadays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products have a life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product range is always expa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find out what target market des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4" descr="mobile-phones_cmyk"/>
          <p:cNvPicPr/>
          <p:nvPr/>
        </p:nvPicPr>
        <p:blipFill>
          <a:blip r:embed="rId1"/>
          <a:stretch/>
        </p:blipFill>
        <p:spPr>
          <a:xfrm>
            <a:off x="317520" y="5084640"/>
            <a:ext cx="23763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20"/>
          <p:cNvGrpSpPr/>
          <p:nvPr/>
        </p:nvGrpSpPr>
        <p:grpSpPr>
          <a:xfrm>
            <a:off x="990720" y="1025640"/>
            <a:ext cx="7924680" cy="2457360"/>
            <a:chOff x="990720" y="1025640"/>
            <a:chExt cx="7924680" cy="2457360"/>
          </a:xfrm>
        </p:grpSpPr>
        <p:sp>
          <p:nvSpPr>
            <p:cNvPr id="155" name="Text Box 4"/>
            <p:cNvSpPr/>
            <p:nvPr/>
          </p:nvSpPr>
          <p:spPr>
            <a:xfrm>
              <a:off x="990720" y="205740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SzPct val="6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traditional economies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: same things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   produced and consumed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56" name="Picture 19" descr="http://www.ag-neuss.nrw.de/service/zeiten/Telefon_alt.jpg"/>
            <p:cNvPicPr/>
            <p:nvPr/>
          </p:nvPicPr>
          <p:blipFill>
            <a:blip r:embed="rId2"/>
            <a:stretch/>
          </p:blipFill>
          <p:spPr>
            <a:xfrm>
              <a:off x="5638680" y="1025640"/>
              <a:ext cx="3276720" cy="245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Types of Produ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Slide Number Placeholder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1343-FFD7-4E1E-8823-F4D9E9C5302A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Group 20"/>
          <p:cNvGrpSpPr/>
          <p:nvPr/>
        </p:nvGrpSpPr>
        <p:grpSpPr>
          <a:xfrm>
            <a:off x="1144440" y="2239920"/>
            <a:ext cx="6558120" cy="2849760"/>
            <a:chOff x="1144440" y="2239920"/>
            <a:chExt cx="6558120" cy="2849760"/>
          </a:xfrm>
        </p:grpSpPr>
        <p:sp>
          <p:nvSpPr>
            <p:cNvPr id="160" name="Freeform 7"/>
            <p:cNvSpPr/>
            <p:nvPr/>
          </p:nvSpPr>
          <p:spPr>
            <a:xfrm>
              <a:off x="2122560" y="3602160"/>
              <a:ext cx="4603680" cy="496800"/>
            </a:xfrm>
            <a:custGeom>
              <a:avLst/>
              <a:gdLst/>
              <a:ahLst/>
              <a:rect l="l" t="t" r="r" b="b"/>
              <a:pathLst>
                <a:path w="2749" h="217">
                  <a:moveTo>
                    <a:pt x="0" y="216"/>
                  </a:moveTo>
                  <a:lnTo>
                    <a:pt x="0" y="0"/>
                  </a:lnTo>
                  <a:lnTo>
                    <a:pt x="2748" y="0"/>
                  </a:lnTo>
                  <a:lnTo>
                    <a:pt x="2748" y="199"/>
                  </a:lnTo>
                </a:path>
              </a:pathLst>
            </a:custGeom>
            <a:noFill/>
            <a:ln cap="rnd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1144440" y="4149720"/>
              <a:ext cx="197676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5726160" y="4149720"/>
              <a:ext cx="197640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dust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4408560" y="3198960"/>
              <a:ext cx="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15"/>
            <p:cNvSpPr/>
            <p:nvPr/>
          </p:nvSpPr>
          <p:spPr>
            <a:xfrm>
              <a:off x="3419640" y="2239920"/>
              <a:ext cx="1974600" cy="939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3419640" y="4149720"/>
              <a:ext cx="1976400" cy="9399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4572000" y="2971800"/>
              <a:ext cx="0" cy="53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4678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Some Industries - Service Sect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9960" y="22050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nk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aurant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s and entertai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716000" y="22050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lesaling and retai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y-cl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8655-4E80-4BB8-8FA9-CD36AB9D8356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895480" y="304920"/>
            <a:ext cx="2514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Verdana"/>
              </a:rPr>
              <a:t>b) Pri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" descr="money_clipart"/>
          <p:cNvPicPr/>
          <p:nvPr/>
        </p:nvPicPr>
        <p:blipFill>
          <a:blip r:embed="rId1"/>
          <a:stretch/>
        </p:blipFill>
        <p:spPr>
          <a:xfrm>
            <a:off x="7743960" y="115920"/>
            <a:ext cx="1009440" cy="115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moneystack_m"/>
          <p:cNvPicPr/>
          <p:nvPr/>
        </p:nvPicPr>
        <p:blipFill>
          <a:blip r:embed="rId2"/>
          <a:stretch/>
        </p:blipFill>
        <p:spPr>
          <a:xfrm>
            <a:off x="6156360" y="333360"/>
            <a:ext cx="1225440" cy="919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85080" y="114300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icing strateg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362320" y="1905120"/>
            <a:ext cx="426708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Market determin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362320" y="3048120"/>
            <a:ext cx="426708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rice as an express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8520" y="4343400"/>
            <a:ext cx="46281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Price as a method of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ining market sh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0" descr="merzedes-stern"/>
          <p:cNvPicPr/>
          <p:nvPr/>
        </p:nvPicPr>
        <p:blipFill>
          <a:blip r:embed="rId3"/>
          <a:stretch/>
        </p:blipFill>
        <p:spPr>
          <a:xfrm>
            <a:off x="6629400" y="3048120"/>
            <a:ext cx="1447920" cy="99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somalian-famine-victims"/>
          <p:cNvPicPr/>
          <p:nvPr/>
        </p:nvPicPr>
        <p:blipFill>
          <a:blip r:embed="rId4"/>
          <a:stretch/>
        </p:blipFill>
        <p:spPr>
          <a:xfrm>
            <a:off x="6629400" y="1905120"/>
            <a:ext cx="1447920" cy="971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9"/>
          <p:cNvSpPr/>
          <p:nvPr/>
        </p:nvSpPr>
        <p:spPr>
          <a:xfrm>
            <a:off x="8567640" y="6553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cf01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Group 27"/>
          <p:cNvGrpSpPr/>
          <p:nvPr/>
        </p:nvGrpSpPr>
        <p:grpSpPr>
          <a:xfrm>
            <a:off x="990720" y="1905120"/>
            <a:ext cx="1371600" cy="952560"/>
            <a:chOff x="990720" y="1905120"/>
            <a:chExt cx="1371600" cy="952560"/>
          </a:xfrm>
        </p:grpSpPr>
        <p:pic>
          <p:nvPicPr>
            <p:cNvPr id="182" name="Picture 22" descr="Überlaufender Mülleimer mit der Aufschrift «Danke!»"/>
            <p:cNvPicPr/>
            <p:nvPr/>
          </p:nvPicPr>
          <p:blipFill>
            <a:blip r:embed="rId5"/>
            <a:stretch/>
          </p:blipFill>
          <p:spPr>
            <a:xfrm>
              <a:off x="990720" y="1905120"/>
              <a:ext cx="137160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Object 23" descr="Foto: Pizza Bolognese - Druckversion hier klicken "/>
            <p:cNvPicPr/>
            <p:nvPr/>
          </p:nvPicPr>
          <p:blipFill>
            <a:blip r:embed="rId6"/>
            <a:stretch/>
          </p:blipFill>
          <p:spPr>
            <a:xfrm>
              <a:off x="1504800" y="2590920"/>
              <a:ext cx="399600" cy="2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Picture 25" descr="http://communityneu.klz.apa.net/static/sites/bernhaus/media/P1020762.story.jpg"/>
          <p:cNvPicPr/>
          <p:nvPr/>
        </p:nvPicPr>
        <p:blipFill>
          <a:blip r:embed="rId7"/>
          <a:stretch/>
        </p:blipFill>
        <p:spPr>
          <a:xfrm>
            <a:off x="4343400" y="4111560"/>
            <a:ext cx="3657600" cy="2746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9" descr="http://www.toyota-peene.de/Bilder/Toyota+Logo.jpg"/>
          <p:cNvPicPr/>
          <p:nvPr/>
        </p:nvPicPr>
        <p:blipFill>
          <a:blip r:embed="rId8"/>
          <a:stretch/>
        </p:blipFill>
        <p:spPr>
          <a:xfrm>
            <a:off x="1219320" y="30481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981080" y="304920"/>
            <a:ext cx="464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Verdana"/>
              </a:rPr>
              <a:t>c) Plac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distribu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10" descr="MCj01376270000[1]1"/>
          <p:cNvPicPr/>
          <p:nvPr/>
        </p:nvPicPr>
        <p:blipFill>
          <a:blip r:embed="rId1"/>
          <a:stretch/>
        </p:blipFill>
        <p:spPr>
          <a:xfrm>
            <a:off x="304920" y="1371600"/>
            <a:ext cx="1820880" cy="1603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295200" y="9144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duction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20" descr="warehouse"/>
          <p:cNvPicPr/>
          <p:nvPr/>
        </p:nvPicPr>
        <p:blipFill>
          <a:blip r:embed="rId2"/>
          <a:stretch/>
        </p:blipFill>
        <p:spPr>
          <a:xfrm>
            <a:off x="3124080" y="1486080"/>
            <a:ext cx="1905120" cy="1436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1"/>
          <p:cNvSpPr/>
          <p:nvPr/>
        </p:nvSpPr>
        <p:spPr>
          <a:xfrm>
            <a:off x="329112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22"/>
          <p:cNvSpPr/>
          <p:nvPr/>
        </p:nvSpPr>
        <p:spPr>
          <a:xfrm>
            <a:off x="1905120" y="251460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2" descr="trailer5"/>
          <p:cNvPicPr/>
          <p:nvPr/>
        </p:nvPicPr>
        <p:blipFill>
          <a:blip r:embed="rId3"/>
          <a:stretch/>
        </p:blipFill>
        <p:spPr>
          <a:xfrm>
            <a:off x="1981080" y="2438280"/>
            <a:ext cx="677880" cy="4716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25"/>
          <p:cNvSpPr/>
          <p:nvPr/>
        </p:nvSpPr>
        <p:spPr>
          <a:xfrm>
            <a:off x="7391520" y="2895480"/>
            <a:ext cx="485640" cy="1295640"/>
          </a:xfrm>
          <a:prstGeom prst="downArrow">
            <a:avLst>
              <a:gd name="adj1" fmla="val 50000"/>
              <a:gd name="adj2" fmla="val 6669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28" descr="metro"/>
          <p:cNvPicPr/>
          <p:nvPr/>
        </p:nvPicPr>
        <p:blipFill>
          <a:blip r:embed="rId4"/>
          <a:stretch/>
        </p:blipFill>
        <p:spPr>
          <a:xfrm>
            <a:off x="6629400" y="1447920"/>
            <a:ext cx="1981080" cy="13968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33"/>
          <p:cNvSpPr/>
          <p:nvPr/>
        </p:nvSpPr>
        <p:spPr>
          <a:xfrm>
            <a:off x="5181480" y="251460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34" descr="trailer5"/>
          <p:cNvPicPr/>
          <p:nvPr/>
        </p:nvPicPr>
        <p:blipFill>
          <a:blip r:embed="rId5"/>
          <a:stretch/>
        </p:blipFill>
        <p:spPr>
          <a:xfrm>
            <a:off x="5257800" y="2438280"/>
            <a:ext cx="677880" cy="471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5"/>
          <p:cNvSpPr/>
          <p:nvPr/>
        </p:nvSpPr>
        <p:spPr>
          <a:xfrm>
            <a:off x="6720120" y="8380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6973200" y="60199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5334120" y="54864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1" descr="man-eating-doughnuts_~POP024"/>
          <p:cNvPicPr/>
          <p:nvPr/>
        </p:nvPicPr>
        <p:blipFill>
          <a:blip r:embed="rId6"/>
          <a:stretch/>
        </p:blipFill>
        <p:spPr>
          <a:xfrm>
            <a:off x="3505320" y="4343400"/>
            <a:ext cx="1600200" cy="1582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2" descr="trailer5"/>
          <p:cNvPicPr/>
          <p:nvPr/>
        </p:nvPicPr>
        <p:blipFill>
          <a:blip r:embed="rId7"/>
          <a:stretch/>
        </p:blipFill>
        <p:spPr>
          <a:xfrm>
            <a:off x="7315200" y="3124080"/>
            <a:ext cx="677880" cy="4716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6"/>
          <p:cNvSpPr/>
          <p:nvPr/>
        </p:nvSpPr>
        <p:spPr>
          <a:xfrm>
            <a:off x="3670560" y="6012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1523880" y="3048120"/>
            <a:ext cx="205740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9" descr="MobilePhones_GaetanLee_1"/>
          <p:cNvPicPr/>
          <p:nvPr/>
        </p:nvPicPr>
        <p:blipFill>
          <a:blip r:embed="rId8"/>
          <a:stretch/>
        </p:blipFill>
        <p:spPr>
          <a:xfrm>
            <a:off x="6553080" y="4267080"/>
            <a:ext cx="2362320" cy="1575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0"/>
          <p:cNvSpPr/>
          <p:nvPr/>
        </p:nvSpPr>
        <p:spPr>
          <a:xfrm>
            <a:off x="8567640" y="6553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cf01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124000" y="333360"/>
            <a:ext cx="3514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Tahoma"/>
              </a:rPr>
              <a:t>d) Promo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58920" y="1197000"/>
            <a:ext cx="22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58920" y="19162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municate with 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258920" y="2421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fluence 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7" descr="megaphone1"/>
          <p:cNvPicPr/>
          <p:nvPr/>
        </p:nvPicPr>
        <p:blipFill>
          <a:blip r:embed="rId1"/>
          <a:stretch/>
        </p:blipFill>
        <p:spPr>
          <a:xfrm>
            <a:off x="6629400" y="304920"/>
            <a:ext cx="2352600" cy="2095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Sprechblase1"/>
          <p:cNvPicPr/>
          <p:nvPr/>
        </p:nvPicPr>
        <p:blipFill>
          <a:blip r:embed="rId2"/>
          <a:stretch/>
        </p:blipFill>
        <p:spPr>
          <a:xfrm>
            <a:off x="5562720" y="380880"/>
            <a:ext cx="1368360" cy="966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2"/>
          <p:cNvSpPr/>
          <p:nvPr/>
        </p:nvSpPr>
        <p:spPr>
          <a:xfrm>
            <a:off x="789120" y="3200400"/>
            <a:ext cx="3998880" cy="301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4 major too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ales fo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419120" y="-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38080" y="53352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1. 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6" descr="clipart_television"/>
          <p:cNvPicPr/>
          <p:nvPr/>
        </p:nvPicPr>
        <p:blipFill>
          <a:blip r:embed="rId1"/>
          <a:stretch/>
        </p:blipFill>
        <p:spPr>
          <a:xfrm>
            <a:off x="914400" y="5029200"/>
            <a:ext cx="1655640" cy="153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Radio"/>
          <p:cNvPicPr/>
          <p:nvPr/>
        </p:nvPicPr>
        <p:blipFill>
          <a:blip r:embed="rId2"/>
          <a:stretch/>
        </p:blipFill>
        <p:spPr>
          <a:xfrm>
            <a:off x="4191120" y="4724280"/>
            <a:ext cx="1892160" cy="1943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1"/>
          <p:cNvSpPr/>
          <p:nvPr/>
        </p:nvSpPr>
        <p:spPr>
          <a:xfrm>
            <a:off x="1600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74680" y="1371600"/>
            <a:ext cx="757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esents a </a:t>
            </a: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reason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to buy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product/servi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5" descr="chinese_coke_billboard"/>
          <p:cNvPicPr/>
          <p:nvPr/>
        </p:nvPicPr>
        <p:blipFill>
          <a:blip r:embed="rId3"/>
          <a:stretch/>
        </p:blipFill>
        <p:spPr>
          <a:xfrm>
            <a:off x="838080" y="2971800"/>
            <a:ext cx="1836720" cy="136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1" descr="internet"/>
          <p:cNvPicPr/>
          <p:nvPr/>
        </p:nvPicPr>
        <p:blipFill>
          <a:blip r:embed="rId4"/>
          <a:stretch/>
        </p:blipFill>
        <p:spPr>
          <a:xfrm>
            <a:off x="708660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2"/>
          <p:cNvSpPr/>
          <p:nvPr/>
        </p:nvSpPr>
        <p:spPr>
          <a:xfrm>
            <a:off x="990720" y="396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25" descr="bild_podcast"/>
          <p:cNvPicPr/>
          <p:nvPr/>
        </p:nvPicPr>
        <p:blipFill>
          <a:blip r:embed="rId5"/>
          <a:stretch/>
        </p:blipFill>
        <p:spPr>
          <a:xfrm>
            <a:off x="4114800" y="29718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6"/>
          <p:cNvSpPr/>
          <p:nvPr/>
        </p:nvSpPr>
        <p:spPr>
          <a:xfrm>
            <a:off x="445320" y="23194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ed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8567640" y="6553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43000" y="2286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ahoma"/>
              </a:rPr>
              <a:t>2. Sales pro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143000" y="106056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s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hort-term motiv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o bu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 product/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371600" y="238752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echni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1941120" y="421632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two for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9" name="Group 21"/>
          <p:cNvGrpSpPr/>
          <p:nvPr/>
        </p:nvGrpSpPr>
        <p:grpSpPr>
          <a:xfrm>
            <a:off x="1814760" y="2997360"/>
            <a:ext cx="6338160" cy="1481040"/>
            <a:chOff x="1814760" y="2997360"/>
            <a:chExt cx="6338160" cy="1481040"/>
          </a:xfrm>
        </p:grpSpPr>
        <p:pic>
          <p:nvPicPr>
            <p:cNvPr id="230" name="Picture 13" descr="Kundenkarte"/>
            <p:cNvPicPr/>
            <p:nvPr/>
          </p:nvPicPr>
          <p:blipFill>
            <a:blip r:embed="rId1"/>
            <a:stretch/>
          </p:blipFill>
          <p:spPr>
            <a:xfrm>
              <a:off x="5714640" y="2997360"/>
              <a:ext cx="243828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18"/>
            <p:cNvSpPr/>
            <p:nvPr/>
          </p:nvSpPr>
          <p:spPr>
            <a:xfrm>
              <a:off x="1814760" y="360684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2. loyalty reward poin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2" name="Group 20"/>
          <p:cNvGrpSpPr/>
          <p:nvPr/>
        </p:nvGrpSpPr>
        <p:grpSpPr>
          <a:xfrm>
            <a:off x="1747800" y="914400"/>
            <a:ext cx="6405120" cy="2593440"/>
            <a:chOff x="1747800" y="914400"/>
            <a:chExt cx="6405120" cy="2593440"/>
          </a:xfrm>
        </p:grpSpPr>
        <p:pic>
          <p:nvPicPr>
            <p:cNvPr id="233" name="Picture 11" descr="img_sale_lg"/>
            <p:cNvPicPr/>
            <p:nvPr/>
          </p:nvPicPr>
          <p:blipFill>
            <a:blip r:embed="rId2"/>
            <a:stretch/>
          </p:blipFill>
          <p:spPr>
            <a:xfrm>
              <a:off x="5698800" y="914400"/>
              <a:ext cx="245412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19"/>
            <p:cNvSpPr/>
            <p:nvPr/>
          </p:nvSpPr>
          <p:spPr>
            <a:xfrm>
              <a:off x="1747800" y="3048120"/>
              <a:ext cx="27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1 price reduction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066680" y="838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ahoma"/>
              </a:rPr>
              <a:t>3. Public rel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066680" y="19051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es not aim to increase sales directly but tries to enhancement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mage of the comp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27"/>
          <p:cNvGrpSpPr/>
          <p:nvPr/>
        </p:nvGrpSpPr>
        <p:grpSpPr>
          <a:xfrm>
            <a:off x="1023120" y="3505320"/>
            <a:ext cx="5968080" cy="1558800"/>
            <a:chOff x="1023120" y="3505320"/>
            <a:chExt cx="5968080" cy="1558800"/>
          </a:xfrm>
        </p:grpSpPr>
        <p:sp>
          <p:nvSpPr>
            <p:cNvPr id="238" name="Text Box 13"/>
            <p:cNvSpPr/>
            <p:nvPr/>
          </p:nvSpPr>
          <p:spPr>
            <a:xfrm>
              <a:off x="1023120" y="4191120"/>
              <a:ext cx="326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- - community events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SzPct val="60000"/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haritable events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39" name="Picture 17" descr="http://cache.daylife.com/imageserve/0aux1f2bPIdyr/610x.jpg"/>
            <p:cNvPicPr/>
            <p:nvPr/>
          </p:nvPicPr>
          <p:blipFill>
            <a:blip r:embed="rId1"/>
            <a:stretch/>
          </p:blipFill>
          <p:spPr>
            <a:xfrm>
              <a:off x="4495680" y="3505320"/>
              <a:ext cx="2495520" cy="15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Text Box 22"/>
          <p:cNvSpPr/>
          <p:nvPr/>
        </p:nvSpPr>
        <p:spPr>
          <a:xfrm>
            <a:off x="855360" y="327672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echni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Group 26"/>
          <p:cNvGrpSpPr/>
          <p:nvPr/>
        </p:nvGrpSpPr>
        <p:grpSpPr>
          <a:xfrm>
            <a:off x="988560" y="2438280"/>
            <a:ext cx="8155440" cy="2697120"/>
            <a:chOff x="988560" y="2438280"/>
            <a:chExt cx="8155440" cy="2697120"/>
          </a:xfrm>
        </p:grpSpPr>
        <p:pic>
          <p:nvPicPr>
            <p:cNvPr id="242" name="Picture 19" descr="http://cache.daylife.com/imageserve/08kc2IBgls72j/340x.jpg"/>
            <p:cNvPicPr/>
            <p:nvPr/>
          </p:nvPicPr>
          <p:blipFill>
            <a:blip r:embed="rId2"/>
            <a:stretch/>
          </p:blipFill>
          <p:spPr>
            <a:xfrm>
              <a:off x="7481880" y="2438280"/>
              <a:ext cx="1662120" cy="26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24"/>
            <p:cNvSpPr/>
            <p:nvPr/>
          </p:nvSpPr>
          <p:spPr>
            <a:xfrm>
              <a:off x="988560" y="3809880"/>
              <a:ext cx="29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- press conferen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What is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344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rketing is the management process that identifies, expects and satisfies customer requirements profitably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he right product, in the right place, at the right time, and at the right price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105600" cy="89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6832" dir="3796358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alysis Of Competi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96880" y="2060640"/>
            <a:ext cx="7948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tone Sans"/>
              </a:rPr>
              <a:t>Who  </a:t>
            </a:r>
            <a:r>
              <a:rPr b="0" lang="en-US" sz="2800" spc="-1" strike="noStrike">
                <a:solidFill>
                  <a:srgbClr val="000000"/>
                </a:solidFill>
                <a:latin typeface="Stone Sans"/>
              </a:rPr>
              <a:t>are your competi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tone Sans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Stone Sans"/>
              </a:rPr>
              <a:t>  are their strengths and weakn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tone Sans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Stone Sans"/>
              </a:rPr>
              <a:t>  have been their strateg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tone Sans"/>
              </a:rPr>
              <a:t>How  </a:t>
            </a:r>
            <a:r>
              <a:rPr b="0" lang="en-US" sz="2800" spc="-1" strike="noStrike">
                <a:solidFill>
                  <a:srgbClr val="000000"/>
                </a:solidFill>
                <a:latin typeface="Stone Sans"/>
              </a:rPr>
              <a:t>are they likely to respond to your Marketing pl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F2F-F9C1-444E-ABF5-614B4F5DEC3B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208320" y="621180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The Marketing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written document that acts as a guidebook of marketing activities for the market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25A0-7149-4E85-95DC-023F3A102998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739D-FA52-47B6-A80E-FB6955D3F201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CONTENTS of  MARKETING PL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11280" y="1916280"/>
            <a:ext cx="807552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14400" indent="-40644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Mission Stat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tion Analysis (SW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Strate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81040" indent="-33480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81040" indent="-33480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81040" indent="-33480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81040" indent="-33480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–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, Evaluation and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DF8E-2C11-46B0-976F-5348DDFBD3E3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4572000" y="1619280"/>
            <a:ext cx="0" cy="447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617920" y="1463760"/>
            <a:ext cx="3908160" cy="491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907640" y="189000"/>
            <a:ext cx="5006160" cy="12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ahoma"/>
                <a:ea typeface="Tahoma"/>
              </a:rPr>
              <a:t>The Marketing Proces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2590920" y="1219320"/>
            <a:ext cx="3927240" cy="1995840"/>
            <a:chOff x="2590920" y="1219320"/>
            <a:chExt cx="3927240" cy="1995840"/>
          </a:xfrm>
        </p:grpSpPr>
        <p:sp>
          <p:nvSpPr>
            <p:cNvPr id="260" name="Line 6"/>
            <p:cNvSpPr/>
            <p:nvPr/>
          </p:nvSpPr>
          <p:spPr>
            <a:xfrm>
              <a:off x="2598840" y="2913120"/>
              <a:ext cx="39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>
              <a:off x="2590920" y="2193840"/>
              <a:ext cx="39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3949560" y="1219320"/>
              <a:ext cx="1224000" cy="566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4121280" y="1233360"/>
              <a:ext cx="8697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usiness Mission Statemen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3944880" y="1917720"/>
              <a:ext cx="1224000" cy="566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116600" y="2076480"/>
              <a:ext cx="869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bjectiv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3944880" y="2619360"/>
              <a:ext cx="1224000" cy="566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4116600" y="2633760"/>
              <a:ext cx="8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tuation or SWOT Analysi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Group 33"/>
          <p:cNvGrpSpPr/>
          <p:nvPr/>
        </p:nvGrpSpPr>
        <p:grpSpPr>
          <a:xfrm>
            <a:off x="3825720" y="6049800"/>
            <a:ext cx="1492560" cy="627480"/>
            <a:chOff x="3825720" y="6049800"/>
            <a:chExt cx="1492560" cy="627480"/>
          </a:xfrm>
        </p:grpSpPr>
        <p:sp>
          <p:nvSpPr>
            <p:cNvPr id="269" name="Rectangle 15"/>
            <p:cNvSpPr/>
            <p:nvPr/>
          </p:nvSpPr>
          <p:spPr>
            <a:xfrm>
              <a:off x="3848040" y="6049800"/>
              <a:ext cx="1447920" cy="567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3825720" y="6095880"/>
              <a:ext cx="149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mplementation Evaluation, Contro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Line 18"/>
          <p:cNvSpPr/>
          <p:nvPr/>
        </p:nvSpPr>
        <p:spPr>
          <a:xfrm>
            <a:off x="2612880" y="4513320"/>
            <a:ext cx="39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2928960" y="3268800"/>
            <a:ext cx="3286080" cy="2593800"/>
          </a:xfrm>
          <a:prstGeom prst="rect">
            <a:avLst/>
          </a:prstGeom>
          <a:solidFill>
            <a:srgbClr val="cc99ff"/>
          </a:solidFill>
          <a:ln w="12600">
            <a:solidFill>
              <a:srgbClr val="1c1c1c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3960720" y="3716280"/>
            <a:ext cx="12240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  <a:effectLst>
            <a:outerShdw dist="89604" dir="2700000" blurRad="0" rotWithShape="0">
              <a:srgbClr val="bba6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3776760" y="3787920"/>
            <a:ext cx="1592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arget Market Strate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3151080" y="3303720"/>
            <a:ext cx="266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Strate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3274920" y="4394160"/>
            <a:ext cx="259416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  <a:effectLst>
            <a:outerShdw dist="89604" dir="2700000" blurRad="0" rotWithShape="0">
              <a:srgbClr val="bba6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3470400" y="4862520"/>
            <a:ext cx="990360" cy="3319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3583440" y="4911840"/>
            <a:ext cx="7470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3465360" y="5305320"/>
            <a:ext cx="990720" cy="3319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3478320" y="5354640"/>
            <a:ext cx="9478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mo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28"/>
          <p:cNvSpPr/>
          <p:nvPr/>
        </p:nvSpPr>
        <p:spPr>
          <a:xfrm>
            <a:off x="4572000" y="4848120"/>
            <a:ext cx="1219320" cy="3319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4451040" y="4897440"/>
            <a:ext cx="1466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ace/Distrib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30"/>
          <p:cNvSpPr/>
          <p:nvPr/>
        </p:nvSpPr>
        <p:spPr>
          <a:xfrm>
            <a:off x="4572000" y="5291280"/>
            <a:ext cx="1219320" cy="33156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31"/>
          <p:cNvSpPr/>
          <p:nvPr/>
        </p:nvSpPr>
        <p:spPr>
          <a:xfrm>
            <a:off x="4902480" y="5340240"/>
            <a:ext cx="534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32"/>
          <p:cNvSpPr/>
          <p:nvPr/>
        </p:nvSpPr>
        <p:spPr>
          <a:xfrm>
            <a:off x="3522240" y="4468680"/>
            <a:ext cx="204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arketing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 forces influencing the company’s ability to conduct business effectively with it’s target mark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arket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icro-environmen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ces close to the company that affect its ability to serve its  custom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acro-environmen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arger societal forces that affect the whole micro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3"/>
          <p:cNvSpPr/>
          <p:nvPr/>
        </p:nvSpPr>
        <p:spPr>
          <a:xfrm>
            <a:off x="900000" y="907920"/>
            <a:ext cx="7683480" cy="5586480"/>
          </a:xfrm>
          <a:prstGeom prst="ellipse">
            <a:avLst/>
          </a:prstGeom>
          <a:gradFill rotWithShape="0">
            <a:gsLst>
              <a:gs pos="0">
                <a:srgbClr val="eaec5e"/>
              </a:gs>
              <a:gs pos="100000">
                <a:srgbClr val="f2f49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4"/>
          <p:cNvSpPr/>
          <p:nvPr/>
        </p:nvSpPr>
        <p:spPr>
          <a:xfrm>
            <a:off x="2411280" y="1916280"/>
            <a:ext cx="4613400" cy="3770280"/>
          </a:xfrm>
          <a:prstGeom prst="ellipse">
            <a:avLst/>
          </a:prstGeom>
          <a:gradFill rotWithShape="0">
            <a:gsLst>
              <a:gs pos="0">
                <a:srgbClr val="d93192"/>
              </a:gs>
              <a:gs pos="100000">
                <a:srgbClr val="e15a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5"/>
          <p:cNvSpPr/>
          <p:nvPr/>
        </p:nvSpPr>
        <p:spPr>
          <a:xfrm>
            <a:off x="3884760" y="2828880"/>
            <a:ext cx="1582560" cy="140184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794040" y="1262160"/>
            <a:ext cx="22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mograph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6599160" y="2371680"/>
            <a:ext cx="1841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7120080" y="4035600"/>
            <a:ext cx="1503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tur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3602160" y="5715000"/>
            <a:ext cx="2509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echnologic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1039680" y="4102200"/>
            <a:ext cx="159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1222200" y="2446200"/>
            <a:ext cx="1478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2563920" y="1346040"/>
            <a:ext cx="761760" cy="87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13"/>
          <p:cNvSpPr/>
          <p:nvPr/>
        </p:nvSpPr>
        <p:spPr>
          <a:xfrm flipH="1">
            <a:off x="5889600" y="1346040"/>
            <a:ext cx="898560" cy="80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949560" y="2085840"/>
            <a:ext cx="1868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5403960" y="3767040"/>
            <a:ext cx="16603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740040" y="4640400"/>
            <a:ext cx="22179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mediar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5543640" y="3094200"/>
            <a:ext cx="15922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2424240" y="3630600"/>
            <a:ext cx="19368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2495520" y="3094200"/>
            <a:ext cx="1312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EST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olitical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Economic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ocio-cultural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echnological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olitical/leg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vironmental protection la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axation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ployment la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overnment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gis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conomic Fa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20576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fl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Employ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isposable inc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Energy availability and co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6881-10A3-4E1B-8F8E-34F8A165DE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e Goal of Marketing is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attract new custo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ensuring superior value, an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ep current custom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delivering satisf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ociocultural fa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tribution of in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cial mo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festyl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vels of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echnolog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discoveries and inno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eed of technology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formation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FB6A-5480-4740-A2DD-E12BB0ED81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ing, more than any other business function, deals with custo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ing custome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alue and satisf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at the very heart of modern marketing thinking and pract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94FE-2A69-43C7-BC67-74830C90F4FF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26920" y="5493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707"/>
                </a:solidFill>
                <a:latin typeface="Tahoma"/>
                <a:ea typeface="Tahoma"/>
              </a:rPr>
              <a:t>Difference Between - Sales &amp; Market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762120" indent="-762120">
              <a:lnSpc>
                <a:spcPct val="105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707"/>
                </a:solidFill>
                <a:latin typeface="Arial"/>
              </a:rPr>
              <a:t>Sales:</a:t>
            </a:r>
            <a:br>
              <a:rPr sz="4000"/>
            </a:br>
            <a:r>
              <a:rPr b="0" lang="en-US" sz="2800" spc="-1" strike="noStrike">
                <a:solidFill>
                  <a:srgbClr val="070707"/>
                </a:solidFill>
                <a:latin typeface="Arial"/>
              </a:rPr>
              <a:t>trying to get the customer to want what the </a:t>
            </a:r>
            <a:r>
              <a:rPr b="0" i="1" lang="en-US" sz="2800" spc="-1" strike="noStrike" u="sng">
                <a:solidFill>
                  <a:srgbClr val="070707"/>
                </a:solidFill>
                <a:uFillTx/>
                <a:latin typeface="Arial"/>
              </a:rPr>
              <a:t>company</a:t>
            </a:r>
            <a:r>
              <a:rPr b="0" lang="en-US" sz="2800" spc="-1" strike="noStrike">
                <a:solidFill>
                  <a:srgbClr val="070707"/>
                </a:solidFill>
                <a:latin typeface="Arial"/>
              </a:rPr>
              <a:t>  produ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62120" indent="-76212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707"/>
                </a:solidFill>
                <a:latin typeface="Arial"/>
              </a:rPr>
              <a:t>Marketing</a:t>
            </a:r>
            <a:r>
              <a:rPr b="1" lang="en-US" sz="4000" spc="-1" strike="noStrike">
                <a:solidFill>
                  <a:srgbClr val="070707"/>
                </a:solidFill>
                <a:latin typeface="Arial"/>
              </a:rPr>
              <a:t> :</a:t>
            </a:r>
            <a:r>
              <a:rPr b="0" lang="en-US" sz="4400" spc="-1" strike="noStrike">
                <a:solidFill>
                  <a:srgbClr val="070707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070707"/>
                </a:solidFill>
                <a:latin typeface="Arial"/>
              </a:rPr>
              <a:t>trying to  get the company  produce what the </a:t>
            </a:r>
            <a:r>
              <a:rPr b="0" i="1" lang="en-US" sz="2800" spc="-1" strike="noStrike" u="sng">
                <a:solidFill>
                  <a:srgbClr val="070707"/>
                </a:solidFill>
                <a:uFillTx/>
                <a:latin typeface="Arial"/>
              </a:rPr>
              <a:t>customer</a:t>
            </a:r>
            <a:r>
              <a:rPr b="0" i="1" lang="en-US" sz="2800" spc="-1" strike="noStrike">
                <a:solidFill>
                  <a:srgbClr val="070707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70707"/>
                </a:solidFill>
                <a:latin typeface="Arial"/>
              </a:rPr>
              <a:t>wan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62120" indent="-7621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84240" y="3962520"/>
            <a:ext cx="68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Who is a Customer ?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3404-F8D3-4ADA-8404-D5ED83425978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057400"/>
            <a:ext cx="79675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5000"/>
              </a:lnSpc>
              <a:spcBef>
                <a:spcPts val="1749"/>
              </a:spcBef>
              <a:spcAft>
                <a:spcPts val="1225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one who is in the market looking at a product / service for attention, acquisition, use or consump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tisf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want or a n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981080" y="1720800"/>
            <a:ext cx="36417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CUSTOMER IS . . . . .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76640"/>
            <a:ext cx="8229600" cy="35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s needs, wants, demands and des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erstanding these needs is starting point of the entire market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52D8-15BA-48B8-B8D4-3329A6B4B75C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655560" y="1530360"/>
            <a:ext cx="8209080" cy="549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5720" indent="-565200">
              <a:spcBef>
                <a:spcPts val="2001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2001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2001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2001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Pro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1500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1500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1500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1500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685800" y="22860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Marketing Mix (4 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The 4 Ps of Market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0EB6-6951-40FF-8BDF-E42F62D294C1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3200400" y="1793880"/>
            <a:ext cx="2133720" cy="1981080"/>
          </a:xfrm>
          <a:prstGeom prst="ellipse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8600" y="2638080"/>
            <a:ext cx="3286440" cy="2127240"/>
            <a:chOff x="228600" y="2638080"/>
            <a:chExt cx="3286440" cy="2127240"/>
          </a:xfrm>
        </p:grpSpPr>
        <p:sp>
          <p:nvSpPr>
            <p:cNvPr id="136" name="Oval 5"/>
            <p:cNvSpPr/>
            <p:nvPr/>
          </p:nvSpPr>
          <p:spPr>
            <a:xfrm>
              <a:off x="228600" y="3012840"/>
              <a:ext cx="1828800" cy="1752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AutoShape 6"/>
            <p:cNvSpPr/>
            <p:nvPr/>
          </p:nvSpPr>
          <p:spPr>
            <a:xfrm rot="4147800">
              <a:off x="2232360" y="2608920"/>
              <a:ext cx="914400" cy="1417680"/>
            </a:xfrm>
            <a:prstGeom prst="downArrow">
              <a:avLst>
                <a:gd name="adj1" fmla="val 50000"/>
                <a:gd name="adj2" fmla="val 3876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Group 7"/>
          <p:cNvGrpSpPr/>
          <p:nvPr/>
        </p:nvGrpSpPr>
        <p:grpSpPr>
          <a:xfrm>
            <a:off x="2133720" y="3435480"/>
            <a:ext cx="2106000" cy="2778120"/>
            <a:chOff x="2133720" y="3435480"/>
            <a:chExt cx="2106000" cy="2778120"/>
          </a:xfrm>
        </p:grpSpPr>
        <p:sp>
          <p:nvSpPr>
            <p:cNvPr id="139" name="Oval 8"/>
            <p:cNvSpPr/>
            <p:nvPr/>
          </p:nvSpPr>
          <p:spPr>
            <a:xfrm>
              <a:off x="2133720" y="4461120"/>
              <a:ext cx="1828800" cy="1752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 rot="1519800">
              <a:off x="3155760" y="3583080"/>
              <a:ext cx="914400" cy="996840"/>
            </a:xfrm>
            <a:prstGeom prst="downArrow">
              <a:avLst>
                <a:gd name="adj1" fmla="val 50000"/>
                <a:gd name="adj2" fmla="val 2725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4401720" y="3321720"/>
            <a:ext cx="2304000" cy="2891880"/>
            <a:chOff x="4401720" y="3321720"/>
            <a:chExt cx="2304000" cy="2891880"/>
          </a:xfrm>
        </p:grpSpPr>
        <p:sp>
          <p:nvSpPr>
            <p:cNvPr id="142" name="Oval 11"/>
            <p:cNvSpPr/>
            <p:nvPr/>
          </p:nvSpPr>
          <p:spPr>
            <a:xfrm>
              <a:off x="4876920" y="4461120"/>
              <a:ext cx="1828800" cy="175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0707"/>
                  </a:solidFill>
                  <a:latin typeface="Arial Black"/>
                </a:rPr>
                <a:t>Promo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 flipH="1" rot="20080200">
              <a:off x="4601880" y="3462120"/>
              <a:ext cx="914400" cy="1143000"/>
            </a:xfrm>
            <a:prstGeom prst="downArrow">
              <a:avLst>
                <a:gd name="adj1" fmla="val 50000"/>
                <a:gd name="adj2" fmla="val 3125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" name="Group 13"/>
          <p:cNvGrpSpPr/>
          <p:nvPr/>
        </p:nvGrpSpPr>
        <p:grpSpPr>
          <a:xfrm>
            <a:off x="5077080" y="2666880"/>
            <a:ext cx="3228840" cy="1946160"/>
            <a:chOff x="5077080" y="2666880"/>
            <a:chExt cx="3228840" cy="1946160"/>
          </a:xfrm>
        </p:grpSpPr>
        <p:sp>
          <p:nvSpPr>
            <p:cNvPr id="145" name="Oval 14"/>
            <p:cNvSpPr/>
            <p:nvPr/>
          </p:nvSpPr>
          <p:spPr>
            <a:xfrm>
              <a:off x="6477120" y="2860560"/>
              <a:ext cx="1828800" cy="1752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lac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AutoShape 15"/>
            <p:cNvSpPr/>
            <p:nvPr/>
          </p:nvSpPr>
          <p:spPr>
            <a:xfrm flipH="1" rot="17257200">
              <a:off x="5410800" y="2624760"/>
              <a:ext cx="914400" cy="1370520"/>
            </a:xfrm>
            <a:prstGeom prst="downArrow">
              <a:avLst>
                <a:gd name="adj1" fmla="val 50000"/>
                <a:gd name="adj2" fmla="val 37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4:49:01Z</dcterms:created>
  <dc:creator>shaahin</dc:creator>
  <dc:description/>
  <dc:language>en-US</dc:language>
  <cp:lastModifiedBy>User</cp:lastModifiedBy>
  <dcterms:modified xsi:type="dcterms:W3CDTF">2016-10-29T17:58:58Z</dcterms:modified>
  <cp:revision>74</cp:revision>
  <dc:subject/>
  <dc:title>PowerPoint Presentation</dc:title>
</cp:coreProperties>
</file>