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7671-C0C9-45E1-A38D-89CAA23A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F55C-38C2-49E9-8381-7DB3B4E29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406-9943-46BD-BD8D-E06BD29D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21C-E93F-41C6-A694-C0176D3A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89D-F55F-495B-BCEA-F8A9A423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98D-9619-414E-BCCB-CEF97361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ED1-C51B-4DCC-AB6A-50B1A6F1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4F6-F780-40F3-A31A-B5E084F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F4A-8417-4B35-A523-2E26B18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7D3-6D02-4D44-A206-8C6FDA8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A53-744B-4BF9-800B-95FDEFC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3CD-9DDE-4C84-8BB8-34B7CDF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480-AC74-4F35-8AB2-4314F968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080-360D-44E1-AB9A-98E23B6D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EB27-2E83-4F5B-B89F-C1679C57D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4568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046240" y="2247840"/>
            <a:ext cx="51814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4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3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ts of CS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nhance relationships with stakehol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ccess to funding opport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ifferentiating yourself from the competi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ving money on energy and operating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crease in customer re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6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6-11-21T17:25:44Z</dcterms:modified>
  <cp:revision>70</cp:revision>
  <dc:subject/>
  <dc:title>Ethics and Business</dc:title>
</cp:coreProperties>
</file>