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CHIMES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74E4-F731-4A28-A512-B6AB2D53C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Citizenship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cial Responsibility, Responsiveness, and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27FF-B94D-445A-8DC7-B5F39BC3BE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E1AB-AB99-40B0-B8B6-1279C14C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BC7-9D8F-4B03-BC85-DE700300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D295-9BFF-48D5-B0F2-241BA1B9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E00-BB0A-4AAB-A4F9-67CB8F87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519-0894-4700-8536-017045C4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56CA-CB63-4A56-8C7B-07477BBE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1D0-3C2B-4CD9-8433-3D91F4BA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10B-190B-4046-9846-CE213C5C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8DE-1598-46AD-844A-D0B70813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5A25-D25C-4A87-A58F-3651B317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8D73-2C1A-4A17-9FE9-4ED162C7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9680-5F33-498A-835F-A3B89A7B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icture2"/>
          <p:cNvPicPr/>
          <p:nvPr/>
        </p:nvPicPr>
        <p:blipFill>
          <a:blip r:embed="rId2"/>
          <a:stretch/>
        </p:blipFill>
        <p:spPr>
          <a:xfrm>
            <a:off x="-76320" y="6324480"/>
            <a:ext cx="9296640" cy="6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6364440"/>
            <a:ext cx="1908000" cy="493560"/>
            <a:chOff x="0" y="6364440"/>
            <a:chExt cx="1908000" cy="493560"/>
          </a:xfrm>
        </p:grpSpPr>
        <p:sp>
          <p:nvSpPr>
            <p:cNvPr id="4" name="AutoShape 31"/>
            <p:cNvSpPr/>
            <p:nvPr/>
          </p:nvSpPr>
          <p:spPr>
            <a:xfrm>
              <a:off x="0" y="6364440"/>
              <a:ext cx="19080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32"/>
            <p:cNvSpPr/>
            <p:nvPr/>
          </p:nvSpPr>
          <p:spPr>
            <a:xfrm>
              <a:off x="189000" y="6562800"/>
              <a:ext cx="1530360" cy="93600"/>
            </a:xfrm>
            <a:custGeom>
              <a:avLst/>
              <a:gdLst/>
              <a:ahLst/>
              <a:rect l="l" t="t" r="r" b="b"/>
              <a:pathLst>
                <a:path w="21137" h="1300">
                  <a:moveTo>
                    <a:pt x="545" y="9"/>
                  </a:moveTo>
                  <a:cubicBezTo>
                    <a:pt x="672" y="9"/>
                    <a:pt x="672" y="9"/>
                    <a:pt x="672" y="9"/>
                  </a:cubicBezTo>
                  <a:cubicBezTo>
                    <a:pt x="1241" y="1285"/>
                    <a:pt x="1241" y="1285"/>
                    <a:pt x="1241" y="1285"/>
                  </a:cubicBezTo>
                  <a:cubicBezTo>
                    <a:pt x="1055" y="1285"/>
                    <a:pt x="1055" y="1285"/>
                    <a:pt x="1055" y="1285"/>
                  </a:cubicBezTo>
                  <a:cubicBezTo>
                    <a:pt x="886" y="909"/>
                    <a:pt x="886" y="909"/>
                    <a:pt x="886" y="909"/>
                  </a:cubicBezTo>
                  <a:cubicBezTo>
                    <a:pt x="345" y="909"/>
                    <a:pt x="345" y="909"/>
                    <a:pt x="345" y="909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0" y="1285"/>
                    <a:pt x="0" y="1285"/>
                    <a:pt x="0" y="1285"/>
                  </a:cubicBezTo>
                  <a:lnTo>
                    <a:pt x="545" y="9"/>
                  </a:lnTo>
                  <a:close/>
                  <a:moveTo>
                    <a:pt x="812" y="748"/>
                  </a:moveTo>
                  <a:cubicBezTo>
                    <a:pt x="607" y="287"/>
                    <a:pt x="607" y="287"/>
                    <a:pt x="607" y="287"/>
                  </a:cubicBezTo>
                  <a:cubicBezTo>
                    <a:pt x="417" y="748"/>
                    <a:pt x="417" y="748"/>
                    <a:pt x="417" y="748"/>
                  </a:cubicBezTo>
                  <a:lnTo>
                    <a:pt x="812" y="748"/>
                  </a:lnTo>
                  <a:close/>
                  <a:moveTo>
                    <a:pt x="1678" y="16"/>
                  </a:moveTo>
                  <a:cubicBezTo>
                    <a:pt x="1860" y="16"/>
                    <a:pt x="1860" y="16"/>
                    <a:pt x="1860" y="16"/>
                  </a:cubicBezTo>
                  <a:cubicBezTo>
                    <a:pt x="1860" y="1119"/>
                    <a:pt x="1860" y="1119"/>
                    <a:pt x="1860" y="1119"/>
                  </a:cubicBezTo>
                  <a:cubicBezTo>
                    <a:pt x="2431" y="1119"/>
                    <a:pt x="2431" y="1119"/>
                    <a:pt x="2431" y="1119"/>
                  </a:cubicBezTo>
                  <a:cubicBezTo>
                    <a:pt x="2431" y="1285"/>
                    <a:pt x="2431" y="1285"/>
                    <a:pt x="2431" y="1285"/>
                  </a:cubicBezTo>
                  <a:cubicBezTo>
                    <a:pt x="1678" y="1285"/>
                    <a:pt x="1678" y="1285"/>
                    <a:pt x="1678" y="1285"/>
                  </a:cubicBezTo>
                  <a:lnTo>
                    <a:pt x="1678" y="16"/>
                  </a:lnTo>
                  <a:close/>
                  <a:moveTo>
                    <a:pt x="4392" y="16"/>
                  </a:moveTo>
                  <a:cubicBezTo>
                    <a:pt x="4573" y="16"/>
                    <a:pt x="4573" y="16"/>
                    <a:pt x="4573" y="16"/>
                  </a:cubicBezTo>
                  <a:cubicBezTo>
                    <a:pt x="4061" y="1290"/>
                    <a:pt x="4061" y="1290"/>
                    <a:pt x="4061" y="1290"/>
                  </a:cubicBezTo>
                  <a:cubicBezTo>
                    <a:pt x="4021" y="1290"/>
                    <a:pt x="4021" y="1290"/>
                    <a:pt x="4021" y="1290"/>
                  </a:cubicBezTo>
                  <a:cubicBezTo>
                    <a:pt x="3606" y="258"/>
                    <a:pt x="3606" y="258"/>
                    <a:pt x="3606" y="258"/>
                  </a:cubicBezTo>
                  <a:cubicBezTo>
                    <a:pt x="3187" y="1290"/>
                    <a:pt x="3187" y="1290"/>
                    <a:pt x="3187" y="1290"/>
                  </a:cubicBezTo>
                  <a:cubicBezTo>
                    <a:pt x="3147" y="1290"/>
                    <a:pt x="3147" y="1290"/>
                    <a:pt x="3147" y="1290"/>
                  </a:cubicBezTo>
                  <a:cubicBezTo>
                    <a:pt x="2636" y="16"/>
                    <a:pt x="2636" y="16"/>
                    <a:pt x="2636" y="16"/>
                  </a:cubicBezTo>
                  <a:cubicBezTo>
                    <a:pt x="2819" y="16"/>
                    <a:pt x="2819" y="16"/>
                    <a:pt x="2819" y="16"/>
                  </a:cubicBezTo>
                  <a:cubicBezTo>
                    <a:pt x="3168" y="891"/>
                    <a:pt x="3168" y="891"/>
                    <a:pt x="3168" y="891"/>
                  </a:cubicBezTo>
                  <a:cubicBezTo>
                    <a:pt x="3521" y="16"/>
                    <a:pt x="3521" y="16"/>
                    <a:pt x="3521" y="16"/>
                  </a:cubicBezTo>
                  <a:cubicBezTo>
                    <a:pt x="3693" y="16"/>
                    <a:pt x="3693" y="16"/>
                    <a:pt x="3693" y="16"/>
                  </a:cubicBezTo>
                  <a:cubicBezTo>
                    <a:pt x="4047" y="891"/>
                    <a:pt x="4047" y="891"/>
                    <a:pt x="4047" y="891"/>
                  </a:cubicBezTo>
                  <a:lnTo>
                    <a:pt x="4392" y="16"/>
                  </a:lnTo>
                  <a:close/>
                  <a:moveTo>
                    <a:pt x="5343" y="9"/>
                  </a:moveTo>
                  <a:cubicBezTo>
                    <a:pt x="5470" y="9"/>
                    <a:pt x="5470" y="9"/>
                    <a:pt x="5470" y="9"/>
                  </a:cubicBezTo>
                  <a:cubicBezTo>
                    <a:pt x="6039" y="1285"/>
                    <a:pt x="6039" y="1285"/>
                    <a:pt x="6039" y="1285"/>
                  </a:cubicBezTo>
                  <a:cubicBezTo>
                    <a:pt x="5853" y="1285"/>
                    <a:pt x="5853" y="1285"/>
                    <a:pt x="5853" y="1285"/>
                  </a:cubicBezTo>
                  <a:cubicBezTo>
                    <a:pt x="5685" y="909"/>
                    <a:pt x="5685" y="909"/>
                    <a:pt x="5685" y="909"/>
                  </a:cubicBezTo>
                  <a:cubicBezTo>
                    <a:pt x="5143" y="909"/>
                    <a:pt x="5143" y="909"/>
                    <a:pt x="5143" y="909"/>
                  </a:cubicBezTo>
                  <a:cubicBezTo>
                    <a:pt x="4984" y="1285"/>
                    <a:pt x="4984" y="1285"/>
                    <a:pt x="4984" y="1285"/>
                  </a:cubicBezTo>
                  <a:cubicBezTo>
                    <a:pt x="4798" y="1285"/>
                    <a:pt x="4798" y="1285"/>
                    <a:pt x="4798" y="1285"/>
                  </a:cubicBezTo>
                  <a:lnTo>
                    <a:pt x="5343" y="9"/>
                  </a:lnTo>
                  <a:close/>
                  <a:moveTo>
                    <a:pt x="5610" y="748"/>
                  </a:moveTo>
                  <a:cubicBezTo>
                    <a:pt x="5405" y="287"/>
                    <a:pt x="5405" y="287"/>
                    <a:pt x="5405" y="287"/>
                  </a:cubicBezTo>
                  <a:cubicBezTo>
                    <a:pt x="5215" y="748"/>
                    <a:pt x="5215" y="748"/>
                    <a:pt x="5215" y="748"/>
                  </a:cubicBezTo>
                  <a:lnTo>
                    <a:pt x="5610" y="748"/>
                  </a:lnTo>
                  <a:close/>
                  <a:moveTo>
                    <a:pt x="7109" y="16"/>
                  </a:moveTo>
                  <a:cubicBezTo>
                    <a:pt x="7330" y="16"/>
                    <a:pt x="7330" y="16"/>
                    <a:pt x="7330" y="16"/>
                  </a:cubicBezTo>
                  <a:cubicBezTo>
                    <a:pt x="6861" y="614"/>
                    <a:pt x="6861" y="614"/>
                    <a:pt x="6861" y="614"/>
                  </a:cubicBezTo>
                  <a:cubicBezTo>
                    <a:pt x="6861" y="1285"/>
                    <a:pt x="6861" y="1285"/>
                    <a:pt x="6861" y="1285"/>
                  </a:cubicBezTo>
                  <a:cubicBezTo>
                    <a:pt x="6675" y="1285"/>
                    <a:pt x="6675" y="1285"/>
                    <a:pt x="6675" y="1285"/>
                  </a:cubicBezTo>
                  <a:cubicBezTo>
                    <a:pt x="6675" y="614"/>
                    <a:pt x="6675" y="614"/>
                    <a:pt x="6675" y="614"/>
                  </a:cubicBezTo>
                  <a:cubicBezTo>
                    <a:pt x="6206" y="16"/>
                    <a:pt x="6206" y="16"/>
                    <a:pt x="6206" y="16"/>
                  </a:cubicBezTo>
                  <a:cubicBezTo>
                    <a:pt x="6426" y="16"/>
                    <a:pt x="6426" y="16"/>
                    <a:pt x="6426" y="16"/>
                  </a:cubicBezTo>
                  <a:cubicBezTo>
                    <a:pt x="6765" y="453"/>
                    <a:pt x="6765" y="453"/>
                    <a:pt x="6765" y="453"/>
                  </a:cubicBezTo>
                  <a:lnTo>
                    <a:pt x="7109" y="16"/>
                  </a:lnTo>
                  <a:close/>
                  <a:moveTo>
                    <a:pt x="8119" y="754"/>
                  </a:moveTo>
                  <a:cubicBezTo>
                    <a:pt x="7981" y="670"/>
                    <a:pt x="7981" y="670"/>
                    <a:pt x="7981" y="670"/>
                  </a:cubicBezTo>
                  <a:cubicBezTo>
                    <a:pt x="7894" y="617"/>
                    <a:pt x="7833" y="565"/>
                    <a:pt x="7796" y="514"/>
                  </a:cubicBezTo>
                  <a:cubicBezTo>
                    <a:pt x="7759" y="463"/>
                    <a:pt x="7741" y="404"/>
                    <a:pt x="7741" y="337"/>
                  </a:cubicBezTo>
                  <a:cubicBezTo>
                    <a:pt x="7741" y="236"/>
                    <a:pt x="7776" y="157"/>
                    <a:pt x="7845" y="93"/>
                  </a:cubicBezTo>
                  <a:cubicBezTo>
                    <a:pt x="7914" y="31"/>
                    <a:pt x="8005" y="0"/>
                    <a:pt x="8115" y="0"/>
                  </a:cubicBezTo>
                  <a:cubicBezTo>
                    <a:pt x="8221" y="0"/>
                    <a:pt x="8318" y="30"/>
                    <a:pt x="8407" y="89"/>
                  </a:cubicBezTo>
                  <a:cubicBezTo>
                    <a:pt x="8407" y="295"/>
                    <a:pt x="8407" y="295"/>
                    <a:pt x="8407" y="295"/>
                  </a:cubicBezTo>
                  <a:cubicBezTo>
                    <a:pt x="8315" y="208"/>
                    <a:pt x="8217" y="164"/>
                    <a:pt x="8112" y="164"/>
                  </a:cubicBezTo>
                  <a:cubicBezTo>
                    <a:pt x="8052" y="164"/>
                    <a:pt x="8004" y="177"/>
                    <a:pt x="7965" y="204"/>
                  </a:cubicBezTo>
                  <a:cubicBezTo>
                    <a:pt x="7927" y="232"/>
                    <a:pt x="7908" y="267"/>
                    <a:pt x="7908" y="309"/>
                  </a:cubicBezTo>
                  <a:cubicBezTo>
                    <a:pt x="7908" y="348"/>
                    <a:pt x="7922" y="384"/>
                    <a:pt x="7950" y="416"/>
                  </a:cubicBezTo>
                  <a:cubicBezTo>
                    <a:pt x="7979" y="450"/>
                    <a:pt x="8023" y="485"/>
                    <a:pt x="8086" y="521"/>
                  </a:cubicBezTo>
                  <a:cubicBezTo>
                    <a:pt x="8224" y="603"/>
                    <a:pt x="8224" y="603"/>
                    <a:pt x="8224" y="603"/>
                  </a:cubicBezTo>
                  <a:cubicBezTo>
                    <a:pt x="8379" y="696"/>
                    <a:pt x="8457" y="813"/>
                    <a:pt x="8457" y="956"/>
                  </a:cubicBezTo>
                  <a:cubicBezTo>
                    <a:pt x="8457" y="1057"/>
                    <a:pt x="8423" y="1141"/>
                    <a:pt x="8355" y="1204"/>
                  </a:cubicBezTo>
                  <a:cubicBezTo>
                    <a:pt x="8287" y="1268"/>
                    <a:pt x="8198" y="1300"/>
                    <a:pt x="8089" y="1300"/>
                  </a:cubicBezTo>
                  <a:cubicBezTo>
                    <a:pt x="7964" y="1300"/>
                    <a:pt x="7849" y="1261"/>
                    <a:pt x="7746" y="1185"/>
                  </a:cubicBezTo>
                  <a:cubicBezTo>
                    <a:pt x="7746" y="953"/>
                    <a:pt x="7746" y="953"/>
                    <a:pt x="7746" y="953"/>
                  </a:cubicBezTo>
                  <a:cubicBezTo>
                    <a:pt x="7845" y="1077"/>
                    <a:pt x="7958" y="1140"/>
                    <a:pt x="8087" y="1140"/>
                  </a:cubicBezTo>
                  <a:cubicBezTo>
                    <a:pt x="8144" y="1140"/>
                    <a:pt x="8192" y="1124"/>
                    <a:pt x="8229" y="1092"/>
                  </a:cubicBezTo>
                  <a:cubicBezTo>
                    <a:pt x="8267" y="1061"/>
                    <a:pt x="8286" y="1021"/>
                    <a:pt x="8286" y="973"/>
                  </a:cubicBezTo>
                  <a:cubicBezTo>
                    <a:pt x="8286" y="896"/>
                    <a:pt x="8230" y="823"/>
                    <a:pt x="8119" y="754"/>
                  </a:cubicBezTo>
                  <a:moveTo>
                    <a:pt x="9917" y="16"/>
                  </a:moveTo>
                  <a:cubicBezTo>
                    <a:pt x="10099" y="16"/>
                    <a:pt x="10099" y="16"/>
                    <a:pt x="10099" y="16"/>
                  </a:cubicBezTo>
                  <a:cubicBezTo>
                    <a:pt x="10099" y="1119"/>
                    <a:pt x="10099" y="1119"/>
                    <a:pt x="10099" y="1119"/>
                  </a:cubicBezTo>
                  <a:cubicBezTo>
                    <a:pt x="10671" y="1119"/>
                    <a:pt x="10671" y="1119"/>
                    <a:pt x="10671" y="1119"/>
                  </a:cubicBezTo>
                  <a:cubicBezTo>
                    <a:pt x="10671" y="1285"/>
                    <a:pt x="10671" y="1285"/>
                    <a:pt x="10671" y="1285"/>
                  </a:cubicBezTo>
                  <a:cubicBezTo>
                    <a:pt x="9917" y="1285"/>
                    <a:pt x="9917" y="1285"/>
                    <a:pt x="9917" y="1285"/>
                  </a:cubicBezTo>
                  <a:lnTo>
                    <a:pt x="9917" y="16"/>
                  </a:lnTo>
                  <a:close/>
                  <a:moveTo>
                    <a:pt x="11202" y="16"/>
                  </a:moveTo>
                  <a:cubicBezTo>
                    <a:pt x="11921" y="16"/>
                    <a:pt x="11921" y="16"/>
                    <a:pt x="11921" y="16"/>
                  </a:cubicBezTo>
                  <a:cubicBezTo>
                    <a:pt x="11921" y="177"/>
                    <a:pt x="11921" y="177"/>
                    <a:pt x="11921" y="177"/>
                  </a:cubicBezTo>
                  <a:cubicBezTo>
                    <a:pt x="11383" y="177"/>
                    <a:pt x="11383" y="177"/>
                    <a:pt x="11383" y="177"/>
                  </a:cubicBezTo>
                  <a:cubicBezTo>
                    <a:pt x="11383" y="565"/>
                    <a:pt x="11383" y="565"/>
                    <a:pt x="11383" y="565"/>
                  </a:cubicBezTo>
                  <a:cubicBezTo>
                    <a:pt x="11903" y="565"/>
                    <a:pt x="11903" y="565"/>
                    <a:pt x="11903" y="565"/>
                  </a:cubicBezTo>
                  <a:cubicBezTo>
                    <a:pt x="11903" y="727"/>
                    <a:pt x="11903" y="727"/>
                    <a:pt x="11903" y="727"/>
                  </a:cubicBezTo>
                  <a:cubicBezTo>
                    <a:pt x="11383" y="727"/>
                    <a:pt x="11383" y="727"/>
                    <a:pt x="11383" y="727"/>
                  </a:cubicBezTo>
                  <a:cubicBezTo>
                    <a:pt x="11383" y="1122"/>
                    <a:pt x="11383" y="1122"/>
                    <a:pt x="11383" y="1122"/>
                  </a:cubicBezTo>
                  <a:cubicBezTo>
                    <a:pt x="11939" y="1122"/>
                    <a:pt x="11939" y="1122"/>
                    <a:pt x="11939" y="1122"/>
                  </a:cubicBezTo>
                  <a:cubicBezTo>
                    <a:pt x="11939" y="1283"/>
                    <a:pt x="11939" y="1283"/>
                    <a:pt x="11939" y="1283"/>
                  </a:cubicBezTo>
                  <a:cubicBezTo>
                    <a:pt x="11202" y="1283"/>
                    <a:pt x="11202" y="1283"/>
                    <a:pt x="11202" y="1283"/>
                  </a:cubicBezTo>
                  <a:lnTo>
                    <a:pt x="11202" y="16"/>
                  </a:lnTo>
                  <a:close/>
                  <a:moveTo>
                    <a:pt x="12946" y="9"/>
                  </a:moveTo>
                  <a:cubicBezTo>
                    <a:pt x="13075" y="9"/>
                    <a:pt x="13075" y="9"/>
                    <a:pt x="13075" y="9"/>
                  </a:cubicBezTo>
                  <a:cubicBezTo>
                    <a:pt x="13643" y="1285"/>
                    <a:pt x="13643" y="1285"/>
                    <a:pt x="13643" y="1285"/>
                  </a:cubicBezTo>
                  <a:cubicBezTo>
                    <a:pt x="13458" y="1285"/>
                    <a:pt x="13458" y="1285"/>
                    <a:pt x="13458" y="1285"/>
                  </a:cubicBezTo>
                  <a:cubicBezTo>
                    <a:pt x="13288" y="909"/>
                    <a:pt x="13288" y="909"/>
                    <a:pt x="13288" y="909"/>
                  </a:cubicBezTo>
                  <a:cubicBezTo>
                    <a:pt x="12746" y="909"/>
                    <a:pt x="12746" y="909"/>
                    <a:pt x="12746" y="909"/>
                  </a:cubicBezTo>
                  <a:cubicBezTo>
                    <a:pt x="12588" y="1285"/>
                    <a:pt x="12588" y="1285"/>
                    <a:pt x="12588" y="1285"/>
                  </a:cubicBezTo>
                  <a:cubicBezTo>
                    <a:pt x="12402" y="1285"/>
                    <a:pt x="12402" y="1285"/>
                    <a:pt x="12402" y="1285"/>
                  </a:cubicBezTo>
                  <a:lnTo>
                    <a:pt x="12946" y="9"/>
                  </a:lnTo>
                  <a:close/>
                  <a:moveTo>
                    <a:pt x="13214" y="748"/>
                  </a:moveTo>
                  <a:cubicBezTo>
                    <a:pt x="13009" y="287"/>
                    <a:pt x="13009" y="287"/>
                    <a:pt x="13009" y="287"/>
                  </a:cubicBezTo>
                  <a:cubicBezTo>
                    <a:pt x="12819" y="748"/>
                    <a:pt x="12819" y="748"/>
                    <a:pt x="12819" y="748"/>
                  </a:cubicBezTo>
                  <a:lnTo>
                    <a:pt x="13214" y="748"/>
                  </a:lnTo>
                  <a:close/>
                  <a:moveTo>
                    <a:pt x="14160" y="1285"/>
                  </a:moveTo>
                  <a:cubicBezTo>
                    <a:pt x="14160" y="16"/>
                    <a:pt x="14160" y="16"/>
                    <a:pt x="14160" y="16"/>
                  </a:cubicBezTo>
                  <a:cubicBezTo>
                    <a:pt x="14478" y="16"/>
                    <a:pt x="14478" y="16"/>
                    <a:pt x="14478" y="16"/>
                  </a:cubicBezTo>
                  <a:cubicBezTo>
                    <a:pt x="14606" y="16"/>
                    <a:pt x="14708" y="48"/>
                    <a:pt x="14784" y="112"/>
                  </a:cubicBezTo>
                  <a:cubicBezTo>
                    <a:pt x="14859" y="175"/>
                    <a:pt x="14896" y="261"/>
                    <a:pt x="14896" y="369"/>
                  </a:cubicBezTo>
                  <a:cubicBezTo>
                    <a:pt x="14896" y="444"/>
                    <a:pt x="14878" y="507"/>
                    <a:pt x="14841" y="560"/>
                  </a:cubicBezTo>
                  <a:cubicBezTo>
                    <a:pt x="14804" y="616"/>
                    <a:pt x="14751" y="655"/>
                    <a:pt x="14682" y="682"/>
                  </a:cubicBezTo>
                  <a:cubicBezTo>
                    <a:pt x="14723" y="708"/>
                    <a:pt x="14762" y="745"/>
                    <a:pt x="14801" y="791"/>
                  </a:cubicBezTo>
                  <a:cubicBezTo>
                    <a:pt x="14840" y="837"/>
                    <a:pt x="14895" y="917"/>
                    <a:pt x="14964" y="1031"/>
                  </a:cubicBezTo>
                  <a:cubicBezTo>
                    <a:pt x="15008" y="1103"/>
                    <a:pt x="15045" y="1158"/>
                    <a:pt x="15071" y="1195"/>
                  </a:cubicBezTo>
                  <a:cubicBezTo>
                    <a:pt x="15138" y="1285"/>
                    <a:pt x="15138" y="1285"/>
                    <a:pt x="15138" y="1285"/>
                  </a:cubicBezTo>
                  <a:cubicBezTo>
                    <a:pt x="14922" y="1285"/>
                    <a:pt x="14922" y="1285"/>
                    <a:pt x="14922" y="1285"/>
                  </a:cubicBezTo>
                  <a:cubicBezTo>
                    <a:pt x="14867" y="1201"/>
                    <a:pt x="14867" y="1201"/>
                    <a:pt x="14867" y="1201"/>
                  </a:cubicBezTo>
                  <a:cubicBezTo>
                    <a:pt x="14865" y="1199"/>
                    <a:pt x="14861" y="1193"/>
                    <a:pt x="14856" y="1186"/>
                  </a:cubicBezTo>
                  <a:cubicBezTo>
                    <a:pt x="14820" y="1136"/>
                    <a:pt x="14820" y="1136"/>
                    <a:pt x="14820" y="1136"/>
                  </a:cubicBezTo>
                  <a:cubicBezTo>
                    <a:pt x="14764" y="1043"/>
                    <a:pt x="14764" y="1043"/>
                    <a:pt x="14764" y="1043"/>
                  </a:cubicBezTo>
                  <a:cubicBezTo>
                    <a:pt x="14704" y="944"/>
                    <a:pt x="14704" y="944"/>
                    <a:pt x="14704" y="944"/>
                  </a:cubicBezTo>
                  <a:cubicBezTo>
                    <a:pt x="14666" y="893"/>
                    <a:pt x="14631" y="851"/>
                    <a:pt x="14600" y="820"/>
                  </a:cubicBezTo>
                  <a:cubicBezTo>
                    <a:pt x="14569" y="788"/>
                    <a:pt x="14541" y="767"/>
                    <a:pt x="14516" y="754"/>
                  </a:cubicBezTo>
                  <a:cubicBezTo>
                    <a:pt x="14490" y="740"/>
                    <a:pt x="14449" y="733"/>
                    <a:pt x="14389" y="733"/>
                  </a:cubicBezTo>
                  <a:cubicBezTo>
                    <a:pt x="14342" y="733"/>
                    <a:pt x="14342" y="733"/>
                    <a:pt x="14342" y="733"/>
                  </a:cubicBezTo>
                  <a:cubicBezTo>
                    <a:pt x="14342" y="1285"/>
                    <a:pt x="14342" y="1285"/>
                    <a:pt x="14342" y="1285"/>
                  </a:cubicBezTo>
                  <a:lnTo>
                    <a:pt x="14160" y="1285"/>
                  </a:lnTo>
                  <a:close/>
                  <a:moveTo>
                    <a:pt x="14396" y="170"/>
                  </a:moveTo>
                  <a:cubicBezTo>
                    <a:pt x="14342" y="170"/>
                    <a:pt x="14342" y="170"/>
                    <a:pt x="14342" y="170"/>
                  </a:cubicBezTo>
                  <a:cubicBezTo>
                    <a:pt x="14342" y="572"/>
                    <a:pt x="14342" y="572"/>
                    <a:pt x="14342" y="572"/>
                  </a:cubicBezTo>
                  <a:cubicBezTo>
                    <a:pt x="14411" y="572"/>
                    <a:pt x="14411" y="572"/>
                    <a:pt x="14411" y="572"/>
                  </a:cubicBezTo>
                  <a:cubicBezTo>
                    <a:pt x="14503" y="572"/>
                    <a:pt x="14566" y="564"/>
                    <a:pt x="14600" y="548"/>
                  </a:cubicBezTo>
                  <a:cubicBezTo>
                    <a:pt x="14634" y="531"/>
                    <a:pt x="14661" y="508"/>
                    <a:pt x="14680" y="476"/>
                  </a:cubicBezTo>
                  <a:cubicBezTo>
                    <a:pt x="14699" y="445"/>
                    <a:pt x="14709" y="408"/>
                    <a:pt x="14709" y="368"/>
                  </a:cubicBezTo>
                  <a:cubicBezTo>
                    <a:pt x="14709" y="327"/>
                    <a:pt x="14698" y="292"/>
                    <a:pt x="14677" y="260"/>
                  </a:cubicBezTo>
                  <a:cubicBezTo>
                    <a:pt x="14655" y="227"/>
                    <a:pt x="14626" y="204"/>
                    <a:pt x="14587" y="191"/>
                  </a:cubicBezTo>
                  <a:cubicBezTo>
                    <a:pt x="14548" y="177"/>
                    <a:pt x="14485" y="170"/>
                    <a:pt x="14396" y="170"/>
                  </a:cubicBezTo>
                  <a:moveTo>
                    <a:pt x="16658" y="16"/>
                  </a:moveTo>
                  <a:cubicBezTo>
                    <a:pt x="16830" y="16"/>
                    <a:pt x="16830" y="16"/>
                    <a:pt x="16830" y="16"/>
                  </a:cubicBezTo>
                  <a:cubicBezTo>
                    <a:pt x="16830" y="1285"/>
                    <a:pt x="16830" y="1285"/>
                    <a:pt x="16830" y="1285"/>
                  </a:cubicBezTo>
                  <a:cubicBezTo>
                    <a:pt x="16675" y="1285"/>
                    <a:pt x="16675" y="1285"/>
                    <a:pt x="16675" y="1285"/>
                  </a:cubicBezTo>
                  <a:cubicBezTo>
                    <a:pt x="15827" y="308"/>
                    <a:pt x="15827" y="308"/>
                    <a:pt x="15827" y="308"/>
                  </a:cubicBezTo>
                  <a:cubicBezTo>
                    <a:pt x="15827" y="1285"/>
                    <a:pt x="15827" y="1285"/>
                    <a:pt x="15827" y="1285"/>
                  </a:cubicBezTo>
                  <a:cubicBezTo>
                    <a:pt x="15656" y="1285"/>
                    <a:pt x="15656" y="1285"/>
                    <a:pt x="15656" y="1285"/>
                  </a:cubicBezTo>
                  <a:cubicBezTo>
                    <a:pt x="15656" y="16"/>
                    <a:pt x="15656" y="16"/>
                    <a:pt x="15656" y="16"/>
                  </a:cubicBezTo>
                  <a:cubicBezTo>
                    <a:pt x="15803" y="16"/>
                    <a:pt x="15803" y="16"/>
                    <a:pt x="15803" y="16"/>
                  </a:cubicBezTo>
                  <a:cubicBezTo>
                    <a:pt x="16658" y="1002"/>
                    <a:pt x="16658" y="1002"/>
                    <a:pt x="16658" y="1002"/>
                  </a:cubicBezTo>
                  <a:lnTo>
                    <a:pt x="16658" y="16"/>
                  </a:lnTo>
                  <a:close/>
                  <a:moveTo>
                    <a:pt x="17477" y="16"/>
                  </a:moveTo>
                  <a:cubicBezTo>
                    <a:pt x="17658" y="16"/>
                    <a:pt x="17658" y="16"/>
                    <a:pt x="17658" y="16"/>
                  </a:cubicBezTo>
                  <a:cubicBezTo>
                    <a:pt x="17658" y="1285"/>
                    <a:pt x="17658" y="1285"/>
                    <a:pt x="17658" y="1285"/>
                  </a:cubicBezTo>
                  <a:cubicBezTo>
                    <a:pt x="17477" y="1285"/>
                    <a:pt x="17477" y="1285"/>
                    <a:pt x="17477" y="1285"/>
                  </a:cubicBezTo>
                  <a:lnTo>
                    <a:pt x="17477" y="16"/>
                  </a:lnTo>
                  <a:close/>
                  <a:moveTo>
                    <a:pt x="19320" y="16"/>
                  </a:moveTo>
                  <a:cubicBezTo>
                    <a:pt x="19493" y="16"/>
                    <a:pt x="19493" y="16"/>
                    <a:pt x="19493" y="16"/>
                  </a:cubicBezTo>
                  <a:cubicBezTo>
                    <a:pt x="19493" y="1285"/>
                    <a:pt x="19493" y="1285"/>
                    <a:pt x="19493" y="1285"/>
                  </a:cubicBezTo>
                  <a:cubicBezTo>
                    <a:pt x="19337" y="1285"/>
                    <a:pt x="19337" y="1285"/>
                    <a:pt x="19337" y="1285"/>
                  </a:cubicBezTo>
                  <a:cubicBezTo>
                    <a:pt x="18488" y="308"/>
                    <a:pt x="18488" y="308"/>
                    <a:pt x="18488" y="308"/>
                  </a:cubicBezTo>
                  <a:cubicBezTo>
                    <a:pt x="18488" y="1285"/>
                    <a:pt x="18488" y="1285"/>
                    <a:pt x="18488" y="1285"/>
                  </a:cubicBezTo>
                  <a:cubicBezTo>
                    <a:pt x="18317" y="1285"/>
                    <a:pt x="18317" y="1285"/>
                    <a:pt x="18317" y="1285"/>
                  </a:cubicBezTo>
                  <a:cubicBezTo>
                    <a:pt x="18317" y="16"/>
                    <a:pt x="18317" y="16"/>
                    <a:pt x="18317" y="16"/>
                  </a:cubicBezTo>
                  <a:cubicBezTo>
                    <a:pt x="18464" y="16"/>
                    <a:pt x="18464" y="16"/>
                    <a:pt x="18464" y="16"/>
                  </a:cubicBezTo>
                  <a:cubicBezTo>
                    <a:pt x="19320" y="1002"/>
                    <a:pt x="19320" y="1002"/>
                    <a:pt x="19320" y="1002"/>
                  </a:cubicBezTo>
                  <a:lnTo>
                    <a:pt x="19320" y="16"/>
                  </a:lnTo>
                  <a:close/>
                  <a:moveTo>
                    <a:pt x="20712" y="659"/>
                  </a:moveTo>
                  <a:cubicBezTo>
                    <a:pt x="21137" y="659"/>
                    <a:pt x="21137" y="659"/>
                    <a:pt x="21137" y="659"/>
                  </a:cubicBezTo>
                  <a:cubicBezTo>
                    <a:pt x="21137" y="1198"/>
                    <a:pt x="21137" y="1198"/>
                    <a:pt x="21137" y="1198"/>
                  </a:cubicBezTo>
                  <a:cubicBezTo>
                    <a:pt x="20981" y="1266"/>
                    <a:pt x="20826" y="1300"/>
                    <a:pt x="20673" y="1300"/>
                  </a:cubicBezTo>
                  <a:cubicBezTo>
                    <a:pt x="20463" y="1300"/>
                    <a:pt x="20294" y="1239"/>
                    <a:pt x="20169" y="1115"/>
                  </a:cubicBezTo>
                  <a:cubicBezTo>
                    <a:pt x="20043" y="994"/>
                    <a:pt x="19980" y="842"/>
                    <a:pt x="19980" y="662"/>
                  </a:cubicBezTo>
                  <a:cubicBezTo>
                    <a:pt x="19980" y="473"/>
                    <a:pt x="20045" y="314"/>
                    <a:pt x="20176" y="189"/>
                  </a:cubicBezTo>
                  <a:cubicBezTo>
                    <a:pt x="20306" y="63"/>
                    <a:pt x="20469" y="0"/>
                    <a:pt x="20666" y="0"/>
                  </a:cubicBezTo>
                  <a:cubicBezTo>
                    <a:pt x="20736" y="0"/>
                    <a:pt x="20804" y="8"/>
                    <a:pt x="20869" y="22"/>
                  </a:cubicBezTo>
                  <a:cubicBezTo>
                    <a:pt x="20933" y="39"/>
                    <a:pt x="21014" y="66"/>
                    <a:pt x="21112" y="109"/>
                  </a:cubicBezTo>
                  <a:cubicBezTo>
                    <a:pt x="21112" y="293"/>
                    <a:pt x="21112" y="293"/>
                    <a:pt x="21112" y="293"/>
                  </a:cubicBezTo>
                  <a:cubicBezTo>
                    <a:pt x="20961" y="205"/>
                    <a:pt x="20811" y="161"/>
                    <a:pt x="20661" y="161"/>
                  </a:cubicBezTo>
                  <a:cubicBezTo>
                    <a:pt x="20523" y="161"/>
                    <a:pt x="20407" y="209"/>
                    <a:pt x="20311" y="303"/>
                  </a:cubicBezTo>
                  <a:cubicBezTo>
                    <a:pt x="20215" y="397"/>
                    <a:pt x="20169" y="514"/>
                    <a:pt x="20169" y="651"/>
                  </a:cubicBezTo>
                  <a:cubicBezTo>
                    <a:pt x="20169" y="795"/>
                    <a:pt x="20215" y="913"/>
                    <a:pt x="20311" y="1004"/>
                  </a:cubicBezTo>
                  <a:cubicBezTo>
                    <a:pt x="20407" y="1096"/>
                    <a:pt x="20528" y="1142"/>
                    <a:pt x="20678" y="1142"/>
                  </a:cubicBezTo>
                  <a:cubicBezTo>
                    <a:pt x="20750" y="1142"/>
                    <a:pt x="20838" y="1125"/>
                    <a:pt x="20939" y="1092"/>
                  </a:cubicBezTo>
                  <a:cubicBezTo>
                    <a:pt x="20956" y="1087"/>
                    <a:pt x="20956" y="1087"/>
                    <a:pt x="20956" y="1087"/>
                  </a:cubicBezTo>
                  <a:cubicBezTo>
                    <a:pt x="20956" y="821"/>
                    <a:pt x="20956" y="821"/>
                    <a:pt x="20956" y="821"/>
                  </a:cubicBezTo>
                  <a:cubicBezTo>
                    <a:pt x="20712" y="821"/>
                    <a:pt x="20712" y="821"/>
                    <a:pt x="20712" y="821"/>
                  </a:cubicBezTo>
                  <a:lnTo>
                    <a:pt x="20712" y="6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Group 33"/>
          <p:cNvGrpSpPr/>
          <p:nvPr/>
        </p:nvGrpSpPr>
        <p:grpSpPr>
          <a:xfrm>
            <a:off x="7315200" y="6400800"/>
            <a:ext cx="1676160" cy="457200"/>
            <a:chOff x="7315200" y="6400800"/>
            <a:chExt cx="1676160" cy="457200"/>
          </a:xfrm>
        </p:grpSpPr>
        <p:sp>
          <p:nvSpPr>
            <p:cNvPr id="7" name="AutoShape 34"/>
            <p:cNvSpPr/>
            <p:nvPr/>
          </p:nvSpPr>
          <p:spPr>
            <a:xfrm>
              <a:off x="7315200" y="6400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7514280" y="6537240"/>
              <a:ext cx="1226160" cy="183600"/>
            </a:xfrm>
            <a:custGeom>
              <a:avLst/>
              <a:gdLst/>
              <a:ahLst/>
              <a:rect l="l" t="t" r="r" b="b"/>
              <a:pathLst>
                <a:path w="17396" h="2738">
                  <a:moveTo>
                    <a:pt x="13271" y="0"/>
                  </a:moveTo>
                  <a:cubicBezTo>
                    <a:pt x="12561" y="0"/>
                    <a:pt x="11962" y="608"/>
                    <a:pt x="11962" y="1327"/>
                  </a:cubicBezTo>
                  <a:cubicBezTo>
                    <a:pt x="11962" y="2144"/>
                    <a:pt x="12517" y="2738"/>
                    <a:pt x="13282" y="2738"/>
                  </a:cubicBezTo>
                  <a:cubicBezTo>
                    <a:pt x="14004" y="2738"/>
                    <a:pt x="14591" y="2105"/>
                    <a:pt x="14591" y="1327"/>
                  </a:cubicBezTo>
                  <a:cubicBezTo>
                    <a:pt x="14591" y="595"/>
                    <a:pt x="13999" y="0"/>
                    <a:pt x="13271" y="0"/>
                  </a:cubicBezTo>
                  <a:moveTo>
                    <a:pt x="13282" y="2404"/>
                  </a:moveTo>
                  <a:cubicBezTo>
                    <a:pt x="12672" y="2404"/>
                    <a:pt x="12450" y="1767"/>
                    <a:pt x="12450" y="1340"/>
                  </a:cubicBezTo>
                  <a:cubicBezTo>
                    <a:pt x="12450" y="951"/>
                    <a:pt x="12673" y="335"/>
                    <a:pt x="13271" y="335"/>
                  </a:cubicBezTo>
                  <a:cubicBezTo>
                    <a:pt x="13845" y="335"/>
                    <a:pt x="14103" y="915"/>
                    <a:pt x="14103" y="1327"/>
                  </a:cubicBezTo>
                  <a:cubicBezTo>
                    <a:pt x="14103" y="1862"/>
                    <a:pt x="13822" y="2404"/>
                    <a:pt x="13282" y="2404"/>
                  </a:cubicBezTo>
                  <a:moveTo>
                    <a:pt x="834" y="0"/>
                  </a:moveTo>
                  <a:cubicBezTo>
                    <a:pt x="1298" y="0"/>
                    <a:pt x="1794" y="207"/>
                    <a:pt x="1794" y="784"/>
                  </a:cubicBezTo>
                  <a:cubicBezTo>
                    <a:pt x="1794" y="1342"/>
                    <a:pt x="1249" y="1676"/>
                    <a:pt x="683" y="1677"/>
                  </a:cubicBezTo>
                  <a:cubicBezTo>
                    <a:pt x="681" y="1584"/>
                    <a:pt x="679" y="1489"/>
                    <a:pt x="678" y="1393"/>
                  </a:cubicBezTo>
                  <a:cubicBezTo>
                    <a:pt x="1107" y="1360"/>
                    <a:pt x="1337" y="1152"/>
                    <a:pt x="1337" y="808"/>
                  </a:cubicBezTo>
                  <a:cubicBezTo>
                    <a:pt x="1337" y="513"/>
                    <a:pt x="1097" y="306"/>
                    <a:pt x="754" y="306"/>
                  </a:cubicBezTo>
                  <a:cubicBezTo>
                    <a:pt x="477" y="306"/>
                    <a:pt x="477" y="306"/>
                    <a:pt x="477" y="306"/>
                  </a:cubicBezTo>
                  <a:cubicBezTo>
                    <a:pt x="477" y="1166"/>
                    <a:pt x="494" y="2402"/>
                    <a:pt x="528" y="2709"/>
                  </a:cubicBezTo>
                  <a:cubicBezTo>
                    <a:pt x="344" y="2672"/>
                    <a:pt x="192" y="2671"/>
                    <a:pt x="2" y="2709"/>
                  </a:cubicBezTo>
                  <a:cubicBezTo>
                    <a:pt x="46" y="2335"/>
                    <a:pt x="74" y="353"/>
                    <a:pt x="0" y="0"/>
                  </a:cubicBezTo>
                  <a:cubicBezTo>
                    <a:pt x="0" y="0"/>
                    <a:pt x="348" y="12"/>
                    <a:pt x="425" y="12"/>
                  </a:cubicBezTo>
                  <a:cubicBezTo>
                    <a:pt x="515" y="1"/>
                    <a:pt x="740" y="0"/>
                    <a:pt x="834" y="0"/>
                  </a:cubicBezTo>
                  <a:moveTo>
                    <a:pt x="5276" y="20"/>
                  </a:moveTo>
                  <a:cubicBezTo>
                    <a:pt x="5141" y="546"/>
                    <a:pt x="4580" y="2064"/>
                    <a:pt x="4309" y="2710"/>
                  </a:cubicBezTo>
                  <a:cubicBezTo>
                    <a:pt x="4486" y="2685"/>
                    <a:pt x="4673" y="2691"/>
                    <a:pt x="4760" y="2705"/>
                  </a:cubicBezTo>
                  <a:cubicBezTo>
                    <a:pt x="4850" y="2415"/>
                    <a:pt x="4947" y="2071"/>
                    <a:pt x="4990" y="1942"/>
                  </a:cubicBezTo>
                  <a:cubicBezTo>
                    <a:pt x="5271" y="1922"/>
                    <a:pt x="5602" y="1922"/>
                    <a:pt x="5935" y="1942"/>
                  </a:cubicBezTo>
                  <a:cubicBezTo>
                    <a:pt x="6036" y="2212"/>
                    <a:pt x="6096" y="2404"/>
                    <a:pt x="6187" y="2703"/>
                  </a:cubicBezTo>
                  <a:cubicBezTo>
                    <a:pt x="6360" y="2687"/>
                    <a:pt x="6536" y="2689"/>
                    <a:pt x="6723" y="2706"/>
                  </a:cubicBezTo>
                  <a:cubicBezTo>
                    <a:pt x="6455" y="2061"/>
                    <a:pt x="5832" y="400"/>
                    <a:pt x="5732" y="20"/>
                  </a:cubicBezTo>
                  <a:cubicBezTo>
                    <a:pt x="5596" y="36"/>
                    <a:pt x="5423" y="36"/>
                    <a:pt x="5276" y="20"/>
                  </a:cubicBezTo>
                  <a:moveTo>
                    <a:pt x="5098" y="1580"/>
                  </a:moveTo>
                  <a:cubicBezTo>
                    <a:pt x="5098" y="1580"/>
                    <a:pt x="5355" y="815"/>
                    <a:pt x="5442" y="552"/>
                  </a:cubicBezTo>
                  <a:cubicBezTo>
                    <a:pt x="5442" y="552"/>
                    <a:pt x="5709" y="1308"/>
                    <a:pt x="5803" y="1580"/>
                  </a:cubicBezTo>
                  <a:cubicBezTo>
                    <a:pt x="5517" y="1609"/>
                    <a:pt x="5373" y="1609"/>
                    <a:pt x="5098" y="1580"/>
                  </a:cubicBezTo>
                  <a:moveTo>
                    <a:pt x="2859" y="2368"/>
                  </a:moveTo>
                  <a:cubicBezTo>
                    <a:pt x="3141" y="2380"/>
                    <a:pt x="3816" y="2340"/>
                    <a:pt x="3816" y="2340"/>
                  </a:cubicBezTo>
                  <a:cubicBezTo>
                    <a:pt x="3819" y="2630"/>
                    <a:pt x="3799" y="2717"/>
                    <a:pt x="3799" y="2717"/>
                  </a:cubicBezTo>
                  <a:cubicBezTo>
                    <a:pt x="3548" y="2683"/>
                    <a:pt x="2789" y="2667"/>
                    <a:pt x="2378" y="2717"/>
                  </a:cubicBezTo>
                  <a:cubicBezTo>
                    <a:pt x="2439" y="2062"/>
                    <a:pt x="2419" y="709"/>
                    <a:pt x="2381" y="8"/>
                  </a:cubicBezTo>
                  <a:cubicBezTo>
                    <a:pt x="2760" y="40"/>
                    <a:pt x="3486" y="34"/>
                    <a:pt x="3793" y="8"/>
                  </a:cubicBezTo>
                  <a:cubicBezTo>
                    <a:pt x="3793" y="387"/>
                    <a:pt x="3793" y="387"/>
                    <a:pt x="3793" y="387"/>
                  </a:cubicBezTo>
                  <a:cubicBezTo>
                    <a:pt x="3530" y="362"/>
                    <a:pt x="3111" y="337"/>
                    <a:pt x="2872" y="345"/>
                  </a:cubicBezTo>
                  <a:cubicBezTo>
                    <a:pt x="2872" y="345"/>
                    <a:pt x="2862" y="972"/>
                    <a:pt x="2870" y="1132"/>
                  </a:cubicBezTo>
                  <a:cubicBezTo>
                    <a:pt x="3297" y="1163"/>
                    <a:pt x="3611" y="1112"/>
                    <a:pt x="3746" y="1102"/>
                  </a:cubicBezTo>
                  <a:cubicBezTo>
                    <a:pt x="3746" y="1480"/>
                    <a:pt x="3746" y="1480"/>
                    <a:pt x="3746" y="1480"/>
                  </a:cubicBezTo>
                  <a:cubicBezTo>
                    <a:pt x="3746" y="1480"/>
                    <a:pt x="3250" y="1431"/>
                    <a:pt x="2871" y="1461"/>
                  </a:cubicBezTo>
                  <a:cubicBezTo>
                    <a:pt x="2859" y="1713"/>
                    <a:pt x="2859" y="2087"/>
                    <a:pt x="2859" y="2368"/>
                  </a:cubicBezTo>
                  <a:moveTo>
                    <a:pt x="17385" y="2651"/>
                  </a:moveTo>
                  <a:cubicBezTo>
                    <a:pt x="17387" y="2657"/>
                    <a:pt x="17396" y="2706"/>
                    <a:pt x="17395" y="2706"/>
                  </a:cubicBezTo>
                  <a:cubicBezTo>
                    <a:pt x="17278" y="2688"/>
                    <a:pt x="17100" y="2685"/>
                    <a:pt x="16988" y="2703"/>
                  </a:cubicBezTo>
                  <a:cubicBezTo>
                    <a:pt x="16775" y="2389"/>
                    <a:pt x="15932" y="1236"/>
                    <a:pt x="15599" y="806"/>
                  </a:cubicBezTo>
                  <a:cubicBezTo>
                    <a:pt x="15587" y="1435"/>
                    <a:pt x="15579" y="2387"/>
                    <a:pt x="15618" y="2701"/>
                  </a:cubicBezTo>
                  <a:cubicBezTo>
                    <a:pt x="15568" y="2702"/>
                    <a:pt x="15493" y="2698"/>
                    <a:pt x="15454" y="2698"/>
                  </a:cubicBezTo>
                  <a:cubicBezTo>
                    <a:pt x="15341" y="2698"/>
                    <a:pt x="15290" y="2692"/>
                    <a:pt x="15189" y="2706"/>
                  </a:cubicBezTo>
                  <a:cubicBezTo>
                    <a:pt x="15244" y="2381"/>
                    <a:pt x="15257" y="377"/>
                    <a:pt x="15189" y="24"/>
                  </a:cubicBezTo>
                  <a:cubicBezTo>
                    <a:pt x="15350" y="27"/>
                    <a:pt x="15484" y="29"/>
                    <a:pt x="15527" y="26"/>
                  </a:cubicBezTo>
                  <a:cubicBezTo>
                    <a:pt x="15564" y="24"/>
                    <a:pt x="15590" y="20"/>
                    <a:pt x="15590" y="20"/>
                  </a:cubicBezTo>
                  <a:cubicBezTo>
                    <a:pt x="15590" y="20"/>
                    <a:pt x="16497" y="1236"/>
                    <a:pt x="16970" y="1870"/>
                  </a:cubicBezTo>
                  <a:cubicBezTo>
                    <a:pt x="16975" y="1631"/>
                    <a:pt x="16996" y="423"/>
                    <a:pt x="16951" y="14"/>
                  </a:cubicBezTo>
                  <a:cubicBezTo>
                    <a:pt x="17015" y="23"/>
                    <a:pt x="17093" y="46"/>
                    <a:pt x="17172" y="45"/>
                  </a:cubicBezTo>
                  <a:cubicBezTo>
                    <a:pt x="17244" y="43"/>
                    <a:pt x="17322" y="26"/>
                    <a:pt x="17393" y="14"/>
                  </a:cubicBezTo>
                  <a:cubicBezTo>
                    <a:pt x="17329" y="525"/>
                    <a:pt x="17305" y="2268"/>
                    <a:pt x="17385" y="2651"/>
                  </a:cubicBezTo>
                  <a:moveTo>
                    <a:pt x="8983" y="725"/>
                  </a:moveTo>
                  <a:cubicBezTo>
                    <a:pt x="8983" y="1159"/>
                    <a:pt x="8690" y="1409"/>
                    <a:pt x="8408" y="1465"/>
                  </a:cubicBezTo>
                  <a:cubicBezTo>
                    <a:pt x="8613" y="1728"/>
                    <a:pt x="9354" y="2710"/>
                    <a:pt x="9354" y="2710"/>
                  </a:cubicBezTo>
                  <a:cubicBezTo>
                    <a:pt x="9167" y="2683"/>
                    <a:pt x="8893" y="2687"/>
                    <a:pt x="8755" y="2703"/>
                  </a:cubicBezTo>
                  <a:cubicBezTo>
                    <a:pt x="8519" y="2334"/>
                    <a:pt x="8120" y="1763"/>
                    <a:pt x="7967" y="1578"/>
                  </a:cubicBezTo>
                  <a:cubicBezTo>
                    <a:pt x="7964" y="1472"/>
                    <a:pt x="7963" y="1391"/>
                    <a:pt x="7961" y="1287"/>
                  </a:cubicBezTo>
                  <a:cubicBezTo>
                    <a:pt x="8420" y="1296"/>
                    <a:pt x="8517" y="991"/>
                    <a:pt x="8517" y="774"/>
                  </a:cubicBezTo>
                  <a:cubicBezTo>
                    <a:pt x="8517" y="486"/>
                    <a:pt x="8256" y="335"/>
                    <a:pt x="7997" y="335"/>
                  </a:cubicBezTo>
                  <a:cubicBezTo>
                    <a:pt x="7772" y="335"/>
                    <a:pt x="7772" y="335"/>
                    <a:pt x="7772" y="335"/>
                  </a:cubicBezTo>
                  <a:cubicBezTo>
                    <a:pt x="7752" y="850"/>
                    <a:pt x="7789" y="2116"/>
                    <a:pt x="7812" y="2705"/>
                  </a:cubicBezTo>
                  <a:cubicBezTo>
                    <a:pt x="7633" y="2686"/>
                    <a:pt x="7435" y="2689"/>
                    <a:pt x="7292" y="2705"/>
                  </a:cubicBezTo>
                  <a:cubicBezTo>
                    <a:pt x="7353" y="2273"/>
                    <a:pt x="7342" y="309"/>
                    <a:pt x="7292" y="9"/>
                  </a:cubicBezTo>
                  <a:cubicBezTo>
                    <a:pt x="7292" y="9"/>
                    <a:pt x="7576" y="31"/>
                    <a:pt x="7699" y="24"/>
                  </a:cubicBezTo>
                  <a:cubicBezTo>
                    <a:pt x="7809" y="17"/>
                    <a:pt x="7913" y="12"/>
                    <a:pt x="8044" y="12"/>
                  </a:cubicBezTo>
                  <a:cubicBezTo>
                    <a:pt x="8326" y="12"/>
                    <a:pt x="8983" y="81"/>
                    <a:pt x="8983" y="725"/>
                  </a:cubicBezTo>
                  <a:moveTo>
                    <a:pt x="10891" y="1173"/>
                  </a:moveTo>
                  <a:cubicBezTo>
                    <a:pt x="11187" y="1362"/>
                    <a:pt x="11412" y="1538"/>
                    <a:pt x="11412" y="1939"/>
                  </a:cubicBezTo>
                  <a:cubicBezTo>
                    <a:pt x="11412" y="2518"/>
                    <a:pt x="10959" y="2724"/>
                    <a:pt x="10570" y="2724"/>
                  </a:cubicBezTo>
                  <a:cubicBezTo>
                    <a:pt x="10250" y="2724"/>
                    <a:pt x="9911" y="2555"/>
                    <a:pt x="9754" y="2434"/>
                  </a:cubicBezTo>
                  <a:cubicBezTo>
                    <a:pt x="9813" y="2318"/>
                    <a:pt x="9874" y="2198"/>
                    <a:pt x="9920" y="2033"/>
                  </a:cubicBezTo>
                  <a:cubicBezTo>
                    <a:pt x="10094" y="2228"/>
                    <a:pt x="10362" y="2366"/>
                    <a:pt x="10547" y="2366"/>
                  </a:cubicBezTo>
                  <a:cubicBezTo>
                    <a:pt x="10790" y="2366"/>
                    <a:pt x="10936" y="2233"/>
                    <a:pt x="10936" y="2011"/>
                  </a:cubicBezTo>
                  <a:cubicBezTo>
                    <a:pt x="10945" y="1844"/>
                    <a:pt x="10826" y="1726"/>
                    <a:pt x="10675" y="1600"/>
                  </a:cubicBezTo>
                  <a:cubicBezTo>
                    <a:pt x="10566" y="1509"/>
                    <a:pt x="10289" y="1330"/>
                    <a:pt x="10222" y="1276"/>
                  </a:cubicBezTo>
                  <a:cubicBezTo>
                    <a:pt x="10003" y="1098"/>
                    <a:pt x="9869" y="949"/>
                    <a:pt x="9869" y="664"/>
                  </a:cubicBezTo>
                  <a:cubicBezTo>
                    <a:pt x="9869" y="286"/>
                    <a:pt x="10206" y="0"/>
                    <a:pt x="10652" y="0"/>
                  </a:cubicBezTo>
                  <a:cubicBezTo>
                    <a:pt x="10881" y="0"/>
                    <a:pt x="11095" y="68"/>
                    <a:pt x="11356" y="243"/>
                  </a:cubicBezTo>
                  <a:cubicBezTo>
                    <a:pt x="11292" y="340"/>
                    <a:pt x="11202" y="489"/>
                    <a:pt x="11156" y="627"/>
                  </a:cubicBezTo>
                  <a:cubicBezTo>
                    <a:pt x="11051" y="485"/>
                    <a:pt x="10889" y="335"/>
                    <a:pt x="10666" y="335"/>
                  </a:cubicBezTo>
                  <a:cubicBezTo>
                    <a:pt x="10454" y="335"/>
                    <a:pt x="10323" y="458"/>
                    <a:pt x="10323" y="654"/>
                  </a:cubicBezTo>
                  <a:cubicBezTo>
                    <a:pt x="10323" y="719"/>
                    <a:pt x="10370" y="792"/>
                    <a:pt x="10465" y="878"/>
                  </a:cubicBezTo>
                  <a:cubicBezTo>
                    <a:pt x="10560" y="960"/>
                    <a:pt x="10692" y="1052"/>
                    <a:pt x="10891" y="117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37"/>
          <p:cNvSpPr/>
          <p:nvPr/>
        </p:nvSpPr>
        <p:spPr>
          <a:xfrm>
            <a:off x="2209680" y="6400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2 Pearson Education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E7DA-5EE4-4C5D-8188-640957654F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45680" y="11430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rporate Social Responsibility (CS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2046240" y="2247840"/>
            <a:ext cx="518148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rroll’s Four-Part Definition of CS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1991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arro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first presented h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SR mode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s a pyramid. It was suggested that, although the components are not exclusive, it “helps the manager to see that the different types of obligations are in a constant tension with one another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roll’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odel of CS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includes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economic, legal, ethical and discretion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philanthropic) expectations that society has of organizations at a given point in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carolls-model.jpg"/>
          <p:cNvPicPr/>
          <p:nvPr/>
        </p:nvPicPr>
        <p:blipFill>
          <a:blip r:embed="rId1"/>
          <a:stretch/>
        </p:blipFill>
        <p:spPr>
          <a:xfrm>
            <a:off x="646200" y="380880"/>
            <a:ext cx="7888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85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ocial Responsibility (CS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1426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rroll’s Four Part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8040" indent="-24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Understanding the Four Compon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80880" y="2057400"/>
          <a:ext cx="8305920" cy="4343400"/>
        </p:xfrm>
        <a:graphic>
          <a:graphicData uri="http://schemas.openxmlformats.org/drawingml/2006/table">
            <a:tbl>
              <a:tblPr/>
              <a:tblGrid>
                <a:gridCol w="2230560"/>
                <a:gridCol w="1922400"/>
                <a:gridCol w="415296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sponsi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cietal Expecta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xamp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cono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 profitable.  Maximize sales, minimize costs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eg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bey laws and regulatio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th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xp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o what is right, fair and jus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retio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Philanthropi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ired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xp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 a good corporate citiz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CSR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560" y="16002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nomic Responsibil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al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ical Responsibil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ilanthropic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9"/>
          <p:cNvGrpSpPr/>
          <p:nvPr/>
        </p:nvGrpSpPr>
        <p:grpSpPr>
          <a:xfrm>
            <a:off x="838080" y="1905120"/>
            <a:ext cx="7848000" cy="2702160"/>
            <a:chOff x="838080" y="1905120"/>
            <a:chExt cx="7848000" cy="2702160"/>
          </a:xfrm>
        </p:grpSpPr>
        <p:sp>
          <p:nvSpPr>
            <p:cNvPr id="164" name="Text Box 4"/>
            <p:cNvSpPr/>
            <p:nvPr/>
          </p:nvSpPr>
          <p:spPr>
            <a:xfrm>
              <a:off x="838080" y="190512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5"/>
            <p:cNvSpPr/>
            <p:nvPr/>
          </p:nvSpPr>
          <p:spPr>
            <a:xfrm>
              <a:off x="838080" y="299376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838080" y="396468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4213800" y="283680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5816880" y="2085120"/>
              <a:ext cx="2869200" cy="1739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Total</a:t>
              </a:r>
              <a:br>
                <a:rPr sz="3600"/>
              </a:b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Corporate CS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4f81bd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Economic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rm has a responsibility to use the resources available to produce goods and services for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rating a high and consistent level of profitability, establishing and maintaining a strong competitive position, operating the firm at a high efficiency leve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Legal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aws and regulations that all firms are expected to follow as they perform their daily func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rating consistent with government and legal expectations; displaying complete compliance with all regul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Ethical Responsibil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nge over time because they are based on expectations of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eting expectations of both social and ethical standards; ability to adapt to new or developing ethical and moral standards; being a good corporate citiz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Discretionary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se responsibilities in which society does not have a clear message to present to businesses as to what their courses of action should 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in the hands of managers to make the right judg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ms are not considered unethical if they do not participate in these discretionary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ing to charitable organizations; providing drug treatment programs; providing day care cen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agers Response to Social Responsibility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371600"/>
            <a:ext cx="83566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many ways managers respond to this du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1. Obstructionist response </a:t>
            </a:r>
            <a:r>
              <a:rPr b="1" i="1" lang="en-US" sz="2400" spc="-1" strike="noStrike">
                <a:solidFill>
                  <a:srgbClr val="790015"/>
                </a:solidFill>
                <a:latin typeface="Calibri"/>
              </a:rPr>
              <a:t>(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(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ممانع</a:t>
            </a:r>
            <a:r>
              <a:rPr b="0" i="1" lang="en-US" sz="2600" spc="-1" strike="noStrike">
                <a:solidFill>
                  <a:srgbClr val="790015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choose not to be socially responsi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behave illegally and unethicall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hide and cover-up problem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2.  Defensive response 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 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مدافع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)</a:t>
            </a:r>
            <a:r>
              <a:rPr b="1" i="1" lang="en-US" sz="2400" spc="-1" strike="noStrike">
                <a:solidFill>
                  <a:srgbClr val="790015"/>
                </a:solidFill>
                <a:latin typeface="Calibri"/>
              </a:rPr>
              <a:t>):</a:t>
            </a:r>
            <a:r>
              <a:rPr b="0" lang="en-US" sz="24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stay within the law but make no attempt to exercise additional social responsibil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t shareholder interest above all other stakehold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09120" y="781200"/>
            <a:ext cx="821052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3. Accommodative response:</a:t>
            </a:r>
            <a:r>
              <a:rPr b="1" i="1" lang="en-US" sz="2000" spc="-1" strike="noStrike">
                <a:solidFill>
                  <a:srgbClr val="790015"/>
                </a:solidFill>
                <a:latin typeface="Calibri"/>
              </a:rPr>
              <a:t>(</a:t>
            </a:r>
            <a:r>
              <a:rPr b="1" i="1" lang="ar-SA" sz="2000" spc="-1" strike="noStrike">
                <a:solidFill>
                  <a:srgbClr val="790015"/>
                </a:solidFill>
                <a:latin typeface="Calibri"/>
                <a:cs typeface="Arial"/>
              </a:rPr>
              <a:t>متكييف</a:t>
            </a:r>
            <a:r>
              <a:rPr b="1" i="1" lang="en-US" sz="2000" spc="-1" strike="noStrike">
                <a:solidFill>
                  <a:srgbClr val="790015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realize the need for social responsi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to balance the interests of all stak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4. Positive response:</a:t>
            </a:r>
            <a:r>
              <a:rPr b="1" lang="en-US" sz="28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actively support social responsi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out of their way to learn about and help stak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Content Placeholder 5" descr="images.jpg"/>
          <p:cNvPicPr/>
          <p:nvPr/>
        </p:nvPicPr>
        <p:blipFill>
          <a:blip r:embed="rId1"/>
          <a:stretch/>
        </p:blipFill>
        <p:spPr>
          <a:xfrm>
            <a:off x="1639800" y="969840"/>
            <a:ext cx="5639040" cy="5338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s of Responsi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18"/>
          <p:cNvGrpSpPr/>
          <p:nvPr/>
        </p:nvGrpSpPr>
        <p:grpSpPr>
          <a:xfrm>
            <a:off x="533520" y="1828800"/>
            <a:ext cx="8381520" cy="4127040"/>
            <a:chOff x="533520" y="1828800"/>
            <a:chExt cx="8381520" cy="4127040"/>
          </a:xfrm>
        </p:grpSpPr>
        <p:sp>
          <p:nvSpPr>
            <p:cNvPr id="183" name="Rectangle 3"/>
            <p:cNvSpPr/>
            <p:nvPr/>
          </p:nvSpPr>
          <p:spPr>
            <a:xfrm>
              <a:off x="533520" y="1828800"/>
              <a:ext cx="8381520" cy="412704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81d58"/>
              </a:solidFill>
              <a:miter/>
            </a:ln>
            <a:effectLst>
              <a:outerShdw dist="71785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4"/>
            <p:cNvSpPr/>
            <p:nvPr/>
          </p:nvSpPr>
          <p:spPr>
            <a:xfrm>
              <a:off x="681480" y="2515320"/>
              <a:ext cx="192924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2796120" y="2515320"/>
              <a:ext cx="184716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4826520" y="2515320"/>
              <a:ext cx="201600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>
              <a:off x="6941160" y="2515320"/>
              <a:ext cx="184140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8"/>
            <p:cNvSpPr/>
            <p:nvPr/>
          </p:nvSpPr>
          <p:spPr>
            <a:xfrm>
              <a:off x="797040" y="2782440"/>
              <a:ext cx="16246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str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9"/>
            <p:cNvSpPr/>
            <p:nvPr/>
          </p:nvSpPr>
          <p:spPr>
            <a:xfrm>
              <a:off x="3031560" y="2706480"/>
              <a:ext cx="13852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>
              <a:off x="4808160" y="2782440"/>
              <a:ext cx="2147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mmoda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>
              <a:off x="6928920" y="2782440"/>
              <a:ext cx="1887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ac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>
              <a:off x="684720" y="4191120"/>
              <a:ext cx="814752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>
              <a:off x="760680" y="4571280"/>
              <a:ext cx="658800" cy="3938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8053200" y="4568040"/>
              <a:ext cx="750600" cy="3938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5"/>
            <p:cNvSpPr/>
            <p:nvPr/>
          </p:nvSpPr>
          <p:spPr>
            <a:xfrm>
              <a:off x="2099880" y="4644360"/>
              <a:ext cx="5405040" cy="45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Social responsi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920" y="1447920"/>
            <a:ext cx="8458200" cy="49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focus in this chapter is on corporate social responsibility, which involves responsibilities outside of making a profit and the key questions for corporations includ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Does business have a social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If so, what is the extent and type of the  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04920" y="7617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at is Corporate Social Responsibility (CSR)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S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management concept whereby companies integrate social and environmental concerns in their business operations and interactions with their stakeholder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traight Connector 5"/>
          <p:cNvSpPr/>
          <p:nvPr/>
        </p:nvSpPr>
        <p:spPr>
          <a:xfrm>
            <a:off x="276120" y="839880"/>
            <a:ext cx="8585280" cy="0"/>
          </a:xfrm>
          <a:prstGeom prst="line">
            <a:avLst/>
          </a:prstGeom>
          <a:ln w="1260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80880" y="990720"/>
            <a:ext cx="80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150000"/>
              </a:lnSpc>
              <a:spcAft>
                <a:spcPts val="1199"/>
              </a:spcAft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What is Corporate Social Respons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Terminator 7"/>
          <p:cNvSpPr/>
          <p:nvPr/>
        </p:nvSpPr>
        <p:spPr>
          <a:xfrm>
            <a:off x="851040" y="4303800"/>
            <a:ext cx="7213320" cy="1182600"/>
          </a:xfrm>
          <a:prstGeom prst="flowChartTerminator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Up-Down Arrow 8"/>
          <p:cNvGrpSpPr/>
          <p:nvPr/>
        </p:nvGrpSpPr>
        <p:grpSpPr>
          <a:xfrm>
            <a:off x="3981600" y="3017880"/>
            <a:ext cx="834840" cy="1262160"/>
            <a:chOff x="3981600" y="3017880"/>
            <a:chExt cx="834840" cy="1262160"/>
          </a:xfrm>
        </p:grpSpPr>
        <p:pic>
          <p:nvPicPr>
            <p:cNvPr id="104" name="Up-Down Arrow 8" descr=""/>
            <p:cNvPicPr/>
            <p:nvPr/>
          </p:nvPicPr>
          <p:blipFill>
            <a:blip r:embed="rId1"/>
            <a:stretch/>
          </p:blipFill>
          <p:spPr>
            <a:xfrm>
              <a:off x="3981600" y="3017880"/>
              <a:ext cx="8348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218120" y="3227400"/>
              <a:ext cx="360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12"/>
          <p:cNvSpPr/>
          <p:nvPr/>
        </p:nvSpPr>
        <p:spPr>
          <a:xfrm>
            <a:off x="1195560" y="4495680"/>
            <a:ext cx="659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The responsibility of business towards th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lowchart: Terminator 13"/>
          <p:cNvSpPr/>
          <p:nvPr/>
        </p:nvSpPr>
        <p:spPr>
          <a:xfrm>
            <a:off x="1981080" y="1905120"/>
            <a:ext cx="4572000" cy="1015920"/>
          </a:xfrm>
          <a:prstGeom prst="flowChartTerminator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2057400" y="19810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orporate Social Respons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nefits of CS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Enhance relationships with stakehold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Access to funding opportun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Differentiating yourself from the competi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Saving money on energy and operating c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Increase in customer reten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0"/>
          <p:cNvSpPr/>
          <p:nvPr/>
        </p:nvSpPr>
        <p:spPr>
          <a:xfrm>
            <a:off x="4830840" y="334800"/>
            <a:ext cx="411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fbfbf"/>
                </a:solidFill>
                <a:latin typeface="Arial"/>
                <a:ea typeface="Arial"/>
              </a:rPr>
              <a:t>Corporate Social Respon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1828800" y="228600"/>
            <a:ext cx="41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Benefits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of C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7"/>
          <p:cNvSpPr/>
          <p:nvPr/>
        </p:nvSpPr>
        <p:spPr>
          <a:xfrm>
            <a:off x="6667560" y="549360"/>
            <a:ext cx="227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Legislative Frame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866960" y="1219320"/>
            <a:ext cx="5410080" cy="4419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Oval 5"/>
          <p:cNvGrpSpPr/>
          <p:nvPr/>
        </p:nvGrpSpPr>
        <p:grpSpPr>
          <a:xfrm>
            <a:off x="3219480" y="2371680"/>
            <a:ext cx="2705040" cy="2163960"/>
            <a:chOff x="3219480" y="2371680"/>
            <a:chExt cx="2705040" cy="2163960"/>
          </a:xfrm>
        </p:grpSpPr>
        <p:pic>
          <p:nvPicPr>
            <p:cNvPr id="116" name="Oval 5" descr=""/>
            <p:cNvPicPr/>
            <p:nvPr/>
          </p:nvPicPr>
          <p:blipFill>
            <a:blip r:embed="rId1"/>
            <a:stretch/>
          </p:blipFill>
          <p:spPr>
            <a:xfrm>
              <a:off x="3219480" y="2371680"/>
              <a:ext cx="270504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652920" y="2701800"/>
              <a:ext cx="183816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6"/>
          <p:cNvSpPr/>
          <p:nvPr/>
        </p:nvSpPr>
        <p:spPr>
          <a:xfrm>
            <a:off x="3513960" y="2828880"/>
            <a:ext cx="211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Benef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f C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3581280" y="990720"/>
            <a:ext cx="1951200" cy="82548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872160" y="1130400"/>
            <a:ext cx="1332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Winning n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9"/>
          <p:cNvSpPr/>
          <p:nvPr/>
        </p:nvSpPr>
        <p:spPr>
          <a:xfrm>
            <a:off x="533520" y="1295280"/>
            <a:ext cx="1438200" cy="121932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  <a:lnTo>
                  <a:pt x="21600" y="21599"/>
                </a:lnTo>
                <a:lnTo>
                  <a:pt x="0" y="21599"/>
                </a:lnTo>
                <a:close/>
              </a:path>
            </a:pathLst>
          </a:custGeom>
          <a:noFill/>
          <a:ln cap="rnd" w="5724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11"/>
          <p:cNvSpPr/>
          <p:nvPr/>
        </p:nvSpPr>
        <p:spPr>
          <a:xfrm rot="9466800">
            <a:off x="7086240" y="4191120"/>
            <a:ext cx="1438200" cy="121896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  <a:lnTo>
                  <a:pt x="21600" y="21599"/>
                </a:lnTo>
                <a:lnTo>
                  <a:pt x="0" y="21599"/>
                </a:lnTo>
                <a:close/>
              </a:path>
            </a:pathLst>
          </a:custGeom>
          <a:noFill/>
          <a:ln cap="rnd" w="7632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2"/>
          <p:cNvSpPr/>
          <p:nvPr/>
        </p:nvSpPr>
        <p:spPr>
          <a:xfrm>
            <a:off x="1866960" y="4876920"/>
            <a:ext cx="2171520" cy="9381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1971720" y="4991040"/>
            <a:ext cx="2066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hancing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luence in the indu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4"/>
          <p:cNvSpPr/>
          <p:nvPr/>
        </p:nvSpPr>
        <p:spPr>
          <a:xfrm>
            <a:off x="6597720" y="2717640"/>
            <a:ext cx="2066760" cy="11811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6669000" y="2832120"/>
            <a:ext cx="19702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racting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taining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intaining a happy wor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6"/>
          <p:cNvSpPr/>
          <p:nvPr/>
        </p:nvSpPr>
        <p:spPr>
          <a:xfrm>
            <a:off x="1295280" y="1523880"/>
            <a:ext cx="1954440" cy="914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1280520" y="1654200"/>
            <a:ext cx="2018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ustomer ret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8"/>
          <p:cNvSpPr/>
          <p:nvPr/>
        </p:nvSpPr>
        <p:spPr>
          <a:xfrm>
            <a:off x="609480" y="3962520"/>
            <a:ext cx="1828800" cy="990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684720" y="4121280"/>
            <a:ext cx="1692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self from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0"/>
          <p:cNvSpPr/>
          <p:nvPr/>
        </p:nvSpPr>
        <p:spPr>
          <a:xfrm>
            <a:off x="380880" y="2717640"/>
            <a:ext cx="1981440" cy="10670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705240" y="2854440"/>
            <a:ext cx="1451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aving mone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n energy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perating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457200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3"/>
          <p:cNvSpPr/>
          <p:nvPr/>
        </p:nvSpPr>
        <p:spPr>
          <a:xfrm flipH="1">
            <a:off x="2489040" y="3886200"/>
            <a:ext cx="91440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 flipH="1">
            <a:off x="3505320" y="4343400"/>
            <a:ext cx="3650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>
            <a:off x="3200400" y="2239920"/>
            <a:ext cx="457200" cy="426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 flipH="1">
            <a:off x="5943600" y="3301920"/>
            <a:ext cx="628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2438280" y="32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8"/>
          <p:cNvSpPr/>
          <p:nvPr/>
        </p:nvSpPr>
        <p:spPr>
          <a:xfrm>
            <a:off x="4114800" y="5105520"/>
            <a:ext cx="1981080" cy="7095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>
            <a:off x="4248360" y="5202360"/>
            <a:ext cx="1777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0000"/>
                </a:solidFill>
                <a:latin typeface="Arial"/>
                <a:ea typeface="Arial"/>
              </a:rPr>
              <a:t>Access to fun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0000"/>
                </a:solidFill>
                <a:latin typeface="Arial"/>
                <a:ea typeface="Arial"/>
              </a:rPr>
              <a:t>opport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0"/>
          <p:cNvSpPr/>
          <p:nvPr/>
        </p:nvSpPr>
        <p:spPr>
          <a:xfrm>
            <a:off x="5016600" y="4435560"/>
            <a:ext cx="30240" cy="669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1"/>
          <p:cNvSpPr/>
          <p:nvPr/>
        </p:nvSpPr>
        <p:spPr>
          <a:xfrm>
            <a:off x="5943600" y="4343400"/>
            <a:ext cx="1781280" cy="98100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83720" y="4457880"/>
            <a:ext cx="1384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dia 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pu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4"/>
          <p:cNvSpPr/>
          <p:nvPr/>
        </p:nvSpPr>
        <p:spPr>
          <a:xfrm>
            <a:off x="5791320" y="1486080"/>
            <a:ext cx="1857240" cy="10285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6"/>
          <p:cNvSpPr/>
          <p:nvPr/>
        </p:nvSpPr>
        <p:spPr>
          <a:xfrm flipH="1">
            <a:off x="5473440" y="2266920"/>
            <a:ext cx="385560" cy="387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 rot="18220200">
            <a:off x="7857720" y="507024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 rot="18220200">
            <a:off x="61560" y="140112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917680" y="1616040"/>
            <a:ext cx="1710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nhanc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keh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5686560" y="3963960"/>
            <a:ext cx="457200" cy="426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1.  CSR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plains a commitment to society’s values and contribute to society’s social, environmental, and economic goals through 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2.  CS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tects society from the negative impacts of  company operations, products and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3.  CS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monstrates that the company can make more money by doing the right th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SR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orting Argumen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mon Corporate Social Responsibility initia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00040" y="1828440"/>
            <a:ext cx="5638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protect the    environ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create a work. environment that enhances employees’ quality of lif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build a diverse workforc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228600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22:07:12Z</dcterms:created>
  <dc:creator>Curtis Family Laptop</dc:creator>
  <dc:description/>
  <dc:language>en-US</dc:language>
  <cp:lastModifiedBy>User</cp:lastModifiedBy>
  <dcterms:modified xsi:type="dcterms:W3CDTF">2016-11-21T17:25:44Z</dcterms:modified>
  <cp:revision>70</cp:revision>
  <dc:subject/>
  <dc:title>Ethics and Business</dc:title>
</cp:coreProperties>
</file>