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presProps" Target="presProps.xml"/><Relationship Id="rId51" Type="http://schemas.openxmlformats.org/officeDocument/2006/relationships/commentAuthors" Target="commentAuthors.xml"/>
</Relationships>
</file>

<file path=ppt/comments/comment13.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657CD-7C25-44D9-9ADA-309B55894E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9E5A4-2AAF-4AEF-8CB7-F934281E6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6FA35-88B3-45F0-BD0D-7F7B66783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7CFC4-B566-4E5D-AE59-0E7B3176E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84424-B285-421E-AEC5-0E1DFD694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E8F5D-7C28-45D7-922C-EA135EE03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4276A-8479-4F37-8B20-047C147F8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FA775-E343-4C8A-BE64-A3FE58F555C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72D15-BC36-4009-A048-AAF89952C34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Palatino-Roman"/>
              </a:rPr>
              <a:t>The distributor</a:t>
            </a:r>
            <a:r>
              <a:rPr b="0" lang="en-US" sz="1200" spc="-1" strike="noStrike">
                <a:solidFill>
                  <a:srgbClr val="000000"/>
                </a:solidFill>
                <a:latin typeface="Calibri"/>
              </a:rPr>
              <a:t>’</a:t>
            </a:r>
            <a:r>
              <a:rPr b="0" lang="en-US" sz="1200" spc="-1" strike="noStrike">
                <a:solidFill>
                  <a:srgbClr val="000000"/>
                </a:solidFill>
                <a:latin typeface="Palatino-Roman"/>
              </a:rPr>
              <a:t>s financial strength is important because of the potential long-term relationship between producer and distributor and because of the assurance that money will be available for such things as maintaining sufficient inventory. Good connections are particularly important if sales must be directed to certain types of buyers, such as governmental procurement agencies. The amount of other business commitments can indicate whether the distributor has time for the company</a:t>
            </a:r>
            <a:r>
              <a:rPr b="0" lang="en-US" sz="1200" spc="-1" strike="noStrike">
                <a:solidFill>
                  <a:srgbClr val="000000"/>
                </a:solidFill>
                <a:latin typeface="Calibri"/>
              </a:rPr>
              <a:t>’</a:t>
            </a:r>
            <a:r>
              <a:rPr b="0" lang="en-US" sz="1200" spc="-1" strike="noStrike">
                <a:solidFill>
                  <a:srgbClr val="000000"/>
                </a:solidFill>
                <a:latin typeface="Palatino-Roman"/>
              </a:rPr>
              <a:t>s product and whether it currently handles competitive or complementary products. The current status of the distributor</a:t>
            </a:r>
            <a:r>
              <a:rPr b="0" lang="en-US" sz="1200" spc="-1" strike="noStrike">
                <a:solidFill>
                  <a:srgbClr val="000000"/>
                </a:solidFill>
                <a:latin typeface="Calibri"/>
              </a:rPr>
              <a:t>’</a:t>
            </a:r>
            <a:r>
              <a:rPr b="0" lang="en-US" sz="1200" spc="-1" strike="noStrike">
                <a:solidFill>
                  <a:srgbClr val="000000"/>
                </a:solidFill>
                <a:latin typeface="Palatino-Roman"/>
              </a:rPr>
              <a:t>s personnel, facilities, and equipment indicates not only its ability to deal with the product but also how quickly start-up can occur and how likely the distributorship will stay in busines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A5ED4-1259-40ED-9D4F-8761710A1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108DA-2871-4C47-83E7-132D3E3F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63616-26DC-413F-912B-CDD6E6E2E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BCBB9-BAF0-4239-9730-89AA59FAC7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DA7E-0D6C-433B-BDC4-A0CE6DB05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965CA-DBE6-4B5F-A0E7-B6BACF8F43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14C9E9-ED8C-4FBF-8020-5B76F6AB8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5C8515-EB34-4189-A3E9-1A3C58968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99AD1-22FE-4769-9F11-10F6ED64D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7CB52B-5B66-4A66-9612-E6C6501EF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A6339-8E4E-41EA-931E-A4C2D6759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9D404-A6E2-4498-B679-912E9A4F5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4262C-D814-44C5-836B-85809BF87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16DAB7-26D1-4D45-AA9F-4E09861A1A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9C1662-C101-4A8E-9766-3134443426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F06EC-D653-44E3-826D-18D684DD8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B6D369-BAB9-4CEF-A3BA-48687BFC18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81D28B5-75CC-467E-8A2C-752FF176FD5D}"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121D9FFC-D899-4E13-8219-686578D069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FC698386-8BD8-4299-86CE-D11BF2998E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E2AE77A7-D824-4837-8B68-0158E32E81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6F44A297-B362-45FA-8CFB-3769743440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00515693-AB06-4C31-8709-DE132524BB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B5241D7B-EA2F-4494-AD21-DAD1A1AE93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629C97D2-0CE7-4783-8588-19F7C5BD3E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7E39900-FBBF-41E7-BF58-61DD52EBF1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48F0F-849D-4424-84C4-1AC06A5E7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1E7E05CE-0F31-4588-94E3-821753149B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80CEFB1C-9A12-4AF5-B06E-0652428756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7B68BEB4-17D4-4173-A4FC-DF7D65F000C6}"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8CFE17D-0A9D-44EB-9EEB-9027D352CB6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20535EE-619D-49BE-9FB7-0A47823D2A7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5DE95C-F354-44F2-A6FA-70FD697C70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A3DC8F6-11F3-4E3F-8A77-737144379A0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8491FB5-B4FB-44BD-A9D9-B1A5B1B3E9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9EFBB1-B318-4311-AD12-43F46378E1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977FEE-CABE-4A69-892A-38C381D838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637AB-B87F-4388-86FD-5BFF3BEF4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D2E344-178D-48E4-82F6-1782A210F47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E0B707-C3D3-49E8-9066-A5B8B8F1A0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5071FB-9513-4E31-BB94-B181FB53656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CD96360-1E42-4BF7-A080-09AA857FE58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23EF48F-B711-4C16-8AE6-2B4B0980AB7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7E1D4D4-4E56-49DA-A38D-5FD468DC8F6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D327C65-B75B-4042-9A98-B975CE68970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E29AFCA-362F-4A4F-8AB2-8D63405EBE2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37E3613-7079-45FA-93FB-B4005B5FD40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85D3500-DF99-4ECE-A246-DE4E385B01E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66219-A058-4951-B761-A09BF00F1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744B59-E354-4668-B6C8-104EA97B608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107E661-A469-4283-8645-9AFB30CF5AD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68357F0-80C3-4478-A5B0-CBD7ABBF37C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F018B2-4CB9-490E-9731-66609D38203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8A9CB52-B5FF-4D9C-A0C9-FEA4A2819F0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6BBFC6E-B20D-4B07-B2C1-CE27349FE2E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563947-FC17-46BF-8EC6-B84346AB4CE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583892B-9E8C-411A-AD4D-7CA5D39F4822}"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058AE29C-5B7F-4BE1-B860-EC7CD2B1449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E0541E8-B6B9-48F6-AC45-F01E3ACFC00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937EF-AEBE-4B80-9C19-3E848250D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62F1A2F6-9F14-486C-B91E-BF6371C3C3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7990A5BF-84BF-4470-AFF3-735EF3A6A83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C10B5A5F-7A02-4832-B3C5-3A124D067F2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86D05E2-C5ED-4B7C-A739-60180F3FFC7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7BF8910-19A2-4B5A-B5E7-CBF8570155A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2E6DE0AC-C325-49C0-8B2F-85BD5908A5A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300CBAA-F608-4375-9DC6-4922172626F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9987F433-A4E3-4B4B-9C4B-F9F0D64A7EC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92DC17B3-F1AF-4818-BDB6-A747454A9AB9}"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16D3BAC-4400-4211-8DF5-FE5731D022C3}"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01008-E0D5-48D2-A0BA-FD633F071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6B84017-A29B-424A-87B4-34D45E7DD7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4C18743C-A4EB-4988-A6A1-A704248D6D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F0D5368C-E4C1-4598-ABED-CD542A96F1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91D0DFBF-E32D-421A-B7FC-BD80FBF541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5284B242-AA63-457B-B61C-2137DD4D17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51A8466D-6A78-4C3D-9B32-F9709549C7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70C6F56-62C6-4F53-B0D2-61E69EA10E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7361BC8-0BA6-4FF8-A44D-EFABCA9D70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89257527-5070-4224-9390-1B8687E35A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AC30A5B4-DE8D-4BF3-989E-2BC20B12D9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F0F3D-BA74-41B7-B440-355695569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3611BD57-7D63-49D2-8213-47C62665A8F4}"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B923ED-5110-4D4F-85CA-9A457521E41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0C0183-3DB9-4FA9-9B34-752F6527E0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6DABB0-2E3D-42F4-B1BB-8B5B6821CC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269990-0998-4C40-99CA-7ABA220A6D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90CBF3-41CA-4C2F-B2EA-C79E9322CB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106D76-BD24-4A6B-AA9A-28D265987F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164586-E27D-4C88-AE1E-80CD6E3902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F1CC3D-ADC1-4488-923C-A9D6239E83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46871C-3C64-4275-B126-877A642B76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5D5D5-EDA3-4FF8-B2D0-38DFD872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8D92D5-C77E-41EC-A79A-5BED4487A8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91B4397-984F-4537-ACE0-46B1C333EB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C64042-4B9E-4E87-87A7-A0B389F080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0ADAA8-3284-4E83-8F7C-AE8D87BBF4F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E7AA9E-C742-4E73-BDED-4526F24512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C46D41-CBA4-4B89-9F61-0D5845260B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98E09E-F9C0-45CB-B76A-A30D07F94F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B933BE-2420-4765-A0B2-5322937DAA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C6F1E4-C14C-4003-BFD8-DA7385521D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B559D3-5A53-4B52-8127-C7311DDFF5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E253-8D19-4921-9185-C1E6E14C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B828F-A892-40A4-90D2-739D7A4EC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B93967-9008-475A-A17D-53545EA17E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4CDA19-4B62-4EE0-8C25-A3BD9BEE5D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60897A-2E54-4A07-802D-09B57984FD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9FA111A-B0E6-4218-AB3C-F588398739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06CA620-ED8A-4953-8BEB-F044C91DFA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722AF2B-08B8-48A7-B697-C40161953C3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C66DBE-0DC8-4062-A4C2-47BE93C087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EC8CFF-2CFF-4444-B38A-077FFCA613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7E3B2B-2531-415B-B4F2-897ED85965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C8FE61-A09C-46FC-8500-D9A89E030B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F484C-0C82-4BC6-95FB-8C46B54BC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937C09-B003-450F-BC90-8D03C9E0B2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7F95A5-8D59-45C6-9A8F-83A4353ABC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77F698-6263-4193-80B6-2E1DF89381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790DEA-CBFD-4EA8-A33C-5DC7F6F946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B29C7B-DAC9-4005-81AC-56927CCBB9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6A9CB5-81AD-4A08-916D-1590EEE0A7C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0306BE-FF6B-490E-8522-1AB6841CE95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6F459A-A1D3-4369-8CDD-5077B5ACFD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C32E7D-A5EF-4F01-94A1-2D14FFA0BA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8DFBC5-D4E7-477A-9BFC-9448F537D5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8109-367C-4EBE-8E74-F94AA9D3B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C53009-B9EF-4A36-AD54-418753C66F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AF5349-BB28-4448-ABB1-94D6D67A57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613921-DA00-4E5F-A840-0A52F0B8FF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44C3ED-3D11-4432-84E5-2568EA73E0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DF69C2-381D-4CCF-B308-38DDFCDACB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6EFB25-396A-4CEC-B271-99C63CC472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D37DE7-2378-4684-84F3-900B0A4064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A1653E0-871C-4DCA-B8AA-442B8C1DEA5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075111-AE69-4913-BB65-2A03037A241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2BD953D-950C-43C7-9D55-0889976735F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F6C81-CD89-42D4-B1C9-178B4E0DC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E26E41-FD6F-48D0-B57C-7A034C8D634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EBD8D1-C573-495E-A702-49C4FC57AB6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EEB212-40E7-4641-8E4F-0CD9182C9DC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68C54B-44F1-4545-8628-84A609D8B2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C6AE5AB-1F6D-4C38-9D5D-28C25CA080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32B0BD-5148-4E08-9327-CD6ACC0080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36CC10-DDA8-4293-8A3F-68518E2861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E9F9AD-505E-47DB-8922-EA3CA06988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FA6126-3F84-4DB8-A43D-F430C09247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4F2630-CB8B-4F5B-8D19-86E6730A482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B4EFE-A1F0-4C75-9AC2-6FAB28082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AD2921-2181-4369-B551-358CCD90955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C2E845E-37D9-4FF4-8BD3-1452E0BF703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9159870-7046-485E-A12F-10458B6EED1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66B851-8B83-4952-AC11-04DE11CE5F7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4FB7AC1-191F-45A5-B372-9193987CA2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D85FC47-922E-4E26-B5F3-336FED48D3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A13566-608C-4614-9095-E46E6B8B80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DE8DAD-9C5F-448E-B492-331EF2381E9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78BD8F-10CC-45FF-B4A3-45EA254122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7019E9-7FC7-40F5-8291-6D05837662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61C283-2ADB-40F2-A174-2BCDBDEA2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D786D3-C4F1-4240-9CBB-8A07BB9255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DBE0843-44EF-47D7-8AFF-044E762EC9F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948AC24-3E02-4A2F-AFED-F5D4009AF21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47BA596-068D-45A3-B911-6864E041615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860EA6E-E834-49E3-BCBA-0520766086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983F91B-C9D9-4E79-9955-803E58C14ED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CB0852-5D69-4755-8330-0424D90621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B1D1B0-0288-488D-9A01-BEC5688BAD3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6A7E2B3-3EB7-432D-8A79-4E8A098BD3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519B63-7EE3-4CEB-8CCD-2260643F9F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B8D17-24A0-42DE-8100-A825C770B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533681-0C75-4778-91B3-7F691C62E9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49508D-F1BC-4346-9283-E0F5948137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3D5A75-05FB-4A46-88A4-1812EDCB31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CD4EAA-4675-41CA-AE16-00BA06B4555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B372F9-9FE3-4BDD-95C3-E8606BBADDF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D25EDF9-A6A7-4E37-AA22-C2F612A68FD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F1DB8BC-3513-4899-AC37-B2D5B5423E7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950856C-2A74-4B97-B1B2-6C474F97A6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CE0845-6044-47A7-A8B5-4D9AEABC1C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460660F-B030-4DDD-8BB4-4DEF8EBFC95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F20DE-1CFA-4DD5-82C4-E61BD5435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C093BB-F57E-4210-827C-D7D7B3B851A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ECA495-75CD-406A-B147-5B5AF1EA6A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D27510-2B1A-47DF-8E9E-37F44738B6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E02179E-ABB3-43D4-9216-9321E397C9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63C41D-8A7C-401E-B041-ED9A4F54D2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06828C8-26CF-4719-B4B1-E6CFDCABF36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36FF98A-47FD-4A89-B369-F21218A7228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BBE86F8-B1ED-4E37-9FF7-EBBE118CF46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4D6C3F-C894-40F6-8EE5-C8C3193C3E1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B398744-DDE0-4662-A30C-B2DC95BA948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65B71-B248-4566-8707-5F3B82E02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98A011A-9504-42BD-9FE1-1EA7E8C1E07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7D51B6A-B5E7-44EC-8074-73BFBD567EC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911D617-0E4E-46E8-BBB9-6F453FB0323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3FB921-CE7E-49A6-9917-9A727DFFF3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5164A87-2E76-4805-9058-395CA83598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4C041A-882E-4701-9E98-CA2E1B14010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69535F-F8B7-4083-8D2D-5D46802E3F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04E1006-79EB-4968-9A2A-9EB62B01A93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6192F22-25DD-4952-AC70-55BAF8081A6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222BC-F05B-4AE8-8F02-3EA9C0C82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C79F-4AA2-4CF1-B1FA-B61654334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BE2D7-11C9-4CB7-BA52-0DF049D8B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53C76-F8C8-46E4-BACC-E62F1FCBE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F3929-F27C-4912-B729-B309C4AE6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72E35-4477-4862-A3B8-2F458BE5A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FD820-A261-4F83-B5B1-BB9213D00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25D2B-0D04-4D06-83F3-43AB6D9FC8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08D78-B701-442A-B90D-7E5207F9B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F27B3-4152-4037-A105-42E17C9F2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08704-0C9B-4FEE-B897-AB73612AA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28599-4E49-4FD4-B9C2-E231D4409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83BC-2F0C-4F04-AA35-413A9A26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5E15E-D795-41CF-9971-CEEFB5386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6D8CD-4930-4888-BD11-2CFD2976A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0E809-D779-4D72-8178-E4327F109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33B3B-A5A6-467E-A57A-CE44DC045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0BEB2-DFDF-4D3D-99DE-F96F65705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B52A6-9A93-4778-860B-F5CC414C4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62BD1-B038-4A13-B7C6-5639D86AB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D8225-5AA6-4421-927F-AAD1E52BE4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0180EE-F538-42A0-97AA-DA50FA6FAE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6B98A4-43B6-4668-8B74-C1221C7E6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FAD96-E1CE-4883-8A61-26AD54566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BEC91-6FC1-41CC-AD61-3837661E6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CEB6D-EDF7-4F5A-AB56-837849F5D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D6C6B-2565-49B8-BEC5-F6946CE51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DAF686-F6E2-476C-9F3B-6E19DBA83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BF955-510A-4872-8D7C-B7FEF0504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896B7-5559-41C2-A385-E486255E3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FED57-0655-40A6-A8C2-7ED9B239C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F5D55-2C5F-471B-A905-A725BBB90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5EBA5-9C20-44AF-8597-B092AD544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C5FDEE-2192-4C03-AD89-C8F07CE63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8858-5B7E-4CFA-B812-4FE9C644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DAD3A-6170-4BD8-978B-3B8FDB1788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E4153D-6B5C-4EAC-9417-CFA4CA039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E686C-A065-44EC-838A-0C9A73951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8F884-56CD-42B6-B2E7-BFB6D5E3D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4867F-F0EE-4609-BF99-432C961F64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B58885-B2DF-4C33-A0DA-28DCEF9C2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B5BB8-8B88-444E-83C4-8FCDBEF91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82D5C-0468-493F-9589-359EB56E4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33814-6DBC-4618-9C13-86EB3637A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73966-C5E1-44AD-A0C8-0E60270F4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988D-C5FF-4466-A906-E6F0617D5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B38EA-30E4-4E41-96AD-F0CD7B270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1EE06-B694-48C5-B6B0-FE98FD5B7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68695F-2E64-405D-9EC8-51CF9C9844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030F19-8823-45A5-9A7A-95F3BB09BD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4A539-3B6F-467D-868C-56CD9D640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1058E-E2F7-440F-AADA-D063BEF07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5E3AF-E969-496D-9405-6CA6F23FD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C02F42-3292-43D7-92A7-FB40754C4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C82F0-4FFF-44F4-B03E-14A7F7DC8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0ACD1-98D3-4487-BE47-E9D7953E7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679B-6F86-4384-B87F-22AC657FB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9A8D6-E7DB-4123-A618-7CE7C5F33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B8F10-9813-4501-B2A6-38F1883C9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888AD-048D-4235-BBF8-2EEC15DBF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FF24F-D268-4617-926B-6E43AED86B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EEE9C7-0CA8-4922-8F04-EF35BC612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6FC5D-CE6D-4224-887B-35C6AF0537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AE741-0564-4095-9AA0-BC9F6BEB8B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41E00-4423-43CF-938B-F66C6EF3CB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9CB62-5615-445E-B8A1-537D77D85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873E6-25E1-41F9-89F7-C429A229A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A6DE-87DF-4CFD-8E87-4DF942D3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69B9F-0B62-42EE-94F0-3674C21BB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2084F-C920-4A84-8B8E-FDC711D3E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40BEC-83F2-453B-87C1-2E5D0B0F4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222B1-EA18-4DC2-B6D0-FE77646AD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DAA89-4ADB-4791-8870-BFB46D821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5055B6-C381-4484-96EC-0BFBC87396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B25DBE-C633-4621-ACAA-374AA05B09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0AFEB-F398-469E-89FD-F79C883D61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33FC6-9742-4ED8-A3BE-34BA873B91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0607C-D716-4081-84A3-72957512B4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04A17-4838-44EC-978B-E3A1CA3F08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B8302-D481-49D9-A6A2-A7182A1194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80BBE-8099-4FF9-AA46-CB1808B7E7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53BD7-CF68-4BD9-9C76-D2BF99ED1B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68E24-3BA3-414D-ABB4-A71A127EBF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D071B-E009-45FD-9328-60D5DD32E1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D6DE3-4638-4B31-BD19-462D6C5139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57518-EE5C-45D6-AD2E-A5E7B38536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4E56A-A0B8-42E1-93C3-604402EC9A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A7981-7D30-4281-9B07-7DF645625B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01DCD-6E77-40EA-880D-315C2F4F03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99497-E18A-47B5-A932-A956D4B5AD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811D4-C8D5-47C2-AEEB-354F3C98A5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485AF-8927-4ABC-968A-89F03A33B6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B0204-F89F-45D8-B7DA-098E3BF6BC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44A40-4B22-405F-B16F-065F7CD4F5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D5864-4760-45D7-AA1C-5C88A585EE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905C8-C7F7-4FF1-8774-46E18C31AB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AA297-049B-483B-8AB2-F01346CDFF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271F2-C20C-456F-825B-CEBEB1710D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9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6 </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nagement Orientations</a:t>
            </a:r>
            <a:endParaRPr b="0" lang="en-US" sz="4400" spc="-1" strike="noStrike">
              <a:solidFill>
                <a:srgbClr val="000000"/>
              </a:solidFill>
              <a:latin typeface="Calibri"/>
            </a:endParaRPr>
          </a:p>
        </p:txBody>
      </p:sp>
      <p:sp>
        <p:nvSpPr>
          <p:cNvPr id="1304"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5"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6"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7"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26B4A-3161-431D-AED2-290BC42680D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9" name="PlaceHolder 1"/>
          <p:cNvSpPr>
            <a:spLocks noGrp="1"/>
          </p:cNvSpPr>
          <p:nvPr>
            <p:ph type="title"/>
          </p:nvPr>
        </p:nvSpPr>
        <p:spPr>
          <a:xfrm>
            <a:off x="457200" y="430200"/>
            <a:ext cx="8229600" cy="11304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0" name="PlaceHolder 2"/>
          <p:cNvSpPr>
            <a:spLocks noGrp="1"/>
          </p:cNvSpPr>
          <p:nvPr>
            <p:ph/>
          </p:nvPr>
        </p:nvSpPr>
        <p:spPr>
          <a:xfrm>
            <a:off x="457200" y="1899720"/>
            <a:ext cx="8229600" cy="4226040"/>
          </a:xfrm>
          <a:prstGeom prst="rect">
            <a:avLst/>
          </a:prstGeom>
          <a:solidFill>
            <a:srgbClr val="ffffff"/>
          </a:solid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Ethno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Poly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Regio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Geocentric</a:t>
            </a:r>
            <a:endParaRPr b="0" lang="en-US" sz="36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2" name=""/>
          <p:cNvSpPr txBox="1"/>
          <p:nvPr/>
        </p:nvSpPr>
        <p:spPr>
          <a:xfrm>
            <a:off x="457200" y="1595520"/>
            <a:ext cx="8229600" cy="4680000"/>
          </a:xfrm>
          <a:prstGeom prst="rect">
            <a:avLst/>
          </a:prstGeom>
          <a:noFill/>
          <a:ln w="9360">
            <a:solidFill>
              <a:srgbClr val="c4bd97"/>
            </a:solidFill>
            <a:miter/>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or </a:t>
            </a:r>
            <a:r>
              <a:rPr b="1" i="1" lang="en-US" sz="2800" spc="-1" strike="noStrike">
                <a:solidFill>
                  <a:srgbClr val="000000"/>
                </a:solidFill>
                <a:latin typeface="Calibri"/>
                <a:ea typeface="MS PGothic"/>
              </a:rPr>
              <a:t>extension</a:t>
            </a:r>
            <a:r>
              <a:rPr b="1"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457200" y="1703160"/>
            <a:ext cx="8229600" cy="48942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subsidiary develops its own unique business and marketing strateg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6" name=""/>
          <p:cNvSpPr txBox="1"/>
          <p:nvPr/>
        </p:nvSpPr>
        <p:spPr>
          <a:xfrm>
            <a:off x="321840" y="1828440"/>
            <a:ext cx="8364600" cy="4660920"/>
          </a:xfrm>
          <a:prstGeom prst="rect">
            <a:avLst/>
          </a:prstGeom>
          <a:noFill/>
          <a:ln w="0">
            <a:noFill/>
          </a:ln>
        </p:spPr>
        <p:txBody>
          <a:bodyPr anchor="t">
            <a:normAutofit fontScale="83000"/>
          </a:bodyPr>
          <a:p>
            <a:pPr marL="284400" indent="-28440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16680" indent="-23724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48600" indent="-189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Management orientation is geared to developing an integrated regional strategy</a:t>
            </a:r>
            <a:endParaRPr b="0" lang="en-US" sz="28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MS PGothic"/>
              </a:rPr>
              <a:t>European Union </a:t>
            </a:r>
            <a:endParaRPr b="0" lang="en-US" sz="24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MS PGothic"/>
              </a:rPr>
              <a:t>NAFTA</a:t>
            </a:r>
            <a:endParaRPr b="0" lang="en-US" sz="2400" spc="-1" strike="noStrike">
              <a:solidFill>
                <a:srgbClr val="000000"/>
              </a:solidFill>
              <a:latin typeface="Calibri"/>
            </a:endParaRPr>
          </a:p>
          <a:p>
            <a:pPr lvl="1" marL="616680" indent="-2372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284400" indent="-2844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8" name=""/>
          <p:cNvSpPr txBox="1"/>
          <p:nvPr/>
        </p:nvSpPr>
        <p:spPr>
          <a:xfrm>
            <a:off x="457200" y="1757520"/>
            <a:ext cx="8229600" cy="471456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marL="343080" indent="-343080">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20" name=""/>
          <p:cNvSpPr txBox="1"/>
          <p:nvPr/>
        </p:nvSpPr>
        <p:spPr>
          <a:xfrm>
            <a:off x="457200" y="1422360"/>
            <a:ext cx="803448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Essenc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434880"/>
            <a:ext cx="8229600" cy="7984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TANDARDIZATION </a:t>
            </a:r>
            <a:r>
              <a:rPr b="1" lang="en-US" sz="3200" spc="-1" strike="noStrike">
                <a:solidFill>
                  <a:srgbClr val="ff0000"/>
                </a:solidFill>
                <a:latin typeface="Calibri"/>
              </a:rPr>
              <a:t>vs. </a:t>
            </a:r>
            <a:r>
              <a:rPr b="1" lang="en-US" sz="3200" spc="-1" strike="noStrike">
                <a:solidFill>
                  <a:srgbClr val="000000"/>
                </a:solidFill>
                <a:latin typeface="Calibri"/>
              </a:rPr>
              <a:t>ADAPTATION</a:t>
            </a:r>
            <a:endParaRPr b="0" lang="en-US" sz="3200" spc="-1" strike="noStrike">
              <a:solidFill>
                <a:srgbClr val="000000"/>
              </a:solidFill>
              <a:latin typeface="Calibri"/>
            </a:endParaRPr>
          </a:p>
        </p:txBody>
      </p:sp>
      <p:sp>
        <p:nvSpPr>
          <p:cNvPr id="1322" name=""/>
          <p:cNvSpPr txBox="1"/>
          <p:nvPr/>
        </p:nvSpPr>
        <p:spPr>
          <a:xfrm>
            <a:off x="457200" y="1600200"/>
            <a:ext cx="4038480" cy="452592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Faces of Coca-Cola Around the Worl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23" name="Picture 4" descr=""/>
          <p:cNvPicPr/>
          <p:nvPr/>
        </p:nvPicPr>
        <p:blipFill>
          <a:blip r:embed="rId1"/>
          <a:srcRect l="-5202" t="0" r="-5202" b="0"/>
          <a:stretch/>
        </p:blipFill>
        <p:spPr>
          <a:xfrm>
            <a:off x="4648320" y="1600200"/>
            <a:ext cx="4038480" cy="4525920"/>
          </a:xfrm>
          <a:prstGeom prst="rect">
            <a:avLst/>
          </a:prstGeom>
          <a:ln w="0">
            <a:noFill/>
          </a:ln>
        </p:spPr>
      </p:pic>
      <p:sp>
        <p:nvSpPr>
          <p:cNvPr id="1324" name="Text Box 6"/>
          <p:cNvSpPr/>
          <p:nvPr/>
        </p:nvSpPr>
        <p:spPr>
          <a:xfrm>
            <a:off x="2768760" y="2505240"/>
            <a:ext cx="1981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Arabic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Read right to left</a:t>
            </a:r>
            <a:endParaRPr b="0" lang="en-US" sz="1800" spc="-1" strike="noStrike">
              <a:solidFill>
                <a:srgbClr val="000000"/>
              </a:solidFill>
              <a:latin typeface="Arial"/>
            </a:endParaRPr>
          </a:p>
        </p:txBody>
      </p:sp>
      <p:sp>
        <p:nvSpPr>
          <p:cNvPr id="1325" name="Line 9"/>
          <p:cNvSpPr/>
          <p:nvPr/>
        </p:nvSpPr>
        <p:spPr>
          <a:xfrm>
            <a:off x="3568680" y="27432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Text Box 7"/>
          <p:cNvSpPr/>
          <p:nvPr/>
        </p:nvSpPr>
        <p:spPr>
          <a:xfrm>
            <a:off x="2017800" y="4432320"/>
            <a:ext cx="2630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Chinese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Tahoma"/>
                <a:ea typeface="MS PGothic"/>
              </a:rPr>
              <a:t>“</a:t>
            </a:r>
            <a:r>
              <a:rPr b="0" lang="en-US" sz="1800" spc="-1" strike="noStrike">
                <a:solidFill>
                  <a:srgbClr val="000000"/>
                </a:solidFill>
                <a:latin typeface="Tahoma"/>
                <a:ea typeface="MS PGothic"/>
              </a:rPr>
              <a:t>delicious/happiness</a:t>
            </a:r>
            <a:r>
              <a:rPr b="0" lang="ja-JP" sz="1800" spc="-1" strike="noStrike">
                <a:solidFill>
                  <a:srgbClr val="000000"/>
                </a:solidFill>
                <a:latin typeface="Tahoma"/>
                <a:ea typeface="MS PGothic"/>
              </a:rPr>
              <a:t>”</a:t>
            </a:r>
            <a:endParaRPr b="0" lang="en-US" sz="1800" spc="-1" strike="noStrike">
              <a:solidFill>
                <a:srgbClr val="000000"/>
              </a:solidFill>
              <a:latin typeface="Arial"/>
            </a:endParaRPr>
          </a:p>
        </p:txBody>
      </p:sp>
      <p:sp>
        <p:nvSpPr>
          <p:cNvPr id="1327" name="Line 8"/>
          <p:cNvSpPr/>
          <p:nvPr/>
        </p:nvSpPr>
        <p:spPr>
          <a:xfrm>
            <a:off x="3276720" y="4660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912317B4-D71A-4D63-9DF8-5AC31AE923C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30"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31"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35"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mong countries as well as the method within the country 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21A9B17F-74F0-4A48-BA29-1B806868275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9"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41"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42"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5"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1">
                                            <p:txEl>
                                              <p:pRg st="0" end="0"/>
                                            </p:txEl>
                                          </p:spTgt>
                                        </p:tgtEl>
                                        <p:attrNameLst>
                                          <p:attrName>style.visibility</p:attrName>
                                        </p:attrNameLst>
                                      </p:cBhvr>
                                      <p:to>
                                        <p:strVal val="visible"/>
                                      </p:to>
                                    </p:set>
                                    <p:anim calcmode="lin" valueType="num">
                                      <p:cBhvr additive="base">
                                        <p:cTn id="7" dur="500" fill="hold"/>
                                        <p:tgtEl>
                                          <p:spTgt spid="13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41">
                                            <p:txEl>
                                              <p:pRg st="1" end="1"/>
                                            </p:txEl>
                                          </p:spTgt>
                                        </p:tgtEl>
                                        <p:attrNameLst>
                                          <p:attrName>style.visibility</p:attrName>
                                        </p:attrNameLst>
                                      </p:cBhvr>
                                      <p:to>
                                        <p:strVal val="visible"/>
                                      </p:to>
                                    </p:set>
                                    <p:anim calcmode="lin" valueType="num">
                                      <p:cBhvr additive="base">
                                        <p:cTn id="13" dur="500" fill="hold"/>
                                        <p:tgtEl>
                                          <p:spTgt spid="134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41">
                                            <p:txEl>
                                              <p:pRg st="2" end="2"/>
                                            </p:txEl>
                                          </p:spTgt>
                                        </p:tgtEl>
                                        <p:attrNameLst>
                                          <p:attrName>style.visibility</p:attrName>
                                        </p:attrNameLst>
                                      </p:cBhvr>
                                      <p:to>
                                        <p:strVal val="visible"/>
                                      </p:to>
                                    </p:set>
                                    <p:anim calcmode="lin" valueType="num">
                                      <p:cBhvr additive="base">
                                        <p:cTn id="19" dur="500" fill="hold"/>
                                        <p:tgtEl>
                                          <p:spTgt spid="134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41">
                                            <p:txEl>
                                              <p:pRg st="3" end="3"/>
                                            </p:txEl>
                                          </p:spTgt>
                                        </p:tgtEl>
                                        <p:attrNameLst>
                                          <p:attrName>style.visibility</p:attrName>
                                        </p:attrNameLst>
                                      </p:cBhvr>
                                      <p:to>
                                        <p:strVal val="visible"/>
                                      </p:to>
                                    </p:set>
                                    <p:anim calcmode="lin" valueType="num">
                                      <p:cBhvr additive="base">
                                        <p:cTn id="25" dur="500" fill="hold"/>
                                        <p:tgtEl>
                                          <p:spTgt spid="134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41">
                                            <p:txEl>
                                              <p:pRg st="4" end="4"/>
                                            </p:txEl>
                                          </p:spTgt>
                                        </p:tgtEl>
                                        <p:attrNameLst>
                                          <p:attrName>style.visibility</p:attrName>
                                        </p:attrNameLst>
                                      </p:cBhvr>
                                      <p:to>
                                        <p:strVal val="visible"/>
                                      </p:to>
                                    </p:set>
                                    <p:anim calcmode="lin" valueType="num">
                                      <p:cBhvr additive="base">
                                        <p:cTn id="31" dur="500" fill="hold"/>
                                        <p:tgtEl>
                                          <p:spTgt spid="134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is the scope of activities 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422280"/>
            <a:ext cx="8229600" cy="97776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The Importance of Going Global</a:t>
            </a:r>
            <a:endParaRPr b="0" lang="en-US" sz="3600" spc="-1" strike="noStrike">
              <a:solidFill>
                <a:srgbClr val="000000"/>
              </a:solidFill>
              <a:latin typeface="Calibri"/>
            </a:endParaRPr>
          </a:p>
        </p:txBody>
      </p:sp>
      <p:sp>
        <p:nvSpPr>
          <p:cNvPr id="1293" name=""/>
          <p:cNvSpPr txBox="1"/>
          <p:nvPr/>
        </p:nvSpPr>
        <p:spPr>
          <a:xfrm>
            <a:off x="457200" y="1765080"/>
            <a:ext cx="8229600" cy="4506840"/>
          </a:xfrm>
          <a:prstGeom prst="rect">
            <a:avLst/>
          </a:prstGeom>
          <a:noFill/>
          <a:ln w="9360">
            <a:solidFill>
              <a:srgbClr val="c4bd97"/>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For U.S. companies, 75% of total world market for goods and services is outside the country.</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For Japanese companies, 90% of world market is outside the country.</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94% of market potential is outside of Germany for its companies even though it is the largest EU mark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0297B36B-F62D-47C5-A4FA-F4461FFC1873}"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6"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7"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9"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301"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aimler-Chrys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2"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erman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4-11-01T15:07:51Z</dcterms:modified>
  <cp:revision>76</cp:revision>
  <dc:subject/>
  <dc:title>PowerPoint Presentation</dc:title>
</cp:coreProperties>
</file>