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581E-5959-4BC4-8CBE-CD276508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5CA-97C0-4106-977F-E1C78222B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747-FDDB-4FBD-BEA4-9C2845A3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43-7CD0-43BF-B2E1-BAD63753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AD0-F23A-4536-BA7A-5F000C7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975-7D83-4F3C-9571-9EF2B6FA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2A8-BB6B-4911-BADF-521E1D4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C03-C61E-42BE-8B03-F9B7DD9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D28-87CE-4350-AD17-03BB2F0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368-B57A-40EC-B1E1-F4E9DE8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A5C-4604-4803-B9BF-6770493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186-6211-4FC3-B930-3E09763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965-AC3D-4FE3-924F-57A0F484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209-B267-42BB-8DC8-677074C2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4B06-13DA-48FA-A48D-5DC3533CA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35080" y="1905120"/>
            <a:ext cx="518184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4-15T15:54:08Z</dcterms:modified>
  <cp:revision>72</cp:revision>
  <dc:subject/>
  <dc:title>Ethics and Business</dc:title>
</cp:coreProperties>
</file>