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55EE-B66F-44B0-BD39-A4F5F8CD1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Citizenship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cial Responsibility, Responsiveness, an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DFE9-D64F-4A91-BA00-CDE195267C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F84-84AF-49B8-ABA3-17921D3C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4FE-2B34-45F2-990E-4085AD24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22F-E67D-4605-A869-E3604CCD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941-6DF0-4C54-B7AD-9F069CBC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A79-DE82-4EC4-AA41-54F64811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3B5-F005-4618-856A-EE5DDDF3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7B9-1858-4369-8B36-A83DFC93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DDD-E04C-4926-B075-FCA2CFD7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E2F-11A4-4F57-AEBE-9ECFC48B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FF9-F9BA-4541-991B-92FD3A11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BDB-8D68-4D1F-828E-53D0D00E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166-0A8C-4246-B1E1-08CB214F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2616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0EA9-6D7C-4484-9636-8BFAFC202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45680" y="11430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2035080" y="1905120"/>
            <a:ext cx="518184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roll’s Four-Part Definition of CS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1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rro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first presented h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SR 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s a pyramid. It was suggested that, although the components are not exclusive, it “helps the manager to see that the different types of obligations are in a constant tension with one another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roll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l of CS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ncludes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economic, legal, ethical and discretion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philanthropic) expectations that society has of organizations at a given point in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carolls-model.jpg"/>
          <p:cNvPicPr/>
          <p:nvPr/>
        </p:nvPicPr>
        <p:blipFill>
          <a:blip r:embed="rId1"/>
          <a:stretch/>
        </p:blipFill>
        <p:spPr>
          <a:xfrm>
            <a:off x="646200" y="380880"/>
            <a:ext cx="7888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85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1426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roll’s Four Part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Understanding the Four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880" y="2057400"/>
          <a:ext cx="8305920" cy="4343400"/>
        </p:xfrm>
        <a:graphic>
          <a:graphicData uri="http://schemas.openxmlformats.org/drawingml/2006/table">
            <a:tbl>
              <a:tblPr/>
              <a:tblGrid>
                <a:gridCol w="2230560"/>
                <a:gridCol w="1922400"/>
                <a:gridCol w="41529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cietal Expec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xamp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profitable.  Maximize sales, minimize cost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eg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bey laws and regula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th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 what is right, fair and ju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retio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Philanthrop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ired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a good corporate citiz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SR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5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l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anthropic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9"/>
          <p:cNvGrpSpPr/>
          <p:nvPr/>
        </p:nvGrpSpPr>
        <p:grpSpPr>
          <a:xfrm>
            <a:off x="838080" y="1905120"/>
            <a:ext cx="7848000" cy="2702160"/>
            <a:chOff x="838080" y="1905120"/>
            <a:chExt cx="7848000" cy="2702160"/>
          </a:xfrm>
        </p:grpSpPr>
        <p:sp>
          <p:nvSpPr>
            <p:cNvPr id="164" name="Text Box 4"/>
            <p:cNvSpPr/>
            <p:nvPr/>
          </p:nvSpPr>
          <p:spPr>
            <a:xfrm>
              <a:off x="838080" y="190512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838080" y="299376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838080" y="396468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4213800" y="283680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5816880" y="2085120"/>
              <a:ext cx="2869200" cy="1739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orporate CS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f81bd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Economic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m has a responsibility to use the resources available to produce goods and services for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ting a high and consistent level of profitability, establishing and maintaining a strong competitive position, operating the firm at a high efficiency leve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Legal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ws and regulations that all firms are expected to follow as they perform their daily func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ng consistent with government and legal expectations; displaying complete compliance with all reg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Ethical Responsibil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over time because they are based on expectations of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eting expectations of both social and ethical standards; ability to adapt to new or developing ethical and moral standards; being a good corporate citiz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Discretionary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responsibilities in which society does not have a clear message to present to businesses as to what their courses of action should 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in the hands of managers to make the right judg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ms are not considered unethical if they do not participate in these discretionary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ing to charitable organizations; providing drug treatment programs; providing day care cen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rs Response to Social Responsibilit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371600"/>
            <a:ext cx="8356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many ways managers respond to this du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1. Obstructionist response 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مانع</a:t>
            </a:r>
            <a:r>
              <a:rPr b="0" i="1" lang="en-US" sz="26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choose not to be socially respon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behave illegally and unethical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hide and cover-up proble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2.  Defensive response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دافع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)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):</a:t>
            </a:r>
            <a:r>
              <a:rPr b="0" lang="en-US" sz="24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stay within the law but make no attempt to exercise additional social responsi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t shareholder interest above all other stakehold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9120" y="781200"/>
            <a:ext cx="8210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3. Accommodative response: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000" spc="-1" strike="noStrike">
                <a:solidFill>
                  <a:srgbClr val="790015"/>
                </a:solidFill>
                <a:latin typeface="Calibri"/>
                <a:cs typeface="Arial"/>
              </a:rPr>
              <a:t>متكييف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realize the need for social responsi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balance the interests of all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4. Positive response:</a:t>
            </a:r>
            <a:r>
              <a:rPr b="1" lang="en-US" sz="28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actively support social respon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out of their way to learn about and help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5" descr="images.jpg"/>
          <p:cNvPicPr/>
          <p:nvPr/>
        </p:nvPicPr>
        <p:blipFill>
          <a:blip r:embed="rId1"/>
          <a:stretch/>
        </p:blipFill>
        <p:spPr>
          <a:xfrm>
            <a:off x="1639800" y="969840"/>
            <a:ext cx="5639040" cy="533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Respons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533520" y="1828800"/>
            <a:ext cx="8381520" cy="4127040"/>
            <a:chOff x="533520" y="1828800"/>
            <a:chExt cx="8381520" cy="4127040"/>
          </a:xfrm>
        </p:grpSpPr>
        <p:sp>
          <p:nvSpPr>
            <p:cNvPr id="183" name="Rectangle 3"/>
            <p:cNvSpPr/>
            <p:nvPr/>
          </p:nvSpPr>
          <p:spPr>
            <a:xfrm>
              <a:off x="533520" y="1828800"/>
              <a:ext cx="8381520" cy="412704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  <a:effectLst>
              <a:outerShdw dist="71785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"/>
            <p:cNvSpPr/>
            <p:nvPr/>
          </p:nvSpPr>
          <p:spPr>
            <a:xfrm>
              <a:off x="681480" y="2515320"/>
              <a:ext cx="192924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2796120" y="2515320"/>
              <a:ext cx="184716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4826520" y="2515320"/>
              <a:ext cx="20160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6941160" y="2515320"/>
              <a:ext cx="18414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>
              <a:off x="797040" y="2782440"/>
              <a:ext cx="1624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3031560" y="2706480"/>
              <a:ext cx="1385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>
              <a:off x="4808160" y="2782440"/>
              <a:ext cx="2147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mmod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>
              <a:off x="6928920" y="2782440"/>
              <a:ext cx="1887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ac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684720" y="4191120"/>
              <a:ext cx="814752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760680" y="4571280"/>
              <a:ext cx="6588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8053200" y="4568040"/>
              <a:ext cx="7506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5"/>
            <p:cNvSpPr/>
            <p:nvPr/>
          </p:nvSpPr>
          <p:spPr>
            <a:xfrm>
              <a:off x="2099880" y="4644360"/>
              <a:ext cx="5405040" cy="45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ocial responsi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1447920"/>
            <a:ext cx="845820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focus in this chapter is on corporate social responsibility, which involves responsibilities outside of making a profit and the key questions for corporations includ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Does business have a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f so, what is the extent and type of the  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7617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 is Corporate Social Responsibility (CSR)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S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anagement concept whereby companies integrate social and environmental concerns in their business operations and interactions with their stakeholder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traight Connector 5"/>
          <p:cNvSpPr/>
          <p:nvPr/>
        </p:nvSpPr>
        <p:spPr>
          <a:xfrm>
            <a:off x="276120" y="839880"/>
            <a:ext cx="8585280" cy="0"/>
          </a:xfrm>
          <a:prstGeom prst="line">
            <a:avLst/>
          </a:prstGeom>
          <a:ln w="126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80880" y="99072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50000"/>
              </a:lnSpc>
              <a:spcAft>
                <a:spcPts val="1199"/>
              </a:spcAft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What is Corporate Social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Terminator 7"/>
          <p:cNvSpPr/>
          <p:nvPr/>
        </p:nvSpPr>
        <p:spPr>
          <a:xfrm>
            <a:off x="851040" y="4303800"/>
            <a:ext cx="7213320" cy="118260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Up-Down Arrow 8"/>
          <p:cNvGrpSpPr/>
          <p:nvPr/>
        </p:nvGrpSpPr>
        <p:grpSpPr>
          <a:xfrm>
            <a:off x="3981600" y="3017880"/>
            <a:ext cx="834840" cy="1262160"/>
            <a:chOff x="3981600" y="3017880"/>
            <a:chExt cx="834840" cy="1262160"/>
          </a:xfrm>
        </p:grpSpPr>
        <p:pic>
          <p:nvPicPr>
            <p:cNvPr id="104" name="Up-Down Arrow 8" descr=""/>
            <p:cNvPicPr/>
            <p:nvPr/>
          </p:nvPicPr>
          <p:blipFill>
            <a:blip r:embed="rId1"/>
            <a:stretch/>
          </p:blipFill>
          <p:spPr>
            <a:xfrm>
              <a:off x="3981600" y="3017880"/>
              <a:ext cx="8348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218120" y="3227400"/>
              <a:ext cx="36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2"/>
          <p:cNvSpPr/>
          <p:nvPr/>
        </p:nvSpPr>
        <p:spPr>
          <a:xfrm>
            <a:off x="1195560" y="4495680"/>
            <a:ext cx="65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The responsibility of business towards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lowchart: Terminator 13"/>
          <p:cNvSpPr/>
          <p:nvPr/>
        </p:nvSpPr>
        <p:spPr>
          <a:xfrm>
            <a:off x="1981080" y="1905120"/>
            <a:ext cx="4572000" cy="101592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205740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nefits of CS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Enhance relationships with stakehold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ccess to funding opport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Differentiating yourself from the competi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aving money on energy and operating c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ncrease in customer reten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0"/>
          <p:cNvSpPr/>
          <p:nvPr/>
        </p:nvSpPr>
        <p:spPr>
          <a:xfrm>
            <a:off x="4830840" y="334800"/>
            <a:ext cx="41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bfbf"/>
                </a:solidFill>
                <a:latin typeface="Arial"/>
                <a:ea typeface="Arial"/>
              </a:rPr>
              <a:t>Corporate Social 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1828800" y="228600"/>
            <a:ext cx="41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Benefits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6667560" y="549360"/>
            <a:ext cx="22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gislative Frame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866960" y="1219320"/>
            <a:ext cx="5410080" cy="4419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Oval 5"/>
          <p:cNvGrpSpPr/>
          <p:nvPr/>
        </p:nvGrpSpPr>
        <p:grpSpPr>
          <a:xfrm>
            <a:off x="3219480" y="2371680"/>
            <a:ext cx="2705040" cy="2163960"/>
            <a:chOff x="3219480" y="2371680"/>
            <a:chExt cx="2705040" cy="2163960"/>
          </a:xfrm>
        </p:grpSpPr>
        <p:pic>
          <p:nvPicPr>
            <p:cNvPr id="116" name="Oval 5" descr=""/>
            <p:cNvPicPr/>
            <p:nvPr/>
          </p:nvPicPr>
          <p:blipFill>
            <a:blip r:embed="rId1"/>
            <a:stretch/>
          </p:blipFill>
          <p:spPr>
            <a:xfrm>
              <a:off x="3219480" y="2371680"/>
              <a:ext cx="270504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652920" y="2701800"/>
              <a:ext cx="183816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6"/>
          <p:cNvSpPr/>
          <p:nvPr/>
        </p:nvSpPr>
        <p:spPr>
          <a:xfrm>
            <a:off x="3513960" y="2828880"/>
            <a:ext cx="211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Benef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3581280" y="990720"/>
            <a:ext cx="1951200" cy="8254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872160" y="1130400"/>
            <a:ext cx="133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inning 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9"/>
          <p:cNvSpPr/>
          <p:nvPr/>
        </p:nvSpPr>
        <p:spPr>
          <a:xfrm>
            <a:off x="533520" y="1295280"/>
            <a:ext cx="1438200" cy="121932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5724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1"/>
          <p:cNvSpPr/>
          <p:nvPr/>
        </p:nvSpPr>
        <p:spPr>
          <a:xfrm rot="9466800">
            <a:off x="7086240" y="4191120"/>
            <a:ext cx="1438200" cy="121896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1866960" y="4876920"/>
            <a:ext cx="2171520" cy="9381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1971720" y="4991040"/>
            <a:ext cx="206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hancing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luence in th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4"/>
          <p:cNvSpPr/>
          <p:nvPr/>
        </p:nvSpPr>
        <p:spPr>
          <a:xfrm>
            <a:off x="6597720" y="2717640"/>
            <a:ext cx="2066760" cy="11811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6669000" y="2832120"/>
            <a:ext cx="1970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racti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taining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intaining a happy wor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6"/>
          <p:cNvSpPr/>
          <p:nvPr/>
        </p:nvSpPr>
        <p:spPr>
          <a:xfrm>
            <a:off x="1295280" y="1523880"/>
            <a:ext cx="1954440" cy="914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1280520" y="165420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 re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609480" y="3962520"/>
            <a:ext cx="1828800" cy="990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684720" y="4121280"/>
            <a:ext cx="169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self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380880" y="2717640"/>
            <a:ext cx="1981440" cy="10670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705240" y="2854440"/>
            <a:ext cx="145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ving mon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n energ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perat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457200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2489040" y="3886200"/>
            <a:ext cx="91440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 flipH="1">
            <a:off x="3505320" y="4343400"/>
            <a:ext cx="3650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3200400" y="223992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5943600" y="3301920"/>
            <a:ext cx="628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8"/>
          <p:cNvSpPr/>
          <p:nvPr/>
        </p:nvSpPr>
        <p:spPr>
          <a:xfrm>
            <a:off x="4114800" y="5105520"/>
            <a:ext cx="1981080" cy="709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4248360" y="5202360"/>
            <a:ext cx="1777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Access to fun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5016600" y="4435560"/>
            <a:ext cx="30240" cy="669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1"/>
          <p:cNvSpPr/>
          <p:nvPr/>
        </p:nvSpPr>
        <p:spPr>
          <a:xfrm>
            <a:off x="5943600" y="4343400"/>
            <a:ext cx="1781280" cy="9810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83720" y="4457880"/>
            <a:ext cx="138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4"/>
          <p:cNvSpPr/>
          <p:nvPr/>
        </p:nvSpPr>
        <p:spPr>
          <a:xfrm>
            <a:off x="5791320" y="1486080"/>
            <a:ext cx="1857240" cy="10285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6"/>
          <p:cNvSpPr/>
          <p:nvPr/>
        </p:nvSpPr>
        <p:spPr>
          <a:xfrm flipH="1">
            <a:off x="5473440" y="2266920"/>
            <a:ext cx="385560" cy="387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rot="18220200">
            <a:off x="7857720" y="507024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 rot="18220200">
            <a:off x="61560" y="140112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917680" y="1616040"/>
            <a:ext cx="171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5686560" y="396396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1.  CSR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lains a commitment to society’s values and contribute to society’s social, environmental, and economic goals through 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2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s society from the negative impacts of  company operations, products and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3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es that the company can make more money by doing the right th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SR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ing Argum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on Corporate Social Responsibility initi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00040" y="18284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protect the   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create a work. environment that enhances employees’ quality of lif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build a diverse workforc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2860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2:07:12Z</dcterms:created>
  <dc:creator>Curtis Family Laptop</dc:creator>
  <dc:description/>
  <dc:language>en-US</dc:language>
  <cp:lastModifiedBy>User</cp:lastModifiedBy>
  <dcterms:modified xsi:type="dcterms:W3CDTF">2017-04-15T15:54:08Z</dcterms:modified>
  <cp:revision>72</cp:revision>
  <dc:subject/>
  <dc:title>Ethics and Business</dc:title>
</cp:coreProperties>
</file>