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290D-57E1-4B45-89B4-5E392ADA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87C-1B24-41C0-A13F-45B14961C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742-8F98-4CF9-A675-9C75F58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C88-3288-4471-A2CA-2EB7E781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B92-46B0-4A0E-B209-809DFAD9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248-6E3F-4F08-AEC6-B266EE92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8C5-91B5-4D6B-96A1-A2122127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2E8-BC82-402A-AFE9-7497AB0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613-3F51-4FB1-B0A2-C2BAF2B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5E7-0A53-4B10-9798-87C22F8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173-5C57-4F4E-8DFA-3140B44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48B-CFD5-4BF7-BBF3-EFDFFC53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297-2CC8-4C3E-B186-6BC685DE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A77-5F07-4A73-8216-0E999580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059B-6EE1-418F-BA15-6207E3F83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35080" y="1905120"/>
            <a:ext cx="518184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4-15T15:54:08Z</dcterms:modified>
  <cp:revision>72</cp:revision>
  <dc:subject/>
  <dc:title>Ethics and Business</dc:title>
</cp:coreProperties>
</file>