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6C1B-54B3-473E-97F4-846D17ACF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Citizenship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cial Responsibility, Responsiveness, an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8701-867E-4ACC-860E-649253D36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95E-E9BC-44B7-9283-DA801837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30A-76D4-431B-AB48-9AC1C9DE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816-861F-419A-92D5-590372A8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24A-66FB-4ECA-BB2E-0C4CC0A8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4C9-AECE-4402-B57C-D2B4D73B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A79-FFFA-4150-986A-BC9FBDD6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5C1-A433-4658-8EB7-5DAAED6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EC0-7D2F-48F5-BCD5-0931D1B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AF5-8EE0-4E52-AFB0-CDA7F5E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2C0-9EE7-424C-9A4C-17AE243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3E3-2B79-474B-8379-A059AF6C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2D1-91C3-41E8-B654-8A451149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2616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4BA-6760-4CAC-8858-40C6447C1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4568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035080" y="1905120"/>
            <a:ext cx="518184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rroll’s Four-Part Definition of CS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 1991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o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first presented h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SR 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 a pyramid. It was suggested that, although the components are not exclusive, it “helps the manager to see that the different types of obligations are in a constant tension with one another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roll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of CS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lude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economic, legal, ethical and discretion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philanthropic) expectations that society has of organizations at a given point in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carolls-model.jpg"/>
          <p:cNvPicPr/>
          <p:nvPr/>
        </p:nvPicPr>
        <p:blipFill>
          <a:blip r:embed="rId1"/>
          <a:stretch/>
        </p:blipFill>
        <p:spPr>
          <a:xfrm>
            <a:off x="646200" y="380880"/>
            <a:ext cx="7888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85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rporate Social Responsibility (CS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1426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roll’s Four Part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8040" indent="-24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Understanding the Four Compon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2057400"/>
          <a:ext cx="8305920" cy="4343400"/>
        </p:xfrm>
        <a:graphic>
          <a:graphicData uri="http://schemas.openxmlformats.org/drawingml/2006/table">
            <a:tbl>
              <a:tblPr/>
              <a:tblGrid>
                <a:gridCol w="2230560"/>
                <a:gridCol w="1922400"/>
                <a:gridCol w="41529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sponsi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cietal Expec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xamp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cono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profitable.  Maximize sales, minimize cost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eg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bey laws and regul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th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 what is right, fair and ju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retion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Philanthropi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ired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xp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e a good corporate citiz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SR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5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al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ical Responsibil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ilanthropic Responsi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838080" y="1905120"/>
            <a:ext cx="7848000" cy="2702160"/>
            <a:chOff x="838080" y="1905120"/>
            <a:chExt cx="7848000" cy="2702160"/>
          </a:xfrm>
        </p:grpSpPr>
        <p:sp>
          <p:nvSpPr>
            <p:cNvPr id="164" name="Text Box 4"/>
            <p:cNvSpPr/>
            <p:nvPr/>
          </p:nvSpPr>
          <p:spPr>
            <a:xfrm>
              <a:off x="838080" y="190512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838080" y="299376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838080" y="396468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213800" y="2836800"/>
              <a:ext cx="126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816880" y="2085120"/>
              <a:ext cx="2869200" cy="1739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Total</a:t>
              </a:r>
              <a:br>
                <a:rPr sz="3600"/>
              </a:b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orporate CS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4f81bd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Economic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rm has a responsibility to use the resources available to produce goods and services for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ting a high and consistent level of profitability, establishing and maintaining a strong competitive position, operating the firm at a high efficiency leve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Legal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ws and regulations that all firms are expected to follow as they perform their daily func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ng consistent with government and legal expectations; displaying complete compliance with all reg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thical Responsibil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over time because they are based on expectations of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eting expectations of both social and ethical standards; ability to adapt to new or developing ethical and moral standards; being a good corporate citiz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onents of CS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Discretionary Responsibiliti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responsibilities in which society does not have a clear message to present to businesses as to what their courses of action should 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in the hands of managers to make the right judg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ms are not considered unethical if they do not participate in these discretionary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iving to charitable organizations; providing drug treatment programs; providing day care ce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agers Response to Social Responsibilit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371600"/>
            <a:ext cx="8356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many ways managers respond to this du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1. Obstructionist response 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(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مانع</a:t>
            </a:r>
            <a:r>
              <a:rPr b="0" i="1" lang="en-US" sz="2600" spc="-1" strike="noStrike">
                <a:solidFill>
                  <a:srgbClr val="790015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choose not to be socially respon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behave illegally and unethical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y hide and cover-up proble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90015"/>
                </a:solidFill>
                <a:latin typeface="Calibri"/>
              </a:rPr>
              <a:t>2.  Defensive response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 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cs typeface="Arial"/>
              </a:rPr>
              <a:t>مدافع</a:t>
            </a:r>
            <a:r>
              <a:rPr b="1" i="1" lang="ar-SA" sz="2400" spc="-1" strike="noStrike">
                <a:solidFill>
                  <a:srgbClr val="790015"/>
                </a:solidFill>
                <a:latin typeface="Calibri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790015"/>
                </a:solidFill>
                <a:latin typeface="Calibri"/>
              </a:rPr>
              <a:t>):</a:t>
            </a:r>
            <a:r>
              <a:rPr b="0" lang="en-US" sz="24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rs stay within the law but make no attempt to exercise additional social responsi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ut shareholder interest above all other stakeholde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120" y="781200"/>
            <a:ext cx="8210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3. Accommodative response: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(</a:t>
            </a:r>
            <a:r>
              <a:rPr b="1" i="1" lang="ar-SA" sz="2000" spc="-1" strike="noStrike">
                <a:solidFill>
                  <a:srgbClr val="790015"/>
                </a:solidFill>
                <a:latin typeface="Calibri"/>
                <a:cs typeface="Arial"/>
              </a:rPr>
              <a:t>متكييف</a:t>
            </a:r>
            <a:r>
              <a:rPr b="1" i="1" lang="en-US" sz="2000" spc="-1" strike="noStrike">
                <a:solidFill>
                  <a:srgbClr val="790015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realize the need for social responsibil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to balance the interests of all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0015"/>
                </a:solidFill>
                <a:latin typeface="Calibri"/>
              </a:rPr>
              <a:t>4. Positive response:</a:t>
            </a:r>
            <a:r>
              <a:rPr b="1" lang="en-US" sz="2800" spc="-1" strike="noStrike">
                <a:solidFill>
                  <a:srgbClr val="79001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rs actively support social responsi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out of their way to learn about and help stakeh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images.jpg"/>
          <p:cNvPicPr/>
          <p:nvPr/>
        </p:nvPicPr>
        <p:blipFill>
          <a:blip r:embed="rId1"/>
          <a:stretch/>
        </p:blipFill>
        <p:spPr>
          <a:xfrm>
            <a:off x="1639800" y="969840"/>
            <a:ext cx="5639040" cy="533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Responsi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18"/>
          <p:cNvGrpSpPr/>
          <p:nvPr/>
        </p:nvGrpSpPr>
        <p:grpSpPr>
          <a:xfrm>
            <a:off x="533520" y="1828800"/>
            <a:ext cx="8381520" cy="4127040"/>
            <a:chOff x="533520" y="1828800"/>
            <a:chExt cx="8381520" cy="4127040"/>
          </a:xfrm>
        </p:grpSpPr>
        <p:sp>
          <p:nvSpPr>
            <p:cNvPr id="183" name="Rectangle 3"/>
            <p:cNvSpPr/>
            <p:nvPr/>
          </p:nvSpPr>
          <p:spPr>
            <a:xfrm>
              <a:off x="533520" y="1828800"/>
              <a:ext cx="8381520" cy="412704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81d58"/>
              </a:solidFill>
              <a:miter/>
            </a:ln>
            <a:effectLst>
              <a:outerShdw dist="71785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4"/>
            <p:cNvSpPr/>
            <p:nvPr/>
          </p:nvSpPr>
          <p:spPr>
            <a:xfrm>
              <a:off x="681480" y="2515320"/>
              <a:ext cx="192924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2796120" y="2515320"/>
              <a:ext cx="184716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4826520" y="2515320"/>
              <a:ext cx="20160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6941160" y="2515320"/>
              <a:ext cx="1841400" cy="1150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>
              <a:off x="797040" y="2782440"/>
              <a:ext cx="1624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>
              <a:off x="3031560" y="2706480"/>
              <a:ext cx="1385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>
              <a:off x="4808160" y="2782440"/>
              <a:ext cx="2147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mmoda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6928920" y="2782440"/>
              <a:ext cx="1887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ac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684720" y="4191120"/>
              <a:ext cx="814752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60680" y="4571280"/>
              <a:ext cx="6588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8053200" y="4568040"/>
              <a:ext cx="750600" cy="3938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"/>
            <p:cNvSpPr/>
            <p:nvPr/>
          </p:nvSpPr>
          <p:spPr>
            <a:xfrm>
              <a:off x="2099880" y="4644360"/>
              <a:ext cx="5405040" cy="45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ocial responsi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1447920"/>
            <a:ext cx="845820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focus in this chapter is on corporate social responsibility, which involves responsibilities outside of making a profit and the key questions for corporations inclu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Does business have a social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f so, what is the extent and type of the   respons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7617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 is Corporate Social Responsibility (CSR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S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management concept whereby companies integrate social and environmental concerns in their business operations and interactions with their stakeholder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traight Connector 5"/>
          <p:cNvSpPr/>
          <p:nvPr/>
        </p:nvSpPr>
        <p:spPr>
          <a:xfrm>
            <a:off x="276120" y="839880"/>
            <a:ext cx="8585280" cy="0"/>
          </a:xfrm>
          <a:prstGeom prst="line">
            <a:avLst/>
          </a:prstGeom>
          <a:ln w="1260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80880" y="990720"/>
            <a:ext cx="80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150000"/>
              </a:lnSpc>
              <a:spcAft>
                <a:spcPts val="1199"/>
              </a:spcAft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What is Corporate Social Respons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Terminator 7"/>
          <p:cNvSpPr/>
          <p:nvPr/>
        </p:nvSpPr>
        <p:spPr>
          <a:xfrm>
            <a:off x="851040" y="4303800"/>
            <a:ext cx="7213320" cy="118260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Up-Down Arrow 8"/>
          <p:cNvGrpSpPr/>
          <p:nvPr/>
        </p:nvGrpSpPr>
        <p:grpSpPr>
          <a:xfrm>
            <a:off x="3981600" y="3017880"/>
            <a:ext cx="834840" cy="1262160"/>
            <a:chOff x="3981600" y="3017880"/>
            <a:chExt cx="834840" cy="1262160"/>
          </a:xfrm>
        </p:grpSpPr>
        <p:pic>
          <p:nvPicPr>
            <p:cNvPr id="104" name="Up-Down Arrow 8" descr=""/>
            <p:cNvPicPr/>
            <p:nvPr/>
          </p:nvPicPr>
          <p:blipFill>
            <a:blip r:embed="rId1"/>
            <a:stretch/>
          </p:blipFill>
          <p:spPr>
            <a:xfrm>
              <a:off x="3981600" y="3017880"/>
              <a:ext cx="8348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218120" y="3227400"/>
              <a:ext cx="36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12"/>
          <p:cNvSpPr/>
          <p:nvPr/>
        </p:nvSpPr>
        <p:spPr>
          <a:xfrm>
            <a:off x="1195560" y="4495680"/>
            <a:ext cx="65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The responsibility of business towards the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lowchart: Terminator 13"/>
          <p:cNvSpPr/>
          <p:nvPr/>
        </p:nvSpPr>
        <p:spPr>
          <a:xfrm>
            <a:off x="1981080" y="1905120"/>
            <a:ext cx="4572000" cy="1015920"/>
          </a:xfrm>
          <a:prstGeom prst="flowChartTerminator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205740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ts of CS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Enhance relationships with stakehol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Access to funding opport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Differentiating yourself from the competi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aving money on energy and operating c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ncrease in customer reten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0"/>
          <p:cNvSpPr/>
          <p:nvPr/>
        </p:nvSpPr>
        <p:spPr>
          <a:xfrm>
            <a:off x="4830840" y="334800"/>
            <a:ext cx="41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fbfbf"/>
                </a:solidFill>
                <a:latin typeface="Arial"/>
                <a:ea typeface="Arial"/>
              </a:rPr>
              <a:t>Corporate Social Respo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828800" y="22860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Benefits</a:t>
            </a: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375e"/>
                </a:solidFill>
                <a:latin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6667560" y="549360"/>
            <a:ext cx="227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Legislative 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866960" y="1219320"/>
            <a:ext cx="5410080" cy="44193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Oval 5"/>
          <p:cNvGrpSpPr/>
          <p:nvPr/>
        </p:nvGrpSpPr>
        <p:grpSpPr>
          <a:xfrm>
            <a:off x="3219480" y="2371680"/>
            <a:ext cx="2705040" cy="2163960"/>
            <a:chOff x="3219480" y="2371680"/>
            <a:chExt cx="2705040" cy="2163960"/>
          </a:xfrm>
        </p:grpSpPr>
        <p:pic>
          <p:nvPicPr>
            <p:cNvPr id="116" name="Oval 5" descr=""/>
            <p:cNvPicPr/>
            <p:nvPr/>
          </p:nvPicPr>
          <p:blipFill>
            <a:blip r:embed="rId1"/>
            <a:stretch/>
          </p:blipFill>
          <p:spPr>
            <a:xfrm>
              <a:off x="3219480" y="2371680"/>
              <a:ext cx="2705040" cy="21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52920" y="2701800"/>
              <a:ext cx="183816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6"/>
          <p:cNvSpPr/>
          <p:nvPr/>
        </p:nvSpPr>
        <p:spPr>
          <a:xfrm>
            <a:off x="3513960" y="2828880"/>
            <a:ext cx="211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f C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3581280" y="990720"/>
            <a:ext cx="1951200" cy="8254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872160" y="1130400"/>
            <a:ext cx="1332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inning n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rc 9"/>
          <p:cNvSpPr/>
          <p:nvPr/>
        </p:nvSpPr>
        <p:spPr>
          <a:xfrm>
            <a:off x="533520" y="1295280"/>
            <a:ext cx="1438200" cy="121932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5724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9466800">
            <a:off x="7086240" y="4191120"/>
            <a:ext cx="1438200" cy="121896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677"/>
                  <a:pt x="9658" y="10"/>
                  <a:pt x="21579" y="-1"/>
                </a:cubicBezTo>
                <a:lnTo>
                  <a:pt x="21600" y="21599"/>
                </a:lnTo>
                <a:lnTo>
                  <a:pt x="0" y="21599"/>
                </a:lnTo>
                <a:close/>
              </a:path>
            </a:pathLst>
          </a:custGeom>
          <a:noFill/>
          <a:ln cap="rnd" w="7632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66960" y="4876920"/>
            <a:ext cx="2171520" cy="9381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971720" y="4991040"/>
            <a:ext cx="206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hancing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luence in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6597720" y="2717640"/>
            <a:ext cx="2066760" cy="11811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669000" y="2832120"/>
            <a:ext cx="1970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ng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taining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intaining a happy wor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1295280" y="1523880"/>
            <a:ext cx="1954440" cy="9144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1280520" y="165420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ustomer re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609480" y="3962520"/>
            <a:ext cx="1828800" cy="9903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684720" y="4121280"/>
            <a:ext cx="169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fferenti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self from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et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80880" y="2717640"/>
            <a:ext cx="1981440" cy="10670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705240" y="2854440"/>
            <a:ext cx="1451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ving mone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 energ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457200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2489040" y="3886200"/>
            <a:ext cx="9144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 flipH="1">
            <a:off x="3505320" y="4343400"/>
            <a:ext cx="3650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3200400" y="223992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5943600" y="3301920"/>
            <a:ext cx="628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2438280" y="32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"/>
          <p:cNvSpPr/>
          <p:nvPr/>
        </p:nvSpPr>
        <p:spPr>
          <a:xfrm>
            <a:off x="4114800" y="5105520"/>
            <a:ext cx="1981080" cy="709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248360" y="5202360"/>
            <a:ext cx="177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Access to fu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5016600" y="4435560"/>
            <a:ext cx="30240" cy="669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1"/>
          <p:cNvSpPr/>
          <p:nvPr/>
        </p:nvSpPr>
        <p:spPr>
          <a:xfrm>
            <a:off x="5943600" y="4343400"/>
            <a:ext cx="1781280" cy="98100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83720" y="4457880"/>
            <a:ext cx="138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4"/>
          <p:cNvSpPr/>
          <p:nvPr/>
        </p:nvSpPr>
        <p:spPr>
          <a:xfrm>
            <a:off x="5791320" y="1486080"/>
            <a:ext cx="1857240" cy="10285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6"/>
          <p:cNvSpPr/>
          <p:nvPr/>
        </p:nvSpPr>
        <p:spPr>
          <a:xfrm flipH="1">
            <a:off x="5473440" y="2266920"/>
            <a:ext cx="385560" cy="387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rot="18220200">
            <a:off x="7857720" y="507024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 rot="18220200">
            <a:off x="61560" y="1401120"/>
            <a:ext cx="108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917680" y="1616040"/>
            <a:ext cx="1710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hanc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5686560" y="3963960"/>
            <a:ext cx="457200" cy="426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1.  CSR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lains a commitment to society’s values and contribute to society’s social, environmental, and economic goals through 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2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s society from the negative impacts of  company operations, products and servi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3.  CS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es that the company can make more money by doing the right thin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SR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ing Argum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mon Corporate Social Responsibility initia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00040" y="1828440"/>
            <a:ext cx="5638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protect the    environment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create a work. environment that enhances employees’ quality of lif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Actions to build a diverse workfor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28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22:07:12Z</dcterms:created>
  <dc:creator>Curtis Family Laptop</dc:creator>
  <dc:description/>
  <dc:language>en-US</dc:language>
  <cp:lastModifiedBy>User</cp:lastModifiedBy>
  <dcterms:modified xsi:type="dcterms:W3CDTF">2017-04-15T15:54:08Z</dcterms:modified>
  <cp:revision>72</cp:revision>
  <dc:subject/>
  <dc:title>Ethics and Business</dc:title>
</cp:coreProperties>
</file>