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75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7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200" y="74628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5792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5792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946D-79AB-49D2-83F1-4ACA450B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76760" y="9458280"/>
            <a:ext cx="2889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130-A74D-4B78-98CE-9FC19EA4EC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44560" y="74628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5E4-C7B8-4483-A0EE-79AFD6B5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1B3-9278-4C50-9473-65D7D802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A94-7696-4A74-B31C-45523C77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E47-847D-4970-8419-BA5B0E4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3D0-1DC6-4D79-B4EC-12E28438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978-474A-4D8B-99C2-3D6520C2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956-BBDB-460F-A005-45E91E0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105-C796-4BC7-B8EC-C2AD0EFA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C1D-86FB-4891-9302-B59C779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D16-9555-4138-8D38-712CA24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EAB-2D98-4254-8BDA-FFD144D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BD8-533D-4B01-A2C8-1166EF7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D2C-C55D-4036-AC94-23BB468060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ernational Strategic Alli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295280"/>
            <a:ext cx="846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ing strategic partner should be based on company’s goals, objectives &amp; values 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partners who have capabilities in collaboration and  ability to work in a collaborative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Trus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ence of trust in a relationship reduces the risks associated with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pportunistic behavi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is generates greater profits and  serve customers bet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mmunic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s critical for building successful relationships to achieve the benefits of collaboration as it allows partners to understand alliance goals, responsibilities and  helps with the sharing of individual experi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nflict Re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rms should be motivated to engage in joint problem solving as they are, by definition, linked together to manage an environment that was more uncertain and unsettl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veloping a focused winning strategy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distinctive competencies and competitive advantages of the partners in the selected target market (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sure there will not be a conflict between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able to manage the company cultural challenges that may arise between the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51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fine and align decision righ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define what decisions are important to the alliance, which partner should make them and how the decisions will be made and monitor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it Strate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gree upon an exit strategy for the alliance. It Is important to have agreement in advance on how the alliance will be concluded if and 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when it may fail and/or when it has achieved its objectiv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partners is too dependent on the other’s 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s and dilemmas of mistr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barri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access to the information, for a collaboration to work effectively, one partner (or both) may have to provide the other with information it would prefer to keep secr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or more fi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wn different percent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company they have formed by combining some of their resources and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n- 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 or more firms develop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contractual-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hare some of their unique resources and 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106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Joint Venture: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ven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 special type of strategic alliance in which two or more firms join together to create a new business entity that is legally separate and different from its par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businesses has an equity stake in the individual business and share revenues, expenses and profi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unequal ownership is common, many are owned equally by the founding fir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ranchising: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nchisees pay a set-up fee and  agree to ongoing payments so the process is financially risk-free for the compan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problems do exist, particularly with the loss of control over how franchisees run their franch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Marketing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functional alliance in which two or more firms share marketing services or expert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one partner introduces its products or services into a market in which the other partner already has a attend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helps the newcomer by promoting, advertising, and/or distributing its products or servi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may negotiate a fixed price for its assistance or may share in a percentage of the newcomer's sales or profi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Research and development (R&amp;D)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&amp;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iances tend to fall into the joint venture category, where two or more businesses decide to started a research venture through forming a new ent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istribution Relationship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perhaps the most common form of alliance. Strategic alliances are usually formed because the businesses involved want more customers. The result is that cross-promotion agreements are establi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meant by Strategic Alli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bucks partnered wi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rnes and Nob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tores in 1993 to provide in-house coffee shops, benefiting both retail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rbucks-United Airlines alliance has resulted in their coffee being offered on flights with the Starbucks logo on the cups and a partnership with Kraft foods has resulted in Starbucks coffee being marketed in grocery 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 has partnered with Sony, Motorola, Phillips, and AT&amp;T in the p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ta And Virgin Atlantic To Form Strategic Allia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ota's alliances with B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m wishing to enter a new market often faces major difficulties, such as deep-rooted competition or tough government regulations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ing with a local fi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ften help it exceed such barri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firm may want to learn more ab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oduce someth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acquire certain resourc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al with local governments' regulat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how to manage in a differ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—information that a partner often can off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rate of International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30% to 6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profitable alliances can be uncertain by confl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s are very risky and uns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Definition of Strategic Alliance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 strategic allianc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an agreement between two or more parties stating that the involved parties will act in a certain way in order to achieve a common goa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Partners may provide the strategic alliance with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sources such as product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istribution channel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nufacturing capability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 knowledge, expertis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liance is a cooperation which aims for a interaction where each partner hopes that the benefits from the alliance will be greater than those from individual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 usually  make sense when the parties involved have Complementary str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value to products/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ing market a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technologic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ing strateg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financi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igure.1 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nefit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38280" y="1981080"/>
            <a:ext cx="3733920" cy="1067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Strategic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3809880"/>
            <a:ext cx="167616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146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434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722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8"/>
          <p:cNvCxnSpPr>
            <a:stCxn id="62" idx="2"/>
            <a:endCxn id="63" idx="0"/>
          </p:cNvCxnSpPr>
          <p:nvPr/>
        </p:nvCxnSpPr>
        <p:spPr>
          <a:xfrm rot="5400000">
            <a:off x="2571120" y="207648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8" name="AutoShape 9"/>
          <p:cNvCxnSpPr>
            <a:stCxn id="62" idx="2"/>
            <a:endCxn id="64" idx="0"/>
          </p:cNvCxnSpPr>
          <p:nvPr/>
        </p:nvCxnSpPr>
        <p:spPr>
          <a:xfrm rot="5400000">
            <a:off x="3447360" y="2952720"/>
            <a:ext cx="762480" cy="9532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" name="AutoShape 10"/>
          <p:cNvCxnSpPr>
            <a:stCxn id="62" idx="2"/>
            <a:endCxn id="65" idx="0"/>
          </p:cNvCxnSpPr>
          <p:nvPr/>
        </p:nvCxnSpPr>
        <p:spPr>
          <a:xfrm flipH="1" rot="16200000">
            <a:off x="4362480" y="2990520"/>
            <a:ext cx="762480" cy="8769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AutoShape 11"/>
          <p:cNvCxnSpPr>
            <a:stCxn id="62" idx="2"/>
            <a:endCxn id="66" idx="0"/>
          </p:cNvCxnSpPr>
          <p:nvPr/>
        </p:nvCxnSpPr>
        <p:spPr>
          <a:xfrm flipH="1" rot="16200000">
            <a:off x="5276880" y="207612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Strategic Alli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ategic alliance may allow the firm to achieve the benefits of fast market entry while keeping costs dow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ing a firm to focus resources on its core skills &amp; competencies while acquiring other components or capabilities it lacks from th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e partner firms to combine their individual strengths &amp; work together to reduce non-value-adding activities which lead to improved perform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rove market power of a firm because the distribution channels &amp; buying power of the partners can be comb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8:59:21Z</dcterms:created>
  <dc:creator>caim2012</dc:creator>
  <dc:description/>
  <dc:language>en-US</dc:language>
  <cp:lastModifiedBy>User</cp:lastModifiedBy>
  <dcterms:modified xsi:type="dcterms:W3CDTF">2016-12-05T18:17:44Z</dcterms:modified>
  <cp:revision>148</cp:revision>
  <dc:subject/>
  <dc:title>Multicultural Management</dc:title>
</cp:coreProperties>
</file>