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667500" cy="9958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7200" cy="99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6400" y="-360"/>
            <a:ext cx="2889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44200" y="746280"/>
            <a:ext cx="4978440" cy="373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30400"/>
            <a:ext cx="533412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57920"/>
            <a:ext cx="28893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6400" y="9457920"/>
            <a:ext cx="2889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BCF8-8FB9-4212-A663-A4B2E4E4D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776760" y="9458280"/>
            <a:ext cx="28890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91F9-D65F-4984-9623-3D4F822DC7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844560" y="746280"/>
            <a:ext cx="4978440" cy="37353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66360" y="4730400"/>
            <a:ext cx="5334120" cy="44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88BA-9BAE-4D6F-8622-119ADE65F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03ED-53D7-45AD-94A7-0F0BFA14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62A4-69C7-4B41-89A9-B6E56CD35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0A38-C67C-466F-AD09-00F7F8FAE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30E4-CFCE-4B14-83AB-FEA0009E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91C8-856F-46F9-B3B2-400BB2DE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2646-2E56-4B06-AFEF-11FF6BC7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50C7-C77D-415F-835A-5FD599EE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3E1D-7654-4299-9068-8EC1EBD8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1D91-B561-4395-A60A-0B5E84D3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BBA3-FDB7-4207-A082-EC34E9E2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E338-BB60-4D17-BECB-50E13F24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354F-DCBB-41A4-9BF7-7C4EAE82ADF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1532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hapter 7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International Strategic Allia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85120" cy="990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uccess Fa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80520" y="1295280"/>
            <a:ext cx="84646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1.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Selec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lecting strategic partner should be based on company’s goals, objectives &amp; values syste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lect partners who have capabilities in collaboration and  ability to work in a collaborative environme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2.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Calibri"/>
              </a:rPr>
              <a:t>Trust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istence of trust in a relationship reduces the risks associated with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opportunistic behavior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s this generates greater profits and  serve customers bette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uccess Factor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’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4" marL="2036520" indent="-226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3.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Communication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munication is critical for building successful relationships to achieve the benefits of collaboration as it allows partners to understand alliance goals, responsibilities and  helps with the sharing of individual experi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4.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Conflict Resolution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rms should be motivated to engage in joint problem solving as they are, by definition, linked together to manage an environment that was more uncertain and unsettl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6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6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6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uccess Factor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’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04560" y="14479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5.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Developing a focused winning strategy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ased on distinctive competencies and competitive advantages of the partners in the selected target market (s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ensure there will not be a conflict between alliance partne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be able to manage the company cultural challenges that may arise between the alliance partne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85120" cy="838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uccess Factor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’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0456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6.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Define and align decision righ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o define what decisions are important to the alliance, which partner should make them and how the decisions will be made and monitored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7.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Exit Strateg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Agree upon an exit strategy for the alliance. It Is important to have agreement in advance on how the alliance will be concluded if and </a:t>
            </a:r>
            <a:r>
              <a:rPr b="0" lang="en-US" sz="2900" spc="-1" strike="noStrike">
                <a:solidFill>
                  <a:srgbClr val="ff0000"/>
                </a:solidFill>
                <a:latin typeface="Calibri"/>
              </a:rPr>
              <a:t>when it may fail and/or when it has achieved its objectives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istakes Leading to Failur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80880" y="152388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of the partners is too dependent on the other’s capabilit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blems and dilemmas of mistru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ltural and language barrier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mited access to the information, for a collaboration to work effectively, one partner (or both) may have to provide the other with information it would prefer to keep secr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ypes of Strategic Allia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59984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Equity strategic allianc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lliance in which two or more firm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wn different percentag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the company they have formed by combining some of their resources and capabilities to create a competitive advantag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Non- equity strategic allianc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lliance in which two  or more firms develop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 contractual-relationshi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share some of their unique resources and  capabilities to create a competitive advantag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5120" cy="1067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ypes of Strategic Alliance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’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238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00"/>
                </a:solidFill>
                <a:uFillTx/>
                <a:latin typeface="Calibri"/>
              </a:rPr>
              <a:t>Joint Venture: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oint ventu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is a special type of strategic alliance in which two or more firms join together to create a new business entity that is legally separate and different from its par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of the businesses has an equity stake in the individual business and share revenues, expenses and profit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though unequal ownership is common, many are owned equally by the founding firm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8052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00"/>
                </a:solidFill>
                <a:uFillTx/>
                <a:latin typeface="Calibri"/>
              </a:rPr>
              <a:t>Franchising: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ranchisees pay a set-up fee and  agree to ongoing payments so the process is financially risk-free for the compan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ever, problems do exist, particularly with the loss of control over how franchisees run their franchis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12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ypes of Strategic Alliance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’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04920" y="13712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Marketing allian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 a functional alliance in which two or more firms share marketing services or expertis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most cases, one partner introduces its products or services into a market in which the other partner already has a attendanc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established firm helps the newcomer by promoting, advertising, and/or distributing its products or service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established firm may negotiate a fixed price for its assistance or may share in a percentage of the newcomer's sales or profit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ypes of Strategic Alliance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’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Research and development (R&amp;D) allian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R&amp;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lliances tend to fall into the joint venture category, where two or more businesses decide to started a research venture through forming a new entit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Distribution Relationship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s is perhaps the most common form of alliance. Strategic alliances are usually formed because the businesses involved want more customers. The result is that cross-promotion agreements are established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ypes of Strategic Alliance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’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roduc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is meant by Strategic Allian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urposes of Strategic Alli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ccess F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istakes Leading to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ypes of Alli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ampl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rbucks partnered with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arnes and Nobl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okstores in 1993 to provide in-house coffee shops, benefiting both retail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tarbucks-United Airlines alliance has resulted in their coffee being offered on flights with the Starbucks logo on the cups and a partnership with Kraft foods has resulted in Starbucks coffee being marketed in grocery st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le has partnered with Sony, Motorola, Phillips, and AT&amp;T in the pa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ta And Virgin Atlantic To Form Strategic Alliance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yota's alliances with BM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ampl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80880" y="1219320"/>
            <a:ext cx="83822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firm wishing to enter a new market often faces major difficulties, such as deep-rooted competition or tough government regulations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artnering with a local firm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often help it exceed such barrier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 firm may want to learn more abou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to produce something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to acquire certain resource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to deal with local governments' regulation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 how to manage in a different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nvironment—information that a partner often can off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roduc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ilure rate of International Strategic Alli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30% to 60%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n profitable alliances can be uncertain by confli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ategic alliances are very risky and unst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roduc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761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is Strategic Allianc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520" y="12189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00"/>
                </a:solidFill>
                <a:uFillTx/>
                <a:latin typeface="Calibri"/>
              </a:rPr>
              <a:t>Definition of Strategic Alliance 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A strategic alliance 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is an agreement between two or more parties stating that the involved parties will act in a certain way in order to achieve a common goal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Calibri"/>
              </a:rPr>
              <a:t>Partners may provide the strategic alliance with: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Resources such as products,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Distribution channels,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Manufacturing capability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and knowledge, expertise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8052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lliance is a cooperation which aims for a interaction where each partner hopes that the benefits from the alliance will be greater than those from individual effor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ategic alliance usually  make sense when the parties involved have Complementary strength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is Strategic Allianc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Strategic Allianc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ing value to products/servi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ing market acc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engthening oper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ing technological streng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hancing strategic grow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ding financial streng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6197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Figure.1 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Benefits of Strategic Alli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2438280" y="1981080"/>
            <a:ext cx="3733920" cy="10670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otential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f Strategic All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762120" y="3809880"/>
            <a:ext cx="1676160" cy="1600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as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2514600" y="3809880"/>
            <a:ext cx="1676520" cy="1600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h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4343400" y="3809880"/>
            <a:ext cx="1676520" cy="1600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ha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6172200" y="3809880"/>
            <a:ext cx="1676520" cy="1600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ompet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AutoShape 8"/>
          <p:cNvCxnSpPr>
            <a:stCxn id="62" idx="2"/>
            <a:endCxn id="63" idx="0"/>
          </p:cNvCxnSpPr>
          <p:nvPr/>
        </p:nvCxnSpPr>
        <p:spPr>
          <a:xfrm rot="5400000">
            <a:off x="2571120" y="2076480"/>
            <a:ext cx="762480" cy="2705760"/>
          </a:xfrm>
          <a:prstGeom prst="bentConnector3">
            <a:avLst>
              <a:gd name="adj1" fmla="val 49976"/>
            </a:avLst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68" name="AutoShape 9"/>
          <p:cNvCxnSpPr>
            <a:stCxn id="62" idx="2"/>
            <a:endCxn id="64" idx="0"/>
          </p:cNvCxnSpPr>
          <p:nvPr/>
        </p:nvCxnSpPr>
        <p:spPr>
          <a:xfrm rot="5400000">
            <a:off x="3447360" y="2952720"/>
            <a:ext cx="762480" cy="953280"/>
          </a:xfrm>
          <a:prstGeom prst="bentConnector3">
            <a:avLst>
              <a:gd name="adj1" fmla="val 49976"/>
            </a:avLst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69" name="AutoShape 10"/>
          <p:cNvCxnSpPr>
            <a:stCxn id="62" idx="2"/>
            <a:endCxn id="65" idx="0"/>
          </p:cNvCxnSpPr>
          <p:nvPr/>
        </p:nvCxnSpPr>
        <p:spPr>
          <a:xfrm flipH="1" rot="16200000">
            <a:off x="4362480" y="2990520"/>
            <a:ext cx="762480" cy="876960"/>
          </a:xfrm>
          <a:prstGeom prst="bentConnector3">
            <a:avLst>
              <a:gd name="adj1" fmla="val 49976"/>
            </a:avLst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0" name="AutoShape 11"/>
          <p:cNvCxnSpPr>
            <a:stCxn id="62" idx="2"/>
            <a:endCxn id="66" idx="0"/>
          </p:cNvCxnSpPr>
          <p:nvPr/>
        </p:nvCxnSpPr>
        <p:spPr>
          <a:xfrm flipH="1" rot="16200000">
            <a:off x="5276880" y="2076120"/>
            <a:ext cx="762480" cy="2705760"/>
          </a:xfrm>
          <a:prstGeom prst="bentConnector3">
            <a:avLst>
              <a:gd name="adj1" fmla="val 49976"/>
            </a:avLst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</p:cxn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762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enefits of Strategic Allianc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04920" y="11430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strategic alliance may allow the firm to achieve the benefits of fast market entry while keeping costs dow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abling a firm to focus resources on its core skills &amp; competencies while acquiring other components or capabilities it lacks from the partne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able partner firms to combine their individual strengths &amp; work together to reduce non-value-adding activities which lead to improved performanc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mprove market power of a firm because the distribution channels &amp; buying power of the partners can be combin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8T18:59:21Z</dcterms:created>
  <dc:creator>caim2012</dc:creator>
  <dc:description/>
  <dc:language>en-US</dc:language>
  <cp:lastModifiedBy>User</cp:lastModifiedBy>
  <dcterms:modified xsi:type="dcterms:W3CDTF">2016-12-05T18:17:44Z</dcterms:modified>
  <cp:revision>148</cp:revision>
  <dc:subject/>
  <dc:title>Multicultural Management</dc:title>
</cp:coreProperties>
</file>